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386-E988-48BD-937B-882BC180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C71-F4F0-47A8-8611-C3769B2F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65D-2B56-49C8-9A8E-61D9DD4A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442-EE5B-4156-A494-6D517B51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AB19-FA45-46DD-9DDD-BDB1D9BC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4483-F07E-4566-BB03-0DF48414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0B3B-91E4-4D96-BAAF-BBC46D69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4EC8-EABE-45D0-8F19-8997470F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AE84-4D66-469A-8D02-6777409C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EB45-A27C-4B89-80D0-20626598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50FA-36B8-44B9-BFE3-8B0FAE36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97A-D842-4798-AC0D-70F318A3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9386-DD98-46F3-8ACB-A4FA2E5C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2F66-01DB-4727-B41E-B93776AE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A21B-21F4-44E2-8AFE-0D4570C2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C715-0BFB-41FF-8C34-4561DB83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9DF1-03FB-4CA2-A4B7-B62BE780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348-90D4-4CE6-91DA-A6C06A3C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A62-612F-43EC-AC93-791EDD4D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4F3-C597-4380-A608-9676A59F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FF2-0893-4EB7-9F72-734D29CB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2A4-02FD-4C0A-9681-EF4551C1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B16-95F8-4F24-9C4D-ECB79B19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F2C-4161-4233-8678-621FBA63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3E37-0D00-4C16-BDB9-8F85F3C3CF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803-1A4D-4C85-ACB6-970E8C5128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дравствуй,  школ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8920" y="3212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ервые  уроки  математ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6 класс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483280" y="4292640"/>
            <a:ext cx="453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Повторени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Проценты. Решение задач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705200" y="603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5"/>
          <p:cNvSpPr/>
          <p:nvPr/>
        </p:nvSpPr>
        <p:spPr>
          <a:xfrm>
            <a:off x="522360" y="620640"/>
            <a:ext cx="8099280" cy="4156200"/>
          </a:xfrm>
          <a:prstGeom prst="cloudCallout">
            <a:avLst>
              <a:gd name="adj1" fmla="val -29652"/>
              <a:gd name="adj2" fmla="val 1595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лово 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процент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значает «сотая часть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% = 0,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% = 0,0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 т.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ча (устно)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696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Ивану Царевичу, чтобы сорвать золотое яблочко, нужно было проскакать на Волке до волшебного сада 100 км. За 1час он проскакал 35% всего пут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971640" y="2781360"/>
            <a:ext cx="6408720" cy="1008000"/>
          </a:xfrm>
          <a:prstGeom prst="wedgeRectCallout">
            <a:avLst>
              <a:gd name="adj1" fmla="val 47574"/>
              <a:gd name="adj2" fmla="val 96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Сколько километров он одолел и сколько ему осталос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684360" y="4005360"/>
            <a:ext cx="5400360" cy="914400"/>
          </a:xfrm>
          <a:custGeom>
            <a:avLst/>
            <a:gdLst>
              <a:gd name="textAreaLeft" fmla="*/ 1232640 w 5400360"/>
              <a:gd name="textAreaRight" fmla="*/ 4167720 w 540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скакал 35к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684360" y="4941720"/>
            <a:ext cx="5400360" cy="914400"/>
          </a:xfrm>
          <a:custGeom>
            <a:avLst/>
            <a:gdLst>
              <a:gd name="textAreaLeft" fmla="*/ 1232640 w 5400360"/>
              <a:gd name="textAreaRight" fmla="*/ 4167720 w 540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сталось 65к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6"/>
          <p:cNvSpPr/>
          <p:nvPr/>
        </p:nvSpPr>
        <p:spPr>
          <a:xfrm>
            <a:off x="2195640" y="125280"/>
            <a:ext cx="5616360" cy="1944720"/>
          </a:xfrm>
          <a:prstGeom prst="cloudCallout">
            <a:avLst>
              <a:gd name="adj1" fmla="val -77444"/>
              <a:gd name="adj2" fmla="val -105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ъясните, как найти процент от чи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059280" y="2060640"/>
            <a:ext cx="5616360" cy="1944720"/>
          </a:xfrm>
          <a:prstGeom prst="cloudCallout">
            <a:avLst>
              <a:gd name="adj1" fmla="val -72300"/>
              <a:gd name="adj2" fmla="val -9571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найт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% от 200 или 12% от 5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851280" y="4941720"/>
            <a:ext cx="4680000" cy="1440000"/>
          </a:xfrm>
          <a:prstGeom prst="wedgeRectCallout">
            <a:avLst>
              <a:gd name="adj1" fmla="val -91962"/>
              <a:gd name="adj2" fmla="val 4845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оверяйт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200 : 100 * 30 = 6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50 : 100 * 12 =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7232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йдите соответств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971640" y="1628640"/>
            <a:ext cx="2881080" cy="64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5% от 6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971640" y="2421000"/>
            <a:ext cx="2881080" cy="64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0% от 3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971640" y="3213000"/>
            <a:ext cx="2881080" cy="64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1% от 2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971640" y="4005360"/>
            <a:ext cx="2881080" cy="64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0% от 1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971640" y="4797360"/>
            <a:ext cx="2881080" cy="64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0% от 9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5076720" y="1628640"/>
            <a:ext cx="165600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5076720" y="2421000"/>
            <a:ext cx="165600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5076720" y="3213000"/>
            <a:ext cx="165600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076720" y="4005360"/>
            <a:ext cx="165600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076720" y="4797360"/>
            <a:ext cx="165600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Freeform 15"/>
          <p:cNvSpPr/>
          <p:nvPr/>
        </p:nvSpPr>
        <p:spPr>
          <a:xfrm>
            <a:off x="3641760" y="196524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Freeform 16"/>
          <p:cNvSpPr/>
          <p:nvPr/>
        </p:nvSpPr>
        <p:spPr>
          <a:xfrm>
            <a:off x="3657600" y="2727360"/>
            <a:ext cx="1539720" cy="80784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Freeform 17"/>
          <p:cNvSpPr/>
          <p:nvPr/>
        </p:nvSpPr>
        <p:spPr>
          <a:xfrm>
            <a:off x="3657600" y="1996920"/>
            <a:ext cx="153972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Freeform 18"/>
          <p:cNvSpPr/>
          <p:nvPr/>
        </p:nvSpPr>
        <p:spPr>
          <a:xfrm>
            <a:off x="3673440" y="429732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Freeform 19"/>
          <p:cNvSpPr/>
          <p:nvPr/>
        </p:nvSpPr>
        <p:spPr>
          <a:xfrm>
            <a:off x="3687840" y="2789280"/>
            <a:ext cx="1477800" cy="234612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7696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 контрольную работу по математике отметку «5» получили 12 учеников, что составляет 30% всех учеников. Сколько учеников в класс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250920" y="2349360"/>
            <a:ext cx="6084720" cy="914400"/>
          </a:xfrm>
          <a:custGeom>
            <a:avLst/>
            <a:gdLst>
              <a:gd name="textAreaLeft" fmla="*/ 1388880 w 6084720"/>
              <a:gd name="textAreaRight" fmla="*/ 4695840 w 6084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лассе 40 ученик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313080" y="4300560"/>
            <a:ext cx="4680000" cy="1079640"/>
          </a:xfrm>
          <a:prstGeom prst="wedgeRectCallout">
            <a:avLst>
              <a:gd name="adj1" fmla="val -89041"/>
              <a:gd name="adj2" fmla="val 1251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2 : 30 * 100 = 4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7201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В школе 700 учащихся. Среди них 357 мальчиков. Сколько процентов учащихся школы составляют мальчик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539640" y="3573360"/>
            <a:ext cx="5400720" cy="914400"/>
          </a:xfrm>
          <a:custGeom>
            <a:avLst/>
            <a:gdLst>
              <a:gd name="textAreaLeft" fmla="*/ 1232640 w 5400720"/>
              <a:gd name="textAreaRight" fmla="*/ 4168080 w 5400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1% - мальчик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3600360" y="5013360"/>
            <a:ext cx="4680000" cy="1079640"/>
          </a:xfrm>
          <a:prstGeom prst="wedgeRectCallout">
            <a:avLst>
              <a:gd name="adj1" fmla="val -91046"/>
              <a:gd name="adj2" fmla="val 514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357 : 700 * 100 = 51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3419640" y="3213000"/>
            <a:ext cx="4319280" cy="1944720"/>
          </a:xfrm>
          <a:prstGeom prst="cloudCallout">
            <a:avLst>
              <a:gd name="adj1" fmla="val -111078"/>
              <a:gd name="adj2" fmla="val -3498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. 11, № 2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 теперь, работа на оценку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46782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Заполни таблиц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0920" y="1413000"/>
          <a:ext cx="6810120" cy="1888920"/>
        </p:xfrm>
        <a:graphic>
          <a:graphicData uri="http://schemas.openxmlformats.org/drawingml/2006/table">
            <a:tbl>
              <a:tblPr/>
              <a:tblGrid>
                <a:gridCol w="3151080"/>
                <a:gridCol w="1174680"/>
                <a:gridCol w="1246320"/>
                <a:gridCol w="1238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ыкновенная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сятичная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5"/>
          <p:cNvSpPr/>
          <p:nvPr/>
        </p:nvSpPr>
        <p:spPr>
          <a:xfrm>
            <a:off x="3240" y="365616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Реши уравн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52"/>
              <p:cNvSpPr txBox="1"/>
              <p:nvPr/>
            </p:nvSpPr>
            <p:spPr>
              <a:xfrm>
                <a:off x="3851280" y="1413000"/>
                <a:ext cx="320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55"/>
              <p:cNvSpPr txBox="1"/>
              <p:nvPr/>
            </p:nvSpPr>
            <p:spPr>
              <a:xfrm>
                <a:off x="6227640" y="1434960"/>
                <a:ext cx="408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Rectangle 57"/>
          <p:cNvSpPr/>
          <p:nvPr/>
        </p:nvSpPr>
        <p:spPr>
          <a:xfrm>
            <a:off x="250920" y="4410000"/>
            <a:ext cx="471636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1в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1,4х-0,54=0,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58"/>
          <p:cNvSpPr/>
          <p:nvPr/>
        </p:nvSpPr>
        <p:spPr>
          <a:xfrm>
            <a:off x="2998800" y="5511960"/>
            <a:ext cx="4716360" cy="79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2в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3,2х-5=5,7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22:12:44Z</dcterms:created>
  <dc:creator>Каратанова</dc:creator>
  <dc:description/>
  <dc:language>en-US</dc:language>
  <cp:lastModifiedBy>User</cp:lastModifiedBy>
  <dcterms:modified xsi:type="dcterms:W3CDTF">2021-09-06T15:41:54Z</dcterms:modified>
  <cp:revision>15</cp:revision>
  <dc:subject/>
  <dc:title>Здравствуй,  школа!</dc:title>
</cp:coreProperties>
</file>