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7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C0C-E527-48CB-B34A-2A74E778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0F9-EC28-454E-89AB-340BA738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A3E-1B50-4359-A5B2-CBF9EA93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BDF-9E71-41CF-BC7F-071E1078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3FE-37DC-45D6-B262-8964A7B0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34F-0F1A-4054-BA18-0320575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E10-96AB-4AA1-9E95-9E0790A7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DE7-6C65-4E26-929D-15DD592C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02B-BAF0-4742-933D-5049B6D9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FBA-044B-4256-909A-605AF2F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414-5A24-43F5-819E-9D853D9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936-A7DC-41A9-9FB2-A5F4C4B8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B0C7-0CD9-4A84-A742-B949A8290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500120"/>
            <a:ext cx="8785440" cy="20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Классная работа.</a:t>
            </a:r>
            <a:br>
              <a:rPr sz="4400"/>
            </a:b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Признаки делимости </a:t>
            </a:r>
            <a:br>
              <a:rPr sz="4400"/>
            </a:b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на 10, на 5, н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7674120" y="333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2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715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Чтобы Маша не мешала Мише, он ей нарисовал фигуру и попросил сосчитать сколько треугольников изображено на рисунке? Помогите Маше быстро справиться с этой зада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авильный пятиугольник 3"/>
          <p:cNvSpPr/>
          <p:nvPr/>
        </p:nvSpPr>
        <p:spPr>
          <a:xfrm rot="2247600">
            <a:off x="1139400" y="2503080"/>
            <a:ext cx="3929040" cy="3929040"/>
          </a:xfrm>
          <a:prstGeom prst="pentagon">
            <a:avLst/>
          </a:prstGeom>
          <a:solidFill>
            <a:srgbClr val="4f81bd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5"/>
          <p:cNvSpPr/>
          <p:nvPr/>
        </p:nvSpPr>
        <p:spPr>
          <a:xfrm flipH="1">
            <a:off x="944640" y="2909880"/>
            <a:ext cx="3354480" cy="23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7"/>
          <p:cNvSpPr/>
          <p:nvPr/>
        </p:nvSpPr>
        <p:spPr>
          <a:xfrm>
            <a:off x="1824840" y="2904480"/>
            <a:ext cx="3119400" cy="239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9"/>
          <p:cNvSpPr/>
          <p:nvPr/>
        </p:nvSpPr>
        <p:spPr>
          <a:xfrm flipH="1">
            <a:off x="2871360" y="2909160"/>
            <a:ext cx="1427400" cy="385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1"/>
          <p:cNvSpPr/>
          <p:nvPr/>
        </p:nvSpPr>
        <p:spPr>
          <a:xfrm flipH="1" flipV="1">
            <a:off x="944640" y="5289480"/>
            <a:ext cx="40003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>
            <a:off x="1825560" y="2905200"/>
            <a:ext cx="1046160" cy="386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8" descr="2.jpg"/>
          <p:cNvPicPr/>
          <p:nvPr/>
        </p:nvPicPr>
        <p:blipFill>
          <a:blip r:embed="rId1"/>
          <a:stretch/>
        </p:blipFill>
        <p:spPr>
          <a:xfrm>
            <a:off x="6286680" y="2928960"/>
            <a:ext cx="2539800" cy="370980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18" descr=""/>
          <p:cNvPicPr/>
          <p:nvPr/>
        </p:nvPicPr>
        <p:blipFill>
          <a:blip r:embed="rId2"/>
          <a:stretch/>
        </p:blipFill>
        <p:spPr>
          <a:xfrm>
            <a:off x="3956040" y="6072120"/>
            <a:ext cx="490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85840" y="1143000"/>
            <a:ext cx="752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ик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.2 выучить правила и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желанию дополн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500120"/>
            <a:ext cx="8785440" cy="20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Классная работа.</a:t>
            </a:r>
            <a:br>
              <a:rPr sz="4400"/>
            </a:b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Признаки делимости </a:t>
            </a:r>
            <a:br>
              <a:rPr sz="4400"/>
            </a:b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на 10, на 5, н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7674120" y="333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ычисли устн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31640" y="1442520"/>
            <a:ext cx="2614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 + 0,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,26 +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,48 + 0,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,6 +0,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,7 + 1,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5332320" y="1454040"/>
            <a:ext cx="25005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0,76 – 0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,54 –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0,82 – 0,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0,63 – 0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0,8 – 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ычисли устн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31640" y="1442520"/>
            <a:ext cx="2614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,2 *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,1 *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,7 * 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,5 *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,25 *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5332320" y="1454040"/>
            <a:ext cx="25005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6 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0,8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,1 :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0,5 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4,1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1. Назовите три числа которые делятся на 10.</a:t>
            </a:r>
            <a:br>
              <a:rPr sz="4400"/>
            </a:b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назовите три числа, которые делятся на 5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76092"/>
                </a:solidFill>
                <a:uFillTx/>
                <a:latin typeface="Calibri"/>
              </a:rPr>
              <a:t>Числа, делящиеся без остатка на 2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, называются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чётными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, 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а числа, которые </a:t>
            </a:r>
            <a:r>
              <a:rPr b="1" lang="ru-RU" sz="4000" spc="-1" strike="noStrike" u="sng">
                <a:solidFill>
                  <a:srgbClr val="376092"/>
                </a:solidFill>
                <a:uFillTx/>
                <a:latin typeface="Calibri"/>
              </a:rPr>
              <a:t>при делении на 2 дают остаток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, называются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нечётны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44953.jpg"/>
          <p:cNvPicPr/>
          <p:nvPr/>
        </p:nvPicPr>
        <p:blipFill>
          <a:blip r:embed="rId1"/>
          <a:stretch/>
        </p:blipFill>
        <p:spPr>
          <a:xfrm>
            <a:off x="1857240" y="3316320"/>
            <a:ext cx="5715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5" descr="1254366669_masha_00200320606-09-42.jpg"/>
          <p:cNvPicPr/>
          <p:nvPr/>
        </p:nvPicPr>
        <p:blipFill>
          <a:blip r:embed="rId1"/>
          <a:stretch/>
        </p:blipFill>
        <p:spPr>
          <a:xfrm>
            <a:off x="857160" y="1143000"/>
            <a:ext cx="3143520" cy="315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Какие цифры четные, а какие н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Овал 4" descr=""/>
          <p:cNvPicPr/>
          <p:nvPr/>
        </p:nvPicPr>
        <p:blipFill>
          <a:blip r:embed="rId2"/>
          <a:stretch/>
        </p:blipFill>
        <p:spPr>
          <a:xfrm>
            <a:off x="792000" y="1085760"/>
            <a:ext cx="1208160" cy="1425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1254366669_masha_00200320606-09-42.jpg"/>
          <p:cNvPicPr/>
          <p:nvPr/>
        </p:nvPicPr>
        <p:blipFill>
          <a:blip r:embed="rId3"/>
          <a:stretch/>
        </p:blipFill>
        <p:spPr>
          <a:xfrm>
            <a:off x="3857760" y="1143000"/>
            <a:ext cx="4786200" cy="3152880"/>
          </a:xfrm>
          <a:prstGeom prst="rect">
            <a:avLst/>
          </a:prstGeom>
          <a:ln w="0">
            <a:noFill/>
          </a:ln>
        </p:spPr>
      </p:pic>
      <p:pic>
        <p:nvPicPr>
          <p:cNvPr id="132" name="Овал 6" descr=""/>
          <p:cNvPicPr/>
          <p:nvPr/>
        </p:nvPicPr>
        <p:blipFill>
          <a:blip r:embed="rId4"/>
          <a:stretch/>
        </p:blipFill>
        <p:spPr>
          <a:xfrm>
            <a:off x="792000" y="2371680"/>
            <a:ext cx="1208160" cy="1425600"/>
          </a:xfrm>
          <a:prstGeom prst="rect">
            <a:avLst/>
          </a:prstGeom>
          <a:ln w="0">
            <a:noFill/>
          </a:ln>
        </p:spPr>
      </p:pic>
      <p:pic>
        <p:nvPicPr>
          <p:cNvPr id="133" name="Овал 7" descr=""/>
          <p:cNvPicPr/>
          <p:nvPr/>
        </p:nvPicPr>
        <p:blipFill>
          <a:blip r:embed="rId5"/>
          <a:stretch/>
        </p:blipFill>
        <p:spPr>
          <a:xfrm>
            <a:off x="2219400" y="1225440"/>
            <a:ext cx="1206360" cy="1432080"/>
          </a:xfrm>
          <a:prstGeom prst="rect">
            <a:avLst/>
          </a:prstGeom>
          <a:ln w="0">
            <a:noFill/>
          </a:ln>
        </p:spPr>
      </p:pic>
      <p:pic>
        <p:nvPicPr>
          <p:cNvPr id="134" name="Овал 8" descr=""/>
          <p:cNvPicPr/>
          <p:nvPr/>
        </p:nvPicPr>
        <p:blipFill>
          <a:blip r:embed="rId6"/>
          <a:stretch/>
        </p:blipFill>
        <p:spPr>
          <a:xfrm>
            <a:off x="1932120" y="2944800"/>
            <a:ext cx="1207800" cy="1425600"/>
          </a:xfrm>
          <a:prstGeom prst="rect">
            <a:avLst/>
          </a:prstGeom>
          <a:ln w="0">
            <a:noFill/>
          </a:ln>
        </p:spPr>
      </p:pic>
      <p:pic>
        <p:nvPicPr>
          <p:cNvPr id="135" name="Овал 9" descr=""/>
          <p:cNvPicPr/>
          <p:nvPr/>
        </p:nvPicPr>
        <p:blipFill>
          <a:blip r:embed="rId7"/>
          <a:stretch/>
        </p:blipFill>
        <p:spPr>
          <a:xfrm>
            <a:off x="3578400" y="1798560"/>
            <a:ext cx="1206360" cy="1432080"/>
          </a:xfrm>
          <a:prstGeom prst="rect">
            <a:avLst/>
          </a:prstGeom>
          <a:ln w="0">
            <a:noFill/>
          </a:ln>
        </p:spPr>
      </p:pic>
      <p:pic>
        <p:nvPicPr>
          <p:cNvPr id="136" name="Овал 10" descr=""/>
          <p:cNvPicPr/>
          <p:nvPr/>
        </p:nvPicPr>
        <p:blipFill>
          <a:blip r:embed="rId8"/>
          <a:stretch/>
        </p:blipFill>
        <p:spPr>
          <a:xfrm>
            <a:off x="5005440" y="1011240"/>
            <a:ext cx="1206360" cy="1433520"/>
          </a:xfrm>
          <a:prstGeom prst="rect">
            <a:avLst/>
          </a:prstGeom>
          <a:ln w="0">
            <a:noFill/>
          </a:ln>
        </p:spPr>
      </p:pic>
      <p:pic>
        <p:nvPicPr>
          <p:cNvPr id="137" name="Овал 11" descr=""/>
          <p:cNvPicPr/>
          <p:nvPr/>
        </p:nvPicPr>
        <p:blipFill>
          <a:blip r:embed="rId9"/>
          <a:stretch/>
        </p:blipFill>
        <p:spPr>
          <a:xfrm>
            <a:off x="3219480" y="3157560"/>
            <a:ext cx="1206360" cy="1427040"/>
          </a:xfrm>
          <a:prstGeom prst="rect">
            <a:avLst/>
          </a:prstGeom>
          <a:ln w="0">
            <a:noFill/>
          </a:ln>
        </p:spPr>
      </p:pic>
      <p:pic>
        <p:nvPicPr>
          <p:cNvPr id="138" name="Овал 12" descr=""/>
          <p:cNvPicPr/>
          <p:nvPr/>
        </p:nvPicPr>
        <p:blipFill>
          <a:blip r:embed="rId10"/>
          <a:stretch/>
        </p:blipFill>
        <p:spPr>
          <a:xfrm>
            <a:off x="4645080" y="3011400"/>
            <a:ext cx="1212840" cy="1432080"/>
          </a:xfrm>
          <a:prstGeom prst="rect">
            <a:avLst/>
          </a:prstGeom>
          <a:ln w="0">
            <a:noFill/>
          </a:ln>
        </p:spPr>
      </p:pic>
      <p:pic>
        <p:nvPicPr>
          <p:cNvPr id="139" name="Овал 13" descr=""/>
          <p:cNvPicPr/>
          <p:nvPr/>
        </p:nvPicPr>
        <p:blipFill>
          <a:blip r:embed="rId11"/>
          <a:stretch/>
        </p:blipFill>
        <p:spPr>
          <a:xfrm>
            <a:off x="5645160" y="2011320"/>
            <a:ext cx="121284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Овал 14" descr=""/>
          <p:cNvPicPr/>
          <p:nvPr/>
        </p:nvPicPr>
        <p:blipFill>
          <a:blip r:embed="rId12"/>
          <a:stretch/>
        </p:blipFill>
        <p:spPr>
          <a:xfrm>
            <a:off x="6291360" y="1011240"/>
            <a:ext cx="1206360" cy="1433520"/>
          </a:xfrm>
          <a:prstGeom prst="rect">
            <a:avLst/>
          </a:prstGeom>
          <a:ln w="0">
            <a:noFill/>
          </a:ln>
        </p:spPr>
      </p:pic>
      <p:pic>
        <p:nvPicPr>
          <p:cNvPr id="141" name="Пирог 16" descr=""/>
          <p:cNvPicPr/>
          <p:nvPr/>
        </p:nvPicPr>
        <p:blipFill>
          <a:blip r:embed="rId13"/>
          <a:stretch/>
        </p:blipFill>
        <p:spPr>
          <a:xfrm>
            <a:off x="347760" y="5200560"/>
            <a:ext cx="423684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Пирог 17" descr=""/>
          <p:cNvPicPr/>
          <p:nvPr/>
        </p:nvPicPr>
        <p:blipFill>
          <a:blip r:embed="rId14"/>
          <a:stretch/>
        </p:blipFill>
        <p:spPr>
          <a:xfrm>
            <a:off x="4632480" y="5254560"/>
            <a:ext cx="42368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41076 0.51782 E">
                                      <p:cBhvr>
                                        <p:cTn id="36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-0.00486 L 0.22726 0.20046 E">
                                      <p:cBhvr>
                                        <p:cTn id="36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26771 0.22038 E">
                                      <p:cBhvr>
                                        <p:cTn id="36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1198 0.51782 E">
                                      <p:cBhvr>
                                        <p:cTn id="37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L -0.15504 0.49005 E">
                                      <p:cBhvr>
                                        <p:cTn id="37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9 0.01459 L -0.20885 0.40718 E">
                                      <p:cBhvr>
                                        <p:cTn id="37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36459 0.36135 E">
                                      <p:cBhvr>
                                        <p:cTn id="3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481E-006 L 0.14184 0.23102 E">
                                      <p:cBhvr>
                                        <p:cTn id="37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2 0.00486 L 0.58524 0.31412 E">
                                      <p:cBhvr>
                                        <p:cTn id="38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-0.69479 0.50718 E">
                                      <p:cBhvr>
                                        <p:cTn id="38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353520" y="565200"/>
            <a:ext cx="80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запись натурального числа оканч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тной цифрой, то это число чётно, а зна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ится без остатка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88440" y="2201760"/>
            <a:ext cx="80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запись натурального числа оканч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четной цифрой, то это число не чё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587600" y="357336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ризнак делимости н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730080" y="5300640"/>
            <a:ext cx="69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84, 13, 250, 45, 5280, 58, 63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76480" y="1268280"/>
            <a:ext cx="8616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клас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машняя работа: п.2, признаки делим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8, № 6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Проверим быстр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22480" y="1432080"/>
            <a:ext cx="26143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47 :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000 :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64 :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55 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5 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1 :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70 : 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5372280" y="1341360"/>
            <a:ext cx="214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84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648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575 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101 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430 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45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56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deti.jpg"/>
          <p:cNvPicPr/>
          <p:nvPr/>
        </p:nvPicPr>
        <p:blipFill>
          <a:blip r:embed="rId1"/>
          <a:stretch/>
        </p:blipFill>
        <p:spPr>
          <a:xfrm>
            <a:off x="571680" y="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9000" y="2357280"/>
            <a:ext cx="2286000" cy="22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Давай-ка, повтори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4" descr="deti.jpg"/>
          <p:cNvPicPr/>
          <p:nvPr/>
        </p:nvPicPr>
        <p:blipFill>
          <a:blip r:embed="rId2"/>
          <a:stretch/>
        </p:blipFill>
        <p:spPr>
          <a:xfrm>
            <a:off x="3643200" y="0"/>
            <a:ext cx="212436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deti.jpg"/>
          <p:cNvPicPr/>
          <p:nvPr/>
        </p:nvPicPr>
        <p:blipFill>
          <a:blip r:embed="rId3"/>
          <a:stretch/>
        </p:blipFill>
        <p:spPr>
          <a:xfrm>
            <a:off x="6858000" y="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deti.jpg"/>
          <p:cNvPicPr/>
          <p:nvPr/>
        </p:nvPicPr>
        <p:blipFill>
          <a:blip r:embed="rId4"/>
          <a:stretch/>
        </p:blipFill>
        <p:spPr>
          <a:xfrm>
            <a:off x="6858000" y="23572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deti.jpg"/>
          <p:cNvPicPr/>
          <p:nvPr/>
        </p:nvPicPr>
        <p:blipFill>
          <a:blip r:embed="rId5"/>
          <a:stretch/>
        </p:blipFill>
        <p:spPr>
          <a:xfrm>
            <a:off x="68580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deti.jpg"/>
          <p:cNvPicPr/>
          <p:nvPr/>
        </p:nvPicPr>
        <p:blipFill>
          <a:blip r:embed="rId6"/>
          <a:stretch/>
        </p:blipFill>
        <p:spPr>
          <a:xfrm>
            <a:off x="541440" y="4643280"/>
            <a:ext cx="2173320" cy="22147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deti.jpg"/>
          <p:cNvPicPr/>
          <p:nvPr/>
        </p:nvPicPr>
        <p:blipFill>
          <a:blip r:embed="rId7"/>
          <a:stretch/>
        </p:blipFill>
        <p:spPr>
          <a:xfrm>
            <a:off x="3714840" y="4689360"/>
            <a:ext cx="2168280" cy="2168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deti.jpg"/>
          <p:cNvPicPr/>
          <p:nvPr/>
        </p:nvPicPr>
        <p:blipFill>
          <a:blip r:embed="rId8"/>
          <a:stretch/>
        </p:blipFill>
        <p:spPr>
          <a:xfrm>
            <a:off x="565200" y="2278080"/>
            <a:ext cx="2149560" cy="2151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1"/>
          <p:cNvSpPr/>
          <p:nvPr/>
        </p:nvSpPr>
        <p:spPr>
          <a:xfrm>
            <a:off x="428760" y="0"/>
            <a:ext cx="87152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Сформулируй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признак делимости на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1680" y="0"/>
            <a:ext cx="845496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Какие цифры считают четны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00040" y="71280"/>
            <a:ext cx="85010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Какие натуральные числа называют нечетны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428760" y="2143080"/>
            <a:ext cx="85820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Сформулируйте признак делимости на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428760" y="2143080"/>
            <a:ext cx="85820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Сформулируйте признак делимости н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428760" y="2192400"/>
            <a:ext cx="85820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Сколько цифр нечетны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А сколько четных циф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419040" y="2214720"/>
            <a:ext cx="85820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Приведите для примера 3 трехзначных четных чи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419040" y="2192400"/>
            <a:ext cx="85820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Что Вы сможете сказ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 34 560, учитывая признаки делимости чисе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Проверим быстр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22480" y="1432080"/>
            <a:ext cx="26143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47 :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000 :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64 :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55 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5 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1 :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70 : 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5372280" y="1341360"/>
            <a:ext cx="214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84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648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575 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101 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430 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45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56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Как изменится запись числа, если его умножить на 1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57200" y="150012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Число, полученное при умножении на 10, будет оканчиваться нулё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" y="3335400"/>
            <a:ext cx="8472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Arial"/>
              </a:rPr>
              <a:t>Всякое натуральное число, оканчивающееся 0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58800" y="5229360"/>
            <a:ext cx="84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делится без остатка на 10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Расскажите мне об этих числах, учитывая признак деления на 10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857160" y="1500120"/>
            <a:ext cx="307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3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4 6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5 5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5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с вырезом 7"/>
          <p:cNvSpPr/>
          <p:nvPr/>
        </p:nvSpPr>
        <p:spPr>
          <a:xfrm>
            <a:off x="2143080" y="2286000"/>
            <a:ext cx="1000080" cy="214200"/>
          </a:xfrm>
          <a:custGeom>
            <a:avLst/>
            <a:gdLst>
              <a:gd name="textAreaLeft" fmla="*/ 53280 w 1000080"/>
              <a:gd name="textAreaRight" fmla="*/ 946800 w 10000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286" y="5400"/>
                </a:ln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19286" y="16200"/>
                </a:lnTo>
                <a:lnTo>
                  <a:pt x="0" y="16200"/>
                </a:lnTo>
                <a:lnTo>
                  <a:pt x="11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3214800" y="185724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ел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 оста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с вырезом 9"/>
          <p:cNvSpPr/>
          <p:nvPr/>
        </p:nvSpPr>
        <p:spPr>
          <a:xfrm>
            <a:off x="2143080" y="4214880"/>
            <a:ext cx="1000080" cy="214200"/>
          </a:xfrm>
          <a:custGeom>
            <a:avLst/>
            <a:gdLst>
              <a:gd name="textAreaLeft" fmla="*/ 53280 w 1000080"/>
              <a:gd name="textAreaRight" fmla="*/ 946800 w 10000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286" y="5400"/>
                </a:lnTo>
                <a:lnTo>
                  <a:pt x="19286" y="0"/>
                </a:lnTo>
                <a:lnTo>
                  <a:pt x="21600" y="10800"/>
                </a:lnTo>
                <a:lnTo>
                  <a:pt x="19286" y="21600"/>
                </a:lnTo>
                <a:lnTo>
                  <a:pt x="19286" y="16200"/>
                </a:lnTo>
                <a:lnTo>
                  <a:pt x="0" y="16200"/>
                </a:lnTo>
                <a:lnTo>
                  <a:pt x="11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214800" y="378612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ел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 оста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57120" y="50007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очему одни числа делятся на 10 без остатка, а другие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01960" y="692280"/>
            <a:ext cx="857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запись натурального числа оканч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ифрой 0, то это число делится без остатка на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52080" y="1844640"/>
            <a:ext cx="896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запись натурального числа оканч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ой цифрой, то оно не делится без остатка на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589040" y="357336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ризнак делимости на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732600" y="530064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48, 150, 250, 453, 52480, 565, 6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Назовите делители числа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27"/>
          <p:cNvGrpSpPr/>
          <p:nvPr/>
        </p:nvGrpSpPr>
        <p:grpSpPr>
          <a:xfrm>
            <a:off x="1041480" y="1419120"/>
            <a:ext cx="1999080" cy="1500120"/>
            <a:chOff x="1041480" y="1419120"/>
            <a:chExt cx="1999080" cy="1500120"/>
          </a:xfrm>
        </p:grpSpPr>
        <p:grpSp>
          <p:nvGrpSpPr>
            <p:cNvPr id="66" name="Группа 11"/>
            <p:cNvGrpSpPr/>
            <p:nvPr/>
          </p:nvGrpSpPr>
          <p:grpSpPr>
            <a:xfrm>
              <a:off x="1041480" y="1482480"/>
              <a:ext cx="1999080" cy="1261800"/>
              <a:chOff x="1041480" y="1482480"/>
              <a:chExt cx="1999080" cy="1261800"/>
            </a:xfrm>
          </p:grpSpPr>
          <p:sp>
            <p:nvSpPr>
              <p:cNvPr id="67" name="Овал 12"/>
              <p:cNvSpPr/>
              <p:nvPr/>
            </p:nvSpPr>
            <p:spPr>
              <a:xfrm rot="21318000">
                <a:off x="1076400" y="1559880"/>
                <a:ext cx="1928880" cy="936360"/>
              </a:xfrm>
              <a:prstGeom prst="ellipse">
                <a:avLst/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Овал 13"/>
              <p:cNvSpPr/>
              <p:nvPr/>
            </p:nvSpPr>
            <p:spPr>
              <a:xfrm rot="21318000">
                <a:off x="1234440" y="2001600"/>
                <a:ext cx="1673280" cy="479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Овал 14"/>
              <p:cNvSpPr/>
              <p:nvPr/>
            </p:nvSpPr>
            <p:spPr>
              <a:xfrm rot="21318000">
                <a:off x="1757520" y="2116080"/>
                <a:ext cx="571320" cy="605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" name="TextBox 15" descr=""/>
            <p:cNvPicPr/>
            <p:nvPr/>
          </p:nvPicPr>
          <p:blipFill>
            <a:blip r:embed="rId1"/>
            <a:stretch/>
          </p:blipFill>
          <p:spPr>
            <a:xfrm>
              <a:off x="1243440" y="1419120"/>
              <a:ext cx="165816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8"/>
          <p:cNvGrpSpPr/>
          <p:nvPr/>
        </p:nvGrpSpPr>
        <p:grpSpPr>
          <a:xfrm>
            <a:off x="4008600" y="1307160"/>
            <a:ext cx="1972800" cy="1532880"/>
            <a:chOff x="4008600" y="1307160"/>
            <a:chExt cx="1972800" cy="1532880"/>
          </a:xfrm>
        </p:grpSpPr>
        <p:grpSp>
          <p:nvGrpSpPr>
            <p:cNvPr id="72" name="Группа 16"/>
            <p:cNvGrpSpPr/>
            <p:nvPr/>
          </p:nvGrpSpPr>
          <p:grpSpPr>
            <a:xfrm>
              <a:off x="4010040" y="1307160"/>
              <a:ext cx="1971360" cy="1473120"/>
              <a:chOff x="4010040" y="1307160"/>
              <a:chExt cx="1971360" cy="1473120"/>
            </a:xfrm>
          </p:grpSpPr>
          <p:sp>
            <p:nvSpPr>
              <p:cNvPr id="73" name="Овал 17"/>
              <p:cNvSpPr/>
              <p:nvPr/>
            </p:nvSpPr>
            <p:spPr>
              <a:xfrm rot="1455600">
                <a:off x="4095720" y="1641240"/>
                <a:ext cx="1800000" cy="804600"/>
              </a:xfrm>
              <a:prstGeom prst="ellipse">
                <a:avLst/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18"/>
              <p:cNvSpPr/>
              <p:nvPr/>
            </p:nvSpPr>
            <p:spPr>
              <a:xfrm rot="1455600">
                <a:off x="4154040" y="2008800"/>
                <a:ext cx="1561680" cy="412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19"/>
              <p:cNvSpPr/>
              <p:nvPr/>
            </p:nvSpPr>
            <p:spPr>
              <a:xfrm rot="1455600">
                <a:off x="4563000" y="2070720"/>
                <a:ext cx="533160" cy="520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TextBox 20" descr=""/>
            <p:cNvPicPr/>
            <p:nvPr/>
          </p:nvPicPr>
          <p:blipFill>
            <a:blip r:embed="rId2"/>
            <a:stretch/>
          </p:blipFill>
          <p:spPr>
            <a:xfrm>
              <a:off x="4008600" y="1339920"/>
              <a:ext cx="19285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Группа 29"/>
          <p:cNvGrpSpPr/>
          <p:nvPr/>
        </p:nvGrpSpPr>
        <p:grpSpPr>
          <a:xfrm>
            <a:off x="6453360" y="2711520"/>
            <a:ext cx="1928520" cy="1500120"/>
            <a:chOff x="6453360" y="2711520"/>
            <a:chExt cx="1928520" cy="1500120"/>
          </a:xfrm>
        </p:grpSpPr>
        <p:grpSp>
          <p:nvGrpSpPr>
            <p:cNvPr id="78" name="Группа 21"/>
            <p:cNvGrpSpPr/>
            <p:nvPr/>
          </p:nvGrpSpPr>
          <p:grpSpPr>
            <a:xfrm>
              <a:off x="6752520" y="2811600"/>
              <a:ext cx="1518120" cy="1209240"/>
              <a:chOff x="6752520" y="2811600"/>
              <a:chExt cx="1518120" cy="1209240"/>
            </a:xfrm>
          </p:grpSpPr>
          <p:sp>
            <p:nvSpPr>
              <p:cNvPr id="79" name="Овал 22"/>
              <p:cNvSpPr/>
              <p:nvPr/>
            </p:nvSpPr>
            <p:spPr>
              <a:xfrm rot="1564800">
                <a:off x="6833520" y="3074760"/>
                <a:ext cx="1356120" cy="682560"/>
              </a:xfrm>
              <a:prstGeom prst="ellipse">
                <a:avLst/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Овал 23"/>
              <p:cNvSpPr/>
              <p:nvPr/>
            </p:nvSpPr>
            <p:spPr>
              <a:xfrm rot="1564800">
                <a:off x="6868080" y="3387240"/>
                <a:ext cx="1176480" cy="349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Овал 24"/>
              <p:cNvSpPr/>
              <p:nvPr/>
            </p:nvSpPr>
            <p:spPr>
              <a:xfrm rot="1564800">
                <a:off x="7167960" y="3437640"/>
                <a:ext cx="401760" cy="441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TextBox 25" descr=""/>
            <p:cNvPicPr/>
            <p:nvPr/>
          </p:nvPicPr>
          <p:blipFill>
            <a:blip r:embed="rId3"/>
            <a:stretch/>
          </p:blipFill>
          <p:spPr>
            <a:xfrm>
              <a:off x="6453360" y="2711520"/>
              <a:ext cx="19285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Группа 26"/>
          <p:cNvGrpSpPr/>
          <p:nvPr/>
        </p:nvGrpSpPr>
        <p:grpSpPr>
          <a:xfrm>
            <a:off x="2649600" y="3038040"/>
            <a:ext cx="1928880" cy="1573560"/>
            <a:chOff x="2649600" y="3038040"/>
            <a:chExt cx="1928880" cy="1573560"/>
          </a:xfrm>
        </p:grpSpPr>
        <p:grpSp>
          <p:nvGrpSpPr>
            <p:cNvPr id="84" name="Группа 9"/>
            <p:cNvGrpSpPr/>
            <p:nvPr/>
          </p:nvGrpSpPr>
          <p:grpSpPr>
            <a:xfrm>
              <a:off x="2743560" y="3038040"/>
              <a:ext cx="1775160" cy="1401120"/>
              <a:chOff x="2743560" y="3038040"/>
              <a:chExt cx="1775160" cy="1401120"/>
            </a:xfrm>
          </p:grpSpPr>
          <p:sp>
            <p:nvSpPr>
              <p:cNvPr id="85" name="Овал 4"/>
              <p:cNvSpPr/>
              <p:nvPr/>
            </p:nvSpPr>
            <p:spPr>
              <a:xfrm rot="19973400">
                <a:off x="2825640" y="3363480"/>
                <a:ext cx="1610280" cy="749880"/>
              </a:xfrm>
              <a:prstGeom prst="ellipse">
                <a:avLst/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Овал 6"/>
              <p:cNvSpPr/>
              <p:nvPr/>
            </p:nvSpPr>
            <p:spPr>
              <a:xfrm rot="19973400">
                <a:off x="3015720" y="3693240"/>
                <a:ext cx="1397160" cy="384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Овал 8"/>
              <p:cNvSpPr/>
              <p:nvPr/>
            </p:nvSpPr>
            <p:spPr>
              <a:xfrm rot="19973400">
                <a:off x="3507480" y="3785760"/>
                <a:ext cx="477000" cy="485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TextBox 10" descr=""/>
            <p:cNvPicPr/>
            <p:nvPr/>
          </p:nvPicPr>
          <p:blipFill>
            <a:blip r:embed="rId4"/>
            <a:stretch/>
          </p:blipFill>
          <p:spPr>
            <a:xfrm>
              <a:off x="2649600" y="3111480"/>
              <a:ext cx="192888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Заголовок 1"/>
          <p:cNvSpPr/>
          <p:nvPr/>
        </p:nvSpPr>
        <p:spPr>
          <a:xfrm>
            <a:off x="247680" y="491976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76092"/>
                </a:solidFill>
                <a:latin typeface="Calibri"/>
              </a:rPr>
              <a:t>Тогда, если число делится на 10, то оно делится на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247680" y="559440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76092"/>
                </a:solidFill>
                <a:latin typeface="Calibri"/>
              </a:rPr>
              <a:t>5 и на 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60" y="142560"/>
            <a:ext cx="88344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аша «ловила» числа, которые делятся на 5, а Миша те, что не делятся на 5.</a:t>
            </a:r>
            <a:br>
              <a:rPr sz="3600"/>
            </a:b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пределите, кто какие числа «поймал», записав числа в таблиц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4200" y="2428920"/>
          <a:ext cx="8444160" cy="2214360"/>
        </p:xfrm>
        <a:graphic>
          <a:graphicData uri="http://schemas.openxmlformats.org/drawingml/2006/table">
            <a:tbl>
              <a:tblPr/>
              <a:tblGrid>
                <a:gridCol w="3929040"/>
                <a:gridCol w="451512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лятся на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делятся на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3" name="Рисунок 4" descr="large3.jpg"/>
          <p:cNvPicPr/>
          <p:nvPr/>
        </p:nvPicPr>
        <p:blipFill>
          <a:blip r:embed="rId1"/>
          <a:stretch/>
        </p:blipFill>
        <p:spPr>
          <a:xfrm>
            <a:off x="2900520" y="4121280"/>
            <a:ext cx="3286080" cy="2673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85840" y="4643280"/>
            <a:ext cx="12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5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571760" y="4643280"/>
            <a:ext cx="121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6429240" y="45007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35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7429680" y="5857920"/>
            <a:ext cx="14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85840" y="608796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30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8072280" y="450072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928800" y="53578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Arial"/>
              </a:rPr>
              <a:t>55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7000920" y="51436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Arial"/>
              </a:rPr>
              <a:t>9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85486 -0.19121 E">
                                      <p:cBhvr>
                                        <p:cTn id="24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00191 -0.11759 E">
                                      <p:cBhvr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52865 -0.28496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44444E-006 L -6.38889E-006 -0.33612 E">
                                      <p:cBhvr>
                                        <p:cTn id="24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0.44184 -0.20162 E">
                                      <p:cBhvr>
                                        <p:cTn id="24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7.40741E-007 L 0.50399 -0.31505 E">
                                      <p:cBhvr>
                                        <p:cTn id="2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00556 -0.09676 E">
                                      <p:cBhvr>
                                        <p:cTn id="2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-0.00468 -0.35764 E">
                                      <p:cBhvr>
                                        <p:cTn id="2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14440" y="6922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запись натурального числа оканч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ифрой 0 или 5, то это число делится без остатка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4720" y="1844640"/>
            <a:ext cx="75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запись натурального числа оканч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й цифрой, то оно не делится без остатка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587600" y="357336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ризнак делимости на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32600" y="530064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84, 153, 250, 455, 5280, 563, 63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0:53:57Z</dcterms:created>
  <dc:creator>Дочь</dc:creator>
  <dc:description/>
  <dc:language>en-US</dc:language>
  <cp:lastModifiedBy>Учитель</cp:lastModifiedBy>
  <dcterms:modified xsi:type="dcterms:W3CDTF">2021-09-24T04:16:13Z</dcterms:modified>
  <cp:revision>78</cp:revision>
  <dc:subject/>
  <dc:title>Слайд 1</dc:title>
</cp:coreProperties>
</file>