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E0C-476B-4718-BCEC-30054441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3C4-A503-476F-86A7-A0FC99B2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00E-3E2D-46C8-9F48-F324A96F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106-7B47-4B8A-83A2-55BEC377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544-0D4C-4F1B-A1AE-EC4780D3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2DB-D9B5-45B7-9958-9C63A539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E41-29E0-4F77-8F0C-0810EBB1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E17-6F02-45EC-83FF-DC412E5C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084-582A-49AB-94B5-8035CED9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7BE-9F82-4CAE-A328-0127DDD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9C8-1662-498D-9332-26634F56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93D-061E-4959-A941-9A075D58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FBAC-AC8E-4D3F-A0A9-E33F26C6F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hyperlink" Target="http://images.yandex.ru/yandsearch?img_url=http%3A%2F%2Fwww.ozon.ru%2Fmultimedia%2Fbooks_covers%2Fsv266.jpg&amp;iorient=&amp;icolor=&amp;site=&amp;text=&#1076;&#1077;&#1090;&#1103;&#1084;%20&#1086;%20%20&#1090;&#1088;&#1072;&#1076;&#1080;&#1094;&#1080;&#1103;&#1093;%20&#1080;%20&#1086;&#1073;&#1099;&#1095;&#1072;&#1103;&#1093;%20&#1088;&#1091;&#1089;&#1089;&#1082;&#1086;&#1075;&#1086;%20&#1085;&#1072;&#1088;&#1086;&#1076;&#1072;&amp;wp=&amp;pos=21&amp;isize=&amp;type=&amp;recent=&amp;rpt=simage&amp;itype=&amp;nojs=1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kmrz.ru/catimg/34/344843.jpg" TargetMode="External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hyperlink" Target="http://images.yandex.ru/yandsearch?img_url=http%3A%2F%2Fstat.vcene.ua%2Fcommon%2Fimage%2Fproduct%2F90%2F9005%2F900528%2Fpreview.jpg&amp;iorient=&amp;nojs=1&amp;icolor=&amp;p=7&amp;site=&amp;text=&#1083;&#1080;&#1090;&#1077;&#1088;&#1072;&#1090;&#1091;&#1088;&#1072;%20&#1086;%20&#1085;&#1072;&#1088;&#1086;&#1076;&#1099;%20&#1088;&#1086;&#1089;&#1089;&#1080;&#1080;%20&#1080;%20&#1080;&#1093;%20&#1090;&#1088;&#1072;&#1076;&#1080;&#1094;&#1080;&#1080;&amp;wp=&amp;pos=221&amp;recent=&amp;type=&amp;isize=&amp;rpt=simage&amp;itype=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yandex.ru/yandsearch?img_url=http%3A%2F%2F900igr.net%2Fdatai%2Fistorija%2FRusskij-narod%2F0022-058-Kogda-rech-zakhodit-o-russkikh-traditsijakh-to-bolshinstvo-ukazyvaet-na.jpg&amp;iorient=&amp;icolor=&amp;p=2&amp;site=&amp;text=&#1082;&#1085;&#1080;&#1075;&#1080;%20&#1076;&#1077;&#1090;&#1103;&#1084;%20&#1086;%20%20&#1090;&#1088;&#1072;&#1076;&#1080;&#1094;&#1080;&#1103;&#1093;%20&#1080;%20&#1086;&#1073;&#1099;&#1095;&#1072;&#1103;&#1093;%20&#1088;&#1091;&#1089;&#1089;&#1082;&#1086;&#1075;&#1086;%20&#1085;&#1072;&#1088;&#1086;&#1076;&#1072;&amp;wp=&amp;pos=60&amp;isize=&amp;type=&amp;recent=&amp;rpt=simage&amp;itype=&amp;nojs=1" TargetMode="External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klk.pp.ru/uploads/posts/uz-v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klk.pp.ru/uploads/posts/uz-v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klk.pp.ru/uploads/posts/uz-v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hyperlink" Target="http://klk.pp.ru/uploads/posts/uz-v1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klk.pp.ru/uploads/posts/uz-v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79200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бычаи и традиции на Рус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635280" y="506448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Georgia"/>
                <a:ea typeface="Calibri"/>
              </a:rPr>
              <a:t>«Чем дальше в будущее входи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Georgia"/>
                <a:ea typeface="Calibri"/>
              </a:rPr>
              <a:t>тем больше прошлым дорожим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5003640" y="6093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1694880" y="6308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 flipH="1">
            <a:off x="2410560" y="6308640"/>
            <a:ext cx="57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Georgia"/>
              </a:rPr>
              <a:t>Воспитатель дошкольных групп Баталова О.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im3-tub-ru.yandex.net/i?id=520387936-15-72"/>
          <p:cNvPicPr/>
          <p:nvPr/>
        </p:nvPicPr>
        <p:blipFill>
          <a:blip r:embed="rId3"/>
          <a:stretch/>
        </p:blipFill>
        <p:spPr>
          <a:xfrm>
            <a:off x="2765520" y="1333440"/>
            <a:ext cx="1224000" cy="208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http://im4-tub-ru.yandex.net/i?id=250978463-58-72"/>
          <p:cNvPicPr/>
          <p:nvPr/>
        </p:nvPicPr>
        <p:blipFill>
          <a:blip r:embed="rId4"/>
          <a:stretch/>
        </p:blipFill>
        <p:spPr>
          <a:xfrm>
            <a:off x="4087800" y="2921040"/>
            <a:ext cx="1295280" cy="208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2" descr="http://im4-tub-ru.yandex.net/i?id=86326689-42-72"/>
          <p:cNvPicPr/>
          <p:nvPr/>
        </p:nvPicPr>
        <p:blipFill>
          <a:blip r:embed="rId5"/>
          <a:stretch/>
        </p:blipFill>
        <p:spPr>
          <a:xfrm>
            <a:off x="3094200" y="4508640"/>
            <a:ext cx="1368360" cy="223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http://im6-tub-ru.yandex.net/i?id=373905463-27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89440" y="13334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http://www.kmrz.ru/catimg/34/344843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78560" y="2336760"/>
            <a:ext cx="1368360" cy="20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im4-tub-ru.yandex.net/i?id=292712538-60-72"/>
          <p:cNvPicPr/>
          <p:nvPr/>
        </p:nvPicPr>
        <p:blipFill>
          <a:blip r:embed="rId10"/>
          <a:stretch/>
        </p:blipFill>
        <p:spPr>
          <a:xfrm>
            <a:off x="5091120" y="450360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http://im4-tub-ru.yandex.net/i?id=497938428-35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4691160"/>
            <a:ext cx="144000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" descr="http://im5-tub-ru.yandex.net/i?id=158402802-54-72&amp;n=2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839960" y="4065480"/>
            <a:ext cx="1368360" cy="2219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im3-tub-ru.yandex.net/i?id=203152549-12-72&amp;n=21"/>
          <p:cNvPicPr/>
          <p:nvPr/>
        </p:nvPicPr>
        <p:blipFill>
          <a:blip r:embed="rId15"/>
          <a:stretch/>
        </p:blipFill>
        <p:spPr>
          <a:xfrm>
            <a:off x="1155600" y="1341360"/>
            <a:ext cx="1268640" cy="208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im8-tub-ru.yandex.net/i?id=535442434-30-72"/>
          <p:cNvPicPr/>
          <p:nvPr/>
        </p:nvPicPr>
        <p:blipFill>
          <a:blip r:embed="rId16"/>
          <a:stretch/>
        </p:blipFill>
        <p:spPr>
          <a:xfrm>
            <a:off x="6581880" y="2849400"/>
            <a:ext cx="1450800" cy="208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http://mediatekaioc.narod.ru/images/p95_prazdnikiiobyichai.jpg"/>
          <p:cNvPicPr/>
          <p:nvPr/>
        </p:nvPicPr>
        <p:blipFill>
          <a:blip r:embed="rId17"/>
          <a:stretch/>
        </p:blipFill>
        <p:spPr>
          <a:xfrm>
            <a:off x="6534000" y="969840"/>
            <a:ext cx="1460520" cy="172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0" descr="http://libgmb.ru/images/kukli_i_knigi/IMG_0009.jpg"/>
          <p:cNvPicPr/>
          <p:nvPr/>
        </p:nvPicPr>
        <p:blipFill>
          <a:blip r:embed="rId18"/>
          <a:stretch/>
        </p:blipFill>
        <p:spPr>
          <a:xfrm>
            <a:off x="6789600" y="4937040"/>
            <a:ext cx="1195560" cy="172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im2-tub-ru.yandex.net/i?id=453794345-07-72"/>
          <p:cNvPicPr/>
          <p:nvPr/>
        </p:nvPicPr>
        <p:blipFill>
          <a:blip r:embed="rId19"/>
          <a:stretch/>
        </p:blipFill>
        <p:spPr>
          <a:xfrm>
            <a:off x="1662120" y="2336760"/>
            <a:ext cx="1714320" cy="16797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8"/>
          <p:cNvSpPr/>
          <p:nvPr/>
        </p:nvSpPr>
        <p:spPr>
          <a:xfrm>
            <a:off x="3348000" y="189000"/>
            <a:ext cx="25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  <a:ea typeface="Times New Roman"/>
              </a:rPr>
              <a:t>Используем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  <a:ea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uz-v1"/>
          <p:cNvPicPr/>
          <p:nvPr/>
        </p:nvPicPr>
        <p:blipFill>
          <a:blip r:embed="rId20"/>
          <a:stretch/>
        </p:blipFill>
        <p:spPr>
          <a:xfrm>
            <a:off x="820260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408400" y="3243240"/>
            <a:ext cx="4327200" cy="70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uz-v1"/>
          <p:cNvPicPr/>
          <p:nvPr/>
        </p:nvPicPr>
        <p:blipFill>
          <a:blip r:embed="rId3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1042920" y="512640"/>
            <a:ext cx="705816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Акт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Georgia"/>
              </a:rPr>
              <a:t>Старинная пословица гласит:</a:t>
            </a: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Georgia"/>
              </a:rPr>
              <a:t>«Человек, не знающий своего прошлого, не знает ничег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общение к традициям народа особенно значимо в дошкольные годы. Ребенок является будущим полноправным членом социума, ему предстоит осваивать, сохранять, развивать и передавать дальше культурное наследие этноса через включение в культуру и социальную а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едь без знаний традиций, обычаев русского народа, невозможно воспитать полноценного человека. Так как каждый народ не просто хранит исторически сложившиеся воспитательные традиции и особенности, но и стремится перенести их в будущее, чтобы не утратить исторического национального лица и самобытности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ы предполагаем, что ознакомление детей старшего дошкольного возраста с историей и традициями родного  народа способствует их  патриотическому воспитанию, формированию гражданской позиции, развивается понимание истинно прекрасн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23120" y="6480"/>
            <a:ext cx="9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900000" y="189000"/>
            <a:ext cx="7344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Цель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Развитие  у детей дошкольного возраста устойчивого интереса к русской народной куль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 Воспитание патриотизма и формирование гражданской позиции через ознакомление  с традициями народной культуры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Познакомить детей с народными традициями и включать их в детскую жизнь, так как в них отражена глубокая мудрость и творческий потенциал русского народа. Пробудить интерес к истории и культуре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Способствовать развитию познавательной активности, любозн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Сформировать чувство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Воспитывать интерес  и любовь к обычаям, традициям русского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900000" y="622440"/>
            <a:ext cx="7344000" cy="78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3"/>
              </a:spcBef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По доминирующей деятельност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знавательно-игровой, творче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По числу участников проекта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готовительная к школе группа «Б» (дети, воспитатели, родите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По времени проведения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краткосрочный (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09.01.2020 г по 17.01.2020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Форма участия в проекте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коллек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Проектная деятельность включает в себя три этапа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готовительный, практический и заключите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13"/>
              </a:spcBef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Планируем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сширение представлений о русской культуре, обогащение представлений о традициях русского народа, обогащение жизненно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важение к традициям и культуре русского народа, интерес к культурным тради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 flipH="1">
            <a:off x="2436120" y="160200"/>
            <a:ext cx="48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  <a:ea typeface="Times New Roman"/>
              </a:rPr>
              <a:t>Тип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uz-v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44000" y="-2556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1116000" y="336600"/>
            <a:ext cx="741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Этап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1этап. Подготовительный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1. Подбор методической, художественной литературы, иллюстративного материала по данной тем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. Создание развивающей среды в групп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дбор и изготовление наглядно-дидактического материа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4. Создание презентации по теме «Обычаи и традиции русского народа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5. Составление перспективного планирования различных видов 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6. Разработка конспектов, проведение мероприятий недел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7. Выбор диагностического инструментар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uz-v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9800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1111320" y="54936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2этап. Реализация 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вместная познавательно-исследовательская и твор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учивание частушек, пословиц, поговорок, потешек, танцев, песен, русских народных игр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ссматривание картин и иллюстр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 Организация предметно – развив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3 Этап. Заключительн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1. 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.  Создание презентации по итогам реализации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лечение «Русские традиции. Зимние свя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uz-v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04040" y="-9360"/>
            <a:ext cx="9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539640" y="54936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  <a:ea typeface="Times New Roman"/>
              </a:rPr>
              <a:t>Роль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  <a:ea typeface="Times New Roman"/>
              </a:rPr>
              <a:t>в реализации 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1. Познакомить родителей с темой проекта, заинтересовать 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. Анкетирование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3. Консультация «Приобщение детей к народным традиция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4. Работа с детьми д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tretch/>
        </p:blipFill>
        <p:spPr>
          <a:xfrm>
            <a:off x="2303640" y="3716280"/>
            <a:ext cx="482436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44000" y="-1908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3"/>
          <p:cNvSpPr/>
          <p:nvPr/>
        </p:nvSpPr>
        <p:spPr>
          <a:xfrm>
            <a:off x="971640" y="417600"/>
            <a:ext cx="7129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  <a:ea typeface="Times New Roman"/>
              </a:rPr>
              <a:t>Традиц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это передача от предшествующих поколений обычаев и обрядов нынешнему поко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сновные зимние праздники –  две святочные недели (святки): Рождество, Новый год (по старому стилю) и Крещ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праздники затевали магические игры, производили символические действия с зерном, хлебом, соломой («чтобы был урожай»),  ходили по домам колядовать,  девушки гадали , обязательным элементом святок было 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971640" y="3025800"/>
            <a:ext cx="7200720" cy="352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uz-v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44000" y="468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900000" y="333360"/>
            <a:ext cx="748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Georgia"/>
              </a:rPr>
              <a:t>Итог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ы должны бережно хранить русские традиции и обычаи древности, чтобы не терять связь времён и поко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годня многие из нас понимают, что очень важно не утратить духовные ценности русского народа (доброту, религиозность, патриотизм, сплоченность), способствовать их передаче следующим поколениям путём приобщения к богатой русской национальной куль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сторические обычаи русского народа уникальны. Народные обычаи и обряды были и остаются неотъемлемой составной частью духовной культуры народа. Сможем ли мы их сохранить и передать дальше? Да. Но только в том случае, если осознаем утраченные ценности жизненно необходимыми в будущем. Именно народные обычаи выражают душу народа, украшают её жизнь, придают ей неповторимость, укрепляют связь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uz-v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66040" y="-12600"/>
            <a:ext cx="9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User</cp:lastModifiedBy>
  <dcterms:modified xsi:type="dcterms:W3CDTF">2020-01-18T12:42:12Z</dcterms:modified>
  <cp:revision>163</cp:revision>
  <dc:subject/>
  <dc:title>Слайд 1</dc:title>
</cp:coreProperties>
</file>