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5C4A-69FE-43DA-B3E0-40462DE3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C9AA-00B8-4595-B14C-6C82D179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B55F-5C6C-4112-813A-42F121D0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9B5B-955C-4119-8C18-76A072BB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3CAB-4B46-4880-B562-C5A49AB2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B132-4D38-4543-AA6A-6CCB29BD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B02C-3318-4ACC-A414-75F1B655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B50B-F95B-4182-ABFF-63FC1307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3B0D-5786-4D81-B846-F1CDBB98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0A62-CA2C-4C98-A464-41FB2B2B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09D1-34E3-4863-8884-8A3E5716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92B7-117A-4C3B-9556-B4998C42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1E23-6B48-4D3D-AE9F-385CE7EC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E7C3-DC98-4060-9587-F292E8B7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192D-FC76-417E-9095-1BAFDBA8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F780-70D0-4641-94F2-551EA5DD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87FF-7428-4635-A063-00754033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F46E-8321-45F7-AF38-542E700C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956-7AD8-49C1-9221-EE5D3D67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69F-69D6-4EC0-8ECD-FB5BF301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C7E-20EB-42F8-A41A-D8599BC3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D284-5EFF-4A77-A50E-B71119F2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4EFC-0BAF-4B2E-8575-3DC1D313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C582-36DD-43A4-9410-FDB17DB5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5880"/>
              <a:ext cx="160920" cy="300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5880"/>
              <a:ext cx="164160" cy="300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94480" cy="5324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0760"/>
              <a:ext cx="161280" cy="49572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0760"/>
              <a:ext cx="159120" cy="49572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prstGeom prst="pie">
            <a:avLst/>
          </a:pr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prstGeom prst="pie">
            <a:avLst/>
          </a:pr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6840" y="74520"/>
            <a:ext cx="8956800" cy="1796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prstGeom prst="pie">
            <a:avLst/>
          </a:pr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prstGeom prst="pie">
            <a:avLst/>
          </a:pr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564000" y="63082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6805-EC08-488E-9049-C5898EF80D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100000">
              <a:srgbClr val="70a8d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3"/>
          <p:cNvSpPr/>
          <p:nvPr/>
        </p:nvSpPr>
        <p:spPr>
          <a:xfrm>
            <a:off x="900000" y="5300640"/>
            <a:ext cx="743040" cy="743040"/>
          </a:xfrm>
          <a:prstGeom prst="rect">
            <a:avLst/>
          </a:prstGeom>
          <a:solidFill>
            <a:srgbClr val="58be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67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68" name="Freeform 24"/>
            <p:cNvSpPr/>
            <p:nvPr/>
          </p:nvSpPr>
          <p:spPr>
            <a:xfrm>
              <a:off x="112680" y="5954760"/>
              <a:ext cx="8931240" cy="554040"/>
            </a:xfrm>
            <a:prstGeom prst="pie">
              <a:avLst/>
            </a:pr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9" name="Freeform 25"/>
            <p:cNvSpPr/>
            <p:nvPr/>
          </p:nvSpPr>
          <p:spPr>
            <a:xfrm>
              <a:off x="112680" y="6032520"/>
              <a:ext cx="8931240" cy="554040"/>
            </a:xfrm>
            <a:prstGeom prst="pie">
              <a:avLst/>
            </a:pr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0" name="Freeform 26"/>
            <p:cNvSpPr/>
            <p:nvPr/>
          </p:nvSpPr>
          <p:spPr>
            <a:xfrm>
              <a:off x="6681960" y="6084720"/>
              <a:ext cx="2366640" cy="14004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71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2" name="Rectangle 42"/>
          <p:cNvSpPr/>
          <p:nvPr/>
        </p:nvSpPr>
        <p:spPr>
          <a:xfrm>
            <a:off x="108000" y="5300640"/>
            <a:ext cx="741240" cy="744480"/>
          </a:xfrm>
          <a:prstGeom prst="rect">
            <a:avLst/>
          </a:prstGeom>
          <a:solidFill>
            <a:srgbClr val="70a8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3" name="Rectangle 50"/>
          <p:cNvSpPr/>
          <p:nvPr/>
        </p:nvSpPr>
        <p:spPr>
          <a:xfrm>
            <a:off x="120600" y="4511520"/>
            <a:ext cx="741240" cy="743040"/>
          </a:xfrm>
          <a:prstGeom prst="rect">
            <a:avLst/>
          </a:prstGeom>
          <a:solidFill>
            <a:srgbClr val="357d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74" name="Picture 76" descr="j0400050"/>
          <p:cNvPicPr/>
          <p:nvPr/>
        </p:nvPicPr>
        <p:blipFill>
          <a:blip r:embed="rId2"/>
          <a:stretch/>
        </p:blipFill>
        <p:spPr>
          <a:xfrm>
            <a:off x="179280" y="404640"/>
            <a:ext cx="2664000" cy="17751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5" name="Picture 77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664000" cy="17733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6" name="Picture 79" descr="2"/>
          <p:cNvPicPr/>
          <p:nvPr/>
        </p:nvPicPr>
        <p:blipFill>
          <a:blip r:embed="rId4"/>
          <a:stretch/>
        </p:blipFill>
        <p:spPr>
          <a:xfrm>
            <a:off x="3276720" y="404640"/>
            <a:ext cx="2665440" cy="178308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sp>
        <p:nvSpPr>
          <p:cNvPr id="77" name="Freeform 80"/>
          <p:cNvSpPr/>
          <p:nvPr/>
        </p:nvSpPr>
        <p:spPr>
          <a:xfrm>
            <a:off x="122400" y="115920"/>
            <a:ext cx="8956440" cy="17928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78920" y="623736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2556000" y="6237360"/>
            <a:ext cx="29908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084720" y="6237360"/>
            <a:ext cx="22053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9FFB-25AC-4318-8704-E2BEBF549E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6760" y="2286000"/>
            <a:ext cx="82155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1c56"/>
                </a:solidFill>
                <a:latin typeface="Arial"/>
              </a:rPr>
              <a:t>МБОО «Заводская средняя общеобразовательная школа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500120" y="3071880"/>
            <a:ext cx="65008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01c56"/>
                </a:solidFill>
                <a:latin typeface="Times New Roman"/>
              </a:rPr>
              <a:t>«Учебная мотивация при обучении математик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01c56"/>
                </a:solidFill>
                <a:latin typeface="Times New Roman"/>
              </a:rPr>
              <a:t>Улаханова М.Р.,учитель мате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01c56"/>
                </a:solidFill>
                <a:latin typeface="Times New Roman"/>
              </a:rPr>
              <a:t>2018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920" y="237600"/>
            <a:ext cx="8786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нципы педагогической деятельно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14200" y="1142640"/>
            <a:ext cx="8786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ора на субъектный опыт учащихся, который используется в качестве одного  из источников об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туализация результатов обучения: применение на практике приобретенных зн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дивидуализация и дифференциация обучения: индивидуальный и дифференцированный подход к учащимся (учет индивидуальных особенностей, интересов и возможностей класса в целом, групп учащихся и каждого ученика в отдельност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ность  обучения:  - соблюдение взаимного соответствия целей, содержания, форм, методов,  средств обучения и оценивания результатов;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создание целостности математических зн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я совместной работы учителя и учащихся:     планирование, реализация и оценивание процесса и результата об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еативность обучения: реализация творческих возможностей учителя и уче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тие образовательных потребностей: выявление реальной степени освоения учебного материала учащимися; построение процесса обучения в целях формирования новых образовательных потребн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764388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истема работы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Диагностика уровня учебной мотивации каждого ученика с целью выявления общего отношения к изучению математики, определения сущности того, что побуждает ученика уч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Перспективное планирование развития учебной мотивации каждого ученика с учетом следующих фактор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ора на достижения учащегося и зону его  развития учебной мотивации (что знает ученик (знания),  как он умеет учиться (учебная деятельность), как может учиться (обучаемость), как умеет ставить и реализовывать ц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тимистическая позиция учителя, состоящая в том, что у каждого ученика есть наличный уровень положительной мотивации, на который можно опереться, и перспективы, резервы ее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Создание психолого-педагогических и организационно-педагогических условий для развития учебной мотивации каждого ученика, используя факторы, способствующие развитию учебной мотивации учащихся при изучении матема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ствами задач (факторы, связанные с содержанием задачи, с организацией деятельности по решению задачи, определяющиеся  отношением между участниками, включенными в деятельность по решению задач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ствами форм организации учебно-познавательной деятельности (разнообразные формы уроков и внеклассной работ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Планирование учебного процесса с учетом развития мотивации учащихся через систему уроков, каждый урок, отдельные этапы урока  математики, порции материала (теорему, задачу, определение, алгоритм, правил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Оценка и анализ эффективности работы учителя по развитию мотивации, планирование дальнейшей работы  на основе данных и выводов о результат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кета: «Зачем я изучаю математику?»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71680" y="928800"/>
            <a:ext cx="833112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явить отношение к математике, мотивы изучения матема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Что для тебя значит школ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Какие предметы тебе больше нравится изучать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По каким предметам ты будешь сдавать экзамен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Твое отношение к математи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Что больше  привлекает: алгебра или геометр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Зачем ты изучаешь математику? Чему научился на урока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Какие формы уроков тебе нравятся?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Какие задачи тебе нравится решать (по алгоритму, на смекалку, трудные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Что спрашиваешь после контрольной работы: как решил или какой отве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Пытаешься ли повторно решать задания, где допустил ошибк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.Возникает ли желание  заниматься  математикой после уроков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.Хочется ли тебе поделиться с друзьями успехом, неудаче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3.Как ты выполняешь домашнее задани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4.Что по твоему нужно изменить в процессе обучения математике, чтобы результаты были выш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5.Посещаешь ли кружки и факультативы по математик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6.Всегда ли успешно справляешься с учебной нагрузкой по математик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764388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акторы, связанные с содержанием задачи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4200" y="999720"/>
            <a:ext cx="878688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Новизна содерж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Получение или показ через задачу новых для учащихся математических све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Включение  в содержание задачи новых для учащихся общепознавательных сведений (сведения, отражающие жизнь страны, республики, поселка, школы, класса;  сведения, связанные с жизнью животного и растительного мира; факты, позволяющие отразить межпредметные связи и д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деление центральной задачи или группы задач, в которых проявляется главная математическая идея изучаемого теоретического материала, нового для учащихся. Важно новые знания не предлагать учащимся в готовом виде, а создавать такие проблемные ситуации, при которых ученик ставится в положение исследователя, заинтересованного в решении проблемы, и стремится самостоятельно найти решение, сделать «открыти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изучении темы «Четыре замечательные точки треугольника» учащимся предлагается проверить верно ли утверждение: «Три замечательные точки треугольника лежат на одной прямой». Учащиеся могут это проверить опытным путем, выдвинув гипотезу, что точка пересечения медиан, точка пересечения высот и точка пересечения серединных перпендикуляров к сторонам треугольника лежат на одной прямой. Данную гипотезу нужно доказать. В конце решения задачи учитель может сообщить, что эта прямая называется прямой Эй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Отражение связи с практи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учащийся видит в решаемой задаче возможность применить полученные знания на практике (в повседневной жизни, при изучении других предметов и т.д.), то появляется и интерес к её реше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чень актуальны задачи, связанные с вкладами в банках, которые предлагаются  в КИМах ЕГ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Отражение исторического асп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 с «исторической» фабулой могут носить чье-то имя, отражать факты из жизни конкретных исторических личностей, содержать сведения из истории страны, науки, техники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Занима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уроках математики нужны задачи и упражнения, которые оживили бы урок. Такие задачи с занимательным сюжетом развивают сообразительность, природную смекалку. Занимательность, заложенная в содержании задачи, особым образом окрашивает учебный материал, делает процесс решения более привлекательным, выступает эмоциональной основой, на которой создается положительное отношение к предме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кобраз в подарок сыну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лал счетную машин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сожалению, она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остаточно точ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зультаты перед вами,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ыстро всё исправьте с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9,4 + 10,1 = 495             97,3 + 9,04 = 10,6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7,03 + 4,8 = 5183           729,004 + 10 = 729,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,067 + 2,033 = 51           31,26 + 0 = 312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Нестандартность вопр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им из важных факторов является формулировка вопроса задачи типа : «хватит ли?», «успеет ли?», «поровну ли ?«,»кто быстрее?», «что можно в задаче найти, доказать?» и т.д.. Интересно рассмотреть задачи «без вопросов». Такие задачи приучают учащихся рассматривать всевозможные заключения из данных посылок, что бывает крайне необходимо при решении многих задач на доказательство, при доказательстве различных теор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7643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ие учебной мотивации у учащихся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14200" y="1142640"/>
            <a:ext cx="8786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оздать условия для того, чтобы ученик был постоянно мотивирован к действ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держание деятель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начале урока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здать условия для осознания учеником того, что полезного и нового он узнает на уроке, где сможет применить усвоенное, какие преимущества ему даст усвоение материала на уро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ходе урок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создать условия  для сохранения и усиления исходной мотивации для возникновения новых дополнительных мотивов. Для этого вызвать ориентацию на осознание и понимание способов действий, их оценке, сравнения, получения удовлетворения  от самого процесса 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 конце урока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здать условия  для  оценки достижения задач, поставленных в начале урока, определения причины удачи или  неудачи, постановке задач для  дальнейшей деятельности. Главная задача конца урока состоит в том, чтобы каждый ученик осознал приобретенный положительный опы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езульта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 мотивация учения в рамках урока представляет собой завершенный цикл и проходит ряд этапов:  от мотивации начала работы (готовность, включенность)  к мотивации хода выполнения работы и затем к мотивации завершения работы (удовлетворенность или неудовлетворенность результатами, постановка дальнейших целей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76438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мер 6. Формирование познавательных и социальных мотивов учащихся при изучении теорем в теме «Площади многоугольников»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этап.  Возникновение исходной мотив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звать мотивы  овладения новыми зн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е деятельност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Историческая справ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Беседа о значении изучения данной темы, о необходимости математического доказательства форму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Работа с плакатом  «Как устроена теорема?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Вывод формулы площади прямоугольника вместе с учащимися. Все записи на доске делает  учитель. Прослеживается логика доказательства, обращается внимание на шаги доказательства. Учащимся сообщается, что доказать теорему можно различными способ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каждого ученика созданы условия развития широких познавательных моти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04376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этап. Подкрепление и усиление возникшей мотивации.</a:t>
            </a: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13840" y="1071720"/>
            <a:ext cx="692964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звать мотивы ориентации на овладение приемами доказательства теор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держание деятельности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Вывод формулы площади параллелограмма записан на доске, но переставлены «логические куски» доказательства. Ученикам предлагается записать доказательство в тетрадь, выстроив логическую цепочку рассуждений правильно, и обосновать ход своих рассуж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р=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так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р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казательство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KBC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B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KBCM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KBC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DC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KBC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B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D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ABCD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B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ерпендикулярн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, BK=h, AD=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=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K=CM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юда следуе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угольни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K=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угольни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гол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 угол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90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м дополнительное построение опустим перпендикуля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олучил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BC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ямо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1" descr=""/>
          <p:cNvPicPr/>
          <p:nvPr/>
        </p:nvPicPr>
        <p:blipFill>
          <a:blip r:embed="rId1"/>
          <a:stretch/>
        </p:blipFill>
        <p:spPr>
          <a:xfrm>
            <a:off x="6286680" y="3071880"/>
            <a:ext cx="28573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Возбудите в человеке искренний интере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 всему полезному, высшему и нравственному,  и вы можете быть спокойны, что он сохранит всегда человеческое достоинств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.Д. Уш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Где есть желание, найдётся пут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.Пой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26760"/>
            <a:ext cx="300816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5472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Вывод формулы площади треугольника записан  на доске с пропусками в доказательстве. Ученикам предлагается восстановить доказательство с подробным объясне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Дополним построение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Знаем, ч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BD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Докажем, ч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B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BD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ит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...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ученик становится соучастником доказательства теоремы, для каждого ученика созданы условия развития учебно-познавательных моти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1" descr=""/>
          <p:cNvPicPr/>
          <p:nvPr/>
        </p:nvPicPr>
        <p:blipFill>
          <a:blip r:embed="rId1"/>
          <a:stretch/>
        </p:blipFill>
        <p:spPr>
          <a:xfrm>
            <a:off x="5572080" y="1857240"/>
            <a:ext cx="32860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этап.  Этап завершения изучения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вать мотивы ориентации на приемы самостоятельного овладения знаниями, их приме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е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Вывод формулы площади трапеции самостоя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Применение выведенных формул при решении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Зачет по теме «Площади многоугольнико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каждого ученика созданы условия развития социальных мотивов и мотивов само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f0"/>
                </a:solidFill>
                <a:latin typeface="Arial"/>
              </a:rPr>
              <a:t>В любых делах при максимуме сложносте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f0"/>
                </a:solidFill>
                <a:latin typeface="Arial"/>
              </a:rPr>
              <a:t>Подход к проблеме все-таки оди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f0"/>
                </a:solidFill>
                <a:latin typeface="Arial"/>
              </a:rPr>
              <a:t>Желанье  - это множество возможносте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f0"/>
                </a:solidFill>
                <a:latin typeface="Arial"/>
              </a:rPr>
              <a:t>А нежеланье – множество причи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3" descr="http://www.artsides.ru/big/item_2623.jpg"/>
          <p:cNvPicPr/>
          <p:nvPr/>
        </p:nvPicPr>
        <p:blipFill>
          <a:blip r:embed="rId1"/>
          <a:stretch/>
        </p:blipFill>
        <p:spPr>
          <a:xfrm>
            <a:off x="714240" y="571680"/>
            <a:ext cx="8001000" cy="49291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7252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i="1" lang="ru-RU" sz="7000" spc="-1" strike="noStrike">
                <a:solidFill>
                  <a:srgbClr val="c00000"/>
                </a:solidFill>
                <a:latin typeface="Arial"/>
              </a:rPr>
              <a:t>Спасибо за                  внимание!</a:t>
            </a:r>
            <a:endParaRPr b="1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14200" y="999720"/>
            <a:ext cx="8786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уа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стоящее время учителя нередко сталкиваются с проблемой отсутствия  желания учиться, нестойкости интересов. Это одна из множества причин низкого уровня усвоения учебного материала, далее следуют низкие  результаты на экзаменах. И как общий итог: наша Заводская школа показала низкие образовательные результаты. Возникает проблема: как пробудить у ученика желание учиться, а если оно у него есть, то, как его сбереч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пешность процесса изучения математики зависит, прежде всего, от желания учащихся овладеть основами науки.  Поэтому проблема мотивации поведения и деятельности человека является одной из наиболее актуальных  и в то же время сложных в настоящий пери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о развитие математического мышления школьников путем создания максимально благоприятных условий учения каждого, выявления и активного использования в учебной деятельности их индивидуальных способностей. В систему работы  входят диагностика уровня учебной мотивации, перспективное планирование, оптимальное сочетание традиционных и нетрадиционных форм урочной и внеурочной деятельности, методики и педтехн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5480" y="1143000"/>
            <a:ext cx="8715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овизн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проявляется в использовании диагностики мотивов изучения математики каждым учеником, в отборе содержания математического образования школьников, в применении знаний психоло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езультатив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Осознание учащимися своих мотивов в учебной деятельности позволяет им лучше понимать, оценивать и принимать учебную задачу, определять цели работы на уроке и во внеурочное время. Наличие устойчивого интереса к изучению математики на протяжении ряда лет способствует осознанному усвоению математических знаний, умений и навыков, развитию логического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тивация и стимулирование познавательной деятельности на уроках математики повышают уровень обученности школьников и по другим предме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окий уровень развития математического мышления учащиеся должны подтверждать на различных контрольных работах, ВПР, ГИ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Трудоемк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заключается в переосмыслении учителем своего педагогического опыта с позиции развития мотивации учебной деятельности учащихся, дополнительный анализ содержания математического образования, поиск диагностик уровня учебной мотивации, и особенно их обработ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Доступность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ыт может быть использован учителями общеобразовательных шко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овокупность причин психологического характера, объясняющих поведение человека, его направленность и активность» (Р.Немов, Психология, М., Просвещение, 199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кий циклический процесс непрерывного взаимного воздействия, преобразования, в котором субъект и ситуация взаимно влияют друг на друга, результатом чего становится то или иное поведение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истема побудительных причин человеческого поведения, теоретической и практической деятельности (в соответствии с логическим  словарем - справочником  Н.И.Кондаков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499680"/>
            <a:ext cx="764388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ровни развития учебной мотивации: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5280" y="1071720"/>
            <a:ext cx="850752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Отрицательное отношение к у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Нейтральное отношение к у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Положительное, но аморфное, ситуативное отношение к у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оложительное отношение к у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Активное, творческое отношение к у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Личностное, ответственное отношение к у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499680"/>
            <a:ext cx="76438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правление развитием мотивации позволяет учителю: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Обоснованно планировать учебно-воспитательную работу на уро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видеть направление поведения учеников и контролировать е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гласовывать и прогнозировать усилия по достижению общей цел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отвращать возникновение одних и поощрять развитие других черт личности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Повышать эффективность учебно-воспитательной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вать логическое мышление, интуицию, воображение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ть характер, нравственные черты личности (объективность, настойчивость, честность, трудолюбие и т.д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Правильно оценивать  результативность учебно-воспитательн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Поддерживать доброжелательные отношения с учащимися, их родителями делать их активными участниками учеб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76438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правления  деятельности учителя по развитию мотивации 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Пополнение запаса  математических  знаний, умений и навы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Развитие общеучебных умений и навы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Развитие познавательного интереса при изучении мате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Воспитание личности в процессе изучения мате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Развитие  у  учащихся умения осознавать свои мотивы в учебной рабо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Развитие логического мыш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76438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дачи деятельности учителя по развитию мотивации 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Развивать у учащихся умение целеполаг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ать постановке целей и задач, их формулирован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ать умению ставить промежуточные ц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Развивать у учащихся умение планировать достижение поставленных цел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ать планированию отдельных учебных действий и их последова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ать преодолевать затруднения и рассчитывать свои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Развивать у учащихся умение контролировать  себя  и адекватно оценивать в процессе достижения поставленных цел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ать самоконтролю по этапам работы в соответствии с объективными требован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ать адекватно оценивать себя в соответствии со своими индивидуальными возможност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5:54Z</dcterms:created>
  <dc:creator>1</dc:creator>
  <dc:description/>
  <dc:language>en-US</dc:language>
  <cp:lastModifiedBy>Марина</cp:lastModifiedBy>
  <dcterms:modified xsi:type="dcterms:W3CDTF">2018-12-16T10:50:07Z</dcterms:modified>
  <cp:revision>58</cp:revision>
  <dc:subject/>
  <dc:title>Слайд 1</dc:title>
</cp:coreProperties>
</file>