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4AB-2176-4606-B0C4-4C072F6C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946-D2EE-46B1-8FC3-C506D1A9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C5B-0FC4-4200-BAEC-FE34E8D1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1B5-82B7-4186-8298-BF727AFA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2A67-8AAF-4D8D-9332-0FD70176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F883-4298-4041-9076-F452AF30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AFCF-C964-42B1-BA70-9FC2AB40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4DD1-196E-4793-AC14-6DCC5808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4934-A565-4D8C-A7F6-F57A32C5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CA47-A8B0-420A-9568-0935BAD3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FFDE-3482-437B-9D10-45AF8E92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9E8-1EC8-486E-96DB-EBD77538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7904-D130-44BF-9D08-4C99CCDD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5CEB-8EDE-491B-98B0-E3DCD329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4AF4-B843-46BE-9AC6-7CCDD875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0FED-F573-4789-9A6B-D28A8DB3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82E8-8188-441D-969C-8280B387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F96AA-59E1-4C4D-B045-984D7D5A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A46AA-3132-4166-AC0E-B8CD5246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9E8FF-0135-4096-8925-A8178A30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07841-56C8-4143-84DB-1FB0CD2B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9D833-0B12-438B-936A-6C4C8E48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9EB-1CA4-423A-8A73-E155072D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14DE-E8B4-4CC7-92F8-8A8F1597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D5018-0847-433A-8A78-D53F9964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0B3D-2941-41E1-9B9C-524F6134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2BAA9-B75A-4D05-B1FC-47DC8B81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48AA-5D4A-40AE-9FF6-8FA64B18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BFA0-5F0E-4089-8733-DD580986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0A434-F4D2-4416-904C-3DC0A76B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D97EC-4717-45A7-8406-47CD84A6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D331A-4740-4120-A601-567A004D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0B2CF-99A7-423E-9C36-4F829D96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3E4-60B7-47A5-90E4-D506841B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5FA23-5739-40DC-B34B-59FC0F11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DF4FA-CE5F-4EAE-8FB2-487CCF1F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83F67-3F4A-4600-8A03-E912508C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0BD47-ED35-4909-B5A3-E398D5E8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083A5-488A-4E49-B181-3572EBA0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791AA-DC33-4AE1-BBEE-F9DF2D9B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607C8-CDBF-4043-8E0B-4E5A7349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7AA15-FC32-471E-ADDA-D99C9F9F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AB766-21C6-4898-9FF1-0CB5CAC6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175-ABEA-4419-A764-D220BE44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716-F378-4F41-88AD-A3AA4093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2B2-9961-46CD-932E-B18080A1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4FD-2CC4-45D0-821F-76D1815A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2AB-E126-4628-9E69-7FA85818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B96A-08B1-4713-80B2-9C07D22F006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C971-4D79-426A-BE41-68E06F4CC22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6AD3-5403-46CA-AF6D-D120132A442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C780-4116-4940-84F3-C41F67D84B0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1"/>
          <a:stretch/>
        </p:blipFill>
        <p:spPr>
          <a:xfrm>
            <a:off x="-171360" y="5492880"/>
            <a:ext cx="9034200" cy="11570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5" descr="Webp.net-resizeimage-min_24_oxQ3bua.jpg.800x434_q85_box-0,0,800,434_crop_detai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На какой фотографии изображена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ервая улица Болотного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Рисунок 10" descr="800px-Arbat_1890s_by_V._D._Alekseev.jpg"/>
          <p:cNvPicPr/>
          <p:nvPr/>
        </p:nvPicPr>
        <p:blipFill>
          <a:blip r:embed="rId1"/>
          <a:stretch/>
        </p:blipFill>
        <p:spPr>
          <a:xfrm>
            <a:off x="5292720" y="1268280"/>
            <a:ext cx="3851280" cy="5329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539640" y="2481120"/>
            <a:ext cx="381636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834920" y="5877000"/>
            <a:ext cx="5443560" cy="72072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лица Московский трак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rcRect l="13457" t="0" r="13457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о велению какого императора было принято решение присоединить Сибирь к Москв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11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 Петр перв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Павел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Рисунок 10" descr="aiTn3wmfAOEH_petr-i.jpg"/>
          <p:cNvPicPr/>
          <p:nvPr/>
        </p:nvPicPr>
        <p:blipFill>
          <a:blip r:embed="rId1"/>
          <a:stretch/>
        </p:blipFill>
        <p:spPr>
          <a:xfrm>
            <a:off x="631800" y="2421000"/>
            <a:ext cx="3724200" cy="42084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1" descr="280px-paul_i_russia.jpg"/>
          <p:cNvPicPr/>
          <p:nvPr/>
        </p:nvPicPr>
        <p:blipFill>
          <a:blip r:embed="rId2"/>
          <a:stretch/>
        </p:blipFill>
        <p:spPr>
          <a:xfrm>
            <a:off x="5364000" y="2476440"/>
            <a:ext cx="334044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4" descr="aiTn3wmfAOEH_petr-i.jpg"/>
          <p:cNvPicPr/>
          <p:nvPr/>
        </p:nvPicPr>
        <p:blipFill>
          <a:blip r:embed="rId1"/>
          <a:stretch/>
        </p:blipFill>
        <p:spPr>
          <a:xfrm>
            <a:off x="1258920" y="549360"/>
            <a:ext cx="698508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1" descr="0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http://www.actionspace.ru/published/publicdata/PORTATOR240/attachments/SC/products_pictures/0000026760_tiraj22h_enl.gif"/>
          <p:cNvPicPr/>
          <p:nvPr/>
        </p:nvPicPr>
        <p:blipFill>
          <a:blip r:embed="rId1"/>
          <a:stretch/>
        </p:blipFill>
        <p:spPr>
          <a:xfrm>
            <a:off x="2519280" y="4103640"/>
            <a:ext cx="3192480" cy="2129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98" name="Picture 6" descr="https://otvet.imgsmail.ru/download/109952297_c80c921a6bee0c024718d794d3259dc3_800.gif"/>
          <p:cNvPicPr/>
          <p:nvPr/>
        </p:nvPicPr>
        <p:blipFill>
          <a:blip r:embed="rId2"/>
          <a:stretch/>
        </p:blipFill>
        <p:spPr>
          <a:xfrm>
            <a:off x="5572080" y="1928880"/>
            <a:ext cx="3144960" cy="2090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99" name="Заголовок 4" descr=""/>
          <p:cNvPicPr/>
          <p:nvPr/>
        </p:nvPicPr>
        <p:blipFill>
          <a:blip r:embed="rId3"/>
          <a:stretch/>
        </p:blipFill>
        <p:spPr>
          <a:xfrm>
            <a:off x="262080" y="176040"/>
            <a:ext cx="8673840" cy="12510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571680" y="407196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7786800" y="414324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6000840" y="585792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Управляющая кнопка: справка 9">
            <a:hlinkClick r:id="" action="ppaction://hlinkshowjump?jump=nextslide"/>
          </p:cNvPr>
          <p:cNvSpPr/>
          <p:nvPr/>
        </p:nvSpPr>
        <p:spPr>
          <a:xfrm>
            <a:off x="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1215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307" h="21600">
                <a:moveTo>
                  <a:pt x="13259" y="14281"/>
                </a:moveTo>
                <a:lnTo>
                  <a:pt x="13259" y="12323"/>
                </a:lnTo>
                <a:cubicBezTo>
                  <a:pt x="13259" y="11496"/>
                  <a:pt x="13590" y="10800"/>
                  <a:pt x="14190" y="10800"/>
                </a:cubicBezTo>
                <a:cubicBezTo>
                  <a:pt x="15322" y="10800"/>
                  <a:pt x="16218" y="9434"/>
                  <a:pt x="16218" y="7849"/>
                </a:cubicBezTo>
                <a:cubicBezTo>
                  <a:pt x="16218" y="5534"/>
                  <a:pt x="14364" y="3794"/>
                  <a:pt x="12153" y="3794"/>
                </a:cubicBezTo>
                <a:cubicBezTo>
                  <a:pt x="9943" y="3794"/>
                  <a:pt x="8272" y="5534"/>
                  <a:pt x="8272" y="7849"/>
                </a:cubicBezTo>
                <a:lnTo>
                  <a:pt x="10125" y="7849"/>
                </a:lnTo>
                <a:cubicBezTo>
                  <a:pt x="10125" y="6709"/>
                  <a:pt x="11048" y="5821"/>
                  <a:pt x="12153" y="5821"/>
                </a:cubicBezTo>
                <a:cubicBezTo>
                  <a:pt x="13259" y="5821"/>
                  <a:pt x="14190" y="6709"/>
                  <a:pt x="14190" y="7849"/>
                </a:cubicBezTo>
                <a:cubicBezTo>
                  <a:pt x="14190" y="8589"/>
                  <a:pt x="13720" y="9320"/>
                  <a:pt x="13259" y="9320"/>
                </a:cubicBezTo>
                <a:cubicBezTo>
                  <a:pt x="12153" y="9320"/>
                  <a:pt x="11048" y="10800"/>
                  <a:pt x="11048" y="12323"/>
                </a:cubicBezTo>
                <a:lnTo>
                  <a:pt x="11048" y="14281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http://www.sibgerold.ru/p/b/r_Bolotnoe1861.jpg"/>
          <p:cNvPicPr/>
          <p:nvPr/>
        </p:nvPicPr>
        <p:blipFill>
          <a:blip r:embed="rId5"/>
          <a:stretch/>
        </p:blipFill>
        <p:spPr>
          <a:xfrm>
            <a:off x="250920" y="1413000"/>
            <a:ext cx="24368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285840" y="407196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Улыбающееся лицо 4"/>
          <p:cNvSpPr/>
          <p:nvPr/>
        </p:nvSpPr>
        <p:spPr>
          <a:xfrm>
            <a:off x="0" y="6286680"/>
            <a:ext cx="571680" cy="57132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850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2" descr="http://www.sibgerold.ru/p/b/r_Bolotnoe1861.jpg"/>
          <p:cNvPicPr/>
          <p:nvPr/>
        </p:nvPicPr>
        <p:blipFill>
          <a:blip r:embed="rId2"/>
          <a:stretch/>
        </p:blipFill>
        <p:spPr>
          <a:xfrm>
            <a:off x="1908000" y="1628640"/>
            <a:ext cx="468000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http://www.freshcube.ru/images/cms/data/gerb-msk-w400.jpg"/>
          <p:cNvPicPr/>
          <p:nvPr/>
        </p:nvPicPr>
        <p:blipFill>
          <a:blip r:embed="rId1"/>
          <a:srcRect l="26250" t="11908" r="28754" b="4754"/>
          <a:stretch/>
        </p:blipFill>
        <p:spPr>
          <a:xfrm>
            <a:off x="5959440" y="2000160"/>
            <a:ext cx="2327400" cy="2714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http://www.greecetoday.ru/img/news/img/3499_1330344078.jpg"/>
          <p:cNvPicPr/>
          <p:nvPr/>
        </p:nvPicPr>
        <p:blipFill>
          <a:blip r:embed="rId2"/>
          <a:stretch/>
        </p:blipFill>
        <p:spPr>
          <a:xfrm>
            <a:off x="500040" y="2071800"/>
            <a:ext cx="2124000" cy="2552760"/>
          </a:xfrm>
          <a:prstGeom prst="rect">
            <a:avLst/>
          </a:prstGeom>
          <a:ln w="0">
            <a:noFill/>
          </a:ln>
        </p:spPr>
      </p:pic>
      <p:sp>
        <p:nvSpPr>
          <p:cNvPr id="210" name="Управляющая кнопка: справка 4">
            <a:hlinkClick r:id="" action="ppaction://hlinkshowjump?jump=nextslide"/>
          </p:cNvPr>
          <p:cNvSpPr/>
          <p:nvPr/>
        </p:nvSpPr>
        <p:spPr>
          <a:xfrm>
            <a:off x="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1215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307" h="21600">
                <a:moveTo>
                  <a:pt x="13259" y="14281"/>
                </a:moveTo>
                <a:lnTo>
                  <a:pt x="13259" y="12323"/>
                </a:lnTo>
                <a:cubicBezTo>
                  <a:pt x="13259" y="11496"/>
                  <a:pt x="13590" y="10800"/>
                  <a:pt x="14190" y="10800"/>
                </a:cubicBezTo>
                <a:cubicBezTo>
                  <a:pt x="15322" y="10800"/>
                  <a:pt x="16218" y="9434"/>
                  <a:pt x="16218" y="7849"/>
                </a:cubicBezTo>
                <a:cubicBezTo>
                  <a:pt x="16218" y="5534"/>
                  <a:pt x="14364" y="3794"/>
                  <a:pt x="12153" y="3794"/>
                </a:cubicBezTo>
                <a:cubicBezTo>
                  <a:pt x="9943" y="3794"/>
                  <a:pt x="8272" y="5534"/>
                  <a:pt x="8272" y="7849"/>
                </a:cubicBezTo>
                <a:lnTo>
                  <a:pt x="10125" y="7849"/>
                </a:lnTo>
                <a:cubicBezTo>
                  <a:pt x="10125" y="6709"/>
                  <a:pt x="11048" y="5821"/>
                  <a:pt x="12153" y="5821"/>
                </a:cubicBezTo>
                <a:cubicBezTo>
                  <a:pt x="13259" y="5821"/>
                  <a:pt x="14190" y="6709"/>
                  <a:pt x="14190" y="7849"/>
                </a:cubicBezTo>
                <a:cubicBezTo>
                  <a:pt x="14190" y="8589"/>
                  <a:pt x="13720" y="9320"/>
                  <a:pt x="13259" y="9320"/>
                </a:cubicBezTo>
                <a:cubicBezTo>
                  <a:pt x="12153" y="9320"/>
                  <a:pt x="11048" y="10800"/>
                  <a:pt x="11048" y="12323"/>
                </a:cubicBezTo>
                <a:lnTo>
                  <a:pt x="11048" y="1428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285840" y="478620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3071880" y="478620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6000840" y="478620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Заголовок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2428"/>
                </a:solidFill>
                <a:latin typeface="Comic Sans MS"/>
              </a:rPr>
              <a:t>Под какой цифрой находится герб города Болотн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:\Users\Aser\Desktop\болотное\Bolotnoe_120.png"/>
          <p:cNvPicPr/>
          <p:nvPr/>
        </p:nvPicPr>
        <p:blipFill>
          <a:blip r:embed="rId4"/>
          <a:stretch/>
        </p:blipFill>
        <p:spPr>
          <a:xfrm>
            <a:off x="3492360" y="2103480"/>
            <a:ext cx="201636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Улыбающееся лицо 1"/>
          <p:cNvSpPr/>
          <p:nvPr/>
        </p:nvSpPr>
        <p:spPr>
          <a:xfrm>
            <a:off x="0" y="6286680"/>
            <a:ext cx="571680" cy="57132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850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285840" y="407196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C:\Users\Aser\Desktop\болотное\Bolotnoe_120.png"/>
          <p:cNvPicPr/>
          <p:nvPr/>
        </p:nvPicPr>
        <p:blipFill>
          <a:blip r:embed="rId2"/>
          <a:stretch/>
        </p:blipFill>
        <p:spPr>
          <a:xfrm>
            <a:off x="2411280" y="1308240"/>
            <a:ext cx="48247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http://www.etovidel.net/appended_files/big/4cf3a841d911a.jpg"/>
          <p:cNvPicPr/>
          <p:nvPr/>
        </p:nvPicPr>
        <p:blipFill>
          <a:blip r:embed="rId1"/>
          <a:stretch/>
        </p:blipFill>
        <p:spPr>
          <a:xfrm>
            <a:off x="285840" y="428760"/>
            <a:ext cx="3000240" cy="2252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http://russkiymir.ru/export/sites/default/russkiymir/ru/magazines/archive/2013/11/graphic/56_10.jpg"/>
          <p:cNvPicPr/>
          <p:nvPr/>
        </p:nvPicPr>
        <p:blipFill>
          <a:blip r:embed="rId2"/>
          <a:stretch/>
        </p:blipFill>
        <p:spPr>
          <a:xfrm>
            <a:off x="785880" y="371484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221" name="Управляющая кнопка: справка 4">
            <a:hlinkClick r:id="" action="ppaction://hlinkshowjump?jump=nextslide"/>
          </p:cNvPr>
          <p:cNvSpPr/>
          <p:nvPr/>
        </p:nvSpPr>
        <p:spPr>
          <a:xfrm>
            <a:off x="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1215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307" h="21600">
                <a:moveTo>
                  <a:pt x="13259" y="14281"/>
                </a:moveTo>
                <a:lnTo>
                  <a:pt x="13259" y="12323"/>
                </a:lnTo>
                <a:cubicBezTo>
                  <a:pt x="13259" y="11496"/>
                  <a:pt x="13590" y="10800"/>
                  <a:pt x="14190" y="10800"/>
                </a:cubicBezTo>
                <a:cubicBezTo>
                  <a:pt x="15322" y="10800"/>
                  <a:pt x="16218" y="9434"/>
                  <a:pt x="16218" y="7849"/>
                </a:cubicBezTo>
                <a:cubicBezTo>
                  <a:pt x="16218" y="5534"/>
                  <a:pt x="14364" y="3794"/>
                  <a:pt x="12153" y="3794"/>
                </a:cubicBezTo>
                <a:cubicBezTo>
                  <a:pt x="9943" y="3794"/>
                  <a:pt x="8272" y="5534"/>
                  <a:pt x="8272" y="7849"/>
                </a:cubicBezTo>
                <a:lnTo>
                  <a:pt x="10125" y="7849"/>
                </a:lnTo>
                <a:cubicBezTo>
                  <a:pt x="10125" y="6709"/>
                  <a:pt x="11048" y="5821"/>
                  <a:pt x="12153" y="5821"/>
                </a:cubicBezTo>
                <a:cubicBezTo>
                  <a:pt x="13259" y="5821"/>
                  <a:pt x="14190" y="6709"/>
                  <a:pt x="14190" y="7849"/>
                </a:cubicBezTo>
                <a:cubicBezTo>
                  <a:pt x="14190" y="8589"/>
                  <a:pt x="13720" y="9320"/>
                  <a:pt x="13259" y="9320"/>
                </a:cubicBezTo>
                <a:cubicBezTo>
                  <a:pt x="12153" y="9320"/>
                  <a:pt x="11048" y="10800"/>
                  <a:pt x="11048" y="12323"/>
                </a:cubicBezTo>
                <a:lnTo>
                  <a:pt x="11048" y="1428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Заголовок 4"/>
          <p:cNvSpPr/>
          <p:nvPr/>
        </p:nvSpPr>
        <p:spPr>
          <a:xfrm>
            <a:off x="3276720" y="333360"/>
            <a:ext cx="557208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2428"/>
                </a:solidFill>
                <a:latin typeface="Comic Sans MS"/>
              </a:rPr>
              <a:t>Укажите на памятник который есть в нашем горо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285840" y="271476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4214880" y="521496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7715160" y="5000760"/>
            <a:ext cx="8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1" descr="https://staticfiles.gorsite.ru/media/Webp.net-resizeimage_3-min_Tt90oao.jpg.600x465_q85_box-0%2C0%2C600%2C465_crop_detail.jpg"/>
          <p:cNvPicPr/>
          <p:nvPr/>
        </p:nvPicPr>
        <p:blipFill>
          <a:blip r:embed="rId4"/>
          <a:stretch/>
        </p:blipFill>
        <p:spPr>
          <a:xfrm>
            <a:off x="4427640" y="2421000"/>
            <a:ext cx="376380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285840" y="407196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Улыбающееся лицо 2"/>
          <p:cNvSpPr/>
          <p:nvPr/>
        </p:nvSpPr>
        <p:spPr>
          <a:xfrm>
            <a:off x="0" y="6286680"/>
            <a:ext cx="571680" cy="57132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850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1672920" y="578628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рк железнодорож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https://staticfiles.gorsite.ru/media/Webp.net-resizeimage_3-min_Tt90oao.jpg.600x465_q85_box-0%2C0%2C600%2C465_crop_detail.jpg"/>
          <p:cNvPicPr/>
          <p:nvPr/>
        </p:nvPicPr>
        <p:blipFill>
          <a:blip r:embed="rId2"/>
          <a:stretch/>
        </p:blipFill>
        <p:spPr>
          <a:xfrm>
            <a:off x="1908000" y="1127160"/>
            <a:ext cx="540072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Заголовок 4"/>
          <p:cNvSpPr/>
          <p:nvPr/>
        </p:nvSpPr>
        <p:spPr>
          <a:xfrm>
            <a:off x="214200" y="274680"/>
            <a:ext cx="864396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2428"/>
                </a:solidFill>
                <a:latin typeface="Comic Sans MS"/>
              </a:rPr>
              <a:t>На каком месте Болотного установлен этот памятни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Управляющая кнопка: справка 4">
            <a:hlinkClick r:id="" action="ppaction://hlinkshowjump?jump=nextslide"/>
          </p:cNvPr>
          <p:cNvSpPr/>
          <p:nvPr/>
        </p:nvSpPr>
        <p:spPr>
          <a:xfrm>
            <a:off x="0" y="628668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1215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307" h="21600">
                <a:moveTo>
                  <a:pt x="13259" y="14281"/>
                </a:moveTo>
                <a:lnTo>
                  <a:pt x="13259" y="12323"/>
                </a:lnTo>
                <a:cubicBezTo>
                  <a:pt x="13259" y="11496"/>
                  <a:pt x="13590" y="10800"/>
                  <a:pt x="14190" y="10800"/>
                </a:cubicBezTo>
                <a:cubicBezTo>
                  <a:pt x="15322" y="10800"/>
                  <a:pt x="16218" y="9434"/>
                  <a:pt x="16218" y="7849"/>
                </a:cubicBezTo>
                <a:cubicBezTo>
                  <a:pt x="16218" y="5534"/>
                  <a:pt x="14364" y="3794"/>
                  <a:pt x="12153" y="3794"/>
                </a:cubicBezTo>
                <a:cubicBezTo>
                  <a:pt x="9943" y="3794"/>
                  <a:pt x="8272" y="5534"/>
                  <a:pt x="8272" y="7849"/>
                </a:cubicBezTo>
                <a:lnTo>
                  <a:pt x="10125" y="7849"/>
                </a:lnTo>
                <a:cubicBezTo>
                  <a:pt x="10125" y="6709"/>
                  <a:pt x="11048" y="5821"/>
                  <a:pt x="12153" y="5821"/>
                </a:cubicBezTo>
                <a:cubicBezTo>
                  <a:pt x="13259" y="5821"/>
                  <a:pt x="14190" y="6709"/>
                  <a:pt x="14190" y="7849"/>
                </a:cubicBezTo>
                <a:cubicBezTo>
                  <a:pt x="14190" y="8589"/>
                  <a:pt x="13720" y="9320"/>
                  <a:pt x="13259" y="9320"/>
                </a:cubicBezTo>
                <a:cubicBezTo>
                  <a:pt x="12153" y="9320"/>
                  <a:pt x="11048" y="10800"/>
                  <a:pt x="11048" y="12323"/>
                </a:cubicBezTo>
                <a:lnTo>
                  <a:pt x="11048" y="1428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http://leninstatues.ru/sites/default/files/styles/large/public/photos/kolyvan.jpg?itok=4FL3oLPv"/>
          <p:cNvPicPr/>
          <p:nvPr/>
        </p:nvPicPr>
        <p:blipFill>
          <a:blip r:embed="rId2"/>
          <a:stretch/>
        </p:blipFill>
        <p:spPr>
          <a:xfrm>
            <a:off x="2484360" y="1773360"/>
            <a:ext cx="35337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2700360" y="0"/>
            <a:ext cx="62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Возле здания Администрации города Болот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лыбающееся лицо 4"/>
          <p:cNvSpPr/>
          <p:nvPr/>
        </p:nvSpPr>
        <p:spPr>
          <a:xfrm>
            <a:off x="0" y="6286680"/>
            <a:ext cx="571680" cy="57132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850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http://kprfnsk.ru/upload/iblock/0f4/DSCN0063.JPG"/>
          <p:cNvPicPr/>
          <p:nvPr/>
        </p:nvPicPr>
        <p:blipFill>
          <a:blip r:embed="rId2"/>
          <a:stretch/>
        </p:blipFill>
        <p:spPr>
          <a:xfrm>
            <a:off x="900000" y="907920"/>
            <a:ext cx="7559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6:00:58Z</dcterms:created>
  <dc:creator>Стиляги</dc:creator>
  <dc:description/>
  <dc:language>en-US</dc:language>
  <cp:lastModifiedBy>Aser</cp:lastModifiedBy>
  <dcterms:modified xsi:type="dcterms:W3CDTF">2019-05-21T00:45:58Z</dcterms:modified>
  <cp:revision>40</cp:revision>
  <dc:subject/>
  <dc:title>Слайд 1</dc:title>
</cp:coreProperties>
</file>