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5C6-E9C2-4323-8FDD-66EA0BC6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3C4-88C3-48BF-B945-26E5E4AF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BE0-D3CD-40C0-A6C0-B67B754D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6FA-71D0-4228-AF7B-6DE9FDC1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B44A-C786-43E0-BB56-90A70CAC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8011-228E-4722-849A-EB48CDC3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4C0F-B129-4FB8-9FE1-A13534D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9FB8-964E-404F-B73D-B60A6A06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07EC-3874-4B93-9FE1-5FE759D1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52320" y="274320"/>
            <a:ext cx="495324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0547-CACC-4A1F-84EF-2D913911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05A1-69CE-4565-BFEB-CA197FB6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39E-62FE-4E04-A474-097BC5F5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9FBE-E309-48ED-B241-7009A8C6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6086-F3E5-467D-AA92-4059DF94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4162-EF58-41D5-947D-93AA797D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110B-E1DF-4E52-A0B2-B78C13C6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190476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4109400"/>
            <a:ext cx="2428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5C10-BD8C-48AA-9B50-9CA51D72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956-DAE6-47BD-9663-1069BA12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B35-8EF4-4B06-9DD3-D67AEDE1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2D9-9F98-48A6-B28D-C00614B2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52320" y="274320"/>
            <a:ext cx="495324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29B-0CEF-47CC-8BE2-C3CC9EB0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ABC-9AA4-4548-8A03-9649B907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10940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744-C824-4865-8FEA-F306F46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904760"/>
            <a:ext cx="36813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FEC-6E1B-415C-B373-A955B60C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49532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308D-84AC-4B59-B593-E9E05D174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49532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2F87-D561-4A60-88CB-A0100A6185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Majestic"/>
              </a:rPr>
              <a:t>Времена года.</a:t>
            </a:r>
            <a:br>
              <a:rPr sz="8800"/>
            </a:br>
            <a:r>
              <a:rPr b="0" lang="ru-RU" sz="13800" spc="-1" strike="noStrike">
                <a:solidFill>
                  <a:srgbClr val="000000"/>
                </a:solidFill>
                <a:latin typeface="Majestic"/>
              </a:rPr>
              <a:t>Зима.</a:t>
            </a:r>
            <a:endParaRPr b="0" lang="en-US" sz="138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100" name="Picture 2" descr="C:\Users\Школа\Desktop\скандипломы\2017-02-14 7\7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90360" y="179856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–снеж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- пуш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ружиться мы не пр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снежинки- балери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танцуем день и н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деревья побел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ши пухом зам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ю бархатом укры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т стужи сбере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инопт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иоло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Худож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Умельц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траничка народного календар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ajestic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08240" y="3752640"/>
            <a:ext cx="684360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Школа\Desktop\скандипломы\2017-02-14 1\1 001.jpg"/>
          <p:cNvPicPr/>
          <p:nvPr/>
        </p:nvPicPr>
        <p:blipFill>
          <a:blip r:embed="rId1"/>
          <a:stretch/>
        </p:blipFill>
        <p:spPr>
          <a:xfrm>
            <a:off x="193680" y="228600"/>
            <a:ext cx="8798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89" name="Picture 2" descr="C:\Users\Школа\Desktop\скандипломы\2017-02-14 2\2 001.jpg"/>
          <p:cNvPicPr/>
          <p:nvPr/>
        </p:nvPicPr>
        <p:blipFill>
          <a:blip r:embed="rId1"/>
          <a:stretch/>
        </p:blipFill>
        <p:spPr>
          <a:xfrm>
            <a:off x="104760" y="228600"/>
            <a:ext cx="88106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02716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Users\Школа\Desktop\скандипломы\2017-02-14 3\3 001.jpg"/>
          <p:cNvPicPr/>
          <p:nvPr/>
        </p:nvPicPr>
        <p:blipFill>
          <a:blip r:embed="rId1"/>
          <a:stretch/>
        </p:blipFill>
        <p:spPr>
          <a:xfrm>
            <a:off x="-271440" y="17640"/>
            <a:ext cx="94154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4" name="Picture 2" descr="C:\Users\Школа\Desktop\скандипломы\2017-02-14 4\4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6" name="Picture 2" descr="C:\Users\Школа\Desktop\скандипломы\2017-02-14 5\5 001.jpg"/>
          <p:cNvPicPr/>
          <p:nvPr/>
        </p:nvPicPr>
        <p:blipFill>
          <a:blip r:embed="rId1"/>
          <a:stretch/>
        </p:blipFill>
        <p:spPr>
          <a:xfrm>
            <a:off x="0" y="152280"/>
            <a:ext cx="9040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52320" y="90000"/>
            <a:ext cx="49532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8" name="Picture 2" descr="C:\Users\Школа\Desktop\скандипломы\2017-02-14 6\6 001.jpg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7-03-19T02:21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