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9E7-1BC0-4617-80CA-849EFE2F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543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034-5C98-4038-B3A2-E404C414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9720" y="410940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34F-30D2-4940-B6E7-0A657ED4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28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4640" y="1904760"/>
            <a:ext cx="2428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1904760"/>
            <a:ext cx="2428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28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4640" y="4109400"/>
            <a:ext cx="2428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4109400"/>
            <a:ext cx="2428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BC6-3641-40F2-BD9C-BCC0AFBB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4A90-3DE2-465E-848E-358BAFDF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5438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91F3-E204-4B55-A4B1-5800F895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4F1A-A4CF-43C1-9433-C58B0EFF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DE46-517D-4D53-9754-7778F177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BA26-B012-43DE-BA93-F81BE765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52320" y="274320"/>
            <a:ext cx="495324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CFBD-45F4-43A6-9274-E063CA45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9E85-5FCD-45DB-8A34-D90CA09F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5438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6822-C1BB-4C83-9F68-CFECCF58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9720" y="410940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D75F-C687-483C-B94B-F2143D9F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543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9DBC-BDA9-4648-8EBE-2C293A12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543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66A0-0977-4C66-96B9-6D51D59F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9720" y="410940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3E0C-8A17-455F-8D1D-50E2C803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28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4640" y="1904760"/>
            <a:ext cx="2428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600" y="1904760"/>
            <a:ext cx="2428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28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4640" y="4109400"/>
            <a:ext cx="2428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600" y="4109400"/>
            <a:ext cx="2428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B996-1D56-4EA6-BC35-BE4FD351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8163-2DB9-4A21-85E1-A5BD0B37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AF1-77C0-4F30-800B-DF595D42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4215-6A80-44D0-8CB5-D702D96C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352320" y="274320"/>
            <a:ext cx="495324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EC96-1E06-4743-920D-38B1AB12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9D00-276E-4F8D-9C62-93D21FC7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9720" y="410940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A18-426B-47CA-B565-358BD024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543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5DA5-A1EE-4520-A95C-B88CA5CC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495324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543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CDFE-856D-4E48-97CF-2D57BDE9B1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495324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543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A14B-381E-4AD7-B2E1-43609C80BE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8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ajestic"/>
              </a:rPr>
              <a:t>Времена года.</a:t>
            </a:r>
            <a:br>
              <a:rPr sz="8800"/>
            </a:br>
            <a:r>
              <a:rPr b="0" lang="ru-RU" sz="13800" spc="-1" strike="noStrike">
                <a:solidFill>
                  <a:srgbClr val="000000"/>
                </a:solidFill>
                <a:latin typeface="Majestic"/>
              </a:rPr>
              <a:t>Зима.</a:t>
            </a:r>
            <a:endParaRPr b="0" lang="en-US" sz="13800" spc="-1" strike="noStrike">
              <a:solidFill>
                <a:srgbClr val="000000"/>
              </a:solidFill>
              <a:latin typeface="Majest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00" name="Picture 2" descr="C:\Users\Школа\Desktop\скандипломы\2017-02-14 7\7 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90360" y="179856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–снежи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- пуши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ружиться мы не про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снежинки- балери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танцуем день и но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деревья побел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ыши пухом заме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ю бархатом укры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от стужи сберег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инопт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Биолог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Художн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Умельц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траничка народного календар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1828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ajestic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08240" y="3752640"/>
            <a:ext cx="6843600" cy="23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:\Users\Школа\Desktop\скандипломы\2017-02-14 1\1 001.jpg"/>
          <p:cNvPicPr/>
          <p:nvPr/>
        </p:nvPicPr>
        <p:blipFill>
          <a:blip r:embed="rId1"/>
          <a:stretch/>
        </p:blipFill>
        <p:spPr>
          <a:xfrm>
            <a:off x="193680" y="228600"/>
            <a:ext cx="87980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89" name="Picture 2" descr="C:\Users\Школа\Desktop\скандипломы\2017-02-14 2\2 001.jpg"/>
          <p:cNvPicPr/>
          <p:nvPr/>
        </p:nvPicPr>
        <p:blipFill>
          <a:blip r:embed="rId1"/>
          <a:stretch/>
        </p:blipFill>
        <p:spPr>
          <a:xfrm>
            <a:off x="104760" y="228600"/>
            <a:ext cx="88106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202716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Users\Школа\Desktop\скандипломы\2017-02-14 3\3 001.jpg"/>
          <p:cNvPicPr/>
          <p:nvPr/>
        </p:nvPicPr>
        <p:blipFill>
          <a:blip r:embed="rId1"/>
          <a:stretch/>
        </p:blipFill>
        <p:spPr>
          <a:xfrm>
            <a:off x="-271440" y="17640"/>
            <a:ext cx="94154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94" name="Picture 2" descr="C:\Users\Школа\Desktop\скандипломы\2017-02-14 4\4 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96" name="Picture 2" descr="C:\Users\Школа\Desktop\скандипломы\2017-02-14 5\5 001.jpg"/>
          <p:cNvPicPr/>
          <p:nvPr/>
        </p:nvPicPr>
        <p:blipFill>
          <a:blip r:embed="rId1"/>
          <a:stretch/>
        </p:blipFill>
        <p:spPr>
          <a:xfrm>
            <a:off x="0" y="152280"/>
            <a:ext cx="90406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98" name="Picture 2" descr="C:\Users\Школа\Desktop\скандипломы\2017-02-14 6\6 001.jpg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7-03-19T02:21:2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