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9240" y="-338400"/>
            <a:ext cx="9406440" cy="7194960"/>
            <a:chOff x="-39240" y="-338400"/>
            <a:chExt cx="9406440" cy="7194960"/>
          </a:xfrm>
        </p:grpSpPr>
        <p:grpSp>
          <p:nvGrpSpPr>
            <p:cNvPr id="1" name=""/>
            <p:cNvGrpSpPr/>
            <p:nvPr/>
          </p:nvGrpSpPr>
          <p:grpSpPr>
            <a:xfrm>
              <a:off x="4835160" y="-338400"/>
              <a:ext cx="4532040" cy="6543360"/>
              <a:chOff x="4835160" y="-338400"/>
              <a:chExt cx="4532040" cy="6543360"/>
            </a:xfrm>
          </p:grpSpPr>
          <p:sp>
            <p:nvSpPr>
              <p:cNvPr id="2" name=""/>
              <p:cNvSpPr/>
              <p:nvPr/>
            </p:nvSpPr>
            <p:spPr>
              <a:xfrm flipV="1" rot="12000000">
                <a:off x="6247800" y="62640"/>
                <a:ext cx="2781360" cy="24670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V="1" rot="12000000">
                <a:off x="7352280" y="1750680"/>
                <a:ext cx="1189800" cy="8812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 rot="12000000">
                <a:off x="6568920" y="2411640"/>
                <a:ext cx="576000" cy="412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 rot="12000000">
                <a:off x="7128720" y="403920"/>
                <a:ext cx="509400" cy="5752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 rot="12000000">
                <a:off x="7000920" y="24696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 rot="12000000">
                <a:off x="6982200" y="9972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 rot="12000000">
                <a:off x="540000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 flipH="1" rot="360000">
              <a:off x="12960" y="3106440"/>
              <a:ext cx="512280" cy="10288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rot="360000">
              <a:off x="1246680" y="4728960"/>
              <a:ext cx="136440" cy="4334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3988800" y="921240"/>
              <a:ext cx="1269720" cy="1390320"/>
              <a:chOff x="3988800" y="921240"/>
              <a:chExt cx="1269720" cy="1390320"/>
            </a:xfrm>
          </p:grpSpPr>
          <p:sp>
            <p:nvSpPr>
              <p:cNvPr id="16" name=""/>
              <p:cNvSpPr/>
              <p:nvPr/>
            </p:nvSpPr>
            <p:spPr>
              <a:xfrm rot="3240000">
                <a:off x="4537800" y="940680"/>
                <a:ext cx="303840" cy="501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3240000">
                <a:off x="4676400" y="1520640"/>
                <a:ext cx="521640" cy="414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3240000">
                <a:off x="3961440" y="1923480"/>
                <a:ext cx="545040" cy="210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614920" y="280080"/>
              <a:ext cx="969120" cy="915840"/>
              <a:chOff x="5614920" y="280080"/>
              <a:chExt cx="969120" cy="915840"/>
            </a:xfrm>
          </p:grpSpPr>
          <p:sp>
            <p:nvSpPr>
              <p:cNvPr id="20" name=""/>
              <p:cNvSpPr/>
              <p:nvPr/>
            </p:nvSpPr>
            <p:spPr>
              <a:xfrm rot="14880000">
                <a:off x="5735520" y="837360"/>
                <a:ext cx="193680" cy="39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4880000">
                <a:off x="5680080" y="484560"/>
                <a:ext cx="335160" cy="325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4880000">
                <a:off x="6267600" y="390600"/>
                <a:ext cx="349560" cy="164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"/>
            <p:cNvGrpSpPr/>
            <p:nvPr/>
          </p:nvGrpSpPr>
          <p:grpSpPr>
            <a:xfrm>
              <a:off x="933480" y="5155200"/>
              <a:ext cx="1162800" cy="1063080"/>
              <a:chOff x="933480" y="5155200"/>
              <a:chExt cx="1162800" cy="1063080"/>
            </a:xfrm>
          </p:grpSpPr>
          <p:sp>
            <p:nvSpPr>
              <p:cNvPr id="24" name=""/>
              <p:cNvSpPr/>
              <p:nvPr/>
            </p:nvSpPr>
            <p:spPr>
              <a:xfrm rot="8520000">
                <a:off x="1733760" y="5482440"/>
                <a:ext cx="264240" cy="409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8520000">
                <a:off x="1183680" y="5773680"/>
                <a:ext cx="454680" cy="34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8520000">
                <a:off x="935280" y="5283000"/>
                <a:ext cx="474480" cy="170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219960" y="368640"/>
              <a:ext cx="1863720" cy="1275480"/>
              <a:chOff x="219960" y="368640"/>
              <a:chExt cx="1863720" cy="1275480"/>
            </a:xfrm>
          </p:grpSpPr>
          <p:sp>
            <p:nvSpPr>
              <p:cNvPr id="28" name=""/>
              <p:cNvSpPr/>
              <p:nvPr/>
            </p:nvSpPr>
            <p:spPr>
              <a:xfrm flipH="1" rot="4140000">
                <a:off x="1542600" y="1063080"/>
                <a:ext cx="394560" cy="583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4140000">
                <a:off x="930240" y="528120"/>
                <a:ext cx="676440" cy="485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 rot="4140000">
                <a:off x="106560" y="1101960"/>
                <a:ext cx="708120" cy="245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7333200" y="3620160"/>
              <a:ext cx="1261080" cy="1719720"/>
              <a:chOff x="7333200" y="3620160"/>
              <a:chExt cx="1261080" cy="1719720"/>
            </a:xfrm>
          </p:grpSpPr>
          <p:sp>
            <p:nvSpPr>
              <p:cNvPr id="32" name=""/>
              <p:cNvSpPr/>
              <p:nvPr/>
            </p:nvSpPr>
            <p:spPr>
              <a:xfrm flipH="1" rot="10020000">
                <a:off x="7391160" y="4738320"/>
                <a:ext cx="387000" cy="5652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H="1" rot="10020000">
                <a:off x="7886160" y="4416480"/>
                <a:ext cx="663120" cy="470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 rot="10020000">
                <a:off x="7549560" y="3695040"/>
                <a:ext cx="693720" cy="23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V="1" rot="9840000">
              <a:off x="3412080" y="160920"/>
              <a:ext cx="108180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V="1" rot="9840000">
              <a:off x="3156840" y="1362240"/>
              <a:ext cx="52344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 rot="9840000">
              <a:off x="3517560" y="128196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 rot="9840000">
              <a:off x="343584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-189360" y="-191880"/>
            <a:ext cx="2925000" cy="7046280"/>
            <a:chOff x="-189360" y="-191880"/>
            <a:chExt cx="2925000" cy="7046280"/>
          </a:xfrm>
        </p:grpSpPr>
        <p:sp>
          <p:nvSpPr>
            <p:cNvPr id="81" name=""/>
            <p:cNvSpPr/>
            <p:nvPr/>
          </p:nvSpPr>
          <p:spPr>
            <a:xfrm>
              <a:off x="-87480" y="5155560"/>
              <a:ext cx="76896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-46440" y="3836520"/>
              <a:ext cx="1024560" cy="803520"/>
              <a:chOff x="-46440" y="3836520"/>
              <a:chExt cx="1024560" cy="803520"/>
            </a:xfrm>
          </p:grpSpPr>
          <p:sp>
            <p:nvSpPr>
              <p:cNvPr id="83" name=""/>
              <p:cNvSpPr/>
              <p:nvPr/>
            </p:nvSpPr>
            <p:spPr>
              <a:xfrm flipH="1" rot="14940000">
                <a:off x="1368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4940000">
                <a:off x="20340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14940000">
                <a:off x="61164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67680" y="2699640"/>
              <a:ext cx="115776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189360" y="2438280"/>
              <a:ext cx="2925000" cy="3267720"/>
              <a:chOff x="-189360" y="2438280"/>
              <a:chExt cx="2925000" cy="3267720"/>
            </a:xfrm>
          </p:grpSpPr>
          <p:sp>
            <p:nvSpPr>
              <p:cNvPr id="88" name=""/>
              <p:cNvSpPr/>
              <p:nvPr/>
            </p:nvSpPr>
            <p:spPr>
              <a:xfrm flipH="1" rot="780000">
                <a:off x="219600" y="2541960"/>
                <a:ext cx="1042200" cy="10490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780000">
                <a:off x="189000" y="2913120"/>
                <a:ext cx="30744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0000">
                <a:off x="752040" y="368604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0000">
                <a:off x="671760" y="375048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662760" y="3669480"/>
                <a:ext cx="2072880" cy="2036520"/>
                <a:chOff x="662760" y="3669480"/>
                <a:chExt cx="2072880" cy="2036520"/>
              </a:xfrm>
            </p:grpSpPr>
            <p:sp>
              <p:nvSpPr>
                <p:cNvPr id="94" name=""/>
                <p:cNvSpPr/>
                <p:nvPr/>
              </p:nvSpPr>
              <p:spPr>
                <a:xfrm flipH="1" rot="7140000">
                  <a:off x="1104120" y="3577680"/>
                  <a:ext cx="588960" cy="1356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7140000">
                  <a:off x="2319840" y="4815360"/>
                  <a:ext cx="134640" cy="555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7140000">
                  <a:off x="2513160" y="5530320"/>
                  <a:ext cx="245160" cy="92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357480" y="6133680"/>
              <a:ext cx="878400" cy="695160"/>
              <a:chOff x="357480" y="6133680"/>
              <a:chExt cx="878400" cy="695160"/>
            </a:xfrm>
          </p:grpSpPr>
          <p:sp>
            <p:nvSpPr>
              <p:cNvPr id="98" name=""/>
              <p:cNvSpPr/>
              <p:nvPr/>
            </p:nvSpPr>
            <p:spPr>
              <a:xfrm rot="6240000">
                <a:off x="966240" y="6131520"/>
                <a:ext cx="214920" cy="280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240000">
                <a:off x="687240" y="6505200"/>
                <a:ext cx="369000" cy="232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6240000">
                <a:off x="267480" y="63914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3560" y="1688400"/>
              <a:ext cx="839880" cy="734400"/>
              <a:chOff x="223560" y="1688400"/>
              <a:chExt cx="839880" cy="734400"/>
            </a:xfrm>
          </p:grpSpPr>
          <p:sp>
            <p:nvSpPr>
              <p:cNvPr id="102" name=""/>
              <p:cNvSpPr/>
              <p:nvPr/>
            </p:nvSpPr>
            <p:spPr>
              <a:xfrm rot="4980000">
                <a:off x="78444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4980000">
                <a:off x="628200" y="2088720"/>
                <a:ext cx="374400" cy="263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251720" y="-93600"/>
              <a:ext cx="559440" cy="586800"/>
              <a:chOff x="1251720" y="-93600"/>
              <a:chExt cx="559440" cy="586800"/>
            </a:xfrm>
          </p:grpSpPr>
          <p:sp>
            <p:nvSpPr>
              <p:cNvPr id="106" name=""/>
              <p:cNvSpPr/>
              <p:nvPr/>
            </p:nvSpPr>
            <p:spPr>
              <a:xfrm>
                <a:off x="125172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0948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756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2640" y="57600"/>
              <a:ext cx="113976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840000">
              <a:off x="317160" y="5381640"/>
              <a:ext cx="21348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840000">
              <a:off x="3546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0840" y="6519960"/>
              <a:ext cx="19044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79200" y="5118480"/>
              <a:ext cx="81000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560000">
              <a:off x="-46080" y="564120"/>
              <a:ext cx="56016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560000">
              <a:off x="31536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60000">
              <a:off x="85752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60000">
              <a:off x="30744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60000">
              <a:off x="87732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79200" y="1332000"/>
              <a:ext cx="58608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60000">
              <a:off x="11520" y="39600"/>
              <a:ext cx="131148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700280"/>
            <a:ext cx="79916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ющая игра </a:t>
            </a:r>
            <a:br>
              <a:rPr sz="18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детей 5-6 лет «Разноцветные узо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221000"/>
            <a:ext cx="756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Sylfaen"/>
              </a:rPr>
              <a:t>Подготовила: педагог-психолог Андреева Т.М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Sylfaen"/>
              </a:rPr>
              <a:t>МБДОУ № 96 «Кали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2920" y="1557360"/>
            <a:ext cx="7596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Sylfaen"/>
              </a:rPr>
              <a:t>Цель игры: развитие зрительного восприятия.</a:t>
            </a:r>
            <a:br>
              <a:rPr sz="1800"/>
            </a:br>
            <a:r>
              <a:rPr b="0" lang="ru-RU" sz="3600" spc="-1" strike="noStrike">
                <a:solidFill>
                  <a:srgbClr val="006666"/>
                </a:solidFill>
                <a:latin typeface="Sylfaen"/>
              </a:rPr>
              <a:t>Ход: ребенку предлагается внимательно посмотреть на недостающий кусочек узора и найти такой же из представленных. Неправильный узор будет мигать, правильный передвинется на пустое ме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4176720" cy="3973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692360" y="4338720"/>
            <a:ext cx="2485800" cy="2519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240660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C 0.00642 0.00209 0.01198 0.00602 0.01805 0.00926 C 0.03593 0.03311 0.071 0.05278 0.09583 0.06112 C 0.12708 0.05949 0.15781 0.05718 0.18889 0.05371 C 0.19253 0.05324 0.19635 0.05278 0.2 0.05186 C 0.20555 0.05047 0.21666 0.0463 0.21666 0.0463 C 0.21927 0.04399 0.22257 0.04329 0.225 0.04074 C 0.22639 0.03936 0.22673 0.03681 0.22777 0.03519 C 0.23524 0.02408 0.23767 0.02338 0.24027 0.00926 C 0.23819 -0.01875 0.23854 -0.05162 0.22639 -0.07592 C 0.22326 -0.09676 0.22795 -0.10162 0.23611 -0.11666 C 0.23732 -0.11898 0.2375 -0.12199 0.23889 -0.12407 C 0.24375 -0.13171 0.25121 -0.13657 0.25833 -0.13888 C 0.26562 -0.14467 0.27274 -0.15393 0.28055 -0.1574 C 0.30382 -0.18078 0.32222 -0.19699 0.35 -0.20926 C 0.36059 -0.21388 0.37222 -0.21203 0.38333 -0.21296 C 0.3901 -0.21481 0.39271 -0.21689 0.39861 -0.22037 C 0.40798 -0.22569 0.41927 -0.22801 0.42916 -0.23148 C 0.43819 -0.23472 0.44635 -0.23865 0.45555 -0.24074 C 0.47257 -0.2493 0.48611 -0.26134 0.50139 -0.27407 C 0.50972 -0.28888 0.52222 -0.29814 0.53194 -0.31111 C 0.53159 -0.33078 0.53819 -0.39537 0.51944 -0.42037 C 0.51753 -0.42291 0.51527 -0.42476 0.51389 -0.42777 C 0.50972 -0.43611 0.50607 -0.4449 0.50277 -0.4537 C 0.50121 -0.45787 0.50121 -0.46342 0.49861 -0.46666 C 0.49548 -0.47037 0.47656 -0.48842 0.47083 -0.49259 C 0.46823 -0.49444 0.46527 -0.49513 0.4625 -0.49629 C 0.46111 -0.49699 0.45833 -0.49814 0.45833 -0.49814 C 0.44896 -0.51064 0.43593 -0.51666 0.42361 -0.52222 C 0.421 -0.52338 0.41909 -0.52638 0.41666 -0.52777 C 0.41267 -0.53009 0.40833 -0.53171 0.40416 -0.53333 C 0.39132 -0.53865 0.37847 -0.54097 0.36527 -0.54444 C 0.32708 -0.54328 0.31753 -0.54305 0.28889 -0.53888 C 0.27031 -0.53055 0.30468 -0.54537 0.24583 -0.53518 C 0.24218 -0.53449 0.2408 -0.52777 0.2375 -0.52592 C 0.23142 -0.52245 0.22222 -0.52407 0.21666 -0.52407 E">
                                      <p:cBhvr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00" y="31284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3960720" cy="3768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549520" cy="25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rot="2160000">
            <a:off x="5292360" y="3860280"/>
            <a:ext cx="2532240" cy="25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5 -0.15509 C -0.00347 -0.16111 0.00486 -0.16296 0.01198 -0.16806 C 0.03767 -0.18657 0.06284 -0.20648 0.08837 -0.22546 C 0.10052 -0.23449 0.11284 -0.23843 0.12448 -0.24954 C 0.12569 -0.25417 0.12986 -0.25764 0.13003 -0.2625 C 0.1309 -0.27917 0.12986 -0.29583 0.12864 -0.3125 C 0.12812 -0.32037 0.12465 -0.32708 0.12309 -0.33472 C 0.11962 -0.35231 0.11909 -0.37523 0.1092 -0.38843 C 0.10746 -0.39769 0.09844 -0.40972 0.09253 -0.41435 C 0.06979 -0.43264 0.05434 -0.44514 0.02725 -0.44954 C 0.01857 -0.44931 -0.07778 -0.44676 -0.09358 -0.44583 C -0.09879 -0.4456 -0.10365 -0.44167 -0.10886 -0.44028 C -0.12396 -0.43588 -0.13768 -0.43264 -0.1533 -0.43102 C -0.1691 -0.43171 -0.1849 -0.43148 -0.20052 -0.43287 C -0.20521 -0.43333 -0.20972 -0.43657 -0.21441 -0.43657 C -0.21528 -0.43657 -0.21632 -0.43657 -0.21719 -0.43657 E">
                                      <p:cBhvr>
                                        <p:cTn id="1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203640" y="260280"/>
            <a:ext cx="3384360" cy="3221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325600" cy="2355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140440" y="4149720"/>
            <a:ext cx="24066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42 -0.04167 C 0.1717 -0.04699 0.20903 -0.04931 0.2467 -0.05093 C 0.25816 -0.05602 0.2717 -0.06111 0.27865 -0.075 C 0.28212 -0.09815 0.28767 -0.14514 0.26615 -0.15463 C 0.25625 -0.16783 0.24392 -0.17246 0.23281 -0.18241 C 0.21389 -0.19908 0.19306 -0.2081 0.1717 -0.21759 C 0.16736 -0.21945 0.16354 -0.22338 0.1592 -0.225 C 0.15208 -0.22778 0.14306 -0.22824 0.13559 -0.23056 C 0.12743 -0.23287 0.12031 -0.2375 0.11198 -0.23982 C 0.1 -0.24769 0.08767 -0.25556 0.07587 -0.26389 C 0.06615 -0.27083 0.05781 -0.28148 0.04809 -0.28796 C 0.03472 -0.31759 0.05122 -0.2838 0.03976 -0.30093 C 0.03663 -0.30556 0.03385 -0.31042 0.03142 -0.31574 C 0.03004 -0.31875 0.02899 -0.32222 0.02726 -0.325 C 0.02517 -0.32847 0.02222 -0.33079 0.02031 -0.33426 C 0.01441 -0.34468 0.01198 -0.35648 0.00504 -0.36574 C 0.0033 -0.37292 -0.00087 -0.3757 -0.0033 -0.38241 C -0.00399 -0.38426 -0.00399 -0.38611 -0.00469 -0.38796 C -0.0059 -0.39121 -0.00746 -0.39421 -0.00885 -0.39722 C -0.01076 -0.41042 -0.00955 -0.40347 -0.01302 -0.41759 C -0.01389 -0.4213 -0.0158 -0.42871 -0.0158 -0.42847 C -0.01111 -0.44769 0.000869999999999999 -0.45556 0.01337 -0.46389 C 0.0151 -0.46505 0.0158 -0.46806 0.01754 -0.46945 C 0.02344 -0.47431 0.03038 -0.4757 0.03698 -0.47871 C 0.03854 -0.4794 0.03958 -0.48171 0.04115 -0.48241 C 0.05642 -0.48982 0.0474 -0.48333 0.05781 -0.48796 C 0.06649 -0.4919 0.07379 -0.4956 0.08281 -0.49722 C 0.12431 -0.4963 0.15955 -0.49306 0.19948 -0.48982 C 0.22118 -0.48565 0.21684 -0.48634 0.24948 -0.48796 C 0.26215 -0.49213 0.25313 -0.48982 0.27726 -0.48982 E">
                                      <p:cBhvr>
                                        <p:cTn id="3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032360" cy="383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486160" cy="251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59280" y="3987720"/>
            <a:ext cx="28321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99 0.00024 C 0.10052 0.01459 0.12604 -0.00324 0.14566 -0.01458 C 0.17604 -0.03217 0.20729 -0.03611 0.2401 -0.03865 C 0.24913 -0.04675 0.25451 -0.05324 0.25955 -0.06643 C 0.25902 -0.07638 0.25972 -0.08634 0.25816 -0.09606 C 0.25781 -0.09861 0.25521 -0.09953 0.25399 -0.10162 C 0.24253 -0.12314 0.26215 -0.09236 0.24705 -0.11828 C 0.24548 -0.12106 0.24323 -0.12314 0.24149 -0.12569 C 0.23767 -0.13171 0.23402 -0.13796 0.23038 -0.14421 C 0.22656 -0.15092 0.22135 -0.16226 0.21649 -0.16828 C 0.2033 -0.18495 0.18489 -0.20462 0.16649 -0.21087 C 0.14652 -0.21759 0.1243 -0.21828 0.10399 -0.22013 C 0.09392 -0.22245 0.0835 -0.22314 0.07343 -0.22569 C 0.05989 -0.22893 0.05034 -0.23611 0.03732 -0.2405 C 0.03316 -0.24421 0.02899 -0.24791 0.02482 -0.25162 C 0.02135 -0.25462 0.01666 -0.25509 0.01371 -0.25902 C 0.00399 -0.27199 -0.00608 -0.2824 -0.01823 -0.2905 C -0.02604 -0.30439 -0.01806 -0.29236 -0.02934 -0.30347 C -0.03594 -0.30995 -0.04184 -0.32199 -0.04601 -0.33125 C -0.04861 -0.34814 -0.04896 -0.34629 -0.04601 -0.37199 C -0.04497 -0.38125 -0.03195 -0.39861 -0.02657 -0.40347 C -0.00608 -0.42222 0.01614 -0.42939 0.0401 -0.4368 C 0.04913 -0.43958 0.05746 -0.4456 0.06649 -0.44791 C 0.07934 -0.45138 0.071 -0.44953 0.09149 -0.45162 C 0.1592 -0.46666 0.22396 -0.44791 0.2901 -0.4368 C 0.29149 -0.43796 0.29479 -0.43842 0.29427 -0.4405 C 0.29375 -0.44282 0.29062 -0.44189 0.28871 -0.44236 C 0.28593 -0.44305 0.28316 -0.44328 0.28038 -0.44421 C 0.2776 -0.44513 0.27205 -0.44791 0.27205 -0.44768 E">
                                      <p:cBhvr>
                                        <p:cTn id="3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672000" cy="3494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2406960" cy="2438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834080" y="3424320"/>
            <a:ext cx="282420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C 0.02865 0.00856 0.08507 0.00301 0.10972 0.0037 C 0.15643 0.00254 0.16945 0.02222 0.19167 -0.00741 C 0.19375 -0.01597 0.19566 -0.02454 0.19722 -0.03334 C 0.1967 -0.04861 0.19705 -0.07685 0.19306 -0.09445 C 0.18785 -0.11783 0.17084 -0.13519 0.15834 -0.15185 C 0.14358 -0.17153 0.12639 -0.1882 0.10972 -0.20556 C 0.10643 -0.20903 0.10347 -0.21343 0.1 -0.21667 C 0.09341 -0.22246 0.08594 -0.22593 0.07917 -0.23148 C 0.07639 -0.2338 0.07344 -0.23611 0.07084 -0.23889 C 0.06927 -0.24051 0.06841 -0.24306 0.06667 -0.24445 C 0.05243 -0.25625 0.0665 -0.23982 0.05417 -0.25371 C 0.04618 -0.26273 0.03959 -0.27408 0.03334 -0.28519 C 0.03247 -0.28889 0.03195 -0.29283 0.03056 -0.2963 C 0.029 -0.30023 0.025 -0.30741 0.025 -0.30741 C 0.02257 -0.32385 0.01806 -0.34445 0.02778 -0.35741 C 0.0283 -0.35926 0.02813 -0.36158 0.02917 -0.36297 C 0.03143 -0.36597 0.0349 -0.36621 0.0375 -0.36852 C 0.05174 -0.38218 0.03386 -0.36783 0.06528 -0.39074 C 0.079 -0.4007 0.09306 -0.40926 0.10695 -0.41852 C 0.12761 -0.43241 0.14636 -0.44746 0.16945 -0.45371 C 0.28004 -0.45162 0.23611 -0.45185 0.30139 -0.45185 E">
                                      <p:cBhvr>
                                        <p:cTn id="4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7:15:55Z</dcterms:created>
  <dc:creator>эля</dc:creator>
  <dc:description/>
  <dc:language>en-US</dc:language>
  <cp:lastModifiedBy>Asus</cp:lastModifiedBy>
  <dcterms:modified xsi:type="dcterms:W3CDTF">2021-10-02T11:25:55Z</dcterms:modified>
  <cp:revision>25</cp:revision>
  <dc:subject/>
  <dc:title>Разноцветные узо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