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610-27A0-4A66-9102-5B31F36E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4BF-03F3-4EC0-957D-C711F04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7E9-9573-4671-AA0A-AAEF0F1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DD2-97A0-4E9B-BF2F-50339D68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0C4-6397-499F-8961-63B9017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F38-ECEB-4B84-B280-02F0B167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DE1-F0CB-47EF-B4EB-56600B9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443-001D-4100-82DB-FD9EBDE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44B-1C45-4751-A9DD-45F6BF1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2F7-29AD-4083-B4BB-EA9B990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835-F9AD-4452-A8D7-A6F5555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F25-E738-4ABB-BBAA-109E735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6CF-F15A-4426-87E8-76D940C59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447920" y="1120680"/>
            <a:ext cx="678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Игра-презента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«Что перепутал художник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23200" y="4191120"/>
            <a:ext cx="473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полнила педагог-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БДОУ №96 «Ка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ндреева Т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9652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843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523880" y="2001600"/>
            <a:ext cx="649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Цель игры внимательно рассмотреть предложенную картинку и подробно рассказать о том, что на ней нарисовано неверно. Данный вид занятий поможет развить внимание и речь, что является приоритетом при подготовки к шк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26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val 4"/>
          <p:cNvSpPr/>
          <p:nvPr/>
        </p:nvSpPr>
        <p:spPr>
          <a:xfrm>
            <a:off x="2057400" y="0"/>
            <a:ext cx="25909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7086600" y="1066680"/>
            <a:ext cx="1523880" cy="129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648320" y="1066680"/>
            <a:ext cx="1523880" cy="1295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 rot="16200000">
            <a:off x="1866960" y="4076640"/>
            <a:ext cx="3124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4572000" y="4648320"/>
            <a:ext cx="91440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248520" y="4724280"/>
            <a:ext cx="99036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artinka-dlya-testiruemogo-po-metodik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6" name="Oval 8"/>
          <p:cNvSpPr/>
          <p:nvPr/>
        </p:nvSpPr>
        <p:spPr>
          <a:xfrm>
            <a:off x="7010280" y="914400"/>
            <a:ext cx="129564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0" y="1523880"/>
            <a:ext cx="251460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7391520" y="3124080"/>
            <a:ext cx="1295280" cy="3200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5791320" y="3657600"/>
            <a:ext cx="1295280" cy="3200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0" y="5638680"/>
            <a:ext cx="1752480" cy="99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2590920" y="5410080"/>
            <a:ext cx="2514600" cy="1447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4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5257800" y="5257800"/>
            <a:ext cx="419112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838080" y="228600"/>
            <a:ext cx="25146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609480" y="2590920"/>
            <a:ext cx="914400" cy="761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0" y="3429000"/>
            <a:ext cx="1600200" cy="1752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 rot="17059800">
            <a:off x="685440" y="4647960"/>
            <a:ext cx="2819520" cy="1600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5410080" y="228600"/>
            <a:ext cx="91440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683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val 10"/>
          <p:cNvSpPr/>
          <p:nvPr/>
        </p:nvSpPr>
        <p:spPr>
          <a:xfrm>
            <a:off x="0" y="609480"/>
            <a:ext cx="251460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6172200" y="838080"/>
            <a:ext cx="121932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7467480" y="3352680"/>
            <a:ext cx="121932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" dur="25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i?id=a8cb471f2559f22298a043ecc5a0e70e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762120" y="838080"/>
            <a:ext cx="2514600" cy="10670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 rot="16200000">
            <a:off x="228600" y="5105160"/>
            <a:ext cx="25146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 rot="16200000">
            <a:off x="2933640" y="2933280"/>
            <a:ext cx="3009960" cy="2019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6400800" y="2133720"/>
            <a:ext cx="25146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3124080" y="5943600"/>
            <a:ext cx="25146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 rot="17464200">
            <a:off x="2933640" y="723600"/>
            <a:ext cx="25146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25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6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25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7:39:54Z</dcterms:created>
  <dc:creator>1</dc:creator>
  <dc:description/>
  <dc:language>en-US</dc:language>
  <cp:lastModifiedBy>Asus</cp:lastModifiedBy>
  <dcterms:modified xsi:type="dcterms:W3CDTF">2021-10-02T11:30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