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4A2-FCC5-45B7-9BD6-27798AC6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596-35DA-497F-8D4E-3EAA158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F7C-22D7-428C-A73E-C0FAC219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657-0EC0-471E-AA94-E6768A41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0275-7A02-47AD-B82C-97221379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3175-B97B-4C5B-8294-6A677C0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C22B-B06D-4EBD-89D1-8CE5294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9B80-B17E-427C-9C4A-8311DDEB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06DF-0F6B-48CC-8FA2-C11F6EE0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BA8E-BD9F-4977-B318-BDCE70A4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A8F-9604-44ED-A26C-CA15EEF6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C4B-2BAE-403D-AAFC-DCE5CDF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74CC-BAA8-4D8A-849E-4FFFE92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CB58-1788-4E05-BC7B-796320C1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FFC5-8B98-4E06-BDFF-4B18677B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9B6A-7D7B-4FAF-89EA-D6949EED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7D05-C0E9-409B-859C-5C0E4294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4303-8E05-4BB4-BDF7-F6735D73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04BA-247D-47DA-AE94-9A0F823B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B611-9D4F-46B7-9216-96FCD7FB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F531-2AF7-4040-82DA-DAB61010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D1D5-A92B-40DE-823E-E9D80A30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DF4-773B-47F1-8024-E9D8C2EE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FBC0-A553-4E8A-A965-CC696AA1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8E89-1FB6-405A-9885-888B33F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8B87-6038-49F8-9DF3-13A6CE3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DBA4-04FF-43AD-8C0F-215A48A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C822-FB42-4876-9218-A80875E5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7BB5-55E2-4A78-96B2-F9C37482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98B6-F21F-4D69-BC84-C3E5E907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0967-D96D-4DC3-AF1E-EF34821A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750E-A36A-46F2-B43E-F242764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177B7-937D-44B7-A0F8-E31D4735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4EE-44A5-4450-9E05-20CBC33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CE2E-43E4-48D0-A6B9-0F548D99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8B4A-A698-419B-8755-4A1FF51E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60B9-626D-43D8-9D83-1681EC15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7089-D9F7-4309-AB85-245F05C9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6ED2-0EC0-4DC7-AF45-64D76A2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727F3-3DC9-41A8-A585-7ECB7719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588E1-1FB9-48A2-9854-EE367387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680E-B01D-4C94-9115-9E6EB31D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3D18B-7394-4DB3-B634-85ED2CAC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8D437-3019-42E1-87D4-2257BC0F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B3B-5DDD-4B6C-A8D2-A2BB1D2B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8526-E54D-4298-9CC2-3D91C846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0887-966B-4268-B845-8017FA56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999B-FD5D-4172-865A-285AE25A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18AB-48D1-4C5E-9AEE-4A8CB47E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E55CE-F937-41D3-963C-4D483354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6B02-B3D8-4956-9125-5AC5138A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CDB5-9BA5-4510-A6E0-10AB59C0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B012-0F49-4449-A228-454BC79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C515-F87D-4426-969B-79026D5E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795A-484B-4FB7-9FE5-F02AC5AC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A1D-5451-47C1-9BCE-A384B63B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DD80-307D-4943-B1CF-488B0730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90B6-2E12-4332-AFD8-7EE854D7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4CB59-0E29-425F-88D9-4C81FAB9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6DC5-4F4A-48D6-8B5A-98EADA28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E15F-154B-44AC-AAF4-F94D5B81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788B5-714E-437F-90C9-8C297D4E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6566-60BB-49BB-A179-ECAFC7C3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14BC8-7772-4666-BAF6-23E5F2DA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3BCFA-0F34-4ACC-9334-E8C5C7E1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C119C-A74B-48A3-BA01-FB02CBF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E40-4411-4854-A943-65060746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46DB7-16BF-4C33-B13C-E2A96FB9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90E51-5B7D-49E9-8678-C8E3253B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0BA68-D1BE-46C4-B2F2-5BD9D730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EB4C7-8476-41B3-A263-B766E2E9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EA3FB-1D2F-431E-B039-14DED874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F8BC6-179B-46DF-A293-D8739424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355B2-19F8-4205-8134-612FEBA7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88ED-199A-4FC3-84AA-C5C0ED15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0277-C791-4926-A7E7-39302761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E1A97-C971-478F-9543-9E1A92E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943-4FA4-431D-BCF0-0A526AD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6FCE-0FE2-4035-9456-BB0F47E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B4509-7ED8-49BE-BCEF-5550BBC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ED55D-7895-4647-A92F-7E240BBA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DB27-DE1D-4EEC-966E-5B2C49C2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0318-FEF0-44AF-B607-222B3E74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34B-BEC0-4A90-AE4C-CFFDF9B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B9EC-F6CC-4005-9819-B8C9A0CB1D70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7363-17CD-4D2E-877C-38868DF2353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BAF-73DE-435E-93F9-6E4BDDD6B50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58F7-9F8E-4D25-841F-8734D60FC3D3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A96-89BF-4968-886B-137B657044AF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2A0E-B84A-4EEF-AF38-B5CD7AA8E58B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A746-9721-4488-BD1C-BD080D3D908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8305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Горьковская средняя общеобразовательная школа №2»</a:t>
            </a:r>
            <a:br>
              <a:rPr sz="1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дивидуальный проект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1800"/>
            </a:br>
            <a:br>
              <a:rPr sz="18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«Относительная частота встречаемости сахарного диабета среди населения  Горьковского района Омской области»</a:t>
            </a:r>
            <a:endParaRPr b="0" lang="en-US" sz="22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971800" y="40381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втор проек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азова Мадина Мейрамо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ница  11 кл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 проекта:</a:t>
            </a:r>
            <a:endParaRPr b="0" lang="en-US" sz="1600" spc="-1" strike="noStrike">
              <a:solidFill>
                <a:srgbClr val="ff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азова Гульмира Базарбае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биологии и химии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.п. Горьковское – 20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20" name="Picture 4" descr="C:\Users\NetAsus\Desktop\сах диаб\диабет-фото.jpg"/>
          <p:cNvPicPr/>
          <p:nvPr/>
        </p:nvPicPr>
        <p:blipFill>
          <a:blip r:embed="rId1"/>
          <a:stretch/>
        </p:blipFill>
        <p:spPr>
          <a:xfrm>
            <a:off x="914400" y="3701880"/>
            <a:ext cx="411480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95a74"/>
                </a:solidFill>
                <a:latin typeface="Corbel"/>
              </a:rPr>
              <a:t>Профилактик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92f"/>
                </a:solidFill>
                <a:latin typeface="Corbel"/>
              </a:rPr>
              <a:t>Добиться здорового веса;</a:t>
            </a:r>
            <a:endParaRPr b="0" lang="en-US" sz="4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92f"/>
                </a:solidFill>
                <a:latin typeface="Corbel"/>
              </a:rPr>
              <a:t>Быть физически активным;</a:t>
            </a:r>
            <a:endParaRPr b="0" lang="en-US" sz="4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92f"/>
                </a:solidFill>
                <a:latin typeface="Corbel"/>
              </a:rPr>
              <a:t>Придерживаться здорового питания;</a:t>
            </a:r>
            <a:endParaRPr b="0" lang="en-US" sz="4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92f"/>
                </a:solidFill>
                <a:latin typeface="Corbel"/>
              </a:rPr>
              <a:t>Воздерживаться от употребления табака.</a:t>
            </a:r>
            <a:endParaRPr b="0" lang="en-US" sz="4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95a74"/>
                </a:solidFill>
                <a:latin typeface="Corbel"/>
              </a:rPr>
              <a:t>Географическое  положение</a:t>
            </a:r>
            <a:br>
              <a:rPr sz="2800"/>
            </a:br>
            <a:r>
              <a:rPr b="1" lang="ru-RU" sz="2800" spc="-1" strike="noStrike">
                <a:solidFill>
                  <a:srgbClr val="495a74"/>
                </a:solidFill>
                <a:latin typeface="Corbel"/>
              </a:rPr>
              <a:t> Горьковского района Омской области</a:t>
            </a:r>
            <a:endParaRPr b="0" lang="en-US" sz="28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0" name="Picture 4" descr="C:\Users\NetAsus\Desktop\горьковское\pavlodarovskoe-selskoe-poselenie-9928.jpg"/>
          <p:cNvPicPr/>
          <p:nvPr/>
        </p:nvPicPr>
        <p:blipFill>
          <a:blip r:embed="rId1"/>
          <a:stretch/>
        </p:blipFill>
        <p:spPr>
          <a:xfrm>
            <a:off x="1523880" y="1447920"/>
            <a:ext cx="3208320" cy="4800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Users\NetAsus\Desktop\горьковское\gorkovskoe.jpg"/>
          <p:cNvPicPr/>
          <p:nvPr/>
        </p:nvPicPr>
        <p:blipFill>
          <a:blip r:embed="rId2"/>
          <a:stretch/>
        </p:blipFill>
        <p:spPr>
          <a:xfrm>
            <a:off x="5105520" y="1523880"/>
            <a:ext cx="319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5a74"/>
                </a:solidFill>
                <a:latin typeface="Corbel"/>
              </a:rPr>
              <a:t>Численность населения Горьковского района Омской области</a:t>
            </a:r>
            <a:br>
              <a:rPr sz="3200"/>
            </a:br>
            <a:r>
              <a:rPr b="0" lang="ru-RU" sz="3200" spc="-1" strike="noStrike">
                <a:solidFill>
                  <a:srgbClr val="495a74"/>
                </a:solidFill>
                <a:latin typeface="Corbel"/>
              </a:rPr>
              <a:t> с 2014 года по 2017 год</a:t>
            </a: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orbel"/>
            </a:endParaRPr>
          </a:p>
        </p:txBody>
      </p:sp>
      <p:graphicFrame>
        <p:nvGraphicFramePr>
          <p:cNvPr id="344" name="Диаграмма 3"/>
          <p:cNvGraphicFramePr/>
          <p:nvPr/>
        </p:nvGraphicFramePr>
        <p:xfrm>
          <a:off x="914400" y="1752480"/>
          <a:ext cx="769608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696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Количество зарегистрированных случаев с заболеванием «Сахарный диабет» с 2014 по 2018 годы</a:t>
            </a:r>
            <a:br>
              <a:rPr sz="4000"/>
            </a:b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7" name="Содержимое 3" descr=""/>
          <p:cNvPicPr/>
          <p:nvPr/>
        </p:nvPicPr>
        <p:blipFill>
          <a:blip r:embed="rId1"/>
          <a:stretch/>
        </p:blipFill>
        <p:spPr>
          <a:xfrm>
            <a:off x="863640" y="1015920"/>
            <a:ext cx="80262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5a74"/>
                </a:solidFill>
                <a:latin typeface="Corbel"/>
              </a:rPr>
              <a:t>Количество людей, поставленных на учёт с заболеванием «Сахарный диабет» с 2014 по 2018 годы</a:t>
            </a:r>
            <a:br>
              <a:rPr sz="3200"/>
            </a:b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49" name="Содержимое 3" descr=""/>
          <p:cNvPicPr/>
          <p:nvPr/>
        </p:nvPicPr>
        <p:blipFill>
          <a:blip r:embed="rId1"/>
          <a:stretch/>
        </p:blipFill>
        <p:spPr>
          <a:xfrm>
            <a:off x="1322280" y="1549440"/>
            <a:ext cx="7596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95a7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Количество людей старше 60 лет, поставленных на учёт с заболеванием «Сахарный диабет»</a:t>
            </a:r>
            <a:br>
              <a:rPr sz="2400"/>
            </a:b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 с 2014 по 2018 годы</a:t>
            </a: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51" name="Содержимое 3" descr=""/>
          <p:cNvPicPr/>
          <p:nvPr/>
        </p:nvPicPr>
        <p:blipFill>
          <a:blip r:embed="rId1"/>
          <a:stretch/>
        </p:blipFill>
        <p:spPr>
          <a:xfrm>
            <a:off x="1386000" y="1397160"/>
            <a:ext cx="7596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95a74"/>
                </a:solidFill>
                <a:latin typeface="Corbel"/>
              </a:rPr>
              <a:t>Количество людей, снятых с учёта  заболевания «Сахарный диабет»</a:t>
            </a:r>
            <a:br>
              <a:rPr sz="2800"/>
            </a:br>
            <a:r>
              <a:rPr b="0" lang="ru-RU" sz="2800" spc="-1" strike="noStrike">
                <a:solidFill>
                  <a:srgbClr val="495a74"/>
                </a:solidFill>
                <a:latin typeface="Corbel"/>
              </a:rPr>
              <a:t> с 2014 по 2018 годы</a:t>
            </a:r>
            <a:endParaRPr b="0" lang="en-US" sz="28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53" name="Содержимое 3" descr=""/>
          <p:cNvPicPr/>
          <p:nvPr/>
        </p:nvPicPr>
        <p:blipFill>
          <a:blip r:embed="rId1"/>
          <a:stretch/>
        </p:blipFill>
        <p:spPr>
          <a:xfrm>
            <a:off x="1386000" y="1397160"/>
            <a:ext cx="7596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95a74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495a74"/>
                </a:solidFill>
                <a:latin typeface="Corbel"/>
              </a:rPr>
              <a:t>Общее количество случаев, зарегистрированных с заболеванием «Сахарный диабет» с 2014 по 2018 годы</a:t>
            </a:r>
            <a:endParaRPr b="0" lang="en-US" sz="28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55" name="Содержимое 3" descr=""/>
          <p:cNvPicPr/>
          <p:nvPr/>
        </p:nvPicPr>
        <p:blipFill>
          <a:blip r:embed="rId1"/>
          <a:stretch/>
        </p:blipFill>
        <p:spPr>
          <a:xfrm>
            <a:off x="1414440" y="1238400"/>
            <a:ext cx="7596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5a74"/>
                </a:solidFill>
                <a:latin typeface="Corbel"/>
              </a:rPr>
              <a:t>Относительная частота встречаемости заболевания сахарным диабетом в Горьковском районе Омской области.</a:t>
            </a:r>
            <a:endParaRPr b="0" lang="en-US" sz="2400" spc="-1" strike="noStrike">
              <a:solidFill>
                <a:srgbClr val="495a74"/>
              </a:solidFill>
              <a:latin typeface="Corbe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143000" y="3048120"/>
          <a:ext cx="7499520" cy="3049560"/>
        </p:xfrm>
        <a:graphic>
          <a:graphicData uri="http://schemas.openxmlformats.org/drawingml/2006/table">
            <a:tbl>
              <a:tblPr/>
              <a:tblGrid>
                <a:gridCol w="3809880"/>
                <a:gridCol w="838440"/>
                <a:gridCol w="761760"/>
                <a:gridCol w="685800"/>
                <a:gridCol w="685800"/>
                <a:gridCol w="717840"/>
              </a:tblGrid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Число зарегистрированных случаев (М)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03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044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125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117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Численность населения  (N)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334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29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21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082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20070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Относительная частота встречаемости  (W, %)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72e37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58" name="Rectangle 4"/>
          <p:cNvSpPr/>
          <p:nvPr/>
        </p:nvSpPr>
        <p:spPr>
          <a:xfrm>
            <a:off x="1371600" y="1330920"/>
            <a:ext cx="7086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Arial"/>
                <a:ea typeface="Times New Roman"/>
              </a:rPr>
              <a:t>Относительная частота события – W, вычисляется через отношение числа случаев – М, к численности населения – N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2f"/>
                </a:solidFill>
                <a:latin typeface="Arial"/>
                <a:ea typeface="Times New Roman"/>
              </a:rPr>
              <a:t>W </a:t>
            </a:r>
            <a:r>
              <a:rPr b="1" lang="ru-RU" sz="2800" spc="-1" strike="noStrike">
                <a:solidFill>
                  <a:srgbClr val="00192f"/>
                </a:solidFill>
                <a:latin typeface="Arial"/>
                <a:ea typeface="Times New Roman"/>
              </a:rPr>
              <a:t>= М/N*100%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95a74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495a74"/>
                </a:solidFill>
                <a:latin typeface="Corbel"/>
              </a:rPr>
              <a:t>Сравнение  показателя относительной частоты встречаемости сахарного диабета в Горьковском районе  с общероссийским и областным показателем за 2017 год. </a:t>
            </a:r>
            <a:endParaRPr b="0" lang="en-US" sz="22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60" name="Содержимое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96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Сахарный диабет в мире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2" name="Содержимое 3" descr=""/>
          <p:cNvPicPr/>
          <p:nvPr/>
        </p:nvPicPr>
        <p:blipFill>
          <a:blip r:embed="rId1"/>
          <a:stretch/>
        </p:blipFill>
        <p:spPr>
          <a:xfrm>
            <a:off x="1384200" y="1397160"/>
            <a:ext cx="76010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Выводы: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14300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Выводы: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1) сахарный диабет (СД) – это группа метаболических (обменных) заболеваний, характеризующихся хронической гипергликемией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2) типы сахарного диабета: </a:t>
            </a:r>
            <a:r>
              <a:rPr b="0" lang="en-US" sz="2000" spc="-1" strike="noStrike">
                <a:solidFill>
                  <a:srgbClr val="00192f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 типа, </a:t>
            </a:r>
            <a:r>
              <a:rPr b="0" lang="en-US" sz="2000" spc="-1" strike="noStrike">
                <a:solidFill>
                  <a:srgbClr val="00192f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 типа, гестационный, специфические типы;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3) виды осложнений на фоне сахарного диабета: острые и поздние осложнения; 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4) Численность населения Горьковского района Омской области с 2014 года по 2018  около 20 тыс.человек;  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2f"/>
                </a:solidFill>
                <a:latin typeface="Corbel"/>
              </a:rPr>
              <a:t>5) относительная частота встречаемости сахарного диабета в Горьковском районе Омской области с 2014 по 2017 год повышается от 5 % до 5,6 %, в 2018 – 5,4%.</a:t>
            </a:r>
            <a:endParaRPr b="0" lang="en-US" sz="20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95a74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64" name="Picture 2" descr="C:\Users\NetAsus\Desktop\сах диаб\1456736980_знаменитости с типом 2.jpg"/>
          <p:cNvPicPr/>
          <p:nvPr/>
        </p:nvPicPr>
        <p:blipFill>
          <a:blip r:embed="rId1"/>
          <a:stretch/>
        </p:blipFill>
        <p:spPr>
          <a:xfrm>
            <a:off x="1434960" y="2425680"/>
            <a:ext cx="7499520" cy="2844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NetAsus\Desktop\сах диаб\119.jpg"/>
          <p:cNvPicPr/>
          <p:nvPr/>
        </p:nvPicPr>
        <p:blipFill>
          <a:blip r:embed="rId2"/>
          <a:stretch/>
        </p:blipFill>
        <p:spPr>
          <a:xfrm>
            <a:off x="2971800" y="2971800"/>
            <a:ext cx="18288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95a74"/>
                </a:solidFill>
                <a:latin typeface="Corbel"/>
              </a:rPr>
              <a:t>Цель исследования</a:t>
            </a:r>
            <a:r>
              <a:rPr b="1" lang="ru-RU" sz="2400" spc="-1" strike="noStrike">
                <a:solidFill>
                  <a:srgbClr val="495a74"/>
                </a:solidFill>
                <a:latin typeface="Corbel"/>
              </a:rPr>
              <a:t>: </a:t>
            </a: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выявление относительной частоты встречаемости сахарного диабета среди населения Горьковского района Омской области.</a:t>
            </a: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192f"/>
                </a:solidFill>
                <a:latin typeface="Corbel"/>
              </a:rPr>
              <a:t>Задачи</a:t>
            </a:r>
            <a:r>
              <a:rPr b="1" lang="ru-RU" sz="2200" spc="-1" strike="noStrike">
                <a:solidFill>
                  <a:srgbClr val="00192f"/>
                </a:solidFill>
                <a:latin typeface="Corbel"/>
              </a:rPr>
              <a:t>:</a:t>
            </a:r>
            <a:br>
              <a:rPr sz="2200"/>
            </a:br>
            <a:r>
              <a:rPr b="0" lang="ru-RU" sz="2200" spc="-1" strike="noStrike">
                <a:solidFill>
                  <a:srgbClr val="00192f"/>
                </a:solidFill>
                <a:latin typeface="Corbel"/>
              </a:rPr>
              <a:t>1)  по источникам литературы изучить  основные термины понятия сахарного диабета; типы сахарного диабета; виды осложнений на фоне данного заболевания;</a:t>
            </a: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192f"/>
                </a:solidFill>
                <a:latin typeface="Corbel"/>
              </a:rPr>
              <a:t>2) проанализировать заболеваемость сахарным диабетом в Горьковском районе Омской области с 2014 года по 2018 год;   </a:t>
            </a: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92f"/>
                </a:solidFill>
                <a:latin typeface="Corbel"/>
              </a:rPr>
              <a:t>3)  вычислить относительную частоту встречаемости сахарного диабета среди населения Горьковского района Омской области с 2014 года по 2018 год;</a:t>
            </a: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92f"/>
                </a:solidFill>
                <a:latin typeface="Corbel"/>
              </a:rPr>
              <a:t>4) сделать выводы.</a:t>
            </a: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6" name="Picture 2" descr="C:\Users\NetAsus\Desktop\сах диаб\осложнения.jpg"/>
          <p:cNvPicPr/>
          <p:nvPr/>
        </p:nvPicPr>
        <p:blipFill>
          <a:blip r:embed="rId1"/>
          <a:stretch/>
        </p:blipFill>
        <p:spPr>
          <a:xfrm>
            <a:off x="54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95a74"/>
                </a:solidFill>
                <a:latin typeface="Corbel"/>
              </a:rPr>
              <a:t>Сахарный диабет I тип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28" name="Picture 4" descr="C:\Users\NetAsus\Desktop\сах диаб\Saharnyj-diabet-1-tip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95a74"/>
                </a:solidFill>
                <a:latin typeface="Corbel"/>
              </a:rPr>
              <a:t>Сахарный диабет II тип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30" name="Picture 4" descr="C:\Users\NetAsus\Desktop\сах диаб\img_58d943980af5f.png"/>
          <p:cNvPicPr/>
          <p:nvPr/>
        </p:nvPicPr>
        <p:blipFill>
          <a:blip r:embed="rId1"/>
          <a:stretch/>
        </p:blipFill>
        <p:spPr>
          <a:xfrm>
            <a:off x="4140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95a74"/>
                </a:solidFill>
                <a:latin typeface="Corbel"/>
              </a:rPr>
              <a:t>Гестационный диабет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32" name="Picture 4" descr="C:\Users\NetAsus\Desktop\сах диаб\GestationalDiabetes-e1528442863419.jpg"/>
          <p:cNvPicPr/>
          <p:nvPr/>
        </p:nvPicPr>
        <p:blipFill>
          <a:blip r:embed="rId1"/>
          <a:stretch/>
        </p:blipFill>
        <p:spPr>
          <a:xfrm>
            <a:off x="1584360" y="14479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95a74"/>
                </a:solidFill>
                <a:latin typeface="Corbel"/>
              </a:rPr>
              <a:t>Симптомы сахарного диабета</a:t>
            </a:r>
            <a:br>
              <a:rPr sz="3900"/>
            </a:b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371600" y="860400"/>
          <a:ext cx="7499520" cy="566892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Основные 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(больше для СД </a:t>
                      </a:r>
                      <a:r>
                        <a:rPr b="1" lang="en-US" sz="2400" spc="-1" strike="noStrike">
                          <a:solidFill>
                            <a:srgbClr val="00192f"/>
                          </a:solidFill>
                          <a:latin typeface="Gill Sans MT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типа)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Второстепенные  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(для СД </a:t>
                      </a:r>
                      <a:r>
                        <a:rPr b="1" lang="en-US" sz="2400" spc="-1" strike="noStrike">
                          <a:solidFill>
                            <a:srgbClr val="00192f"/>
                          </a:solidFill>
                          <a:latin typeface="Gill Sans MT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 и</a:t>
                      </a:r>
                      <a:r>
                        <a:rPr b="1" lang="en-US" sz="2400" spc="-1" strike="noStrike">
                          <a:solidFill>
                            <a:srgbClr val="00192f"/>
                          </a:solidFill>
                          <a:latin typeface="Gill Sans MT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типа)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212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олиурия </a:t>
                      </a: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– усиленное выделение мочи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олидипсия </a:t>
                      </a: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– постоянная неутолимая жажда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олифагия</a:t>
                      </a: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 – постоянный неутолимый голод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охудание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Зуд кожи и слизистых оболочек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Сухость во рту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Общая мышечная слабость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Головная боль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Воспалительные поражения кожи, трудно поддающиеся лечению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Нарушение зрения;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Наличие ацетона в моче.</a:t>
                      </a:r>
                      <a:endParaRPr b="0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5a74"/>
                </a:solidFill>
                <a:latin typeface="Corbel"/>
              </a:rPr>
              <a:t>Особенности СД </a:t>
            </a:r>
            <a:r>
              <a:rPr b="1" lang="en-US" sz="3200" spc="-1" strike="noStrike">
                <a:solidFill>
                  <a:srgbClr val="495a74"/>
                </a:solidFill>
                <a:latin typeface="Gill Sans MT"/>
              </a:rPr>
              <a:t>II</a:t>
            </a:r>
            <a:r>
              <a:rPr b="1" lang="ru-RU" sz="3200" spc="-1" strike="noStrike">
                <a:solidFill>
                  <a:srgbClr val="495a74"/>
                </a:solidFill>
                <a:latin typeface="Corbel"/>
              </a:rPr>
              <a:t> типа у лиц пожилого возраста (старше 60 лет)</a:t>
            </a:r>
            <a:endParaRPr b="0" lang="en-US" sz="3200" spc="-1" strike="noStrike">
              <a:solidFill>
                <a:srgbClr val="495a74"/>
              </a:solidFill>
              <a:latin typeface="Corbe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434960" y="1447920"/>
          <a:ext cx="7499520" cy="530388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Клинические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сихосоциальные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21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Бессимптомное течение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Преобладание неспецифических жалоб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Клиническая картина микро- и макроангиопатий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Сочетанная полиорганная патология.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Социальная изоляция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Низкие материальные возможности;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192f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192f"/>
                          </a:solidFill>
                          <a:latin typeface="Corbel"/>
                        </a:rPr>
                        <a:t>Нарушение когнитивных функций.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5:47:19Z</dcterms:created>
  <dc:creator>пк</dc:creator>
  <dc:description/>
  <dc:language>en-US</dc:language>
  <cp:lastModifiedBy>Пользователь</cp:lastModifiedBy>
  <dcterms:modified xsi:type="dcterms:W3CDTF">2020-12-22T18:19:31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