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0C5E-37C6-4854-B378-DBA8C318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4273-E045-476B-A95A-100C8DC9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2DA4-8DFB-4760-B0A6-7378192A9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E581-A775-40F5-95AA-870EBD3C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6023-CF23-4E3D-8783-7F6BC696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45E4-5F9B-4045-ADA7-84324542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A5F6-DC71-46B5-B8CF-CD1B25B7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1FC4-8AE3-4A66-B0B8-0411EC87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C6F4-DE51-48FA-BDD7-E92E41D7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C406-FD63-41C5-B5D5-8155CF05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E3FD-E043-4F9B-B59B-AC9BF904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1AB4-CB9A-4785-AF3C-1B207453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7EA6-CF2C-4D39-9367-504AFEE2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3DD3-E340-4899-A0C4-4EE70A3B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6F46-3F55-45B5-BFB5-795AAA60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A7B0-DC4D-4476-8BDE-C82370EA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B336-C1EF-4328-9F3D-C7B5EFC6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7BB7A-5634-4720-8534-E1196387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FA434-2BB5-465C-8715-03857B5B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B043A-1189-496C-BF5F-58A3B2E3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194B8-86D9-4DDD-A814-A2D2933B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BF304-FA32-46E3-969E-8C53D28E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D59A-6215-4346-9F0E-5F31C7C5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FFA00-E693-4F4B-A6E7-13A48FCE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BFCEB-3E36-4DBD-AC5C-4F99DFEC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C267C-14D3-4325-9861-C84291A7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96535-C925-4DA1-A77E-231B2D1B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ED553-F5A7-4083-A970-6AAD3383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8EF48-47B7-4446-9487-3F11B4E5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014D7-E401-4994-B4E7-A4227B7E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C1674-6A5B-4129-BE37-E6FECBF3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E1D9F-4008-4E5A-AC60-6A9E055A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CC9A1-7898-4357-891D-801FA499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32E1-F8F8-4F3F-8B06-E13A5540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9D871-12D9-41B0-A8B5-7EC9D84F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90CB6-7792-437B-9879-6C3A4E26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85F9C-9B21-44BC-9CD6-0687E66D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6749A-1E2F-4A18-9645-11AE99C8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F44B6-118E-4E26-8E86-EB17CE9D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2A49B-ABBB-4304-9651-09F2B50F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0BB37-5B64-40EA-8374-CAF73205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2D5F4-A2C2-4D14-B4EE-D2B1CAE8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F0F19-DA80-4B02-A64D-B136113A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994ED-D81E-4019-8BC8-F65C2F35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0D2-3963-45EF-BEEF-8DD8F417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E6CA5-CD2F-40DC-BAD8-A6786130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C24A4-973E-4852-AA52-85D87087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85E69-0C6F-4802-B5BF-E7AB258D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CEE2C-9045-4917-A362-D01E72DA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3233D-DD36-41B4-A900-DE8CFEB8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CAA20-D533-46C8-9B5C-1383CFAD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E7084-DF85-4CB3-88F3-A1708B75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63179-B0C7-4CFD-94B3-D6615B4C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ECE67-82C8-46BE-92D0-FE548633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092CD-EAB0-4240-A822-8563918E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45FB-3684-4A37-B8A5-485C3FE9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4B7CF-64C1-46EB-A545-AA65FBD8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134A9-BA32-4AF4-9CF0-D183747C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67530-9491-41DE-BCC3-F5661219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94B0A-7218-4A3A-AB49-E4010BCC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E667A-847F-4788-B239-6617207C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8E5CA-E9AD-41A3-B9F0-DB4FE325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66154-7F32-4C8A-8EDE-50FB1B29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5E95A-D629-4FD6-AE40-95486649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CED75-FA97-470E-86AA-E9DF714F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3D89D-EF66-47DD-80EE-80B1AC22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7836-805B-478F-9DB2-C91D4847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E0AFA-ADE1-417B-AAC4-A9048EF7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90EBC-FCFB-4301-9272-F6303E11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91968-26B8-4780-8DB7-5923C39A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FC825-A584-484A-9892-EC57F896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9B5C4-F252-4759-AC7B-C25725BC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0065C-0568-404C-BE3B-8CB99305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4887F-F753-4A87-850A-849DD38B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42229-5BD8-42A4-8E5E-28AD3741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76285-EFCD-407B-88DD-05694F4F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71E61-7182-4E8D-930E-9FA35C16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F501-7F9A-4A17-BEAC-73C59CCA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006A5-5A39-48FE-8584-0EABFA42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6F179-C4F4-40B8-87F4-61D5E453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8ABC9-AF26-427A-94BE-80A776A7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0970A-0156-4D2C-B89F-3E6772B7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A7CA9-58D1-4044-BAC2-93634D5E3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275C-91AE-4424-9938-F076A372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EE9D-3176-4D0B-B846-D4009597CF68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93A5-C547-460C-875B-6083FDAB95E2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3CE8-6F14-440B-A6F3-CAEF9F0D7AF1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7900-CDCA-4EFF-8419-2EC04F43F0F4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D2C5-CD10-4792-9358-885791B8A348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F1A3-57C2-42A3-940B-E778AEF3191B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9e3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6ec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38E5-53A3-4CF2-A457-1CD1A44887D4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830592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Горьковская средняя общеобразовательная школа №2»</a:t>
            </a:r>
            <a:br>
              <a:rPr sz="18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ндивидуальный проект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1800"/>
            </a:br>
            <a:br>
              <a:rPr sz="18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«Относительная частота встречаемости сахарного диабета среди населения  Горьковского района Омской области»</a:t>
            </a:r>
            <a:endParaRPr b="0" lang="en-US" sz="22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971800" y="4038120"/>
            <a:ext cx="6019920" cy="2590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втор проект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азова Мадина Мейрамовн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еница  11 класс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уководитель проекта:</a:t>
            </a:r>
            <a:endParaRPr b="0" lang="en-US" sz="1600" spc="-1" strike="noStrike">
              <a:solidFill>
                <a:srgbClr val="ff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азова Гульмира Базарбаевн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итель биологии и химии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.п. Горьковское – 202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600" spc="-1" strike="noStrike">
              <a:solidFill>
                <a:srgbClr val="ff0000"/>
              </a:solidFill>
              <a:latin typeface="Corbel"/>
            </a:endParaRPr>
          </a:p>
        </p:txBody>
      </p:sp>
      <p:pic>
        <p:nvPicPr>
          <p:cNvPr id="320" name="Picture 4" descr="C:\Users\NetAsus\Desktop\сах диаб\диабет-фото.jpg"/>
          <p:cNvPicPr/>
          <p:nvPr/>
        </p:nvPicPr>
        <p:blipFill>
          <a:blip r:embed="rId1"/>
          <a:stretch/>
        </p:blipFill>
        <p:spPr>
          <a:xfrm>
            <a:off x="914400" y="3701880"/>
            <a:ext cx="4114800" cy="27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95a74"/>
                </a:solidFill>
                <a:latin typeface="Corbel"/>
              </a:rPr>
              <a:t>Профилактика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192f"/>
                </a:solidFill>
                <a:latin typeface="Corbel"/>
              </a:rPr>
              <a:t>Добиться здорового веса;</a:t>
            </a:r>
            <a:endParaRPr b="0" lang="en-US" sz="40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192f"/>
                </a:solidFill>
                <a:latin typeface="Corbel"/>
              </a:rPr>
              <a:t>Быть физически активным;</a:t>
            </a:r>
            <a:endParaRPr b="0" lang="en-US" sz="40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192f"/>
                </a:solidFill>
                <a:latin typeface="Corbel"/>
              </a:rPr>
              <a:t>Придерживаться здорового питания;</a:t>
            </a:r>
            <a:endParaRPr b="0" lang="en-US" sz="40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192f"/>
                </a:solidFill>
                <a:latin typeface="Corbel"/>
              </a:rPr>
              <a:t>Воздерживаться от употребления табака.</a:t>
            </a:r>
            <a:endParaRPr b="0" lang="en-US" sz="40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5a74"/>
                </a:solidFill>
                <a:latin typeface="Corbel"/>
              </a:rPr>
              <a:t>Географическое  положение</a:t>
            </a:r>
            <a:br>
              <a:rPr sz="2800"/>
            </a:br>
            <a:r>
              <a:rPr b="1" lang="ru-RU" sz="2800" spc="-1" strike="noStrike">
                <a:solidFill>
                  <a:srgbClr val="495a74"/>
                </a:solidFill>
                <a:latin typeface="Corbel"/>
              </a:rPr>
              <a:t> Горьковского района Омской области</a:t>
            </a:r>
            <a:endParaRPr b="0" lang="en-US" sz="28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40" name="Picture 4" descr="C:\Users\NetAsus\Desktop\горьковское\pavlodarovskoe-selskoe-poselenie-9928.jpg"/>
          <p:cNvPicPr/>
          <p:nvPr/>
        </p:nvPicPr>
        <p:blipFill>
          <a:blip r:embed="rId1"/>
          <a:stretch/>
        </p:blipFill>
        <p:spPr>
          <a:xfrm>
            <a:off x="1523880" y="1447920"/>
            <a:ext cx="3208320" cy="48006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C:\Users\NetAsus\Desktop\горьковское\gorkovskoe.jpg"/>
          <p:cNvPicPr/>
          <p:nvPr/>
        </p:nvPicPr>
        <p:blipFill>
          <a:blip r:embed="rId2"/>
          <a:stretch/>
        </p:blipFill>
        <p:spPr>
          <a:xfrm>
            <a:off x="5105520" y="1523880"/>
            <a:ext cx="3190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95a74"/>
                </a:solidFill>
                <a:latin typeface="Corbel"/>
              </a:rPr>
              <a:t>Численность населения Горьковского района Омской области</a:t>
            </a:r>
            <a:br>
              <a:rPr sz="3200"/>
            </a:br>
            <a:r>
              <a:rPr b="0" lang="ru-RU" sz="3200" spc="-1" strike="noStrike">
                <a:solidFill>
                  <a:srgbClr val="495a74"/>
                </a:solidFill>
                <a:latin typeface="Corbel"/>
              </a:rPr>
              <a:t> с 2014 года по 2017 год</a:t>
            </a:r>
            <a:endParaRPr b="0" lang="en-US" sz="32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graphicFrame>
        <p:nvGraphicFramePr>
          <p:cNvPr id="344" name="Диаграмма 3"/>
          <p:cNvGraphicFramePr/>
          <p:nvPr/>
        </p:nvGraphicFramePr>
        <p:xfrm>
          <a:off x="914400" y="1752480"/>
          <a:ext cx="7696080" cy="449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5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69608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95a74"/>
                </a:solidFill>
                <a:latin typeface="Corbel"/>
              </a:rPr>
              <a:t>Количество зарегистрированных случаев с заболеванием «Сахарный диабет» с 2014 по 2018 годы</a:t>
            </a:r>
            <a:br>
              <a:rPr sz="4000"/>
            </a:br>
            <a:endParaRPr b="0" lang="en-US" sz="24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47" name="Содержимое 3" descr=""/>
          <p:cNvPicPr/>
          <p:nvPr/>
        </p:nvPicPr>
        <p:blipFill>
          <a:blip r:embed="rId1"/>
          <a:stretch/>
        </p:blipFill>
        <p:spPr>
          <a:xfrm>
            <a:off x="863640" y="1015920"/>
            <a:ext cx="802620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95a74"/>
                </a:solidFill>
                <a:latin typeface="Corbel"/>
              </a:rPr>
              <a:t>Количество людей, поставленных на учёт с заболеванием «Сахарный диабет» с 2014 по 2018 годы</a:t>
            </a:r>
            <a:br>
              <a:rPr sz="3200"/>
            </a:br>
            <a:endParaRPr b="0" lang="en-US" sz="32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49" name="Содержимое 3" descr=""/>
          <p:cNvPicPr/>
          <p:nvPr/>
        </p:nvPicPr>
        <p:blipFill>
          <a:blip r:embed="rId1"/>
          <a:stretch/>
        </p:blipFill>
        <p:spPr>
          <a:xfrm>
            <a:off x="1322280" y="1549440"/>
            <a:ext cx="759636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95a74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495a74"/>
                </a:solidFill>
                <a:latin typeface="Corbel"/>
              </a:rPr>
              <a:t>Количество людей старше 60 лет, поставленных на учёт с заболеванием «Сахарный диабет»</a:t>
            </a:r>
            <a:br>
              <a:rPr sz="2400"/>
            </a:br>
            <a:r>
              <a:rPr b="0" lang="ru-RU" sz="2400" spc="-1" strike="noStrike">
                <a:solidFill>
                  <a:srgbClr val="495a74"/>
                </a:solidFill>
                <a:latin typeface="Corbel"/>
              </a:rPr>
              <a:t> с 2014 по 2018 годы</a:t>
            </a:r>
            <a:endParaRPr b="0" lang="en-US" sz="24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51" name="Содержимое 3" descr=""/>
          <p:cNvPicPr/>
          <p:nvPr/>
        </p:nvPicPr>
        <p:blipFill>
          <a:blip r:embed="rId1"/>
          <a:stretch/>
        </p:blipFill>
        <p:spPr>
          <a:xfrm>
            <a:off x="1386000" y="1397160"/>
            <a:ext cx="75960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95a74"/>
                </a:solidFill>
                <a:latin typeface="Corbel"/>
              </a:rPr>
              <a:t>Количество людей, снятых с учёта  заболевания «Сахарный диабет»</a:t>
            </a:r>
            <a:br>
              <a:rPr sz="2800"/>
            </a:br>
            <a:r>
              <a:rPr b="0" lang="ru-RU" sz="2800" spc="-1" strike="noStrike">
                <a:solidFill>
                  <a:srgbClr val="495a74"/>
                </a:solidFill>
                <a:latin typeface="Corbel"/>
              </a:rPr>
              <a:t> с 2014 по 2018 годы</a:t>
            </a:r>
            <a:endParaRPr b="0" lang="en-US" sz="28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53" name="Содержимое 3" descr=""/>
          <p:cNvPicPr/>
          <p:nvPr/>
        </p:nvPicPr>
        <p:blipFill>
          <a:blip r:embed="rId1"/>
          <a:stretch/>
        </p:blipFill>
        <p:spPr>
          <a:xfrm>
            <a:off x="1386000" y="1397160"/>
            <a:ext cx="75960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95a74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495a74"/>
                </a:solidFill>
                <a:latin typeface="Corbel"/>
              </a:rPr>
              <a:t>Общее количество случаев, зарегистрированных с заболеванием «Сахарный диабет» с 2014 по 2018 годы</a:t>
            </a:r>
            <a:endParaRPr b="0" lang="en-US" sz="28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55" name="Содержимое 3" descr=""/>
          <p:cNvPicPr/>
          <p:nvPr/>
        </p:nvPicPr>
        <p:blipFill>
          <a:blip r:embed="rId1"/>
          <a:stretch/>
        </p:blipFill>
        <p:spPr>
          <a:xfrm>
            <a:off x="1414440" y="1238400"/>
            <a:ext cx="759636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5a74"/>
                </a:solidFill>
                <a:latin typeface="Corbel"/>
              </a:rPr>
              <a:t>Относительная частота встречаемости заболевания сахарным диабетом в Горьковском районе Омской области.</a:t>
            </a:r>
            <a:endParaRPr b="0" lang="en-US" sz="2400" spc="-1" strike="noStrike">
              <a:solidFill>
                <a:srgbClr val="495a74"/>
              </a:solidFill>
              <a:latin typeface="Corbe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143000" y="3048120"/>
          <a:ext cx="7499520" cy="3049560"/>
        </p:xfrm>
        <a:graphic>
          <a:graphicData uri="http://schemas.openxmlformats.org/drawingml/2006/table">
            <a:tbl>
              <a:tblPr/>
              <a:tblGrid>
                <a:gridCol w="3809880"/>
                <a:gridCol w="838440"/>
                <a:gridCol w="761760"/>
                <a:gridCol w="685800"/>
                <a:gridCol w="685800"/>
                <a:gridCol w="717840"/>
              </a:tblGrid>
              <a:tr h="677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Год 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677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Число зарегистрированных случаев (М)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1030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1044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1125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1117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01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Численность населения  (N)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20334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20290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20210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20082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20070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77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Относительная частота встречаемости  (W, %)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358" name="Rectangle 4"/>
          <p:cNvSpPr/>
          <p:nvPr/>
        </p:nvSpPr>
        <p:spPr>
          <a:xfrm>
            <a:off x="1371600" y="1330920"/>
            <a:ext cx="7086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2f"/>
                </a:solidFill>
                <a:latin typeface="Arial"/>
                <a:ea typeface="Times New Roman"/>
              </a:rPr>
              <a:t>Относительная частота события – W, вычисляется через отношение числа случаев – М, к численности населения – N.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2f"/>
                </a:solidFill>
                <a:latin typeface="Arial"/>
                <a:ea typeface="Times New Roman"/>
              </a:rPr>
              <a:t>W </a:t>
            </a:r>
            <a:r>
              <a:rPr b="1" lang="ru-RU" sz="2800" spc="-1" strike="noStrike">
                <a:solidFill>
                  <a:srgbClr val="00192f"/>
                </a:solidFill>
                <a:latin typeface="Arial"/>
                <a:ea typeface="Times New Roman"/>
              </a:rPr>
              <a:t>= М/N*100%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95a74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495a74"/>
                </a:solidFill>
                <a:latin typeface="Corbel"/>
              </a:rPr>
              <a:t>Сравнение  показателя относительной частоты встречаемости сахарного диабета в Горьковском районе  с общероссийским и областным показателем за 2017 год. </a:t>
            </a:r>
            <a:endParaRPr b="0" lang="en-US" sz="22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60" name="Содержимое 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59636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Сахарный диабет в мире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22" name="Содержимое 3" descr=""/>
          <p:cNvPicPr/>
          <p:nvPr/>
        </p:nvPicPr>
        <p:blipFill>
          <a:blip r:embed="rId1"/>
          <a:stretch/>
        </p:blipFill>
        <p:spPr>
          <a:xfrm>
            <a:off x="1384200" y="1397160"/>
            <a:ext cx="760104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Выводы: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143000"/>
            <a:ext cx="7499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2f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192f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192f"/>
                </a:solidFill>
                <a:latin typeface="Corbel"/>
              </a:rPr>
              <a:t>Выводы:</a:t>
            </a:r>
            <a:endParaRPr b="0" lang="en-US" sz="20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2f"/>
                </a:solidFill>
                <a:latin typeface="Corbel"/>
              </a:rPr>
              <a:t>1) сахарный диабет (СД) – это группа метаболических (обменных) заболеваний, характеризующихся хронической гипергликемией</a:t>
            </a:r>
            <a:endParaRPr b="0" lang="en-US" sz="20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2f"/>
                </a:solidFill>
                <a:latin typeface="Corbel"/>
              </a:rPr>
              <a:t>2) типы сахарного диабета: </a:t>
            </a:r>
            <a:r>
              <a:rPr b="0" lang="en-US" sz="2000" spc="-1" strike="noStrike">
                <a:solidFill>
                  <a:srgbClr val="00192f"/>
                </a:solidFill>
                <a:latin typeface="Gill Sans MT"/>
              </a:rPr>
              <a:t>I</a:t>
            </a:r>
            <a:r>
              <a:rPr b="0" lang="ru-RU" sz="2000" spc="-1" strike="noStrike">
                <a:solidFill>
                  <a:srgbClr val="00192f"/>
                </a:solidFill>
                <a:latin typeface="Corbel"/>
              </a:rPr>
              <a:t> типа, </a:t>
            </a:r>
            <a:r>
              <a:rPr b="0" lang="en-US" sz="2000" spc="-1" strike="noStrike">
                <a:solidFill>
                  <a:srgbClr val="00192f"/>
                </a:solidFill>
                <a:latin typeface="Gill Sans MT"/>
              </a:rPr>
              <a:t>II</a:t>
            </a:r>
            <a:r>
              <a:rPr b="0" lang="ru-RU" sz="2000" spc="-1" strike="noStrike">
                <a:solidFill>
                  <a:srgbClr val="00192f"/>
                </a:solidFill>
                <a:latin typeface="Corbel"/>
              </a:rPr>
              <a:t> типа, гестационный, специфические типы;</a:t>
            </a:r>
            <a:endParaRPr b="0" lang="en-US" sz="20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2f"/>
                </a:solidFill>
                <a:latin typeface="Corbel"/>
              </a:rPr>
              <a:t>3) виды осложнений на фоне сахарного диабета: острые и поздние осложнения; </a:t>
            </a:r>
            <a:endParaRPr b="0" lang="en-US" sz="20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2f"/>
                </a:solidFill>
                <a:latin typeface="Corbel"/>
              </a:rPr>
              <a:t>4) Численность населения Горьковского района Омской области с 2014 года по 2018  около 20 тыс.человек;  </a:t>
            </a:r>
            <a:endParaRPr b="0" lang="en-US" sz="20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2f"/>
                </a:solidFill>
                <a:latin typeface="Corbel"/>
              </a:rPr>
              <a:t>5) относительная частота встречаемости сахарного диабета в Горьковском районе Омской области с 2014 по 2017 год повышается от 5 % до 5,6 %, в 2018 – 5,4%.</a:t>
            </a:r>
            <a:endParaRPr b="0" lang="en-US" sz="2000" spc="-1" strike="noStrike">
              <a:solidFill>
                <a:srgbClr val="ff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95a74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64" name="Picture 2" descr="C:\Users\NetAsus\Desktop\сах диаб\1456736980_знаменитости с типом 2.jpg"/>
          <p:cNvPicPr/>
          <p:nvPr/>
        </p:nvPicPr>
        <p:blipFill>
          <a:blip r:embed="rId1"/>
          <a:stretch/>
        </p:blipFill>
        <p:spPr>
          <a:xfrm>
            <a:off x="1434960" y="2425680"/>
            <a:ext cx="7499520" cy="2844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C:\Users\NetAsus\Desktop\сах диаб\119.jpg"/>
          <p:cNvPicPr/>
          <p:nvPr/>
        </p:nvPicPr>
        <p:blipFill>
          <a:blip r:embed="rId2"/>
          <a:stretch/>
        </p:blipFill>
        <p:spPr>
          <a:xfrm>
            <a:off x="2971800" y="2971800"/>
            <a:ext cx="18288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95a74"/>
                </a:solidFill>
                <a:latin typeface="Corbel"/>
              </a:rPr>
              <a:t>Цель исследования</a:t>
            </a:r>
            <a:r>
              <a:rPr b="1" lang="ru-RU" sz="2400" spc="-1" strike="noStrike">
                <a:solidFill>
                  <a:srgbClr val="495a74"/>
                </a:solidFill>
                <a:latin typeface="Corbel"/>
              </a:rPr>
              <a:t>: </a:t>
            </a:r>
            <a:r>
              <a:rPr b="0" lang="ru-RU" sz="2400" spc="-1" strike="noStrike">
                <a:solidFill>
                  <a:srgbClr val="495a74"/>
                </a:solidFill>
                <a:latin typeface="Corbel"/>
              </a:rPr>
              <a:t>выявление относительной частоты встречаемости сахарного диабета среди населения Горьковского района Омской области.</a:t>
            </a:r>
            <a:r>
              <a:rPr b="0" lang="ru-RU" sz="3900" spc="-1" strike="noStrike">
                <a:solidFill>
                  <a:srgbClr val="495a74"/>
                </a:solidFill>
                <a:latin typeface="Corbel"/>
              </a:rPr>
              <a:t>	</a:t>
            </a: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192f"/>
                </a:solidFill>
                <a:latin typeface="Corbel"/>
              </a:rPr>
              <a:t>Задачи</a:t>
            </a:r>
            <a:r>
              <a:rPr b="1" lang="ru-RU" sz="2200" spc="-1" strike="noStrike">
                <a:solidFill>
                  <a:srgbClr val="00192f"/>
                </a:solidFill>
                <a:latin typeface="Corbel"/>
              </a:rPr>
              <a:t>:</a:t>
            </a:r>
            <a:br>
              <a:rPr sz="2200"/>
            </a:br>
            <a:r>
              <a:rPr b="0" lang="ru-RU" sz="2200" spc="-1" strike="noStrike">
                <a:solidFill>
                  <a:srgbClr val="00192f"/>
                </a:solidFill>
                <a:latin typeface="Corbel"/>
              </a:rPr>
              <a:t>1)  по источникам литературы изучить  основные термины понятия сахарного диабета; типы сахарного диабета; виды осложнений на фоне данного заболевания;</a:t>
            </a:r>
            <a:endParaRPr b="0" lang="en-US" sz="22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192f"/>
                </a:solidFill>
                <a:latin typeface="Corbel"/>
              </a:rPr>
              <a:t>2) проанализировать заболеваемость сахарным диабетом в Горьковском районе Омской области с 2014 года по 2018 год;   </a:t>
            </a:r>
            <a:endParaRPr b="0" lang="en-US" sz="22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92f"/>
                </a:solidFill>
                <a:latin typeface="Corbel"/>
              </a:rPr>
              <a:t>3)  вычислить относительную частоту встречаемости сахарного диабета среди населения Горьковского района Омской области с 2014 года по 2018 год;</a:t>
            </a:r>
            <a:endParaRPr b="0" lang="en-US" sz="22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92f"/>
                </a:solidFill>
                <a:latin typeface="Corbel"/>
              </a:rPr>
              <a:t>4) сделать выводы.</a:t>
            </a:r>
            <a:endParaRPr b="0" lang="en-US" sz="22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26" name="Picture 2" descr="C:\Users\NetAsus\Desktop\сах диаб\осложнения.jpg"/>
          <p:cNvPicPr/>
          <p:nvPr/>
        </p:nvPicPr>
        <p:blipFill>
          <a:blip r:embed="rId1"/>
          <a:stretch/>
        </p:blipFill>
        <p:spPr>
          <a:xfrm>
            <a:off x="5400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95a74"/>
                </a:solidFill>
                <a:latin typeface="Corbel"/>
              </a:rPr>
              <a:t>Сахарный диабет I типа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28" name="Picture 4" descr="C:\Users\NetAsus\Desktop\сах диаб\Saharnyj-diabet-1-tip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95a74"/>
                </a:solidFill>
                <a:latin typeface="Corbel"/>
              </a:rPr>
              <a:t>Сахарный диабет II типа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30" name="Picture 4" descr="C:\Users\NetAsus\Desktop\сах диаб\img_58d943980af5f.png"/>
          <p:cNvPicPr/>
          <p:nvPr/>
        </p:nvPicPr>
        <p:blipFill>
          <a:blip r:embed="rId1"/>
          <a:stretch/>
        </p:blipFill>
        <p:spPr>
          <a:xfrm>
            <a:off x="41400" y="0"/>
            <a:ext cx="910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95a74"/>
                </a:solidFill>
                <a:latin typeface="Corbel"/>
              </a:rPr>
              <a:t>Гестационный диабет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32" name="Picture 4" descr="C:\Users\NetAsus\Desktop\сах диаб\GestationalDiabetes-e1528442863419.jpg"/>
          <p:cNvPicPr/>
          <p:nvPr/>
        </p:nvPicPr>
        <p:blipFill>
          <a:blip r:embed="rId1"/>
          <a:stretch/>
        </p:blipFill>
        <p:spPr>
          <a:xfrm>
            <a:off x="1584360" y="1447920"/>
            <a:ext cx="7200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495a74"/>
                </a:solidFill>
                <a:latin typeface="Corbel"/>
              </a:rPr>
              <a:t>Симптомы сахарного диабета</a:t>
            </a:r>
            <a:br>
              <a:rPr sz="3900"/>
            </a:b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371600" y="860400"/>
          <a:ext cx="7499520" cy="5668920"/>
        </p:xfrm>
        <a:graphic>
          <a:graphicData uri="http://schemas.openxmlformats.org/drawingml/2006/table">
            <a:tbl>
              <a:tblPr/>
              <a:tblGrid>
                <a:gridCol w="3749760"/>
                <a:gridCol w="37497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Основные 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(больше для СД </a:t>
                      </a:r>
                      <a:r>
                        <a:rPr b="1" lang="en-US" sz="2400" spc="-1" strike="noStrike">
                          <a:solidFill>
                            <a:srgbClr val="00192f"/>
                          </a:solidFill>
                          <a:latin typeface="Gill Sans MT"/>
                        </a:rPr>
                        <a:t>I</a:t>
                      </a:r>
                      <a:r>
                        <a:rPr b="1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типа)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Второстепенные  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(для СД </a:t>
                      </a:r>
                      <a:r>
                        <a:rPr b="1" lang="en-US" sz="2400" spc="-1" strike="noStrike">
                          <a:solidFill>
                            <a:srgbClr val="00192f"/>
                          </a:solidFill>
                          <a:latin typeface="Gill Sans MT"/>
                        </a:rPr>
                        <a:t>I</a:t>
                      </a:r>
                      <a:r>
                        <a:rPr b="1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 и</a:t>
                      </a:r>
                      <a:r>
                        <a:rPr b="1" lang="en-US" sz="2400" spc="-1" strike="noStrike">
                          <a:solidFill>
                            <a:srgbClr val="00192f"/>
                          </a:solidFill>
                          <a:latin typeface="Gill Sans MT"/>
                        </a:rPr>
                        <a:t>II</a:t>
                      </a:r>
                      <a:r>
                        <a:rPr b="1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типа)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5212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Полиурия </a:t>
                      </a:r>
                      <a:r>
                        <a:rPr b="0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– усиленное выделение мочи;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Полидипсия </a:t>
                      </a:r>
                      <a:r>
                        <a:rPr b="0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– постоянная неутолимая жажда;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Полифагия</a:t>
                      </a:r>
                      <a:r>
                        <a:rPr b="0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 – постоянный неутолимый голод;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Похудание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Зуд кожи и слизистых оболочек;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Сухость во рту;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Общая мышечная слабость;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Головная боль;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Воспалительные поражения кожи, трудно поддающиеся лечению;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Нарушение зрения;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Наличие ацетона в моче.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95a74"/>
                </a:solidFill>
                <a:latin typeface="Corbel"/>
              </a:rPr>
              <a:t>Особенности СД </a:t>
            </a:r>
            <a:r>
              <a:rPr b="1" lang="en-US" sz="3200" spc="-1" strike="noStrike">
                <a:solidFill>
                  <a:srgbClr val="495a74"/>
                </a:solidFill>
                <a:latin typeface="Gill Sans MT"/>
              </a:rPr>
              <a:t>II</a:t>
            </a:r>
            <a:r>
              <a:rPr b="1" lang="ru-RU" sz="3200" spc="-1" strike="noStrike">
                <a:solidFill>
                  <a:srgbClr val="495a74"/>
                </a:solidFill>
                <a:latin typeface="Corbel"/>
              </a:rPr>
              <a:t> типа у лиц пожилого возраста (старше 60 лет)</a:t>
            </a:r>
            <a:endParaRPr b="0" lang="en-US" sz="3200" spc="-1" strike="noStrike">
              <a:solidFill>
                <a:srgbClr val="495a74"/>
              </a:solidFill>
              <a:latin typeface="Corbe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434960" y="1447920"/>
          <a:ext cx="7499520" cy="5303880"/>
        </p:xfrm>
        <a:graphic>
          <a:graphicData uri="http://schemas.openxmlformats.org/drawingml/2006/table">
            <a:tbl>
              <a:tblPr/>
              <a:tblGrid>
                <a:gridCol w="3749760"/>
                <a:gridCol w="3749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Клинические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Психосоциальные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5211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Бессимптомное течение;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Преобладание неспецифических жалоб;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Клиническая картина микро- и макроангиопатий;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Сочетанная полиорганная патология.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Социальная изоляция;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Низкие материальные возможности;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Нарушение когнитивных функций.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9T15:47:19Z</dcterms:created>
  <dc:creator>пк</dc:creator>
  <dc:description/>
  <dc:language>en-US</dc:language>
  <cp:lastModifiedBy>Пользователь</cp:lastModifiedBy>
  <dcterms:modified xsi:type="dcterms:W3CDTF">2020-12-22T18:19:31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