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78F3-F205-4E38-9502-4179B922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684-F8C7-4A08-A67C-E6414A49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02EA-3505-4FC1-BA95-C95E07FA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B80-A278-4DB0-90FA-212F0EBE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B93-6C37-4DFE-B1EB-33AD9630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FFC-746F-4876-9912-3DDAAFF6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B53-1884-4857-AC79-E0FD37A0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D4A-A252-411E-9590-97128B0B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7F18-17FE-4BB8-91B3-403627E6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631B-32FE-4C06-A15C-EF962DF7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013-F90C-4BA1-BF22-7177893C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43A8-78B9-41E1-9705-5A3BEBDC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1E84-FFC2-4384-BF15-A15FAD7878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Users\Андрей\Pictures\Мои рисунки\книги\0_b4158_98a19034_L.png"/>
          <p:cNvPicPr/>
          <p:nvPr/>
        </p:nvPicPr>
        <p:blipFill>
          <a:blip r:embed="rId1"/>
          <a:stretch/>
        </p:blipFill>
        <p:spPr>
          <a:xfrm>
            <a:off x="12600" y="-100080"/>
            <a:ext cx="9145800" cy="67089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108000" y="200160"/>
            <a:ext cx="903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f81bd"/>
                </a:solidFill>
                <a:latin typeface="Calibri"/>
              </a:rPr>
              <a:t>ПИШЕМ СОЧИНЕНИЕ – РАССУЖДЕНИЕ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f81bd"/>
                </a:solidFill>
                <a:latin typeface="Calibri"/>
              </a:rPr>
              <a:t>О МЕСТОИМЕНИ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6" descr=""/>
          <p:cNvPicPr/>
          <p:nvPr/>
        </p:nvPicPr>
        <p:blipFill>
          <a:blip r:embed="rId2"/>
          <a:stretch/>
        </p:blipFill>
        <p:spPr>
          <a:xfrm>
            <a:off x="384120" y="1341360"/>
            <a:ext cx="4870440" cy="5529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10) Охотник вышел к реке, в которой купались медвежа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95280" y="213372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обратимся к предложению № 10. Оно сложноподчинённое. Для связи главного и придаточного предложений использовано относительное местоимение «в которой», заменяющее слово « в реке». Таким образом, местоимение является средством связи простых предложений в составе сложного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928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8) А иногда в дневные часы, когда мало зрителей, мог даже товарища провести, а то и двух. (9) Эта привилегия была основой могущества Глебова в классе. (10) Он пользовался ею расчётливо и умно: приглашал мальчиков, в дружбе которых был заинтересов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стоимения служат средством связи предложений  в тексте. Например, предложение № 9 связано с предыдущим с помощью указательного местоимения «эт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же такое небольшое исследование текста убеждает нас в том, что  А. А. Реформатский абсолютно прав, говоря о том, что местоимения важны в тексте. Как слова-заменители, они делают нашу речь правильной, красив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Объект 2" descr=""/>
          <p:cNvPicPr/>
          <p:nvPr/>
        </p:nvPicPr>
        <p:blipFill>
          <a:blip r:embed="rId1"/>
          <a:stretch/>
        </p:blipFill>
        <p:spPr>
          <a:xfrm>
            <a:off x="476280" y="12600"/>
            <a:ext cx="8588520" cy="678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Андрей\Pictures\Мои рисунки\school\63136665_5f8350820dd8.png"/>
          <p:cNvPicPr/>
          <p:nvPr/>
        </p:nvPicPr>
        <p:blipFill>
          <a:blip r:embed="rId1"/>
          <a:stretch/>
        </p:blipFill>
        <p:spPr>
          <a:xfrm>
            <a:off x="684360" y="620640"/>
            <a:ext cx="793584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2" descr=""/>
          <p:cNvPicPr/>
          <p:nvPr/>
        </p:nvPicPr>
        <p:blipFill>
          <a:blip r:embed="rId1"/>
          <a:stretch/>
        </p:blipFill>
        <p:spPr>
          <a:xfrm>
            <a:off x="274680" y="438120"/>
            <a:ext cx="8674200" cy="568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457200" y="6480"/>
            <a:ext cx="8229600" cy="1414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 предложения может быть таки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Я (полностью) согласен с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Не могу не согласиться с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Я разделяю точку зрения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Я поддерживаю мнение </a:t>
            </a: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йте глаголы: (Автор)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считает, утверждает, писал, убеждает на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одные конструкции: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По мнению…, По словам…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оказательства + При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привести 2 пример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 должны быть из указанного текс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 должны соответствовать рассуждению на теоретическом уровн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указать роль примеров в тек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ш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-первых,……. Например, в предложении № 5  автор использует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-вторых, ……… Например, 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3. Заключение (вывод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ение так же, как и вступление, не должно превышать по объёму основную часть сочи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заключения — подвести итог, обобщить сказанн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должен быть логически связан с предыдущим изложением и  не должен противоречить по смыслу тезису и аргумен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ть заключение можно вводными словами </a:t>
            </a:r>
            <a:r>
              <a:rPr b="1" i="1" lang="ru-RU" sz="2400" spc="-1" strike="noStrike">
                <a:solidFill>
                  <a:srgbClr val="376092"/>
                </a:solidFill>
                <a:latin typeface="Arial"/>
              </a:rPr>
              <a:t>значит, итак, следовательно, таким образом</a:t>
            </a: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клише </a:t>
            </a:r>
            <a:r>
              <a:rPr b="1" i="1" lang="ru-RU" sz="2400" spc="-1" strike="noStrike">
                <a:solidFill>
                  <a:srgbClr val="376092"/>
                </a:solidFill>
                <a:latin typeface="Arial"/>
              </a:rPr>
              <a:t>мы пришли к выводу, подводя итог, делая выводы из вышеизложенных доказательств</a:t>
            </a:r>
            <a:r>
              <a:rPr b="0" lang="ru-RU" sz="2400" spc="-1" strike="noStrike">
                <a:solidFill>
                  <a:srgbClr val="376092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Местоим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стоимение - это самостоятельная часть речи, которая указывает на предмет, признак или количество, но не называет 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ль местоим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41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доме у нас жил ёжик, ёжик был ручной. Когда ёжика гладили, ёжик прижимал к спине колючки и делался совсем мягким. За умение прижимать колючки к спине мы ёжика прозвали Пуш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539640" y="386064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доме у нас жил ёжик.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был ручной. Когд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ег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гладили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ижимал к спине колючки и делался совсем мягким. З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эт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ы ёжика прозвали Пуш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0560" y="260280"/>
            <a:ext cx="8713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стоимения могут заменять существительные (например: он, кто, нечто), прилагательные (например: который, весь, любой), числительные (например: несколько, сколько).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Заменяя знаменательные слова, местоимения помогают избежать лексического повт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ексте, предложенном для анализа, большое количество местоимений. В предложении 7 личные местоимения "его", "он", заменяет существительное  "ёжик". Это позволяет автору избежать неоправданного повтора с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14:18:29Z</dcterms:created>
  <dc:creator>Андрей</dc:creator>
  <dc:description>http://aida.ucoz.ru</dc:description>
  <dc:language>en-US</dc:language>
  <cp:lastModifiedBy>Марина</cp:lastModifiedBy>
  <dcterms:modified xsi:type="dcterms:W3CDTF">2021-11-06T12:46:25Z</dcterms:modified>
  <cp:revision>88</cp:revision>
  <dc:subject/>
  <dc:title>Готовимся к ГИА 2013. Сочинение -  рассуждение на основе  прочитанного  текста (С2). Часть 7</dc:title>
</cp:coreProperties>
</file>