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E92-AA2C-4A47-8E92-C1942A94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9C9-F11D-459C-94A3-02F2C9B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57E-DAA4-40C7-8C33-68BB2C9E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EF9-DC3D-481D-8A71-5553E413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D5F-41C7-464F-91D6-DC69DE69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1236-6CF1-4C8B-933E-3CB957A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8534-31F6-46CD-9BF8-045BC1FA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B1A8-1946-42AE-9561-2A99C712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42A6-190C-4D66-8E40-0F94FABA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797F-F3C9-433F-A82A-D46AECB0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3BED-A053-486A-9455-CB6AA3B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5D4-5535-4584-AAA3-517EC8C2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0A2E-187B-4385-904C-55E0B1F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9DDE-EAC2-4EE4-BA0C-5A1BF41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FB26-8E7E-4372-8A06-408B8F49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49BD-74EA-406E-B74D-F75A0B07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B322-67CF-4F1E-BBC6-15990238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4C0B-81F8-4EDA-B1CB-B55826D6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C786-427F-4D98-80E6-7DBE2D29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6545-AD0F-41E8-8DCD-884A07E2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18E2-8D12-40D1-B60A-C2C0FDD0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D6FF-CF9B-478D-BBC8-9B29FAA3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B38-3F9C-4BC1-940A-E0EEE75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14E1-FF05-468F-B810-DCEE7AC1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5BC0-D440-4C1F-9786-976748E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050A-BBDB-4D5B-9F68-D4AE9D5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95A6-AC6B-4394-889D-99FA8A33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575D-8A15-4700-ABE0-4D4390FB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0251-85B3-4E26-9072-6113E58D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6EA5-FDDF-47BF-8FD5-D21B2C6A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3D2B-769E-4189-A48A-9F0F3E81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EB74D-FF84-46A3-BD63-3D9522D6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4024-132D-44FF-8807-BFC0E9ED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11B-663F-4C20-8545-2967122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2D32-919C-427F-A3FA-73069540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5A45-5DCC-4FAD-86A5-7B9DA36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C917-4D2A-40A5-AA79-51BFBCA5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4CD2-DEB7-4140-92AD-EABDEBD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24DE6-2500-436C-A6DC-EEEE1ED3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97FD2-5C13-4481-8637-EDF753C0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4785-2FCC-4A4A-AE9E-C15DA92A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414C-D119-494E-93B8-2DD5E183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7A3F-57B7-4829-A7FE-52709E33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DEC-7AE2-418A-ABAE-B5087CC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623-5885-40D3-B28E-5173EFDA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5E9-E702-480D-8A05-2AFA1BF4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7E8-C68E-4477-A57D-589F54E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77B-B03B-4E8C-98B4-47CB5A1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EA2-11C5-4CEE-92AD-CB7916CC15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2EC0-0401-4B43-820D-43BCB5549C9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6300-FC2B-4C87-A3B0-783087910B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5B8B-E6D2-448D-A849-F27734275E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158840" y="262080"/>
            <a:ext cx="7819920" cy="3597120"/>
          </a:xfrm>
          <a:prstGeom prst="rect">
            <a:avLst/>
          </a:prstGeom>
          <a:ln w="0">
            <a:noFill/>
          </a:ln>
        </p:spPr>
      </p:pic>
      <p:pic>
        <p:nvPicPr>
          <p:cNvPr id="216" name="Текст 2" descr=""/>
          <p:cNvPicPr/>
          <p:nvPr/>
        </p:nvPicPr>
        <p:blipFill>
          <a:blip r:embed="rId3"/>
          <a:stretch/>
        </p:blipFill>
        <p:spPr>
          <a:xfrm>
            <a:off x="4211640" y="4078440"/>
            <a:ext cx="4786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1762200" y="1096920"/>
            <a:ext cx="7057800" cy="5065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72760" y="7185600"/>
            <a:ext cx="56372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212745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Заголовок 4" descr=""/>
          <p:cNvPicPr/>
          <p:nvPr/>
        </p:nvPicPr>
        <p:blipFill>
          <a:blip r:embed="rId2"/>
          <a:stretch/>
        </p:blipFill>
        <p:spPr>
          <a:xfrm>
            <a:off x="3346560" y="219240"/>
            <a:ext cx="5711760" cy="23716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050560" y="2565000"/>
            <a:ext cx="691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Здоровье – это сложное понятие, которое включает характеристики физического и психического развития человека, адаптационные возможности его организма, его социальную активность, которые в итоге и обеспечивают определённый уровень умственной и физической работоспособности. В последние годы наблюдается резкое ухудшение состояния здоровья детей. Поэтому одной из основных задач, стоящих перед воспитателями, является воспитание здорового подрастающего поколения. Отсюда возникла необходимость организовать в своей группе  физкультурно – оздоровительный уголо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1260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8" descr=""/>
          <p:cNvPicPr/>
          <p:nvPr/>
        </p:nvPicPr>
        <p:blipFill>
          <a:blip r:embed="rId2"/>
          <a:stretch/>
        </p:blipFill>
        <p:spPr>
          <a:xfrm>
            <a:off x="1951200" y="6480"/>
            <a:ext cx="6868800" cy="161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907640" y="1484280"/>
            <a:ext cx="698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В детском саду к физкультурному уголку, предъявляют следующие требования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едагогическ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Эстетическ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Гигиен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Каждое пособие должно быть прочным, надёжным, пригодным для эксплуатации. Физкультурные пособия помогают детям добиваться более чёткого представления о движении, которое складывается на основе ощущений и восприятий. С помощью физкультурного уголка в своей группе мы ежедневно проводим индивидуальную работу по профилактике плоскостопия, формированию правильной осанки, укреплению мышц и т. д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Объект 5" descr=""/>
          <p:cNvPicPr/>
          <p:nvPr/>
        </p:nvPicPr>
        <p:blipFill>
          <a:blip r:embed="rId2"/>
          <a:stretch/>
        </p:blipFill>
        <p:spPr>
          <a:xfrm>
            <a:off x="6218280" y="4711680"/>
            <a:ext cx="2425680" cy="178596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15" descr=""/>
          <p:cNvPicPr/>
          <p:nvPr/>
        </p:nvPicPr>
        <p:blipFill>
          <a:blip r:embed="rId3"/>
          <a:stretch/>
        </p:blipFill>
        <p:spPr>
          <a:xfrm>
            <a:off x="2554200" y="139680"/>
            <a:ext cx="6351840" cy="2109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Администратор\Desktop\2016-10-10-176.jpg"/>
          <p:cNvPicPr/>
          <p:nvPr/>
        </p:nvPicPr>
        <p:blipFill>
          <a:blip r:embed="rId4"/>
          <a:stretch/>
        </p:blipFill>
        <p:spPr>
          <a:xfrm>
            <a:off x="2549520" y="2286000"/>
            <a:ext cx="3665520" cy="43578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27" name="Picture 2" descr="C:\Users\Администратор\Desktop\2016-10-10-175.jpg"/>
          <p:cNvPicPr/>
          <p:nvPr/>
        </p:nvPicPr>
        <p:blipFill>
          <a:blip r:embed="rId5"/>
          <a:stretch/>
        </p:blipFill>
        <p:spPr>
          <a:xfrm>
            <a:off x="6357960" y="2357280"/>
            <a:ext cx="2252520" cy="16462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Администратор\Desktop\2016-11-01-228.jpg"/>
          <p:cNvPicPr/>
          <p:nvPr/>
        </p:nvPicPr>
        <p:blipFill>
          <a:blip r:embed="rId2"/>
          <a:stretch/>
        </p:blipFill>
        <p:spPr>
          <a:xfrm>
            <a:off x="4579920" y="2852640"/>
            <a:ext cx="4222800" cy="3168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30" name="Заголовок 1" descr=""/>
          <p:cNvPicPr/>
          <p:nvPr/>
        </p:nvPicPr>
        <p:blipFill>
          <a:blip r:embed="rId3"/>
          <a:stretch/>
        </p:blipFill>
        <p:spPr>
          <a:xfrm>
            <a:off x="1322280" y="2548080"/>
            <a:ext cx="3286080" cy="383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142640" y="260280"/>
            <a:ext cx="7605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Georgia"/>
              </a:rPr>
              <a:t>Так же в нашем физкальтурно – оздоровительном уголке  имеются: кегли, скакалки, обручи, «дартс», шапочки – маски для подвижных игр, лабиринт  3х секционный – для развития ловкости рук, гибкости локтевых и коленных сустав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Georgia"/>
              </a:rPr>
              <a:t>Различные картотеки: утренней гимнастики, подвижных, малоподвижных игр, считалочек и д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0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5" descr=""/>
          <p:cNvPicPr/>
          <p:nvPr/>
        </p:nvPicPr>
        <p:blipFill>
          <a:blip r:embed="rId2"/>
          <a:stretch/>
        </p:blipFill>
        <p:spPr>
          <a:xfrm>
            <a:off x="6284880" y="4932360"/>
            <a:ext cx="2432160" cy="17859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55640" y="189000"/>
            <a:ext cx="63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7030a0"/>
              </a:solidFill>
              <a:latin typeface="Georgia"/>
            </a:endParaRPr>
          </a:p>
        </p:txBody>
      </p:sp>
      <p:pic>
        <p:nvPicPr>
          <p:cNvPr id="235" name="Picture 2" descr="C:\Users\Администратор\Desktop\2016-10-10-176.jpg"/>
          <p:cNvPicPr/>
          <p:nvPr/>
        </p:nvPicPr>
        <p:blipFill>
          <a:blip r:embed="rId3"/>
          <a:stretch/>
        </p:blipFill>
        <p:spPr>
          <a:xfrm>
            <a:off x="2714760" y="357120"/>
            <a:ext cx="3500280" cy="46674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36" name="Picture 2" descr="C:\Users\Администратор\Desktop\2016-10-10-175.jpg"/>
          <p:cNvPicPr/>
          <p:nvPr/>
        </p:nvPicPr>
        <p:blipFill>
          <a:blip r:embed="rId4"/>
          <a:stretch/>
        </p:blipFill>
        <p:spPr>
          <a:xfrm>
            <a:off x="6512040" y="1571760"/>
            <a:ext cx="2517840" cy="33573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4" descr=""/>
          <p:cNvPicPr/>
          <p:nvPr/>
        </p:nvPicPr>
        <p:blipFill>
          <a:blip r:embed="rId2"/>
          <a:stretch/>
        </p:blipFill>
        <p:spPr>
          <a:xfrm>
            <a:off x="1835280" y="152280"/>
            <a:ext cx="6930720" cy="32432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72760" y="6811560"/>
            <a:ext cx="563724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40" name="Picture 2" descr="C:\Users\Администратор\Desktop\2016-10-10-173.jpg"/>
          <p:cNvPicPr/>
          <p:nvPr/>
        </p:nvPicPr>
        <p:blipFill>
          <a:blip r:embed="rId3"/>
          <a:stretch/>
        </p:blipFill>
        <p:spPr>
          <a:xfrm>
            <a:off x="5500800" y="3429000"/>
            <a:ext cx="2500200" cy="32558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Заголовок 7" descr=""/>
          <p:cNvPicPr/>
          <p:nvPr/>
        </p:nvPicPr>
        <p:blipFill>
          <a:blip r:embed="rId2"/>
          <a:stretch/>
        </p:blipFill>
        <p:spPr>
          <a:xfrm>
            <a:off x="5145120" y="3571920"/>
            <a:ext cx="3822840" cy="273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785960" y="259920"/>
            <a:ext cx="33624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Большие мешочки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(наполненные песком) используются для удержания баланса,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маленькие мешочки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для развития силы рук, для метан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Флажки, платочки, ленточки, султанчики, мячи, кубики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для занятий ОРУ, подвижных игр, танцевальных упражнени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2" descr="C:\Users\Администратор\Desktop\2016-10-10-181.jpg"/>
          <p:cNvPicPr/>
          <p:nvPr/>
        </p:nvPicPr>
        <p:blipFill>
          <a:blip r:embed="rId3"/>
          <a:stretch/>
        </p:blipFill>
        <p:spPr>
          <a:xfrm>
            <a:off x="2857680" y="3000240"/>
            <a:ext cx="2496960" cy="3330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45" name="Picture 2" descr="C:\Users\Администратор\Desktop\2016-10-10-182.jpg"/>
          <p:cNvPicPr/>
          <p:nvPr/>
        </p:nvPicPr>
        <p:blipFill>
          <a:blip r:embed="rId4"/>
          <a:stretch/>
        </p:blipFill>
        <p:spPr>
          <a:xfrm>
            <a:off x="6643800" y="1071720"/>
            <a:ext cx="1998720" cy="26636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Картинки по запросу картинки к презентации на тему физкультура в детском саду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7" descr=""/>
          <p:cNvPicPr/>
          <p:nvPr/>
        </p:nvPicPr>
        <p:blipFill>
          <a:blip r:embed="rId2"/>
          <a:stretch/>
        </p:blipFill>
        <p:spPr>
          <a:xfrm>
            <a:off x="5145120" y="3571920"/>
            <a:ext cx="3822840" cy="273672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6" descr="957.jpg"/>
          <p:cNvPicPr/>
          <p:nvPr/>
        </p:nvPicPr>
        <p:blipFill>
          <a:blip r:embed="rId3"/>
          <a:stretch/>
        </p:blipFill>
        <p:spPr>
          <a:xfrm>
            <a:off x="4357800" y="3643200"/>
            <a:ext cx="2268360" cy="3025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Users\Администратор\Desktop\2016-10-10-181.jpg"/>
          <p:cNvPicPr/>
          <p:nvPr/>
        </p:nvPicPr>
        <p:blipFill>
          <a:blip r:embed="rId4"/>
          <a:stretch/>
        </p:blipFill>
        <p:spPr>
          <a:xfrm>
            <a:off x="2643120" y="714240"/>
            <a:ext cx="1944720" cy="25923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250" name="Picture 2" descr="C:\Users\Администратор\Desktop\2016-10-10-182.jpg"/>
          <p:cNvPicPr/>
          <p:nvPr/>
        </p:nvPicPr>
        <p:blipFill>
          <a:blip r:embed="rId5"/>
          <a:stretch/>
        </p:blipFill>
        <p:spPr>
          <a:xfrm>
            <a:off x="6357960" y="357120"/>
            <a:ext cx="1998720" cy="26640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3:31:32Z</dcterms:created>
  <dc:creator>Администратор</dc:creator>
  <dc:description/>
  <dc:language>en-US</dc:language>
  <cp:lastModifiedBy>User</cp:lastModifiedBy>
  <cp:lastPrinted>2016-11-01T18:47:33Z</cp:lastPrinted>
  <dcterms:modified xsi:type="dcterms:W3CDTF">2021-11-07T15:23:15Z</dcterms:modified>
  <cp:revision>38</cp:revision>
  <dc:subject/>
  <dc:title>Физкультурный</dc:title>
</cp:coreProperties>
</file>