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422-EF86-46A2-ABD6-B83EF04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6C9-EAF1-4B52-86AF-1D5C481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8BF-F049-4957-86BD-45CC062B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6FC-82CE-4F3C-BB72-871C3EAF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014-49A4-49E5-A405-A07BB248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395B-8B7F-4AE3-B0B4-C9948AA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3FBD-69AD-48B0-A924-71BCBC9F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A028-4E21-4F84-A88F-0A44FFB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A6D5-6667-4677-BDD4-76E3496F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9E7-D8CC-4D8D-9E50-A6EBB550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41E5-B821-4A7F-BB7E-55A4732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79F-67C5-4262-9276-C00E0B7E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76C6-91DD-4DAC-AD0E-8D7BB91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5F19-E6E7-429E-B584-714276A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E7A2-B071-4ECA-B3EA-D48E7F57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7231-F502-4885-8B42-5DB64BBD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209-D8AF-453C-8E04-ED051409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4C1D-EFD6-4EC1-A7A7-FED15B3B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32E8-4BBA-4DF9-B02D-A5F1DEFB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FD5B-8328-4EE5-88C3-7A39136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EEA8-BED2-4AC6-A3A9-833DE6E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8BF0-D773-4F91-84C1-99E87FFA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3B3-6CC1-43F2-B6F7-C418C8D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B16E-623F-4FDE-8E44-D1486162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A90E-E66D-43EE-B944-62D3857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E32F-344E-44FB-A5ED-25EAA4C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F513-A4EC-4B6F-A9BC-9BBC6CC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20E4-09C6-487D-B9CC-BEA28DED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2B96-6A0B-4D89-8DF4-AE2138CF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DC49-7FBE-4D34-969B-3610A53D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BB8B-121C-45D9-B4CF-5E7DCE29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145D-4B51-4373-BD66-664169C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5819-2AC6-4C61-942D-42099BC2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39D-A027-4D4D-8DDB-CB8CCB76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ED9C-0A62-4E3F-B605-A1A7C8A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2BCF-6398-4080-B6BD-F6220D7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C9D2-B471-43DA-B755-80EBD3C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775C-EC24-4AC4-9CA0-D11702D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0B3A-04CF-4A95-8CB2-50D23FD6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10F5-CAA1-4128-916E-C9F943F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DEAD-8CC7-4A79-9364-8B110475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F89D-5FE7-4B57-A602-4628F69E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AECF-2912-4EA8-B64A-9E5DF059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B19-7916-464E-A0FF-6F67185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BEE-C292-486B-9462-A9F16CF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CEA-80E4-42C6-BC6F-4CDD9F3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4D1-5F66-4C77-AFCE-D49870C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A96-AB16-4912-AD62-AD16B15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CF3-71BB-4E3C-AE67-C748E0303D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5FEE-44AA-4C55-A218-FD8135389E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308-EDF5-45C7-A071-4EB50D7F035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739-E863-43B2-BF3E-DB747530224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158840" y="262080"/>
            <a:ext cx="7819920" cy="3597120"/>
          </a:xfrm>
          <a:prstGeom prst="rect">
            <a:avLst/>
          </a:prstGeom>
          <a:ln w="0">
            <a:noFill/>
          </a:ln>
        </p:spPr>
      </p:pic>
      <p:pic>
        <p:nvPicPr>
          <p:cNvPr id="216" name="Текст 2" descr=""/>
          <p:cNvPicPr/>
          <p:nvPr/>
        </p:nvPicPr>
        <p:blipFill>
          <a:blip r:embed="rId3"/>
          <a:stretch/>
        </p:blipFill>
        <p:spPr>
          <a:xfrm>
            <a:off x="4211640" y="4078440"/>
            <a:ext cx="4786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1762200" y="1096920"/>
            <a:ext cx="7057800" cy="5065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72760" y="7185600"/>
            <a:ext cx="56372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21274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Заголовок 4" descr=""/>
          <p:cNvPicPr/>
          <p:nvPr/>
        </p:nvPicPr>
        <p:blipFill>
          <a:blip r:embed="rId2"/>
          <a:stretch/>
        </p:blipFill>
        <p:spPr>
          <a:xfrm>
            <a:off x="3346560" y="219240"/>
            <a:ext cx="5711760" cy="2371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050560" y="2565000"/>
            <a:ext cx="691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Здоровье – это сложное понятие, которое включает характеристики физического и психического развития человека, адаптационные возможности его организма, его социальную активность, которые в итоге и обеспечивают определённый уровень умственной и физической работоспособности. В последние годы наблюдается резкое ухудшение состояния здоровья детей. Поэтому одной из основных задач, стоящих перед воспитателями, является воспитание здорового подрастающего поколения. Отсюда возникла необходимость организовать в своей группе  физкультурно – оздоровительный угол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1260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8" descr=""/>
          <p:cNvPicPr/>
          <p:nvPr/>
        </p:nvPicPr>
        <p:blipFill>
          <a:blip r:embed="rId2"/>
          <a:stretch/>
        </p:blipFill>
        <p:spPr>
          <a:xfrm>
            <a:off x="1951200" y="6480"/>
            <a:ext cx="6868800" cy="161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98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В детском саду к физкультурному уголку, предъявляют следующие требования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едагогическ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Эстетическ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Гигиен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Каждое пособие должно быть прочным, надёжным, пригодным для эксплуатации. Физкультурные пособия помогают детям добиваться более чёткого представления о движении, которое складывается на основе ощущений и восприятий. С помощью физкультурного уголка в своей группе мы ежедневно проводим индивидуальную работу по профилактике плоскостопия, формированию правильной осанки, укреплению мышц и т. д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5" descr=""/>
          <p:cNvPicPr/>
          <p:nvPr/>
        </p:nvPicPr>
        <p:blipFill>
          <a:blip r:embed="rId2"/>
          <a:stretch/>
        </p:blipFill>
        <p:spPr>
          <a:xfrm>
            <a:off x="6218280" y="4711680"/>
            <a:ext cx="2425680" cy="178596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5" descr=""/>
          <p:cNvPicPr/>
          <p:nvPr/>
        </p:nvPicPr>
        <p:blipFill>
          <a:blip r:embed="rId3"/>
          <a:stretch/>
        </p:blipFill>
        <p:spPr>
          <a:xfrm>
            <a:off x="2554200" y="139680"/>
            <a:ext cx="6351840" cy="2109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Администратор\Desktop\2016-10-10-176.jpg"/>
          <p:cNvPicPr/>
          <p:nvPr/>
        </p:nvPicPr>
        <p:blipFill>
          <a:blip r:embed="rId4"/>
          <a:stretch/>
        </p:blipFill>
        <p:spPr>
          <a:xfrm>
            <a:off x="2549520" y="2286000"/>
            <a:ext cx="3665520" cy="43578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27" name="Picture 2" descr="C:\Users\Администратор\Desktop\2016-10-10-175.jpg"/>
          <p:cNvPicPr/>
          <p:nvPr/>
        </p:nvPicPr>
        <p:blipFill>
          <a:blip r:embed="rId5"/>
          <a:stretch/>
        </p:blipFill>
        <p:spPr>
          <a:xfrm>
            <a:off x="6357960" y="2357280"/>
            <a:ext cx="2252520" cy="16462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истратор\Desktop\2016-11-01-228.jpg"/>
          <p:cNvPicPr/>
          <p:nvPr/>
        </p:nvPicPr>
        <p:blipFill>
          <a:blip r:embed="rId2"/>
          <a:stretch/>
        </p:blipFill>
        <p:spPr>
          <a:xfrm>
            <a:off x="4579920" y="2852640"/>
            <a:ext cx="4222800" cy="3168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30" name="Заголовок 1" descr=""/>
          <p:cNvPicPr/>
          <p:nvPr/>
        </p:nvPicPr>
        <p:blipFill>
          <a:blip r:embed="rId3"/>
          <a:stretch/>
        </p:blipFill>
        <p:spPr>
          <a:xfrm>
            <a:off x="1322280" y="2548080"/>
            <a:ext cx="3286080" cy="383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142640" y="260280"/>
            <a:ext cx="7605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Georgia"/>
              </a:rPr>
              <a:t>Так же в нашем физкальтурно – оздоровительном уголке  имеются: кегли, скакалки, обручи, «дартс», шапочки – маски для подвижных игр, лабиринт  3х секционный – для развития ловкости рук, гибкости локтевых и коленных сустав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Georgia"/>
              </a:rPr>
              <a:t>Различные картотеки: утренней гимнастики, подвижных, малоподвижных игр, считалочек и д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0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6284880" y="4932360"/>
            <a:ext cx="2432160" cy="17859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55640" y="189000"/>
            <a:ext cx="63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7030a0"/>
              </a:solidFill>
              <a:latin typeface="Georgia"/>
            </a:endParaRPr>
          </a:p>
        </p:txBody>
      </p:sp>
      <p:pic>
        <p:nvPicPr>
          <p:cNvPr id="235" name="Picture 2" descr="C:\Users\Администратор\Desktop\2016-10-10-176.jpg"/>
          <p:cNvPicPr/>
          <p:nvPr/>
        </p:nvPicPr>
        <p:blipFill>
          <a:blip r:embed="rId3"/>
          <a:stretch/>
        </p:blipFill>
        <p:spPr>
          <a:xfrm>
            <a:off x="2714760" y="357120"/>
            <a:ext cx="3500280" cy="46674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36" name="Picture 2" descr="C:\Users\Администратор\Desktop\2016-10-10-175.jpg"/>
          <p:cNvPicPr/>
          <p:nvPr/>
        </p:nvPicPr>
        <p:blipFill>
          <a:blip r:embed="rId4"/>
          <a:stretch/>
        </p:blipFill>
        <p:spPr>
          <a:xfrm>
            <a:off x="6512040" y="1571760"/>
            <a:ext cx="2517840" cy="3357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4" descr=""/>
          <p:cNvPicPr/>
          <p:nvPr/>
        </p:nvPicPr>
        <p:blipFill>
          <a:blip r:embed="rId2"/>
          <a:stretch/>
        </p:blipFill>
        <p:spPr>
          <a:xfrm>
            <a:off x="1835280" y="152280"/>
            <a:ext cx="6930720" cy="32432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72760" y="6811560"/>
            <a:ext cx="563724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40" name="Picture 2" descr="C:\Users\Администратор\Desktop\2016-10-10-173.jpg"/>
          <p:cNvPicPr/>
          <p:nvPr/>
        </p:nvPicPr>
        <p:blipFill>
          <a:blip r:embed="rId3"/>
          <a:stretch/>
        </p:blipFill>
        <p:spPr>
          <a:xfrm>
            <a:off x="5500800" y="3429000"/>
            <a:ext cx="2500200" cy="32558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Заголовок 7" descr=""/>
          <p:cNvPicPr/>
          <p:nvPr/>
        </p:nvPicPr>
        <p:blipFill>
          <a:blip r:embed="rId2"/>
          <a:stretch/>
        </p:blipFill>
        <p:spPr>
          <a:xfrm>
            <a:off x="5145120" y="3571920"/>
            <a:ext cx="3822840" cy="273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785960" y="259920"/>
            <a:ext cx="33624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Большие мешочки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(наполненные песком) используются для удержания баланса,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маленькие мешочки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для развития силы рук, для метан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Флажки, платочки, ленточки, султанчики, мячи, кубики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для занятий ОРУ, подвижных игр, танцевальных упражнени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C:\Users\Администратор\Desktop\2016-10-10-181.jpg"/>
          <p:cNvPicPr/>
          <p:nvPr/>
        </p:nvPicPr>
        <p:blipFill>
          <a:blip r:embed="rId3"/>
          <a:stretch/>
        </p:blipFill>
        <p:spPr>
          <a:xfrm>
            <a:off x="2857680" y="3000240"/>
            <a:ext cx="2496960" cy="3330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45" name="Picture 2" descr="C:\Users\Администратор\Desktop\2016-10-10-182.jpg"/>
          <p:cNvPicPr/>
          <p:nvPr/>
        </p:nvPicPr>
        <p:blipFill>
          <a:blip r:embed="rId4"/>
          <a:stretch/>
        </p:blipFill>
        <p:spPr>
          <a:xfrm>
            <a:off x="6643800" y="1071720"/>
            <a:ext cx="1998720" cy="26636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7" descr=""/>
          <p:cNvPicPr/>
          <p:nvPr/>
        </p:nvPicPr>
        <p:blipFill>
          <a:blip r:embed="rId2"/>
          <a:stretch/>
        </p:blipFill>
        <p:spPr>
          <a:xfrm>
            <a:off x="5145120" y="3571920"/>
            <a:ext cx="3822840" cy="273672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6" descr="957.jpg"/>
          <p:cNvPicPr/>
          <p:nvPr/>
        </p:nvPicPr>
        <p:blipFill>
          <a:blip r:embed="rId3"/>
          <a:stretch/>
        </p:blipFill>
        <p:spPr>
          <a:xfrm>
            <a:off x="4357800" y="3643200"/>
            <a:ext cx="2268360" cy="3025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Администратор\Desktop\2016-10-10-181.jpg"/>
          <p:cNvPicPr/>
          <p:nvPr/>
        </p:nvPicPr>
        <p:blipFill>
          <a:blip r:embed="rId4"/>
          <a:stretch/>
        </p:blipFill>
        <p:spPr>
          <a:xfrm>
            <a:off x="2643120" y="714240"/>
            <a:ext cx="1944720" cy="2592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50" name="Picture 2" descr="C:\Users\Администратор\Desktop\2016-10-10-182.jpg"/>
          <p:cNvPicPr/>
          <p:nvPr/>
        </p:nvPicPr>
        <p:blipFill>
          <a:blip r:embed="rId5"/>
          <a:stretch/>
        </p:blipFill>
        <p:spPr>
          <a:xfrm>
            <a:off x="6357960" y="357120"/>
            <a:ext cx="1998720" cy="26640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3:31:32Z</dcterms:created>
  <dc:creator>Администратор</dc:creator>
  <dc:description/>
  <dc:language>en-US</dc:language>
  <cp:lastModifiedBy>User</cp:lastModifiedBy>
  <cp:lastPrinted>2016-11-01T18:47:33Z</cp:lastPrinted>
  <dcterms:modified xsi:type="dcterms:W3CDTF">2021-11-07T15:23:15Z</dcterms:modified>
  <cp:revision>38</cp:revision>
  <dc:subject/>
  <dc:title>Физкультурный</dc:title>
</cp:coreProperties>
</file>