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1.gif" ContentType="image/gif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13.jpeg" ContentType="image/jpeg"/>
  <Override PartName="/ppt/media/image12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92D3-E2CD-4210-B93A-F0F71F40D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B87F-20A1-4F7B-B8E2-42F90897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655C-3683-4243-8C7A-75F5179E3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5152-8055-4965-8C09-91282AEF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FC54-560D-4A07-9EFC-242EBFC7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D694-B2DE-42FB-9BDB-927269C9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A2D2-B92C-4892-955A-F8376485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B3DF-EE8F-4BF5-BD12-B2C07DEB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AAC2-F0AF-4601-87B9-73A3C416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1B6E-7CF3-4EAA-8101-4310D7BD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D3D2-47CA-4823-BFD5-64E9690D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9BF5-4B8B-46E8-AF1F-E03D682F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D41F-03B0-43B7-A3FC-4D9AE4D49A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МАДОУ ЦРР д/с № 121 «Непосед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Children_Day_vector_wallpaper_167973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609480" y="2514600"/>
            <a:ext cx="769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Обучение дошкольни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лению рассказов с использованием мнемотаблиц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сультация для воспит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Составление графического плана рассказа</a:t>
            </a: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 «Зимующие птицы»</a:t>
            </a:r>
            <a:br>
              <a:rPr sz="24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негирь — очень красивая птица. У него серое туловище, черная головка и крылья, а грудка розово-красная. Когда птицы сидят на ветках деревьев, то они похожи на зимние яблоки. У снегиря есть туловище, головка, крылья, хвостик, лап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тицы живут в лесу, а зимой, когда становится голодно, прилетают в город. В лесу они могут клевать семена растений. Я видела, как снегири клевали красные ягоды рябины у меня под окном. Птенцы у них называются снегиря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имой люди делают кормушки и насыпают в них семечки и хлебные крошки, чтобы помочь птицам пережить голодное врем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1. Цвет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акого цвета оперенье птицы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2.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Части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Назови части ее тела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3. Дупло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Где она обитает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4. Ягоды, семен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Чем птица питается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5. Птенец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Назови ее птенца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6.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Человек, кормушк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ак люди помогают птицам зимой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1" descr="HWScan00_0"/>
          <p:cNvPicPr/>
          <p:nvPr/>
        </p:nvPicPr>
        <p:blipFill>
          <a:blip r:embed="rId1"/>
          <a:stretch/>
        </p:blipFill>
        <p:spPr>
          <a:xfrm>
            <a:off x="4952880" y="4191120"/>
            <a:ext cx="335304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0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2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6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0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4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8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2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6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0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4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Составление рассказа-описания по теме</a:t>
            </a:r>
            <a:br>
              <a:rPr sz="2400"/>
            </a:b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«Мой любимый овощ» </a:t>
            </a:r>
            <a:br>
              <a:rPr sz="2400"/>
            </a:b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с последующим рисованием плана-график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мидор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это овощ. Он растет в огороде на грядке. Он кисло-сладкий, круглый, красный, мягкий. Из него можно приготовить салат, суп, сок, кетчуп. Помидоры можно законсервировать на зиму в собственном соку.  Помидор полезный, потому что в нем много витаминов, он очищает организ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Название овоща. Что эт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Где этот овощ растет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Какой формы овощ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Какого цвет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Какой на вкус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Какой он на ощуп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Что можно из этого овоща приготовит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грядка, рот или рожица, круг, цветок, вата и кубик, кастрюля, бутылочка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6"/>
          <p:cNvSpPr txBox="1"/>
          <p:nvPr/>
        </p:nvSpPr>
        <p:spPr>
          <a:xfrm>
            <a:off x="7238880" y="48006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t-Metropol"/>
              </a:rPr>
              <a:t>?</a:t>
            </a:r>
            <a:endParaRPr b="0" lang="en-US" sz="1600" spc="1" strike="noStrike">
              <a:ln w="255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t-Metropol"/>
              <a:ea typeface="Art-Metropol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0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4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8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6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0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4" dur="1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8" dur="1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2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Составление графического плана</a:t>
            </a: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по рассказу-описанию по теме</a:t>
            </a: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«Мой любимый фрукт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Яблок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то фрукты. Они растут на яблонях. Яблоки бывают красными, румяными, бордовыми, жёлтыми, зелёными. Фруктовые деревья растут в сад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ое яблок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расное, круглое, сладкое, сочное. Оно гладкое и твердо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Его едят сырым, из него варят варенье, делают джем, готовят вкусный с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яблоках много витаминов. Все фрукты полезны челове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i="1" lang="ru-RU" sz="1400" spc="-1" strike="noStrike">
                <a:solidFill>
                  <a:srgbClr val="ff33cc"/>
                </a:solidFill>
                <a:latin typeface="Arial"/>
              </a:rPr>
              <a:t>План рассказ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spcBef>
                <a:spcPts val="34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cc"/>
                </a:solidFill>
                <a:latin typeface="Arial"/>
              </a:rPr>
              <a:t>Название фрук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spcBef>
                <a:spcPts val="34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cc"/>
                </a:solidFill>
                <a:latin typeface="Arial"/>
              </a:rPr>
              <a:t>Где растет этот фрукт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spcBef>
                <a:spcPts val="34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cc"/>
                </a:solidFill>
                <a:latin typeface="Arial"/>
              </a:rPr>
              <a:t>Какой формы фрукт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spcBef>
                <a:spcPts val="34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cc"/>
                </a:solidFill>
                <a:latin typeface="Arial"/>
              </a:rPr>
              <a:t>Какого цвет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spcBef>
                <a:spcPts val="34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cc"/>
                </a:solidFill>
                <a:latin typeface="Arial"/>
              </a:rPr>
              <a:t>Какой на вкус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spcBef>
                <a:spcPts val="34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cc"/>
                </a:solidFill>
                <a:latin typeface="Arial"/>
              </a:rPr>
              <a:t>Какой он на ощупь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spcBef>
                <a:spcPts val="34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cc"/>
                </a:solidFill>
                <a:latin typeface="Arial"/>
              </a:rPr>
              <a:t>Что можно из этого фрукта приготовить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spcBef>
                <a:spcPts val="34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cc"/>
                </a:solidFill>
                <a:latin typeface="Arial"/>
              </a:rPr>
              <a:t>Какую пользу приносит человек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spcBef>
                <a:spcPts val="34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48320" y="4191120"/>
            <a:ext cx="40384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рево с плодами (сад), рот или рожица, круг, цветок или нос (запах), вата и кубик (мягкий твердый, гладкий), кастрюля, банка, пакет)- что готов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8"/>
          <p:cNvSpPr txBox="1"/>
          <p:nvPr/>
        </p:nvSpPr>
        <p:spPr>
          <a:xfrm>
            <a:off x="7924680" y="5257800"/>
            <a:ext cx="838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t-Metropol"/>
              </a:rPr>
              <a:t>?</a:t>
            </a:r>
            <a:endParaRPr b="0" lang="en-US" sz="1600" spc="1" strike="noStrike">
              <a:ln w="255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t-Metropol"/>
              <a:ea typeface="Art-Metropol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0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2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5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8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1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9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3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7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1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5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9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3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7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1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Составление графического плана </a:t>
            </a: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рассказа на тему «Щука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работы над составлением графического плана связного рассказа ребёнку даётся чистый бланк с шестью «окошками» для составления мнемотаблиц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спитатель  на доске поочередно заполняет «пустые» клетки мнемотаблицы. Ребёнок же рисует соответствующие изображения на собственном бланке. Таким образом, каждый ребенок в ходе занятия заполняет свою мнемотаблицу, с помощью которой он имеет возможность самостоятельно составить по аналогии рассказ-описание о любом другом предмете по данной лексической теме. Наглядная схема выступает в качестве плана речевого высказы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«Перед нами щу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Это речная рыб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Она хищная. Щука питается мелкими рыбешк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У нее есть голова, жабры, туловище, плавники, хвост, острые зуб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Туловище щуки покрыто чешу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Из щуки можно сварить уху и приготовить котлеты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9"/>
          <p:cNvSpPr txBox="1"/>
          <p:nvPr/>
        </p:nvSpPr>
        <p:spPr>
          <a:xfrm>
            <a:off x="7315200" y="5029200"/>
            <a:ext cx="1295280" cy="14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t-Metropol"/>
              </a:rPr>
              <a:t>?</a:t>
            </a:r>
            <a:endParaRPr b="0" lang="en-US" sz="1600" spc="1" strike="noStrike">
              <a:ln w="255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t-Metropol"/>
              <a:ea typeface="Art-Metropol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0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6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0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8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6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0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4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ff"/>
                </a:solidFill>
                <a:latin typeface="Arial"/>
              </a:rPr>
              <a:t>Составить рассказ о своей  семь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ня зовут Полина. Моя мама — Анастасия Викторовна, а папа — Николай Анатольеви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 меня есть старший брат Арсе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ма и папа у меня инженеры, они работают на заводе — делают автомоби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я бабушка Светлана Ивановна умеет печь вкусные пироги и плести ажурные салфет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душка Виктор Васильевич подстригает деревья и косит траву в сад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душка и бабушка проводят со мной много времени – мы играем в мяч, катаемся на велосипедах, ходим в парк и лес. Они помогают мне выполнять домашние зад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Я очень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люблю мою семь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Ребенок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Твое имя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Три человечк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Имена родителей и членов семьи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3. Молоток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Профессия пап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4. Фартук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Профессия мамы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5.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Клубок ниток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Бабушка и дедушка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6. Рук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то помогает тебе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2" descr="SWScan00_0"/>
          <p:cNvPicPr/>
          <p:nvPr/>
        </p:nvPicPr>
        <p:blipFill>
          <a:blip r:embed="rId1"/>
          <a:stretch/>
        </p:blipFill>
        <p:spPr>
          <a:xfrm>
            <a:off x="5105520" y="4038480"/>
            <a:ext cx="3070080" cy="218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0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9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3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7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1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5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9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3" dur="1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9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7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3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7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6600ff"/>
                </a:solidFill>
                <a:uFillTx/>
                <a:latin typeface="Arial"/>
              </a:rPr>
              <a:t>Загадки для рисования мнемодорож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Голубой плат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Красный колоб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По платку катает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Людям улыб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(Небо и солнц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В густом лесу под ёлк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Осыпанный листв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Лежит клубок с иголк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Колючий и живой. 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(Ёж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Стоят два д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На дубах – боч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На бочке – коч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На кочке – лес. (Челове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8"/>
          <p:cNvGrpSpPr/>
          <p:nvPr/>
        </p:nvGrpSpPr>
        <p:grpSpPr>
          <a:xfrm>
            <a:off x="6019920" y="4343400"/>
            <a:ext cx="1143000" cy="685440"/>
            <a:chOff x="6019920" y="4343400"/>
            <a:chExt cx="1143000" cy="685440"/>
          </a:xfrm>
        </p:grpSpPr>
        <p:graphicFrame>
          <p:nvGraphicFramePr>
            <p:cNvPr id="102" name="Object 9"/>
            <p:cNvGraphicFramePr/>
            <p:nvPr/>
          </p:nvGraphicFramePr>
          <p:xfrm>
            <a:off x="6019920" y="4389480"/>
            <a:ext cx="1143000" cy="639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3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19920" y="4389480"/>
                      <a:ext cx="1143000" cy="63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Object 10"/>
            <p:cNvGraphicFramePr/>
            <p:nvPr/>
          </p:nvGraphicFramePr>
          <p:xfrm>
            <a:off x="6019920" y="4343400"/>
            <a:ext cx="781200" cy="342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5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19920" y="4343400"/>
                      <a:ext cx="781200" cy="34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06" name="Рисунок 9" descr="C:\Documents and Settings\Admin\Рабочий стол\папин апрель\469.gif"/>
          <p:cNvPicPr/>
          <p:nvPr/>
        </p:nvPicPr>
        <p:blipFill>
          <a:blip r:embed="rId5"/>
          <a:stretch/>
        </p:blipFill>
        <p:spPr>
          <a:xfrm>
            <a:off x="5638680" y="4114800"/>
            <a:ext cx="2838600" cy="2163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Mobile_SCRS (366)"/>
          <p:cNvPicPr/>
          <p:nvPr/>
        </p:nvPicPr>
        <p:blipFill>
          <a:blip r:embed="rId6"/>
          <a:stretch/>
        </p:blipFill>
        <p:spPr>
          <a:xfrm>
            <a:off x="5829480" y="1644480"/>
            <a:ext cx="1676160" cy="20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0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3.4104E-006 L 1.03663 -0.00833 E">
                                      <p:cBhvr>
                                        <p:cTn id="783" dur="7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8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8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8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8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8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8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8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8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8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ГЛОСС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[wallcoo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152280" y="990720"/>
            <a:ext cx="89917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6600ff"/>
                </a:solidFill>
                <a:uFillTx/>
                <a:latin typeface="Arial"/>
              </a:rPr>
              <a:t>Алгоритм </a:t>
            </a:r>
            <a:r>
              <a:rPr b="1" i="1" lang="ru-RU" sz="1600" spc="-1" strike="noStrike">
                <a:solidFill>
                  <a:srgbClr val="6600ff"/>
                </a:solidFill>
                <a:latin typeface="Arial"/>
              </a:rPr>
              <a:t>- </a:t>
            </a:r>
            <a:r>
              <a:rPr b="1" i="1" lang="en-US" sz="1600" spc="-1" strike="noStrike">
                <a:solidFill>
                  <a:srgbClr val="6600ff"/>
                </a:solidFill>
                <a:latin typeface="Arial"/>
              </a:rPr>
              <a:t>c</a:t>
            </a:r>
            <a:r>
              <a:rPr b="1" i="1" lang="ru-RU" sz="1600" spc="-1" strike="noStrike">
                <a:solidFill>
                  <a:srgbClr val="6600ff"/>
                </a:solidFill>
                <a:latin typeface="Arial"/>
              </a:rPr>
              <a:t>трогая последовательность этапов действий, занятия. </a:t>
            </a:r>
            <a:r>
              <a:rPr b="1" i="1" lang="ru-RU" sz="1600" spc="-1" strike="noStrike" u="sng">
                <a:solidFill>
                  <a:srgbClr val="6600ff"/>
                </a:solidFill>
                <a:uFillTx/>
                <a:latin typeface="Arial"/>
              </a:rPr>
              <a:t>Алгоритмическая картина-схема</a:t>
            </a:r>
            <a:r>
              <a:rPr b="1" i="1" lang="ru-RU" sz="1600" spc="-1" strike="noStrike">
                <a:solidFill>
                  <a:srgbClr val="6600ff"/>
                </a:solidFill>
                <a:latin typeface="Arial"/>
              </a:rPr>
              <a:t> (путь хлеба от  поля до хлебозаво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6600ff"/>
                </a:solidFill>
                <a:uFillTx/>
                <a:latin typeface="Arial"/>
              </a:rPr>
              <a:t>Анализ </a:t>
            </a:r>
            <a:r>
              <a:rPr b="1" i="1" lang="ru-RU" sz="1600" spc="-1" strike="noStrike">
                <a:solidFill>
                  <a:srgbClr val="6600ff"/>
                </a:solidFill>
                <a:latin typeface="Arial"/>
              </a:rPr>
              <a:t>– метод научного исследования, мысленное или реальное расчленение объекта исследования на составные части, элемен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6600ff"/>
                </a:solidFill>
                <a:uFillTx/>
                <a:latin typeface="Arial"/>
              </a:rPr>
              <a:t>Мнемотехника-</a:t>
            </a:r>
            <a:r>
              <a:rPr b="1" i="1" lang="ru-RU" sz="1600" spc="-1" strike="noStrike">
                <a:solidFill>
                  <a:srgbClr val="6600ff"/>
                </a:solidFill>
                <a:latin typeface="Arial"/>
              </a:rPr>
              <a:t> это технология развития памяти. Система методов и приёмов, обеспечивающих эффективное запоминани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6600ff"/>
                </a:solidFill>
                <a:uFillTx/>
                <a:latin typeface="Arial"/>
              </a:rPr>
              <a:t>«Крокирование»</a:t>
            </a:r>
            <a:r>
              <a:rPr b="1" i="1" lang="ru-RU" sz="1600" spc="-1" strike="noStrike">
                <a:solidFill>
                  <a:srgbClr val="6600ff"/>
                </a:solidFill>
                <a:latin typeface="Arial"/>
              </a:rPr>
              <a:t> (от франц. </a:t>
            </a:r>
            <a:r>
              <a:rPr b="1" i="1" lang="en-US" sz="1600" spc="-1" strike="noStrike">
                <a:solidFill>
                  <a:srgbClr val="6600ff"/>
                </a:solidFill>
                <a:latin typeface="Arial"/>
              </a:rPr>
              <a:t>croquis</a:t>
            </a:r>
            <a:r>
              <a:rPr b="1" i="1" lang="ru-RU" sz="1600" spc="-1" strike="noStrike">
                <a:solidFill>
                  <a:srgbClr val="6600ff"/>
                </a:solidFill>
                <a:latin typeface="Arial"/>
              </a:rPr>
              <a:t> –  чертеж, схема, набросок) метод мнемотехни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6600ff"/>
                </a:solidFill>
                <a:uFillTx/>
                <a:latin typeface="Arial"/>
              </a:rPr>
              <a:t>эйдетизм,</a:t>
            </a:r>
            <a:r>
              <a:rPr b="1" i="1" lang="ru-RU" sz="1600" spc="-1" strike="noStrike">
                <a:solidFill>
                  <a:srgbClr val="6600ff"/>
                </a:solidFill>
                <a:latin typeface="Arial"/>
              </a:rPr>
              <a:t> использующий образное мышл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00ff"/>
                </a:solidFill>
                <a:latin typeface="Arial"/>
              </a:rPr>
              <a:t>ассоциативных цепочек (или метод «чепухи»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ff"/>
                </a:solidFill>
                <a:latin typeface="Arial"/>
              </a:rPr>
              <a:t>метод трансформации</a:t>
            </a:r>
            <a:r>
              <a:rPr b="1" i="1" lang="ru-RU" sz="1600" spc="-1" strike="noStrike">
                <a:solidFill>
                  <a:srgbClr val="6600ff"/>
                </a:solidFill>
                <a:latin typeface="Arial"/>
              </a:rPr>
              <a:t> (превращени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6600ff"/>
                </a:solidFill>
                <a:uFillTx/>
                <a:latin typeface="Arial"/>
              </a:rPr>
              <a:t>метод Цицерона</a:t>
            </a:r>
            <a:r>
              <a:rPr b="1" i="1" lang="ru-RU" sz="1600" spc="-1" strike="noStrike">
                <a:solidFill>
                  <a:srgbClr val="6600ff"/>
                </a:solidFill>
                <a:latin typeface="Arial"/>
              </a:rPr>
              <a:t> (кто? что? какой? когда? </a:t>
            </a:r>
            <a:r>
              <a:rPr b="1" i="1" lang="en-US" sz="1600" spc="-1" strike="noStrike">
                <a:solidFill>
                  <a:srgbClr val="6600ff"/>
                </a:solidFill>
                <a:latin typeface="Arial"/>
              </a:rPr>
              <a:t>c</a:t>
            </a:r>
            <a:r>
              <a:rPr b="1" i="1" lang="ru-RU" sz="1600" spc="-1" strike="noStrike">
                <a:solidFill>
                  <a:srgbClr val="6600ff"/>
                </a:solidFill>
                <a:latin typeface="Arial"/>
              </a:rPr>
              <a:t> кем? почему? что делают? для чего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6600ff"/>
                </a:solidFill>
                <a:uFillTx/>
                <a:latin typeface="Arial"/>
              </a:rPr>
              <a:t>Мнемический </a:t>
            </a:r>
            <a:r>
              <a:rPr b="1" i="1" lang="ru-RU" sz="1600" spc="-1" strike="noStrike">
                <a:solidFill>
                  <a:srgbClr val="6600ff"/>
                </a:solidFill>
                <a:latin typeface="Arial"/>
              </a:rPr>
              <a:t>– относящийся к процессу запоми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6600ff"/>
                </a:solidFill>
                <a:uFillTx/>
                <a:latin typeface="Arial"/>
              </a:rPr>
              <a:t>Моделирование </a:t>
            </a:r>
            <a:r>
              <a:rPr b="1" i="1" lang="ru-RU" sz="1600" spc="-1" strike="noStrike">
                <a:solidFill>
                  <a:srgbClr val="6600ff"/>
                </a:solidFill>
                <a:latin typeface="Arial"/>
              </a:rPr>
              <a:t>- замена образов, действующих лиц художественного произведения какими-либо знаками или геометрическими фигурами.</a:t>
            </a:r>
            <a:r>
              <a:rPr b="0" lang="ru-RU" sz="16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6600ff"/>
                </a:solidFill>
                <a:uFillTx/>
                <a:latin typeface="Arial"/>
              </a:rPr>
              <a:t>Опорные сигналы</a:t>
            </a:r>
            <a:r>
              <a:rPr b="1" i="1" lang="ru-RU" sz="1600" spc="-1" strike="noStrike">
                <a:solidFill>
                  <a:srgbClr val="6600ff"/>
                </a:solidFill>
                <a:latin typeface="Arial"/>
              </a:rPr>
              <a:t> - кодировка текста с помощью ключевых слов, букв-сигналов, предметных образов, чертежей. Основана на зрительной памяти</a:t>
            </a:r>
            <a:r>
              <a:rPr b="0" i="1" lang="ru-RU" sz="1600" spc="-1" strike="noStrike">
                <a:solidFill>
                  <a:srgbClr val="6600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nodeType="clickEffect" fill="hold">
                      <p:stCondLst>
                        <p:cond delay="0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0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3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6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9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2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5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8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1" dur="2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4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7" dur="20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0" dur="20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4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8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2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6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0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9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4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9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8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9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2" dur="2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9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6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9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0" dur="20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9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4" dur="20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Библиогра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[wallcoo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228600" y="962280"/>
            <a:ext cx="8534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урналы ''Дошкольное воспитание'' №12 за 2000 г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,10,12 за 2001г.; №4,12 за 2002г; № 9 за199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льина М.В. «Воображение и творческое мышление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ия «Психологическая служба». Книголюб. М.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рьянова. Р.А. Комплексная диагностика дошкольников.Спб.Каро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одяжная Т.П «Управление современным ДОУ» Ростов-н/Д, Учитель.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глядно-дидактическое пособие  Ткаченко Т.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Составление описательных рассказов по опорным схема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. руководство, картинный комплект. М.: Книголюб,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глядно-дидактическое пособие  «Открой для себя мир». Августин. Герм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хомирова Л.Ф. ''Познавательные способности детей 5-7 лет''. М.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збекова Е.Ю. «Ступеньки творчества» Место игры в интеллектуальном развитии дошкольника. М. Линка-пресс. 200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nodeType="clickEffect" fill="hold">
                      <p:stCondLst>
                        <p:cond delay="0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6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0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4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8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2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6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0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4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8" dur="2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2" dur="20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6" dur="20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0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0" dur="2000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Перечень тем, методик и вопросов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Children_Day_vector_wallpaper_167973"/>
          <p:cNvPicPr/>
          <p:nvPr/>
        </p:nvPicPr>
        <p:blipFill>
          <a:blip r:embed="rId1"/>
          <a:stretch/>
        </p:blipFill>
        <p:spPr>
          <a:xfrm>
            <a:off x="380880" y="1676520"/>
            <a:ext cx="8382240" cy="44956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457200" y="685800"/>
            <a:ext cx="800100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Что такое мнемотех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Составление описательных рассказов при помощи опорных графиче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схем-рисун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Рисование детьми графических схем (планов) по описательному рассказу (перекодиров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Рисование мнемодорожки (графический план, схема) по загадкам,пословицам, сказ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Глоссарий по 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Используемая литерату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400" spc="-1" strike="noStrike" u="sng">
                <a:solidFill>
                  <a:srgbClr val="6600ff"/>
                </a:solidFill>
                <a:uFillTx/>
                <a:latin typeface="Arial"/>
              </a:rPr>
              <a:t>Мнемотехника - это технология развития памяти</a:t>
            </a:r>
            <a:br>
              <a:rPr sz="1800"/>
            </a:b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38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ff"/>
                </a:solidFill>
                <a:latin typeface="Arial"/>
              </a:rPr>
              <a:t>Мнемотехника- это система методов и приёмов, обеспечивающих эффективное запоминание, сохранение и воспроизведение информ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Использование мнемотехники для дошкольников в настоящее время становится всё более актуальны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Особое место в работе с детьми занимает использование в качестве дидактического материала </a:t>
            </a:r>
            <a:r>
              <a:rPr b="1" i="1" lang="ru-RU" sz="1600" spc="-1" strike="noStrike" u="sng">
                <a:solidFill>
                  <a:srgbClr val="6600ff"/>
                </a:solidFill>
                <a:uFillTx/>
                <a:latin typeface="Arial"/>
              </a:rPr>
              <a:t>мнемотабли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ff"/>
                </a:solidFill>
                <a:latin typeface="Arial"/>
              </a:rPr>
              <a:t>Три года на речевых семинарах мы обучаем воспитателей приёмам работы с мнемотаблицами, составлению рассказов по символам, алгоритм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ff"/>
                </a:solidFill>
                <a:latin typeface="Arial"/>
              </a:rPr>
              <a:t>Сейчас дети уже с удовольствием сами рисуют схемы, записывая свои рассказы в символах-картинк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447560"/>
            <a:ext cx="40384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Мнемотаблица –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 это схема, в которую заложена определённая информация. Овладение приёмами работы с мнемотаблицами значительно сокращает время обучения и одновременно решает следующие 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развитие основных психических процессов – памяти, внимания, восприятия, мышления, особенно, образног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кодирование информации, то есть, преобразование предметов, образов в абстрактные знаки, символ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перекодирование информации, то есть, преобразование из абстрактных символов в образ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развитие мелкой моторики рук при частичном или полном графическом воспроизведении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6705720" y="5398920"/>
            <a:ext cx="1839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Методы и приёмы мнемотех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Во-первых, надо обратить внимание на совершенствование восприятия: зрения, слуха, тактильных ощущений, обоняния, вкусовых ощущений. На занятиях должно быть использовано множество разнообразных средств для тренинга названных чувств.</a:t>
            </a:r>
            <a:br>
              <a:rPr sz="1600"/>
            </a:b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Во-вторых, необходимо сформировать у детей навыки запоминания любой информации. Эффективны следующие метод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метод «крокирования» (от франц. 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croquis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–  чертеж, схема, набросок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метод, использующий образное мышление (эйдетизм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метод ассоциативных цепочек (или метод «чепухи»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метод трансформации (превраще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В-третьих, наша задача - научить детей управлять своим вниманием, сделать его послуш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Кроме того, есть еще целый ряд оригинальных упражнений, стимулирующих интеллектуальное развитие ребе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cc"/>
                </a:solidFill>
                <a:latin typeface="Arial"/>
              </a:rPr>
              <a:t>Когда начинать заниматься мнемотехник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Мнемотехникой можно начинать заниматься с раннего возрас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но рациональнее ввод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ее в занятия с 4-5 л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когда у них накоплен основной словарный зап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Составление рассказов-описаний</a:t>
            </a: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по теме « Игрушк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Кукла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Это —кукла Маша. Ее купили в магазине. Она сделана из рези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 куклы есть головка, шейка, ручки, туловище, ножки. Кукла нарядная. На ней красное платьице и белые туфельки. Кукла Маша — игрушка. С ней играют. С куклой нужно обращаться аккуратно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я самая любимая игрушка - это машин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а ярко-красного цвета, прямо­угольной формы. Мой грузовик небольшого размера. У него есть кузов, кабина, колеса, фары. В кабине имеются руль и сиденья. Кабина у грузовика - металли­ческая, колеса резиновые, окна стеклянные, а кресла - кожан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Я очень люблю представлять себя шофером, водить свой грузовик, мыть его, ремонтировать, если он слома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76160"/>
            <a:ext cx="4038480" cy="24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1. Цвет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акого цвета игрушка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2. Форм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акой она формы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3.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Мячи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акого размера игрушка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4. Детали машины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Назови ее детали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5. 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Контур с вопросом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Из какого материала сделана игрушка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6.  Рук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ак с этой игрушкой можно играть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2" descr="SWScan00_0"/>
          <p:cNvPicPr/>
          <p:nvPr/>
        </p:nvPicPr>
        <p:blipFill>
          <a:blip r:embed="rId1"/>
          <a:stretch/>
        </p:blipFill>
        <p:spPr>
          <a:xfrm>
            <a:off x="5105520" y="4495680"/>
            <a:ext cx="380988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Составление описательных рассказов  по графической схеме</a:t>
            </a:r>
            <a:br>
              <a:rPr sz="2000"/>
            </a:b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«Одеж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лать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меня есть любимое платье. Оно голубого цвета с мелкими белыми цветочками. У платья есть кокетка, юбка, рукава, манжеты, воротник, застежка-молния, карманы и поясок с пряжкой. Платье сшито из тонкого шелка, оно шелковое. Это нарядное летнее детское платье. Платье можно постирать, погладить, его можно носить, а если оно порвется, то я его заш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баш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это мужская одежда. Она сшита из ткани. У рубашки есть воротник, рукава, манжеты, карман, пуговицы и петельки. Она полосата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495680" y="1066680"/>
            <a:ext cx="41911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Цвет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акого цвета одежда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2.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Детали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Из каких деталей одежда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3. Контур, знак вопрос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Из какого материала она сшита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4. Погод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Для какого времени года эта одежда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5. Мужчина, женщина, ребенок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Это одежда мужская, женская или детская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6.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Рук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Что можно сделать с одеждой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2" descr="SWScan00_0"/>
          <p:cNvPicPr/>
          <p:nvPr/>
        </p:nvPicPr>
        <p:blipFill>
          <a:blip r:embed="rId1"/>
          <a:stretch/>
        </p:blipFill>
        <p:spPr>
          <a:xfrm>
            <a:off x="5410080" y="4495680"/>
            <a:ext cx="3505320" cy="218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9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Составление описательных рассказов об обуви</a:t>
            </a:r>
            <a:br>
              <a:rPr sz="2000"/>
            </a:b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 по графическому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Сап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это обувь. Они сделаны из кожи, они кожаные. У сапог есть голенища, молнии, носки, подошвы, каблуки. Сапоги носят зимой, весной и осенью». У меня есть сапоги. Они зеленого цвета с белыми полосками. Это резиновые сапоги. У сапог длинные голенища, подошва, каблуки, а внутри — специальные теплые стельки. Они маленького размера, детские. Резиновые сапоги носят в дождливую погоду, а еще их можно обуть на рыбалку или когда идешь в лес за грибами. Резиновую обувь нужно хорошо просушить после но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8320" y="1219320"/>
            <a:ext cx="4038480" cy="25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Цвет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акого цвета обувь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2. Контур, знак вопрос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Из какого материала она сделана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3.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Детали предмет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Назови части обуви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4. Мужчина, женщина, ребенок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то носит эту обувь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5.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Солнышко, дождь, снег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Для какой погоды эта обувь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6.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Рук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ак  ухаживать за обувью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" descr="SWScan00_0"/>
          <p:cNvPicPr/>
          <p:nvPr/>
        </p:nvPicPr>
        <p:blipFill>
          <a:blip r:embed="rId1"/>
          <a:stretch/>
        </p:blipFill>
        <p:spPr>
          <a:xfrm>
            <a:off x="4952880" y="4267080"/>
            <a:ext cx="3810240" cy="218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3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7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5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Составление графического плана рассказа</a:t>
            </a: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на тему «Гриб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384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енью в лесу наступает грибная пора. В траве, под деревьями и кустами, на старых пнях растут самые разные гриб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ъедобные: белые, рыжики, подосиновики, подберезовики, грузди, опята, сыроежки, лисич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ядовитые: мухоморы, поганки, ложные опя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ногие животные, например белочки, сушат грибы на зиму. Лоси едят мухомор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юди собирают съедобные грибы, чтобы засушить, засолить или замариновать их. Собирать грибы нужно очень аккуратно, стараясь не повредить грибницу, и тогда на следующий год на этом месте в лесу появятся новые грибные семей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1. Лес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Лес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2. Белый гриб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Съедобные грибы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3. Мухомор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Несъедобные гриб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4. Ежик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Грибы для животных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5. Корзинк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Грибы для человека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6. Рук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Что можно приготовить из грибов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1" descr="HWScan00_0"/>
          <p:cNvPicPr/>
          <p:nvPr/>
        </p:nvPicPr>
        <p:blipFill>
          <a:blip r:embed="rId1"/>
          <a:stretch/>
        </p:blipFill>
        <p:spPr>
          <a:xfrm>
            <a:off x="5129280" y="4419720"/>
            <a:ext cx="355752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3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7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1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5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9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3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7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1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5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9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3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ч — птица черного цвета с белым клювом. У грача есть голова, туловище, крылья, хвост, лапы. Все тело птицы покрыто перьями. Весной грачи прилетают из теплых стран, строят гнезда и выводят птенцов — грачат. Грачи питаются насекомыми, червями и семенами растений. Осенью, когда становится холодно, грачи собираются в стаи и улетают в жаркие страны до следующей весны. Грачи помогают человеку — они уничтожают насекомых и гусениц — вредителей полей и ого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48320" y="1371600"/>
            <a:ext cx="40384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1. Цвет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Цвет оперенья птицы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2.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Части тел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Назови части ее тела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3. Гнездо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Назови ее птенцов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4. Осень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огда птицы улетают в теплые края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5. Насекомые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Чем птицы питаются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6.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Человек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акую пользу приносят птицы человеку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2" descr="HWScan00_0"/>
          <p:cNvPicPr/>
          <p:nvPr/>
        </p:nvPicPr>
        <p:blipFill>
          <a:blip r:embed="rId1"/>
          <a:stretch/>
        </p:blipFill>
        <p:spPr>
          <a:xfrm>
            <a:off x="4648320" y="4114800"/>
            <a:ext cx="4038480" cy="2286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290520" y="439920"/>
            <a:ext cx="856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Составление графического плана расск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на тему «Перелетные птиц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5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8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2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6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4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8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2" dur="1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6" dur="1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атолий</dc:creator>
  <dc:description/>
  <dc:language>en-US</dc:language>
  <cp:lastModifiedBy>Люда</cp:lastModifiedBy>
  <dcterms:modified xsi:type="dcterms:W3CDTF">2021-11-07T10:48:55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