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113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805200" y="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19760" cy="368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760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9361440"/>
            <a:ext cx="29113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4"/>
          </p:nvPr>
        </p:nvSpPr>
        <p:spPr>
          <a:xfrm>
            <a:off x="3804840" y="9361080"/>
            <a:ext cx="290340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0D41A-1B63-4CD7-BDEF-403DDDF968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E09F4-A42C-4CCB-BAB4-826A5509CB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683DD-2EC7-488F-8F22-57F885B824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BC921-D1B6-482A-AD94-524AD1E1E6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5320" y="4681080"/>
            <a:ext cx="492768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86D3F-11D4-4F32-8751-37E6E78DF7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95320" y="4681080"/>
            <a:ext cx="492768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603E4-684D-4931-A4CE-A07603C150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95320" y="4681080"/>
            <a:ext cx="492768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B37FA-3909-4005-BEFE-368EF74C5D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95320" y="4681080"/>
            <a:ext cx="492768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4DE99-A270-403C-9EB6-B80841FB37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3F2CC-E723-4AB5-ADFF-CCCD2095F0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BACF1-BF9D-4940-9192-820709B2FA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5320" y="4681080"/>
            <a:ext cx="492768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E474-5F3B-4A94-AA03-CB4EB1165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64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226400"/>
            <a:ext cx="7764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D0B49-0CFE-4D3E-A529-971771A6E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22640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1320" y="422640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94A8-2809-4350-8DA3-10ACCB379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7720" y="201744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3200" y="201744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22640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7720" y="422640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3200" y="422640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FCF58-69A7-444B-9779-2C3905CB2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EADAB-2BC4-4B67-B16D-6DCBF60918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64480" cy="42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F51F8-DF14-4A70-AFD9-19B8BBF592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6448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149A1-E37D-4BB0-85ED-2A159F0E18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EC874-BB3F-46F8-A79B-CB67849975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4103F-1A52-46AF-80CC-4C7C7CD347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318960"/>
            <a:ext cx="7785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09352-F37A-4A37-AF41-C0ACA435E4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22640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D51DD-BF5A-4C57-81A8-818E82A5A8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64480" cy="42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3D7F-6A07-4733-A45F-6A9953102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1320" y="422640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C37D2-86DE-4AFD-884B-D41DF15E35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226400"/>
            <a:ext cx="7764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C17B5-673F-4E0B-8ECB-52A5CAF072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64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226400"/>
            <a:ext cx="7764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776A0-9BFB-4E5B-869A-F2D7CD81E7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22640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1320" y="422640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E868C-59D5-482D-8491-1B1C0C7DEB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07720" y="201744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3200" y="201744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22640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07720" y="422640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3200" y="422640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7E131-4F2A-4921-A8CB-68BBB003CD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3BC9-5228-452F-AE48-908A60D8D2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64480" cy="42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018-B2DD-4B59-9A1D-5E74CA5DF3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6448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06A-D7EE-4184-9565-F50C0E926B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61DC-9E1B-4FE5-BE9A-7B234E7148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C80-2649-4D63-AD32-443E0972B5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6448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F899-68B9-449B-AF00-457C9FED5C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318960"/>
            <a:ext cx="7785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1CF-D8DB-4455-8296-DE8EA288E0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22640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E80E-228C-4B89-A736-41ABB964F6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1320" y="422640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CBA-6778-4F79-9B0A-C9BF82ED92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226400"/>
            <a:ext cx="7764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167-C4F4-4C0C-A196-527056FC3F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64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226400"/>
            <a:ext cx="7764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E609-E3F3-4E64-B587-F95CA2D618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22640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1320" y="422640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A17-A637-4531-905A-444C6F8A50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07720" y="201744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3200" y="201744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22640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07720" y="422640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3200" y="4226400"/>
            <a:ext cx="24998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2D74-A61E-4560-9E68-F394B7292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8547-340A-4384-B6DC-E43EBDF35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B08AB-FCAB-4B28-B74C-32BF85D3A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318960"/>
            <a:ext cx="7785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1FEE8-DBB5-4283-8580-C34DC3ACC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22640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2776-1836-4C8E-A80E-F91F97DE3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1320" y="422640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6B31-1331-4F19-8E96-929EAC6A2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1320" y="2017440"/>
            <a:ext cx="37890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226400"/>
            <a:ext cx="7764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51CD5-DA79-4597-878A-3F49398E8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8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6448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914400" y="632160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3352680" y="632160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6781680" y="6307200"/>
            <a:ext cx="18972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FCBE1-17A2-4845-BE29-C1C2807957A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6AE128A-C190-4566-9186-D85197164D1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001080" cy="1044720"/>
            <a:chOff x="0" y="2438280"/>
            <a:chExt cx="9001080" cy="1044720"/>
          </a:xfrm>
        </p:grpSpPr>
        <p:grpSp>
          <p:nvGrpSpPr>
            <p:cNvPr id="90" name=""/>
            <p:cNvGrpSpPr/>
            <p:nvPr/>
          </p:nvGrpSpPr>
          <p:grpSpPr>
            <a:xfrm>
              <a:off x="293760" y="2546280"/>
              <a:ext cx="704880" cy="466920"/>
              <a:chOff x="293760" y="2546280"/>
              <a:chExt cx="704880" cy="466920"/>
            </a:xfrm>
          </p:grpSpPr>
          <p:sp>
            <p:nvSpPr>
              <p:cNvPr id="91" name=""/>
              <p:cNvSpPr/>
              <p:nvPr/>
            </p:nvSpPr>
            <p:spPr>
              <a:xfrm>
                <a:off x="293760" y="2546280"/>
                <a:ext cx="430200" cy="466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7880" y="2546280"/>
                <a:ext cx="320760" cy="4669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7600" y="2968560"/>
              <a:ext cx="731880" cy="466920"/>
              <a:chOff x="417600" y="2968560"/>
              <a:chExt cx="731880" cy="466920"/>
            </a:xfrm>
          </p:grpSpPr>
          <p:sp>
            <p:nvSpPr>
              <p:cNvPr id="94" name=""/>
              <p:cNvSpPr/>
              <p:nvPr/>
            </p:nvSpPr>
            <p:spPr>
              <a:xfrm>
                <a:off x="417600" y="2968560"/>
                <a:ext cx="414360" cy="4669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7320" y="2968560"/>
                <a:ext cx="362160" cy="4669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cf0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0" y="2895480"/>
              <a:ext cx="552600" cy="4143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040" y="2438280"/>
              <a:ext cx="23760" cy="10447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6080" y="3260520"/>
              <a:ext cx="8685000" cy="475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c1c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318960"/>
            <a:ext cx="7785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6448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D300ED5-75B1-443E-AD42-7F65AA58904B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6365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Обобщение опыта работы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79280"/>
            <a:ext cx="9144000" cy="90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редняя общеобразовательная школа № 15 с.Ивановского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63520" y="2333520"/>
            <a:ext cx="85806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Развитие критического мышления учащихся начальных классов посредством чтения и письма»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083480" y="5985000"/>
            <a:ext cx="11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013 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811080" y="1968480"/>
            <a:ext cx="7877160" cy="3460680"/>
            <a:chOff x="811080" y="1968480"/>
            <a:chExt cx="7877160" cy="3460680"/>
          </a:xfrm>
        </p:grpSpPr>
        <p:cxnSp>
          <p:nvCxnSpPr>
            <p:cNvPr id="180" name=""/>
            <p:cNvCxnSpPr/>
            <p:nvPr/>
          </p:nvCxnSpPr>
          <p:spPr>
            <a:xfrm>
              <a:off x="6578280" y="3755520"/>
              <a:ext cx="648360" cy="108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181" name=""/>
            <p:cNvSpPr/>
            <p:nvPr/>
          </p:nvSpPr>
          <p:spPr>
            <a:xfrm>
              <a:off x="3181320" y="1968480"/>
              <a:ext cx="3395520" cy="228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 u="sng">
                  <a:solidFill>
                    <a:srgbClr val="1c1c1c"/>
                  </a:solidFill>
                  <a:uFillTx/>
                  <a:latin typeface="Verdana"/>
                </a:rPr>
                <a:t>Ствол дерев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1c1c1c"/>
                  </a:solidFill>
                  <a:latin typeface="Verdana"/>
                </a:rPr>
                <a:t>1.Что будет дальше?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1c1c1c"/>
                  </a:solidFill>
                  <a:latin typeface="Verdana"/>
                </a:rPr>
                <a:t>2.Чем закончится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1c1c1c"/>
                  </a:solidFill>
                  <a:latin typeface="Verdana"/>
                </a:rPr>
                <a:t>рассказ?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1c1c1c"/>
                  </a:solidFill>
                  <a:latin typeface="Verdana"/>
                </a:rPr>
                <a:t>3. Что может произойт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1c1c1c"/>
                  </a:solidFill>
                  <a:latin typeface="Verdana"/>
                </a:rPr>
                <a:t>в рассказе с таким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1c1c1c"/>
                  </a:solidFill>
                  <a:latin typeface="Verdana"/>
                </a:rPr>
                <a:t>названием?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1080" y="3429000"/>
              <a:ext cx="1774800" cy="8650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Verdana"/>
                </a:rPr>
                <a:t>I</a:t>
              </a:r>
              <a:r>
                <a:rPr b="1" lang="ru-RU" sz="1400" spc="-1" strike="noStrike">
                  <a:solidFill>
                    <a:srgbClr val="1c1c1c"/>
                  </a:solidFill>
                  <a:latin typeface="Verdana"/>
                </a:rPr>
                <a:t> группа – </a:t>
              </a:r>
              <a:r>
                <a:rPr b="1" lang="en-US" sz="1400" spc="-1" strike="noStrike">
                  <a:solidFill>
                    <a:srgbClr val="1c1c1c"/>
                  </a:solidFill>
                  <a:latin typeface="Verdana"/>
                </a:rPr>
                <a:t>I </a:t>
              </a:r>
              <a:r>
                <a:rPr b="1" lang="ru-RU" sz="1400" spc="-1" strike="noStrike">
                  <a:solidFill>
                    <a:srgbClr val="1c1c1c"/>
                  </a:solidFill>
                  <a:latin typeface="Verdana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49560" y="4780080"/>
              <a:ext cx="2071800" cy="6490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III </a:t>
              </a: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группа - 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III </a:t>
              </a: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53120" y="3359160"/>
              <a:ext cx="1635120" cy="9050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Verdana"/>
                </a:rPr>
                <a:t>II </a:t>
              </a:r>
              <a:r>
                <a:rPr b="1" lang="ru-RU" sz="1400" spc="-1" strike="noStrike">
                  <a:solidFill>
                    <a:srgbClr val="1c1c1c"/>
                  </a:solidFill>
                  <a:latin typeface="Verdana"/>
                </a:rPr>
                <a:t>группа – </a:t>
              </a:r>
              <a:r>
                <a:rPr b="1" lang="en-US" sz="1400" spc="-1" strike="noStrike">
                  <a:solidFill>
                    <a:srgbClr val="1c1c1c"/>
                  </a:solidFill>
                  <a:latin typeface="Verdana"/>
                </a:rPr>
                <a:t>II </a:t>
              </a:r>
              <a:r>
                <a:rPr b="1" lang="ru-RU" sz="1400" spc="-1" strike="noStrike">
                  <a:solidFill>
                    <a:srgbClr val="1c1c1c"/>
                  </a:solidFill>
                  <a:latin typeface="Verdana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85" name=""/>
            <p:cNvCxnSpPr/>
            <p:nvPr/>
          </p:nvCxnSpPr>
          <p:spPr>
            <a:xfrm>
              <a:off x="2598480" y="3793680"/>
              <a:ext cx="608760" cy="108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186" name=""/>
            <p:cNvCxnSpPr/>
            <p:nvPr/>
          </p:nvCxnSpPr>
          <p:spPr>
            <a:xfrm flipH="1">
              <a:off x="4431960" y="4271760"/>
              <a:ext cx="542160" cy="108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</p:grpSp>
      <p:sp>
        <p:nvSpPr>
          <p:cNvPr id="187" name=""/>
          <p:cNvSpPr/>
          <p:nvPr/>
        </p:nvSpPr>
        <p:spPr>
          <a:xfrm>
            <a:off x="1332000" y="620640"/>
            <a:ext cx="71276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f01"/>
                </a:solidFill>
                <a:latin typeface="Tahoma"/>
              </a:rPr>
              <a:t>Дерево предсказани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033640"/>
            <a:ext cx="4827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1560" indent="-601560">
              <a:spcBef>
                <a:spcPts val="125"/>
              </a:spcBef>
              <a:spcAft>
                <a:spcPts val="12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» – уже зна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1560" indent="-601560"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2800" indent="-5256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«+» – новое для мен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492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2800" indent="-5256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«-» – думал по-другом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1560" indent="-60156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1560" indent="-60156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«?» - не понял, есть вопрос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1224000" y="620640"/>
            <a:ext cx="79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Приём «Инсерт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140920" y="0"/>
            <a:ext cx="53578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Приём «Эссе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небольшое письменно зада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(обычно на стадии рефлекси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2700360"/>
            <a:ext cx="884088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498434"/>
                </a:solidFill>
                <a:latin typeface="Tahoma"/>
              </a:rPr>
              <a:t>Правила работы с текстом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Читая текст, делайте пометки (два  </a:t>
            </a:r>
            <a:r>
              <a:rPr b="1" lang="ru-RU" sz="2600" spc="-1" strike="noStrike">
                <a:solidFill>
                  <a:srgbClr val="498434"/>
                </a:solidFill>
                <a:latin typeface="Tahoma"/>
              </a:rPr>
              <a:t>«</a:t>
            </a:r>
            <a:r>
              <a:rPr b="1" lang="en-US" sz="2600" spc="-1" strike="noStrike">
                <a:solidFill>
                  <a:srgbClr val="498434"/>
                </a:solidFill>
                <a:latin typeface="Tahoma"/>
              </a:rPr>
              <a:t>v</a:t>
            </a:r>
            <a:r>
              <a:rPr b="1" lang="ru-RU" sz="2600" spc="-1" strike="noStrike">
                <a:solidFill>
                  <a:srgbClr val="498434"/>
                </a:solidFill>
                <a:latin typeface="Tahoma"/>
              </a:rPr>
              <a:t>» «+»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, три </a:t>
            </a:r>
            <a:r>
              <a:rPr b="1" lang="ru-RU" sz="2600" spc="-1" strike="noStrike">
                <a:solidFill>
                  <a:srgbClr val="498434"/>
                </a:solidFill>
                <a:latin typeface="Tahoma"/>
              </a:rPr>
              <a:t>«</a:t>
            </a:r>
            <a:r>
              <a:rPr b="1" lang="en-US" sz="2600" spc="-1" strike="noStrike">
                <a:solidFill>
                  <a:srgbClr val="498434"/>
                </a:solidFill>
                <a:latin typeface="Tahoma"/>
              </a:rPr>
              <a:t>v</a:t>
            </a:r>
            <a:r>
              <a:rPr b="1" lang="ru-RU" sz="2600" spc="-1" strike="noStrike">
                <a:solidFill>
                  <a:srgbClr val="498434"/>
                </a:solidFill>
                <a:latin typeface="Tahoma"/>
              </a:rPr>
              <a:t>» «+» «?»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, четыре значка </a:t>
            </a:r>
            <a:r>
              <a:rPr b="1" lang="ru-RU" sz="2600" spc="-1" strike="noStrike">
                <a:solidFill>
                  <a:srgbClr val="498434"/>
                </a:solidFill>
                <a:latin typeface="Tahoma"/>
              </a:rPr>
              <a:t>«</a:t>
            </a:r>
            <a:r>
              <a:rPr b="1" lang="en-US" sz="2600" spc="-1" strike="noStrike">
                <a:solidFill>
                  <a:srgbClr val="498434"/>
                </a:solidFill>
                <a:latin typeface="Tahoma"/>
              </a:rPr>
              <a:t>v</a:t>
            </a:r>
            <a:r>
              <a:rPr b="1" lang="ru-RU" sz="2600" spc="-1" strike="noStrike">
                <a:solidFill>
                  <a:srgbClr val="498434"/>
                </a:solidFill>
                <a:latin typeface="Tahoma"/>
              </a:rPr>
              <a:t>» «+» «?» «-»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Ставьте значки по ходу чтения на полях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Прочитав текст один раз, вернитесь к своим предположениям, вспомните, что предполагали раньше, возможно число значков увеличится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904040" y="178596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нравилось ли вам произведение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2462400" y="22971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особенного понравилось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2883960" y="2808360"/>
            <a:ext cx="27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гда было страшно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3259080" y="324648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вызвало смех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592200" y="3859200"/>
            <a:ext cx="24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гда героя жалко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62064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f01"/>
                </a:solidFill>
                <a:latin typeface="Tahoma"/>
              </a:rPr>
              <a:t>Приём – таблица «тонких» и «толстых» вопросов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62064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1332000" y="62064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19120" y="4414680"/>
            <a:ext cx="2443320" cy="19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708360" y="3068640"/>
            <a:ext cx="49021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1560"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ставление словаря по тексту произвед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5435640" y="1413000"/>
            <a:ext cx="3708360" cy="1333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5616720" y="1631880"/>
            <a:ext cx="333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c1c1c"/>
                </a:solidFill>
                <a:latin typeface="Arial"/>
              </a:rPr>
              <a:t>Упражнение «От обратного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216000" y="4743360"/>
            <a:ext cx="4211640" cy="2114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6012000" y="5229360"/>
            <a:ext cx="26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5145120"/>
            <a:ext cx="39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c1c1c"/>
                </a:solidFill>
                <a:latin typeface="Arial"/>
              </a:rPr>
              <a:t>Упражнение «Синквейн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c1c1c"/>
                </a:solidFill>
                <a:latin typeface="Arial"/>
              </a:rPr>
              <a:t>Написание сочин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476280"/>
            <a:ext cx="66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f01"/>
                </a:solidFill>
                <a:latin typeface="Tahoma"/>
              </a:rPr>
              <a:t>Приёмы проведения рефлекси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11280" y="4257720"/>
            <a:ext cx="8136000" cy="26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1c1c1c"/>
                </a:solidFill>
                <a:latin typeface="Arial"/>
              </a:rPr>
              <a:t>Правила написания «Синквейна»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 1-ой строчке - одно слово - существительное – это и есть тема синквей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 2-ой– два прилагательных, раскрывающих тему синквей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 3-ей- три глагола, описывающих действия, относящиеся к теме синквейн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на 4-ой – целая фраза, предложение,с помощью которого ученик высказывае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1c1c1c"/>
                </a:solidFill>
                <a:latin typeface="Arial"/>
              </a:rPr>
              <a:t>свое личное отношение к теме синквей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1557360"/>
            <a:ext cx="435456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квейн – стихотворение,состояще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пяти строк и написанно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пределенным правил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76280"/>
            <a:ext cx="66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f01"/>
                </a:solidFill>
                <a:latin typeface="Tahoma"/>
              </a:rPr>
              <a:t>Приём «Синквейн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50960" y="1792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Бортовой журна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1760" y="182160"/>
            <a:ext cx="778824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772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195640" y="2708280"/>
          <a:ext cx="6648480" cy="3121200"/>
        </p:xfrm>
        <a:graphic>
          <a:graphicData uri="http://schemas.openxmlformats.org/drawingml/2006/table">
            <a:tbl>
              <a:tblPr/>
              <a:tblGrid>
                <a:gridCol w="3324240"/>
                <a:gridCol w="3324240"/>
              </a:tblGrid>
              <a:tr h="107100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Известная информ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и пред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Новая информ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212840" y="179280"/>
            <a:ext cx="708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риём «Составление маркировочной таблицы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«З-Х-У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192640" y="2370240"/>
          <a:ext cx="3578400" cy="1569960"/>
        </p:xfrm>
        <a:graphic>
          <a:graphicData uri="http://schemas.openxmlformats.org/drawingml/2006/table">
            <a:tbl>
              <a:tblPr/>
              <a:tblGrid>
                <a:gridCol w="1035000"/>
                <a:gridCol w="1589040"/>
                <a:gridCol w="954360"/>
              </a:tblGrid>
              <a:tr h="609480">
                <a:tc>
                  <a:txBody>
                    <a:bodyPr lIns="68760" rIns="68760" tIns="156600" bIns="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Зн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156600" bIns="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Хочу узн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156600" bIns="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0480">
                <a:tc>
                  <a:txBody>
                    <a:bodyPr lIns="68760" rIns="68760" tIns="122040" bIns="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122040" bIns="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122040" bIns="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212840" y="179280"/>
            <a:ext cx="7083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82600" y="2017800"/>
          <a:ext cx="3791160" cy="3905280"/>
        </p:xfrm>
        <a:graphic>
          <a:graphicData uri="http://schemas.openxmlformats.org/drawingml/2006/table">
            <a:tbl>
              <a:tblPr/>
              <a:tblGrid>
                <a:gridCol w="3791160"/>
              </a:tblGrid>
              <a:tr h="750960">
                <a:tc>
                  <a:txBody>
                    <a:bodyPr lIns="90000" rIns="90000" tIns="1418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ыписки из текс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4320">
                <a:tc>
                  <a:txBody>
                    <a:bodyPr lIns="90000" rIns="90000" tIns="141840" bIns="46800" anchor="t">
                      <a:noAutofit/>
                    </a:bodyPr>
                    <a:p>
                      <a:pPr marL="338040" indent="-338040">
                        <a:lnSpc>
                          <a:spcPct val="86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338040"/>
                          <a:tab algn="l" pos="785880"/>
                          <a:tab algn="l" pos="1235160"/>
                          <a:tab algn="l" pos="1684440"/>
                          <a:tab algn="l" pos="2133720"/>
                          <a:tab algn="l" pos="2583000"/>
                          <a:tab algn="l" pos="3032280"/>
                          <a:tab algn="l" pos="3481560"/>
                          <a:tab algn="l" pos="3930480"/>
                          <a:tab algn="l" pos="4379760"/>
                          <a:tab algn="l" pos="4829040"/>
                          <a:tab algn="l" pos="5278320"/>
                          <a:tab algn="l" pos="5727600"/>
                          <a:tab algn="l" pos="6176880"/>
                          <a:tab algn="l" pos="6626160"/>
                          <a:tab algn="l" pos="7075440"/>
                          <a:tab algn="l" pos="7524720"/>
                          <a:tab algn="l" pos="7974000"/>
                          <a:tab algn="l" pos="8423280"/>
                          <a:tab algn="l" pos="8872560"/>
                          <a:tab algn="l" pos="93218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а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38040" indent="-338040">
                        <a:lnSpc>
                          <a:spcPct val="86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338040"/>
                          <a:tab algn="l" pos="785880"/>
                          <a:tab algn="l" pos="1235160"/>
                          <a:tab algn="l" pos="1684440"/>
                          <a:tab algn="l" pos="2133720"/>
                          <a:tab algn="l" pos="2583000"/>
                          <a:tab algn="l" pos="3032280"/>
                          <a:tab algn="l" pos="3481560"/>
                          <a:tab algn="l" pos="3930480"/>
                          <a:tab algn="l" pos="4379760"/>
                          <a:tab algn="l" pos="4829040"/>
                          <a:tab algn="l" pos="5278320"/>
                          <a:tab algn="l" pos="5727600"/>
                          <a:tab algn="l" pos="6176880"/>
                          <a:tab algn="l" pos="6626160"/>
                          <a:tab algn="l" pos="7075440"/>
                          <a:tab algn="l" pos="7524720"/>
                          <a:tab algn="l" pos="7974000"/>
                          <a:tab algn="l" pos="8423280"/>
                          <a:tab algn="l" pos="8872560"/>
                          <a:tab algn="l" pos="93218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з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38040" indent="-338040">
                        <a:lnSpc>
                          <a:spcPct val="86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338040"/>
                          <a:tab algn="l" pos="785880"/>
                          <a:tab algn="l" pos="1235160"/>
                          <a:tab algn="l" pos="1684440"/>
                          <a:tab algn="l" pos="2133720"/>
                          <a:tab algn="l" pos="2583000"/>
                          <a:tab algn="l" pos="3032280"/>
                          <a:tab algn="l" pos="3481560"/>
                          <a:tab algn="l" pos="3930480"/>
                          <a:tab algn="l" pos="4379760"/>
                          <a:tab algn="l" pos="4829040"/>
                          <a:tab algn="l" pos="5278320"/>
                          <a:tab algn="l" pos="5727600"/>
                          <a:tab algn="l" pos="6176880"/>
                          <a:tab algn="l" pos="6626160"/>
                          <a:tab algn="l" pos="7075440"/>
                          <a:tab algn="l" pos="7524720"/>
                          <a:tab algn="l" pos="7974000"/>
                          <a:tab algn="l" pos="8423280"/>
                          <a:tab algn="l" pos="8872560"/>
                          <a:tab algn="l" pos="93218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ое поняти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38040" indent="-338040">
                        <a:lnSpc>
                          <a:spcPct val="86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338040"/>
                          <a:tab algn="l" pos="785880"/>
                          <a:tab algn="l" pos="1235160"/>
                          <a:tab algn="l" pos="1684440"/>
                          <a:tab algn="l" pos="2133720"/>
                          <a:tab algn="l" pos="2583000"/>
                          <a:tab algn="l" pos="3032280"/>
                          <a:tab algn="l" pos="3481560"/>
                          <a:tab algn="l" pos="3930480"/>
                          <a:tab algn="l" pos="4379760"/>
                          <a:tab algn="l" pos="4829040"/>
                          <a:tab algn="l" pos="5278320"/>
                          <a:tab algn="l" pos="5727600"/>
                          <a:tab algn="l" pos="6176880"/>
                          <a:tab algn="l" pos="6626160"/>
                          <a:tab algn="l" pos="7075440"/>
                          <a:tab algn="l" pos="7524720"/>
                          <a:tab algn="l" pos="7974000"/>
                          <a:tab algn="l" pos="8423280"/>
                          <a:tab algn="l" pos="8872560"/>
                          <a:tab algn="l" pos="93218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162400" y="2017800"/>
          <a:ext cx="3791160" cy="3848040"/>
        </p:xfrm>
        <a:graphic>
          <a:graphicData uri="http://schemas.openxmlformats.org/drawingml/2006/table">
            <a:tbl>
              <a:tblPr/>
              <a:tblGrid>
                <a:gridCol w="3791160"/>
              </a:tblGrid>
              <a:tr h="870120">
                <a:tc>
                  <a:txBody>
                    <a:bodyPr lIns="90000" rIns="90000" tIns="1418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опросы и комментари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040">
                <a:tc>
                  <a:txBody>
                    <a:bodyPr lIns="90000" rIns="90000" tIns="141840" bIns="46800" anchor="t">
                      <a:noAutofit/>
                    </a:bodyPr>
                    <a:p>
                      <a:pPr marL="338040" indent="-338040">
                        <a:lnSpc>
                          <a:spcPct val="86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338040"/>
                          <a:tab algn="l" pos="785880"/>
                          <a:tab algn="l" pos="1235160"/>
                          <a:tab algn="l" pos="1684440"/>
                          <a:tab algn="l" pos="2133720"/>
                          <a:tab algn="l" pos="2583000"/>
                          <a:tab algn="l" pos="3032280"/>
                          <a:tab algn="l" pos="3481560"/>
                          <a:tab algn="l" pos="3930480"/>
                          <a:tab algn="l" pos="4379760"/>
                          <a:tab algn="l" pos="4829040"/>
                          <a:tab algn="l" pos="5278320"/>
                          <a:tab algn="l" pos="5727600"/>
                          <a:tab algn="l" pos="6176880"/>
                          <a:tab algn="l" pos="6626160"/>
                          <a:tab algn="l" pos="7075440"/>
                          <a:tab algn="l" pos="7524720"/>
                          <a:tab algn="l" pos="7974000"/>
                          <a:tab algn="l" pos="8423280"/>
                          <a:tab algn="l" pos="8872560"/>
                          <a:tab algn="l" pos="93218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заставило записать именно эту цитату?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38040" indent="-338040">
                        <a:lnSpc>
                          <a:spcPct val="86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338040"/>
                          <a:tab algn="l" pos="785880"/>
                          <a:tab algn="l" pos="1235160"/>
                          <a:tab algn="l" pos="1684440"/>
                          <a:tab algn="l" pos="2133720"/>
                          <a:tab algn="l" pos="2583000"/>
                          <a:tab algn="l" pos="3032280"/>
                          <a:tab algn="l" pos="3481560"/>
                          <a:tab algn="l" pos="3930480"/>
                          <a:tab algn="l" pos="4379760"/>
                          <a:tab algn="l" pos="4829040"/>
                          <a:tab algn="l" pos="5278320"/>
                          <a:tab algn="l" pos="5727600"/>
                          <a:tab algn="l" pos="6176880"/>
                          <a:tab algn="l" pos="6626160"/>
                          <a:tab algn="l" pos="7075440"/>
                          <a:tab algn="l" pos="7524720"/>
                          <a:tab algn="l" pos="7974000"/>
                          <a:tab algn="l" pos="8423280"/>
                          <a:tab algn="l" pos="8872560"/>
                          <a:tab algn="l" pos="93218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ие мысли вызвала эта фраза?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38040" indent="-338040">
                        <a:lnSpc>
                          <a:spcPct val="86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338040"/>
                          <a:tab algn="l" pos="785880"/>
                          <a:tab algn="l" pos="1235160"/>
                          <a:tab algn="l" pos="1684440"/>
                          <a:tab algn="l" pos="2133720"/>
                          <a:tab algn="l" pos="2583000"/>
                          <a:tab algn="l" pos="3032280"/>
                          <a:tab algn="l" pos="3481560"/>
                          <a:tab algn="l" pos="3930480"/>
                          <a:tab algn="l" pos="4379760"/>
                          <a:tab algn="l" pos="4829040"/>
                          <a:tab algn="l" pos="5278320"/>
                          <a:tab algn="l" pos="5727600"/>
                          <a:tab algn="l" pos="6176880"/>
                          <a:tab algn="l" pos="6626160"/>
                          <a:tab algn="l" pos="7075440"/>
                          <a:tab algn="l" pos="7524720"/>
                          <a:tab algn="l" pos="7974000"/>
                          <a:tab algn="l" pos="8423280"/>
                          <a:tab algn="l" pos="8872560"/>
                          <a:tab algn="l" pos="93218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й вопрос возник в связи с ключевым понятием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38040" indent="-338040">
                        <a:lnSpc>
                          <a:spcPct val="86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•"/>
                        <a:tabLst>
                          <a:tab algn="l" pos="338040"/>
                          <a:tab algn="l" pos="785880"/>
                          <a:tab algn="l" pos="1235160"/>
                          <a:tab algn="l" pos="1684440"/>
                          <a:tab algn="l" pos="2133720"/>
                          <a:tab algn="l" pos="2583000"/>
                          <a:tab algn="l" pos="3032280"/>
                          <a:tab algn="l" pos="3481560"/>
                          <a:tab algn="l" pos="3930480"/>
                          <a:tab algn="l" pos="4379760"/>
                          <a:tab algn="l" pos="4829040"/>
                          <a:tab algn="l" pos="5278320"/>
                          <a:tab algn="l" pos="5727600"/>
                          <a:tab algn="l" pos="6176880"/>
                          <a:tab algn="l" pos="6626160"/>
                          <a:tab algn="l" pos="7075440"/>
                          <a:tab algn="l" pos="7524720"/>
                          <a:tab algn="l" pos="7974000"/>
                          <a:tab algn="l" pos="8423280"/>
                          <a:tab algn="l" pos="8872560"/>
                          <a:tab algn="l" pos="93218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920" y="320760"/>
            <a:ext cx="77882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7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войной дневник</a:t>
            </a:r>
            <a:endParaRPr b="0" lang="en-US" sz="57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519120" y="2370240"/>
          <a:ext cx="8251920" cy="3429000"/>
        </p:xfrm>
        <a:graphic>
          <a:graphicData uri="http://schemas.openxmlformats.org/drawingml/2006/table">
            <a:tbl>
              <a:tblPr/>
              <a:tblGrid>
                <a:gridCol w="2179800"/>
                <a:gridCol w="2919240"/>
                <a:gridCol w="3152880"/>
              </a:tblGrid>
              <a:tr h="1668240">
                <a:tc>
                  <a:txBody>
                    <a:bodyPr lIns="45360" rIns="45360" tIns="2433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2433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1 класс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2433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2 клас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45360" rIns="45360" tIns="2433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2433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14,8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2433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63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45360" rIns="45360" tIns="2433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2433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74,1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2433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18,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45360" rIns="45360" tIns="2433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2433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11,1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243360" bIns="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18,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218880" y="7920"/>
            <a:ext cx="872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Диагностика уровня восприяти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художественного произведе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89535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Tahoma"/>
              </a:rPr>
              <a:t>Ивахнова Ирина Сергеев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Tahom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80"/>
                </a:solidFill>
                <a:latin typeface="Tahoma"/>
              </a:rPr>
              <a:t>Категория: втор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80"/>
                </a:solidFill>
                <a:latin typeface="Tahoma"/>
              </a:rPr>
              <a:t>Педагогический стаж: 9 л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97080" y="1979640"/>
            <a:ext cx="6622920" cy="47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4080" y="1932120"/>
            <a:ext cx="8580240" cy="46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84160" y="142920"/>
            <a:ext cx="785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Диагностика уровня восприятия художественного произведе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4080" y="2370240"/>
          <a:ext cx="8543880" cy="3798720"/>
        </p:xfrm>
        <a:graphic>
          <a:graphicData uri="http://schemas.openxmlformats.org/drawingml/2006/table">
            <a:tbl>
              <a:tblPr/>
              <a:tblGrid>
                <a:gridCol w="1912680"/>
                <a:gridCol w="1981440"/>
                <a:gridCol w="2689200"/>
                <a:gridCol w="1960560"/>
              </a:tblGrid>
              <a:tr h="2278080">
                <a:tc>
                  <a:txBody>
                    <a:bodyPr lIns="45360" rIns="45360" tIns="173880" bIns="0" anchor="ctr">
                      <a:noAutofit/>
                    </a:bodyPr>
                    <a:p>
                      <a:pPr marL="179280" algn="ctr">
                        <a:lnSpc>
                          <a:spcPct val="78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627120"/>
                          <a:tab algn="l" pos="1076400"/>
                          <a:tab algn="l" pos="1525680"/>
                          <a:tab algn="l" pos="1974960"/>
                          <a:tab algn="l" pos="2424240"/>
                          <a:tab algn="l" pos="2873520"/>
                          <a:tab algn="l" pos="3322800"/>
                          <a:tab algn="l" pos="3772080"/>
                          <a:tab algn="l" pos="4221000"/>
                          <a:tab algn="l" pos="4670280"/>
                          <a:tab algn="l" pos="5119560"/>
                          <a:tab algn="l" pos="5568840"/>
                          <a:tab algn="l" pos="6018120"/>
                          <a:tab algn="l" pos="6467400"/>
                          <a:tab algn="l" pos="6916680"/>
                          <a:tab algn="l" pos="7365960"/>
                          <a:tab algn="l" pos="7815240"/>
                          <a:tab algn="l" pos="8264520"/>
                          <a:tab algn="l" pos="8713800"/>
                          <a:tab algn="l" pos="9163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173880" bIns="0" anchor="ctr">
                      <a:noAutofit/>
                    </a:bodyPr>
                    <a:p>
                      <a:pPr marL="179280" algn="ctr">
                        <a:lnSpc>
                          <a:spcPct val="78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627120"/>
                          <a:tab algn="l" pos="1076400"/>
                          <a:tab algn="l" pos="1525680"/>
                          <a:tab algn="l" pos="1974960"/>
                          <a:tab algn="l" pos="2424240"/>
                          <a:tab algn="l" pos="2873520"/>
                          <a:tab algn="l" pos="3322800"/>
                          <a:tab algn="l" pos="3772080"/>
                          <a:tab algn="l" pos="4221000"/>
                          <a:tab algn="l" pos="4670280"/>
                          <a:tab algn="l" pos="5119560"/>
                          <a:tab algn="l" pos="5568840"/>
                          <a:tab algn="l" pos="6018120"/>
                          <a:tab algn="l" pos="6467400"/>
                          <a:tab algn="l" pos="6916680"/>
                          <a:tab algn="l" pos="7365960"/>
                          <a:tab algn="l" pos="7815240"/>
                          <a:tab algn="l" pos="8264520"/>
                          <a:tab algn="l" pos="8713800"/>
                          <a:tab algn="l" pos="9163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Вопрос на воспроизведение собы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173880" bIns="0" anchor="ctr">
                      <a:noAutofit/>
                    </a:bodyPr>
                    <a:p>
                      <a:pPr marL="179280" algn="ctr">
                        <a:lnSpc>
                          <a:spcPct val="78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627120"/>
                          <a:tab algn="l" pos="1076400"/>
                          <a:tab algn="l" pos="1525680"/>
                          <a:tab algn="l" pos="1974960"/>
                          <a:tab algn="l" pos="2424240"/>
                          <a:tab algn="l" pos="2873520"/>
                          <a:tab algn="l" pos="3322800"/>
                          <a:tab algn="l" pos="3772080"/>
                          <a:tab algn="l" pos="4221000"/>
                          <a:tab algn="l" pos="4670280"/>
                          <a:tab algn="l" pos="5119560"/>
                          <a:tab algn="l" pos="5568840"/>
                          <a:tab algn="l" pos="6018120"/>
                          <a:tab algn="l" pos="6467400"/>
                          <a:tab algn="l" pos="6916680"/>
                          <a:tab algn="l" pos="7365960"/>
                          <a:tab algn="l" pos="7815240"/>
                          <a:tab algn="l" pos="8264520"/>
                          <a:tab algn="l" pos="8713800"/>
                          <a:tab algn="l" pos="9163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Вопрос на оценку героя и установление причинно-следственных связ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173880" bIns="0" anchor="ctr">
                      <a:noAutofit/>
                    </a:bodyPr>
                    <a:p>
                      <a:pPr marL="179280" algn="ctr">
                        <a:lnSpc>
                          <a:spcPct val="78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627120"/>
                          <a:tab algn="l" pos="1076400"/>
                          <a:tab algn="l" pos="1525680"/>
                          <a:tab algn="l" pos="1974960"/>
                          <a:tab algn="l" pos="2424240"/>
                          <a:tab algn="l" pos="2873520"/>
                          <a:tab algn="l" pos="3322800"/>
                          <a:tab algn="l" pos="3772080"/>
                          <a:tab algn="l" pos="4221000"/>
                          <a:tab algn="l" pos="4670280"/>
                          <a:tab algn="l" pos="5119560"/>
                          <a:tab algn="l" pos="5568840"/>
                          <a:tab algn="l" pos="6018120"/>
                          <a:tab algn="l" pos="6467400"/>
                          <a:tab algn="l" pos="6916680"/>
                          <a:tab algn="l" pos="7365960"/>
                          <a:tab algn="l" pos="7815240"/>
                          <a:tab algn="l" pos="8264520"/>
                          <a:tab algn="l" pos="8713800"/>
                          <a:tab algn="l" pos="9163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Вопрос обобщающего характ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0320">
                <a:tc>
                  <a:txBody>
                    <a:bodyPr lIns="45360" rIns="45360" tIns="173880" bIns="0" anchor="ctr">
                      <a:noAutofit/>
                    </a:bodyPr>
                    <a:p>
                      <a:pPr marL="179280" algn="ctr">
                        <a:lnSpc>
                          <a:spcPct val="78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627120"/>
                          <a:tab algn="l" pos="1076400"/>
                          <a:tab algn="l" pos="1525680"/>
                          <a:tab algn="l" pos="1974960"/>
                          <a:tab algn="l" pos="2424240"/>
                          <a:tab algn="l" pos="2873520"/>
                          <a:tab algn="l" pos="3322800"/>
                          <a:tab algn="l" pos="3772080"/>
                          <a:tab algn="l" pos="4221000"/>
                          <a:tab algn="l" pos="4670280"/>
                          <a:tab algn="l" pos="5119560"/>
                          <a:tab algn="l" pos="5568840"/>
                          <a:tab algn="l" pos="6018120"/>
                          <a:tab algn="l" pos="6467400"/>
                          <a:tab algn="l" pos="6916680"/>
                          <a:tab algn="l" pos="7365960"/>
                          <a:tab algn="l" pos="7815240"/>
                          <a:tab algn="l" pos="8264520"/>
                          <a:tab algn="l" pos="8713800"/>
                          <a:tab algn="l" pos="9163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173880" bIns="0" anchor="ctr">
                      <a:noAutofit/>
                    </a:bodyPr>
                    <a:p>
                      <a:pPr marL="179280" algn="ctr">
                        <a:lnSpc>
                          <a:spcPct val="78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627120"/>
                          <a:tab algn="l" pos="1076400"/>
                          <a:tab algn="l" pos="1525680"/>
                          <a:tab algn="l" pos="1974960"/>
                          <a:tab algn="l" pos="2424240"/>
                          <a:tab algn="l" pos="2873520"/>
                          <a:tab algn="l" pos="3322800"/>
                          <a:tab algn="l" pos="3772080"/>
                          <a:tab algn="l" pos="4221000"/>
                          <a:tab algn="l" pos="4670280"/>
                          <a:tab algn="l" pos="5119560"/>
                          <a:tab algn="l" pos="5568840"/>
                          <a:tab algn="l" pos="6018120"/>
                          <a:tab algn="l" pos="6467400"/>
                          <a:tab algn="l" pos="6916680"/>
                          <a:tab algn="l" pos="7365960"/>
                          <a:tab algn="l" pos="7815240"/>
                          <a:tab algn="l" pos="8264520"/>
                          <a:tab algn="l" pos="8713800"/>
                          <a:tab algn="l" pos="9163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3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173880" bIns="0" anchor="ctr">
                      <a:noAutofit/>
                    </a:bodyPr>
                    <a:p>
                      <a:pPr marL="179280" algn="ctr">
                        <a:lnSpc>
                          <a:spcPct val="78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627120"/>
                          <a:tab algn="l" pos="1076400"/>
                          <a:tab algn="l" pos="1525680"/>
                          <a:tab algn="l" pos="1974960"/>
                          <a:tab algn="l" pos="2424240"/>
                          <a:tab algn="l" pos="2873520"/>
                          <a:tab algn="l" pos="3322800"/>
                          <a:tab algn="l" pos="3772080"/>
                          <a:tab algn="l" pos="4221000"/>
                          <a:tab algn="l" pos="4670280"/>
                          <a:tab algn="l" pos="5119560"/>
                          <a:tab algn="l" pos="5568840"/>
                          <a:tab algn="l" pos="6018120"/>
                          <a:tab algn="l" pos="6467400"/>
                          <a:tab algn="l" pos="6916680"/>
                          <a:tab algn="l" pos="7365960"/>
                          <a:tab algn="l" pos="7815240"/>
                          <a:tab algn="l" pos="8264520"/>
                          <a:tab algn="l" pos="8713800"/>
                          <a:tab algn="l" pos="9163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173880" bIns="0" anchor="ctr">
                      <a:noAutofit/>
                    </a:bodyPr>
                    <a:p>
                      <a:pPr marL="179280" algn="ctr">
                        <a:lnSpc>
                          <a:spcPct val="78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627120"/>
                          <a:tab algn="l" pos="1076400"/>
                          <a:tab algn="l" pos="1525680"/>
                          <a:tab algn="l" pos="1974960"/>
                          <a:tab algn="l" pos="2424240"/>
                          <a:tab algn="l" pos="2873520"/>
                          <a:tab algn="l" pos="3322800"/>
                          <a:tab algn="l" pos="3772080"/>
                          <a:tab algn="l" pos="4221000"/>
                          <a:tab algn="l" pos="4670280"/>
                          <a:tab algn="l" pos="5119560"/>
                          <a:tab algn="l" pos="5568840"/>
                          <a:tab algn="l" pos="6018120"/>
                          <a:tab algn="l" pos="6467400"/>
                          <a:tab algn="l" pos="6916680"/>
                          <a:tab algn="l" pos="7365960"/>
                          <a:tab algn="l" pos="7815240"/>
                          <a:tab algn="l" pos="8264520"/>
                          <a:tab algn="l" pos="8713800"/>
                          <a:tab algn="l" pos="9163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0320">
                <a:tc>
                  <a:txBody>
                    <a:bodyPr lIns="45360" rIns="45360" tIns="173880" bIns="0" anchor="ctr">
                      <a:noAutofit/>
                    </a:bodyPr>
                    <a:p>
                      <a:pPr marL="179280" algn="ctr">
                        <a:lnSpc>
                          <a:spcPct val="78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627120"/>
                          <a:tab algn="l" pos="1076400"/>
                          <a:tab algn="l" pos="1525680"/>
                          <a:tab algn="l" pos="1974960"/>
                          <a:tab algn="l" pos="2424240"/>
                          <a:tab algn="l" pos="2873520"/>
                          <a:tab algn="l" pos="3322800"/>
                          <a:tab algn="l" pos="3772080"/>
                          <a:tab algn="l" pos="4221000"/>
                          <a:tab algn="l" pos="4670280"/>
                          <a:tab algn="l" pos="5119560"/>
                          <a:tab algn="l" pos="5568840"/>
                          <a:tab algn="l" pos="6018120"/>
                          <a:tab algn="l" pos="6467400"/>
                          <a:tab algn="l" pos="6916680"/>
                          <a:tab algn="l" pos="7365960"/>
                          <a:tab algn="l" pos="7815240"/>
                          <a:tab algn="l" pos="8264520"/>
                          <a:tab algn="l" pos="8713800"/>
                          <a:tab algn="l" pos="9163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173880" bIns="0" anchor="ctr">
                      <a:noAutofit/>
                    </a:bodyPr>
                    <a:p>
                      <a:pPr marL="179280" algn="ctr">
                        <a:lnSpc>
                          <a:spcPct val="78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627120"/>
                          <a:tab algn="l" pos="1076400"/>
                          <a:tab algn="l" pos="1525680"/>
                          <a:tab algn="l" pos="1974960"/>
                          <a:tab algn="l" pos="2424240"/>
                          <a:tab algn="l" pos="2873520"/>
                          <a:tab algn="l" pos="3322800"/>
                          <a:tab algn="l" pos="3772080"/>
                          <a:tab algn="l" pos="4221000"/>
                          <a:tab algn="l" pos="4670280"/>
                          <a:tab algn="l" pos="5119560"/>
                          <a:tab algn="l" pos="5568840"/>
                          <a:tab algn="l" pos="6018120"/>
                          <a:tab algn="l" pos="6467400"/>
                          <a:tab algn="l" pos="6916680"/>
                          <a:tab algn="l" pos="7365960"/>
                          <a:tab algn="l" pos="7815240"/>
                          <a:tab algn="l" pos="8264520"/>
                          <a:tab algn="l" pos="8713800"/>
                          <a:tab algn="l" pos="9163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42,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173880" bIns="0" anchor="ctr">
                      <a:noAutofit/>
                    </a:bodyPr>
                    <a:p>
                      <a:pPr marL="179280" algn="ctr">
                        <a:lnSpc>
                          <a:spcPct val="78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627120"/>
                          <a:tab algn="l" pos="1076400"/>
                          <a:tab algn="l" pos="1525680"/>
                          <a:tab algn="l" pos="1974960"/>
                          <a:tab algn="l" pos="2424240"/>
                          <a:tab algn="l" pos="2873520"/>
                          <a:tab algn="l" pos="3322800"/>
                          <a:tab algn="l" pos="3772080"/>
                          <a:tab algn="l" pos="4221000"/>
                          <a:tab algn="l" pos="4670280"/>
                          <a:tab algn="l" pos="5119560"/>
                          <a:tab algn="l" pos="5568840"/>
                          <a:tab algn="l" pos="6018120"/>
                          <a:tab algn="l" pos="6467400"/>
                          <a:tab algn="l" pos="6916680"/>
                          <a:tab algn="l" pos="7365960"/>
                          <a:tab algn="l" pos="7815240"/>
                          <a:tab algn="l" pos="8264520"/>
                          <a:tab algn="l" pos="8713800"/>
                          <a:tab algn="l" pos="9163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5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173880" bIns="0" anchor="ctr">
                      <a:noAutofit/>
                    </a:bodyPr>
                    <a:p>
                      <a:pPr marL="179280" algn="ctr">
                        <a:lnSpc>
                          <a:spcPct val="78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627120"/>
                          <a:tab algn="l" pos="1076400"/>
                          <a:tab algn="l" pos="1525680"/>
                          <a:tab algn="l" pos="1974960"/>
                          <a:tab algn="l" pos="2424240"/>
                          <a:tab algn="l" pos="2873520"/>
                          <a:tab algn="l" pos="3322800"/>
                          <a:tab algn="l" pos="3772080"/>
                          <a:tab algn="l" pos="4221000"/>
                          <a:tab algn="l" pos="4670280"/>
                          <a:tab algn="l" pos="5119560"/>
                          <a:tab algn="l" pos="5568840"/>
                          <a:tab algn="l" pos="6018120"/>
                          <a:tab algn="l" pos="6467400"/>
                          <a:tab algn="l" pos="6916680"/>
                          <a:tab algn="l" pos="7365960"/>
                          <a:tab algn="l" pos="7815240"/>
                          <a:tab algn="l" pos="8264520"/>
                          <a:tab algn="l" pos="8713800"/>
                          <a:tab algn="l" pos="91630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e8e8e8"/>
                          </a:solidFill>
                          <a:latin typeface="Times New Roman"/>
                          <a:ea typeface="Times New Roman"/>
                        </a:rPr>
                        <a:t>6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1968480"/>
            <a:ext cx="8880480" cy="45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324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imes New Roman"/>
              </a:rPr>
              <a:t>График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imes New Roman"/>
              </a:rPr>
              <a:t>итогового тестирования по чтению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600" y="2289240"/>
            <a:ext cx="8666280" cy="4363920"/>
            <a:chOff x="147600" y="2289240"/>
            <a:chExt cx="8666280" cy="4363920"/>
          </a:xfrm>
        </p:grpSpPr>
        <p:sp>
          <p:nvSpPr>
            <p:cNvPr id="230" name=""/>
            <p:cNvSpPr/>
            <p:nvPr/>
          </p:nvSpPr>
          <p:spPr>
            <a:xfrm>
              <a:off x="147600" y="2289240"/>
              <a:ext cx="8666280" cy="43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0520" y="2978280"/>
              <a:ext cx="8070840" cy="29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5440" y="5568840"/>
              <a:ext cx="814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7040" y="5100480"/>
              <a:ext cx="814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7040" y="4678200"/>
              <a:ext cx="814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7040" y="4257720"/>
              <a:ext cx="814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7040" y="3833640"/>
              <a:ext cx="814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040" y="3413160"/>
              <a:ext cx="814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7040" y="2990880"/>
              <a:ext cx="814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06360" y="4587840"/>
              <a:ext cx="898560" cy="1347840"/>
            </a:xfrm>
            <a:prstGeom prst="rect">
              <a:avLst/>
            </a:prstGeom>
            <a:solidFill>
              <a:srgbClr val="9999ff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83360" y="4224240"/>
              <a:ext cx="898200" cy="1712880"/>
            </a:xfrm>
            <a:prstGeom prst="rect">
              <a:avLst/>
            </a:prstGeom>
            <a:solidFill>
              <a:srgbClr val="9999ff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11400" y="3565440"/>
              <a:ext cx="896760" cy="2370240"/>
            </a:xfrm>
            <a:prstGeom prst="rect">
              <a:avLst/>
            </a:prstGeom>
            <a:solidFill>
              <a:srgbClr val="993366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89840" y="3895560"/>
              <a:ext cx="896760" cy="2041560"/>
            </a:xfrm>
            <a:prstGeom prst="rect">
              <a:avLst/>
            </a:prstGeom>
            <a:solidFill>
              <a:srgbClr val="993366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17880" y="5594400"/>
              <a:ext cx="898560" cy="342720"/>
            </a:xfrm>
            <a:prstGeom prst="rect">
              <a:avLst/>
            </a:prstGeom>
            <a:solidFill>
              <a:srgbClr val="ffffcc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94520" y="5619600"/>
              <a:ext cx="898560" cy="317520"/>
            </a:xfrm>
            <a:prstGeom prst="rect">
              <a:avLst/>
            </a:prstGeom>
            <a:solidFill>
              <a:srgbClr val="ffffcc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7040" y="2990880"/>
              <a:ext cx="0" cy="29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0680" y="594504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0680" y="552132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0680" y="510048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90680" y="467820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0680" y="425772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0680" y="383364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0680" y="341316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0680" y="2990880"/>
              <a:ext cx="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7040" y="5945040"/>
              <a:ext cx="814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27040" y="593676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603680" y="593676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8680320" y="593676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44760" y="4390920"/>
              <a:ext cx="3794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3,3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21400" y="4011480"/>
              <a:ext cx="3794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2,3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49440" y="3335400"/>
              <a:ext cx="3794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8,3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75400" y="3686040"/>
              <a:ext cx="2127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87600" y="5445000"/>
              <a:ext cx="2685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,3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466040" y="5472000"/>
              <a:ext cx="26820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,7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2960" y="5891040"/>
              <a:ext cx="1033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6360" y="5468760"/>
              <a:ext cx="2127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6360" y="5048280"/>
              <a:ext cx="2127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6360" y="4626000"/>
              <a:ext cx="2127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6360" y="4203720"/>
              <a:ext cx="2127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6360" y="3781440"/>
              <a:ext cx="2127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6360" y="3360600"/>
              <a:ext cx="2127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6360" y="2936880"/>
              <a:ext cx="2127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57360" y="6022800"/>
              <a:ext cx="7160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 кл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сс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34000" y="6022800"/>
              <a:ext cx="7160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 кл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сс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9280" y="6284880"/>
              <a:ext cx="63720" cy="47520"/>
            </a:xfrm>
            <a:prstGeom prst="rect">
              <a:avLst/>
            </a:prstGeom>
            <a:solidFill>
              <a:srgbClr val="9999ff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89360" y="6262560"/>
              <a:ext cx="395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ыс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49680" y="6284880"/>
              <a:ext cx="63720" cy="47520"/>
            </a:xfrm>
            <a:prstGeom prst="rect">
              <a:avLst/>
            </a:prstGeom>
            <a:solidFill>
              <a:srgbClr val="993366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49760" y="6262560"/>
              <a:ext cx="4604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ред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64080" y="6284880"/>
              <a:ext cx="63720" cy="47520"/>
            </a:xfrm>
            <a:prstGeom prst="rect">
              <a:avLst/>
            </a:prstGeom>
            <a:solidFill>
              <a:srgbClr val="ffffcc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64160" y="6262560"/>
              <a:ext cx="38412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из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359000" y="216000"/>
            <a:ext cx="70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154080" y="2041560"/>
            <a:ext cx="883584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ru-RU" sz="2600" spc="-1" strike="noStrike">
                <a:solidFill>
                  <a:srgbClr val="ffff00"/>
                </a:solidFill>
                <a:latin typeface="Tahoma"/>
              </a:rPr>
              <a:t>Использование технологии развития критического мышления позволило достичь  следующих результатов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8e8e8"/>
                </a:solidFill>
                <a:latin typeface="Tahoma"/>
              </a:rPr>
              <a:t>- изменить отношение детей к уроку чтения (после изучения произведения какого-либо автора ученики идут в библиотеку и продолжают самостоятельно знакомиться с творчеством писателя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8e8e8"/>
                </a:solidFill>
                <a:latin typeface="Tahoma"/>
              </a:rPr>
              <a:t>- повысить познавательное отношение к прочитанному (учащиеся учатся показывать свое исследовательское отношение, желание глубже вникать в суть произведения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54080" y="2114640"/>
            <a:ext cx="883584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8e8e8"/>
                </a:solidFill>
                <a:latin typeface="Tahoma"/>
              </a:rPr>
              <a:t>- развить положительное отношение к заданиям творческого и проблемно-поискового характера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8e8e8"/>
                </a:solidFill>
                <a:latin typeface="Tahoma"/>
              </a:rPr>
              <a:t>- изменить у учащихся отношение к собственным ошибкам и затруднениям, возникающим в ходе работы (они стали восприниматься ими более спокойно, возросло умение преодолевать трудности, доводить начатую работу до конца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8e8e8"/>
                </a:solidFill>
                <a:latin typeface="Tahoma"/>
              </a:rPr>
              <a:t>- мотивировать учащихся к дальнейшей деятельности (они учатся рефлексировать свою деятельность и развивают коммуникативную культуру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54080" y="2114640"/>
            <a:ext cx="89899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8e8e8"/>
                </a:solidFill>
                <a:latin typeface="Tahoma"/>
              </a:rPr>
              <a:t>- создать атмосферу доверия, сотрудничества в системе «учитель-ученик-класс», выработать осознанное отношение к индивидуальной, групповой и коллективной деятельности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8e8e8"/>
                </a:solidFill>
                <a:latin typeface="Tahom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285920" y="216000"/>
            <a:ext cx="668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Список литератур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263520" y="2151000"/>
            <a:ext cx="861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8e8e8"/>
                </a:solidFill>
                <a:latin typeface="Tahoma"/>
              </a:rPr>
              <a:t>1. Развитие критического мышления на уроке: Пособие  для учителя /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8e8e8"/>
                </a:solidFill>
                <a:latin typeface="Tahoma"/>
              </a:rPr>
              <a:t>С. И. Заир-Бек, И. В.Муштавинская. – М. : Просвещение, 200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8e8e8"/>
                </a:solidFill>
                <a:latin typeface="Tahoma"/>
              </a:rPr>
              <a:t>2. Учим детей мыслить критически: Пособие для учителя / И. О. Загашев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8e8e8"/>
                </a:solidFill>
                <a:latin typeface="Tahoma"/>
              </a:rPr>
              <a:t>С. И. Заир-Бек, И. В.Муштавинская. – СПб: Альянс «Дельта», 200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8e8e8"/>
                </a:solidFill>
                <a:latin typeface="Tahoma"/>
              </a:rPr>
              <a:t>3. Критическое мышление: технология развития: Пособие для учителя /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8e8e8"/>
                </a:solidFill>
                <a:latin typeface="Tahoma"/>
              </a:rPr>
              <a:t>И. О. Загашев, С. И. Заир-Бек. - СПб: Альянс «Дельта», 200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22280" y="1895400"/>
            <a:ext cx="71280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2749680"/>
            <a:ext cx="7631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ahoma"/>
              </a:rPr>
              <a:t>Всё наше достоинство – в способности мыслить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ahoma"/>
              </a:rPr>
              <a:t>Только мысль возносит нас, а не пространство и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ahoma"/>
              </a:rPr>
              <a:t>время,   в которых мы ничто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ahoma"/>
              </a:rPr>
              <a:t>Постараемся же мыслить достойно – в этом основа   нравственности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ahoma"/>
              </a:rPr>
              <a:t>                         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ahoma"/>
              </a:rPr>
              <a:t>Б. Паскаль.     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359000" y="0"/>
            <a:ext cx="7448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eef2ee"/>
                </a:solidFill>
                <a:latin typeface="Tahoma"/>
              </a:rPr>
              <a:t>Основным приоритетом развития образования сегодня становится его личностно- ориентированная направленность. Задача учителя заключается не в передаче ученикам готовых знаний и умений, а в создании условий для развития личности, способной самой находить необходимые знания и умения и применять их в нестандартных ситуациях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09680" y="2763720"/>
            <a:ext cx="73022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ипоте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5cc"/>
                </a:solidFill>
                <a:latin typeface="Tahoma"/>
              </a:rPr>
              <a:t>Если на уроках литературного чтения в начальной школе использовать методы и приемы технологии развития критического мышления (ТРКМ), то учащиеся будут глубже понимать прочитанное, овладеют активными способами чтения и приемами работы с художественным текстом, что позволит повысить культуру речи, эстетическое развитие, сформирует активную личность, умеющую творчески и самостоятельно работать с книго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684360" y="2525040"/>
            <a:ext cx="7764480" cy="2737440"/>
            <a:chOff x="684360" y="2525040"/>
            <a:chExt cx="7764480" cy="2737440"/>
          </a:xfrm>
        </p:grpSpPr>
        <p:cxnSp>
          <p:nvCxnSpPr>
            <p:cNvPr id="164" name=""/>
            <p:cNvCxnSpPr>
              <a:stCxn id="165" idx="1"/>
              <a:endCxn id="166" idx="0"/>
            </p:cNvCxnSpPr>
            <p:nvPr/>
          </p:nvCxnSpPr>
          <p:spPr>
            <a:xfrm rot="10800000">
              <a:off x="4568040" y="2525040"/>
              <a:ext cx="1553400" cy="2191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167" name=""/>
            <p:cNvCxnSpPr>
              <a:stCxn id="168" idx="0"/>
              <a:endCxn id="166" idx="2"/>
            </p:cNvCxnSpPr>
            <p:nvPr/>
          </p:nvCxnSpPr>
          <p:spPr>
            <a:xfrm flipV="1">
              <a:off x="4568400" y="3615840"/>
              <a:ext cx="1080" cy="5565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169" name=""/>
            <p:cNvCxnSpPr>
              <a:stCxn id="170" idx="0"/>
              <a:endCxn id="166" idx="2"/>
            </p:cNvCxnSpPr>
            <p:nvPr/>
          </p:nvCxnSpPr>
          <p:spPr>
            <a:xfrm flipV="1">
              <a:off x="1847880" y="3615840"/>
              <a:ext cx="2720160" cy="55656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166" name=""/>
            <p:cNvSpPr/>
            <p:nvPr/>
          </p:nvSpPr>
          <p:spPr>
            <a:xfrm>
              <a:off x="3405240" y="2525760"/>
              <a:ext cx="2324160" cy="1089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Verdana"/>
                </a:rPr>
                <a:t>Три фаз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Verdana"/>
                </a:rPr>
                <a:t>технологи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Verdana"/>
                </a:rPr>
                <a:t>РКМЧП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4360" y="4173480"/>
              <a:ext cx="2323800" cy="10890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Verdana"/>
                </a:rPr>
                <a:t>I</a:t>
              </a:r>
              <a:r>
                <a:rPr b="1" lang="ru-RU" sz="2000" spc="-1" strike="noStrike">
                  <a:solidFill>
                    <a:srgbClr val="1c1c1c"/>
                  </a:solidFill>
                  <a:latin typeface="Verdana"/>
                </a:rPr>
                <a:t> фаз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 u="sng">
                  <a:solidFill>
                    <a:srgbClr val="1c1c1c"/>
                  </a:solidFill>
                  <a:uFillTx/>
                  <a:latin typeface="Verdana"/>
                </a:rPr>
                <a:t>Вызов</a:t>
              </a:r>
              <a:r>
                <a:rPr b="1" lang="ru-RU" sz="2000" spc="-1" strike="noStrike">
                  <a:solidFill>
                    <a:srgbClr val="1c1c1c"/>
                  </a:solidFill>
                  <a:latin typeface="Verdana"/>
                </a:rPr>
                <a:t> </a:t>
              </a:r>
              <a:r>
                <a:rPr b="1" lang="ru-RU" sz="1100" spc="-1" strike="noStrike">
                  <a:solidFill>
                    <a:srgbClr val="1c1c1c"/>
                  </a:solidFill>
                  <a:latin typeface="Verdana"/>
                </a:rPr>
                <a:t>(пробуждение: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1c1c1c"/>
                  </a:solidFill>
                  <a:latin typeface="Verdana"/>
                </a:rPr>
                <a:t>имеющихся знаний;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1c1c1c"/>
                  </a:solidFill>
                  <a:latin typeface="Verdana"/>
                </a:rPr>
                <a:t>интереса к получению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100" spc="-1" strike="noStrike">
                  <a:solidFill>
                    <a:srgbClr val="1c1c1c"/>
                  </a:solidFill>
                  <a:latin typeface="Verdana"/>
                </a:rPr>
                <a:t>новой информации)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05240" y="4173480"/>
              <a:ext cx="2324160" cy="10890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I 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фаз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 u="sng">
                  <a:solidFill>
                    <a:srgbClr val="000000"/>
                  </a:solidFill>
                  <a:uFillTx/>
                  <a:latin typeface="Verdana"/>
                </a:rPr>
                <a:t>Реализация смысла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100" spc="-1" strike="noStrike" u="sng">
                  <a:solidFill>
                    <a:srgbClr val="000000"/>
                  </a:solidFill>
                  <a:uFillTx/>
                  <a:latin typeface="Verdana"/>
                </a:rPr>
                <a:t>(получение новой 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100" spc="-1" strike="noStrike" u="sng">
                  <a:solidFill>
                    <a:srgbClr val="000000"/>
                  </a:solidFill>
                  <a:uFillTx/>
                  <a:latin typeface="Verdana"/>
                </a:rPr>
                <a:t>информации)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24680" y="4173480"/>
              <a:ext cx="2324160" cy="10890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Verdana"/>
                </a:rPr>
                <a:t>III </a:t>
              </a:r>
              <a:r>
                <a:rPr b="1" lang="ru-RU" sz="2000" spc="-1" strike="noStrike">
                  <a:solidFill>
                    <a:srgbClr val="1c1c1c"/>
                  </a:solidFill>
                  <a:latin typeface="Verdana"/>
                </a:rPr>
                <a:t>Фаз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 u="sng">
                  <a:solidFill>
                    <a:srgbClr val="1c1c1c"/>
                  </a:solidFill>
                  <a:uFillTx/>
                  <a:latin typeface="Verdana"/>
                </a:rPr>
                <a:t>Рефлекси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100" spc="-1" strike="noStrike" u="sng">
                  <a:solidFill>
                    <a:srgbClr val="1c1c1c"/>
                  </a:solidFill>
                  <a:uFillTx/>
                  <a:latin typeface="Verdana"/>
                </a:rPr>
                <a:t>(осмысление, рождение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100" spc="-1" strike="noStrike" u="sng">
                  <a:solidFill>
                    <a:srgbClr val="1c1c1c"/>
                  </a:solidFill>
                  <a:uFillTx/>
                  <a:latin typeface="Verdana"/>
                </a:rPr>
                <a:t>нового знания)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332000" y="620640"/>
            <a:ext cx="71276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f01"/>
                </a:solidFill>
                <a:latin typeface="Tahoma"/>
              </a:rPr>
              <a:t>Технологические этап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90440" y="2370240"/>
            <a:ext cx="63072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f01"/>
                </a:solidFill>
                <a:latin typeface="Tahoma"/>
              </a:rPr>
              <a:t>Как работать с «гроздьями»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3465360"/>
            <a:ext cx="889308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1560" indent="-60156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мотрите на текст, нужно ли разбивать на «грозди»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1560" indent="-60156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жно ли выделить большие и малые смысловые единицы(это могут быть вопросы, ключевые слова по всему тексту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1560" indent="-60156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звучьте «грозди» - т.е. смысловые единиц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1560" indent="-60156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601560"/>
                <a:tab algn="l" pos="1049400"/>
                <a:tab algn="l" pos="1498680"/>
                <a:tab algn="l" pos="1947960"/>
                <a:tab algn="l" pos="2397240"/>
                <a:tab algn="l" pos="2846520"/>
                <a:tab algn="l" pos="3295800"/>
                <a:tab algn="l" pos="3745080"/>
                <a:tab algn="l" pos="4194000"/>
                <a:tab algn="l" pos="4643280"/>
                <a:tab algn="l" pos="5092560"/>
                <a:tab algn="l" pos="5541840"/>
                <a:tab algn="l" pos="5991120"/>
                <a:tab algn="l" pos="6440400"/>
                <a:tab algn="l" pos="6889680"/>
                <a:tab algn="l" pos="7338960"/>
                <a:tab algn="l" pos="7788240"/>
                <a:tab algn="l" pos="8237520"/>
                <a:tab algn="l" pos="8686800"/>
                <a:tab algn="l" pos="9136080"/>
                <a:tab algn="l" pos="95853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тановите связь между «гроздью» и «веточками» кластера и объясните возникшие связ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39760" y="325440"/>
            <a:ext cx="42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риём «Корзина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592200" y="2333520"/>
            <a:ext cx="7886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учитель задает вопрос о том, что известно по  данной тем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аждый ученик вспоминает и записывает в тетради всё, что знает. Это строго индивидуальная работа (1-2 минуты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обмен информацией в парах или группа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аждая группа по кругу называет какое-то одно сведение или факт, при этом не повторяя ранее сказанн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се сведения (без комментариев, даже если ошибочны) отправляются учителем в «корзинку» ид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754520" y="179280"/>
            <a:ext cx="423540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12840" y="0"/>
            <a:ext cx="73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риём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«Чтение с остановками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114640"/>
            <a:ext cx="595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8e8e8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8e8e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8e8e8"/>
                </a:solidFill>
                <a:latin typeface="Tahoma"/>
              </a:rPr>
              <a:t>рассказ учителя о своем  личном опыте    знакомства с  этим произведение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e8e8e8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8e8e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8e8e8"/>
                </a:solidFill>
                <a:latin typeface="Tahoma"/>
              </a:rPr>
              <a:t>обсуждение названия произвед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e8e8e8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8e8e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8e8e8"/>
                </a:solidFill>
                <a:latin typeface="Tahoma"/>
              </a:rPr>
              <a:t>основной этап: учитель заранее выделяет в тексте 2-3 остановки – в зависимости от размера текс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3:13:33Z</dcterms:created>
  <dc:creator>sivozhelezova</dc:creator>
  <dc:description/>
  <dc:language>en-US</dc:language>
  <cp:lastModifiedBy>Customer</cp:lastModifiedBy>
  <dcterms:modified xsi:type="dcterms:W3CDTF">2009-04-12T15:30:33Z</dcterms:modified>
  <cp:revision>296</cp:revision>
  <dc:subject/>
  <dc:title>Государственные стандарты общего образования</dc:title>
</cp:coreProperties>
</file>