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11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5200" y="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1976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7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361440"/>
            <a:ext cx="2911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3804840" y="9361080"/>
            <a:ext cx="29034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649ED-5D21-4AD7-9710-2D139A0AA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6E542-22BD-45ED-95E5-4720E9875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0AF34-0D5A-4EB3-8C14-007C4EE51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F242E-5AE6-4289-862E-086AE8E62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0726-4E03-4420-AF36-D9C900E0E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BAFF8-A4E9-48E0-A584-91E7FE448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BCBA6-3AFB-4A17-A4A6-DD3E9C7A8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7B0F1-4438-4FA2-92BD-037BBDB10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F3D78-131B-46DC-A376-790D4AC47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9A406-A391-4308-8B97-A8F219A0D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CDD0-2882-4692-8DD1-7F2F2037C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CBF1-D900-4481-907E-3EE6ACCB4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04A7-1AA4-4D96-9D0C-321DA1634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498D-4E07-47F2-90CA-4AE8914D4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693B-CB7A-490D-95CD-7D4F5DDC8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09D4-BA3D-4E61-ABDE-4A22CA00C3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B8BF-221D-49B8-8998-9E4305375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2E4C-83EF-4ED8-AA7C-C7CD40B80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C0F8-5C65-4E6D-ABC6-22FE07153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C479-ADF3-469A-BF38-1F12D8AA13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0FE2-1FB0-443C-B04C-0B1DC7E89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204F-7B37-438B-8BA1-C64B48EC9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304B-B542-479F-8321-6F4E9F4BF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6DE4-4EAB-4894-B1B9-3F498AADA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B699-C47E-4668-AE76-8D35F5B3DE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D8DB-2276-4FE2-BF62-54B5DA89D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100D-4BEE-43CB-8C53-E155CA4F6A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208-ACA1-4366-BEAB-66AFA183B7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328-B9F0-464E-A4C0-221B645B54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DC8-CFAA-4D06-BF1B-B607EC9FCD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5C6-4806-4160-A905-640EEE7054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D58-D340-40C2-89B6-9047CBD34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62AC-8C07-4250-BC1F-CDBD6116B6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ECE-9062-4334-B10D-8B72321DD9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424-4E5A-41E6-AFDD-BC5B551F36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FD5-C041-4565-A331-0D7C7385BB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BB7-5D01-4BF8-B26E-27E6735DBE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A98-8C6F-40DF-8C72-EDAE00CE9E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137-2CD5-4000-9A86-70DC111EF8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A3-35BA-48BF-A58B-EE1679584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7423-C677-4481-A21D-733019FA1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4961-EA8D-4D28-9B28-ED4D7028E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8655-2521-47FC-99F1-429FB81D9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872D-4461-4755-AB55-633E3A2CA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3DCF-4130-4872-8218-31E96FFFD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B5CD-84C4-4908-BC6B-51B1ABD5C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8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91440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33526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781680" y="630720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1CE0-BC22-46A0-BA4F-48420D26F1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FEA35F-9814-43BD-99F0-B25C578E27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1080" cy="1044720"/>
            <a:chOff x="0" y="2438280"/>
            <a:chExt cx="9001080" cy="1044720"/>
          </a:xfrm>
        </p:grpSpPr>
        <p:grpSp>
          <p:nvGrpSpPr>
            <p:cNvPr id="90" name=""/>
            <p:cNvGrpSpPr/>
            <p:nvPr/>
          </p:nvGrpSpPr>
          <p:grpSpPr>
            <a:xfrm>
              <a:off x="293760" y="2546280"/>
              <a:ext cx="704880" cy="466920"/>
              <a:chOff x="293760" y="2546280"/>
              <a:chExt cx="704880" cy="466920"/>
            </a:xfrm>
          </p:grpSpPr>
          <p:sp>
            <p:nvSpPr>
              <p:cNvPr id="91" name=""/>
              <p:cNvSpPr/>
              <p:nvPr/>
            </p:nvSpPr>
            <p:spPr>
              <a:xfrm>
                <a:off x="293760" y="2546280"/>
                <a:ext cx="430200" cy="466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7880" y="2546280"/>
                <a:ext cx="320760" cy="4669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7600" y="2968560"/>
              <a:ext cx="731880" cy="466920"/>
              <a:chOff x="417600" y="2968560"/>
              <a:chExt cx="731880" cy="466920"/>
            </a:xfrm>
          </p:grpSpPr>
          <p:sp>
            <p:nvSpPr>
              <p:cNvPr id="94" name=""/>
              <p:cNvSpPr/>
              <p:nvPr/>
            </p:nvSpPr>
            <p:spPr>
              <a:xfrm>
                <a:off x="417600" y="2968560"/>
                <a:ext cx="414360" cy="4669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7320" y="2968560"/>
                <a:ext cx="362160" cy="4669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52600" cy="414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23760" cy="10447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85000" cy="475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8C137D-9BEB-4EA0-B18B-4A0BB158C10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636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бобщение опыта работы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9280"/>
            <a:ext cx="9144000" cy="90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№ 15 с.Ивановского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63520" y="2333520"/>
            <a:ext cx="8580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Развитие критического мышления учащихся начальных классов посредством чтения и письма»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83480" y="598500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811080" y="1968480"/>
            <a:ext cx="7877160" cy="3460680"/>
            <a:chOff x="811080" y="1968480"/>
            <a:chExt cx="7877160" cy="3460680"/>
          </a:xfrm>
        </p:grpSpPr>
        <p:cxnSp>
          <p:nvCxnSpPr>
            <p:cNvPr id="180" name=""/>
            <p:cNvCxnSpPr/>
            <p:nvPr/>
          </p:nvCxnSpPr>
          <p:spPr>
            <a:xfrm>
              <a:off x="6578280" y="3755520"/>
              <a:ext cx="6483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181" name=""/>
            <p:cNvSpPr/>
            <p:nvPr/>
          </p:nvSpPr>
          <p:spPr>
            <a:xfrm>
              <a:off x="3181320" y="1968480"/>
              <a:ext cx="3395520" cy="228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Verdana"/>
                </a:rPr>
                <a:t>Ствол дере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1.Что будет дальше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2.Чем закончит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рассказ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3. Что может произойт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в рассказе с таким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названием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080" y="3429000"/>
              <a:ext cx="1774800" cy="86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 группа – </a:t>
              </a: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560" y="4780080"/>
              <a:ext cx="2071800" cy="649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II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группа -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II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53120" y="3359160"/>
              <a:ext cx="1635120" cy="905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группа – </a:t>
              </a: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>
              <a:off x="2598480" y="3793680"/>
              <a:ext cx="6087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 flipH="1">
              <a:off x="4431960" y="4271760"/>
              <a:ext cx="5421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1332000" y="620640"/>
            <a:ext cx="7127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Дерево предсказ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033640"/>
            <a:ext cx="4827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1560" indent="-601560">
              <a:spcBef>
                <a:spcPts val="125"/>
              </a:spcBef>
              <a:spcAft>
                <a:spcPts val="1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 – уже з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525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«+» – новое для ме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492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525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«-» – думал по-другом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?» - не понял, есть вопрос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620640"/>
            <a:ext cx="79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Приём «Инсер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0920" y="0"/>
            <a:ext cx="5357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иём «Эссе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ебольшое письменно зад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(обычно на стадии рефлекси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2700360"/>
            <a:ext cx="88408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Правила работы с текст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Читая текст, делайте пометки (два 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, три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«?»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, четыре значка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«?» «-»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тавьте значки по ходу чтения на поля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Прочитав текст один раз, вернитесь к своим предположениям, вспомните, что предполагали раньше, возможно число значков увеличится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4040" y="178596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равилось ли вам произведени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462400" y="22971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собенного понравилось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883960" y="280836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было страшн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59080" y="3246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вызвало смех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92200" y="3859200"/>
            <a:ext cx="24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героя жалк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 – таблица «тонких» и «толстых» вопрос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19120" y="4414680"/>
            <a:ext cx="2443320" cy="19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08360" y="3068640"/>
            <a:ext cx="4902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ставление словаря по тексту произве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413000"/>
            <a:ext cx="3708360" cy="13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5616720" y="1631880"/>
            <a:ext cx="33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Упражнение «От обратног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16000" y="4743360"/>
            <a:ext cx="4211640" cy="211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145120"/>
            <a:ext cx="39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Упражнение «Синквейн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Написание сочин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7628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ы проведения рефлекс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4257720"/>
            <a:ext cx="8136000" cy="26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Правила написания «Синквейна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1-ой строчке - одно слово - существительное – это и есть тема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2-ой– два прилагательных, раскрывающих тему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3-ей- три глагола, описывающих действия, относящиеся к теме синквейн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4-ой – целая фраза, предложение,с помощью которого ученик высказыва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е личное отношение к теме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557360"/>
            <a:ext cx="435456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 – стихотворение,состоящ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яти строк и написа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пределен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7628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 «Синквейн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50960" y="1792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Бортовой жур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760" y="182160"/>
            <a:ext cx="778824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195640" y="2708280"/>
          <a:ext cx="6648480" cy="3121200"/>
        </p:xfrm>
        <a:graphic>
          <a:graphicData uri="http://schemas.openxmlformats.org/drawingml/2006/table">
            <a:tbl>
              <a:tblPr/>
              <a:tblGrid>
                <a:gridCol w="3324240"/>
                <a:gridCol w="3324240"/>
              </a:tblGrid>
              <a:tr h="10710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звест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Нов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2840" y="179280"/>
            <a:ext cx="708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ём «Составление маркировочной таблиц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«З-Х-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92640" y="2370240"/>
          <a:ext cx="3578400" cy="1569960"/>
        </p:xfrm>
        <a:graphic>
          <a:graphicData uri="http://schemas.openxmlformats.org/drawingml/2006/table">
            <a:tbl>
              <a:tblPr/>
              <a:tblGrid>
                <a:gridCol w="1035000"/>
                <a:gridCol w="1589040"/>
                <a:gridCol w="954360"/>
              </a:tblGrid>
              <a:tr h="609480"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0480"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12840" y="179280"/>
            <a:ext cx="708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2600" y="2017800"/>
          <a:ext cx="3791160" cy="3905280"/>
        </p:xfrm>
        <a:graphic>
          <a:graphicData uri="http://schemas.openxmlformats.org/drawingml/2006/table">
            <a:tbl>
              <a:tblPr/>
              <a:tblGrid>
                <a:gridCol w="3791160"/>
              </a:tblGrid>
              <a:tr h="750960">
                <a:tc>
                  <a:txBody>
                    <a:bodyPr lIns="90000" rIns="90000" tIns="1418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писки из текс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4320">
                <a:tc>
                  <a:txBody>
                    <a:bodyPr lIns="90000" rIns="90000" tIns="141840" bIns="46800" anchor="t">
                      <a:noAutofit/>
                    </a:bodyPr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е понят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62400" y="2017800"/>
          <a:ext cx="3791160" cy="3848040"/>
        </p:xfrm>
        <a:graphic>
          <a:graphicData uri="http://schemas.openxmlformats.org/drawingml/2006/table">
            <a:tbl>
              <a:tblPr/>
              <a:tblGrid>
                <a:gridCol w="3791160"/>
              </a:tblGrid>
              <a:tr h="870120">
                <a:tc>
                  <a:txBody>
                    <a:bodyPr lIns="90000" rIns="90000" tIns="1418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опросы и комментар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040">
                <a:tc>
                  <a:txBody>
                    <a:bodyPr lIns="90000" rIns="90000" tIns="141840" bIns="46800" anchor="t">
                      <a:noAutofit/>
                    </a:bodyPr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заставило записать именно эту цитату?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мысли вызвала эта фраза?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вопрос возник в связи с ключевым понятием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320760"/>
            <a:ext cx="7788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войной дневник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19120" y="2370240"/>
          <a:ext cx="8251920" cy="3429000"/>
        </p:xfrm>
        <a:graphic>
          <a:graphicData uri="http://schemas.openxmlformats.org/drawingml/2006/table">
            <a:tbl>
              <a:tblPr/>
              <a:tblGrid>
                <a:gridCol w="2179800"/>
                <a:gridCol w="2919240"/>
                <a:gridCol w="3152880"/>
              </a:tblGrid>
              <a:tr h="166824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 класс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2 клас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4,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6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74,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8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1,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8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18880" y="7920"/>
            <a:ext cx="872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агностика уровня восприят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895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ahoma"/>
              </a:rPr>
              <a:t>Ивахнова Ирина Серг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Tahoma"/>
              </a:rPr>
              <a:t>Категория: втор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Tahoma"/>
              </a:rPr>
              <a:t>Педагогический стаж: 9 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7080" y="1979640"/>
            <a:ext cx="662292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080" y="1932120"/>
            <a:ext cx="85802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84160" y="14292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агностика уровня восприятия 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080" y="2370240"/>
          <a:ext cx="8543880" cy="3798720"/>
        </p:xfrm>
        <a:graphic>
          <a:graphicData uri="http://schemas.openxmlformats.org/drawingml/2006/table">
            <a:tbl>
              <a:tblPr/>
              <a:tblGrid>
                <a:gridCol w="1912680"/>
                <a:gridCol w="1981440"/>
                <a:gridCol w="2689200"/>
                <a:gridCol w="1960560"/>
              </a:tblGrid>
              <a:tr h="227808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на воспроизведение собы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на оценку героя и установление причинно-следствен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обобщающе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42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5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6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968480"/>
            <a:ext cx="888048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24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График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итогового тестирования по чтен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600" y="2289240"/>
            <a:ext cx="8666280" cy="4363920"/>
            <a:chOff x="147600" y="2289240"/>
            <a:chExt cx="8666280" cy="4363920"/>
          </a:xfrm>
        </p:grpSpPr>
        <p:sp>
          <p:nvSpPr>
            <p:cNvPr id="230" name=""/>
            <p:cNvSpPr/>
            <p:nvPr/>
          </p:nvSpPr>
          <p:spPr>
            <a:xfrm>
              <a:off x="147600" y="2289240"/>
              <a:ext cx="8666280" cy="43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520" y="2978280"/>
              <a:ext cx="807084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440" y="55688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7040" y="51004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7040" y="467820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040" y="425772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040" y="38336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040" y="341316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7040" y="29908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06360" y="4587840"/>
              <a:ext cx="898560" cy="134784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83360" y="4224240"/>
              <a:ext cx="898200" cy="171288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3565440"/>
              <a:ext cx="896760" cy="237024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89840" y="3895560"/>
              <a:ext cx="896760" cy="204156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17880" y="5594400"/>
              <a:ext cx="898560" cy="3427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4520" y="5619600"/>
              <a:ext cx="898560" cy="3175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2990880"/>
              <a:ext cx="0" cy="29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680" y="59450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680" y="55213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0680" y="510048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0680" y="467820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0680" y="42577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680" y="383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0680" y="34131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0680" y="299088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040" y="59450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2704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60368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032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44760" y="439092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3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1400" y="401148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2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9440" y="333540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8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75400" y="368604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87600" y="5445000"/>
              <a:ext cx="2685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66040" y="5472000"/>
              <a:ext cx="268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,7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2960" y="5891040"/>
              <a:ext cx="103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360" y="546876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360" y="504828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360" y="462600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360" y="420372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360" y="378144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6360" y="336060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6360" y="293688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7360" y="6022800"/>
              <a:ext cx="7160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 кл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с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4000" y="6022800"/>
              <a:ext cx="7160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 кл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с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9280" y="6284880"/>
              <a:ext cx="63720" cy="4752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9360" y="6262560"/>
              <a:ext cx="395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49680" y="6284880"/>
              <a:ext cx="63720" cy="4752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9760" y="6262560"/>
              <a:ext cx="460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е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64080" y="6284880"/>
              <a:ext cx="63720" cy="475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4160" y="6262560"/>
              <a:ext cx="3841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из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59000" y="216000"/>
            <a:ext cx="70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4080" y="2041560"/>
            <a:ext cx="88358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Tahoma"/>
              </a:rPr>
              <a:t>Использование технологии развития критического мышления позволило достичь  следующих результатов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изменить отношение детей к уроку чтения (после изучения произведения какого-либо автора ученики идут в библиотеку и продолжают самостоятельно знакомиться с творчеством писателя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повысить познавательное отношение к прочитанному (учащиеся учатся показывать свое исследовательское отношение, желание глубже вникать в суть произведения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4080" y="2114640"/>
            <a:ext cx="8835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развить положительное отношение к заданиям творческого и проблемно-поискового характера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изменить у учащихся отношение к собственным ошибкам и затруднениям, возникающим в ходе работы (они стали восприниматься ими более спокойно, возросло умение преодолевать трудности, доводить начатую работу до конца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мотивировать учащихся к дальнейшей деятельности (они учатся рефлексировать свою деятельность и развивают коммуникативную культуру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4080" y="2114640"/>
            <a:ext cx="8989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создать атмосферу доверия, сотрудничества в системе «учитель-ученик-класс», выработать осознанное отношение к индивидуальной, групповой и коллективной деятельност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85920" y="216000"/>
            <a:ext cx="66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263520" y="2151000"/>
            <a:ext cx="861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1. Развитие критического мышления на уроке: Пособие  для учителя 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С. И. Заир-Бек, И. В.Муштавинская. – М. : Просвещение, 200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2. Учим детей мыслить критически: Пособие для учителя / И. О. Загаше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С. И. Заир-Бек, И. В.Муштавинская. – СПб: Альянс «Дельта»,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3. Критическое мышление: технология развития: Пособие для учителя 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И. О. Загашев, С. И. Заир-Бек. - СПб: Альянс «Дельта»,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22280" y="1895400"/>
            <a:ext cx="7128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49680"/>
            <a:ext cx="7631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Всё наше достоинство – в способности мыслить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Только мысль возносит нас, а не пространство 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время,   в которых мы ничто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Постараемся же мыслить достойно – в этом основа   нравственности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            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Б. Паскаль.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59000" y="0"/>
            <a:ext cx="7448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eef2ee"/>
                </a:solidFill>
                <a:latin typeface="Tahoma"/>
              </a:rPr>
              <a:t>Основным приоритетом развития образования сегодня становится его личностно- ориентированная направленность. Задача учителя заключается не в передаче ученикам готовых знаний и умений, а в создании условий для развития личности, способной самой находить необходимые знания и умения и применять их в нестандартных ситуациях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09680" y="2763720"/>
            <a:ext cx="730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5cc"/>
                </a:solidFill>
                <a:latin typeface="Tahoma"/>
              </a:rPr>
              <a:t>Если на уроках литературного чтения в начальной школе использовать методы и приемы технологии развития критического мышления (ТРКМ), то учащиеся будут глубже понимать прочитанное, овладеют активными способами чтения и приемами работы с художественным текстом, что позволит повысить культуру речи, эстетическое развитие, сформирует активную личность, умеющую творчески и самостоятельно работать с книг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84360" y="2525040"/>
            <a:ext cx="7764480" cy="2737440"/>
            <a:chOff x="684360" y="2525040"/>
            <a:chExt cx="7764480" cy="2737440"/>
          </a:xfrm>
        </p:grpSpPr>
        <p:cxnSp>
          <p:nvCxnSpPr>
            <p:cNvPr id="164" name=""/>
            <p:cNvCxnSpPr>
              <a:stCxn id="165" idx="1"/>
              <a:endCxn id="166" idx="0"/>
            </p:cNvCxnSpPr>
            <p:nvPr/>
          </p:nvCxnSpPr>
          <p:spPr>
            <a:xfrm rot="10800000">
              <a:off x="4568040" y="2525040"/>
              <a:ext cx="1553400" cy="2191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67" name=""/>
            <p:cNvCxnSpPr>
              <a:stCxn id="168" idx="0"/>
              <a:endCxn id="166" idx="2"/>
            </p:cNvCxnSpPr>
            <p:nvPr/>
          </p:nvCxnSpPr>
          <p:spPr>
            <a:xfrm flipV="1">
              <a:off x="4568400" y="3615840"/>
              <a:ext cx="1080" cy="5565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69" name=""/>
            <p:cNvCxnSpPr>
              <a:stCxn id="170" idx="0"/>
              <a:endCxn id="166" idx="2"/>
            </p:cNvCxnSpPr>
            <p:nvPr/>
          </p:nvCxnSpPr>
          <p:spPr>
            <a:xfrm flipV="1">
              <a:off x="1847880" y="3615840"/>
              <a:ext cx="2720160" cy="5565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3405240" y="2525760"/>
              <a:ext cx="2324160" cy="108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Три фаз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технологи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РКМЧП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360" y="4173480"/>
              <a:ext cx="2323800" cy="1089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Verdana"/>
                </a:rPr>
                <a:t>I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 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1c1c1c"/>
                  </a:solidFill>
                  <a:uFillTx/>
                  <a:latin typeface="Verdana"/>
                </a:rPr>
                <a:t>Вызов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 </a:t>
              </a: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(пробуждение: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имеющихся знаний;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интереса к получению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новой информации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5240" y="4173480"/>
              <a:ext cx="2324160" cy="1089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I 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Verdana"/>
                </a:rPr>
                <a:t>Реализация смысла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Verdana"/>
                </a:rPr>
                <a:t>(получение новой 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Verdana"/>
                </a:rPr>
                <a:t>информации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4680" y="4173480"/>
              <a:ext cx="2324160" cy="1089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Verdana"/>
                </a:rPr>
                <a:t>III 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1c1c1c"/>
                  </a:solidFill>
                  <a:uFillTx/>
                  <a:latin typeface="Verdana"/>
                </a:rPr>
                <a:t>Рефлекс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1c1c1c"/>
                  </a:solidFill>
                  <a:uFillTx/>
                  <a:latin typeface="Verdana"/>
                </a:rPr>
                <a:t>(осмысление, рождение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1c1c1c"/>
                  </a:solidFill>
                  <a:uFillTx/>
                  <a:latin typeface="Verdana"/>
                </a:rPr>
                <a:t>нового знания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32000" y="620640"/>
            <a:ext cx="7127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Технологические этап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440" y="2370240"/>
            <a:ext cx="6307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Как работать с «гроздьями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465360"/>
            <a:ext cx="88930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мотрите на текст, нужно ли разбивать на «грозди»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 ли выделить большие и малые смысловые единицы(это могут быть вопросы, ключевые слова по всему тексту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вучьте «грозди» - т.е. смысловые един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новите связь между «гроздью» и «веточками» кластера и объясните возникшие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39760" y="325440"/>
            <a:ext cx="42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ём «Корзина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92200" y="2333520"/>
            <a:ext cx="788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учитель задает вопрос о том, что известно по  данной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ждый ученик вспоминает и записывает в тетради всё, что знает. Это строго индивидуальная работа (1-2 минут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бмен информацией в парах или группа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ждая группа по кругу называет какое-то одно сведение или факт, при этом не повторяя ранее сказа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се сведения (без комментариев, даже если ошибочны) отправляются учителем в «корзинку» и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54520" y="179280"/>
            <a:ext cx="42354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2840" y="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ё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«Чтение с остановками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114640"/>
            <a:ext cx="595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рассказ учителя о своем  личном опыте    знакомства с  этим произведени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обсуждение названия произве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основной этап: учитель заранее выделяет в тексте 2-3 остановки – в зависимости от размера тек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3:13:33Z</dcterms:created>
  <dc:creator>sivozhelezova</dc:creator>
  <dc:description/>
  <dc:language>en-US</dc:language>
  <cp:lastModifiedBy>Customer</cp:lastModifiedBy>
  <dcterms:modified xsi:type="dcterms:W3CDTF">2009-04-12T15:30:33Z</dcterms:modified>
  <cp:revision>296</cp:revision>
  <dc:subject/>
  <dc:title>Государственные стандарты общего образования</dc:title>
</cp:coreProperties>
</file>