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F01-4327-4480-A118-FBC928E0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F72-EC59-4877-861C-7A6C34D9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F23-2678-4C29-BE19-720E1B64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879-62DF-49B5-950C-8CB8BEDD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6026-F3FE-4658-99DC-4D6833E6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5534-51AD-42C9-BB9E-F36CB85E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A764-1497-452B-953F-C072FAF0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EF7C-9AB3-47CF-BB32-0A58A0F1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696F-9790-4FF7-9CDE-18E2254D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7CFA-4ADC-47AB-910C-67DC779A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715D-A921-4C84-B1A7-A1D6207F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258-4640-430C-92D2-7C960916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CB32-6ACE-4EB3-B53A-CAC0D3DC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A550-A922-4FF7-8EEF-EA02114D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47D7-004F-4BF9-9469-C4D8068E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7F96-609A-4E98-A903-90822CB9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D410-2B30-4AD1-87A0-42D1DE60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7CB10-3713-410C-BE39-629850A4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CB0A-A3C6-4D18-BF80-8B168B6D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B3EB-B24A-4235-A99B-A587932C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2A42-4709-4DE0-844B-ED645DC0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0524-52E9-423F-A19B-284554B8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08D-38DB-4CC2-9F0B-CAEE5072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48DF-8CE4-4C47-A09C-D53338A6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0A40-27C7-4DA7-9255-B7F9E47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5249-F788-49A2-9032-5F762DAA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4AB4-58E0-499F-89AC-C0D44380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EC45-83BD-4513-9D56-DD998829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E366-AA1F-4A32-83F9-FEBC103C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BD8B-2E99-44F8-8399-5B6EECD1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01BD-2C49-4C7A-A205-5DD49D5A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B96C3-23F1-4497-BE47-61461593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BB479-A2EC-4E39-8E0A-AD112266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23E-3866-454C-9977-0D0E12DB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1A3D8-E754-4259-A554-B5E42F93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2740-6A55-4322-9ACD-ECA7A2C0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86F5-206D-4DD1-8298-D64133FC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8E3A-B41C-44AF-84F7-A9B18819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87A5B-C0CA-4C59-81C4-F58C1A5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C281-CF05-4592-8446-12989E55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FAEB-1632-4914-A83E-C06C3A43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0148C-3EB2-4E89-801F-1FD10F41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0C3CB-0AA8-45C7-BF95-FE69E82B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AF97-3A98-47DF-A864-886CA47E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544-D6B9-42D8-89A6-5C1E330A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B6EC7-6FB5-4C81-8B87-7D5587D1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BCD99-D21B-4030-9324-68DD7B8F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F064B-73CD-4E84-8B7F-E86CAC0C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0CE4C-0703-4A59-ABF7-F53A4DE0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56E2B-43C8-4CF9-8193-455BC0D6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968A-0940-441B-967C-75F2B18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7CE89-3476-4D91-8530-F5E9F575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F3839-6F00-4251-ADAE-095DCDE8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1B8C5-5DD4-4113-9299-25727D6A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74AF9-1E6A-4AB0-9E7D-3A76490D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6CC-E40F-4190-A354-6BB72397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F630E-203B-4E51-BC5F-D2D95B56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C74-9DC1-4A74-BD6B-3DC97176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183-BB8B-4487-BA15-C4E865E1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887-CB85-4426-B924-75366A66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BA8C-C48E-4C96-B7E9-B6EEEF893CC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15" name="AutoShape 17"/>
            <p:cNvSpPr/>
            <p:nvPr/>
          </p:nvSpPr>
          <p:spPr>
            <a:xfrm>
              <a:off x="0" y="1116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16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20" name="AutoShape 17"/>
            <p:cNvSpPr/>
            <p:nvPr/>
          </p:nvSpPr>
          <p:spPr>
            <a:xfrm>
              <a:off x="0" y="1116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18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19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0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E51-96EA-4A2F-A3BD-E5BE2DE2FA4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Group 16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111" name="AutoShape 17"/>
            <p:cNvSpPr/>
            <p:nvPr/>
          </p:nvSpPr>
          <p:spPr>
            <a:xfrm>
              <a:off x="0" y="1116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9BD1-3056-4433-84CA-09B0703A008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9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0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3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16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166" name="AutoShape 17"/>
            <p:cNvSpPr/>
            <p:nvPr/>
          </p:nvSpPr>
          <p:spPr>
            <a:xfrm>
              <a:off x="0" y="1116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8C8D-55A3-4D6A-A8C2-09DB28FAC82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с одним вырезанным скругленным углом 19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8F32-2111-4CE2-8521-D1FF6293332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186760" cy="169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10920" y="1342800"/>
            <a:ext cx="803124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ЧЕРЕЗ ЧТЕНИЕ И ПИСЬМ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а примере преподавания иностранных язык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4F3A-2D80-4E69-B76C-BA7DF6D5137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5520" y="7138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Таблицы: «Знаю – Узнал - Хочу узнать –  (ЗУХ)»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01800" y="2421000"/>
          <a:ext cx="7691400" cy="2646360"/>
        </p:xfrm>
        <a:graphic>
          <a:graphicData uri="http://schemas.openxmlformats.org/drawingml/2006/table">
            <a:tbl>
              <a:tblPr/>
              <a:tblGrid>
                <a:gridCol w="2562120"/>
                <a:gridCol w="2567160"/>
                <a:gridCol w="2562120"/>
              </a:tblGrid>
              <a:tr h="26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зна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узнал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хотим узн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F0E1-1DC3-48BF-978E-699914583D6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4009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инкве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85520" y="1999800"/>
            <a:ext cx="7745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авила написания синкве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Одно слово</a:t>
            </a:r>
            <a:r>
              <a:rPr b="0" lang="ru-RU" sz="2200" spc="-1" strike="noStrike">
                <a:solidFill>
                  <a:srgbClr val="ff7c80"/>
                </a:solidFill>
                <a:latin typeface="Constantia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Существительное или местоимение, обозначающее предмет, о котором идет реч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Два слова</a:t>
            </a:r>
            <a:r>
              <a:rPr b="0" lang="ru-RU" sz="2200" spc="-1" strike="noStrike">
                <a:solidFill>
                  <a:srgbClr val="ff7c80"/>
                </a:solidFill>
                <a:latin typeface="Constantia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Прилагательные или причастия, описывающие признаки и свойства выбранного предме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Три слова</a:t>
            </a:r>
            <a:r>
              <a:rPr b="0" lang="ru-RU" sz="2200" spc="-1" strike="noStrike">
                <a:solidFill>
                  <a:srgbClr val="ff7c80"/>
                </a:solidFill>
                <a:latin typeface="Constantia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Глаголы, описывающие совершаемые предметом или объектом действ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Фраза из четырех слов.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ыражает личное отношение автора к предмету или объект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Одно слово</a:t>
            </a:r>
            <a:r>
              <a:rPr b="0" lang="ru-RU" sz="2200" spc="-1" strike="noStrike">
                <a:solidFill>
                  <a:srgbClr val="ff7c80"/>
                </a:solidFill>
                <a:latin typeface="Constantia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Характеризует суть предмета или объекта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F4A8-F0F5-407A-A716-14B7C81708F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761760"/>
            <a:ext cx="8115120" cy="66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ритическое мышление это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53920" y="2112840"/>
            <a:ext cx="75312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окупность качеств и умений, обуславливающих высокий уровень </a:t>
            </a:r>
            <a:r>
              <a:rPr b="0" lang="ru-RU" sz="2600" spc="-1" strike="noStrike" u="sng">
                <a:solidFill>
                  <a:srgbClr val="00b0f0"/>
                </a:solidFill>
                <a:uFillTx/>
                <a:latin typeface="Constantia"/>
              </a:rPr>
              <a:t>исследовательской культуры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удента и преподавате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способность ставить новые, полные смысла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i="1" lang="ru-RU" sz="2600" spc="-1" strike="noStrike" u="sng">
                <a:solidFill>
                  <a:srgbClr val="00b0f0"/>
                </a:solidFill>
                <a:uFillTx/>
                <a:latin typeface="Constantia"/>
              </a:rPr>
              <a:t>вопрос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мение вырабатывать разнообразные, подкрепляющ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 u="sng">
                <a:solidFill>
                  <a:srgbClr val="00b0f0"/>
                </a:solidFill>
                <a:uFillTx/>
                <a:latin typeface="Constantia"/>
              </a:rPr>
              <a:t>аргумент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ринимать независимые продуманные </a:t>
            </a:r>
            <a:r>
              <a:rPr b="0" i="1" lang="ru-RU" sz="2600" spc="-1" strike="noStrike" u="sng">
                <a:solidFill>
                  <a:srgbClr val="00b0f0"/>
                </a:solidFill>
                <a:uFillTx/>
                <a:latin typeface="Constantia"/>
              </a:rPr>
              <a:t>реше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B1AD-BEEB-4BFE-AA71-D993479C3E4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труктура модели развития крит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98240" y="2360160"/>
            <a:ext cx="81882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Вызов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Осмыслени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E5F1-6143-46D9-88C6-87BAA95F5F8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55720" y="1001520"/>
            <a:ext cx="77119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ыз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39360" y="1974600"/>
            <a:ext cx="38149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оцирует учени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дает вопрос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здает ситуацию актуализации опыта учени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ует мотивацию ученик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0400" y="1934640"/>
            <a:ext cx="3674880" cy="43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вечает на провокаци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поминает все, что знает по данной тем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улирует первые гипотез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пределяется в своих мотивах и целя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5680" y="887400"/>
            <a:ext cx="79707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мысл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115640" y="1844280"/>
            <a:ext cx="3311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едлагает опорный текст по тем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рганизует процессы чтения, обсуждения, понимания, дискусс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вляет групповой динамик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ддерживает мотивацию и цел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716000" y="1935000"/>
            <a:ext cx="3598920" cy="41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ключается в процессы чтения, обсуждения, дискусс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частвует в групповом взаимодейств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дкрепляет и делает коррекцию своих цел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лушает, задает вопросы, пишет, выделяет главные моменты в новой информац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флек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8720" y="1934640"/>
            <a:ext cx="3674880" cy="43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правляет подведением итог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вит новые вопросы и задачи на будуще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ценивает деятельность ученик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0400" y="1934640"/>
            <a:ext cx="3674880" cy="43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уммирует в групповой работе весь изученный материа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дает вопросы на будуще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лает самооценку своей деятельност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ные стратегии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зговой штур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ление кластер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ркировочная таблица ЗУ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екция с остановк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ючевые сл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фическое оформление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исание эсс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ление синквейн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ловные знач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стратегия инсерт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рзина ид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лстые и тонкие вопрос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32A1-C84E-4C4A-BC73-62305A2EA6F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Стратегия «Инсерт»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(«Условные значки»)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99640" y="2349360"/>
            <a:ext cx="8055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interactive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амоактивизирующая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no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(диалоговая)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«</a:t>
            </a:r>
            <a:r>
              <a:rPr b="1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» – уже зна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system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истемная разметка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» – ново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effective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для эффективного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» – думал инач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read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amp;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чтения и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» – есть вопрос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T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thinking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размышле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0E75-8D21-4684-ADB6-581FBC5FD9D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5796000" y="2997360"/>
            <a:ext cx="71280" cy="27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2771640" y="3141720"/>
            <a:ext cx="7164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80680" y="1117440"/>
            <a:ext cx="7986600" cy="50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орзина (идей, понятий, имен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еник записывает в тетради все, что ему известно по пробле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мен информацией в парах или групп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уппы по кругу называют сведения, фак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итель записывает все на дос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язывание в логические цепи, исправление ошибок по мере усвоения нов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9710-DAEE-4972-B4A5-9C4DEEC4277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3:48:03Z</dcterms:created>
  <dc:creator>Shill</dc:creator>
  <dc:description/>
  <dc:language>en-US</dc:language>
  <cp:lastModifiedBy>ЧГА</cp:lastModifiedBy>
  <dcterms:modified xsi:type="dcterms:W3CDTF">2021-11-08T18:04:15Z</dcterms:modified>
  <cp:revision>150</cp:revision>
  <dc:subject/>
  <dc:title>Использование технологии развития критического мышления (ТРКМ) в дистанционном обучении</dc:title>
</cp:coreProperties>
</file>