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5A4-F5A1-4B7D-B927-63046A5A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76E-7A46-4773-B377-9C47104A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13F-4A1D-4AB1-B3D4-A03C1DD8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99D-8371-4993-95E5-6025BEAF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0C59-FB85-421E-9ECF-FC6E49A9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62B3-DC4A-4C53-AF41-E17436A0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5B5E-16DA-436F-964F-6015A271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71FA-7FAE-4790-9F1B-2B450259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F21C-B884-41C2-9AF9-E551F88C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CB8E-9CC0-4DDD-9B4C-CA6951B9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AFCF-489B-4974-8216-1793BA94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59E-6A27-406F-B927-4C25948C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ABB3-9E81-4F24-88CC-9FB1DC71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A81D-D83C-4DCE-88D9-87A5047F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838E-C05E-40D7-AD79-05790EDA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A97C-1DF4-47BD-8D71-57C67279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C537-2614-4D62-8DDD-DBCCC36F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B5ABF-8C42-4141-9191-E26DB698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E2AD-161E-43A9-AD63-40D7361E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41A7-B78B-4AC6-9FF6-29AC288D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2584-3C67-448C-8762-48002D1B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6963-E022-4EBA-84C2-94F6E56E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F35-9783-44BA-8B5B-C2837E12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7992D-E71F-45CF-8E42-66BB1F9A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6166-10BC-44E5-8734-0E2D6D5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EB8FC-1D3B-4C0D-A2E2-856245CF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2396-00EC-4EB5-8CDD-860533B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0EFA-8271-4B10-AC19-6A120669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099F-13B2-4D8D-9B6D-2BE134A3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F2EF-1482-42E6-9E9C-7692B747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94A3-1CC8-43DC-B437-BB93A4D5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4495-E5E1-4454-AAB4-5C5DDC84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D831-E3CB-4E05-890D-F03846C1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F72-7511-4E0E-BE07-B224D7E1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9A52-1EE8-4BE3-B169-83749204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D8B9D-967B-4A3D-B1C4-255301AC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0797-D6EB-464C-8D60-650944DB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2C78-5651-495B-A929-D42A5B3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8963-F8DA-47FE-B802-0F8DD8A0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F76F-5B3D-4BDB-82AF-C45BF7B9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887B8-63E7-470C-A247-E44E40E4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1E13F-147F-4259-BA54-F3DBD217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2A18B-E273-422A-BE56-E77CA83F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7CEC-72F5-467F-A48A-1F960E55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8B3-1864-4E8F-A9EC-45E127B8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3FCE-6AA0-4A65-A017-424E261A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E2D18-F045-43A9-839C-F7A553AA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BE2B-A77D-41F0-9891-4D01486B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3B3AF-961F-4590-A8C0-1D9DA74F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027DB-E52D-4D13-9ADA-3FBD90E0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AAF63-F018-43B3-87A1-92DBFDBC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AEB08-99F9-4B69-8662-2FF10215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60FB3-F515-4F10-9B2D-0052AB57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9DC1C-9350-43C4-BDE8-2726B1C6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AFE5-2DB3-4B48-A449-B5986617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9CB-4952-4161-A02E-F2112D8B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88C19-D84E-4DF9-BE97-D88ED7F2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93A-5923-4A0B-BA81-732BE359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B67-B1AB-48B8-BD6B-CBF2098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D6B-5248-4397-9819-19C0BC9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90A6-B82B-4097-BBB8-368F333090B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15" name="AutoShape 17"/>
            <p:cNvSpPr/>
            <p:nvPr/>
          </p:nvSpPr>
          <p:spPr>
            <a:xfrm>
              <a:off x="0" y="1116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16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20" name="AutoShape 17"/>
            <p:cNvSpPr/>
            <p:nvPr/>
          </p:nvSpPr>
          <p:spPr>
            <a:xfrm>
              <a:off x="0" y="1116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18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19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0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B3E5-EE89-4D8F-AC2B-AEE2101E31D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Group 16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111" name="AutoShape 17"/>
            <p:cNvSpPr/>
            <p:nvPr/>
          </p:nvSpPr>
          <p:spPr>
            <a:xfrm>
              <a:off x="0" y="1116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5E4D-C0DC-466C-B72B-35CAE51187A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9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0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3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16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166" name="AutoShape 17"/>
            <p:cNvSpPr/>
            <p:nvPr/>
          </p:nvSpPr>
          <p:spPr>
            <a:xfrm>
              <a:off x="0" y="1116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236C-11F9-4D4B-87F6-AEDA39DD18A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с одним вырезанным скругленным углом 19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0184-A965-46C5-B817-2533EE6DD2D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186760" cy="169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10920" y="1342800"/>
            <a:ext cx="803124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ЧЕРЕЗ ЧТЕНИЕ И ПИСЬМ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а примере преподавания иностранных язык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6B2A-9E8C-4630-BDB3-9576581AF7C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5520" y="7138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Таблицы: «Знаю – Узнал - Хочу узнать –  (ЗУХ)»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01800" y="2421000"/>
          <a:ext cx="7691400" cy="2646360"/>
        </p:xfrm>
        <a:graphic>
          <a:graphicData uri="http://schemas.openxmlformats.org/drawingml/2006/table">
            <a:tbl>
              <a:tblPr/>
              <a:tblGrid>
                <a:gridCol w="2562120"/>
                <a:gridCol w="2567160"/>
                <a:gridCol w="2562120"/>
              </a:tblGrid>
              <a:tr h="26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зна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узнал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хотим узн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5EF6-B177-4746-943B-15C09C7041A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4009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инкве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85520" y="1999800"/>
            <a:ext cx="7745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авила написания синкве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Одно слово</a:t>
            </a:r>
            <a:r>
              <a:rPr b="0" lang="ru-RU" sz="2200" spc="-1" strike="noStrike">
                <a:solidFill>
                  <a:srgbClr val="ff7c80"/>
                </a:solidFill>
                <a:latin typeface="Constantia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Существительное или местоимение, обозначающее предмет, о котором идет реч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Два слова</a:t>
            </a:r>
            <a:r>
              <a:rPr b="0" lang="ru-RU" sz="2200" spc="-1" strike="noStrike">
                <a:solidFill>
                  <a:srgbClr val="ff7c80"/>
                </a:solidFill>
                <a:latin typeface="Constantia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Прилагательные или причастия, описывающие признаки и свойства выбранного предме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Три слова</a:t>
            </a:r>
            <a:r>
              <a:rPr b="0" lang="ru-RU" sz="2200" spc="-1" strike="noStrike">
                <a:solidFill>
                  <a:srgbClr val="ff7c80"/>
                </a:solidFill>
                <a:latin typeface="Constantia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Глаголы, описывающие совершаемые предметом или объектом действ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Фраза из четырех слов.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ыражает личное отношение автора к предмету или объект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6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onstantia"/>
              </a:rPr>
              <a:t>Одно слово</a:t>
            </a:r>
            <a:r>
              <a:rPr b="0" lang="ru-RU" sz="2200" spc="-1" strike="noStrike">
                <a:solidFill>
                  <a:srgbClr val="ff7c80"/>
                </a:solidFill>
                <a:latin typeface="Constantia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Характеризует суть предмета или объекта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D417-184C-44D1-845A-D9A0CC899E5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761760"/>
            <a:ext cx="8115120" cy="66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ритическое мышление это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53920" y="2112840"/>
            <a:ext cx="75312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окупность качеств и умений, обуславливающих высокий уровень </a:t>
            </a:r>
            <a:r>
              <a:rPr b="0" lang="ru-RU" sz="2600" spc="-1" strike="noStrike" u="sng">
                <a:solidFill>
                  <a:srgbClr val="00b0f0"/>
                </a:solidFill>
                <a:uFillTx/>
                <a:latin typeface="Constantia"/>
              </a:rPr>
              <a:t>исследовательской культуры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удента и преподавате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способность ставить новые, полные смысла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i="1" lang="ru-RU" sz="2600" spc="-1" strike="noStrike" u="sng">
                <a:solidFill>
                  <a:srgbClr val="00b0f0"/>
                </a:solidFill>
                <a:uFillTx/>
                <a:latin typeface="Constantia"/>
              </a:rPr>
              <a:t>вопрос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мение вырабатывать разнообразные, подкрепляющ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 u="sng">
                <a:solidFill>
                  <a:srgbClr val="00b0f0"/>
                </a:solidFill>
                <a:uFillTx/>
                <a:latin typeface="Constantia"/>
              </a:rPr>
              <a:t>аргумент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ринимать независимые продуманные </a:t>
            </a:r>
            <a:r>
              <a:rPr b="0" i="1" lang="ru-RU" sz="2600" spc="-1" strike="noStrike" u="sng">
                <a:solidFill>
                  <a:srgbClr val="00b0f0"/>
                </a:solidFill>
                <a:uFillTx/>
                <a:latin typeface="Constantia"/>
              </a:rPr>
              <a:t>реше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10E1-1087-4FFB-9818-DA5DE298276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труктура модели развития крит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98240" y="2360160"/>
            <a:ext cx="81882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Вызов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Осмыслени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9EC7-8232-4FEA-9B9B-AED6CA7661A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55720" y="1001520"/>
            <a:ext cx="77119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ыз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39360" y="1974600"/>
            <a:ext cx="38149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оцирует учени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дает вопрос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здает ситуацию актуализации опыта учени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ует мотивацию ученик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0400" y="1934640"/>
            <a:ext cx="3674880" cy="43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вечает на провокаци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поминает все, что знает по данной тем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улирует первые гипотез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пределяется в своих мотивах и целя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5680" y="887400"/>
            <a:ext cx="79707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мысл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115640" y="1844280"/>
            <a:ext cx="3311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едлагает опорный текст по тем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рганизует процессы чтения, обсуждения, понимания, дискусс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правляет групповой динамик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ддерживает мотивацию и цел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716000" y="1935000"/>
            <a:ext cx="3598920" cy="41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ключается в процессы чтения, обсуждения, дискусс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частвует в групповом взаимодейств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дкрепляет и делает коррекцию своих цел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лушает, задает вопросы, пишет, выделяет главные моменты в новой информац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флек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8720" y="1934640"/>
            <a:ext cx="3674880" cy="43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правляет подведением итог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вит новые вопросы и задачи на будуще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ценивает деятельность ученик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0400" y="1934640"/>
            <a:ext cx="3674880" cy="43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уммирует в групповой работе весь изученный материа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дает вопросы на будуще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лает самооценку своей деятельност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ные стратегии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зговой штур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ление кластер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ркировочная таблица ЗУ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екция с остановк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ючевые сло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фическое оформление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исание эсс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ление синквейн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ловные знач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стратегия инсерт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рзина ид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лстые и тонкие вопрос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50F0-825F-40A8-BFB1-64EC8959B61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Стратегия «Инсерт»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(«Условные значки»)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99640" y="2349360"/>
            <a:ext cx="8055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interactive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амоактивизирующая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not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(диалоговая)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 «</a:t>
            </a:r>
            <a:r>
              <a:rPr b="1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» – уже зна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system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истемная разметка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» – ново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effective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для эффективного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» – думал инач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reading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amp;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чтения и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» – есть вопрос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5748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T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thinking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размышле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EDF0-D979-426C-BB29-21432C8DDCF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5796000" y="2997360"/>
            <a:ext cx="71280" cy="27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2771640" y="3141720"/>
            <a:ext cx="7164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80680" y="1117440"/>
            <a:ext cx="7986600" cy="50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орзина (идей, понятий, имен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еник записывает в тетради все, что ему известно по пробле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мен информацией в парах или групп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уппы по кругу называют сведения, фак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итель записывает все на дос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язывание в логические цепи, исправление ошибок по мере усвоения нов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BA70-9BBD-4649-A5F6-7174D2DF538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3:48:03Z</dcterms:created>
  <dc:creator>Shill</dc:creator>
  <dc:description/>
  <dc:language>en-US</dc:language>
  <cp:lastModifiedBy>ЧГА</cp:lastModifiedBy>
  <dcterms:modified xsi:type="dcterms:W3CDTF">2021-11-08T18:04:15Z</dcterms:modified>
  <cp:revision>150</cp:revision>
  <dc:subject/>
  <dc:title>Использование технологии развития критического мышления (ТРКМ) в дистанционном обучении</dc:title>
</cp:coreProperties>
</file>