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4.png" ContentType="image/png"/>
  <Override PartName="/ppt/media/%D0%B7%D0%B2%D0%BE%D0%BD.wav" ContentType="audio/x-wav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29.png" ContentType="image/png"/>
  <Override PartName="/ppt/media/image94.png" ContentType="image/png"/>
  <Override PartName="/ppt/media/image27.png" ContentType="image/png"/>
  <Override PartName="/ppt/media/image92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70.png" ContentType="image/png"/>
  <Override PartName="/ppt/media/image114.png" ContentType="image/png"/>
  <Override PartName="/ppt/media/chimer.wav" ContentType="audio/x-wav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41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wind.wav" ContentType="audio/x-wav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110.png" ContentType="image/png"/>
  <Override PartName="/ppt/media/image59.png" ContentType="image/png"/>
  <Override PartName="/ppt/media/image22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74A-CAA7-4C21-8B63-B3B7830E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31C-1810-40FB-AA56-0EAF3A5F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8DB-82A6-40C0-8CF7-BC7B9E0E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100-0875-42D6-846B-E8FB2915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A47-DFB4-413F-819C-259A2C3D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9BA-C51A-42AE-8800-EC39E429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606-E955-40E3-89CF-683E4325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F7D-2ED7-4EC1-BD19-30DBA222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BD8-90F5-4294-AE5D-9A2E115A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543-4845-4382-A1E9-93ED362C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A60-9494-4EA3-A11E-652A153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D0D-4463-40C9-8572-E01DDBC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009B-792E-4492-8755-A081D21DB3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60.png"/><Relationship Id="rId4" Type="http://schemas.openxmlformats.org/officeDocument/2006/relationships/image" Target="../media/image74.png"/><Relationship Id="rId5" Type="http://schemas.openxmlformats.org/officeDocument/2006/relationships/image" Target="../media/image62.png"/><Relationship Id="rId6" Type="http://schemas.openxmlformats.org/officeDocument/2006/relationships/image" Target="../media/image90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3.png"/><Relationship Id="rId10" Type="http://schemas.openxmlformats.org/officeDocument/2006/relationships/image" Target="../media/image94.png"/><Relationship Id="rId11" Type="http://schemas.openxmlformats.org/officeDocument/2006/relationships/image" Target="../media/image95.png"/><Relationship Id="rId12" Type="http://schemas.openxmlformats.org/officeDocument/2006/relationships/image" Target="../media/image96.png"/><Relationship Id="rId13" Type="http://schemas.openxmlformats.org/officeDocument/2006/relationships/image" Target="../media/image97.png"/><Relationship Id="rId14" Type="http://schemas.openxmlformats.org/officeDocument/2006/relationships/image" Target="../media/image98.png"/><Relationship Id="rId15" Type="http://schemas.openxmlformats.org/officeDocument/2006/relationships/image" Target="../media/image85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99.png"/><Relationship Id="rId19" Type="http://schemas.openxmlformats.org/officeDocument/2006/relationships/slide" Target="slide2.xml"/><Relationship Id="rId20" Type="http://schemas.openxmlformats.org/officeDocument/2006/relationships/image" Target="../media/image12.png"/><Relationship Id="rId21" Type="http://schemas.openxmlformats.org/officeDocument/2006/relationships/image" Target="../media/image100.png"/><Relationship Id="rId22" Type="http://schemas.openxmlformats.org/officeDocument/2006/relationships/image" Target="../media/image101.png"/><Relationship Id="rId23" Type="http://schemas.openxmlformats.org/officeDocument/2006/relationships/audio" Target="../media/wind.wav"/><Relationship Id="rId24" Type="http://schemas.openxmlformats.org/officeDocument/2006/relationships/audio" Target="../media/chimer.wav"/><Relationship Id="rId25" Type="http://schemas.openxmlformats.org/officeDocument/2006/relationships/audio" Target="../media/&#1079;&#1074;&#1086;&#1085;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audio" Target="../media/chimer.wav"/><Relationship Id="rId3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46.png"/><Relationship Id="rId4" Type="http://schemas.openxmlformats.org/officeDocument/2006/relationships/image" Target="../media/image102.png"/><Relationship Id="rId5" Type="http://schemas.openxmlformats.org/officeDocument/2006/relationships/image" Target="../media/image103.png"/><Relationship Id="rId6" Type="http://schemas.openxmlformats.org/officeDocument/2006/relationships/image" Target="../media/image104.png"/><Relationship Id="rId7" Type="http://schemas.openxmlformats.org/officeDocument/2006/relationships/image" Target="../media/image105.png"/><Relationship Id="rId8" Type="http://schemas.openxmlformats.org/officeDocument/2006/relationships/image" Target="../media/image106.png"/><Relationship Id="rId9" Type="http://schemas.openxmlformats.org/officeDocument/2006/relationships/image" Target="../media/image107.png"/><Relationship Id="rId10" Type="http://schemas.openxmlformats.org/officeDocument/2006/relationships/image" Target="../media/image108.png"/><Relationship Id="rId11" Type="http://schemas.openxmlformats.org/officeDocument/2006/relationships/image" Target="../media/image53.png"/><Relationship Id="rId12" Type="http://schemas.openxmlformats.org/officeDocument/2006/relationships/image" Target="../media/image109.png"/><Relationship Id="rId13" Type="http://schemas.openxmlformats.org/officeDocument/2006/relationships/image" Target="../media/image82.png"/><Relationship Id="rId14" Type="http://schemas.openxmlformats.org/officeDocument/2006/relationships/image" Target="../media/image97.png"/><Relationship Id="rId15" Type="http://schemas.openxmlformats.org/officeDocument/2006/relationships/image" Target="../media/image84.png"/><Relationship Id="rId16" Type="http://schemas.openxmlformats.org/officeDocument/2006/relationships/image" Target="../media/image110.png"/><Relationship Id="rId17" Type="http://schemas.openxmlformats.org/officeDocument/2006/relationships/image" Target="../media/image71.png"/><Relationship Id="rId18" Type="http://schemas.openxmlformats.org/officeDocument/2006/relationships/image" Target="../media/image111.png"/><Relationship Id="rId19" Type="http://schemas.openxmlformats.org/officeDocument/2006/relationships/image" Target="../media/image112.png"/><Relationship Id="rId20" Type="http://schemas.openxmlformats.org/officeDocument/2006/relationships/slide" Target="slide2.xml"/><Relationship Id="rId21" Type="http://schemas.openxmlformats.org/officeDocument/2006/relationships/image" Target="../media/image12.png"/><Relationship Id="rId22" Type="http://schemas.openxmlformats.org/officeDocument/2006/relationships/image" Target="../media/image113.png"/><Relationship Id="rId23" Type="http://schemas.openxmlformats.org/officeDocument/2006/relationships/image" Target="../media/image114.png"/><Relationship Id="rId24" Type="http://schemas.openxmlformats.org/officeDocument/2006/relationships/audio" Target="../media/wind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audio" Target="../media/chimer.wav"/><Relationship Id="rId33" Type="http://schemas.openxmlformats.org/officeDocument/2006/relationships/audio" Target="../media/chimer.wav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odissea.at.ua/photo/priroda/zimnij_vecher/6-0-7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" Target="slide6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8.png"/><Relationship Id="rId8" Type="http://schemas.openxmlformats.org/officeDocument/2006/relationships/slide" Target="slide7.xml"/><Relationship Id="rId9" Type="http://schemas.openxmlformats.org/officeDocument/2006/relationships/image" Target="../media/image9.png"/><Relationship Id="rId10" Type="http://schemas.openxmlformats.org/officeDocument/2006/relationships/slide" Target="slide5.xml"/><Relationship Id="rId11" Type="http://schemas.openxmlformats.org/officeDocument/2006/relationships/image" Target="../media/image10.png"/><Relationship Id="rId12" Type="http://schemas.openxmlformats.org/officeDocument/2006/relationships/slide" Target="slide8.xml"/><Relationship Id="rId13" Type="http://schemas.openxmlformats.org/officeDocument/2006/relationships/image" Target="../media/image11.png"/><Relationship Id="rId14" Type="http://schemas.openxmlformats.org/officeDocument/2006/relationships/slide" Target="slide10.xml"/><Relationship Id="rId15" Type="http://schemas.openxmlformats.org/officeDocument/2006/relationships/image" Target="../media/image12.png"/><Relationship Id="rId16" Type="http://schemas.openxmlformats.org/officeDocument/2006/relationships/slide" Target="slide9.xml"/><Relationship Id="rId17" Type="http://schemas.openxmlformats.org/officeDocument/2006/relationships/image" Target="../media/image11.png"/><Relationship Id="rId18" Type="http://schemas.openxmlformats.org/officeDocument/2006/relationships/slide" Target="slide11.xm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12.png"/><Relationship Id="rId15" Type="http://schemas.openxmlformats.org/officeDocument/2006/relationships/image" Target="../media/image25.png"/><Relationship Id="rId16" Type="http://schemas.openxmlformats.org/officeDocument/2006/relationships/audio" Target="../media/wind.wav"/><Relationship Id="rId17" Type="http://schemas.openxmlformats.org/officeDocument/2006/relationships/audio" Target="../media/&#1079;&#1074;&#1086;&#1085;.wav"/><Relationship Id="rId18" Type="http://schemas.openxmlformats.org/officeDocument/2006/relationships/audio" Target="../media/&#1079;&#1074;&#1086;&#1085;.wav"/><Relationship Id="rId19" Type="http://schemas.openxmlformats.org/officeDocument/2006/relationships/audio" Target="../media/&#1079;&#1074;&#1086;&#1085;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6.png"/><Relationship Id="rId12" Type="http://schemas.openxmlformats.org/officeDocument/2006/relationships/image" Target="../media/image12.png"/><Relationship Id="rId13" Type="http://schemas.openxmlformats.org/officeDocument/2006/relationships/image" Target="../media/image25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" Target="slide2.xml"/><Relationship Id="rId17" Type="http://schemas.openxmlformats.org/officeDocument/2006/relationships/audio" Target="../media/wind.wav"/><Relationship Id="rId18" Type="http://schemas.openxmlformats.org/officeDocument/2006/relationships/audio" Target="../media/&#1079;&#1074;&#1086;&#1085;.wav"/><Relationship Id="rId19" Type="http://schemas.openxmlformats.org/officeDocument/2006/relationships/audio" Target="../media/&#1079;&#1074;&#1086;&#1085;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31.png"/><Relationship Id="rId12" Type="http://schemas.openxmlformats.org/officeDocument/2006/relationships/image" Target="../media/image12.png"/><Relationship Id="rId13" Type="http://schemas.openxmlformats.org/officeDocument/2006/relationships/image" Target="../media/image25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slide" Target="slide2.xml"/><Relationship Id="rId18" Type="http://schemas.openxmlformats.org/officeDocument/2006/relationships/audio" Target="../media/wind.wav"/><Relationship Id="rId19" Type="http://schemas.openxmlformats.org/officeDocument/2006/relationships/audio" Target="../media/&#1079;&#1074;&#1086;&#1085;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12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slide" Target="slide2.xml"/><Relationship Id="rId19" Type="http://schemas.openxmlformats.org/officeDocument/2006/relationships/audio" Target="../media/wind.wav"/><Relationship Id="rId20" Type="http://schemas.openxmlformats.org/officeDocument/2006/relationships/audio" Target="../media/&#1079;&#1074;&#1086;&#1085;.wav"/><Relationship Id="rId21" Type="http://schemas.openxmlformats.org/officeDocument/2006/relationships/audio" Target="../media/&#1079;&#1074;&#1086;&#1085;.wav"/><Relationship Id="rId22" Type="http://schemas.openxmlformats.org/officeDocument/2006/relationships/audio" Target="../media/&#1079;&#1074;&#1086;&#1085;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chimer.wav"/><Relationship Id="rId25" Type="http://schemas.openxmlformats.org/officeDocument/2006/relationships/audio" Target="../media/chimer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&#1079;&#1074;&#1086;&#1085;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46.png"/><Relationship Id="rId4" Type="http://schemas.openxmlformats.org/officeDocument/2006/relationships/image" Target="../media/image44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58.png"/><Relationship Id="rId17" Type="http://schemas.openxmlformats.org/officeDocument/2006/relationships/image" Target="../media/image59.png"/><Relationship Id="rId18" Type="http://schemas.openxmlformats.org/officeDocument/2006/relationships/image" Target="../media/image12.png"/><Relationship Id="rId19" Type="http://schemas.openxmlformats.org/officeDocument/2006/relationships/slide" Target="slide2.xml"/><Relationship Id="rId20" Type="http://schemas.openxmlformats.org/officeDocument/2006/relationships/audio" Target="../media/wind.wav"/><Relationship Id="rId21" Type="http://schemas.openxmlformats.org/officeDocument/2006/relationships/audio" Target="../media/chimer.wav"/><Relationship Id="rId22" Type="http://schemas.openxmlformats.org/officeDocument/2006/relationships/audio" Target="../media/chimer.wav"/><Relationship Id="rId23" Type="http://schemas.openxmlformats.org/officeDocument/2006/relationships/audio" Target="../media/&#1079;&#1074;&#1086;&#1085;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&#1079;&#1074;&#1086;&#1085;.wav"/><Relationship Id="rId26" Type="http://schemas.openxmlformats.org/officeDocument/2006/relationships/audio" Target="../media/chimer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&#1079;&#1074;&#1086;&#1085;.wav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49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54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12.png"/><Relationship Id="rId19" Type="http://schemas.openxmlformats.org/officeDocument/2006/relationships/slide" Target="slide2.xml"/><Relationship Id="rId20" Type="http://schemas.openxmlformats.org/officeDocument/2006/relationships/image" Target="../media/image73.png"/><Relationship Id="rId21" Type="http://schemas.openxmlformats.org/officeDocument/2006/relationships/audio" Target="../media/wind.wav"/><Relationship Id="rId22" Type="http://schemas.openxmlformats.org/officeDocument/2006/relationships/audio" Target="../media/chimer.wav"/><Relationship Id="rId23" Type="http://schemas.openxmlformats.org/officeDocument/2006/relationships/audio" Target="../media/chimer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&#1079;&#1074;&#1086;&#1085;.wav"/><Relationship Id="rId26" Type="http://schemas.openxmlformats.org/officeDocument/2006/relationships/audio" Target="../media/&#1079;&#1074;&#1086;&#1085;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4.png"/><Relationship Id="rId3" Type="http://schemas.openxmlformats.org/officeDocument/2006/relationships/image" Target="../media/image60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image" Target="../media/image83.png"/><Relationship Id="rId14" Type="http://schemas.openxmlformats.org/officeDocument/2006/relationships/image" Target="../media/image84.png"/><Relationship Id="rId15" Type="http://schemas.openxmlformats.org/officeDocument/2006/relationships/image" Target="../media/image85.png"/><Relationship Id="rId16" Type="http://schemas.openxmlformats.org/officeDocument/2006/relationships/image" Target="../media/image86.png"/><Relationship Id="rId17" Type="http://schemas.openxmlformats.org/officeDocument/2006/relationships/image" Target="../media/image87.png"/><Relationship Id="rId18" Type="http://schemas.openxmlformats.org/officeDocument/2006/relationships/image" Target="../media/image88.png"/><Relationship Id="rId19" Type="http://schemas.openxmlformats.org/officeDocument/2006/relationships/slide" Target="slide2.xml"/><Relationship Id="rId20" Type="http://schemas.openxmlformats.org/officeDocument/2006/relationships/image" Target="../media/image12.png"/><Relationship Id="rId21" Type="http://schemas.openxmlformats.org/officeDocument/2006/relationships/image" Target="../media/image89.png"/><Relationship Id="rId22" Type="http://schemas.openxmlformats.org/officeDocument/2006/relationships/audio" Target="../media/wind.wav"/><Relationship Id="rId23" Type="http://schemas.openxmlformats.org/officeDocument/2006/relationships/audio" Target="../media/chimer.wav"/><Relationship Id="rId24" Type="http://schemas.openxmlformats.org/officeDocument/2006/relationships/audio" Target="../media/&#1079;&#1074;&#1086;&#1085;.wav"/><Relationship Id="rId25" Type="http://schemas.openxmlformats.org/officeDocument/2006/relationships/audio" Target="../media/chimer.wav"/><Relationship Id="rId26" Type="http://schemas.openxmlformats.org/officeDocument/2006/relationships/audio" Target="../media/&#1079;&#1074;&#1086;&#1085;.wav"/><Relationship Id="rId27" Type="http://schemas.openxmlformats.org/officeDocument/2006/relationships/audio" Target="../media/chimer.wav"/><Relationship Id="rId28" Type="http://schemas.openxmlformats.org/officeDocument/2006/relationships/audio" Target="../media/chimer.wav"/><Relationship Id="rId29" Type="http://schemas.openxmlformats.org/officeDocument/2006/relationships/audio" Target="../media/chimer.wav"/><Relationship Id="rId30" Type="http://schemas.openxmlformats.org/officeDocument/2006/relationships/audio" Target="../media/chimer.wav"/><Relationship Id="rId31" Type="http://schemas.openxmlformats.org/officeDocument/2006/relationships/audio" Target="../media/chimer.wav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55440" y="549360"/>
            <a:ext cx="8754840" cy="33573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0" descr="1979194_1960b22e.gif"/>
          <p:cNvPicPr/>
          <p:nvPr/>
        </p:nvPicPr>
        <p:blipFill>
          <a:blip r:embed="rId3"/>
          <a:stretch/>
        </p:blipFill>
        <p:spPr>
          <a:xfrm>
            <a:off x="5076720" y="1990800"/>
            <a:ext cx="2843280" cy="3025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203920" y="6129360"/>
            <a:ext cx="82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_Romanus"/>
              </a:rPr>
              <a:t>Чеснова А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_Romanus"/>
              </a:rPr>
              <a:t>Воспитатель ГБДОУ № 1 Кронштадт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http://animashky.ru/flist/obprazd/91/58.gif"/>
          <p:cNvPicPr/>
          <p:nvPr/>
        </p:nvPicPr>
        <p:blipFill>
          <a:blip r:embed="rId4"/>
          <a:stretch/>
        </p:blipFill>
        <p:spPr>
          <a:xfrm>
            <a:off x="3462480" y="4292640"/>
            <a:ext cx="2857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388" name="Группа 9"/>
          <p:cNvGrpSpPr/>
          <p:nvPr/>
        </p:nvGrpSpPr>
        <p:grpSpPr>
          <a:xfrm>
            <a:off x="2788560" y="6021360"/>
            <a:ext cx="703800" cy="503280"/>
            <a:chOff x="2788560" y="6021360"/>
            <a:chExt cx="703800" cy="503280"/>
          </a:xfrm>
        </p:grpSpPr>
        <p:pic>
          <p:nvPicPr>
            <p:cNvPr id="389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2987640" y="6021360"/>
              <a:ext cx="504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7"/>
            <p:cNvSpPr/>
            <p:nvPr/>
          </p:nvSpPr>
          <p:spPr>
            <a:xfrm>
              <a:off x="2788560" y="602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Группа 12"/>
          <p:cNvGrpSpPr/>
          <p:nvPr/>
        </p:nvGrpSpPr>
        <p:grpSpPr>
          <a:xfrm>
            <a:off x="3724920" y="2205000"/>
            <a:ext cx="702720" cy="459720"/>
            <a:chOff x="3724920" y="2205000"/>
            <a:chExt cx="702720" cy="459720"/>
          </a:xfrm>
        </p:grpSpPr>
        <p:pic>
          <p:nvPicPr>
            <p:cNvPr id="392" name="Рисунок 35" descr="b4a50f2ab260.png"/>
            <p:cNvPicPr/>
            <p:nvPr/>
          </p:nvPicPr>
          <p:blipFill>
            <a:blip r:embed="rId4"/>
            <a:stretch/>
          </p:blipFill>
          <p:spPr>
            <a:xfrm>
              <a:off x="4032000" y="2205000"/>
              <a:ext cx="39564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Box 10"/>
            <p:cNvSpPr/>
            <p:nvPr/>
          </p:nvSpPr>
          <p:spPr>
            <a:xfrm>
              <a:off x="3724920" y="220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Группа 13"/>
          <p:cNvGrpSpPr/>
          <p:nvPr/>
        </p:nvGrpSpPr>
        <p:grpSpPr>
          <a:xfrm>
            <a:off x="6389280" y="5589720"/>
            <a:ext cx="703800" cy="531360"/>
            <a:chOff x="6389280" y="5589720"/>
            <a:chExt cx="703800" cy="531360"/>
          </a:xfrm>
        </p:grpSpPr>
        <p:pic>
          <p:nvPicPr>
            <p:cNvPr id="395" name="Рисунок 34" descr="b4a50f2ab260.png"/>
            <p:cNvPicPr/>
            <p:nvPr/>
          </p:nvPicPr>
          <p:blipFill>
            <a:blip r:embed="rId5"/>
            <a:stretch/>
          </p:blipFill>
          <p:spPr>
            <a:xfrm>
              <a:off x="6588360" y="5589720"/>
              <a:ext cx="50472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Box 11"/>
            <p:cNvSpPr/>
            <p:nvPr/>
          </p:nvSpPr>
          <p:spPr>
            <a:xfrm>
              <a:off x="6389280" y="566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4517280" y="3068640"/>
            <a:ext cx="660600" cy="491400"/>
            <a:chOff x="4517280" y="3068640"/>
            <a:chExt cx="660600" cy="491400"/>
          </a:xfrm>
        </p:grpSpPr>
        <p:pic>
          <p:nvPicPr>
            <p:cNvPr id="398" name="Рисунок 14" descr="b4a2136b4d98.png"/>
            <p:cNvPicPr/>
            <p:nvPr/>
          </p:nvPicPr>
          <p:blipFill>
            <a:blip r:embed="rId6"/>
            <a:stretch/>
          </p:blipFill>
          <p:spPr>
            <a:xfrm rot="20872800">
              <a:off x="4753800" y="3111120"/>
              <a:ext cx="38484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Box 15"/>
            <p:cNvSpPr/>
            <p:nvPr/>
          </p:nvSpPr>
          <p:spPr>
            <a:xfrm>
              <a:off x="4517280" y="306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Группа 19"/>
          <p:cNvGrpSpPr/>
          <p:nvPr/>
        </p:nvGrpSpPr>
        <p:grpSpPr>
          <a:xfrm>
            <a:off x="6244200" y="4581360"/>
            <a:ext cx="631440" cy="531720"/>
            <a:chOff x="6244200" y="4581360"/>
            <a:chExt cx="631440" cy="531720"/>
          </a:xfrm>
        </p:grpSpPr>
        <p:pic>
          <p:nvPicPr>
            <p:cNvPr id="401" name="Рисунок 17" descr="Копия f68358bd761c.JPG"/>
            <p:cNvPicPr/>
            <p:nvPr/>
          </p:nvPicPr>
          <p:blipFill>
            <a:blip r:embed="rId7"/>
            <a:stretch/>
          </p:blipFill>
          <p:spPr>
            <a:xfrm>
              <a:off x="6443640" y="4581360"/>
              <a:ext cx="432000" cy="49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Box 18"/>
            <p:cNvSpPr/>
            <p:nvPr/>
          </p:nvSpPr>
          <p:spPr>
            <a:xfrm>
              <a:off x="6244200" y="465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Группа 29"/>
          <p:cNvGrpSpPr/>
          <p:nvPr/>
        </p:nvGrpSpPr>
        <p:grpSpPr>
          <a:xfrm>
            <a:off x="7274880" y="2205000"/>
            <a:ext cx="1042200" cy="1079640"/>
            <a:chOff x="7274880" y="2205000"/>
            <a:chExt cx="1042200" cy="1079640"/>
          </a:xfrm>
        </p:grpSpPr>
        <p:pic>
          <p:nvPicPr>
            <p:cNvPr id="404" name="Рисунок 21" descr="b4a50f2ab260.png"/>
            <p:cNvPicPr/>
            <p:nvPr/>
          </p:nvPicPr>
          <p:blipFill>
            <a:blip r:embed="rId8"/>
            <a:stretch/>
          </p:blipFill>
          <p:spPr>
            <a:xfrm>
              <a:off x="7506000" y="2205000"/>
              <a:ext cx="8110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Box 22"/>
            <p:cNvSpPr/>
            <p:nvPr/>
          </p:nvSpPr>
          <p:spPr>
            <a:xfrm>
              <a:off x="7274880" y="2430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Группа 25"/>
          <p:cNvGrpSpPr/>
          <p:nvPr/>
        </p:nvGrpSpPr>
        <p:grpSpPr>
          <a:xfrm>
            <a:off x="783360" y="3141720"/>
            <a:ext cx="980280" cy="1079280"/>
            <a:chOff x="783360" y="3141720"/>
            <a:chExt cx="980280" cy="1079280"/>
          </a:xfrm>
        </p:grpSpPr>
        <p:pic>
          <p:nvPicPr>
            <p:cNvPr id="407" name="Рисунок 24" descr="b4a50f2ab260.png"/>
            <p:cNvPicPr/>
            <p:nvPr/>
          </p:nvPicPr>
          <p:blipFill>
            <a:blip r:embed="rId9"/>
            <a:stretch/>
          </p:blipFill>
          <p:spPr>
            <a:xfrm>
              <a:off x="984240" y="3141720"/>
              <a:ext cx="7794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Box 25"/>
            <p:cNvSpPr/>
            <p:nvPr/>
          </p:nvSpPr>
          <p:spPr>
            <a:xfrm>
              <a:off x="783360" y="3387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Группа 31"/>
          <p:cNvGrpSpPr/>
          <p:nvPr/>
        </p:nvGrpSpPr>
        <p:grpSpPr>
          <a:xfrm>
            <a:off x="6348600" y="909360"/>
            <a:ext cx="1202400" cy="1019520"/>
            <a:chOff x="6348600" y="909360"/>
            <a:chExt cx="1202400" cy="1019520"/>
          </a:xfrm>
        </p:grpSpPr>
        <p:pic>
          <p:nvPicPr>
            <p:cNvPr id="410" name="Рисунок 27" descr="b4a2136b4d98.png"/>
            <p:cNvPicPr/>
            <p:nvPr/>
          </p:nvPicPr>
          <p:blipFill>
            <a:blip r:embed="rId10"/>
            <a:stretch/>
          </p:blipFill>
          <p:spPr>
            <a:xfrm rot="20902800">
              <a:off x="6652800" y="983160"/>
              <a:ext cx="8211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28"/>
            <p:cNvSpPr/>
            <p:nvPr/>
          </p:nvSpPr>
          <p:spPr>
            <a:xfrm rot="21442800">
              <a:off x="6365520" y="11530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Группа 32"/>
          <p:cNvGrpSpPr/>
          <p:nvPr/>
        </p:nvGrpSpPr>
        <p:grpSpPr>
          <a:xfrm>
            <a:off x="2151720" y="476280"/>
            <a:ext cx="1051920" cy="993240"/>
            <a:chOff x="2151720" y="476280"/>
            <a:chExt cx="1051920" cy="993240"/>
          </a:xfrm>
        </p:grpSpPr>
        <p:pic>
          <p:nvPicPr>
            <p:cNvPr id="413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396520" y="476280"/>
              <a:ext cx="807120" cy="9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Box 31"/>
            <p:cNvSpPr/>
            <p:nvPr/>
          </p:nvSpPr>
          <p:spPr>
            <a:xfrm>
              <a:off x="2151720" y="705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Группа 33"/>
          <p:cNvGrpSpPr/>
          <p:nvPr/>
        </p:nvGrpSpPr>
        <p:grpSpPr>
          <a:xfrm>
            <a:off x="1269720" y="1916280"/>
            <a:ext cx="1070280" cy="1008000"/>
            <a:chOff x="1269720" y="1916280"/>
            <a:chExt cx="1070280" cy="1008000"/>
          </a:xfrm>
        </p:grpSpPr>
        <p:pic>
          <p:nvPicPr>
            <p:cNvPr id="416" name="Рисунок 33" descr="b4a50f2ab260.png"/>
            <p:cNvPicPr/>
            <p:nvPr/>
          </p:nvPicPr>
          <p:blipFill>
            <a:blip r:embed="rId12"/>
            <a:stretch/>
          </p:blipFill>
          <p:spPr>
            <a:xfrm flipH="1">
              <a:off x="1510560" y="1916280"/>
              <a:ext cx="82944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37"/>
            <p:cNvSpPr/>
            <p:nvPr/>
          </p:nvSpPr>
          <p:spPr>
            <a:xfrm>
              <a:off x="1269720" y="2105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35"/>
          <p:cNvGrpSpPr/>
          <p:nvPr/>
        </p:nvGrpSpPr>
        <p:grpSpPr>
          <a:xfrm>
            <a:off x="7535880" y="3645000"/>
            <a:ext cx="1139760" cy="1008000"/>
            <a:chOff x="7535880" y="3645000"/>
            <a:chExt cx="1139760" cy="1008000"/>
          </a:xfrm>
        </p:grpSpPr>
        <p:pic>
          <p:nvPicPr>
            <p:cNvPr id="419" name="Рисунок 39" descr="b4a50f2ab260.png"/>
            <p:cNvPicPr/>
            <p:nvPr/>
          </p:nvPicPr>
          <p:blipFill>
            <a:blip r:embed="rId13"/>
            <a:stretch/>
          </p:blipFill>
          <p:spPr>
            <a:xfrm>
              <a:off x="7828920" y="3645000"/>
              <a:ext cx="846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Box 40"/>
            <p:cNvSpPr/>
            <p:nvPr/>
          </p:nvSpPr>
          <p:spPr>
            <a:xfrm>
              <a:off x="7535880" y="3882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Группа 34"/>
          <p:cNvGrpSpPr/>
          <p:nvPr/>
        </p:nvGrpSpPr>
        <p:grpSpPr>
          <a:xfrm>
            <a:off x="434880" y="4941720"/>
            <a:ext cx="1112760" cy="933120"/>
            <a:chOff x="434880" y="4941720"/>
            <a:chExt cx="1112760" cy="933120"/>
          </a:xfrm>
        </p:grpSpPr>
        <p:pic>
          <p:nvPicPr>
            <p:cNvPr id="422" name="Рисунок 42" descr="b4a50f2ab260.png"/>
            <p:cNvPicPr/>
            <p:nvPr/>
          </p:nvPicPr>
          <p:blipFill>
            <a:blip r:embed="rId14"/>
            <a:stretch/>
          </p:blipFill>
          <p:spPr>
            <a:xfrm>
              <a:off x="668520" y="4941720"/>
              <a:ext cx="87912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43"/>
            <p:cNvSpPr/>
            <p:nvPr/>
          </p:nvSpPr>
          <p:spPr>
            <a:xfrm>
              <a:off x="434880" y="5205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Группа 37"/>
          <p:cNvGrpSpPr/>
          <p:nvPr/>
        </p:nvGrpSpPr>
        <p:grpSpPr>
          <a:xfrm>
            <a:off x="7426800" y="5084640"/>
            <a:ext cx="1105920" cy="1108080"/>
            <a:chOff x="7426800" y="5084640"/>
            <a:chExt cx="1105920" cy="1108080"/>
          </a:xfrm>
        </p:grpSpPr>
        <p:pic>
          <p:nvPicPr>
            <p:cNvPr id="425" name="Рисунок 45" descr="b4a2136b4d98.png"/>
            <p:cNvPicPr/>
            <p:nvPr/>
          </p:nvPicPr>
          <p:blipFill>
            <a:blip r:embed="rId15"/>
            <a:stretch/>
          </p:blipFill>
          <p:spPr>
            <a:xfrm>
              <a:off x="7672680" y="5084640"/>
              <a:ext cx="860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Box 46"/>
            <p:cNvSpPr/>
            <p:nvPr/>
          </p:nvSpPr>
          <p:spPr>
            <a:xfrm>
              <a:off x="7426800" y="53395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Группа 40"/>
          <p:cNvGrpSpPr/>
          <p:nvPr/>
        </p:nvGrpSpPr>
        <p:grpSpPr>
          <a:xfrm>
            <a:off x="4941720" y="476280"/>
            <a:ext cx="998640" cy="914760"/>
            <a:chOff x="4941720" y="476280"/>
            <a:chExt cx="998640" cy="914760"/>
          </a:xfrm>
        </p:grpSpPr>
        <p:pic>
          <p:nvPicPr>
            <p:cNvPr id="428" name="Рисунок 48" descr="b4a2136b4d98.png"/>
            <p:cNvPicPr/>
            <p:nvPr/>
          </p:nvPicPr>
          <p:blipFill>
            <a:blip r:embed="rId16"/>
            <a:stretch/>
          </p:blipFill>
          <p:spPr>
            <a:xfrm>
              <a:off x="5144400" y="476280"/>
              <a:ext cx="79596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49"/>
            <p:cNvSpPr/>
            <p:nvPr/>
          </p:nvSpPr>
          <p:spPr>
            <a:xfrm>
              <a:off x="4941720" y="62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Группа 53"/>
          <p:cNvGrpSpPr/>
          <p:nvPr/>
        </p:nvGrpSpPr>
        <p:grpSpPr>
          <a:xfrm>
            <a:off x="3148920" y="4990320"/>
            <a:ext cx="698400" cy="568440"/>
            <a:chOff x="3148920" y="4990320"/>
            <a:chExt cx="698400" cy="568440"/>
          </a:xfrm>
        </p:grpSpPr>
        <p:pic>
          <p:nvPicPr>
            <p:cNvPr id="431" name="Рисунок 51" descr="b4a2136b4d98.png"/>
            <p:cNvPicPr/>
            <p:nvPr/>
          </p:nvPicPr>
          <p:blipFill>
            <a:blip r:embed="rId17"/>
            <a:stretch/>
          </p:blipFill>
          <p:spPr>
            <a:xfrm rot="21201600">
              <a:off x="3390480" y="5013360"/>
              <a:ext cx="429120" cy="5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52"/>
            <p:cNvSpPr/>
            <p:nvPr/>
          </p:nvSpPr>
          <p:spPr>
            <a:xfrm>
              <a:off x="3148920" y="5099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Группа 54"/>
          <p:cNvGrpSpPr/>
          <p:nvPr/>
        </p:nvGrpSpPr>
        <p:grpSpPr>
          <a:xfrm>
            <a:off x="3508560" y="4149720"/>
            <a:ext cx="558720" cy="459720"/>
            <a:chOff x="3508560" y="4149720"/>
            <a:chExt cx="558720" cy="459720"/>
          </a:xfrm>
        </p:grpSpPr>
        <p:pic>
          <p:nvPicPr>
            <p:cNvPr id="434" name="Рисунок 50" descr="b4a2136b4d98.png"/>
            <p:cNvPicPr/>
            <p:nvPr/>
          </p:nvPicPr>
          <p:blipFill>
            <a:blip r:embed="rId18"/>
            <a:stretch/>
          </p:blipFill>
          <p:spPr>
            <a:xfrm>
              <a:off x="3708000" y="4149720"/>
              <a:ext cx="359280" cy="43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53"/>
            <p:cNvSpPr/>
            <p:nvPr/>
          </p:nvSpPr>
          <p:spPr>
            <a:xfrm>
              <a:off x="35085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Управляющая кнопка: домой 54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438" name="Рисунок 57" descr="e5f0a948d92b.png"/>
            <p:cNvPicPr/>
            <p:nvPr/>
          </p:nvPicPr>
          <p:blipFill>
            <a:blip r:embed="rId20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Box 58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Группа 62"/>
          <p:cNvGrpSpPr/>
          <p:nvPr/>
        </p:nvGrpSpPr>
        <p:grpSpPr>
          <a:xfrm>
            <a:off x="4517280" y="4014720"/>
            <a:ext cx="702360" cy="521280"/>
            <a:chOff x="4517280" y="4014720"/>
            <a:chExt cx="702360" cy="521280"/>
          </a:xfrm>
        </p:grpSpPr>
        <p:pic>
          <p:nvPicPr>
            <p:cNvPr id="441" name="Рисунок 59" descr="b4a2136b4d98.png"/>
            <p:cNvPicPr/>
            <p:nvPr/>
          </p:nvPicPr>
          <p:blipFill>
            <a:blip r:embed="rId21"/>
            <a:stretch/>
          </p:blipFill>
          <p:spPr>
            <a:xfrm>
              <a:off x="4788360" y="4014720"/>
              <a:ext cx="4312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Box 61"/>
            <p:cNvSpPr/>
            <p:nvPr/>
          </p:nvSpPr>
          <p:spPr>
            <a:xfrm>
              <a:off x="4517280" y="4076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Рисунок 63" descr="eec7e6d00cb9.png"/>
          <p:cNvPicPr/>
          <p:nvPr/>
        </p:nvPicPr>
        <p:blipFill>
          <a:blip r:embed="rId22"/>
          <a:stretch/>
        </p:blipFill>
        <p:spPr>
          <a:xfrm>
            <a:off x="4211640" y="-57240"/>
            <a:ext cx="576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42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424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r.wav"/>
                                        </p:tgtEl>
                                      </p:cMediaNode>
                                    </p:audio>
                                    <p:animMotion origin="layout" path="M -1.38889E-006 2.22222E-006 L 0.25608 0.12616 E">
                                      <p:cBhvr>
                                        <p:cTn id="42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434" dur="1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3.88889E-006 -1.11111E-006 L -0.36996 -0.25185 E">
                                      <p:cBhvr>
                                        <p:cTn id="439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2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1.11111E-006 -2.22222E-006 L -0.63004 0.08727 E">
                                      <p:cBhvr>
                                        <p:cTn id="44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3.61111E-006 4.44444E-006 L 0.18907 0.09976 E">
                                      <p:cBhvr>
                                        <p:cTn id="45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2.77778E-006 -1.48148E-006 L -0.24792 0.21528 E">
                                      <p:cBhvr>
                                        <p:cTn id="460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-2.77778E-006 -7.40741E-007 L -0.46857 0.56343 E">
                                      <p:cBhvr>
                                        <p:cTn id="46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5.55556E-007 -2.96296E-006 L 0.35833 0.55949 E">
                                      <p:cBhvr>
                                        <p:cTn id="474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478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r.wav"/>
                                        </p:tgtEl>
                                      </p:cMediaNode>
                                    </p:audio>
                                    <p:animMotion origin="layout" path="M 1.38778E-017 4.07407E-006 L 0.55122 0.05185 E">
                                      <p:cBhvr>
                                        <p:cTn id="481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3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6" descr="eec7e6d00cb9.png"/>
          <p:cNvPicPr/>
          <p:nvPr/>
        </p:nvPicPr>
        <p:blipFill>
          <a:blip r:embed="rId3"/>
          <a:stretch/>
        </p:blipFill>
        <p:spPr>
          <a:xfrm>
            <a:off x="3995640" y="-171360"/>
            <a:ext cx="863640" cy="1968480"/>
          </a:xfrm>
          <a:prstGeom prst="rect">
            <a:avLst/>
          </a:prstGeom>
          <a:ln w="0">
            <a:noFill/>
          </a:ln>
        </p:spPr>
      </p:pic>
      <p:grpSp>
        <p:nvGrpSpPr>
          <p:cNvPr id="446" name="Группа 9"/>
          <p:cNvGrpSpPr/>
          <p:nvPr/>
        </p:nvGrpSpPr>
        <p:grpSpPr>
          <a:xfrm>
            <a:off x="2484360" y="6165720"/>
            <a:ext cx="647640" cy="459720"/>
            <a:chOff x="2484360" y="6165720"/>
            <a:chExt cx="647640" cy="459720"/>
          </a:xfrm>
        </p:grpSpPr>
        <p:pic>
          <p:nvPicPr>
            <p:cNvPr id="447" name="Рисунок 36" descr="b4a50f2ab260.png"/>
            <p:cNvPicPr/>
            <p:nvPr/>
          </p:nvPicPr>
          <p:blipFill>
            <a:blip r:embed="rId4"/>
            <a:stretch/>
          </p:blipFill>
          <p:spPr>
            <a:xfrm>
              <a:off x="2700360" y="6165720"/>
              <a:ext cx="43164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7"/>
            <p:cNvSpPr/>
            <p:nvPr/>
          </p:nvSpPr>
          <p:spPr>
            <a:xfrm>
              <a:off x="2484360" y="6165720"/>
              <a:ext cx="3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Группа 12"/>
          <p:cNvGrpSpPr/>
          <p:nvPr/>
        </p:nvGrpSpPr>
        <p:grpSpPr>
          <a:xfrm>
            <a:off x="3796560" y="2205000"/>
            <a:ext cx="630720" cy="459720"/>
            <a:chOff x="3796560" y="2205000"/>
            <a:chExt cx="630720" cy="459720"/>
          </a:xfrm>
        </p:grpSpPr>
        <p:pic>
          <p:nvPicPr>
            <p:cNvPr id="450" name="Рисунок 35" descr="b4a50f2ab260.png"/>
            <p:cNvPicPr/>
            <p:nvPr/>
          </p:nvPicPr>
          <p:blipFill>
            <a:blip r:embed="rId5"/>
            <a:stretch/>
          </p:blipFill>
          <p:spPr>
            <a:xfrm>
              <a:off x="4067640" y="2205000"/>
              <a:ext cx="359640" cy="39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Box 10"/>
            <p:cNvSpPr/>
            <p:nvPr/>
          </p:nvSpPr>
          <p:spPr>
            <a:xfrm>
              <a:off x="3796560" y="220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Группа 13"/>
          <p:cNvGrpSpPr/>
          <p:nvPr/>
        </p:nvGrpSpPr>
        <p:grpSpPr>
          <a:xfrm>
            <a:off x="5884560" y="5732640"/>
            <a:ext cx="633600" cy="459720"/>
            <a:chOff x="5884560" y="5732640"/>
            <a:chExt cx="633600" cy="459720"/>
          </a:xfrm>
        </p:grpSpPr>
        <p:pic>
          <p:nvPicPr>
            <p:cNvPr id="453" name="Рисунок 34" descr="b4a50f2ab260.png"/>
            <p:cNvPicPr/>
            <p:nvPr/>
          </p:nvPicPr>
          <p:blipFill>
            <a:blip r:embed="rId6"/>
            <a:stretch/>
          </p:blipFill>
          <p:spPr>
            <a:xfrm>
              <a:off x="6083640" y="5732640"/>
              <a:ext cx="434520" cy="4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11"/>
            <p:cNvSpPr/>
            <p:nvPr/>
          </p:nvSpPr>
          <p:spPr>
            <a:xfrm>
              <a:off x="5884560" y="573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Группа 16"/>
          <p:cNvGrpSpPr/>
          <p:nvPr/>
        </p:nvGrpSpPr>
        <p:grpSpPr>
          <a:xfrm>
            <a:off x="4444560" y="3085920"/>
            <a:ext cx="691200" cy="515160"/>
            <a:chOff x="4444560" y="3085920"/>
            <a:chExt cx="691200" cy="515160"/>
          </a:xfrm>
        </p:grpSpPr>
        <p:pic>
          <p:nvPicPr>
            <p:cNvPr id="456" name="Рисунок 14" descr="b4a2136b4d98.png"/>
            <p:cNvPicPr/>
            <p:nvPr/>
          </p:nvPicPr>
          <p:blipFill>
            <a:blip r:embed="rId7"/>
            <a:stretch/>
          </p:blipFill>
          <p:spPr>
            <a:xfrm rot="20872800">
              <a:off x="4700520" y="3122280"/>
              <a:ext cx="394920" cy="4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15"/>
            <p:cNvSpPr/>
            <p:nvPr/>
          </p:nvSpPr>
          <p:spPr>
            <a:xfrm>
              <a:off x="4444560" y="314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19"/>
          <p:cNvGrpSpPr/>
          <p:nvPr/>
        </p:nvGrpSpPr>
        <p:grpSpPr>
          <a:xfrm>
            <a:off x="6173280" y="4581360"/>
            <a:ext cx="703800" cy="531720"/>
            <a:chOff x="6173280" y="4581360"/>
            <a:chExt cx="703800" cy="531720"/>
          </a:xfrm>
        </p:grpSpPr>
        <p:pic>
          <p:nvPicPr>
            <p:cNvPr id="459" name="Рисунок 17" descr="Копия f68358bd761c.JPG"/>
            <p:cNvPicPr/>
            <p:nvPr/>
          </p:nvPicPr>
          <p:blipFill>
            <a:blip r:embed="rId8"/>
            <a:stretch/>
          </p:blipFill>
          <p:spPr>
            <a:xfrm>
              <a:off x="6438600" y="4581360"/>
              <a:ext cx="43848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18"/>
            <p:cNvSpPr/>
            <p:nvPr/>
          </p:nvSpPr>
          <p:spPr>
            <a:xfrm>
              <a:off x="6173280" y="465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29"/>
          <p:cNvGrpSpPr/>
          <p:nvPr/>
        </p:nvGrpSpPr>
        <p:grpSpPr>
          <a:xfrm>
            <a:off x="7418520" y="2205000"/>
            <a:ext cx="1041120" cy="1008000"/>
            <a:chOff x="7418520" y="2205000"/>
            <a:chExt cx="1041120" cy="1008000"/>
          </a:xfrm>
        </p:grpSpPr>
        <p:pic>
          <p:nvPicPr>
            <p:cNvPr id="462" name="Рисунок 21" descr="b4a50f2ab260.png"/>
            <p:cNvPicPr/>
            <p:nvPr/>
          </p:nvPicPr>
          <p:blipFill>
            <a:blip r:embed="rId9"/>
            <a:stretch/>
          </p:blipFill>
          <p:spPr>
            <a:xfrm>
              <a:off x="7650000" y="2205000"/>
              <a:ext cx="80964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Box 22"/>
            <p:cNvSpPr/>
            <p:nvPr/>
          </p:nvSpPr>
          <p:spPr>
            <a:xfrm>
              <a:off x="7418520" y="2415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Группа 25"/>
          <p:cNvGrpSpPr/>
          <p:nvPr/>
        </p:nvGrpSpPr>
        <p:grpSpPr>
          <a:xfrm>
            <a:off x="803160" y="3213000"/>
            <a:ext cx="1032120" cy="1008000"/>
            <a:chOff x="803160" y="3213000"/>
            <a:chExt cx="1032120" cy="1008000"/>
          </a:xfrm>
        </p:grpSpPr>
        <p:pic>
          <p:nvPicPr>
            <p:cNvPr id="465" name="Рисунок 24" descr="b4a50f2ab260.png"/>
            <p:cNvPicPr/>
            <p:nvPr/>
          </p:nvPicPr>
          <p:blipFill>
            <a:blip r:embed="rId10"/>
            <a:stretch/>
          </p:blipFill>
          <p:spPr>
            <a:xfrm>
              <a:off x="1000800" y="3213000"/>
              <a:ext cx="8344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Box 25"/>
            <p:cNvSpPr/>
            <p:nvPr/>
          </p:nvSpPr>
          <p:spPr>
            <a:xfrm>
              <a:off x="803160" y="3442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Группа 31"/>
          <p:cNvGrpSpPr/>
          <p:nvPr/>
        </p:nvGrpSpPr>
        <p:grpSpPr>
          <a:xfrm>
            <a:off x="6397560" y="999000"/>
            <a:ext cx="1280520" cy="1065240"/>
            <a:chOff x="6397560" y="999000"/>
            <a:chExt cx="1280520" cy="1065240"/>
          </a:xfrm>
        </p:grpSpPr>
        <p:pic>
          <p:nvPicPr>
            <p:cNvPr id="468" name="Рисунок 27" descr="b4a2136b4d98.png"/>
            <p:cNvPicPr/>
            <p:nvPr/>
          </p:nvPicPr>
          <p:blipFill>
            <a:blip r:embed="rId11"/>
            <a:stretch/>
          </p:blipFill>
          <p:spPr>
            <a:xfrm rot="20902800">
              <a:off x="6706800" y="1078920"/>
              <a:ext cx="8888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Box 28"/>
            <p:cNvSpPr/>
            <p:nvPr/>
          </p:nvSpPr>
          <p:spPr>
            <a:xfrm rot="21442800">
              <a:off x="6414480" y="12614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Группа 32"/>
          <p:cNvGrpSpPr/>
          <p:nvPr/>
        </p:nvGrpSpPr>
        <p:grpSpPr>
          <a:xfrm>
            <a:off x="2151720" y="549360"/>
            <a:ext cx="1051920" cy="978120"/>
            <a:chOff x="2151720" y="549360"/>
            <a:chExt cx="1051920" cy="978120"/>
          </a:xfrm>
        </p:grpSpPr>
        <p:pic>
          <p:nvPicPr>
            <p:cNvPr id="471" name="Рисунок 30" descr="b4a50f2ab260.png"/>
            <p:cNvPicPr/>
            <p:nvPr/>
          </p:nvPicPr>
          <p:blipFill>
            <a:blip r:embed="rId12"/>
            <a:stretch/>
          </p:blipFill>
          <p:spPr>
            <a:xfrm>
              <a:off x="2396520" y="549360"/>
              <a:ext cx="8071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31"/>
            <p:cNvSpPr/>
            <p:nvPr/>
          </p:nvSpPr>
          <p:spPr>
            <a:xfrm>
              <a:off x="2151720" y="7632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Группа 33"/>
          <p:cNvGrpSpPr/>
          <p:nvPr/>
        </p:nvGrpSpPr>
        <p:grpSpPr>
          <a:xfrm>
            <a:off x="1269720" y="1989000"/>
            <a:ext cx="1070280" cy="939600"/>
            <a:chOff x="1269720" y="1989000"/>
            <a:chExt cx="1070280" cy="939600"/>
          </a:xfrm>
        </p:grpSpPr>
        <p:pic>
          <p:nvPicPr>
            <p:cNvPr id="474" name="Рисунок 33" descr="b4a50f2ab260.png"/>
            <p:cNvPicPr/>
            <p:nvPr/>
          </p:nvPicPr>
          <p:blipFill>
            <a:blip r:embed="rId13"/>
            <a:stretch/>
          </p:blipFill>
          <p:spPr>
            <a:xfrm flipH="1">
              <a:off x="1510560" y="1989000"/>
              <a:ext cx="82944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Box 37"/>
            <p:cNvSpPr/>
            <p:nvPr/>
          </p:nvSpPr>
          <p:spPr>
            <a:xfrm>
              <a:off x="1269720" y="2164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Группа 35"/>
          <p:cNvGrpSpPr/>
          <p:nvPr/>
        </p:nvGrpSpPr>
        <p:grpSpPr>
          <a:xfrm>
            <a:off x="7535880" y="3645000"/>
            <a:ext cx="1139760" cy="1008000"/>
            <a:chOff x="7535880" y="3645000"/>
            <a:chExt cx="1139760" cy="1008000"/>
          </a:xfrm>
        </p:grpSpPr>
        <p:pic>
          <p:nvPicPr>
            <p:cNvPr id="477" name="Рисунок 39" descr="b4a50f2ab260.png"/>
            <p:cNvPicPr/>
            <p:nvPr/>
          </p:nvPicPr>
          <p:blipFill>
            <a:blip r:embed="rId14"/>
            <a:stretch/>
          </p:blipFill>
          <p:spPr>
            <a:xfrm>
              <a:off x="7828920" y="3645000"/>
              <a:ext cx="846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Box 40"/>
            <p:cNvSpPr/>
            <p:nvPr/>
          </p:nvSpPr>
          <p:spPr>
            <a:xfrm>
              <a:off x="7535880" y="3882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Группа 34"/>
          <p:cNvGrpSpPr/>
          <p:nvPr/>
        </p:nvGrpSpPr>
        <p:grpSpPr>
          <a:xfrm>
            <a:off x="434880" y="4869000"/>
            <a:ext cx="1112760" cy="1000080"/>
            <a:chOff x="434880" y="4869000"/>
            <a:chExt cx="1112760" cy="1000080"/>
          </a:xfrm>
        </p:grpSpPr>
        <p:pic>
          <p:nvPicPr>
            <p:cNvPr id="480" name="Рисунок 42" descr="b4a50f2ab260.png"/>
            <p:cNvPicPr/>
            <p:nvPr/>
          </p:nvPicPr>
          <p:blipFill>
            <a:blip r:embed="rId15"/>
            <a:stretch/>
          </p:blipFill>
          <p:spPr>
            <a:xfrm>
              <a:off x="668520" y="4869000"/>
              <a:ext cx="8791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Box 43"/>
            <p:cNvSpPr/>
            <p:nvPr/>
          </p:nvSpPr>
          <p:spPr>
            <a:xfrm>
              <a:off x="434880" y="5151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Группа 37"/>
          <p:cNvGrpSpPr/>
          <p:nvPr/>
        </p:nvGrpSpPr>
        <p:grpSpPr>
          <a:xfrm>
            <a:off x="7426800" y="5157720"/>
            <a:ext cx="1105920" cy="1035000"/>
            <a:chOff x="7426800" y="5157720"/>
            <a:chExt cx="1105920" cy="1035000"/>
          </a:xfrm>
        </p:grpSpPr>
        <p:pic>
          <p:nvPicPr>
            <p:cNvPr id="483" name="Рисунок 45" descr="b4a2136b4d98.png"/>
            <p:cNvPicPr/>
            <p:nvPr/>
          </p:nvPicPr>
          <p:blipFill>
            <a:blip r:embed="rId16"/>
            <a:stretch/>
          </p:blipFill>
          <p:spPr>
            <a:xfrm>
              <a:off x="7672680" y="5157720"/>
              <a:ext cx="86004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Box 46"/>
            <p:cNvSpPr/>
            <p:nvPr/>
          </p:nvSpPr>
          <p:spPr>
            <a:xfrm>
              <a:off x="7426800" y="53960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Группа 40"/>
          <p:cNvGrpSpPr/>
          <p:nvPr/>
        </p:nvGrpSpPr>
        <p:grpSpPr>
          <a:xfrm>
            <a:off x="4941720" y="476280"/>
            <a:ext cx="998640" cy="914760"/>
            <a:chOff x="4941720" y="476280"/>
            <a:chExt cx="998640" cy="914760"/>
          </a:xfrm>
        </p:grpSpPr>
        <p:pic>
          <p:nvPicPr>
            <p:cNvPr id="486" name="Рисунок 48" descr="b4a2136b4d98.png"/>
            <p:cNvPicPr/>
            <p:nvPr/>
          </p:nvPicPr>
          <p:blipFill>
            <a:blip r:embed="rId17"/>
            <a:stretch/>
          </p:blipFill>
          <p:spPr>
            <a:xfrm>
              <a:off x="5144400" y="476280"/>
              <a:ext cx="79596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49"/>
            <p:cNvSpPr/>
            <p:nvPr/>
          </p:nvSpPr>
          <p:spPr>
            <a:xfrm>
              <a:off x="4941720" y="62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Группа 53"/>
          <p:cNvGrpSpPr/>
          <p:nvPr/>
        </p:nvGrpSpPr>
        <p:grpSpPr>
          <a:xfrm>
            <a:off x="3364560" y="4125960"/>
            <a:ext cx="615600" cy="482040"/>
            <a:chOff x="3364560" y="4125960"/>
            <a:chExt cx="615600" cy="482040"/>
          </a:xfrm>
        </p:grpSpPr>
        <p:pic>
          <p:nvPicPr>
            <p:cNvPr id="489" name="Рисунок 51" descr="b4a2136b4d98.png"/>
            <p:cNvPicPr/>
            <p:nvPr/>
          </p:nvPicPr>
          <p:blipFill>
            <a:blip r:embed="rId18"/>
            <a:stretch/>
          </p:blipFill>
          <p:spPr>
            <a:xfrm rot="21201600">
              <a:off x="3603240" y="4145040"/>
              <a:ext cx="353880" cy="4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Box 52"/>
            <p:cNvSpPr/>
            <p:nvPr/>
          </p:nvSpPr>
          <p:spPr>
            <a:xfrm>
              <a:off x="3364560" y="4148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Группа 54"/>
          <p:cNvGrpSpPr/>
          <p:nvPr/>
        </p:nvGrpSpPr>
        <p:grpSpPr>
          <a:xfrm>
            <a:off x="4876200" y="3933720"/>
            <a:ext cx="572040" cy="459720"/>
            <a:chOff x="4876200" y="3933720"/>
            <a:chExt cx="572040" cy="459720"/>
          </a:xfrm>
        </p:grpSpPr>
        <p:pic>
          <p:nvPicPr>
            <p:cNvPr id="492" name="Рисунок 50" descr="b4a2136b4d98.png"/>
            <p:cNvPicPr/>
            <p:nvPr/>
          </p:nvPicPr>
          <p:blipFill>
            <a:blip r:embed="rId19"/>
            <a:stretch/>
          </p:blipFill>
          <p:spPr>
            <a:xfrm>
              <a:off x="5075280" y="3933720"/>
              <a:ext cx="37296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Box 53"/>
            <p:cNvSpPr/>
            <p:nvPr/>
          </p:nvSpPr>
          <p:spPr>
            <a:xfrm>
              <a:off x="48762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Управляющая кнопка: домой 54">
            <a:hlinkClick r:id="rId20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496" name="Рисунок 57" descr="e5f0a948d92b.png"/>
            <p:cNvPicPr/>
            <p:nvPr/>
          </p:nvPicPr>
          <p:blipFill>
            <a:blip r:embed="rId21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Box 58"/>
            <p:cNvSpPr/>
            <p:nvPr/>
          </p:nvSpPr>
          <p:spPr>
            <a:xfrm>
              <a:off x="527400" y="6922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59"/>
          <p:cNvGrpSpPr/>
          <p:nvPr/>
        </p:nvGrpSpPr>
        <p:grpSpPr>
          <a:xfrm>
            <a:off x="2068200" y="4971960"/>
            <a:ext cx="635760" cy="501120"/>
            <a:chOff x="2068200" y="4971960"/>
            <a:chExt cx="635760" cy="501120"/>
          </a:xfrm>
        </p:grpSpPr>
        <p:pic>
          <p:nvPicPr>
            <p:cNvPr id="499" name="Рисунок 55" descr="b4a2136b4d98.png"/>
            <p:cNvPicPr/>
            <p:nvPr/>
          </p:nvPicPr>
          <p:blipFill>
            <a:blip r:embed="rId22"/>
            <a:stretch/>
          </p:blipFill>
          <p:spPr>
            <a:xfrm rot="20886600">
              <a:off x="2295360" y="5005080"/>
              <a:ext cx="368640" cy="4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Box 56"/>
            <p:cNvSpPr/>
            <p:nvPr/>
          </p:nvSpPr>
          <p:spPr>
            <a:xfrm>
              <a:off x="2068200" y="501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Bookman Old Style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63"/>
          <p:cNvGrpSpPr/>
          <p:nvPr/>
        </p:nvGrpSpPr>
        <p:grpSpPr>
          <a:xfrm>
            <a:off x="3724920" y="5950080"/>
            <a:ext cx="619920" cy="459720"/>
            <a:chOff x="3724920" y="5950080"/>
            <a:chExt cx="619920" cy="459720"/>
          </a:xfrm>
        </p:grpSpPr>
        <p:pic>
          <p:nvPicPr>
            <p:cNvPr id="502" name="Рисунок 61" descr="Копия (2) f68358bd761c.JPG"/>
            <p:cNvPicPr/>
            <p:nvPr/>
          </p:nvPicPr>
          <p:blipFill>
            <a:blip r:embed="rId23"/>
            <a:stretch/>
          </p:blipFill>
          <p:spPr>
            <a:xfrm>
              <a:off x="3924000" y="5950080"/>
              <a:ext cx="42084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Box 62"/>
            <p:cNvSpPr/>
            <p:nvPr/>
          </p:nvSpPr>
          <p:spPr>
            <a:xfrm>
              <a:off x="3724920" y="5950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489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1.11111E-006 -2.59259E-006 L 0.45278 0.33611 E">
                                      <p:cBhvr>
                                        <p:cTn id="494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4.44444E-006 3.7037E-007 L -0.33854 0.79028 E">
                                      <p:cBhvr>
                                        <p:cTn id="50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4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505" nodeType="clickEffect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3.88889E-006 -1.11111E-006 L -0.27552 0.26273 E">
                                      <p:cBhvr>
                                        <p:cTn id="508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2.77778E-006 1.11111E-006 L -0.33854 -0.47963 E">
                                      <p:cBhvr>
                                        <p:cTn id="515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3.33333E-006 1.85185E-006 L 0.36614 0.35717 E">
                                      <p:cBhvr>
                                        <p:cTn id="522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-3.33333E-006 1.48148E-006 L -0.52378 0.37106 E">
                                      <p:cBhvr>
                                        <p:cTn id="52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1" dur="2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-2.77778E-007 2.59259E-006 L -0.09844 0.37453 E">
                                      <p:cBhvr>
                                        <p:cTn id="536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4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r.wav"/>
                                        </p:tgtEl>
                                      </p:cMediaNode>
                                    </p:audio>
                                    <p:animMotion origin="layout" path="M -3.33333E-006 -3.7037E-006 L 0.04341 0.48079 E">
                                      <p:cBhvr>
                                        <p:cTn id="543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4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r.wav"/>
                                        </p:tgtEl>
                                      </p:cMediaNode>
                                    </p:audio>
                                    <p:animMotion origin="layout" path="M 1.38778E-017 -1.85185E-006 L 0.32292 -0.31041 E">
                                      <p:cBhvr>
                                        <p:cTn id="550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2000" fill="hold"/>
                                        <p:tgtEl>
                                          <p:spTgt spid="4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_Romanus"/>
              </a:rPr>
              <a:t>Ресур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dissea.at.ua/photo/priroda/zimnij_vecher/6-0-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http://www.weni.ru/wallpapers/1734/2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http://animashky.ru/index/0-19?9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http://www.abc-color.com/color/trees/001/fir-tree/fir-tree-picture-color-ru.s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http://fiesta74.ru/news/page/4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nagold.ru/fon/clipart/e/elsh10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nagold.ru/fon/clipart/s/sneg.html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28"/>
          <p:cNvGrpSpPr/>
          <p:nvPr/>
        </p:nvGrpSpPr>
        <p:grpSpPr>
          <a:xfrm>
            <a:off x="395280" y="476280"/>
            <a:ext cx="1512720" cy="1728720"/>
            <a:chOff x="395280" y="476280"/>
            <a:chExt cx="1512720" cy="1728720"/>
          </a:xfrm>
        </p:grpSpPr>
        <p:pic>
          <p:nvPicPr>
            <p:cNvPr id="46" name="Рисунок 26" descr="e5f0a948d92b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95280" y="476280"/>
              <a:ext cx="1512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27"/>
            <p:cNvSpPr/>
            <p:nvPr/>
          </p:nvSpPr>
          <p:spPr>
            <a:xfrm>
              <a:off x="912240" y="896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Группа 43"/>
          <p:cNvGrpSpPr/>
          <p:nvPr/>
        </p:nvGrpSpPr>
        <p:grpSpPr>
          <a:xfrm>
            <a:off x="7164360" y="189000"/>
            <a:ext cx="1440000" cy="1633320"/>
            <a:chOff x="7164360" y="189000"/>
            <a:chExt cx="1440000" cy="1633320"/>
          </a:xfrm>
        </p:grpSpPr>
        <p:pic>
          <p:nvPicPr>
            <p:cNvPr id="49" name="Рисунок 44" descr="e5f0a948d92b.png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189000"/>
              <a:ext cx="14400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46"/>
            <p:cNvSpPr/>
            <p:nvPr/>
          </p:nvSpPr>
          <p:spPr>
            <a:xfrm>
              <a:off x="7643160" y="5857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47"/>
          <p:cNvGrpSpPr/>
          <p:nvPr/>
        </p:nvGrpSpPr>
        <p:grpSpPr>
          <a:xfrm>
            <a:off x="2556000" y="260280"/>
            <a:ext cx="1584360" cy="1800360"/>
            <a:chOff x="2556000" y="260280"/>
            <a:chExt cx="1584360" cy="1800360"/>
          </a:xfrm>
        </p:grpSpPr>
        <p:pic>
          <p:nvPicPr>
            <p:cNvPr id="52" name="Рисунок 48" descr="e5f0a948d92b.pn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556000" y="260280"/>
              <a:ext cx="1584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49"/>
            <p:cNvSpPr/>
            <p:nvPr/>
          </p:nvSpPr>
          <p:spPr>
            <a:xfrm>
              <a:off x="3110040" y="698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50"/>
          <p:cNvGrpSpPr/>
          <p:nvPr/>
        </p:nvGrpSpPr>
        <p:grpSpPr>
          <a:xfrm>
            <a:off x="1187280" y="2276640"/>
            <a:ext cx="1729080" cy="1873080"/>
            <a:chOff x="1187280" y="2276640"/>
            <a:chExt cx="1729080" cy="1873080"/>
          </a:xfrm>
        </p:grpSpPr>
        <p:pic>
          <p:nvPicPr>
            <p:cNvPr id="55" name="Рисунок 51" descr="e5f0a948d92b.pn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187280" y="2276640"/>
              <a:ext cx="17290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52"/>
            <p:cNvSpPr/>
            <p:nvPr/>
          </p:nvSpPr>
          <p:spPr>
            <a:xfrm>
              <a:off x="1816560" y="27320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53"/>
          <p:cNvGrpSpPr/>
          <p:nvPr/>
        </p:nvGrpSpPr>
        <p:grpSpPr>
          <a:xfrm>
            <a:off x="4859280" y="260280"/>
            <a:ext cx="1513080" cy="1800360"/>
            <a:chOff x="4859280" y="260280"/>
            <a:chExt cx="1513080" cy="1800360"/>
          </a:xfrm>
        </p:grpSpPr>
        <p:pic>
          <p:nvPicPr>
            <p:cNvPr id="58" name="Рисунок 54" descr="e5f0a948d92b.png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4859280" y="260280"/>
              <a:ext cx="1513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55"/>
            <p:cNvSpPr/>
            <p:nvPr/>
          </p:nvSpPr>
          <p:spPr>
            <a:xfrm>
              <a:off x="5376240" y="698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56"/>
          <p:cNvGrpSpPr/>
          <p:nvPr/>
        </p:nvGrpSpPr>
        <p:grpSpPr>
          <a:xfrm>
            <a:off x="3635280" y="1844640"/>
            <a:ext cx="1548000" cy="1778040"/>
            <a:chOff x="3635280" y="1844640"/>
            <a:chExt cx="1548000" cy="1778040"/>
          </a:xfrm>
        </p:grpSpPr>
        <p:pic>
          <p:nvPicPr>
            <p:cNvPr id="61" name="Рисунок 57" descr="e5f0a948d92b.pn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3635280" y="184464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8"/>
            <p:cNvSpPr/>
            <p:nvPr/>
          </p:nvSpPr>
          <p:spPr>
            <a:xfrm>
              <a:off x="4170240" y="2276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59"/>
          <p:cNvGrpSpPr/>
          <p:nvPr/>
        </p:nvGrpSpPr>
        <p:grpSpPr>
          <a:xfrm>
            <a:off x="3348000" y="3860640"/>
            <a:ext cx="1548000" cy="1778040"/>
            <a:chOff x="3348000" y="3860640"/>
            <a:chExt cx="1548000" cy="1778040"/>
          </a:xfrm>
        </p:grpSpPr>
        <p:pic>
          <p:nvPicPr>
            <p:cNvPr id="64" name="Рисунок 60" descr="e5f0a948d92b.pn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3348000" y="386064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61"/>
            <p:cNvSpPr/>
            <p:nvPr/>
          </p:nvSpPr>
          <p:spPr>
            <a:xfrm>
              <a:off x="3882960" y="42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62"/>
          <p:cNvGrpSpPr/>
          <p:nvPr/>
        </p:nvGrpSpPr>
        <p:grpSpPr>
          <a:xfrm>
            <a:off x="6372360" y="1989000"/>
            <a:ext cx="1547640" cy="1778040"/>
            <a:chOff x="6372360" y="1989000"/>
            <a:chExt cx="1547640" cy="1778040"/>
          </a:xfrm>
        </p:grpSpPr>
        <p:pic>
          <p:nvPicPr>
            <p:cNvPr id="67" name="Рисунок 63" descr="e5f0a948d92b.png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6372360" y="1989000"/>
              <a:ext cx="154764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64"/>
            <p:cNvSpPr/>
            <p:nvPr/>
          </p:nvSpPr>
          <p:spPr>
            <a:xfrm>
              <a:off x="6907320" y="24937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65"/>
          <p:cNvGrpSpPr/>
          <p:nvPr/>
        </p:nvGrpSpPr>
        <p:grpSpPr>
          <a:xfrm>
            <a:off x="5724360" y="3789360"/>
            <a:ext cx="1548000" cy="1778040"/>
            <a:chOff x="5724360" y="3789360"/>
            <a:chExt cx="1548000" cy="1778040"/>
          </a:xfrm>
        </p:grpSpPr>
        <p:pic>
          <p:nvPicPr>
            <p:cNvPr id="70" name="Рисунок 66" descr="e5f0a948d92b.png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5724360" y="378936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67"/>
            <p:cNvSpPr/>
            <p:nvPr/>
          </p:nvSpPr>
          <p:spPr>
            <a:xfrm>
              <a:off x="6072480" y="42210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Bookman Old Style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Управляющая кнопка: домой 42">
            <a:hlinkClick r:id="rId2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fir-tree-picture-color.png"/>
          <p:cNvPicPr/>
          <p:nvPr/>
        </p:nvPicPr>
        <p:blipFill>
          <a:blip r:embed="rId3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5" descr="eec7e6d00cb9.png"/>
          <p:cNvPicPr/>
          <p:nvPr/>
        </p:nvPicPr>
        <p:blipFill>
          <a:blip r:embed="rId4"/>
          <a:stretch/>
        </p:blipFill>
        <p:spPr>
          <a:xfrm>
            <a:off x="4067280" y="0"/>
            <a:ext cx="720720" cy="1789200"/>
          </a:xfrm>
          <a:prstGeom prst="rect">
            <a:avLst/>
          </a:prstGeom>
          <a:ln w="0">
            <a:noFill/>
          </a:ln>
        </p:spPr>
      </p:pic>
      <p:grpSp>
        <p:nvGrpSpPr>
          <p:cNvPr id="75" name="Группа 29"/>
          <p:cNvGrpSpPr/>
          <p:nvPr/>
        </p:nvGrpSpPr>
        <p:grpSpPr>
          <a:xfrm>
            <a:off x="7411320" y="2060640"/>
            <a:ext cx="1075320" cy="1127160"/>
            <a:chOff x="7411320" y="2060640"/>
            <a:chExt cx="1075320" cy="1127160"/>
          </a:xfrm>
        </p:grpSpPr>
        <p:pic>
          <p:nvPicPr>
            <p:cNvPr id="76" name="Рисунок 36" descr="b4a50f2ab260.png"/>
            <p:cNvPicPr/>
            <p:nvPr/>
          </p:nvPicPr>
          <p:blipFill>
            <a:blip r:embed="rId5"/>
            <a:stretch/>
          </p:blipFill>
          <p:spPr>
            <a:xfrm>
              <a:off x="7524360" y="2060640"/>
              <a:ext cx="9622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15"/>
            <p:cNvSpPr/>
            <p:nvPr/>
          </p:nvSpPr>
          <p:spPr>
            <a:xfrm>
              <a:off x="7411320" y="234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25"/>
          <p:cNvGrpSpPr/>
          <p:nvPr/>
        </p:nvGrpSpPr>
        <p:grpSpPr>
          <a:xfrm>
            <a:off x="642240" y="3141720"/>
            <a:ext cx="1237320" cy="1265040"/>
            <a:chOff x="642240" y="3141720"/>
            <a:chExt cx="1237320" cy="1265040"/>
          </a:xfrm>
        </p:grpSpPr>
        <p:pic>
          <p:nvPicPr>
            <p:cNvPr id="79" name="Рисунок 12" descr="b4a50f2ab260.png"/>
            <p:cNvPicPr/>
            <p:nvPr/>
          </p:nvPicPr>
          <p:blipFill>
            <a:blip r:embed="rId6"/>
            <a:stretch/>
          </p:blipFill>
          <p:spPr>
            <a:xfrm>
              <a:off x="899280" y="3141720"/>
              <a:ext cx="98028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16"/>
            <p:cNvSpPr/>
            <p:nvPr/>
          </p:nvSpPr>
          <p:spPr>
            <a:xfrm>
              <a:off x="642240" y="3429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31"/>
          <p:cNvGrpSpPr/>
          <p:nvPr/>
        </p:nvGrpSpPr>
        <p:grpSpPr>
          <a:xfrm>
            <a:off x="6403320" y="907920"/>
            <a:ext cx="1372320" cy="1081080"/>
            <a:chOff x="6403320" y="907920"/>
            <a:chExt cx="1372320" cy="1081080"/>
          </a:xfrm>
        </p:grpSpPr>
        <p:pic>
          <p:nvPicPr>
            <p:cNvPr id="82" name="Рисунок 13" descr="b4a2136b4d98.png"/>
            <p:cNvPicPr/>
            <p:nvPr/>
          </p:nvPicPr>
          <p:blipFill>
            <a:blip r:embed="rId7"/>
            <a:stretch/>
          </p:blipFill>
          <p:spPr>
            <a:xfrm>
              <a:off x="6732360" y="907920"/>
              <a:ext cx="10432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17"/>
            <p:cNvSpPr/>
            <p:nvPr/>
          </p:nvSpPr>
          <p:spPr>
            <a:xfrm>
              <a:off x="6403320" y="105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32"/>
          <p:cNvGrpSpPr/>
          <p:nvPr/>
        </p:nvGrpSpPr>
        <p:grpSpPr>
          <a:xfrm>
            <a:off x="2154960" y="333360"/>
            <a:ext cx="1394640" cy="1247760"/>
            <a:chOff x="2154960" y="333360"/>
            <a:chExt cx="1394640" cy="1247760"/>
          </a:xfrm>
        </p:grpSpPr>
        <p:pic>
          <p:nvPicPr>
            <p:cNvPr id="85" name="Рисунок 11" descr="b4a50f2ab260.png"/>
            <p:cNvPicPr/>
            <p:nvPr/>
          </p:nvPicPr>
          <p:blipFill>
            <a:blip r:embed="rId8"/>
            <a:stretch/>
          </p:blipFill>
          <p:spPr>
            <a:xfrm>
              <a:off x="2483640" y="333360"/>
              <a:ext cx="10659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18"/>
            <p:cNvSpPr/>
            <p:nvPr/>
          </p:nvSpPr>
          <p:spPr>
            <a:xfrm>
              <a:off x="2154960" y="621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88" name="Рисунок 10" descr="b4a50f2ab260.png"/>
            <p:cNvPicPr/>
            <p:nvPr/>
          </p:nvPicPr>
          <p:blipFill>
            <a:blip r:embed="rId9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35"/>
          <p:cNvGrpSpPr/>
          <p:nvPr/>
        </p:nvGrpSpPr>
        <p:grpSpPr>
          <a:xfrm>
            <a:off x="7627320" y="3573360"/>
            <a:ext cx="1329480" cy="1224000"/>
            <a:chOff x="7627320" y="3573360"/>
            <a:chExt cx="1329480" cy="1224000"/>
          </a:xfrm>
        </p:grpSpPr>
        <p:pic>
          <p:nvPicPr>
            <p:cNvPr id="91" name="Рисунок 9" descr="b4a50f2ab260.png"/>
            <p:cNvPicPr/>
            <p:nvPr/>
          </p:nvPicPr>
          <p:blipFill>
            <a:blip r:embed="rId10"/>
            <a:stretch/>
          </p:blipFill>
          <p:spPr>
            <a:xfrm>
              <a:off x="7956000" y="357336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20"/>
            <p:cNvSpPr/>
            <p:nvPr/>
          </p:nvSpPr>
          <p:spPr>
            <a:xfrm>
              <a:off x="7627320" y="3861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94" name="Рисунок 8" descr="b4a50f2ab260.png"/>
            <p:cNvPicPr/>
            <p:nvPr/>
          </p:nvPicPr>
          <p:blipFill>
            <a:blip r:embed="rId11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37"/>
          <p:cNvGrpSpPr/>
          <p:nvPr/>
        </p:nvGrpSpPr>
        <p:grpSpPr>
          <a:xfrm>
            <a:off x="7482600" y="5084640"/>
            <a:ext cx="1388520" cy="1251000"/>
            <a:chOff x="7482600" y="5084640"/>
            <a:chExt cx="1388520" cy="1251000"/>
          </a:xfrm>
        </p:grpSpPr>
        <p:pic>
          <p:nvPicPr>
            <p:cNvPr id="97" name="Рисунок 14" descr="b4a2136b4d98.png"/>
            <p:cNvPicPr/>
            <p:nvPr/>
          </p:nvPicPr>
          <p:blipFill>
            <a:blip r:embed="rId12"/>
            <a:stretch/>
          </p:blipFill>
          <p:spPr>
            <a:xfrm>
              <a:off x="7811640" y="5084640"/>
              <a:ext cx="1059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22"/>
            <p:cNvSpPr/>
            <p:nvPr/>
          </p:nvSpPr>
          <p:spPr>
            <a:xfrm>
              <a:off x="7482600" y="5372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43"/>
          <p:cNvGrpSpPr/>
          <p:nvPr/>
        </p:nvGrpSpPr>
        <p:grpSpPr>
          <a:xfrm>
            <a:off x="3509280" y="2924280"/>
            <a:ext cx="775440" cy="595080"/>
            <a:chOff x="3509280" y="2924280"/>
            <a:chExt cx="775440" cy="595080"/>
          </a:xfrm>
        </p:grpSpPr>
        <p:pic>
          <p:nvPicPr>
            <p:cNvPr id="100" name="Рисунок 30" descr="b4a50f2ab260.png"/>
            <p:cNvPicPr/>
            <p:nvPr/>
          </p:nvPicPr>
          <p:blipFill>
            <a:blip r:embed="rId13"/>
            <a:stretch/>
          </p:blipFill>
          <p:spPr>
            <a:xfrm>
              <a:off x="3765600" y="2924280"/>
              <a:ext cx="51912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23"/>
            <p:cNvSpPr/>
            <p:nvPr/>
          </p:nvSpPr>
          <p:spPr>
            <a:xfrm>
              <a:off x="3509280" y="2996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103" name="Рисунок 26" descr="e5f0a948d92b.png"/>
            <p:cNvPicPr/>
            <p:nvPr/>
          </p:nvPicPr>
          <p:blipFill>
            <a:blip r:embed="rId14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40"/>
          <p:cNvGrpSpPr/>
          <p:nvPr/>
        </p:nvGrpSpPr>
        <p:grpSpPr>
          <a:xfrm>
            <a:off x="4963320" y="115920"/>
            <a:ext cx="1337400" cy="1185840"/>
            <a:chOff x="4963320" y="115920"/>
            <a:chExt cx="1337400" cy="1185840"/>
          </a:xfrm>
        </p:grpSpPr>
        <p:pic>
          <p:nvPicPr>
            <p:cNvPr id="106" name="Рисунок 38" descr="b4a2136b4d98.png"/>
            <p:cNvPicPr/>
            <p:nvPr/>
          </p:nvPicPr>
          <p:blipFill>
            <a:blip r:embed="rId15"/>
            <a:stretch/>
          </p:blipFill>
          <p:spPr>
            <a:xfrm>
              <a:off x="5220360" y="115920"/>
              <a:ext cx="1080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39"/>
            <p:cNvSpPr/>
            <p:nvPr/>
          </p:nvSpPr>
          <p:spPr>
            <a:xfrm>
              <a:off x="4963320" y="33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1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.wav"/>
                                        </p:tgtEl>
                                      </p:cMediaNode>
                                    </p:audio>
                                    <p:animMotion origin="layout" path="M 0 0 L 0 0.33333 E">
                                      <p:cBhvr>
                                        <p:cTn id="1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2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3.05556E-006 -3.33333E-006 L -0.00711 0.86042 E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-1.11111E-006 -1.11111E-006 L 0.00208 0.78889 E">
                                      <p:cBhvr>
                                        <p:cTn id="3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4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4.72222E-006 1.11111E-006 L -0.34392 0.08588 E">
                                      <p:cBhvr>
                                        <p:cTn id="5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9"/>
          <p:cNvGrpSpPr/>
          <p:nvPr/>
        </p:nvGrpSpPr>
        <p:grpSpPr>
          <a:xfrm>
            <a:off x="7411320" y="2060640"/>
            <a:ext cx="1075320" cy="1127160"/>
            <a:chOff x="7411320" y="2060640"/>
            <a:chExt cx="1075320" cy="1127160"/>
          </a:xfrm>
        </p:grpSpPr>
        <p:pic>
          <p:nvPicPr>
            <p:cNvPr id="110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7524360" y="2060640"/>
              <a:ext cx="9622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15"/>
            <p:cNvSpPr/>
            <p:nvPr/>
          </p:nvSpPr>
          <p:spPr>
            <a:xfrm>
              <a:off x="7411320" y="234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25"/>
          <p:cNvGrpSpPr/>
          <p:nvPr/>
        </p:nvGrpSpPr>
        <p:grpSpPr>
          <a:xfrm>
            <a:off x="642240" y="3141720"/>
            <a:ext cx="1237320" cy="1265040"/>
            <a:chOff x="642240" y="3141720"/>
            <a:chExt cx="1237320" cy="1265040"/>
          </a:xfrm>
        </p:grpSpPr>
        <p:pic>
          <p:nvPicPr>
            <p:cNvPr id="113" name="Рисунок 12" descr="b4a50f2ab260.png"/>
            <p:cNvPicPr/>
            <p:nvPr/>
          </p:nvPicPr>
          <p:blipFill>
            <a:blip r:embed="rId4"/>
            <a:stretch/>
          </p:blipFill>
          <p:spPr>
            <a:xfrm>
              <a:off x="899280" y="3141720"/>
              <a:ext cx="98028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6"/>
            <p:cNvSpPr/>
            <p:nvPr/>
          </p:nvSpPr>
          <p:spPr>
            <a:xfrm>
              <a:off x="642240" y="3429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Группа 31"/>
          <p:cNvGrpSpPr/>
          <p:nvPr/>
        </p:nvGrpSpPr>
        <p:grpSpPr>
          <a:xfrm>
            <a:off x="6403320" y="907920"/>
            <a:ext cx="1372320" cy="1081080"/>
            <a:chOff x="6403320" y="907920"/>
            <a:chExt cx="1372320" cy="1081080"/>
          </a:xfrm>
        </p:grpSpPr>
        <p:pic>
          <p:nvPicPr>
            <p:cNvPr id="116" name="Рисунок 13" descr="b4a2136b4d98.png"/>
            <p:cNvPicPr/>
            <p:nvPr/>
          </p:nvPicPr>
          <p:blipFill>
            <a:blip r:embed="rId5"/>
            <a:stretch/>
          </p:blipFill>
          <p:spPr>
            <a:xfrm>
              <a:off x="6732360" y="907920"/>
              <a:ext cx="10432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7"/>
            <p:cNvSpPr/>
            <p:nvPr/>
          </p:nvSpPr>
          <p:spPr>
            <a:xfrm>
              <a:off x="6403320" y="105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32"/>
          <p:cNvGrpSpPr/>
          <p:nvPr/>
        </p:nvGrpSpPr>
        <p:grpSpPr>
          <a:xfrm>
            <a:off x="2154960" y="333360"/>
            <a:ext cx="1394640" cy="1247760"/>
            <a:chOff x="2154960" y="333360"/>
            <a:chExt cx="1394640" cy="1247760"/>
          </a:xfrm>
        </p:grpSpPr>
        <p:pic>
          <p:nvPicPr>
            <p:cNvPr id="119" name="Рисунок 11" descr="b4a50f2ab260.png"/>
            <p:cNvPicPr/>
            <p:nvPr/>
          </p:nvPicPr>
          <p:blipFill>
            <a:blip r:embed="rId6"/>
            <a:stretch/>
          </p:blipFill>
          <p:spPr>
            <a:xfrm>
              <a:off x="2483640" y="333360"/>
              <a:ext cx="10659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8"/>
            <p:cNvSpPr/>
            <p:nvPr/>
          </p:nvSpPr>
          <p:spPr>
            <a:xfrm>
              <a:off x="2154960" y="621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122" name="Рисунок 10" descr="b4a50f2ab260.png"/>
            <p:cNvPicPr/>
            <p:nvPr/>
          </p:nvPicPr>
          <p:blipFill>
            <a:blip r:embed="rId7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35"/>
          <p:cNvGrpSpPr/>
          <p:nvPr/>
        </p:nvGrpSpPr>
        <p:grpSpPr>
          <a:xfrm>
            <a:off x="7627320" y="3573360"/>
            <a:ext cx="1329480" cy="1224000"/>
            <a:chOff x="7627320" y="3573360"/>
            <a:chExt cx="1329480" cy="1224000"/>
          </a:xfrm>
        </p:grpSpPr>
        <p:pic>
          <p:nvPicPr>
            <p:cNvPr id="125" name="Рисунок 9" descr="b4a50f2ab260.png"/>
            <p:cNvPicPr/>
            <p:nvPr/>
          </p:nvPicPr>
          <p:blipFill>
            <a:blip r:embed="rId8"/>
            <a:stretch/>
          </p:blipFill>
          <p:spPr>
            <a:xfrm>
              <a:off x="7956000" y="357336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20"/>
            <p:cNvSpPr/>
            <p:nvPr/>
          </p:nvSpPr>
          <p:spPr>
            <a:xfrm>
              <a:off x="7627320" y="3861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128" name="Рисунок 8" descr="b4a50f2ab260.png"/>
            <p:cNvPicPr/>
            <p:nvPr/>
          </p:nvPicPr>
          <p:blipFill>
            <a:blip r:embed="rId9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37"/>
          <p:cNvGrpSpPr/>
          <p:nvPr/>
        </p:nvGrpSpPr>
        <p:grpSpPr>
          <a:xfrm>
            <a:off x="7482600" y="5084640"/>
            <a:ext cx="1388520" cy="1251000"/>
            <a:chOff x="7482600" y="5084640"/>
            <a:chExt cx="1388520" cy="1251000"/>
          </a:xfrm>
        </p:grpSpPr>
        <p:pic>
          <p:nvPicPr>
            <p:cNvPr id="131" name="Рисунок 14" descr="b4a2136b4d98.png"/>
            <p:cNvPicPr/>
            <p:nvPr/>
          </p:nvPicPr>
          <p:blipFill>
            <a:blip r:embed="rId10"/>
            <a:stretch/>
          </p:blipFill>
          <p:spPr>
            <a:xfrm>
              <a:off x="7811640" y="5084640"/>
              <a:ext cx="1059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22"/>
            <p:cNvSpPr/>
            <p:nvPr/>
          </p:nvSpPr>
          <p:spPr>
            <a:xfrm>
              <a:off x="7482600" y="5372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40"/>
          <p:cNvGrpSpPr/>
          <p:nvPr/>
        </p:nvGrpSpPr>
        <p:grpSpPr>
          <a:xfrm>
            <a:off x="2572560" y="4005360"/>
            <a:ext cx="775440" cy="718920"/>
            <a:chOff x="2572560" y="4005360"/>
            <a:chExt cx="775440" cy="718920"/>
          </a:xfrm>
        </p:grpSpPr>
        <p:pic>
          <p:nvPicPr>
            <p:cNvPr id="134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750040" y="4005360"/>
              <a:ext cx="597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23"/>
            <p:cNvSpPr/>
            <p:nvPr/>
          </p:nvSpPr>
          <p:spPr>
            <a:xfrm>
              <a:off x="2572560" y="410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137" name="Рисунок 26" descr="e5f0a948d92b.png"/>
            <p:cNvPicPr/>
            <p:nvPr/>
          </p:nvPicPr>
          <p:blipFill>
            <a:blip r:embed="rId12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40"/>
          <p:cNvGrpSpPr/>
          <p:nvPr/>
        </p:nvGrpSpPr>
        <p:grpSpPr>
          <a:xfrm>
            <a:off x="4963320" y="115920"/>
            <a:ext cx="1337400" cy="1185840"/>
            <a:chOff x="4963320" y="115920"/>
            <a:chExt cx="1337400" cy="1185840"/>
          </a:xfrm>
        </p:grpSpPr>
        <p:pic>
          <p:nvPicPr>
            <p:cNvPr id="140" name="Рисунок 38" descr="b4a2136b4d98.png"/>
            <p:cNvPicPr/>
            <p:nvPr/>
          </p:nvPicPr>
          <p:blipFill>
            <a:blip r:embed="rId13"/>
            <a:stretch/>
          </p:blipFill>
          <p:spPr>
            <a:xfrm>
              <a:off x="5220360" y="115920"/>
              <a:ext cx="1080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39"/>
            <p:cNvSpPr/>
            <p:nvPr/>
          </p:nvSpPr>
          <p:spPr>
            <a:xfrm>
              <a:off x="4963320" y="33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41"/>
          <p:cNvGrpSpPr/>
          <p:nvPr/>
        </p:nvGrpSpPr>
        <p:grpSpPr>
          <a:xfrm>
            <a:off x="4949280" y="4508640"/>
            <a:ext cx="851400" cy="649080"/>
            <a:chOff x="4949280" y="4508640"/>
            <a:chExt cx="851400" cy="649080"/>
          </a:xfrm>
        </p:grpSpPr>
        <p:pic>
          <p:nvPicPr>
            <p:cNvPr id="143" name="Рисунок 35" descr="f68358bd761c.JPG"/>
            <p:cNvPicPr/>
            <p:nvPr/>
          </p:nvPicPr>
          <p:blipFill>
            <a:blip r:embed="rId14"/>
            <a:stretch/>
          </p:blipFill>
          <p:spPr>
            <a:xfrm>
              <a:off x="5220360" y="4508640"/>
              <a:ext cx="5803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37"/>
            <p:cNvSpPr/>
            <p:nvPr/>
          </p:nvSpPr>
          <p:spPr>
            <a:xfrm>
              <a:off x="4949280" y="458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Рисунок 43" descr="eec7e6d00cb9.png"/>
          <p:cNvPicPr/>
          <p:nvPr/>
        </p:nvPicPr>
        <p:blipFill>
          <a:blip r:embed="rId15"/>
          <a:stretch/>
        </p:blipFill>
        <p:spPr>
          <a:xfrm>
            <a:off x="4211640" y="-57240"/>
            <a:ext cx="504720" cy="18018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омой 44">
            <a:hlinkClick r:id="rId16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5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6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3.05556E-006 -3.33333E-006 L -0.00711 0.86042 E">
                                      <p:cBhvr>
                                        <p:cTn id="7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7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-1.11111E-006 -1.11111E-006 L 0.00208 0.78889 E">
                                      <p:cBhvr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9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4.72222E-006 1.11111E-006 L -0.17847 0.30625 E">
                                      <p:cBhvr>
                                        <p:cTn id="9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1.11111E-006 -1.48148E-006 L 0.28507 0.0757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148" name="Группа 29"/>
          <p:cNvGrpSpPr/>
          <p:nvPr/>
        </p:nvGrpSpPr>
        <p:grpSpPr>
          <a:xfrm>
            <a:off x="7404120" y="1916280"/>
            <a:ext cx="1055520" cy="1271520"/>
            <a:chOff x="7404120" y="1916280"/>
            <a:chExt cx="1055520" cy="1271520"/>
          </a:xfrm>
        </p:grpSpPr>
        <p:pic>
          <p:nvPicPr>
            <p:cNvPr id="149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7520760" y="1916280"/>
              <a:ext cx="9388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15"/>
            <p:cNvSpPr/>
            <p:nvPr/>
          </p:nvSpPr>
          <p:spPr>
            <a:xfrm>
              <a:off x="7404120" y="2348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25"/>
          <p:cNvGrpSpPr/>
          <p:nvPr/>
        </p:nvGrpSpPr>
        <p:grpSpPr>
          <a:xfrm>
            <a:off x="615240" y="3213000"/>
            <a:ext cx="1148400" cy="1193760"/>
            <a:chOff x="615240" y="3213000"/>
            <a:chExt cx="1148400" cy="1193760"/>
          </a:xfrm>
        </p:grpSpPr>
        <p:pic>
          <p:nvPicPr>
            <p:cNvPr id="152" name="Рисунок 12" descr="b4a50f2ab260.png"/>
            <p:cNvPicPr/>
            <p:nvPr/>
          </p:nvPicPr>
          <p:blipFill>
            <a:blip r:embed="rId4"/>
            <a:stretch/>
          </p:blipFill>
          <p:spPr>
            <a:xfrm>
              <a:off x="873000" y="3213000"/>
              <a:ext cx="8906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16"/>
            <p:cNvSpPr/>
            <p:nvPr/>
          </p:nvSpPr>
          <p:spPr>
            <a:xfrm>
              <a:off x="615240" y="34844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руппа 31"/>
          <p:cNvGrpSpPr/>
          <p:nvPr/>
        </p:nvGrpSpPr>
        <p:grpSpPr>
          <a:xfrm>
            <a:off x="6416280" y="772920"/>
            <a:ext cx="1456920" cy="1275480"/>
            <a:chOff x="6416280" y="772920"/>
            <a:chExt cx="1456920" cy="1275480"/>
          </a:xfrm>
        </p:grpSpPr>
        <p:pic>
          <p:nvPicPr>
            <p:cNvPr id="155" name="Рисунок 13" descr="b4a2136b4d98.png"/>
            <p:cNvPicPr/>
            <p:nvPr/>
          </p:nvPicPr>
          <p:blipFill>
            <a:blip r:embed="rId5"/>
            <a:stretch/>
          </p:blipFill>
          <p:spPr>
            <a:xfrm rot="20874000">
              <a:off x="6728040" y="869760"/>
              <a:ext cx="10432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7"/>
            <p:cNvSpPr/>
            <p:nvPr/>
          </p:nvSpPr>
          <p:spPr>
            <a:xfrm rot="21599400">
              <a:off x="6416280" y="11361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32"/>
          <p:cNvGrpSpPr/>
          <p:nvPr/>
        </p:nvGrpSpPr>
        <p:grpSpPr>
          <a:xfrm>
            <a:off x="2154960" y="333360"/>
            <a:ext cx="1394640" cy="1247760"/>
            <a:chOff x="2154960" y="333360"/>
            <a:chExt cx="1394640" cy="1247760"/>
          </a:xfrm>
        </p:grpSpPr>
        <p:pic>
          <p:nvPicPr>
            <p:cNvPr id="158" name="Рисунок 11" descr="b4a50f2ab260.png"/>
            <p:cNvPicPr/>
            <p:nvPr/>
          </p:nvPicPr>
          <p:blipFill>
            <a:blip r:embed="rId6"/>
            <a:stretch/>
          </p:blipFill>
          <p:spPr>
            <a:xfrm>
              <a:off x="2483640" y="333360"/>
              <a:ext cx="106596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18"/>
            <p:cNvSpPr/>
            <p:nvPr/>
          </p:nvSpPr>
          <p:spPr>
            <a:xfrm>
              <a:off x="2154960" y="621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161" name="Рисунок 10" descr="b4a50f2ab260.png"/>
            <p:cNvPicPr/>
            <p:nvPr/>
          </p:nvPicPr>
          <p:blipFill>
            <a:blip r:embed="rId7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Группа 35"/>
          <p:cNvGrpSpPr/>
          <p:nvPr/>
        </p:nvGrpSpPr>
        <p:grpSpPr>
          <a:xfrm>
            <a:off x="7627320" y="3573360"/>
            <a:ext cx="1329480" cy="1224000"/>
            <a:chOff x="7627320" y="3573360"/>
            <a:chExt cx="1329480" cy="1224000"/>
          </a:xfrm>
        </p:grpSpPr>
        <p:pic>
          <p:nvPicPr>
            <p:cNvPr id="164" name="Рисунок 9" descr="b4a50f2ab260.png"/>
            <p:cNvPicPr/>
            <p:nvPr/>
          </p:nvPicPr>
          <p:blipFill>
            <a:blip r:embed="rId8"/>
            <a:stretch/>
          </p:blipFill>
          <p:spPr>
            <a:xfrm>
              <a:off x="7956000" y="357336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20"/>
            <p:cNvSpPr/>
            <p:nvPr/>
          </p:nvSpPr>
          <p:spPr>
            <a:xfrm>
              <a:off x="7627320" y="3861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167" name="Рисунок 8" descr="b4a50f2ab260.png"/>
            <p:cNvPicPr/>
            <p:nvPr/>
          </p:nvPicPr>
          <p:blipFill>
            <a:blip r:embed="rId9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Группа 37"/>
          <p:cNvGrpSpPr/>
          <p:nvPr/>
        </p:nvGrpSpPr>
        <p:grpSpPr>
          <a:xfrm>
            <a:off x="7482600" y="5084640"/>
            <a:ext cx="1388520" cy="1251000"/>
            <a:chOff x="7482600" y="5084640"/>
            <a:chExt cx="1388520" cy="1251000"/>
          </a:xfrm>
        </p:grpSpPr>
        <p:pic>
          <p:nvPicPr>
            <p:cNvPr id="170" name="Рисунок 14" descr="b4a2136b4d98.png"/>
            <p:cNvPicPr/>
            <p:nvPr/>
          </p:nvPicPr>
          <p:blipFill>
            <a:blip r:embed="rId10"/>
            <a:stretch/>
          </p:blipFill>
          <p:spPr>
            <a:xfrm>
              <a:off x="7811640" y="5084640"/>
              <a:ext cx="10594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22"/>
            <p:cNvSpPr/>
            <p:nvPr/>
          </p:nvSpPr>
          <p:spPr>
            <a:xfrm>
              <a:off x="7482600" y="5372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Группа 40"/>
          <p:cNvGrpSpPr/>
          <p:nvPr/>
        </p:nvGrpSpPr>
        <p:grpSpPr>
          <a:xfrm>
            <a:off x="5093280" y="4581360"/>
            <a:ext cx="702720" cy="648000"/>
            <a:chOff x="5093280" y="4581360"/>
            <a:chExt cx="702720" cy="648000"/>
          </a:xfrm>
        </p:grpSpPr>
        <p:pic>
          <p:nvPicPr>
            <p:cNvPr id="173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5252760" y="4581360"/>
              <a:ext cx="54324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23"/>
            <p:cNvSpPr/>
            <p:nvPr/>
          </p:nvSpPr>
          <p:spPr>
            <a:xfrm>
              <a:off x="5093280" y="466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176" name="Рисунок 26" descr="e5f0a948d92b.png"/>
            <p:cNvPicPr/>
            <p:nvPr/>
          </p:nvPicPr>
          <p:blipFill>
            <a:blip r:embed="rId12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Группа 40"/>
          <p:cNvGrpSpPr/>
          <p:nvPr/>
        </p:nvGrpSpPr>
        <p:grpSpPr>
          <a:xfrm>
            <a:off x="4963320" y="115920"/>
            <a:ext cx="1337400" cy="1185840"/>
            <a:chOff x="4963320" y="115920"/>
            <a:chExt cx="1337400" cy="1185840"/>
          </a:xfrm>
        </p:grpSpPr>
        <p:pic>
          <p:nvPicPr>
            <p:cNvPr id="179" name="Рисунок 38" descr="b4a2136b4d98.png"/>
            <p:cNvPicPr/>
            <p:nvPr/>
          </p:nvPicPr>
          <p:blipFill>
            <a:blip r:embed="rId13"/>
            <a:stretch/>
          </p:blipFill>
          <p:spPr>
            <a:xfrm>
              <a:off x="5220360" y="115920"/>
              <a:ext cx="1080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39"/>
            <p:cNvSpPr/>
            <p:nvPr/>
          </p:nvSpPr>
          <p:spPr>
            <a:xfrm>
              <a:off x="4963320" y="331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Группа 41"/>
          <p:cNvGrpSpPr/>
          <p:nvPr/>
        </p:nvGrpSpPr>
        <p:grpSpPr>
          <a:xfrm>
            <a:off x="3076200" y="5661000"/>
            <a:ext cx="848160" cy="576360"/>
            <a:chOff x="3076200" y="5661000"/>
            <a:chExt cx="848160" cy="576360"/>
          </a:xfrm>
        </p:grpSpPr>
        <p:pic>
          <p:nvPicPr>
            <p:cNvPr id="182" name="Рисунок 35" descr="f68358bd761c.JPG"/>
            <p:cNvPicPr/>
            <p:nvPr/>
          </p:nvPicPr>
          <p:blipFill>
            <a:blip r:embed="rId14"/>
            <a:stretch/>
          </p:blipFill>
          <p:spPr>
            <a:xfrm>
              <a:off x="3345480" y="5661000"/>
              <a:ext cx="5788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37"/>
            <p:cNvSpPr/>
            <p:nvPr/>
          </p:nvSpPr>
          <p:spPr>
            <a:xfrm>
              <a:off x="3076200" y="5733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41" descr="eec7e6d00cb9.png"/>
          <p:cNvPicPr/>
          <p:nvPr/>
        </p:nvPicPr>
        <p:blipFill>
          <a:blip r:embed="rId15"/>
          <a:stretch/>
        </p:blipFill>
        <p:spPr>
          <a:xfrm>
            <a:off x="4140360" y="-14400"/>
            <a:ext cx="647640" cy="1832040"/>
          </a:xfrm>
          <a:prstGeom prst="rect">
            <a:avLst/>
          </a:prstGeom>
          <a:ln w="0">
            <a:noFill/>
          </a:ln>
        </p:spPr>
      </p:pic>
      <p:grpSp>
        <p:nvGrpSpPr>
          <p:cNvPr id="185" name="Группа 43"/>
          <p:cNvGrpSpPr/>
          <p:nvPr/>
        </p:nvGrpSpPr>
        <p:grpSpPr>
          <a:xfrm>
            <a:off x="4228560" y="2820960"/>
            <a:ext cx="884880" cy="710640"/>
            <a:chOff x="4228560" y="2820960"/>
            <a:chExt cx="884880" cy="710640"/>
          </a:xfrm>
        </p:grpSpPr>
        <p:pic>
          <p:nvPicPr>
            <p:cNvPr id="186" name="Рисунок 44" descr="b4a2136b4d98.png"/>
            <p:cNvPicPr/>
            <p:nvPr/>
          </p:nvPicPr>
          <p:blipFill>
            <a:blip r:embed="rId16"/>
            <a:stretch/>
          </p:blipFill>
          <p:spPr>
            <a:xfrm rot="21186600">
              <a:off x="4512600" y="2852280"/>
              <a:ext cx="5641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45"/>
            <p:cNvSpPr/>
            <p:nvPr/>
          </p:nvSpPr>
          <p:spPr>
            <a:xfrm>
              <a:off x="4228560" y="2919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Управляющая кнопка: домой 46">
            <a:hlinkClick r:id="rId17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11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12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-3.05556E-006 -3.33333E-006 L -0.00711 0.86042 E">
                                      <p:cBhvr>
                                        <p:cTn id="12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13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13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14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1.11111E-006 4.44444E-006 L 0.16545 0.32245 E">
                                      <p:cBhvr>
                                        <p:cTn id="14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4.16667E-006 -7.40741E-007 L -0.45278 0.08611 E">
                                      <p:cBhvr>
                                        <p:cTn id="15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1.11111E-006 -1.11111E-006 L -0.10035 0.49884 E">
                                      <p:cBhvr>
                                        <p:cTn id="16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4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5" descr="eec7e6d00cb9.png"/>
          <p:cNvPicPr/>
          <p:nvPr/>
        </p:nvPicPr>
        <p:blipFill>
          <a:blip r:embed="rId3"/>
          <a:stretch/>
        </p:blipFill>
        <p:spPr>
          <a:xfrm>
            <a:off x="4067280" y="0"/>
            <a:ext cx="720720" cy="17892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9"/>
          <p:cNvGrpSpPr/>
          <p:nvPr/>
        </p:nvGrpSpPr>
        <p:grpSpPr>
          <a:xfrm>
            <a:off x="7423920" y="2060640"/>
            <a:ext cx="1108800" cy="969120"/>
            <a:chOff x="7423920" y="2060640"/>
            <a:chExt cx="1108800" cy="969120"/>
          </a:xfrm>
        </p:grpSpPr>
        <p:pic>
          <p:nvPicPr>
            <p:cNvPr id="192" name="Рисунок 36" descr="b4a50f2ab260.png"/>
            <p:cNvPicPr/>
            <p:nvPr/>
          </p:nvPicPr>
          <p:blipFill>
            <a:blip r:embed="rId4"/>
            <a:stretch/>
          </p:blipFill>
          <p:spPr>
            <a:xfrm>
              <a:off x="7668360" y="2060640"/>
              <a:ext cx="864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15"/>
            <p:cNvSpPr/>
            <p:nvPr/>
          </p:nvSpPr>
          <p:spPr>
            <a:xfrm>
              <a:off x="7423920" y="220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25"/>
          <p:cNvGrpSpPr/>
          <p:nvPr/>
        </p:nvGrpSpPr>
        <p:grpSpPr>
          <a:xfrm>
            <a:off x="753120" y="3141720"/>
            <a:ext cx="1126440" cy="1079280"/>
            <a:chOff x="753120" y="3141720"/>
            <a:chExt cx="1126440" cy="1079280"/>
          </a:xfrm>
        </p:grpSpPr>
        <p:pic>
          <p:nvPicPr>
            <p:cNvPr id="195" name="Рисунок 12" descr="b4a50f2ab260.png"/>
            <p:cNvPicPr/>
            <p:nvPr/>
          </p:nvPicPr>
          <p:blipFill>
            <a:blip r:embed="rId5"/>
            <a:stretch/>
          </p:blipFill>
          <p:spPr>
            <a:xfrm>
              <a:off x="1010880" y="3141720"/>
              <a:ext cx="8686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16"/>
            <p:cNvSpPr/>
            <p:nvPr/>
          </p:nvSpPr>
          <p:spPr>
            <a:xfrm>
              <a:off x="753120" y="33872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Группа 31"/>
          <p:cNvGrpSpPr/>
          <p:nvPr/>
        </p:nvGrpSpPr>
        <p:grpSpPr>
          <a:xfrm>
            <a:off x="6380640" y="907920"/>
            <a:ext cx="1287000" cy="950040"/>
            <a:chOff x="6380640" y="907920"/>
            <a:chExt cx="1287000" cy="950040"/>
          </a:xfrm>
        </p:grpSpPr>
        <p:pic>
          <p:nvPicPr>
            <p:cNvPr id="198" name="Рисунок 13" descr="b4a2136b4d98.png"/>
            <p:cNvPicPr/>
            <p:nvPr/>
          </p:nvPicPr>
          <p:blipFill>
            <a:blip r:embed="rId6"/>
            <a:stretch/>
          </p:blipFill>
          <p:spPr>
            <a:xfrm>
              <a:off x="6704640" y="907920"/>
              <a:ext cx="96300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Box 17"/>
            <p:cNvSpPr/>
            <p:nvPr/>
          </p:nvSpPr>
          <p:spPr>
            <a:xfrm>
              <a:off x="6380640" y="10328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Группа 32"/>
          <p:cNvGrpSpPr/>
          <p:nvPr/>
        </p:nvGrpSpPr>
        <p:grpSpPr>
          <a:xfrm>
            <a:off x="2113200" y="404640"/>
            <a:ext cx="1234800" cy="1079640"/>
            <a:chOff x="2113200" y="404640"/>
            <a:chExt cx="1234800" cy="1079640"/>
          </a:xfrm>
        </p:grpSpPr>
        <p:pic>
          <p:nvPicPr>
            <p:cNvPr id="201" name="Рисунок 11" descr="b4a50f2ab260.png"/>
            <p:cNvPicPr/>
            <p:nvPr/>
          </p:nvPicPr>
          <p:blipFill>
            <a:blip r:embed="rId7"/>
            <a:stretch/>
          </p:blipFill>
          <p:spPr>
            <a:xfrm>
              <a:off x="2432880" y="404640"/>
              <a:ext cx="9151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18"/>
            <p:cNvSpPr/>
            <p:nvPr/>
          </p:nvSpPr>
          <p:spPr>
            <a:xfrm>
              <a:off x="2113200" y="653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33"/>
          <p:cNvGrpSpPr/>
          <p:nvPr/>
        </p:nvGrpSpPr>
        <p:grpSpPr>
          <a:xfrm>
            <a:off x="1289880" y="1772640"/>
            <a:ext cx="1251720" cy="1150920"/>
            <a:chOff x="1289880" y="1772640"/>
            <a:chExt cx="1251720" cy="1150920"/>
          </a:xfrm>
        </p:grpSpPr>
        <p:pic>
          <p:nvPicPr>
            <p:cNvPr id="204" name="Рисунок 10" descr="b4a50f2ab260.png"/>
            <p:cNvPicPr/>
            <p:nvPr/>
          </p:nvPicPr>
          <p:blipFill>
            <a:blip r:embed="rId8"/>
            <a:stretch/>
          </p:blipFill>
          <p:spPr>
            <a:xfrm flipH="1">
              <a:off x="1557360" y="1772640"/>
              <a:ext cx="984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19"/>
            <p:cNvSpPr/>
            <p:nvPr/>
          </p:nvSpPr>
          <p:spPr>
            <a:xfrm>
              <a:off x="1289880" y="1989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Группа 35"/>
          <p:cNvGrpSpPr/>
          <p:nvPr/>
        </p:nvGrpSpPr>
        <p:grpSpPr>
          <a:xfrm>
            <a:off x="7555680" y="3429000"/>
            <a:ext cx="1329480" cy="1224000"/>
            <a:chOff x="7555680" y="3429000"/>
            <a:chExt cx="1329480" cy="1224000"/>
          </a:xfrm>
        </p:grpSpPr>
        <p:pic>
          <p:nvPicPr>
            <p:cNvPr id="207" name="Рисунок 9" descr="b4a50f2ab260.png"/>
            <p:cNvPicPr/>
            <p:nvPr/>
          </p:nvPicPr>
          <p:blipFill>
            <a:blip r:embed="rId9"/>
            <a:stretch/>
          </p:blipFill>
          <p:spPr>
            <a:xfrm>
              <a:off x="7884360" y="3429000"/>
              <a:ext cx="1000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20"/>
            <p:cNvSpPr/>
            <p:nvPr/>
          </p:nvSpPr>
          <p:spPr>
            <a:xfrm>
              <a:off x="7555680" y="3717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34"/>
          <p:cNvGrpSpPr/>
          <p:nvPr/>
        </p:nvGrpSpPr>
        <p:grpSpPr>
          <a:xfrm>
            <a:off x="426600" y="4653000"/>
            <a:ext cx="1487880" cy="1233360"/>
            <a:chOff x="426600" y="4653000"/>
            <a:chExt cx="1487880" cy="1233360"/>
          </a:xfrm>
        </p:grpSpPr>
        <p:pic>
          <p:nvPicPr>
            <p:cNvPr id="210" name="Рисунок 8" descr="b4a50f2ab260.png"/>
            <p:cNvPicPr/>
            <p:nvPr/>
          </p:nvPicPr>
          <p:blipFill>
            <a:blip r:embed="rId10"/>
            <a:stretch/>
          </p:blipFill>
          <p:spPr>
            <a:xfrm>
              <a:off x="755280" y="4653000"/>
              <a:ext cx="11592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Box 21"/>
            <p:cNvSpPr/>
            <p:nvPr/>
          </p:nvSpPr>
          <p:spPr>
            <a:xfrm>
              <a:off x="426600" y="500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37"/>
          <p:cNvGrpSpPr/>
          <p:nvPr/>
        </p:nvGrpSpPr>
        <p:grpSpPr>
          <a:xfrm>
            <a:off x="7385400" y="5013360"/>
            <a:ext cx="1290240" cy="1179360"/>
            <a:chOff x="7385400" y="5013360"/>
            <a:chExt cx="1290240" cy="1179360"/>
          </a:xfrm>
        </p:grpSpPr>
        <p:pic>
          <p:nvPicPr>
            <p:cNvPr id="213" name="Рисунок 14" descr="b4a2136b4d98.png"/>
            <p:cNvPicPr/>
            <p:nvPr/>
          </p:nvPicPr>
          <p:blipFill>
            <a:blip r:embed="rId11"/>
            <a:stretch/>
          </p:blipFill>
          <p:spPr>
            <a:xfrm>
              <a:off x="7708680" y="5013360"/>
              <a:ext cx="96696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22"/>
            <p:cNvSpPr/>
            <p:nvPr/>
          </p:nvSpPr>
          <p:spPr>
            <a:xfrm>
              <a:off x="7385400" y="52848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Группа 40"/>
          <p:cNvGrpSpPr/>
          <p:nvPr/>
        </p:nvGrpSpPr>
        <p:grpSpPr>
          <a:xfrm>
            <a:off x="2580840" y="3860640"/>
            <a:ext cx="767160" cy="597600"/>
            <a:chOff x="2580840" y="3860640"/>
            <a:chExt cx="767160" cy="597600"/>
          </a:xfrm>
        </p:grpSpPr>
        <p:pic>
          <p:nvPicPr>
            <p:cNvPr id="216" name="Рисунок 30" descr="b4a50f2ab260.png"/>
            <p:cNvPicPr/>
            <p:nvPr/>
          </p:nvPicPr>
          <p:blipFill>
            <a:blip r:embed="rId12"/>
            <a:stretch/>
          </p:blipFill>
          <p:spPr>
            <a:xfrm>
              <a:off x="2821320" y="3860640"/>
              <a:ext cx="52668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Box 23"/>
            <p:cNvSpPr/>
            <p:nvPr/>
          </p:nvSpPr>
          <p:spPr>
            <a:xfrm>
              <a:off x="2580840" y="3998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219" name="Рисунок 26" descr="e5f0a948d92b.png"/>
            <p:cNvPicPr/>
            <p:nvPr/>
          </p:nvPicPr>
          <p:blipFill>
            <a:blip r:embed="rId13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27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Группа 40"/>
          <p:cNvGrpSpPr/>
          <p:nvPr/>
        </p:nvGrpSpPr>
        <p:grpSpPr>
          <a:xfrm>
            <a:off x="4932360" y="189000"/>
            <a:ext cx="1223640" cy="1112760"/>
            <a:chOff x="4932360" y="189000"/>
            <a:chExt cx="1223640" cy="1112760"/>
          </a:xfrm>
        </p:grpSpPr>
        <p:pic>
          <p:nvPicPr>
            <p:cNvPr id="222" name="Рисунок 38" descr="b4a2136b4d98.png"/>
            <p:cNvPicPr/>
            <p:nvPr/>
          </p:nvPicPr>
          <p:blipFill>
            <a:blip r:embed="rId14"/>
            <a:stretch/>
          </p:blipFill>
          <p:spPr>
            <a:xfrm>
              <a:off x="5189760" y="189000"/>
              <a:ext cx="96624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39"/>
            <p:cNvSpPr/>
            <p:nvPr/>
          </p:nvSpPr>
          <p:spPr>
            <a:xfrm>
              <a:off x="4932360" y="3916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41"/>
          <p:cNvGrpSpPr/>
          <p:nvPr/>
        </p:nvGrpSpPr>
        <p:grpSpPr>
          <a:xfrm>
            <a:off x="2140560" y="5445000"/>
            <a:ext cx="847080" cy="595440"/>
            <a:chOff x="2140560" y="5445000"/>
            <a:chExt cx="847080" cy="595440"/>
          </a:xfrm>
        </p:grpSpPr>
        <p:pic>
          <p:nvPicPr>
            <p:cNvPr id="225" name="Рисунок 35" descr="f68358bd761c.JPG"/>
            <p:cNvPicPr/>
            <p:nvPr/>
          </p:nvPicPr>
          <p:blipFill>
            <a:blip r:embed="rId15"/>
            <a:stretch/>
          </p:blipFill>
          <p:spPr>
            <a:xfrm>
              <a:off x="2412000" y="5445000"/>
              <a:ext cx="57564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37"/>
            <p:cNvSpPr/>
            <p:nvPr/>
          </p:nvSpPr>
          <p:spPr>
            <a:xfrm>
              <a:off x="2140560" y="551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43"/>
          <p:cNvGrpSpPr/>
          <p:nvPr/>
        </p:nvGrpSpPr>
        <p:grpSpPr>
          <a:xfrm>
            <a:off x="6244560" y="4336200"/>
            <a:ext cx="791640" cy="650880"/>
            <a:chOff x="6244560" y="4336200"/>
            <a:chExt cx="791640" cy="650880"/>
          </a:xfrm>
        </p:grpSpPr>
        <p:pic>
          <p:nvPicPr>
            <p:cNvPr id="228" name="Рисунок 40" descr="b4a2136b4d98.png"/>
            <p:cNvPicPr/>
            <p:nvPr/>
          </p:nvPicPr>
          <p:blipFill>
            <a:blip r:embed="rId16"/>
            <a:stretch/>
          </p:blipFill>
          <p:spPr>
            <a:xfrm rot="21186600">
              <a:off x="6477480" y="4365360"/>
              <a:ext cx="524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41"/>
            <p:cNvSpPr/>
            <p:nvPr/>
          </p:nvSpPr>
          <p:spPr>
            <a:xfrm>
              <a:off x="6244560" y="44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47"/>
          <p:cNvGrpSpPr/>
          <p:nvPr/>
        </p:nvGrpSpPr>
        <p:grpSpPr>
          <a:xfrm>
            <a:off x="3580920" y="2349360"/>
            <a:ext cx="775080" cy="588960"/>
            <a:chOff x="3580920" y="2349360"/>
            <a:chExt cx="775080" cy="588960"/>
          </a:xfrm>
        </p:grpSpPr>
        <p:pic>
          <p:nvPicPr>
            <p:cNvPr id="231" name="Рисунок 44" descr="b4a50f2ab260.png"/>
            <p:cNvPicPr/>
            <p:nvPr/>
          </p:nvPicPr>
          <p:blipFill>
            <a:blip r:embed="rId17"/>
            <a:stretch/>
          </p:blipFill>
          <p:spPr>
            <a:xfrm>
              <a:off x="3852000" y="2349360"/>
              <a:ext cx="5040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46"/>
            <p:cNvSpPr/>
            <p:nvPr/>
          </p:nvSpPr>
          <p:spPr>
            <a:xfrm>
              <a:off x="3580920" y="242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Управляющая кнопка: домой 48">
            <a:hlinkClick r:id="rId18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17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7%D0%B2%D0%BE%D0%BD.wav"/>
                                        </p:tgtEl>
                                      </p:cMediaNode>
                                    </p:audio>
                                    <p:animMotion origin="layout" path="M -2.5E-006 -1.11111E-006 L -0.00712 0.65764 E">
                                      <p:cBhvr>
                                        <p:cTn id="17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181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186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191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r.wav"/>
                                        </p:tgtEl>
                                      </p:cMediaNode>
                                    </p:audio>
                                    <p:animMotion origin="layout" path="M 2.77778E-006 4.44444E-006 L 0.48194 0.14166 E">
                                      <p:cBhvr>
                                        <p:cTn id="19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1.11111E-006 2.22222E-006 L -0.33872 0.01921 E">
                                      <p:cBhvr>
                                        <p:cTn id="20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1.66667E-006 -4.44444E-006 L -0.38577 0.62477 E">
                                      <p:cBhvr>
                                        <p:cTn id="21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1.94444E-006 -1.48148E-006 L 0.12205 0.46736 E">
                                      <p:cBhvr>
                                        <p:cTn id="217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22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eec7e6d00cb9.png"/>
          <p:cNvPicPr/>
          <p:nvPr/>
        </p:nvPicPr>
        <p:blipFill>
          <a:blip r:embed="rId3"/>
          <a:stretch/>
        </p:blipFill>
        <p:spPr>
          <a:xfrm>
            <a:off x="3995640" y="-171360"/>
            <a:ext cx="863640" cy="196848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9"/>
          <p:cNvGrpSpPr/>
          <p:nvPr/>
        </p:nvGrpSpPr>
        <p:grpSpPr>
          <a:xfrm>
            <a:off x="1708920" y="5877000"/>
            <a:ext cx="775440" cy="590400"/>
            <a:chOff x="1708920" y="5877000"/>
            <a:chExt cx="775440" cy="590400"/>
          </a:xfrm>
        </p:grpSpPr>
        <p:pic>
          <p:nvPicPr>
            <p:cNvPr id="237" name="Рисунок 36" descr="b4a50f2ab260.png"/>
            <p:cNvPicPr/>
            <p:nvPr/>
          </p:nvPicPr>
          <p:blipFill>
            <a:blip r:embed="rId4"/>
            <a:stretch/>
          </p:blipFill>
          <p:spPr>
            <a:xfrm>
              <a:off x="1980360" y="5877000"/>
              <a:ext cx="5040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7"/>
            <p:cNvSpPr/>
            <p:nvPr/>
          </p:nvSpPr>
          <p:spPr>
            <a:xfrm>
              <a:off x="1708920" y="594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12"/>
          <p:cNvGrpSpPr/>
          <p:nvPr/>
        </p:nvGrpSpPr>
        <p:grpSpPr>
          <a:xfrm>
            <a:off x="3652200" y="2133720"/>
            <a:ext cx="703800" cy="568080"/>
            <a:chOff x="3652200" y="2133720"/>
            <a:chExt cx="703800" cy="568080"/>
          </a:xfrm>
        </p:grpSpPr>
        <p:pic>
          <p:nvPicPr>
            <p:cNvPr id="240" name="Рисунок 35" descr="b4a50f2ab260.png"/>
            <p:cNvPicPr/>
            <p:nvPr/>
          </p:nvPicPr>
          <p:blipFill>
            <a:blip r:embed="rId5"/>
            <a:stretch/>
          </p:blipFill>
          <p:spPr>
            <a:xfrm>
              <a:off x="3923640" y="2133720"/>
              <a:ext cx="43236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10"/>
            <p:cNvSpPr/>
            <p:nvPr/>
          </p:nvSpPr>
          <p:spPr>
            <a:xfrm>
              <a:off x="365220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Группа 13"/>
          <p:cNvGrpSpPr/>
          <p:nvPr/>
        </p:nvGrpSpPr>
        <p:grpSpPr>
          <a:xfrm>
            <a:off x="2500920" y="4149720"/>
            <a:ext cx="734400" cy="531720"/>
            <a:chOff x="2500920" y="4149720"/>
            <a:chExt cx="734400" cy="531720"/>
          </a:xfrm>
        </p:grpSpPr>
        <p:pic>
          <p:nvPicPr>
            <p:cNvPr id="243" name="Рисунок 34" descr="b4a50f2ab260.png"/>
            <p:cNvPicPr/>
            <p:nvPr/>
          </p:nvPicPr>
          <p:blipFill>
            <a:blip r:embed="rId6"/>
            <a:stretch/>
          </p:blipFill>
          <p:spPr>
            <a:xfrm>
              <a:off x="2766960" y="4149720"/>
              <a:ext cx="46836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Box 11"/>
            <p:cNvSpPr/>
            <p:nvPr/>
          </p:nvSpPr>
          <p:spPr>
            <a:xfrm>
              <a:off x="2500920" y="4221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Группа 16"/>
          <p:cNvGrpSpPr/>
          <p:nvPr/>
        </p:nvGrpSpPr>
        <p:grpSpPr>
          <a:xfrm>
            <a:off x="4660200" y="3072600"/>
            <a:ext cx="741960" cy="582840"/>
            <a:chOff x="4660200" y="3072600"/>
            <a:chExt cx="741960" cy="582840"/>
          </a:xfrm>
        </p:grpSpPr>
        <p:pic>
          <p:nvPicPr>
            <p:cNvPr id="246" name="Рисунок 14" descr="b4a2136b4d98.png"/>
            <p:cNvPicPr/>
            <p:nvPr/>
          </p:nvPicPr>
          <p:blipFill>
            <a:blip r:embed="rId7"/>
            <a:stretch/>
          </p:blipFill>
          <p:spPr>
            <a:xfrm rot="20872800">
              <a:off x="4899600" y="3114360"/>
              <a:ext cx="455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15"/>
            <p:cNvSpPr/>
            <p:nvPr/>
          </p:nvSpPr>
          <p:spPr>
            <a:xfrm>
              <a:off x="4660200" y="3141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Группа 19"/>
          <p:cNvGrpSpPr/>
          <p:nvPr/>
        </p:nvGrpSpPr>
        <p:grpSpPr>
          <a:xfrm>
            <a:off x="6028560" y="4653000"/>
            <a:ext cx="775440" cy="638280"/>
            <a:chOff x="6028560" y="4653000"/>
            <a:chExt cx="775440" cy="638280"/>
          </a:xfrm>
        </p:grpSpPr>
        <p:pic>
          <p:nvPicPr>
            <p:cNvPr id="249" name="Рисунок 17" descr="Копия f68358bd761c.JPG"/>
            <p:cNvPicPr/>
            <p:nvPr/>
          </p:nvPicPr>
          <p:blipFill>
            <a:blip r:embed="rId8"/>
            <a:stretch/>
          </p:blipFill>
          <p:spPr>
            <a:xfrm>
              <a:off x="6228000" y="4653000"/>
              <a:ext cx="5760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18"/>
            <p:cNvSpPr/>
            <p:nvPr/>
          </p:nvSpPr>
          <p:spPr>
            <a:xfrm>
              <a:off x="6028560" y="472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Группа 29"/>
          <p:cNvGrpSpPr/>
          <p:nvPr/>
        </p:nvGrpSpPr>
        <p:grpSpPr>
          <a:xfrm>
            <a:off x="7418520" y="1989000"/>
            <a:ext cx="1041120" cy="1033560"/>
            <a:chOff x="7418520" y="1989000"/>
            <a:chExt cx="1041120" cy="1033560"/>
          </a:xfrm>
        </p:grpSpPr>
        <p:pic>
          <p:nvPicPr>
            <p:cNvPr id="252" name="Рисунок 21" descr="b4a50f2ab260.png"/>
            <p:cNvPicPr/>
            <p:nvPr/>
          </p:nvPicPr>
          <p:blipFill>
            <a:blip r:embed="rId9"/>
            <a:stretch/>
          </p:blipFill>
          <p:spPr>
            <a:xfrm>
              <a:off x="7650000" y="1989000"/>
              <a:ext cx="80964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22"/>
            <p:cNvSpPr/>
            <p:nvPr/>
          </p:nvSpPr>
          <p:spPr>
            <a:xfrm>
              <a:off x="7418520" y="22050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25"/>
          <p:cNvGrpSpPr/>
          <p:nvPr/>
        </p:nvGrpSpPr>
        <p:grpSpPr>
          <a:xfrm>
            <a:off x="783360" y="3213000"/>
            <a:ext cx="980280" cy="1008000"/>
            <a:chOff x="783360" y="3213000"/>
            <a:chExt cx="980280" cy="1008000"/>
          </a:xfrm>
        </p:grpSpPr>
        <p:pic>
          <p:nvPicPr>
            <p:cNvPr id="255" name="Рисунок 24" descr="b4a50f2ab260.png"/>
            <p:cNvPicPr/>
            <p:nvPr/>
          </p:nvPicPr>
          <p:blipFill>
            <a:blip r:embed="rId10"/>
            <a:stretch/>
          </p:blipFill>
          <p:spPr>
            <a:xfrm>
              <a:off x="984240" y="3213000"/>
              <a:ext cx="7794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25"/>
            <p:cNvSpPr/>
            <p:nvPr/>
          </p:nvSpPr>
          <p:spPr>
            <a:xfrm>
              <a:off x="783360" y="3442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Группа 31"/>
          <p:cNvGrpSpPr/>
          <p:nvPr/>
        </p:nvGrpSpPr>
        <p:grpSpPr>
          <a:xfrm>
            <a:off x="6360840" y="836280"/>
            <a:ext cx="1272600" cy="1062360"/>
            <a:chOff x="6360840" y="836280"/>
            <a:chExt cx="1272600" cy="1062360"/>
          </a:xfrm>
        </p:grpSpPr>
        <p:pic>
          <p:nvPicPr>
            <p:cNvPr id="258" name="Рисунок 27" descr="b4a2136b4d98.png"/>
            <p:cNvPicPr/>
            <p:nvPr/>
          </p:nvPicPr>
          <p:blipFill>
            <a:blip r:embed="rId11"/>
            <a:stretch/>
          </p:blipFill>
          <p:spPr>
            <a:xfrm rot="20902800">
              <a:off x="6669360" y="915480"/>
              <a:ext cx="8820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28"/>
            <p:cNvSpPr/>
            <p:nvPr/>
          </p:nvSpPr>
          <p:spPr>
            <a:xfrm rot="21442800">
              <a:off x="6377760" y="1097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Группа 32"/>
          <p:cNvGrpSpPr/>
          <p:nvPr/>
        </p:nvGrpSpPr>
        <p:grpSpPr>
          <a:xfrm>
            <a:off x="2151720" y="620640"/>
            <a:ext cx="1051920" cy="963360"/>
            <a:chOff x="2151720" y="620640"/>
            <a:chExt cx="1051920" cy="963360"/>
          </a:xfrm>
        </p:grpSpPr>
        <p:pic>
          <p:nvPicPr>
            <p:cNvPr id="261" name="Рисунок 30" descr="b4a50f2ab260.png"/>
            <p:cNvPicPr/>
            <p:nvPr/>
          </p:nvPicPr>
          <p:blipFill>
            <a:blip r:embed="rId12"/>
            <a:stretch/>
          </p:blipFill>
          <p:spPr>
            <a:xfrm>
              <a:off x="2396520" y="620640"/>
              <a:ext cx="807120" cy="8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31"/>
            <p:cNvSpPr/>
            <p:nvPr/>
          </p:nvSpPr>
          <p:spPr>
            <a:xfrm>
              <a:off x="2151720" y="819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33"/>
          <p:cNvGrpSpPr/>
          <p:nvPr/>
        </p:nvGrpSpPr>
        <p:grpSpPr>
          <a:xfrm>
            <a:off x="1286640" y="1916280"/>
            <a:ext cx="1124640" cy="1008000"/>
            <a:chOff x="1286640" y="1916280"/>
            <a:chExt cx="1124640" cy="1008000"/>
          </a:xfrm>
        </p:grpSpPr>
        <p:pic>
          <p:nvPicPr>
            <p:cNvPr id="264" name="Рисунок 33" descr="b4a50f2ab260.png"/>
            <p:cNvPicPr/>
            <p:nvPr/>
          </p:nvPicPr>
          <p:blipFill>
            <a:blip r:embed="rId13"/>
            <a:stretch/>
          </p:blipFill>
          <p:spPr>
            <a:xfrm flipH="1">
              <a:off x="1527120" y="1916280"/>
              <a:ext cx="8841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37"/>
            <p:cNvSpPr/>
            <p:nvPr/>
          </p:nvSpPr>
          <p:spPr>
            <a:xfrm>
              <a:off x="1286640" y="2105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Группа 35"/>
          <p:cNvGrpSpPr/>
          <p:nvPr/>
        </p:nvGrpSpPr>
        <p:grpSpPr>
          <a:xfrm>
            <a:off x="7552440" y="3573360"/>
            <a:ext cx="1196280" cy="1079640"/>
            <a:chOff x="7552440" y="3573360"/>
            <a:chExt cx="1196280" cy="1079640"/>
          </a:xfrm>
        </p:grpSpPr>
        <p:pic>
          <p:nvPicPr>
            <p:cNvPr id="267" name="Рисунок 39" descr="b4a50f2ab260.png"/>
            <p:cNvPicPr/>
            <p:nvPr/>
          </p:nvPicPr>
          <p:blipFill>
            <a:blip r:embed="rId14"/>
            <a:stretch/>
          </p:blipFill>
          <p:spPr>
            <a:xfrm>
              <a:off x="7848360" y="3573360"/>
              <a:ext cx="900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40"/>
            <p:cNvSpPr/>
            <p:nvPr/>
          </p:nvSpPr>
          <p:spPr>
            <a:xfrm>
              <a:off x="7552440" y="38271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Группа 34"/>
          <p:cNvGrpSpPr/>
          <p:nvPr/>
        </p:nvGrpSpPr>
        <p:grpSpPr>
          <a:xfrm>
            <a:off x="423000" y="4724280"/>
            <a:ext cx="1340640" cy="1162080"/>
            <a:chOff x="423000" y="4724280"/>
            <a:chExt cx="1340640" cy="1162080"/>
          </a:xfrm>
        </p:grpSpPr>
        <p:pic>
          <p:nvPicPr>
            <p:cNvPr id="270" name="Рисунок 42" descr="b4a50f2ab260.png"/>
            <p:cNvPicPr/>
            <p:nvPr/>
          </p:nvPicPr>
          <p:blipFill>
            <a:blip r:embed="rId15"/>
            <a:stretch/>
          </p:blipFill>
          <p:spPr>
            <a:xfrm>
              <a:off x="719640" y="4724280"/>
              <a:ext cx="10440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43"/>
            <p:cNvSpPr/>
            <p:nvPr/>
          </p:nvSpPr>
          <p:spPr>
            <a:xfrm>
              <a:off x="423000" y="5052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37"/>
          <p:cNvGrpSpPr/>
          <p:nvPr/>
        </p:nvGrpSpPr>
        <p:grpSpPr>
          <a:xfrm>
            <a:off x="7408080" y="5157720"/>
            <a:ext cx="1051560" cy="1035000"/>
            <a:chOff x="7408080" y="5157720"/>
            <a:chExt cx="1051560" cy="1035000"/>
          </a:xfrm>
        </p:grpSpPr>
        <p:pic>
          <p:nvPicPr>
            <p:cNvPr id="273" name="Рисунок 45" descr="b4a2136b4d98.png"/>
            <p:cNvPicPr/>
            <p:nvPr/>
          </p:nvPicPr>
          <p:blipFill>
            <a:blip r:embed="rId16"/>
            <a:stretch/>
          </p:blipFill>
          <p:spPr>
            <a:xfrm>
              <a:off x="7653960" y="5157720"/>
              <a:ext cx="80568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6"/>
            <p:cNvSpPr/>
            <p:nvPr/>
          </p:nvSpPr>
          <p:spPr>
            <a:xfrm>
              <a:off x="7408080" y="53960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Группа 40"/>
          <p:cNvGrpSpPr/>
          <p:nvPr/>
        </p:nvGrpSpPr>
        <p:grpSpPr>
          <a:xfrm>
            <a:off x="4960080" y="333360"/>
            <a:ext cx="1051920" cy="968400"/>
            <a:chOff x="4960080" y="333360"/>
            <a:chExt cx="1051920" cy="968400"/>
          </a:xfrm>
        </p:grpSpPr>
        <p:pic>
          <p:nvPicPr>
            <p:cNvPr id="276" name="Рисунок 48" descr="b4a2136b4d98.png"/>
            <p:cNvPicPr/>
            <p:nvPr/>
          </p:nvPicPr>
          <p:blipFill>
            <a:blip r:embed="rId17"/>
            <a:stretch/>
          </p:blipFill>
          <p:spPr>
            <a:xfrm>
              <a:off x="5159520" y="333360"/>
              <a:ext cx="8524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49"/>
            <p:cNvSpPr/>
            <p:nvPr/>
          </p:nvSpPr>
          <p:spPr>
            <a:xfrm>
              <a:off x="4960080" y="509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279" name="Рисунок 54" descr="e5f0a948d92b.png"/>
            <p:cNvPicPr/>
            <p:nvPr/>
          </p:nvPicPr>
          <p:blipFill>
            <a:blip r:embed="rId18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55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Управляющая кнопка: домой 50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23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r.wav"/>
                                        </p:tgtEl>
                                      </p:cMediaNode>
                                    </p:audio>
                                    <p:animMotion origin="layout" path="M -4.44444E-006 2.22222E-006 L 0.11823 0.54629 E">
                                      <p:cBhvr>
                                        <p:cTn id="23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245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250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255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r.wav"/>
                                        </p:tgtEl>
                                      </p:cMediaNode>
                                    </p:audio>
                                    <p:animMotion origin="layout" path="M -3.61111E-006 1.85185E-006 L 0.30712 -0.05232 E">
                                      <p:cBhvr>
                                        <p:cTn id="26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4.16667E-006 2.22222E-006 L -0.2323 0.34467 E">
                                      <p:cBhvr>
                                        <p:cTn id="26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2.22222E-006 3.33333E-006 L -0.36996 0.44282 E">
                                      <p:cBhvr>
                                        <p:cTn id="274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5.55556E-007 -1.11111E-006 L 0.23229 0.18148 E">
                                      <p:cBhvr>
                                        <p:cTn id="28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D0%B7%D0%B2%D0%BE%D0%BD.wav"/>
                                        </p:tgtEl>
                                      </p:cMediaNode>
                                    </p:audio>
                                    <p:animMotion origin="layout" path="M 4.72222E-006 2.96296E-006 L -0.00417 0.23171 E">
                                      <p:cBhvr>
                                        <p:cTn id="288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283" name="Группа 9"/>
          <p:cNvGrpSpPr/>
          <p:nvPr/>
        </p:nvGrpSpPr>
        <p:grpSpPr>
          <a:xfrm>
            <a:off x="2356560" y="5445000"/>
            <a:ext cx="702720" cy="505080"/>
            <a:chOff x="2356560" y="5445000"/>
            <a:chExt cx="702720" cy="505080"/>
          </a:xfrm>
        </p:grpSpPr>
        <p:pic>
          <p:nvPicPr>
            <p:cNvPr id="284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2555640" y="5445000"/>
              <a:ext cx="5036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Box 7"/>
            <p:cNvSpPr/>
            <p:nvPr/>
          </p:nvSpPr>
          <p:spPr>
            <a:xfrm>
              <a:off x="2356560" y="544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Группа 12"/>
          <p:cNvGrpSpPr/>
          <p:nvPr/>
        </p:nvGrpSpPr>
        <p:grpSpPr>
          <a:xfrm>
            <a:off x="3724920" y="2133720"/>
            <a:ext cx="702720" cy="531360"/>
            <a:chOff x="3724920" y="2133720"/>
            <a:chExt cx="702720" cy="531360"/>
          </a:xfrm>
        </p:grpSpPr>
        <p:pic>
          <p:nvPicPr>
            <p:cNvPr id="287" name="Рисунок 35" descr="b4a50f2ab260.png"/>
            <p:cNvPicPr/>
            <p:nvPr/>
          </p:nvPicPr>
          <p:blipFill>
            <a:blip r:embed="rId4"/>
            <a:stretch/>
          </p:blipFill>
          <p:spPr>
            <a:xfrm>
              <a:off x="3996000" y="2133720"/>
              <a:ext cx="4316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10"/>
            <p:cNvSpPr/>
            <p:nvPr/>
          </p:nvSpPr>
          <p:spPr>
            <a:xfrm>
              <a:off x="3724920" y="2205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13"/>
          <p:cNvGrpSpPr/>
          <p:nvPr/>
        </p:nvGrpSpPr>
        <p:grpSpPr>
          <a:xfrm>
            <a:off x="6604920" y="5661000"/>
            <a:ext cx="703800" cy="531720"/>
            <a:chOff x="6604920" y="5661000"/>
            <a:chExt cx="703800" cy="531720"/>
          </a:xfrm>
        </p:grpSpPr>
        <p:pic>
          <p:nvPicPr>
            <p:cNvPr id="290" name="Рисунок 34" descr="b4a50f2ab260.png"/>
            <p:cNvPicPr/>
            <p:nvPr/>
          </p:nvPicPr>
          <p:blipFill>
            <a:blip r:embed="rId5"/>
            <a:stretch/>
          </p:blipFill>
          <p:spPr>
            <a:xfrm>
              <a:off x="6804000" y="5661000"/>
              <a:ext cx="50472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Box 11"/>
            <p:cNvSpPr/>
            <p:nvPr/>
          </p:nvSpPr>
          <p:spPr>
            <a:xfrm>
              <a:off x="6604920" y="5733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Группа 16"/>
          <p:cNvGrpSpPr/>
          <p:nvPr/>
        </p:nvGrpSpPr>
        <p:grpSpPr>
          <a:xfrm>
            <a:off x="4444200" y="3025800"/>
            <a:ext cx="723600" cy="578880"/>
            <a:chOff x="4444200" y="3025800"/>
            <a:chExt cx="723600" cy="578880"/>
          </a:xfrm>
        </p:grpSpPr>
        <p:pic>
          <p:nvPicPr>
            <p:cNvPr id="293" name="Рисунок 14" descr="b4a2136b4d98.png"/>
            <p:cNvPicPr/>
            <p:nvPr/>
          </p:nvPicPr>
          <p:blipFill>
            <a:blip r:embed="rId6"/>
            <a:stretch/>
          </p:blipFill>
          <p:spPr>
            <a:xfrm rot="20872800">
              <a:off x="4660920" y="3068280"/>
              <a:ext cx="4600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15"/>
            <p:cNvSpPr/>
            <p:nvPr/>
          </p:nvSpPr>
          <p:spPr>
            <a:xfrm>
              <a:off x="4444200" y="3088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9"/>
          <p:cNvGrpSpPr/>
          <p:nvPr/>
        </p:nvGrpSpPr>
        <p:grpSpPr>
          <a:xfrm>
            <a:off x="6317280" y="4365720"/>
            <a:ext cx="702720" cy="544320"/>
            <a:chOff x="6317280" y="4365720"/>
            <a:chExt cx="702720" cy="544320"/>
          </a:xfrm>
        </p:grpSpPr>
        <p:pic>
          <p:nvPicPr>
            <p:cNvPr id="296" name="Рисунок 17" descr="Копия f68358bd761c.JPG"/>
            <p:cNvPicPr/>
            <p:nvPr/>
          </p:nvPicPr>
          <p:blipFill>
            <a:blip r:embed="rId7"/>
            <a:stretch/>
          </p:blipFill>
          <p:spPr>
            <a:xfrm>
              <a:off x="6514560" y="4365720"/>
              <a:ext cx="50544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Box 18"/>
            <p:cNvSpPr/>
            <p:nvPr/>
          </p:nvSpPr>
          <p:spPr>
            <a:xfrm>
              <a:off x="6317280" y="444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29"/>
          <p:cNvGrpSpPr/>
          <p:nvPr/>
        </p:nvGrpSpPr>
        <p:grpSpPr>
          <a:xfrm>
            <a:off x="7399440" y="2133720"/>
            <a:ext cx="988920" cy="950040"/>
            <a:chOff x="7399440" y="2133720"/>
            <a:chExt cx="988920" cy="950040"/>
          </a:xfrm>
        </p:grpSpPr>
        <p:pic>
          <p:nvPicPr>
            <p:cNvPr id="299" name="Рисунок 21" descr="b4a50f2ab260.png"/>
            <p:cNvPicPr/>
            <p:nvPr/>
          </p:nvPicPr>
          <p:blipFill>
            <a:blip r:embed="rId8"/>
            <a:stretch/>
          </p:blipFill>
          <p:spPr>
            <a:xfrm>
              <a:off x="7632360" y="2133720"/>
              <a:ext cx="75600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22"/>
            <p:cNvSpPr/>
            <p:nvPr/>
          </p:nvSpPr>
          <p:spPr>
            <a:xfrm>
              <a:off x="7399440" y="23194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25"/>
          <p:cNvGrpSpPr/>
          <p:nvPr/>
        </p:nvGrpSpPr>
        <p:grpSpPr>
          <a:xfrm>
            <a:off x="783360" y="3284640"/>
            <a:ext cx="980280" cy="977400"/>
            <a:chOff x="783360" y="3284640"/>
            <a:chExt cx="980280" cy="977400"/>
          </a:xfrm>
        </p:grpSpPr>
        <p:pic>
          <p:nvPicPr>
            <p:cNvPr id="302" name="Рисунок 24" descr="b4a50f2ab260.png"/>
            <p:cNvPicPr/>
            <p:nvPr/>
          </p:nvPicPr>
          <p:blipFill>
            <a:blip r:embed="rId9"/>
            <a:stretch/>
          </p:blipFill>
          <p:spPr>
            <a:xfrm>
              <a:off x="984240" y="3284640"/>
              <a:ext cx="77940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25"/>
            <p:cNvSpPr/>
            <p:nvPr/>
          </p:nvSpPr>
          <p:spPr>
            <a:xfrm>
              <a:off x="783360" y="3497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Группа 31"/>
          <p:cNvGrpSpPr/>
          <p:nvPr/>
        </p:nvGrpSpPr>
        <p:grpSpPr>
          <a:xfrm>
            <a:off x="6336720" y="980640"/>
            <a:ext cx="1129680" cy="1001520"/>
            <a:chOff x="6336720" y="980640"/>
            <a:chExt cx="1129680" cy="1001520"/>
          </a:xfrm>
        </p:grpSpPr>
        <p:pic>
          <p:nvPicPr>
            <p:cNvPr id="305" name="Рисунок 27" descr="b4a2136b4d98.png"/>
            <p:cNvPicPr/>
            <p:nvPr/>
          </p:nvPicPr>
          <p:blipFill>
            <a:blip r:embed="rId10"/>
            <a:stretch/>
          </p:blipFill>
          <p:spPr>
            <a:xfrm rot="20902800">
              <a:off x="6636960" y="1048680"/>
              <a:ext cx="7574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28"/>
            <p:cNvSpPr/>
            <p:nvPr/>
          </p:nvSpPr>
          <p:spPr>
            <a:xfrm rot="21442800">
              <a:off x="6353640" y="1206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Группа 32"/>
          <p:cNvGrpSpPr/>
          <p:nvPr/>
        </p:nvGrpSpPr>
        <p:grpSpPr>
          <a:xfrm>
            <a:off x="2151720" y="620640"/>
            <a:ext cx="1051920" cy="963360"/>
            <a:chOff x="2151720" y="620640"/>
            <a:chExt cx="1051920" cy="963360"/>
          </a:xfrm>
        </p:grpSpPr>
        <p:pic>
          <p:nvPicPr>
            <p:cNvPr id="308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396520" y="620640"/>
              <a:ext cx="807120" cy="8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31"/>
            <p:cNvSpPr/>
            <p:nvPr/>
          </p:nvSpPr>
          <p:spPr>
            <a:xfrm>
              <a:off x="2151720" y="819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Группа 33"/>
          <p:cNvGrpSpPr/>
          <p:nvPr/>
        </p:nvGrpSpPr>
        <p:grpSpPr>
          <a:xfrm>
            <a:off x="1252440" y="2133720"/>
            <a:ext cx="1015920" cy="912240"/>
            <a:chOff x="1252440" y="2133720"/>
            <a:chExt cx="1015920" cy="912240"/>
          </a:xfrm>
        </p:grpSpPr>
        <p:pic>
          <p:nvPicPr>
            <p:cNvPr id="311" name="Рисунок 33" descr="b4a50f2ab260.png"/>
            <p:cNvPicPr/>
            <p:nvPr/>
          </p:nvPicPr>
          <p:blipFill>
            <a:blip r:embed="rId12"/>
            <a:stretch/>
          </p:blipFill>
          <p:spPr>
            <a:xfrm flipH="1">
              <a:off x="1493640" y="2133720"/>
              <a:ext cx="774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37"/>
            <p:cNvSpPr/>
            <p:nvPr/>
          </p:nvSpPr>
          <p:spPr>
            <a:xfrm>
              <a:off x="1252440" y="22816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35"/>
          <p:cNvGrpSpPr/>
          <p:nvPr/>
        </p:nvGrpSpPr>
        <p:grpSpPr>
          <a:xfrm>
            <a:off x="7535880" y="3716280"/>
            <a:ext cx="1139760" cy="984600"/>
            <a:chOff x="7535880" y="3716280"/>
            <a:chExt cx="1139760" cy="984600"/>
          </a:xfrm>
        </p:grpSpPr>
        <p:pic>
          <p:nvPicPr>
            <p:cNvPr id="314" name="Рисунок 39" descr="b4a50f2ab260.png"/>
            <p:cNvPicPr/>
            <p:nvPr/>
          </p:nvPicPr>
          <p:blipFill>
            <a:blip r:embed="rId13"/>
            <a:stretch/>
          </p:blipFill>
          <p:spPr>
            <a:xfrm>
              <a:off x="7828920" y="3716280"/>
              <a:ext cx="84672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40"/>
            <p:cNvSpPr/>
            <p:nvPr/>
          </p:nvSpPr>
          <p:spPr>
            <a:xfrm>
              <a:off x="7535880" y="3936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Группа 34"/>
          <p:cNvGrpSpPr/>
          <p:nvPr/>
        </p:nvGrpSpPr>
        <p:grpSpPr>
          <a:xfrm>
            <a:off x="379440" y="4941720"/>
            <a:ext cx="1168200" cy="1031040"/>
            <a:chOff x="379440" y="4941720"/>
            <a:chExt cx="1168200" cy="1031040"/>
          </a:xfrm>
        </p:grpSpPr>
        <p:pic>
          <p:nvPicPr>
            <p:cNvPr id="317" name="Рисунок 42" descr="b4a50f2ab260.png"/>
            <p:cNvPicPr/>
            <p:nvPr/>
          </p:nvPicPr>
          <p:blipFill>
            <a:blip r:embed="rId14"/>
            <a:stretch/>
          </p:blipFill>
          <p:spPr>
            <a:xfrm>
              <a:off x="668520" y="4941720"/>
              <a:ext cx="8791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43"/>
            <p:cNvSpPr/>
            <p:nvPr/>
          </p:nvSpPr>
          <p:spPr>
            <a:xfrm>
              <a:off x="379440" y="52084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37"/>
          <p:cNvGrpSpPr/>
          <p:nvPr/>
        </p:nvGrpSpPr>
        <p:grpSpPr>
          <a:xfrm>
            <a:off x="7389720" y="5229360"/>
            <a:ext cx="998640" cy="986040"/>
            <a:chOff x="7389720" y="5229360"/>
            <a:chExt cx="998640" cy="986040"/>
          </a:xfrm>
        </p:grpSpPr>
        <p:pic>
          <p:nvPicPr>
            <p:cNvPr id="320" name="Рисунок 45" descr="b4a2136b4d98.png"/>
            <p:cNvPicPr/>
            <p:nvPr/>
          </p:nvPicPr>
          <p:blipFill>
            <a:blip r:embed="rId15"/>
            <a:stretch/>
          </p:blipFill>
          <p:spPr>
            <a:xfrm>
              <a:off x="7635960" y="5229360"/>
              <a:ext cx="752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Box 46"/>
            <p:cNvSpPr/>
            <p:nvPr/>
          </p:nvSpPr>
          <p:spPr>
            <a:xfrm>
              <a:off x="7389720" y="5451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Группа 40"/>
          <p:cNvGrpSpPr/>
          <p:nvPr/>
        </p:nvGrpSpPr>
        <p:grpSpPr>
          <a:xfrm>
            <a:off x="4941720" y="476280"/>
            <a:ext cx="998640" cy="914760"/>
            <a:chOff x="4941720" y="476280"/>
            <a:chExt cx="998640" cy="914760"/>
          </a:xfrm>
        </p:grpSpPr>
        <p:pic>
          <p:nvPicPr>
            <p:cNvPr id="323" name="Рисунок 48" descr="b4a2136b4d98.png"/>
            <p:cNvPicPr/>
            <p:nvPr/>
          </p:nvPicPr>
          <p:blipFill>
            <a:blip r:embed="rId16"/>
            <a:stretch/>
          </p:blipFill>
          <p:spPr>
            <a:xfrm>
              <a:off x="5144400" y="476280"/>
              <a:ext cx="79596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49"/>
            <p:cNvSpPr/>
            <p:nvPr/>
          </p:nvSpPr>
          <p:spPr>
            <a:xfrm>
              <a:off x="4941720" y="62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53"/>
          <p:cNvGrpSpPr/>
          <p:nvPr/>
        </p:nvGrpSpPr>
        <p:grpSpPr>
          <a:xfrm>
            <a:off x="3509280" y="4053600"/>
            <a:ext cx="698400" cy="551160"/>
            <a:chOff x="3509280" y="4053600"/>
            <a:chExt cx="698400" cy="551160"/>
          </a:xfrm>
        </p:grpSpPr>
        <p:pic>
          <p:nvPicPr>
            <p:cNvPr id="326" name="Рисунок 51" descr="b4a2136b4d98.png"/>
            <p:cNvPicPr/>
            <p:nvPr/>
          </p:nvPicPr>
          <p:blipFill>
            <a:blip r:embed="rId17"/>
            <a:stretch/>
          </p:blipFill>
          <p:spPr>
            <a:xfrm rot="21201600">
              <a:off x="3750840" y="4076640"/>
              <a:ext cx="4291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Box 52"/>
            <p:cNvSpPr/>
            <p:nvPr/>
          </p:nvSpPr>
          <p:spPr>
            <a:xfrm>
              <a:off x="3509280" y="407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329" name="Рисунок 58" descr="e5f0a948d92b.png"/>
            <p:cNvPicPr/>
            <p:nvPr/>
          </p:nvPicPr>
          <p:blipFill>
            <a:blip r:embed="rId18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59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Bookman Old Style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Управляющая кнопка: домой 54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55" descr="eec7e6d00cb9.png"/>
          <p:cNvPicPr/>
          <p:nvPr/>
        </p:nvPicPr>
        <p:blipFill>
          <a:blip r:embed="rId20"/>
          <a:stretch/>
        </p:blipFill>
        <p:spPr>
          <a:xfrm>
            <a:off x="4140360" y="115920"/>
            <a:ext cx="73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path" presetID="61">
                                  <p:stCondLst>
                                    <p:cond delay="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29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r.wav"/>
                                        </p:tgtEl>
                                      </p:cMediaNode>
                                    </p:audio>
                                    <p:animMotion origin="layout" path="M -1.94444E-006 -0.00532 L 0.32292 -0.00509 E">
                                      <p:cBhvr>
                                        <p:cTn id="29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30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4.81481E-006 L -0.00347 0.38981 E">
                                      <p:cBhvr>
                                        <p:cTn id="311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316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3.61111E-006 -2.22222E-006 L 0.48039 0.13125 E">
                                      <p:cBhvr>
                                        <p:cTn id="321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2.77778E-006 4.07407E-006 L -0.54323 0.26064 E">
                                      <p:cBhvr>
                                        <p:cTn id="328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2.77778E-007 -4.81481E-006 L -0.33073 0.27477 E">
                                      <p:cBhvr>
                                        <p:cTn id="33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5.55556E-007 -1.11111E-006 L 0.38194 0.69583 E">
                                      <p:cBhvr>
                                        <p:cTn id="342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1.38778E-017 -1.85185E-006 L 0.26771 0.03611 E">
                                      <p:cBhvr>
                                        <p:cTn id="349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5" descr="fir-tree-picture-color.png"/>
          <p:cNvPicPr/>
          <p:nvPr/>
        </p:nvPicPr>
        <p:blipFill>
          <a:blip r:embed="rId2"/>
          <a:stretch/>
        </p:blipFill>
        <p:spPr>
          <a:xfrm>
            <a:off x="1619280" y="1268280"/>
            <a:ext cx="5724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9"/>
          <p:cNvGrpSpPr/>
          <p:nvPr/>
        </p:nvGrpSpPr>
        <p:grpSpPr>
          <a:xfrm>
            <a:off x="3148560" y="5013360"/>
            <a:ext cx="702720" cy="503280"/>
            <a:chOff x="3148560" y="5013360"/>
            <a:chExt cx="702720" cy="503280"/>
          </a:xfrm>
        </p:grpSpPr>
        <p:pic>
          <p:nvPicPr>
            <p:cNvPr id="335" name="Рисунок 36" descr="b4a50f2ab260.png"/>
            <p:cNvPicPr/>
            <p:nvPr/>
          </p:nvPicPr>
          <p:blipFill>
            <a:blip r:embed="rId3"/>
            <a:stretch/>
          </p:blipFill>
          <p:spPr>
            <a:xfrm>
              <a:off x="3347640" y="5013360"/>
              <a:ext cx="503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7"/>
            <p:cNvSpPr/>
            <p:nvPr/>
          </p:nvSpPr>
          <p:spPr>
            <a:xfrm>
              <a:off x="3148560" y="501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Группа 12"/>
          <p:cNvGrpSpPr/>
          <p:nvPr/>
        </p:nvGrpSpPr>
        <p:grpSpPr>
          <a:xfrm>
            <a:off x="3724920" y="2205000"/>
            <a:ext cx="702720" cy="459720"/>
            <a:chOff x="3724920" y="2205000"/>
            <a:chExt cx="702720" cy="459720"/>
          </a:xfrm>
        </p:grpSpPr>
        <p:pic>
          <p:nvPicPr>
            <p:cNvPr id="338" name="Рисунок 35" descr="b4a50f2ab260.png"/>
            <p:cNvPicPr/>
            <p:nvPr/>
          </p:nvPicPr>
          <p:blipFill>
            <a:blip r:embed="rId4"/>
            <a:stretch/>
          </p:blipFill>
          <p:spPr>
            <a:xfrm>
              <a:off x="4032000" y="2205000"/>
              <a:ext cx="39564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10"/>
            <p:cNvSpPr/>
            <p:nvPr/>
          </p:nvSpPr>
          <p:spPr>
            <a:xfrm>
              <a:off x="3724920" y="220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Группа 13"/>
          <p:cNvGrpSpPr/>
          <p:nvPr/>
        </p:nvGrpSpPr>
        <p:grpSpPr>
          <a:xfrm>
            <a:off x="5164920" y="5661000"/>
            <a:ext cx="702360" cy="504720"/>
            <a:chOff x="5164920" y="5661000"/>
            <a:chExt cx="702360" cy="504720"/>
          </a:xfrm>
        </p:grpSpPr>
        <p:pic>
          <p:nvPicPr>
            <p:cNvPr id="341" name="Рисунок 34" descr="b4a50f2ab260.png"/>
            <p:cNvPicPr/>
            <p:nvPr/>
          </p:nvPicPr>
          <p:blipFill>
            <a:blip r:embed="rId5"/>
            <a:stretch/>
          </p:blipFill>
          <p:spPr>
            <a:xfrm>
              <a:off x="5374080" y="5661000"/>
              <a:ext cx="4932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11"/>
            <p:cNvSpPr/>
            <p:nvPr/>
          </p:nvSpPr>
          <p:spPr>
            <a:xfrm>
              <a:off x="5164920" y="5661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Группа 16"/>
          <p:cNvGrpSpPr/>
          <p:nvPr/>
        </p:nvGrpSpPr>
        <p:grpSpPr>
          <a:xfrm>
            <a:off x="4660200" y="3068640"/>
            <a:ext cx="694800" cy="531720"/>
            <a:chOff x="4660200" y="3068640"/>
            <a:chExt cx="694800" cy="531720"/>
          </a:xfrm>
        </p:grpSpPr>
        <p:pic>
          <p:nvPicPr>
            <p:cNvPr id="344" name="Рисунок 14" descr="b4a2136b4d98.png"/>
            <p:cNvPicPr/>
            <p:nvPr/>
          </p:nvPicPr>
          <p:blipFill>
            <a:blip r:embed="rId6"/>
            <a:stretch/>
          </p:blipFill>
          <p:spPr>
            <a:xfrm rot="20872800">
              <a:off x="4902480" y="3122640"/>
              <a:ext cx="410760" cy="43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15"/>
            <p:cNvSpPr/>
            <p:nvPr/>
          </p:nvSpPr>
          <p:spPr>
            <a:xfrm>
              <a:off x="4660200" y="306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19"/>
          <p:cNvGrpSpPr/>
          <p:nvPr/>
        </p:nvGrpSpPr>
        <p:grpSpPr>
          <a:xfrm>
            <a:off x="6244200" y="4581360"/>
            <a:ext cx="631440" cy="459720"/>
            <a:chOff x="6244200" y="4581360"/>
            <a:chExt cx="631440" cy="459720"/>
          </a:xfrm>
        </p:grpSpPr>
        <p:pic>
          <p:nvPicPr>
            <p:cNvPr id="347" name="Рисунок 17" descr="Копия f68358bd761c.JPG"/>
            <p:cNvPicPr/>
            <p:nvPr/>
          </p:nvPicPr>
          <p:blipFill>
            <a:blip r:embed="rId7"/>
            <a:stretch/>
          </p:blipFill>
          <p:spPr>
            <a:xfrm>
              <a:off x="6500160" y="4581360"/>
              <a:ext cx="3754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18"/>
            <p:cNvSpPr/>
            <p:nvPr/>
          </p:nvSpPr>
          <p:spPr>
            <a:xfrm>
              <a:off x="6244200" y="45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29"/>
          <p:cNvGrpSpPr/>
          <p:nvPr/>
        </p:nvGrpSpPr>
        <p:grpSpPr>
          <a:xfrm>
            <a:off x="7438320" y="2205000"/>
            <a:ext cx="1094400" cy="1008000"/>
            <a:chOff x="7438320" y="2205000"/>
            <a:chExt cx="1094400" cy="1008000"/>
          </a:xfrm>
        </p:grpSpPr>
        <p:pic>
          <p:nvPicPr>
            <p:cNvPr id="350" name="Рисунок 21" descr="b4a50f2ab260.png"/>
            <p:cNvPicPr/>
            <p:nvPr/>
          </p:nvPicPr>
          <p:blipFill>
            <a:blip r:embed="rId8"/>
            <a:stretch/>
          </p:blipFill>
          <p:spPr>
            <a:xfrm>
              <a:off x="7668360" y="2205000"/>
              <a:ext cx="8643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22"/>
            <p:cNvSpPr/>
            <p:nvPr/>
          </p:nvSpPr>
          <p:spPr>
            <a:xfrm>
              <a:off x="7438320" y="2415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25"/>
          <p:cNvGrpSpPr/>
          <p:nvPr/>
        </p:nvGrpSpPr>
        <p:grpSpPr>
          <a:xfrm>
            <a:off x="803160" y="3284640"/>
            <a:ext cx="1032120" cy="977400"/>
            <a:chOff x="803160" y="3284640"/>
            <a:chExt cx="1032120" cy="977400"/>
          </a:xfrm>
        </p:grpSpPr>
        <p:pic>
          <p:nvPicPr>
            <p:cNvPr id="353" name="Рисунок 24" descr="b4a50f2ab260.png"/>
            <p:cNvPicPr/>
            <p:nvPr/>
          </p:nvPicPr>
          <p:blipFill>
            <a:blip r:embed="rId9"/>
            <a:stretch/>
          </p:blipFill>
          <p:spPr>
            <a:xfrm>
              <a:off x="1000800" y="3284640"/>
              <a:ext cx="83448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25"/>
            <p:cNvSpPr/>
            <p:nvPr/>
          </p:nvSpPr>
          <p:spPr>
            <a:xfrm>
              <a:off x="803160" y="3497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Группа 31"/>
          <p:cNvGrpSpPr/>
          <p:nvPr/>
        </p:nvGrpSpPr>
        <p:grpSpPr>
          <a:xfrm>
            <a:off x="6344280" y="837000"/>
            <a:ext cx="1221480" cy="1064880"/>
            <a:chOff x="6344280" y="837000"/>
            <a:chExt cx="1221480" cy="1064880"/>
          </a:xfrm>
        </p:grpSpPr>
        <p:pic>
          <p:nvPicPr>
            <p:cNvPr id="356" name="Рисунок 27" descr="b4a2136b4d98.png"/>
            <p:cNvPicPr/>
            <p:nvPr/>
          </p:nvPicPr>
          <p:blipFill>
            <a:blip r:embed="rId10"/>
            <a:stretch/>
          </p:blipFill>
          <p:spPr>
            <a:xfrm rot="20902800">
              <a:off x="6650280" y="911160"/>
              <a:ext cx="831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28"/>
            <p:cNvSpPr/>
            <p:nvPr/>
          </p:nvSpPr>
          <p:spPr>
            <a:xfrm rot="21442800">
              <a:off x="6361200" y="10886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Группа 32"/>
          <p:cNvGrpSpPr/>
          <p:nvPr/>
        </p:nvGrpSpPr>
        <p:grpSpPr>
          <a:xfrm>
            <a:off x="2170440" y="404640"/>
            <a:ext cx="1106280" cy="1056600"/>
            <a:chOff x="2170440" y="404640"/>
            <a:chExt cx="1106280" cy="1056600"/>
          </a:xfrm>
        </p:grpSpPr>
        <p:pic>
          <p:nvPicPr>
            <p:cNvPr id="359" name="Рисунок 30" descr="b4a50f2ab260.png"/>
            <p:cNvPicPr/>
            <p:nvPr/>
          </p:nvPicPr>
          <p:blipFill>
            <a:blip r:embed="rId11"/>
            <a:stretch/>
          </p:blipFill>
          <p:spPr>
            <a:xfrm>
              <a:off x="2414880" y="404640"/>
              <a:ext cx="861840" cy="105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31"/>
            <p:cNvSpPr/>
            <p:nvPr/>
          </p:nvSpPr>
          <p:spPr>
            <a:xfrm>
              <a:off x="2170440" y="648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33"/>
          <p:cNvGrpSpPr/>
          <p:nvPr/>
        </p:nvGrpSpPr>
        <p:grpSpPr>
          <a:xfrm>
            <a:off x="1269720" y="1989000"/>
            <a:ext cx="1070280" cy="939600"/>
            <a:chOff x="1269720" y="1989000"/>
            <a:chExt cx="1070280" cy="939600"/>
          </a:xfrm>
        </p:grpSpPr>
        <p:pic>
          <p:nvPicPr>
            <p:cNvPr id="362" name="Рисунок 33" descr="b4a50f2ab260.png"/>
            <p:cNvPicPr/>
            <p:nvPr/>
          </p:nvPicPr>
          <p:blipFill>
            <a:blip r:embed="rId12"/>
            <a:stretch/>
          </p:blipFill>
          <p:spPr>
            <a:xfrm flipH="1">
              <a:off x="1510560" y="1989000"/>
              <a:ext cx="82944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37"/>
            <p:cNvSpPr/>
            <p:nvPr/>
          </p:nvSpPr>
          <p:spPr>
            <a:xfrm>
              <a:off x="1269720" y="2164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35"/>
          <p:cNvGrpSpPr/>
          <p:nvPr/>
        </p:nvGrpSpPr>
        <p:grpSpPr>
          <a:xfrm>
            <a:off x="7535880" y="3573360"/>
            <a:ext cx="1139760" cy="1079640"/>
            <a:chOff x="7535880" y="3573360"/>
            <a:chExt cx="1139760" cy="1079640"/>
          </a:xfrm>
        </p:grpSpPr>
        <p:pic>
          <p:nvPicPr>
            <p:cNvPr id="365" name="Рисунок 39" descr="b4a50f2ab260.png"/>
            <p:cNvPicPr/>
            <p:nvPr/>
          </p:nvPicPr>
          <p:blipFill>
            <a:blip r:embed="rId13"/>
            <a:stretch/>
          </p:blipFill>
          <p:spPr>
            <a:xfrm>
              <a:off x="7828920" y="3573360"/>
              <a:ext cx="846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Box 40"/>
            <p:cNvSpPr/>
            <p:nvPr/>
          </p:nvSpPr>
          <p:spPr>
            <a:xfrm>
              <a:off x="7535880" y="38271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Группа 34"/>
          <p:cNvGrpSpPr/>
          <p:nvPr/>
        </p:nvGrpSpPr>
        <p:grpSpPr>
          <a:xfrm>
            <a:off x="434880" y="4869000"/>
            <a:ext cx="1112760" cy="1000080"/>
            <a:chOff x="434880" y="4869000"/>
            <a:chExt cx="1112760" cy="1000080"/>
          </a:xfrm>
        </p:grpSpPr>
        <p:pic>
          <p:nvPicPr>
            <p:cNvPr id="368" name="Рисунок 42" descr="b4a50f2ab260.png"/>
            <p:cNvPicPr/>
            <p:nvPr/>
          </p:nvPicPr>
          <p:blipFill>
            <a:blip r:embed="rId14"/>
            <a:stretch/>
          </p:blipFill>
          <p:spPr>
            <a:xfrm>
              <a:off x="668520" y="4869000"/>
              <a:ext cx="8791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43"/>
            <p:cNvSpPr/>
            <p:nvPr/>
          </p:nvSpPr>
          <p:spPr>
            <a:xfrm>
              <a:off x="434880" y="5151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Группа 37"/>
          <p:cNvGrpSpPr/>
          <p:nvPr/>
        </p:nvGrpSpPr>
        <p:grpSpPr>
          <a:xfrm>
            <a:off x="7426800" y="5084640"/>
            <a:ext cx="1105920" cy="1108080"/>
            <a:chOff x="7426800" y="5084640"/>
            <a:chExt cx="1105920" cy="1108080"/>
          </a:xfrm>
        </p:grpSpPr>
        <p:pic>
          <p:nvPicPr>
            <p:cNvPr id="371" name="Рисунок 45" descr="b4a2136b4d98.png"/>
            <p:cNvPicPr/>
            <p:nvPr/>
          </p:nvPicPr>
          <p:blipFill>
            <a:blip r:embed="rId15"/>
            <a:stretch/>
          </p:blipFill>
          <p:spPr>
            <a:xfrm>
              <a:off x="7672680" y="5084640"/>
              <a:ext cx="8600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46"/>
            <p:cNvSpPr/>
            <p:nvPr/>
          </p:nvSpPr>
          <p:spPr>
            <a:xfrm>
              <a:off x="7426800" y="53395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Группа 40"/>
          <p:cNvGrpSpPr/>
          <p:nvPr/>
        </p:nvGrpSpPr>
        <p:grpSpPr>
          <a:xfrm>
            <a:off x="4978800" y="333360"/>
            <a:ext cx="1105920" cy="968400"/>
            <a:chOff x="4978800" y="333360"/>
            <a:chExt cx="1105920" cy="968400"/>
          </a:xfrm>
        </p:grpSpPr>
        <p:pic>
          <p:nvPicPr>
            <p:cNvPr id="374" name="Рисунок 48" descr="b4a2136b4d98.png"/>
            <p:cNvPicPr/>
            <p:nvPr/>
          </p:nvPicPr>
          <p:blipFill>
            <a:blip r:embed="rId16"/>
            <a:stretch/>
          </p:blipFill>
          <p:spPr>
            <a:xfrm>
              <a:off x="5175000" y="333360"/>
              <a:ext cx="9097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Box 49"/>
            <p:cNvSpPr/>
            <p:nvPr/>
          </p:nvSpPr>
          <p:spPr>
            <a:xfrm>
              <a:off x="4978800" y="509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Группа 53"/>
          <p:cNvGrpSpPr/>
          <p:nvPr/>
        </p:nvGrpSpPr>
        <p:grpSpPr>
          <a:xfrm>
            <a:off x="3508920" y="4127040"/>
            <a:ext cx="696240" cy="540720"/>
            <a:chOff x="3508920" y="4127040"/>
            <a:chExt cx="696240" cy="540720"/>
          </a:xfrm>
        </p:grpSpPr>
        <p:pic>
          <p:nvPicPr>
            <p:cNvPr id="377" name="Рисунок 51" descr="b4a2136b4d98.png"/>
            <p:cNvPicPr/>
            <p:nvPr/>
          </p:nvPicPr>
          <p:blipFill>
            <a:blip r:embed="rId17"/>
            <a:stretch/>
          </p:blipFill>
          <p:spPr>
            <a:xfrm rot="21201600">
              <a:off x="3758040" y="4149360"/>
              <a:ext cx="4197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2"/>
            <p:cNvSpPr/>
            <p:nvPr/>
          </p:nvSpPr>
          <p:spPr>
            <a:xfrm>
              <a:off x="3508920" y="416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Группа 54"/>
          <p:cNvGrpSpPr/>
          <p:nvPr/>
        </p:nvGrpSpPr>
        <p:grpSpPr>
          <a:xfrm>
            <a:off x="5525280" y="3860640"/>
            <a:ext cx="631080" cy="505080"/>
            <a:chOff x="5525280" y="3860640"/>
            <a:chExt cx="631080" cy="505080"/>
          </a:xfrm>
        </p:grpSpPr>
        <p:pic>
          <p:nvPicPr>
            <p:cNvPr id="380" name="Рисунок 50" descr="b4a2136b4d98.png"/>
            <p:cNvPicPr/>
            <p:nvPr/>
          </p:nvPicPr>
          <p:blipFill>
            <a:blip r:embed="rId18"/>
            <a:stretch/>
          </p:blipFill>
          <p:spPr>
            <a:xfrm>
              <a:off x="5741280" y="3860640"/>
              <a:ext cx="41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Box 53"/>
            <p:cNvSpPr/>
            <p:nvPr/>
          </p:nvSpPr>
          <p:spPr>
            <a:xfrm>
              <a:off x="5525280" y="38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Управляющая кнопка: домой 55">
            <a:hlinkClick r:id="rId19" action="ppaction://hlinksldjump"/>
          </p:cNvPr>
          <p:cNvSpPr/>
          <p:nvPr/>
        </p:nvSpPr>
        <p:spPr>
          <a:xfrm>
            <a:off x="8459640" y="6093000"/>
            <a:ext cx="540000" cy="61092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0920"/>
              <a:gd name="textAreaBottom" fmla="*/ 576000 h 610920"/>
            </a:gdLst>
            <a:ahLst/>
            <a:rect l="textAreaLeft" t="textAreaTop" r="textAreaRight" b="textAreaBottom"/>
            <a:pathLst>
              <a:path w="21600" h="24435">
                <a:moveTo>
                  <a:pt x="0" y="0"/>
                </a:moveTo>
                <a:lnTo>
                  <a:pt x="21600" y="0"/>
                </a:lnTo>
                <a:lnTo>
                  <a:pt x="21600" y="24435"/>
                </a:lnTo>
                <a:lnTo>
                  <a:pt x="0" y="24435"/>
                </a:lnTo>
                <a:close/>
              </a:path>
              <a:path fill="lightenLess" w="21600" h="244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35">
                <a:moveTo>
                  <a:pt x="21600" y="0"/>
                </a:moveTo>
                <a:lnTo>
                  <a:pt x="21600" y="24435"/>
                </a:lnTo>
                <a:lnTo>
                  <a:pt x="20200" y="23035"/>
                </a:lnTo>
                <a:lnTo>
                  <a:pt x="20200" y="1400"/>
                </a:lnTo>
                <a:close/>
              </a:path>
              <a:path fill="darkenLess" w="21600" h="24435">
                <a:moveTo>
                  <a:pt x="21600" y="24435"/>
                </a:moveTo>
                <a:lnTo>
                  <a:pt x="0" y="24435"/>
                </a:lnTo>
                <a:lnTo>
                  <a:pt x="1400" y="23035"/>
                </a:lnTo>
                <a:lnTo>
                  <a:pt x="20200" y="23035"/>
                </a:lnTo>
                <a:close/>
              </a:path>
              <a:path fill="lighten" w="21600" h="24435">
                <a:moveTo>
                  <a:pt x="0" y="244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35"/>
                </a:lnTo>
                <a:close/>
              </a:path>
              <a:path fill="darken" w="21600" h="24435">
                <a:moveTo>
                  <a:pt x="10800" y="5254"/>
                </a:moveTo>
                <a:lnTo>
                  <a:pt x="13376" y="7866"/>
                </a:ln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lnTo>
                  <a:pt x="17763" y="12217"/>
                </a:lnTo>
                <a:lnTo>
                  <a:pt x="16109" y="12217"/>
                </a:lnTo>
                <a:lnTo>
                  <a:pt x="16109" y="19407"/>
                </a:lnTo>
                <a:lnTo>
                  <a:pt x="5491" y="19407"/>
                </a:lnTo>
                <a:lnTo>
                  <a:pt x="5491" y="12217"/>
                </a:lnTo>
                <a:lnTo>
                  <a:pt x="3837" y="12217"/>
                </a:lnTo>
                <a:close/>
              </a:path>
              <a:path fill="darkenLess" w="21600" h="24435">
                <a:moveTo>
                  <a:pt x="13376" y="7866"/>
                </a:moveTo>
                <a:lnTo>
                  <a:pt x="13376" y="6125"/>
                </a:lnTo>
                <a:lnTo>
                  <a:pt x="15152" y="6125"/>
                </a:lnTo>
                <a:lnTo>
                  <a:pt x="15152" y="9641"/>
                </a:lnTo>
                <a:close/>
              </a:path>
              <a:path fill="darkenLess" w="21600" h="24435">
                <a:moveTo>
                  <a:pt x="9877" y="15716"/>
                </a:moveTo>
                <a:lnTo>
                  <a:pt x="11723" y="15716"/>
                </a:lnTo>
                <a:lnTo>
                  <a:pt x="11723" y="19407"/>
                </a:lnTo>
                <a:lnTo>
                  <a:pt x="16109" y="19407"/>
                </a:lnTo>
                <a:lnTo>
                  <a:pt x="16109" y="12217"/>
                </a:lnTo>
                <a:lnTo>
                  <a:pt x="5491" y="12217"/>
                </a:lnTo>
                <a:lnTo>
                  <a:pt x="5491" y="19407"/>
                </a:lnTo>
                <a:lnTo>
                  <a:pt x="9877" y="19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Группа 28"/>
          <p:cNvGrpSpPr/>
          <p:nvPr/>
        </p:nvGrpSpPr>
        <p:grpSpPr>
          <a:xfrm>
            <a:off x="179280" y="260280"/>
            <a:ext cx="1548000" cy="1778040"/>
            <a:chOff x="179280" y="260280"/>
            <a:chExt cx="1548000" cy="1778040"/>
          </a:xfrm>
        </p:grpSpPr>
        <p:pic>
          <p:nvPicPr>
            <p:cNvPr id="384" name="Рисунок 61" descr="e5f0a948d92b.png"/>
            <p:cNvPicPr/>
            <p:nvPr/>
          </p:nvPicPr>
          <p:blipFill>
            <a:blip r:embed="rId20"/>
            <a:stretch/>
          </p:blipFill>
          <p:spPr>
            <a:xfrm>
              <a:off x="179280" y="260280"/>
              <a:ext cx="1548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Box 62"/>
            <p:cNvSpPr/>
            <p:nvPr/>
          </p:nvSpPr>
          <p:spPr>
            <a:xfrm>
              <a:off x="714240" y="692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2060"/>
                  </a:solidFill>
                  <a:latin typeface="Bookman Old Style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Рисунок 63" descr="eec7e6d00cb9.png"/>
          <p:cNvPicPr/>
          <p:nvPr/>
        </p:nvPicPr>
        <p:blipFill>
          <a:blip r:embed="rId21"/>
          <a:stretch/>
        </p:blipFill>
        <p:spPr>
          <a:xfrm>
            <a:off x="4067280" y="0"/>
            <a:ext cx="72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animMotion origin="layout" path="M 0.06441 -0.0875 C 0.03819 -0.05856 0.00868 -0.02963 -0.00434 0.00718 C -0.01754 0.04676 -0.02431 0.09468 -0.03056 0.1419 C -0.03733 0.18935 -0.03056 0.22894 -0.02431 0.27269 C -0.01754 0.31343 -0.00782 0.35672 0.01545 0.39283 C 0.03489 0.42963 0.06788 0.45903 0.10364 0.48102 C 0.13663 0.50232 0.17586 0.51713 0.2151 0.52477 C 0.25434 0.53195 0.29357 0.53195 0.33003 0.52477 C 0.36927 0.51713 0.40503 0.49885 0.43472 0.46968 C 0.46423 0.44422 0.49045 0.41135 0.50347 0.37153 C 0.51996 0.33496 0.52621 0.28449 0.52621 0.24375 C 0.52968 0.20394 0.52621 0.15625 0.50972 0.11644 C 0.49392 0.07986 0.46423 0.05093 0.425 0.03611 C 0.38524 0.02547 0.346 0.04005 0.31979 0.06505 C 0.29705 0.09051 0.28055 0.13125 0.27708 0.17801 C 0.27708 0.22547 0.28055 0.26922 0.29705 0.30579 C 0.31354 0.34236 0.31007 0.34908 0.37552 0.39699 C 0.43472 0.44792 0.49392 0.43357 0.52968 0.43681 C 0.56545 0.43681 0.59514 0.42199 0.6309 0.40764 C 0.67083 0.38982 0.70312 0.35672 0.72656 0.32778 C 0.7493 0.29861 0.75885 0.26204 0.77205 0.20394 C 0.78177 0.1456 0.78177 0.11644 0.78177 0.07222 C 0.78177 0.02847 0.78177 -0.01528 0.78177 -0.05856 E">
                                      <p:cBhvr>
                                        <p:cTn id="357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r.wav"/>
                                        </p:tgtEl>
                                      </p:cMediaNode>
                                    </p:audio>
                                    <p:animMotion origin="layout" path="M 1.11111E-006 -2.59259E-006 L 0.48437 0.49375 E">
                                      <p:cBhvr>
                                        <p:cTn id="36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B7%D0%B2%D0%BE%D0%BD.wav"/>
                                        </p:tgtEl>
                                      </p:cMediaNode>
                                    </p:audio>
                                    <p:animMotion origin="layout" path="M 3.88889E-006 -7.40741E-007 L -0.01181 0.89676 E">
                                      <p:cBhvr>
                                        <p:cTn id="369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r.wav"/>
                                        </p:tgtEl>
                                      </p:cMediaNode>
                                    </p:audio>
                                    <p:animMotion origin="layout" path="M -3.88889E-006 1.48148E-006 L -0.59843 0.16273 E">
                                      <p:cBhvr>
                                        <p:cTn id="374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D0%B7%D0%B2%D0%BE%D0%BD.wav"/>
                                        </p:tgtEl>
                                      </p:cMediaNode>
                                    </p:audio>
                                    <p:animMotion origin="layout" path="M -4.72222E-006 1.11111E-006 L -0.00659 0.16736 E">
                                      <p:cBhvr>
                                        <p:cTn id="381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r.wav"/>
                                        </p:tgtEl>
                                      </p:cMediaNode>
                                    </p:audio>
                                    <p:animMotion origin="layout" path="M -1.11111E-006 3.7037E-006 L 0.20469 0.09444 E">
                                      <p:cBhvr>
                                        <p:cTn id="386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r.wav"/>
                                        </p:tgtEl>
                                      </p:cMediaNode>
                                    </p:audio>
                                    <p:animMotion origin="layout" path="M -3.33333E-006 1.48148E-006 L -0.29531 0.22407 E">
                                      <p:cBhvr>
                                        <p:cTn id="39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r.wav"/>
                                        </p:tgtEl>
                                      </p:cMediaNode>
                                    </p:audio>
                                    <p:animMotion origin="layout" path="M -2.77778E-006 3.33333E-006 L -0.09843 0.49537 E">
                                      <p:cBhvr>
                                        <p:cTn id="40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r.wav"/>
                                        </p:tgtEl>
                                      </p:cMediaNode>
                                    </p:audio>
                                    <p:animMotion origin="layout" path="M -2.5E-006 -3.7037E-007 L 0.15747 0.33357 E">
                                      <p:cBhvr>
                                        <p:cTn id="40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r.wav"/>
                                        </p:tgtEl>
                                      </p:cMediaNode>
                                    </p:audio>
                                    <p:animMotion origin="layout" path="M 1.38778E-017 -1.85185E-006 L 0.41736 -0.44676 E">
                                      <p:cBhvr>
                                        <p:cTn id="414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6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57:53Z</dcterms:created>
  <dc:creator>Paradise</dc:creator>
  <dc:description/>
  <dc:language>en-US</dc:language>
  <cp:lastModifiedBy>User</cp:lastModifiedBy>
  <dcterms:modified xsi:type="dcterms:W3CDTF">2021-11-08T11:43:54Z</dcterms:modified>
  <cp:revision>98</cp:revision>
  <dc:subject/>
  <dc:title>Слайд 1</dc:title>
</cp:coreProperties>
</file>