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045-6ECF-4E83-8266-012A92AE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9AB-B6F0-4C3D-A1A9-A9F8C154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8C2-0456-44E9-A9CA-75013870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F2B-F8A7-4939-A58B-BC387470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440A-E347-497E-A660-BAAAA74A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E988-AE79-4544-BF70-47BF65C2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C82C-6E8B-4CCA-884D-126AE110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0DE3-C514-42FC-9930-FB8D0669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FC07-2FCB-4FED-84E2-1DD4DF5D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8AF1-9287-4140-AF3C-F4A6BAFA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A0A0-D0FC-47F3-87FE-305F8127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7E2-AC64-4854-9C6A-9E75C7FC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4FF1-291F-4DD2-BC62-A4780F64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25BB-7B93-433B-8E00-DD17B6F3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B842-D82D-4B86-8AAE-8B8B251E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2F9E-6BA2-4B1B-9B18-0BB85981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044E-C3EB-43DA-AA44-C2FDE52E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E31-252A-4B2B-9F4E-DDACC591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2D0-106B-4B98-92C6-E9C539E7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284-8637-4B36-8C86-0550D636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358-93A2-468A-BC67-B213ACD6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EC2-F2D6-463B-A50C-C9163C0C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E7A-E7FC-4C90-9888-E0351EC2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080-931B-458B-A734-22A0F1B7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D5CD-4713-42DD-B5FF-AFD65CB93A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5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A847-5559-4917-9720-CDC0C79EFF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99800"/>
            <a:ext cx="6400800" cy="4000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Устные и письменные вычисления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Решение</a:t>
            </a: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задач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Марс и Венер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mars"/>
          <p:cNvPicPr/>
          <p:nvPr/>
        </p:nvPicPr>
        <p:blipFill>
          <a:blip r:embed="rId1"/>
          <a:stretch/>
        </p:blipFill>
        <p:spPr>
          <a:xfrm>
            <a:off x="611280" y="1773360"/>
            <a:ext cx="3889440" cy="3743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Venus"/>
          <p:cNvPicPr/>
          <p:nvPr/>
        </p:nvPicPr>
        <p:blipFill>
          <a:blip r:embed="rId2"/>
          <a:stretch/>
        </p:blipFill>
        <p:spPr>
          <a:xfrm>
            <a:off x="4643280" y="1773360"/>
            <a:ext cx="374508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Проверь!!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023920" y="249876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37"/>
          <p:cNvSpPr/>
          <p:nvPr/>
        </p:nvSpPr>
        <p:spPr>
          <a:xfrm>
            <a:off x="3995640" y="3789360"/>
            <a:ext cx="432000" cy="1511280"/>
          </a:xfrm>
          <a:custGeom>
            <a:avLst/>
            <a:gdLst>
              <a:gd name="textAreaLeft" fmla="*/ 0 w 432000"/>
              <a:gd name="textAreaRight" fmla="*/ 155880 w 432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828800"/>
          <a:ext cx="8136000" cy="3657600"/>
        </p:xfrm>
        <a:graphic>
          <a:graphicData uri="http://schemas.openxmlformats.org/drawingml/2006/table">
            <a:tbl>
              <a:tblPr/>
              <a:tblGrid>
                <a:gridCol w="2735280"/>
                <a:gridCol w="2352600"/>
                <a:gridCol w="3048120"/>
              </a:tblGrid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м/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к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м/ 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ч     ? 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к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Проверь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960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4 : 6 = 4 (км/ч) – время в пути в первый ден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30 : 6 = 5 (км/ч) – время в пути во второй ден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4 + 5 = 9 (ч) – общее врем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Проверь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4 + 30 = 54 (км) – общее расстояни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4 : 6 = 9 (ч) – общее врем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Цель урока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крепить умение   анализировать и решать задачи на дви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Цель урока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крепить умение   анализировать и решать задачи на дви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азгадай закономерность и вставь пропущенное чис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6      12                         45    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4                                  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8    16                          47     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4                                  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2195640" y="184464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8"/>
          <p:cNvSpPr/>
          <p:nvPr/>
        </p:nvSpPr>
        <p:spPr>
          <a:xfrm flipH="1">
            <a:off x="1618920" y="2637000"/>
            <a:ext cx="57636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2195640" y="2637000"/>
            <a:ext cx="64764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2195640" y="3645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6877080" y="198900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6804000" y="3645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5"/>
          <p:cNvSpPr/>
          <p:nvPr/>
        </p:nvSpPr>
        <p:spPr>
          <a:xfrm flipH="1">
            <a:off x="1618920" y="443700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6300360" y="278136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6227280" y="443700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2195640" y="443700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6804000" y="443700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6877080" y="278136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Проверь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6      12                         45    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4                                  2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8    16                          47     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4                                  6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2195640" y="206064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195640" y="386064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877080" y="378936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6804000" y="206064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1618920" y="285264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11"/>
          <p:cNvSpPr/>
          <p:nvPr/>
        </p:nvSpPr>
        <p:spPr>
          <a:xfrm flipH="1">
            <a:off x="1618920" y="465300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6227280" y="285264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3"/>
          <p:cNvSpPr/>
          <p:nvPr/>
        </p:nvSpPr>
        <p:spPr>
          <a:xfrm flipH="1">
            <a:off x="6300360" y="458136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2195640" y="285264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2195640" y="465300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6877080" y="458136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6804000" y="285264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асстояние от Земли до Солн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500 ле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5 век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4" descr="kareta_skazka_2_400"/>
          <p:cNvPicPr/>
          <p:nvPr/>
        </p:nvPicPr>
        <p:blipFill>
          <a:blip r:embed="rId1"/>
          <a:stretch/>
        </p:blipFill>
        <p:spPr>
          <a:xfrm>
            <a:off x="684360" y="1844640"/>
            <a:ext cx="4751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асстояние от Земли до Солн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100 ле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nissan_gt-r"/>
          <p:cNvPicPr/>
          <p:nvPr/>
        </p:nvPicPr>
        <p:blipFill>
          <a:blip r:embed="rId1"/>
          <a:stretch/>
        </p:blipFill>
        <p:spPr>
          <a:xfrm>
            <a:off x="324000" y="1700280"/>
            <a:ext cx="50925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асстояние от Земли до Солн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10 ле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3400" spc="-1" strike="noStrike">
                <a:solidFill>
                  <a:srgbClr val="000000"/>
                </a:solidFill>
                <a:latin typeface="Comic Sans MS"/>
              </a:rPr>
              <a:t>120 месяцев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5" descr="samolet"/>
          <p:cNvPicPr/>
          <p:nvPr/>
        </p:nvPicPr>
        <p:blipFill>
          <a:blip r:embed="rId1"/>
          <a:stretch/>
        </p:blipFill>
        <p:spPr>
          <a:xfrm>
            <a:off x="684360" y="1844640"/>
            <a:ext cx="453528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асстояние от Земли до Солн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1 го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366 дн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6" descr="molniya3"/>
          <p:cNvPicPr/>
          <p:nvPr/>
        </p:nvPicPr>
        <p:blipFill>
          <a:blip r:embed="rId1"/>
          <a:stretch/>
        </p:blipFill>
        <p:spPr>
          <a:xfrm>
            <a:off x="1908000" y="1773360"/>
            <a:ext cx="2813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асстояние от Земли до Солн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8 мину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6ч 52ми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7" descr="IMGOO0K2iON"/>
          <p:cNvPicPr/>
          <p:nvPr/>
        </p:nvPicPr>
        <p:blipFill>
          <a:blip r:embed="rId1"/>
          <a:stretch/>
        </p:blipFill>
        <p:spPr>
          <a:xfrm>
            <a:off x="684360" y="1773360"/>
            <a:ext cx="482436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36:08Z</dcterms:created>
  <dc:creator>Татьяна Орешко</dc:creator>
  <dc:description/>
  <dc:language>en-US</dc:language>
  <cp:lastModifiedBy>Админ</cp:lastModifiedBy>
  <dcterms:modified xsi:type="dcterms:W3CDTF">2021-11-02T16:26:42Z</dcterms:modified>
  <cp:revision>10</cp:revision>
  <dc:subject/>
  <dc:title>Решение задач на движение.</dc:title>
</cp:coreProperties>
</file>