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654-587F-4B34-98AC-B0A7CF33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7AD-231A-4F9D-8A36-600D5D3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044-809E-4F6C-A0E5-BF4327A5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21B-BE6F-462B-AC93-1DBFEB30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6C7A-FCAC-4205-BEE5-2BF850BA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1EB3-73C5-4CC4-8E61-4A09DA8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F0C-9305-438A-B18D-22A187D2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C92A-D6E1-4603-B52D-11449F35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EF8F-875F-49BA-BC62-6448BC1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36EE-5B3B-4F9A-99C4-6A22B6E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D26D-D343-463F-88F7-20417F9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DE6-2566-406B-BCD4-A07DD14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15B1-84CD-4E42-86B5-5B60605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DD78-638E-42F4-A159-9280822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1C6-9B54-4466-BBA7-14C1211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844-7502-442B-8A31-8481A3F0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93E-1D56-4106-9779-D5FF0D5F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0CA-CF54-4611-8EA4-62F8F4C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F62-44D7-4C5B-BF2D-9EBCE85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8CB-1BD7-4AC0-A057-4D94BFA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58F-7EC2-4F21-ACD2-B811174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5E5-DCD6-410D-9DF8-17D010A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B35-1DDC-4B98-8FF4-A40E84F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5E4-8AF2-4B2E-9FFE-A375DE9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0D9-8705-4EE8-8FE1-2DE79E0DC7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182-DE1E-42BD-A0E0-EBA1E8B12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99800"/>
            <a:ext cx="6400800" cy="4000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Устные и письменные вычисления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Решение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зада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Марс и Венер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mars"/>
          <p:cNvPicPr/>
          <p:nvPr/>
        </p:nvPicPr>
        <p:blipFill>
          <a:blip r:embed="rId1"/>
          <a:stretch/>
        </p:blipFill>
        <p:spPr>
          <a:xfrm>
            <a:off x="611280" y="1773360"/>
            <a:ext cx="3889440" cy="374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Venus"/>
          <p:cNvPicPr/>
          <p:nvPr/>
        </p:nvPicPr>
        <p:blipFill>
          <a:blip r:embed="rId2"/>
          <a:stretch/>
        </p:blipFill>
        <p:spPr>
          <a:xfrm>
            <a:off x="4643280" y="1773360"/>
            <a:ext cx="37450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роверь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023920" y="249876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37"/>
          <p:cNvSpPr/>
          <p:nvPr/>
        </p:nvSpPr>
        <p:spPr>
          <a:xfrm>
            <a:off x="3995640" y="3789360"/>
            <a:ext cx="432000" cy="151128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828800"/>
          <a:ext cx="8136000" cy="3657600"/>
        </p:xfrm>
        <a:graphic>
          <a:graphicData uri="http://schemas.openxmlformats.org/drawingml/2006/table">
            <a:tbl>
              <a:tblPr/>
              <a:tblGrid>
                <a:gridCol w="2735280"/>
                <a:gridCol w="2352600"/>
                <a:gridCol w="3048120"/>
              </a:tblGrid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м/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к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м/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ч     ?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к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Проверь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4 : 6 = 4 (км/ч) – время в пути в первый де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0 : 6 = 5 (км/ч) – время в пути во второй де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+ 5 = 9 (ч) – общее врем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Проверь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4 + 30 = 54 (км) – общее расстоя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4 : 6 = 9 (ч) – общее врем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крепить умение   анализировать и решать задачи на дви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крепить умение   анализировать и решать задачи на дви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азгадай закономерность и вставь пропущ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     12                         45    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4                                 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    16                          47     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                                 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2195640" y="1844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1618920" y="2637000"/>
            <a:ext cx="57636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195640" y="2637000"/>
            <a:ext cx="64764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2195640" y="3645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6877080" y="198900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804000" y="3645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5"/>
          <p:cNvSpPr/>
          <p:nvPr/>
        </p:nvSpPr>
        <p:spPr>
          <a:xfrm flipH="1">
            <a:off x="1618920" y="4437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300360" y="278136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6227280" y="4437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2195640" y="4437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6804000" y="4437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6877080" y="278136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Провер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     12                         45    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4                                  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    16                          47     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                                  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195640" y="206064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195640" y="3860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877080" y="37893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804000" y="206064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1618920" y="2852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1618920" y="4653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6227280" y="2852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6300360" y="458136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195640" y="285264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195640" y="4653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6877080" y="458136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6804000" y="285264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0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 век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kareta_skazka_2_400"/>
          <p:cNvPicPr/>
          <p:nvPr/>
        </p:nvPicPr>
        <p:blipFill>
          <a:blip r:embed="rId1"/>
          <a:stretch/>
        </p:blipFill>
        <p:spPr>
          <a:xfrm>
            <a:off x="684360" y="1844640"/>
            <a:ext cx="475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0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nissan_gt-r"/>
          <p:cNvPicPr/>
          <p:nvPr/>
        </p:nvPicPr>
        <p:blipFill>
          <a:blip r:embed="rId1"/>
          <a:stretch/>
        </p:blipFill>
        <p:spPr>
          <a:xfrm>
            <a:off x="324000" y="1700280"/>
            <a:ext cx="5092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120 месяцев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samolet"/>
          <p:cNvPicPr/>
          <p:nvPr/>
        </p:nvPicPr>
        <p:blipFill>
          <a:blip r:embed="rId1"/>
          <a:stretch/>
        </p:blipFill>
        <p:spPr>
          <a:xfrm>
            <a:off x="684360" y="1844640"/>
            <a:ext cx="453528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 г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66 дн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molniya3"/>
          <p:cNvPicPr/>
          <p:nvPr/>
        </p:nvPicPr>
        <p:blipFill>
          <a:blip r:embed="rId1"/>
          <a:stretch/>
        </p:blipFill>
        <p:spPr>
          <a:xfrm>
            <a:off x="1908000" y="1773360"/>
            <a:ext cx="2813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8 мину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6ч 52ми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IMGOO0K2iON"/>
          <p:cNvPicPr/>
          <p:nvPr/>
        </p:nvPicPr>
        <p:blipFill>
          <a:blip r:embed="rId1"/>
          <a:stretch/>
        </p:blipFill>
        <p:spPr>
          <a:xfrm>
            <a:off x="684360" y="1773360"/>
            <a:ext cx="48243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36:08Z</dcterms:created>
  <dc:creator>Татьяна Орешко</dc:creator>
  <dc:description/>
  <dc:language>en-US</dc:language>
  <cp:lastModifiedBy>Админ</cp:lastModifiedBy>
  <dcterms:modified xsi:type="dcterms:W3CDTF">2021-11-02T16:26:42Z</dcterms:modified>
  <cp:revision>10</cp:revision>
  <dc:subject/>
  <dc:title>Решение задач на движение.</dc:title>
</cp:coreProperties>
</file>