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жневартовск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7747-CD1C-4A54-B4E0-8A471CD505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евартовск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A1B-884C-4D8A-A16E-842D99B7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702-96EB-473F-91E6-39D890E3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60B-B913-430B-BFE4-1701EFB4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727-C24C-4A2C-B047-89B99025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7C86-0F34-42C0-A637-D7A3CD5A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840-4504-4A36-B668-EB20A950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D38-ED0D-4282-86C1-EAAC7921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9C59-A934-468E-A981-BDF1987A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494D-26BF-48BB-8833-F5B8ED5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D737-8381-4AD0-9F79-6DEC7701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B91C-DFCA-49A1-858A-5EA703C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13C-1FDF-42E3-BC7B-B29C8A62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C04C-889C-4AC5-B2B0-2276D1D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FACE-4B52-4E2D-99D3-7CEDEED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B0B0-67CA-4B8F-AB87-1A1F9EA1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010-9FFE-43FB-A3AD-01181D2F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598E-4ED1-4E99-8A66-F35622BB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5365-55DF-4704-A88F-D4C87A44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50D8-844D-4A5C-B787-AC8DF4A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4154-4DDE-454D-BE15-C0A0E3A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AB35-4112-42C3-9CE9-90C3C9E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C281-D228-4EDA-A987-2CC5629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F08-6D4B-4B75-87AB-1A6AB82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882B-55F6-4089-A1FE-69DA768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F737-3443-4A18-A741-86B1CD3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7951-0D8C-49E3-BA3C-066D5DA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4EB7-BEDE-47CD-A6B6-0372D9C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8754-0E7A-4E40-83BF-02527053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502E-7CFA-4965-AE17-43610C30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3998-A428-4301-8CC5-F302D0E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D5B8-2DEB-4CE4-8546-D006A072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58F4-F5BB-41B4-B9AB-B3E203A9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182D-C654-4C2C-8C70-3BE77E32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E2B-6AA6-4359-89E5-AC53F580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5E70F-9C20-492A-BB86-1F2D5975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EA00-CADE-4543-A540-5B79B18F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25C0-4C2B-4FD5-9ED6-EAFD35D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5471-5C8C-4F56-A353-8E571D98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9072-1222-446D-A042-73C1906E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0EB5-2A79-484F-9872-17573FA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2F6A-B36B-4545-B8C8-FEAE5819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E3D0-F6C0-4084-BB14-44EBF054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F9AE-0DD4-4D3C-985C-0D01BF02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7250-24A7-4C2F-BD25-CDD9EEF5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E32-26AB-4CE3-A167-A3D44BF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2E02A-FA72-497E-AAC8-CC36126A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987DB-2B7B-47EE-AA2B-BF3C62E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287C-1ADF-44B4-BDC2-66084027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5731-E0AC-4C61-98EF-E7A8276F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25AC-C2A0-479E-A3CD-8ECB5F6D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8CBB-D7CD-4BFB-A351-4B90D59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A387-5493-4E84-AF9C-F4DCF62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E4B03-2C03-4E7B-A243-8EC36AD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0016-103D-485A-A62C-356090BB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9C50-5920-46E2-BDEB-6F1A42C5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8A7-82FF-4D1E-9711-DBAE617A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AF58-4703-4B64-B781-0D00F3FC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0AB4-FD66-457D-BE59-626715AB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AB65B-548E-4346-B0EC-C00600E8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785B2-93B5-4C5E-951F-EB848E6B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6E5F-B01C-40D5-9755-9F8391D4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4EC9-E742-4F8F-B7B0-9180304E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AAED-CD43-415C-B023-26BD59E1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B5378-A784-4A01-8AA8-FE3C935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255B-FC1A-42B9-8C7E-C57D5AC0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4C168-713D-4F67-9279-8ED9BF1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583-5FD3-4DDF-9035-6665A2C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6744-67FC-4102-91C8-2E7D4B1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16D8-1E86-48F2-859A-7F3BC5B8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E0D2-B63D-4124-9D59-4E989322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DD04-34AF-4CB2-864B-E52C8953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2A39-81DA-4B91-A899-6E51AEEC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6FCC-0441-4343-ACFC-91EE51B0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093D-DD42-41E5-9704-295CF4A3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BB2B4-4838-47B6-B79F-FA86209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9D27-1C79-4E4B-85DE-CE22BC56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F82D0-49CB-4233-9FFA-0AA9B99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A6E-AFD8-4573-8E95-991A274D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A659F-E8DB-438C-A5B9-08BB097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5434F-3AFE-4E62-8932-9D81CEA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0FACA-B147-414C-9738-4AAA73E7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E83B0-3152-4C05-B03E-99A00915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3220-0070-4CE2-8408-010B6DE2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79A-16E4-478A-BACF-FAE36C3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4b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f"/>
            </a:solidFill>
            <a:miter/>
          </a:ln>
          <a:effectLst>
            <a:outerShdw dist="12600" dir="5400000" blurRad="0" rotWithShape="0">
              <a:srgbClr val="9b9b9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19A-8433-40FF-96F8-9310A091DB16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FE2-2DAF-4B1E-9CCC-BDCD4B2F8C14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4b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f"/>
            </a:solidFill>
            <a:miter/>
          </a:ln>
          <a:effectLst>
            <a:outerShdw dist="12600" dir="5400000" blurRad="0" rotWithShape="0">
              <a:srgbClr val="9b9b9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398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5955-86BF-459F-8EBA-49A62095DC89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7998-5AED-4A27-BCCB-A89ED5CDD77B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398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6E7-4BEB-4FA6-A24B-195A36970234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03FD-6D85-4C3E-B0D3-308BE511E4CA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B046-58DE-4979-8167-2ADAF79A9EA4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C3D6-C6D3-43A6-8ECD-E4791E616646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67D8-1773-4204-A134-5C8DF732B25B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E1D-6DEA-456B-B905-1652001AD1E3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C81-60CA-483B-A362-8EABF3BDF11D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F36-FB8E-4BCA-9AD8-2B7D05AC8E0D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9c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6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D577-69A6-41AF-A032-ECAF6CFC3681}" type="datetime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Репрезентация эмоций в английском тексте и выбор эквивалентного соответствия при пере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35E-AF9C-4415-917B-0C5EC3BFF29D}" type="slidenum">
              <a:rPr b="0" lang="ru-RU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000" y="1214280"/>
            <a:ext cx="78022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8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ПУНКТУАЦИЯ</a:t>
            </a:r>
            <a:br>
              <a:rPr sz="5400"/>
            </a:br>
            <a:r>
              <a:rPr b="1" i="1" lang="ru-RU" sz="54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800" spc="-1" strike="noStrike">
                <a:solidFill>
                  <a:srgbClr val="55617c"/>
                </a:solidFill>
                <a:latin typeface="Times New Roman"/>
                <a:ea typeface="Times New Roman"/>
              </a:rPr>
              <a:t>в английском языке</a:t>
            </a:r>
            <a:br>
              <a:rPr sz="4800"/>
            </a:br>
            <a:br>
              <a:rPr sz="3200"/>
            </a:br>
            <a:br>
              <a:rPr sz="24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3" descr="Картинка 27 из 4538"/>
          <p:cNvPicPr/>
          <p:nvPr/>
        </p:nvPicPr>
        <p:blipFill>
          <a:blip r:embed="rId1"/>
          <a:stretch/>
        </p:blipFill>
        <p:spPr>
          <a:xfrm>
            <a:off x="2786040" y="2286000"/>
            <a:ext cx="60721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142640" y="404640"/>
            <a:ext cx="77914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ду однородными член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, которые не соединены союзами, ставятся запят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minutes, ten minutes, a quarter of an hour went by, nobody appeared ye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последний однородный член присоединен посредством союз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/ 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запятая ставится и перед этим союзо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ell bicycles, cars, motorcycles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o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s, knives, spoons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042560" y="333000"/>
            <a:ext cx="789156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пятая выделяе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ложение с пояснительными слов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оящее после определяемого существительног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zhnevartovsk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capital of Samotl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wonderful city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 выделяе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астный оборо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velling in Europ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aw a lot of interesting th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143000" y="499680"/>
            <a:ext cx="74995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апятая выделяет обращение в речи, а такж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ачале письма*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r Mrs. Crossma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reminder about invoic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 отличие от русского языка, где в подобных случаях ставится восклицательный зна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пятая ставится в конце письма после заключительной формулы вежливости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д подписью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rely yours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an Fo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142640" y="333360"/>
            <a:ext cx="77914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обозначениях дат запятая отделяе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от год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act was signed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y 25, 2008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пятая стави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 многозначных чисел*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деления класса тысяч от сотен, класса миллионов от сотен тысяч и т.д.:   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, 000, 00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 3, 000, 0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ая не ставится при обозначении многозначных номеров домов, страниц кни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142640" y="40464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Для отделения повествования от прямой ре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ke said, “We shall discuss this subject tomorrow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Для отделения "хвостика" в разделительных вопроса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beautiful day, isn’t i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learnt it, haven’t you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Gill Sans MT"/>
              </a:rPr>
              <a:t>Exclamation Mark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обудительных предложениях (приказ, просьба, совет и т.д.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предложения, как правило, не имеют подлежащего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Let’s go to the cinema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3200" spc="-1" strike="noStrike">
                <a:solidFill>
                  <a:srgbClr val="9a3130"/>
                </a:solidFill>
                <a:latin typeface="Times New Roman"/>
                <a:ea typeface="Times New Roman"/>
              </a:rPr>
              <a:t>Don’t make noise! Keep quie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428760"/>
            <a:ext cx="8143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выражения эмоционального окрас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ются такие предложения со сло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акой (что за…), 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ак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ычно относятся к существительному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 прилагательному или наречию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What a nice </a:t>
            </a: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bag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you have bought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Such 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a  </a:t>
            </a: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wonderful life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How smart you ar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357120"/>
            <a:ext cx="74995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 С восклицательными словами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w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lliant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esome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ch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zing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vo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tastic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endous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believable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eka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ray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sh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ficent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esh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Question Mark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конце прямого вопрос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Do you understand what I sa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hat time is i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выражения неуверенности в написанно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Pythagoras, who died in 497 B.C. (?), was a great mathematician</a:t>
            </a:r>
            <a:r>
              <a:rPr b="0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Dash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999720"/>
            <a:ext cx="81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 неофициальном письм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выражен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ры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го-либо, для выделения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и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го-либо, и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ведения итог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-либ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replied, “I will consider the – No, I won't either”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ввод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авочной информац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re are many doctors – indeed, some surgeons – who have never witnessed a heart transplant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длитель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ени или в расстояни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19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41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– 19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New York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– Mosc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72314"/>
                </a:solidFill>
                <a:latin typeface="Gill Sans MT"/>
              </a:rPr>
              <a:t>Punctuation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en-US" sz="4000" spc="-1" strike="noStrike">
                <a:solidFill>
                  <a:srgbClr val="572314"/>
                </a:solidFill>
                <a:latin typeface="Gill Sans MT"/>
              </a:rPr>
              <a:t>Marks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071720" y="1143000"/>
          <a:ext cx="3643200" cy="5489640"/>
        </p:xfrm>
        <a:graphic>
          <a:graphicData uri="http://schemas.openxmlformats.org/drawingml/2006/table">
            <a:tbl>
              <a:tblPr/>
              <a:tblGrid>
                <a:gridCol w="1000080"/>
                <a:gridCol w="26431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ull stop (International) / period (Americ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estion 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clamation 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mi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yp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5214960" y="1214280"/>
          <a:ext cx="3657600" cy="5326200"/>
        </p:xfrm>
        <a:graphic>
          <a:graphicData uri="http://schemas.openxmlformats.org/drawingml/2006/table">
            <a:tbl>
              <a:tblPr/>
              <a:tblGrid>
                <a:gridCol w="1214280"/>
                <a:gridCol w="24433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–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 )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re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…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lip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‘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postrop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”  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otation marks / speech ma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l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[ ]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quare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Quotation Marks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87280" y="907920"/>
            <a:ext cx="777744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Для передачи прямых цитат и прямой реч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said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“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 am coming tomorrow evening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В названиях сочинений, статей, рассказов, повестей, стихотворений и т.п.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“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Alice in Wonderland " is my favourite sto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Для ввода слов или выражений, сказанные кем-либо другим, или используемых в несколько другом значен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called him "emperor" but he was really just a direc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Apostroph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142640" y="144792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ывает на существите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тяжательном падеж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boy's ha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ax’s letter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omen’s 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щ. мн. ч., оканчивающихся на «s», апостроф ставится в конце сл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boys' h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tudents’ wor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71360" y="476280"/>
            <a:ext cx="7862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ывает время или количеств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n one week's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wo yards' length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зывает на пропуск символов в дат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</a:t>
            </a: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autumn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of ’9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казывает на пропуск букв в слов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e can't go to Moscow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e haven't any ti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042920" y="214200"/>
            <a:ext cx="79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ет на ирландские имена, вроде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O'Neil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O'Case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 перед апострофом означает «внук», поэтом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ать апостроф нельз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множественное число букв или цифр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re are two n’s in this wor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бозначает множественное число слов, у которых по правилу нет формы мн.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You should know all the do's and don't'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Hyphe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440" y="1268280"/>
            <a:ext cx="811836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сле префикса в некоторых случая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префикс не входит в состав слова, когда нужно подчеркнуть префикс и т.п.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e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x-directory 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– бывшее управл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quasi-grammatical </a:t>
            </a:r>
            <a:r>
              <a:rPr b="0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якобы грамматически правиль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сложных числительных (от 21 до 99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wenty-four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fifty-seven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eighty-eigh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071360" y="213840"/>
            <a:ext cx="783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некоторых составных словах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get-together –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ечеринка, сборищ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igh-speed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- высокоскоростно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жду элементами определения в предложении для того, чтобы избежать двусмысл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is a small-businessman.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с используется в случае, когда слово должно быть названо по буквам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-Y-P-H-E-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Ellipsi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1360" y="1447560"/>
            <a:ext cx="786276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ати и прессе многоточие используется дл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ания на пропуск слов в цитируемом абзац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вершения мысли в интригующей (многозначительной) манер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фициальном письме многоточие не используе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Parenthesi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ение уточняющей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wo kings (of Hellas and Sparta) joined forces to organize the games every four years at Olympia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ение авторского отнош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Olympics have a very long history (isn't that interesting?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Brackets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99720" y="981000"/>
            <a:ext cx="79758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зание на то, что необходимо внести незначительные изменения для пояснения или уточнения фа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[mother] was very glad after hearing that news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ение 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сокращённое латинско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к», «именно так»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, что предыдущее неправильное или необычное написание является цитатой, а не нашей ошибко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ary wrote: “I don’n’t [sic] know how to spell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Gill Sans MT"/>
              </a:rPr>
              <a:t>Slash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213920" y="1268280"/>
            <a:ext cx="77202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начении "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Dear Sir/Madam (= Sir or Madam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 will eat meat and/or vegetab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которых сокращения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n/a (not available) – недоступе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w/o (without) – без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 дробя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1/2, </a:t>
            </a: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/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дата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was born on 27/05/2016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Full Stop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972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очка стави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онце предло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очка ставится в конце предложения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ительного по фор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содержащего не вопрос, а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сьбу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kindly let us know your condi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go and look for some chalk for me, pleas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правило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ращени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канчиваются точко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а.м.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s.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,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ключением названий государственных и международных организа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071360" y="549360"/>
            <a:ext cx="75438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значении количества, ставки, скорости (синонимично предлогу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speed limit is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90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km/h.</a:t>
            </a:r>
            <a:br>
              <a:rPr sz="2800"/>
            </a:b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eggs</a:t>
            </a: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 cost $3/doz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тмечаются два варианта из возможны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he pressed the Open/Close butt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бозначение начала новой строки в цитируемом поэтическом произведен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писании в строчк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Semicolon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28440" y="1214280"/>
            <a:ext cx="8034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связи главных предложений, не соединенных союзо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In Russian folklore Baba Yaga appears as an old woman; other times she turnes into a young gir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связи главных предложений, соединенных соединительными наречиям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mo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l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Speeding is illegal; </a:t>
            </a: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f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urthermore</a:t>
            </a: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it is very dangerou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213920" y="428760"/>
            <a:ext cx="77202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внесения ясности в предложения, котор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имеют внутреннюю пунктуацию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e children sing songs together, play in the yard, and use computers in turns; but they call each other names and fight nevertheles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Colon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00080" y="1071360"/>
            <a:ext cx="7934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жду двумя независимыми предложениями, если второе объясняет или продолжает перво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usic is more than something mechanical: it is an expression of deep feeling and ethical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числении однородных членов предложения в официальной ре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Three countries were represented: England, France and Ital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71280" y="142560"/>
            <a:ext cx="7962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д длинной или официальной цитато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He began his speech: "Ladies and Gentlemen…"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указании часов и мину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8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20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а.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указаниях на библейские цитат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John 4:2-3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указаниях города и издательства в библиографических данных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New York: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r>
              <a:rPr b="1" i="1" lang="de-DE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Macmillan, 201</a:t>
            </a:r>
            <a:r>
              <a:rPr b="1" i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5"/>
          <p:cNvSpPr/>
          <p:nvPr/>
        </p:nvSpPr>
        <p:spPr>
          <a:xfrm>
            <a:off x="1214280" y="571680"/>
            <a:ext cx="771552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очка отделя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ое число от десятичной дроб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ты от долла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акие формы, к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st, 2nd, 3rd, 4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c.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t ceter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без 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конце заголовка точка не ст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9720" y="259920"/>
            <a:ext cx="800100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72314"/>
                </a:solidFill>
                <a:latin typeface="Gill Sans MT"/>
              </a:rPr>
              <a:t>Use two commas in the sentence</a:t>
            </a:r>
            <a:br>
              <a:rPr sz="2800"/>
            </a:br>
            <a:r>
              <a:rPr b="0" i="1" lang="en-US" sz="2800" spc="-1" strike="noStrike">
                <a:solidFill>
                  <a:srgbClr val="572314"/>
                </a:solidFill>
                <a:latin typeface="Gill Sans MT"/>
              </a:rPr>
              <a:t> and translate the sentence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4400" spc="-1" strike="noStrike">
                <a:solidFill>
                  <a:srgbClr val="572314"/>
                </a:solidFill>
                <a:latin typeface="Berlin Sans FB Demi"/>
              </a:rPr>
              <a:t>A woman without her man is nothing</a:t>
            </a:r>
            <a:r>
              <a:rPr b="1" i="1" lang="ru-RU" sz="4400" spc="-1" strike="noStrike">
                <a:solidFill>
                  <a:srgbClr val="572314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Panda eats, shoots and leaves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anda walks into a restaurant, sits down and orders a sandwich. After he finishes eating the sandwich, the panda pulls out a gun and shoots the waiter, and then stands up to go. “Hey!” shouts the manager. “Where are you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ing? You just shot m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aiter and you didn’t p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your sandwich!”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858000" y="3857760"/>
            <a:ext cx="197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572314"/>
                </a:solidFill>
                <a:latin typeface="Gill Sans MT"/>
              </a:rPr>
              <a:t>Panda eats, shoots and leaves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anda yells back at th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nager, “Hey man, I a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ANDA! Look it up!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nager opens hi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ctionary and sees th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owing definition for panda: “A tree-dwelling marsupial of Asian origin, characterised by distinct black and white colouring. Eat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oots and leaves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6858000" y="1428840"/>
            <a:ext cx="197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7202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Comma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13920" y="1142640"/>
            <a:ext cx="7720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ятой разделяются части сложносочиненного и сложноподчиненного предложе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question and others are answered in the enclosed background information, which provides practical advice for consumers in coping with their finances.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* При разделении частей в сложном предложени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пятая ставится и перед союзом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lan to be in Moscow on February 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like to discuss the possibility of working with you on this project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Если предложение короткое, запятая может опускать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time to finish now and the students must stop working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2. Вводные слова и выражения</a:t>
            </a:r>
            <a:br>
              <a:rPr sz="39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ыделяются запяты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 cours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contrary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other hand, consequently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urthermor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over, nevertheless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the first place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8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fortunately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 question, however, remains unsettl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vertheless, we shall g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5:41Z</dcterms:created>
  <dc:creator>Admin</dc:creator>
  <dc:description/>
  <dc:language>en-US</dc:language>
  <cp:lastModifiedBy>starkova_li</cp:lastModifiedBy>
  <dcterms:modified xsi:type="dcterms:W3CDTF">2018-10-02T06:41:52Z</dcterms:modified>
  <cp:revision>230</cp:revision>
  <dc:subject/>
  <dc:title>Текст письма. Пунктуация</dc:title>
</cp:coreProperties>
</file>