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жневартовск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1AA5-3524-42CD-B33C-77F03CA8F9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евартовск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A02-3A5B-4385-A2A5-874521B1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804-45B0-4214-925C-A4A5457E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770-4056-46DA-BABF-92E0E8C1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5FD-6290-479C-A60E-84EFD0B0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9D53-6AB6-4E71-BC89-0280CE10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A726-4908-4074-BE42-3A5072AA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A7E9-DE1C-4BDB-92D4-E97E5203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01FC-5FAC-40F9-B813-A088576C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CF77-B70E-424F-B955-809E41FA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68A7-4BBD-4F38-911B-530E7BC8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2780-0BED-45F9-BF92-D914E8D1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73E-9018-4ECB-B66B-58F77C08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82D9-5EA6-482F-862E-C71EC8A9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51A4-1E67-4624-9C2C-55CB0AE3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55E7-031D-4CAF-B2CC-DB575BA6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19D9-71E2-4D45-8147-161BDE85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AC1B-BABA-452E-A616-04F1E284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BB57-2951-4F67-B184-B42C9534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6CFF-081C-4F84-9680-E46B842C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997D-8807-4DBA-90C3-38A26157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C0ACC-0892-4BB3-9931-DC1CEB0E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F8E9-6280-4CD5-A226-6D41DC7C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417-AC6A-4924-8EAB-79952928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E5A58-E04C-4BEF-8370-648A8672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F5885-340F-47FE-B425-3A24254E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D340-8F68-4FCF-8A26-0847FC25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F53B7-45D2-446F-B2CD-CEA889CE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0550D-A499-4ACA-BCCB-ABFEDA25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D52E-8CF1-470E-AADB-4004E098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E129D-50C2-4DDC-9E98-4ED4BFD6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F11D-4DC1-4187-9DD5-532B15BC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E113C-5E90-40A4-B337-3E1DE9D0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83112-A7C3-437D-A66A-871C7903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AC4-1695-4A84-BC15-8933927E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6B5A-51BE-40A3-AB28-22E68437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B2E0F-A9E7-4886-BAE1-47D58F58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73880-E1FD-40CC-911F-EDFBD7D4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77A91-BED0-4461-A9EF-DD43E825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70A77-03A1-41F8-BD07-3D0E0172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955EA-7ECB-4B56-B2FC-032D40D0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6E09F-BBE0-42CF-A66B-DB2EDFD0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651F-BC96-456F-8B55-8FB9EDD5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D7C2-E9AE-4A9F-9049-D9E265DD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F3BCB-6B9C-4787-8CDF-F803819D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4EE-E3A1-4F6E-9D42-50F03A22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9E638-9692-4220-9923-80D24C14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1CDB3-7226-4C56-AF2D-0A53C536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38128-6911-4E98-8204-F9EEB6DD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F30A6-C401-4467-A471-21CB4D37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1F3B3-DB7A-40AF-A0D9-6594D0B0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5D98F-484C-4BCD-8D92-64D45B3E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484CB-CF6C-43D5-9427-F3B9C3BE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E7C9-CA67-48EB-AE59-A3CA05BB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06CEC-4A69-431F-BD33-7C42457F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A7CCF-1E2F-4243-AB2B-4C0596F4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73C-0809-48F2-AEB7-A871CEC7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E52B1-FF0F-46FC-B25E-6300728C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11AE1-D89B-4331-9CC0-5536C125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37B33-65A1-4336-A404-9EA38EFD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52C6D-77A5-4AEA-ABF2-77066CAC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3B6F5-CDAB-4969-917C-B0627FEE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08B63-1FEB-4882-B53B-250D86B9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82E88-144E-424A-8BD6-EE69F9FC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C1D5E-AC57-48A0-ACEB-363D1381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AF833-9AF8-470C-8377-3B64DDFB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BF306-17FD-49D4-9EBB-3A05D531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A5C-E56D-4CBA-BE93-CA346DBF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CB217-2549-4D0B-AFA0-116CF6E6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2E150-99F8-4DE5-85EC-313ACDE2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78522-D6B5-4CAD-B79B-15313879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F2D87-7972-4D11-9228-03E7D35D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1B996-BC4E-40CC-B1B6-E15948FF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07200-13A3-4EF1-B5FB-4A5CB027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B2759-DBD1-4C42-9134-DA5DC0C7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C7FF0-AD6E-475F-BC89-F5C6EB21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0EE58-5113-4B34-ABC8-06F1FBF2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8B09-1CCE-4647-897B-E28B5916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0E6-7D45-4379-8E58-8F0C8E47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F43B2-4E23-468E-9476-B7666937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4CDF5-48F6-47C0-80E6-F5BF104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AA243-22EF-447D-B462-F7CB0509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2DA9B-DE9D-43F5-9795-B41E60FC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72912-8603-4AF4-9DAC-9C91E0BA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C05-0F45-49E3-817C-FD7CE12D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8f8f8">
              <a:alpha val="33000"/>
            </a:srgbClr>
          </a:solidFill>
          <a:ln cap="rnd" w="3240">
            <a:solidFill>
              <a:srgbClr val="b4b4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cecef"/>
            </a:solidFill>
            <a:miter/>
          </a:ln>
          <a:effectLst>
            <a:outerShdw dist="12600" dir="5400000" blurRad="0" rotWithShape="0">
              <a:srgbClr val="9b9b9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8D65-B787-43AB-B58E-3F9DCE86CAE0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41C4-BAE0-4505-903B-F41C6CB6A3EE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66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8f8f8">
              <a:alpha val="33000"/>
            </a:srgbClr>
          </a:solidFill>
          <a:ln cap="rnd" w="3240">
            <a:solidFill>
              <a:srgbClr val="b4b4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cecef"/>
            </a:solidFill>
            <a:miter/>
          </a:ln>
          <a:effectLst>
            <a:outerShdw dist="12600" dir="5400000" blurRad="0" rotWithShape="0">
              <a:srgbClr val="9b9b9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66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d398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076A-9730-4613-B9B6-CF442D600F84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460A-D059-4EEC-B438-1625E3DFBE79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66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d398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D354-3282-4DC7-BA73-3BB8AD29063C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08ED-E4CB-4168-AFDE-B19367244F29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2020-59ED-4CE5-AE41-71279EB5F7A3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5CCF-8FA3-4E1E-A6CD-0E1827795469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66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B366-D121-40A0-9332-5D1097028C21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D3DB-9792-4D96-B2AC-6BF86BDE00FF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6ED1-574C-49E8-BC10-407D90E3624D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E571-064B-4B08-8462-4EF55544B39A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9cd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4d4d6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A43A-DB83-46B9-B07C-D211052E7394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70FF-6BBB-4206-807F-A77D40730F5F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000" y="1214280"/>
            <a:ext cx="78022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5617c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4800" spc="-1" strike="noStrike">
                <a:solidFill>
                  <a:srgbClr val="55617c"/>
                </a:solidFill>
                <a:latin typeface="Times New Roman"/>
                <a:ea typeface="Times New Roman"/>
              </a:rPr>
              <a:t>ПУНКТУАЦИЯ</a:t>
            </a:r>
            <a:br>
              <a:rPr sz="5400"/>
            </a:br>
            <a:r>
              <a:rPr b="1" i="1" lang="ru-RU" sz="5400" spc="-1" strike="noStrike">
                <a:solidFill>
                  <a:srgbClr val="55617c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800" spc="-1" strike="noStrike">
                <a:solidFill>
                  <a:srgbClr val="55617c"/>
                </a:solidFill>
                <a:latin typeface="Times New Roman"/>
                <a:ea typeface="Times New Roman"/>
              </a:rPr>
              <a:t>в английском языке</a:t>
            </a:r>
            <a:br>
              <a:rPr sz="4800"/>
            </a:br>
            <a:br>
              <a:rPr sz="3200"/>
            </a:br>
            <a:br>
              <a:rPr sz="2400"/>
            </a:b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3" descr="Картинка 27 из 4538"/>
          <p:cNvPicPr/>
          <p:nvPr/>
        </p:nvPicPr>
        <p:blipFill>
          <a:blip r:embed="rId1"/>
          <a:stretch/>
        </p:blipFill>
        <p:spPr>
          <a:xfrm>
            <a:off x="2786040" y="2286000"/>
            <a:ext cx="60721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142640" y="404640"/>
            <a:ext cx="779148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ду однородными член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, которые не соединены союзами, ставятся запяты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 minutes, ten minutes, a quarter of an hour went by, nobody appeared ye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последний однородный член присоединен посредством союз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/ o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запятая ставится и перед этим союзом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sell bicycles, cars, motorcycles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ot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ks, knives, spoons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042560" y="333000"/>
            <a:ext cx="789156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апятая выделяет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ложение с пояснительными слов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оящее после определяемого существительного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zhnevartovsk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capital of Samotlo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wonderful city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ятая выделяет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астный оборо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velling in Europ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saw a lot of interesting thing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143000" y="499680"/>
            <a:ext cx="74995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апятая выделяет обращение в речи, а также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начале письма*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r Mrs. Crossma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reminder about invoic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 отличие от русского языка, где в подобных случаях ставится восклицательный зна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Запятая ставится в конце письма после заключительной формулы вежливости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д подписью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rely yours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an Fo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142640" y="333360"/>
            <a:ext cx="779148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 обозначениях дат запятая отделяет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о от год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act was signed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y 25, 2008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Запятая ставитс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утри многозначных чисел*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деления класса тысяч от сотен, класса миллионов от сотен тысяч и т.д.:   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, 000, 000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  3, 000, 00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ятая не ставится при обозначении многозначных номеров домов, страниц кни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142640" y="404640"/>
            <a:ext cx="8001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Для отделения повествования от прямой реч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ke said, “We shall discuss this subject tomorrow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Для отделения "хвостика" в разделительных вопросах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 beautiful day, isn’t i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 learnt it, haven’t you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72314"/>
                </a:solidFill>
                <a:latin typeface="Gill Sans MT"/>
              </a:rPr>
              <a:t>Exclamation Mark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побудительных предложениях (приказ, просьба, совет и т.д.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предложения, как правило, не имеют подлежащего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3200" spc="-1" strike="noStrike">
                <a:solidFill>
                  <a:srgbClr val="9a3130"/>
                </a:solidFill>
                <a:latin typeface="Times New Roman"/>
                <a:ea typeface="Times New Roman"/>
              </a:rPr>
              <a:t>Let’s go to the cinema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a313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3200" spc="-1" strike="noStrike">
                <a:solidFill>
                  <a:srgbClr val="9a3130"/>
                </a:solidFill>
                <a:latin typeface="Times New Roman"/>
                <a:ea typeface="Times New Roman"/>
              </a:rPr>
              <a:t>Don’t make noise! Keep quiet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00080" y="428760"/>
            <a:ext cx="81439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выражения эмоционального окрас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ются такие предложения со слов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акой (что за…), и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ак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at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ычно относятся к существительному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ow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 прилагательному или наречию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What a nice </a:t>
            </a:r>
            <a:r>
              <a:rPr b="1" i="1" lang="en-US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bag</a:t>
            </a:r>
            <a:r>
              <a:rPr b="1" i="1" lang="ru-RU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 you have bought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Such </a:t>
            </a:r>
            <a:r>
              <a:rPr b="1" i="1" lang="ru-RU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a  </a:t>
            </a:r>
            <a:r>
              <a:rPr b="1" i="1" lang="en-US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wonderful life</a:t>
            </a:r>
            <a:r>
              <a:rPr b="1" i="1" lang="ru-RU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How smart you ar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357120"/>
            <a:ext cx="74995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 С восклицательными словами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w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lliant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esome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ch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azing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vo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tastic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endous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believable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eka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oray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sh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ificent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esh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Question Mark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конце прямого вопрос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Do you understand what I say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What time is i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выражения неуверенности в написанном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Pythagoras, who died in 497 B.C. (?), was a great mathematician</a:t>
            </a:r>
            <a:r>
              <a:rPr b="0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i="1" lang="en-US" sz="3900" spc="-1" strike="noStrike">
                <a:solidFill>
                  <a:srgbClr val="572314"/>
                </a:solidFill>
                <a:latin typeface="Gill Sans MT"/>
              </a:rPr>
              <a:t>Dash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999720"/>
            <a:ext cx="81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 неофициальном письм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ля выражен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ры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го-либо, для выделения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и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го-либо, и д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ведения итог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-либо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He replied, “I will consider the – No, I won't either”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ввод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авочной информац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ложени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re are many doctors – indeed, some surgeons – who have never witnessed a heart transplant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я длительност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ени или в расстояни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19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41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– 19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New York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– Moscow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72314"/>
                </a:solidFill>
                <a:latin typeface="Gill Sans MT"/>
              </a:rPr>
              <a:t>Punctuation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en-US" sz="4000" spc="-1" strike="noStrike">
                <a:solidFill>
                  <a:srgbClr val="572314"/>
                </a:solidFill>
                <a:latin typeface="Gill Sans MT"/>
              </a:rPr>
              <a:t>Marks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071720" y="1143000"/>
          <a:ext cx="3643200" cy="5489640"/>
        </p:xfrm>
        <a:graphic>
          <a:graphicData uri="http://schemas.openxmlformats.org/drawingml/2006/table">
            <a:tbl>
              <a:tblPr/>
              <a:tblGrid>
                <a:gridCol w="1000080"/>
                <a:gridCol w="2643120"/>
              </a:tblGrid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ull stop (International) / period (Americ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question m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clamation m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mico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yp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5214960" y="1214280"/>
          <a:ext cx="3657600" cy="5326200"/>
        </p:xfrm>
        <a:graphic>
          <a:graphicData uri="http://schemas.openxmlformats.org/drawingml/2006/table">
            <a:tbl>
              <a:tblPr/>
              <a:tblGrid>
                <a:gridCol w="1214280"/>
                <a:gridCol w="24433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–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 )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renth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…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llip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‘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postrop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”  ”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quotation marks / speech mar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l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[ ]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quare bra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572314"/>
                </a:solidFill>
                <a:latin typeface="Gill Sans MT"/>
              </a:rPr>
              <a:t>Quotation Marks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187280" y="907920"/>
            <a:ext cx="777744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Для передачи прямых цитат и прямой реч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He said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“</a:t>
            </a: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I am coming tomorrow evening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В названиях сочинений, статей, рассказов, повестей, стихотворений и т.п.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“</a:t>
            </a: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Alice in Wonderland " is my favourite sto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Для ввода слов или выражений, сказанные кем-либо другим, или используемых в несколько другом значени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he called him "emperor" but he was really just a direct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Apostroph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142640" y="1447920"/>
            <a:ext cx="779148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казывает на существите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тяжательном падеже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boy's hat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Max’s letter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women’s magaz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ущ. мн. ч., оканчивающихся на «s», апостроф ставится в конце слов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boys' ha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tudents’ wor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071360" y="476280"/>
            <a:ext cx="78627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казывает время или количество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in one week's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wo yards' length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казывает на пропуск символов в дат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he </a:t>
            </a:r>
            <a:r>
              <a:rPr b="1" i="1" lang="en-US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autumn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of ’9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казывает на пропуск букв в слов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We can't go to Moscow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We haven't any tim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042920" y="214200"/>
            <a:ext cx="79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вает на ирландские имена, вроде 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O'Neil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O'Casey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" перед апострофом означает «внук», поэтом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ать апостроф нельз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 множественное число букв или цифр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re are two n’s in this wor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бозначает множественное число слов, у которых по правилу нет формы мн.ч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You should know all the do's and don't'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Hyphen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28440" y="1268280"/>
            <a:ext cx="811836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сле префикса в некоторых случая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префикс не входит в состав слова, когда нужно подчеркнуть префикс и т.п.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e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x-directory </a:t>
            </a: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– бывшее управл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     </a:t>
            </a: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quasi-grammatical </a:t>
            </a:r>
            <a:r>
              <a:rPr b="0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якобы грамматически правильны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сложных числительных (от 21 до 99)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wenty-four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fifty-seven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eighty-eigh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071360" y="213840"/>
            <a:ext cx="783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некоторых составных словах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get-together – 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вечеринка, сборищ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high-speed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- высокоскоростно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жду элементами определения в предложении для того, чтобы избежать двусмысленност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he is a small-businessman.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с используется в случае, когда слово должно быть названо по буквам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H-Y-P-H-E-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Ellipsi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71360" y="1447560"/>
            <a:ext cx="786276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ати и прессе многоточие используется дл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казания на пропуск слов в цитируемом абзац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вершения мысли в интригующей (многозначительной) манер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фициальном письме многоточие не использует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Parenthesi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деление уточняющей информац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wo kings (of Hellas and Sparta) joined forces to organize the games every four years at Olympia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деление авторского отнош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Olympics have a very long history (isn't that interesting?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Bracket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99720" y="981000"/>
            <a:ext cx="797580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казание на то, что необходимо внести незначительные изменения для пояснения или уточнения фак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he [mother] was very glad after hearing that news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деление [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сокращённое латинско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к», «именно так»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[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, что предыдущее неправильное или необычное написание является цитатой, а не нашей ошибко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Mary wrote: “I don’n’t [sic] know how to spell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72314"/>
                </a:solidFill>
                <a:latin typeface="Gill Sans MT"/>
              </a:rPr>
              <a:t>Slash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213920" y="1268280"/>
            <a:ext cx="772020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начении "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Dear Sir/Madam (= Sir or Madam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I will eat meat and/or vegetabl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которых сокращениях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n/a (not available) – недоступе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w/o (without) – без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В дробях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1/2, </a:t>
            </a: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5</a:t>
            </a:r>
            <a:r>
              <a:rPr b="1" i="1" lang="ru-RU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/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датах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he was born on 27/05/2016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Full Stop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9720" y="11426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очка стави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конце предлож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очка ставится в конце предложения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ительного по фор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содержащего не вопрос, а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сьбу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you kindly let us know your condition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you go and look for some chalk for me, plea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правило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кращени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канчиваются точкой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а.м.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mins.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,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s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сключением названий государственных и международных организа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071360" y="549360"/>
            <a:ext cx="754380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значении количества, ставки, скорости (синонимично предлогу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speed limit is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90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km/h.</a:t>
            </a:r>
            <a:br>
              <a:rPr sz="2800"/>
            </a:b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eggs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 cost $3/doze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тмечаются два варианта из возможных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he pressed the Open/Close butt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бозначение начала новой строки в цитируемом поэтическом произведен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писании в строчк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Semicolon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28440" y="1214280"/>
            <a:ext cx="8034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ля связи главных предложений, не соединенных союзом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In Russian folklore Baba Yaga appears as an old woman; other times she turnes into a young girl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связи главных предложений, соединенных соединительными наречиям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mo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quentl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peeding is illegal; </a:t>
            </a:r>
            <a:r>
              <a:rPr b="0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f</a:t>
            </a: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urthermore</a:t>
            </a:r>
            <a:r>
              <a:rPr b="0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it is very dangerous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213920" y="428760"/>
            <a:ext cx="772020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ля внесения ясности в предложения, котор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имеют внутреннюю пунктуацию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children sing songs together, play in the yard, and use computers in turns; but they call each other names and fight nevertheles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572314"/>
                </a:solidFill>
                <a:latin typeface="Gill Sans MT"/>
              </a:rPr>
              <a:t>Colon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00080" y="1071360"/>
            <a:ext cx="7934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ежду двумя независимыми предложениями, если второе объясняет или продолжает перво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Music is more than something mechanical: it is an expression of deep feeling and ethical valu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числении однородных членов предложения в официальной реч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ree countries were represented: England, France and Ital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971280" y="142560"/>
            <a:ext cx="79628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д длинной или официальной цитатой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He began his speech: "Ladies and Gentlemen…"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указании часов и мину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8</a:t>
            </a:r>
            <a:r>
              <a:rPr b="1" i="1" lang="de-DE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: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20</a:t>
            </a:r>
            <a:r>
              <a:rPr b="1" i="1" lang="de-DE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а.</a:t>
            </a:r>
            <a:r>
              <a:rPr b="1" i="1" lang="de-DE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m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указаниях на библейские цитат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John 4:2-3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указаниях города и издательства в библиографических данных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New York: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</a:t>
            </a:r>
            <a:r>
              <a:rPr b="1" i="1" lang="de-DE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Macmillan, 201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5"/>
          <p:cNvSpPr/>
          <p:nvPr/>
        </p:nvSpPr>
        <p:spPr>
          <a:xfrm>
            <a:off x="1214280" y="571680"/>
            <a:ext cx="771552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очка отделяе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ое число от десятичной дроб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нты от долла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акие формы, к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st, 2nd, 3rd, 4t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c.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t ceter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без то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конце заголовка точка не ст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9720" y="259920"/>
            <a:ext cx="8001000" cy="59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72314"/>
                </a:solidFill>
                <a:latin typeface="Gill Sans MT"/>
              </a:rPr>
              <a:t>Use two commas in the sentence</a:t>
            </a:r>
            <a:br>
              <a:rPr sz="2800"/>
            </a:br>
            <a:r>
              <a:rPr b="0" i="1" lang="en-US" sz="2800" spc="-1" strike="noStrike">
                <a:solidFill>
                  <a:srgbClr val="572314"/>
                </a:solidFill>
                <a:latin typeface="Gill Sans MT"/>
              </a:rPr>
              <a:t> and translate the sentence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en-US" sz="4400" spc="-1" strike="noStrike">
                <a:solidFill>
                  <a:srgbClr val="572314"/>
                </a:solidFill>
                <a:latin typeface="Berlin Sans FB Demi"/>
              </a:rPr>
              <a:t>A woman without her man is nothing</a:t>
            </a:r>
            <a:r>
              <a:rPr b="1" i="1" lang="ru-RU" sz="4400" spc="-1" strike="noStrike">
                <a:solidFill>
                  <a:srgbClr val="572314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Panda eats, shoots and leaves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panda walks into a restaurant, sits down and orders a sandwich. After he finishes eating the sandwich, the panda pulls out a gun and shoots the waiter, and then stands up to go. “Hey!” shouts the manager. “Where are you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ing? You just shot m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aiter and you didn’t pa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your sandwich!”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6858000" y="3857760"/>
            <a:ext cx="1971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Panda eats, shoots and leaves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anda yells back at th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nager, “Hey man, I am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PANDA! Look it up!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anager opens hi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ctionary and sees th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llowing definition for panda: “A tree-dwelling marsupial of Asian origin, characterised by distinct black and white colouring. Eats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oots and leaves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6858000" y="1428840"/>
            <a:ext cx="1971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7202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Comma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13920" y="1142640"/>
            <a:ext cx="7720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ятой разделяются части сложносочиненного и сложноподчиненного предложени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question and others are answered in the enclosed background information, which provides practical advice for consumers in coping with their finances. 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* При разделении частей в сложном предложени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пятая ставится и перед союзом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lan to be in Moscow on February 1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like to discuss the possibility of working with you on this projec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Если предложение короткое, запятая может опускать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time to finish now and the students must stop working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2. Вводные слова и выражения</a:t>
            </a:r>
            <a:br>
              <a:rPr sz="39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выделяются запятым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 course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the contrary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the other hand, consequently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urthermore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over, nevertheless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refore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 the first place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fortunately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 question, however, remains unsettled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vertheless, we shall g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5:41Z</dcterms:created>
  <dc:creator>Admin</dc:creator>
  <dc:description/>
  <dc:language>en-US</dc:language>
  <cp:lastModifiedBy>starkova_li</cp:lastModifiedBy>
  <dcterms:modified xsi:type="dcterms:W3CDTF">2018-10-02T06:41:52Z</dcterms:modified>
  <cp:revision>230</cp:revision>
  <dc:subject/>
  <dc:title>Текст письма. Пунктуация</dc:title>
</cp:coreProperties>
</file>