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5DE-3C33-45FD-9A7C-A2F3E4B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2DA-D2E2-4BFD-A7D5-503400F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A41-F10A-4233-A766-932285C3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DF1-8228-4AD1-9DE9-589A124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1EF-7FDE-4840-B7F8-0BF1543E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A01-AD0E-4926-8472-95AC4421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198-56D9-43B2-9D34-D90A1FA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DDB-D927-4C2C-AD65-C739526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C46-7029-453D-AB07-5F34D6D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905-B7CE-442C-9FD3-4B787D0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0F0-886C-483F-8650-5BDB6F1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C6F-98B4-42B4-8E7B-58E60DC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49D-535F-4AB0-B87E-947DF1BA2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022480" cy="1582560"/>
          </a:xfrm>
          <a:prstGeom prst="rect">
            <a:avLst/>
          </a:prstGeom>
          <a:ln w="0">
            <a:noFill/>
          </a:ln>
        </p:spPr>
      </p:pic>
      <p:pic>
        <p:nvPicPr>
          <p:cNvPr id="42" name="Ols" descr="butterfly13"/>
          <p:cNvPicPr/>
          <p:nvPr/>
        </p:nvPicPr>
        <p:blipFill>
          <a:blip r:embed="rId2"/>
          <a:stretch/>
        </p:blipFill>
        <p:spPr>
          <a:xfrm rot="20139000">
            <a:off x="853560" y="245880"/>
            <a:ext cx="151956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2376720" cy="230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1763640" y="1700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Рисуем бабоч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635280" y="378936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ла: Чиркова В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БОУ К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32 -0.05686 C 0.54202 -0.05686 0.70296 0.1202 0.70296 0.33842 C 0.70296 0.5564 0.54202 0.73417 0.34532 0.73417 C 0.1481 0.73417 -0.01216 0.5564 -0.01216 0.33842 C -0.01216 0.1202 0.1481 -0.05686 0.34532 -0.05686 Z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95120" y="115920"/>
            <a:ext cx="445140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4970520" y="1484280"/>
            <a:ext cx="415296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79280" y="93600"/>
            <a:ext cx="4464000" cy="5386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4857840" y="1521000"/>
            <a:ext cx="4286160" cy="519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31680" y="115920"/>
            <a:ext cx="4440240" cy="5429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4695840" y="1700280"/>
            <a:ext cx="4435560" cy="509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395280" y="380880"/>
            <a:ext cx="3753000" cy="609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2"/>
          <a:stretch/>
        </p:blipFill>
        <p:spPr>
          <a:xfrm>
            <a:off x="4546440" y="588960"/>
            <a:ext cx="419436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395280" y="333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ак рисовать красивую бабочку? Нарисовать бабочку не так сложно как Вам кажется, следуйте примеру на картин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remove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611280" y="54936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асекомых бабочки (чешуекрылые) образуют собственный отряд (Lepidoptera). Их можно узнать по крошечной плоской чешуе, покрывающей крылья. Кроме того, у бабочки есть длинный хоботок, в свернутом состоянии находящийся под головой. Когда бабочки сосут цветочный нектар, они помещают его в крошечные полости. Как и все насекомые, бабочки тоже откладывают яй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2685960" y="2487600"/>
            <a:ext cx="437040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 оценкам энтомологов, на Земле существует около 110 тысяч видов бабоч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395280" y="1154160"/>
            <a:ext cx="1870200" cy="1900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 rot="19519200">
            <a:off x="4870440" y="1509480"/>
            <a:ext cx="1789200" cy="1716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 rot="1032600">
            <a:off x="1910880" y="963360"/>
            <a:ext cx="2673360" cy="2377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4"/>
          <a:stretch/>
        </p:blipFill>
        <p:spPr>
          <a:xfrm>
            <a:off x="6954840" y="1273320"/>
            <a:ext cx="2133720" cy="1662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5"/>
          <a:stretch/>
        </p:blipFill>
        <p:spPr>
          <a:xfrm>
            <a:off x="3784680" y="3687840"/>
            <a:ext cx="2182680" cy="2182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6"/>
          <a:stretch/>
        </p:blipFill>
        <p:spPr>
          <a:xfrm>
            <a:off x="420840" y="3767040"/>
            <a:ext cx="2720880" cy="2024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7"/>
          <a:stretch/>
        </p:blipFill>
        <p:spPr>
          <a:xfrm>
            <a:off x="6291360" y="3687840"/>
            <a:ext cx="276048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539640" y="47628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ображения этих крылатых созданий оставили на фресках египтяне еще 3.5 тысячи лет назад, соотнося их стадии жизни с жизнью человеческой – от зарождения сознания до просветления, воскрешения души. Люди окружали бабочек легендами и мифами. Древние представления о них связаны с самыми главными для человека понятиями: жизнь и смерть, душа, любовь, счас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874800" y="2451240"/>
            <a:ext cx="7394400" cy="415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9640" y="476280"/>
            <a:ext cx="50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 все же самое главное, что дарят нам бабочки, - это чувство радости от любования их удивительной красотой и разнообразием, в них люди находят ту гармонию, к которой они стремят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5567400" y="47628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773440" cy="32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3"/>
          <a:stretch/>
        </p:blipFill>
        <p:spPr>
          <a:xfrm>
            <a:off x="3313080" y="2233440"/>
            <a:ext cx="2079720" cy="1511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4"/>
          <a:stretch/>
        </p:blipFill>
        <p:spPr>
          <a:xfrm>
            <a:off x="4896000" y="3573360"/>
            <a:ext cx="410040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68360" y="476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бочки олицетворяют наши сокровенные мечты. Как хочется быть красивыми, свободными, окрыленными счастьем . Недаром на картинах многих известных художников изображена баб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50920" y="1630440"/>
            <a:ext cx="4122720" cy="5002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4788000" y="1630440"/>
            <a:ext cx="419076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17680" cy="5372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4788000" y="1001880"/>
            <a:ext cx="4140000" cy="534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1332000" y="152280"/>
            <a:ext cx="6778440" cy="649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5:34:57Z</dcterms:created>
  <dc:creator>Чиркова В.С.</dc:creator>
  <dc:description/>
  <dc:language>en-US</dc:language>
  <cp:lastModifiedBy>User</cp:lastModifiedBy>
  <dcterms:modified xsi:type="dcterms:W3CDTF">2021-11-08T22:02:31Z</dcterms:modified>
  <cp:revision>21</cp:revision>
  <dc:subject/>
  <dc:title>Рисуем бабочку</dc:title>
</cp:coreProperties>
</file>