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4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45D-F8DE-4E2B-8BA7-22E85F20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4BD-8A1A-4803-8754-76313FD9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032-F63E-4742-892E-F1519E65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DC9-E576-46D5-BD07-80F1EA8D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64F-1F01-4CE2-9906-58BD126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C5C-7263-4076-8B7C-9F9442C2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1BD-0DD5-4C4E-8444-DB6E94CA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CC3-5FAE-4B4C-A1DE-133E3650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32D-045F-4561-AF2B-E5FDE4B6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95A-C52E-4968-AF09-BD56C37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B2B-F4CC-4B13-97C7-B45B638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BB8-349D-4DFF-9B09-ED09F06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7703-0AEB-4338-A20D-328500660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50.jpeg"/><Relationship Id="rId16" Type="http://schemas.openxmlformats.org/officeDocument/2006/relationships/image" Target="../media/image51.jpeg"/><Relationship Id="rId17" Type="http://schemas.openxmlformats.org/officeDocument/2006/relationships/image" Target="../media/image52.jpeg"/><Relationship Id="rId18" Type="http://schemas.openxmlformats.org/officeDocument/2006/relationships/image" Target="../media/image53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Картинка 20 из 3710"/>
          <p:cNvPicPr/>
          <p:nvPr/>
        </p:nvPicPr>
        <p:blipFill>
          <a:blip r:embed="rId4"/>
          <a:srcRect l="0" t="65669" r="0" b="17487"/>
          <a:stretch/>
        </p:blipFill>
        <p:spPr>
          <a:xfrm>
            <a:off x="2411280" y="404640"/>
            <a:ext cx="4033800" cy="862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23" descr=""/>
          <p:cNvPicPr/>
          <p:nvPr/>
        </p:nvPicPr>
        <p:blipFill>
          <a:blip r:embed="rId5"/>
          <a:stretch/>
        </p:blipFill>
        <p:spPr>
          <a:xfrm>
            <a:off x="682560" y="2266920"/>
            <a:ext cx="62546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357120" y="357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2000160" y="500040"/>
            <a:ext cx="4967280" cy="99864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16" descr=""/>
          <p:cNvPicPr/>
          <p:nvPr/>
        </p:nvPicPr>
        <p:blipFill>
          <a:blip r:embed="rId4"/>
          <a:stretch/>
        </p:blipFill>
        <p:spPr>
          <a:xfrm>
            <a:off x="1852560" y="1420920"/>
            <a:ext cx="5724720" cy="69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500040" y="243612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»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ь, клубок, м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»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ь, седло, ол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»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ист, мак, бу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422800" y="1500120"/>
            <a:ext cx="43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Разложите слова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42960" y="2302920"/>
            <a:ext cx="5572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хлеборезка – режет 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ам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одо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рубоч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исто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357200" y="384120"/>
            <a:ext cx="6500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Разминка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Ну – ка, маленький на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Все выходим в хоров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Я принимаю такое решение 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Переходим все к движ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ри хлопка рук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опаем ног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поп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Ножками под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мы отдых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И на месте все шаг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Мы на месте не сто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Все движения повтор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ри хлопка рук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Топаем ногами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поп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Ножками подрыгаем: 1, 2, 3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мы отдых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И на месте все шаг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А теперь скажу я в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Все садимся по мест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57120" y="5000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WordArt 16" descr=""/>
          <p:cNvPicPr/>
          <p:nvPr/>
        </p:nvPicPr>
        <p:blipFill>
          <a:blip r:embed="rId1"/>
          <a:stretch/>
        </p:blipFill>
        <p:spPr>
          <a:xfrm>
            <a:off x="1494000" y="420840"/>
            <a:ext cx="6229080" cy="871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28760" y="1369080"/>
            <a:ext cx="650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ая буква похожа на жу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ая буква похожа на четверку или перевернутый сту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ой первый звук в слове «Ле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ой первый звук в слове «Дельф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Какая буква похожа на цифру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Айболиту все сперва говорили букву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В старом дереве дупло, но совсем как бук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Для шипенья хороша в алфавите бук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  <a:ea typeface="Calibri"/>
              </a:rPr>
              <a:t>Узнаешь сразу ты её: с двумя глазами бук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https://sovyatka.ru/800/600/https/sun9-46.userapi.com/c857424/v857424140/239c2a/ihQI-gxLWx4.jpg"/>
          <p:cNvPicPr/>
          <p:nvPr/>
        </p:nvPicPr>
        <p:blipFill>
          <a:blip r:embed="rId2"/>
          <a:stretch/>
        </p:blipFill>
        <p:spPr>
          <a:xfrm>
            <a:off x="7286760" y="1357200"/>
            <a:ext cx="815760" cy="824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https://cf2.ppt-online.org/files2/slide/y/ymXkabljTtI4EVuNZBo7UPJ0rq1zsAwp6MK8RDLHe/slide-6.jpg"/>
          <p:cNvPicPr/>
          <p:nvPr/>
        </p:nvPicPr>
        <p:blipFill>
          <a:blip r:embed="rId3"/>
          <a:srcRect l="0" t="17375" r="0" b="23803"/>
          <a:stretch/>
        </p:blipFill>
        <p:spPr>
          <a:xfrm>
            <a:off x="6786720" y="2286000"/>
            <a:ext cx="178596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https://static-s.aa-cdn.net/img/ios/888005703/eca1768988e1655e9dff4e1eafda4daf?v=1"/>
          <p:cNvPicPr/>
          <p:nvPr/>
        </p:nvPicPr>
        <p:blipFill>
          <a:blip r:embed="rId4"/>
          <a:stretch/>
        </p:blipFill>
        <p:spPr>
          <a:xfrm>
            <a:off x="7500960" y="335772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https://ds02.infourok.ru/uploads/ex/0f3d/00033004-9819c6dd/310/img15.jpg"/>
          <p:cNvPicPr/>
          <p:nvPr/>
        </p:nvPicPr>
        <p:blipFill>
          <a:blip r:embed="rId5"/>
          <a:srcRect l="24195" t="54961" r="29837" b="-208"/>
          <a:stretch/>
        </p:blipFill>
        <p:spPr>
          <a:xfrm>
            <a:off x="6215040" y="4357800"/>
            <a:ext cx="135720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https://stihi.ru/pics/2017/12/09/1262.jpg"/>
          <p:cNvPicPr/>
          <p:nvPr/>
        </p:nvPicPr>
        <p:blipFill>
          <a:blip r:embed="rId6"/>
          <a:stretch/>
        </p:blipFill>
        <p:spPr>
          <a:xfrm>
            <a:off x="571680" y="4429080"/>
            <a:ext cx="1368360" cy="149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https://ds05.infourok.ru/uploads/ex/0e67/001111de-095db9a0/hello_html_34aa606b.jpg"/>
          <p:cNvPicPr/>
          <p:nvPr/>
        </p:nvPicPr>
        <p:blipFill>
          <a:blip r:embed="rId7"/>
          <a:stretch/>
        </p:blipFill>
        <p:spPr>
          <a:xfrm>
            <a:off x="2214720" y="5143680"/>
            <a:ext cx="1285560" cy="1164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https://i.pinimg.com/474x/1f/19/74/1f197431823b4f30233c26106bb542d5.jpg"/>
          <p:cNvPicPr/>
          <p:nvPr/>
        </p:nvPicPr>
        <p:blipFill>
          <a:blip r:embed="rId8"/>
          <a:stretch/>
        </p:blipFill>
        <p:spPr>
          <a:xfrm>
            <a:off x="3714840" y="4643280"/>
            <a:ext cx="121428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https://yt3.ggpht.com/ytc/AAUvwni9HIB8rcYzoOfFWcWhWDVfLCz5UzRs_EUf598g=s88-c-k-c0x00ffffff-no-rj"/>
          <p:cNvPicPr/>
          <p:nvPr/>
        </p:nvPicPr>
        <p:blipFill>
          <a:blip r:embed="rId9"/>
          <a:stretch/>
        </p:blipFill>
        <p:spPr>
          <a:xfrm>
            <a:off x="5143680" y="5572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https://ibaka.ru/images/88e24e4d6cc6976fc7d47c36ea073040"/>
          <p:cNvPicPr/>
          <p:nvPr/>
        </p:nvPicPr>
        <p:blipFill>
          <a:blip r:embed="rId10"/>
          <a:stretch/>
        </p:blipFill>
        <p:spPr>
          <a:xfrm>
            <a:off x="7643880" y="5214960"/>
            <a:ext cx="7858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Книга"/>
          <p:cNvPicPr/>
          <p:nvPr/>
        </p:nvPicPr>
        <p:blipFill>
          <a:blip r:embed="rId1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8"/>
          <p:cNvSpPr/>
          <p:nvPr/>
        </p:nvSpPr>
        <p:spPr>
          <a:xfrm>
            <a:off x="2375280" y="150012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Шифровальщик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571680" y="21474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, какие школьные принадлежности вы знаете: ручка, карандаш, тетрадь, дневник, линейка, портфель, ластик, краски, кисточка, ножницы, учеб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14240" y="3571920"/>
          <a:ext cx="7786800" cy="271476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  <a:gridCol w="1297080"/>
                <a:gridCol w="1297080"/>
                <a:gridCol w="1298520"/>
                <a:gridCol w="1298520"/>
              </a:tblGrid>
              <a:tr h="89208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34" descr="https://img1.freepng.ru/20191122/zxs/transparent-fish-fish-cartoon-goldfish-bony-fish-5dd7d378624706.6638309015744254644025.jpg"/>
          <p:cNvPicPr/>
          <p:nvPr/>
        </p:nvPicPr>
        <p:blipFill>
          <a:blip r:embed="rId2"/>
          <a:stretch/>
        </p:blipFill>
        <p:spPr>
          <a:xfrm>
            <a:off x="2286000" y="5494320"/>
            <a:ext cx="857160" cy="658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" descr="https://www.mycharm.ru/data/cache/2017jun/11/54/371315_14569-160x120x.jpg"/>
          <p:cNvPicPr/>
          <p:nvPr/>
        </p:nvPicPr>
        <p:blipFill>
          <a:blip r:embed="rId3"/>
          <a:stretch/>
        </p:blipFill>
        <p:spPr>
          <a:xfrm>
            <a:off x="2143080" y="3643200"/>
            <a:ext cx="971640" cy="723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8" descr="https://apeyron.poisk-chasov.ru/gallery/40/1043327/2326093.jpg"/>
          <p:cNvPicPr/>
          <p:nvPr/>
        </p:nvPicPr>
        <p:blipFill>
          <a:blip r:embed="rId4"/>
          <a:stretch/>
        </p:blipFill>
        <p:spPr>
          <a:xfrm>
            <a:off x="357192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1" descr="https://www.wykop.pl/cdn/c3397992/February_iO4sX1TVvB,q250.jpg"/>
          <p:cNvPicPr/>
          <p:nvPr/>
        </p:nvPicPr>
        <p:blipFill>
          <a:blip r:embed="rId5"/>
          <a:stretch/>
        </p:blipFill>
        <p:spPr>
          <a:xfrm>
            <a:off x="6143760" y="5500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0" descr="http://aroma.wwwtest.ru/wp-content/uploads/2020/04/img13-300x300.jpg"/>
          <p:cNvPicPr/>
          <p:nvPr/>
        </p:nvPicPr>
        <p:blipFill>
          <a:blip r:embed="rId6"/>
          <a:stretch/>
        </p:blipFill>
        <p:spPr>
          <a:xfrm>
            <a:off x="3500280" y="5429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7" descr="https://nukadeti.ru/content/images/static/colorex200x200/2006_3183.jpg"/>
          <p:cNvPicPr/>
          <p:nvPr/>
        </p:nvPicPr>
        <p:blipFill>
          <a:blip r:embed="rId7"/>
          <a:stretch/>
        </p:blipFill>
        <p:spPr>
          <a:xfrm>
            <a:off x="1000080" y="4567320"/>
            <a:ext cx="642960" cy="65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http://aroma.wwwtest.ru/wp-content/uploads/2020/04/img13-300x300.jpg"/>
          <p:cNvPicPr/>
          <p:nvPr/>
        </p:nvPicPr>
        <p:blipFill>
          <a:blip r:embed="rId8"/>
          <a:stretch/>
        </p:blipFill>
        <p:spPr>
          <a:xfrm>
            <a:off x="2286000" y="45720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7" descr="https://i.pinimg.com/736x/a2/a1/51/a2a151e05389dcdab043535ecb7a27e8.jpg"/>
          <p:cNvPicPr/>
          <p:nvPr/>
        </p:nvPicPr>
        <p:blipFill>
          <a:blip r:embed="rId9"/>
          <a:stretch/>
        </p:blipFill>
        <p:spPr>
          <a:xfrm>
            <a:off x="3500280" y="457200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9" descr="https://d2gg9evh47fn9z.cloudfront.net/800px_COLOURBOX5677114.jpg"/>
          <p:cNvPicPr/>
          <p:nvPr/>
        </p:nvPicPr>
        <p:blipFill>
          <a:blip r:embed="rId10"/>
          <a:stretch/>
        </p:blipFill>
        <p:spPr>
          <a:xfrm>
            <a:off x="4929120" y="4572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https://i.pinimg.com/736x/c3/0c/44/c30c447c3949ae847943d26b0e78f7ce--sewing-needles-planner-stickers.jpg"/>
          <p:cNvPicPr/>
          <p:nvPr/>
        </p:nvPicPr>
        <p:blipFill>
          <a:blip r:embed="rId11"/>
          <a:stretch/>
        </p:blipFill>
        <p:spPr>
          <a:xfrm>
            <a:off x="7500960" y="5500800"/>
            <a:ext cx="714240" cy="74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https://www.wykop.pl/cdn/c3397992/February_iO4sX1TVvB,q250.jpg"/>
          <p:cNvPicPr/>
          <p:nvPr/>
        </p:nvPicPr>
        <p:blipFill>
          <a:blip r:embed="rId12"/>
          <a:stretch/>
        </p:blipFill>
        <p:spPr>
          <a:xfrm>
            <a:off x="1000080" y="54291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https://www.wykop.pl/cdn/c3397992/February_iO4sX1TVvB,q250.jpg"/>
          <p:cNvPicPr/>
          <p:nvPr/>
        </p:nvPicPr>
        <p:blipFill>
          <a:blip r:embed="rId13"/>
          <a:stretch/>
        </p:blipFill>
        <p:spPr>
          <a:xfrm>
            <a:off x="7429680" y="4500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2" descr="https://img1.freepng.ru/20191122/zxs/transparent-fish-fish-cartoon-goldfish-bony-fish-5dd7d378624706.6638309015744254644025.jpg"/>
          <p:cNvPicPr/>
          <p:nvPr/>
        </p:nvPicPr>
        <p:blipFill>
          <a:blip r:embed="rId14"/>
          <a:stretch/>
        </p:blipFill>
        <p:spPr>
          <a:xfrm>
            <a:off x="857160" y="3714840"/>
            <a:ext cx="93024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4" descr="http://aroma.wwwtest.ru/wp-content/uploads/2020/04/img13-300x300.jpg"/>
          <p:cNvPicPr/>
          <p:nvPr/>
        </p:nvPicPr>
        <p:blipFill>
          <a:blip r:embed="rId15"/>
          <a:stretch/>
        </p:blipFill>
        <p:spPr>
          <a:xfrm>
            <a:off x="6215040" y="3643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4" descr="https://i.pinimg.com/736x/a2/a1/51/a2a151e05389dcdab043535ecb7a27e8.jpg"/>
          <p:cNvPicPr/>
          <p:nvPr/>
        </p:nvPicPr>
        <p:blipFill>
          <a:blip r:embed="rId16"/>
          <a:stretch/>
        </p:blipFill>
        <p:spPr>
          <a:xfrm>
            <a:off x="4786200" y="5500800"/>
            <a:ext cx="642960" cy="6015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1" descr="https://www.wykop.pl/cdn/c3397992/February_iO4sX1TVvB,q250.jpg"/>
          <p:cNvPicPr/>
          <p:nvPr/>
        </p:nvPicPr>
        <p:blipFill>
          <a:blip r:embed="rId17"/>
          <a:stretch/>
        </p:blipFill>
        <p:spPr>
          <a:xfrm>
            <a:off x="4857840" y="3643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2" descr="https://i.pinimg.com/736x/c3/0c/44/c30c447c3949ae847943d26b0e78f7ce--sewing-needles-planner-stickers.jpg"/>
          <p:cNvPicPr/>
          <p:nvPr/>
        </p:nvPicPr>
        <p:blipFill>
          <a:blip r:embed="rId18"/>
          <a:stretch/>
        </p:blipFill>
        <p:spPr>
          <a:xfrm>
            <a:off x="6215040" y="4643280"/>
            <a:ext cx="64296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Книга"/>
          <p:cNvPicPr/>
          <p:nvPr/>
        </p:nvPicPr>
        <p:blipFill>
          <a:blip r:embed="rId1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p.kindpng.com/picc/s/186-1868480_pens-and-pencils-clip-pen-clipart-transparent-background.png"/>
          <p:cNvPicPr/>
          <p:nvPr/>
        </p:nvPicPr>
        <p:blipFill>
          <a:blip r:embed="rId2"/>
          <a:stretch/>
        </p:blipFill>
        <p:spPr>
          <a:xfrm>
            <a:off x="500040" y="1714680"/>
            <a:ext cx="2357640" cy="2946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s://4.bp.blogspot.com/-688u23O5hII/WnQIQ30YPOI/AAAAAAAACJY/NrWkr3O6YP8EedMtzcYDNzbnVmCm3X6nQCLcBGAs/s320/gomma.jpg"/>
          <p:cNvPicPr/>
          <p:nvPr/>
        </p:nvPicPr>
        <p:blipFill>
          <a:blip r:embed="rId3"/>
          <a:stretch/>
        </p:blipFill>
        <p:spPr>
          <a:xfrm>
            <a:off x="3000240" y="4214880"/>
            <a:ext cx="3048120" cy="2019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s://ds05.infourok.ru/uploads/ex/0f82/00104fa9-22203e8f/img8.jpg"/>
          <p:cNvPicPr/>
          <p:nvPr/>
        </p:nvPicPr>
        <p:blipFill>
          <a:blip r:embed="rId4"/>
          <a:stretch/>
        </p:blipFill>
        <p:spPr>
          <a:xfrm>
            <a:off x="4643280" y="135720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85840" y="357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Книга"/>
          <p:cNvPicPr/>
          <p:nvPr/>
        </p:nvPicPr>
        <p:blipFill>
          <a:blip r:embed="rId1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9"/>
          <p:cNvSpPr txBox="1"/>
          <p:nvPr/>
        </p:nvSpPr>
        <p:spPr>
          <a:xfrm>
            <a:off x="1500120" y="2214720"/>
            <a:ext cx="614376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у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https://ds05.infourok.ru/uploads/ex/0c7d/00052914-3c195f91/img21.jpg"/>
          <p:cNvPicPr/>
          <p:nvPr/>
        </p:nvPicPr>
        <p:blipFill>
          <a:blip r:embed="rId1"/>
          <a:srcRect l="17347" t="31169" r="13523" b="26586"/>
          <a:stretch/>
        </p:blipFill>
        <p:spPr>
          <a:xfrm>
            <a:off x="3929040" y="1857240"/>
            <a:ext cx="5214960" cy="221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s://i.pinimg.com/originals/c5/f0/fe/c5f0fe8b9a6084a92e50e838c51dea89.png"/>
          <p:cNvPicPr/>
          <p:nvPr/>
        </p:nvPicPr>
        <p:blipFill>
          <a:blip r:embed="rId2"/>
          <a:stretch/>
        </p:blipFill>
        <p:spPr>
          <a:xfrm>
            <a:off x="428760" y="571680"/>
            <a:ext cx="34290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1"/>
          <p:cNvSpPr txBox="1"/>
          <p:nvPr/>
        </p:nvSpPr>
        <p:spPr>
          <a:xfrm>
            <a:off x="1428840" y="714240"/>
            <a:ext cx="392904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КИ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6572160" y="1357200"/>
            <a:ext cx="428760" cy="357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ttps://www.transparentpng.com/thumb/paint-brush/8r6A4s-paint-brush-clipart-photo.png"/>
          <p:cNvPicPr/>
          <p:nvPr/>
        </p:nvPicPr>
        <p:blipFill>
          <a:blip r:embed="rId1"/>
          <a:stretch/>
        </p:blipFill>
        <p:spPr>
          <a:xfrm>
            <a:off x="2500200" y="285768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https://ds04.infourok.ru/uploads/ex/08dc/0007e493-f92d7192/1/img28.jpg"/>
          <p:cNvPicPr/>
          <p:nvPr/>
        </p:nvPicPr>
        <p:blipFill>
          <a:blip r:embed="rId1"/>
          <a:srcRect l="27087" t="22562" r="16098" b="42640"/>
          <a:stretch/>
        </p:blipFill>
        <p:spPr>
          <a:xfrm>
            <a:off x="1571760" y="642960"/>
            <a:ext cx="5857920" cy="252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w7.pngwing.com/pngs/922/105/png-transparent-paper-fountain-pen-free-content-hand-painted-pen-watercolor-painting-pencil-hand-thumbnail.png"/>
          <p:cNvPicPr/>
          <p:nvPr/>
        </p:nvPicPr>
        <p:blipFill>
          <a:blip r:embed="rId2"/>
          <a:stretch/>
        </p:blipFill>
        <p:spPr>
          <a:xfrm>
            <a:off x="2714760" y="3319560"/>
            <a:ext cx="35719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6"/>
          <p:cNvSpPr txBox="1"/>
          <p:nvPr/>
        </p:nvSpPr>
        <p:spPr>
          <a:xfrm>
            <a:off x="1571760" y="571680"/>
            <a:ext cx="5715000" cy="67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«Какой? Какая? Какие? »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500040" y="1237680"/>
            <a:ext cx="678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сок из апельсина (какой?) – апельсинов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ровать из дерева (какая?) – деревян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шапка из меха (какая?) – мехов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ольцо из золота (какое?) – золот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увшин из глины (какой?) – глиня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свитер из шерсти (какой?) – шерстя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платок из пуха (какой?) – пухов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убики из пластмассы (какие?) – пластмасс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1e1e"/>
                </a:solidFill>
                <a:latin typeface="Times New Roman"/>
                <a:ea typeface="Times New Roman"/>
              </a:rPr>
              <a:t>- каша из манки (какая?) – ма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sadboga.ru/wp-content/public_images2/b35f01c06f80e178e25476e70e26697f-300x200.jpg"/>
          <p:cNvPicPr/>
          <p:nvPr/>
        </p:nvPicPr>
        <p:blipFill>
          <a:blip r:embed="rId3"/>
          <a:stretch/>
        </p:blipFill>
        <p:spPr>
          <a:xfrm>
            <a:off x="5572080" y="121428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s://yomebel.ru/sites/default/files/styles/245x190/public/90-s-serdcem.jpg?itok=R-wNHKYU"/>
          <p:cNvPicPr/>
          <p:nvPr/>
        </p:nvPicPr>
        <p:blipFill>
          <a:blip r:embed="rId4"/>
          <a:stretch/>
        </p:blipFill>
        <p:spPr>
          <a:xfrm>
            <a:off x="7286760" y="1714680"/>
            <a:ext cx="1047600" cy="812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https://mksfur.ru/wp-content/uploads/2018/04/Kaminsky_148-233x300.jpg"/>
          <p:cNvPicPr/>
          <p:nvPr/>
        </p:nvPicPr>
        <p:blipFill>
          <a:blip r:embed="rId5"/>
          <a:srcRect l="0" t="11940" r="0" b="10376"/>
          <a:stretch/>
        </p:blipFill>
        <p:spPr>
          <a:xfrm>
            <a:off x="5286240" y="221472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https://proza.ru/pics/2017/06/20/1917.jpg"/>
          <p:cNvPicPr/>
          <p:nvPr/>
        </p:nvPicPr>
        <p:blipFill>
          <a:blip r:embed="rId6"/>
          <a:srcRect l="11766" t="5896" r="11766" b="17662"/>
          <a:stretch/>
        </p:blipFill>
        <p:spPr>
          <a:xfrm>
            <a:off x="6500880" y="25718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https://www.ssevera.ru/published/publicdata/SSEVMDB/attachments/SC/products_pictures/molochnik-no2-4_thm.jpg"/>
          <p:cNvPicPr/>
          <p:nvPr/>
        </p:nvPicPr>
        <p:blipFill>
          <a:blip r:embed="rId7"/>
          <a:stretch/>
        </p:blipFill>
        <p:spPr>
          <a:xfrm>
            <a:off x="735804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https://80.img.avito.st/208x156/8688834880.jpg"/>
          <p:cNvPicPr/>
          <p:nvPr/>
        </p:nvPicPr>
        <p:blipFill>
          <a:blip r:embed="rId8"/>
          <a:stretch/>
        </p:blipFill>
        <p:spPr>
          <a:xfrm>
            <a:off x="5500800" y="3857760"/>
            <a:ext cx="1238040" cy="92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https://domsrub86.ru/wp-content/uploads/2019/09/28db60a15f11c2b65bed273675804769.jpeg"/>
          <p:cNvPicPr/>
          <p:nvPr/>
        </p:nvPicPr>
        <p:blipFill>
          <a:blip r:embed="rId9"/>
          <a:stretch/>
        </p:blipFill>
        <p:spPr>
          <a:xfrm>
            <a:off x="7000920" y="4572000"/>
            <a:ext cx="1285920" cy="97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https://63pokupki.fra1.cdn.digitaloceanspaces.com/item/x512/44718a5119a38536bcf555c532fe777bf7tfcc2nk7v087jz.jpg"/>
          <p:cNvPicPr/>
          <p:nvPr/>
        </p:nvPicPr>
        <p:blipFill>
          <a:blip r:embed="rId10"/>
          <a:stretch/>
        </p:blipFill>
        <p:spPr>
          <a:xfrm>
            <a:off x="6072120" y="52149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https://pp.userapi.com/c850124/v850124651/10bcf/Fs8YWVxPhEo.jpg"/>
          <p:cNvPicPr/>
          <p:nvPr/>
        </p:nvPicPr>
        <p:blipFill>
          <a:blip r:embed="rId11"/>
          <a:srcRect l="0" t="7843" r="0" b="13732"/>
          <a:stretch/>
        </p:blipFill>
        <p:spPr>
          <a:xfrm>
            <a:off x="7072200" y="5786280"/>
            <a:ext cx="12146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6" name="WordArt 16"/>
          <p:cNvSpPr txBox="1"/>
          <p:nvPr/>
        </p:nvSpPr>
        <p:spPr>
          <a:xfrm>
            <a:off x="1643040" y="1413000"/>
            <a:ext cx="571500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«Назови одним словом»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42960" y="2436120"/>
            <a:ext cx="657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, стул, кровать, шкаф, диван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б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, муравей, комар, оса, жук, богомол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, осень, зима, весна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рец, снегирь, сова, сокол, соловей, сорока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, поезд, катер, мотоцикл, самос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, день, вечер, ноч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асти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357120" y="357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572160" y="3714840"/>
            <a:ext cx="15811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s://7960777a-2fd1-4b07-8bbb-896e98c4659c.selcdn.net/upload/prod_add3/174/product-343174-1.jpg"/>
          <p:cNvPicPr/>
          <p:nvPr/>
        </p:nvPicPr>
        <p:blipFill>
          <a:blip r:embed="rId2"/>
          <a:stretch/>
        </p:blipFill>
        <p:spPr>
          <a:xfrm>
            <a:off x="785880" y="571680"/>
            <a:ext cx="3429000" cy="297324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  <p:pic>
        <p:nvPicPr>
          <p:cNvPr id="92" name="Picture 4" descr="https://i.pinimg.com/originals/cc/2a/a8/cc2aa84000f72169168d3c421284ea75.jpg"/>
          <p:cNvPicPr/>
          <p:nvPr/>
        </p:nvPicPr>
        <p:blipFill>
          <a:blip r:embed="rId3"/>
          <a:srcRect l="3573" t="5059" r="1166" b="14015"/>
          <a:stretch/>
        </p:blipFill>
        <p:spPr>
          <a:xfrm>
            <a:off x="2000160" y="3714840"/>
            <a:ext cx="4214880" cy="2528640"/>
          </a:xfrm>
          <a:prstGeom prst="rect">
            <a:avLst/>
          </a:prstGeom>
          <a:ln w="28440">
            <a:solidFill>
              <a:srgbClr val="0000e6"/>
            </a:solidFill>
            <a:miter/>
          </a:ln>
        </p:spPr>
      </p:pic>
      <p:pic>
        <p:nvPicPr>
          <p:cNvPr id="93" name="Picture 6" descr="https://image.winudf.com/v2/image1/Y29tLndoaXNwZXJhcnRzLmtpZHMuam91cm5hbC5kZW1vMDAyNl9zY3JlZW5fYXJfMF8xNTY1NjA5MTQ4XzAxOA/screen-0.jpg?h=500&amp;fakeurl=1&amp;type=.jpg"/>
          <p:cNvPicPr/>
          <p:nvPr/>
        </p:nvPicPr>
        <p:blipFill>
          <a:blip r:embed="rId4"/>
          <a:srcRect l="12174" t="9003" r="13858" b="11497"/>
          <a:stretch/>
        </p:blipFill>
        <p:spPr>
          <a:xfrm>
            <a:off x="4357800" y="571680"/>
            <a:ext cx="4000320" cy="297000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7143840" y="3929040"/>
            <a:ext cx="1433520" cy="20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02.fotocdn.net/s123/07039dd9bbaba01f/public_pin_l/2817672012.jpg"/>
          <p:cNvPicPr/>
          <p:nvPr/>
        </p:nvPicPr>
        <p:blipFill>
          <a:blip r:embed="rId2"/>
          <a:stretch/>
        </p:blipFill>
        <p:spPr>
          <a:xfrm>
            <a:off x="785880" y="642960"/>
            <a:ext cx="3714840" cy="262584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  <p:pic>
        <p:nvPicPr>
          <p:cNvPr id="98" name="Picture 7" descr="https://1.bp.blogspot.com/-hVb0AGvUfss/X6bfzfDMx4I/AAAAAAAAETA/XcJ26tFz9-8APBA7KQ5nXdMEj89CNyELgCLcBGAsYHQ/s1280/181949.jpg"/>
          <p:cNvPicPr/>
          <p:nvPr/>
        </p:nvPicPr>
        <p:blipFill>
          <a:blip r:embed="rId3"/>
          <a:stretch/>
        </p:blipFill>
        <p:spPr>
          <a:xfrm>
            <a:off x="2143080" y="3500280"/>
            <a:ext cx="4952880" cy="278640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  <p:pic>
        <p:nvPicPr>
          <p:cNvPr id="99" name="Picture 9" descr="https://sun9-47.userapi.com/c857524/v857524407/1bafe5/Nj8LOO5bchI.jpg"/>
          <p:cNvPicPr/>
          <p:nvPr/>
        </p:nvPicPr>
        <p:blipFill>
          <a:blip r:embed="rId4"/>
          <a:stretch/>
        </p:blipFill>
        <p:spPr>
          <a:xfrm>
            <a:off x="5072040" y="642960"/>
            <a:ext cx="3357720" cy="2598840"/>
          </a:xfrm>
          <a:prstGeom prst="rect">
            <a:avLst/>
          </a:prstGeom>
          <a:ln w="38160">
            <a:solidFill>
              <a:srgbClr val="0000e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Пользователь</cp:lastModifiedBy>
  <dcterms:modified xsi:type="dcterms:W3CDTF">2021-08-31T09:18:58Z</dcterms:modified>
  <cp:revision>28</cp:revision>
  <dc:subject/>
  <dc:title>Слайд 1</dc:title>
</cp:coreProperties>
</file>