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F0A5-CDD5-4157-B860-97FE45782C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E050-5248-483F-811D-A609B7EB1DE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F12A-EEE0-4A1F-AA7F-7C3D160E4B8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CF3A-DA87-4A28-82F5-98F3C68F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006-F3AC-4FB2-B396-A2AFFBFA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4EB-5964-43E4-A7EE-E8AFE7C9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CA0-E47A-4C3A-92F9-0D9BF1A7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282B-984D-4169-9682-95FE448D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B719-87AA-4657-A13E-E978C01C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AAAA-8D42-48B3-AC12-F2BB1B0F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64A4-EE26-48B3-ABF0-17EB6E5D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DA0B-B1C4-4001-83D6-F4578303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5518-ABD7-496F-8949-CE737971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34C8-B66D-4BEB-9EA8-94FBF126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D3A-1936-48B8-8648-8980D0AB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7516-593E-4520-8114-CE4497C1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0AF6-54A7-454B-902A-970486AF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16F3-978F-4096-975D-B2136088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FE00-07E0-4425-8ADB-30E7B6BF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C392-0511-4BB9-AFD6-E28E1CDB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C5F10-5E73-4D07-8B29-F54942C8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0A89B-56E7-4F28-A407-71581CAA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EB9F2-D07E-4DCC-93CD-6A7DF582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CAA1E-47FB-4D5C-AFAA-3FDF245C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AE330-83E3-41C3-82F4-E4ED895D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DE5-B562-4D70-86DF-A56DE004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F079E-7E32-44A2-9AE1-0D95E281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C8FD8-9BD0-4684-B7B0-E8590AC8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BC71F-122F-427D-A7E8-860FBD10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481F8-F98D-4F07-BC02-58E95791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D34E-B164-4629-ADB6-C2542AB6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C40F4-4EE2-464A-9C48-0CA4713A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0CDA4-9BFD-48ED-9406-DE5314E7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3828A-01B0-4D0D-8BD0-ED956689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0F9D5-EB42-4C8F-B00F-FCE46548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C3B0B-A6A5-4F20-95DD-D6B2A612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EE8-1CA7-438C-AE1C-32F42D89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99FAA-B7E1-47BE-9B27-3445C4CF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13450-7927-44BE-AD1C-35CCD91C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6637C-25AB-4C67-9F4C-E6A7E25F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AB88F-0209-4464-B134-B19A9BB4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56B72-1A5B-4547-ABF6-E23CDFB7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DC07C-1FE4-44D1-811B-5F3CFC43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9F7DB-377E-4C1E-9ADE-2BF68A63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79A81-C20F-4337-8FEC-A3074222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FEEB9-0ED4-4BE5-8939-A5791FDE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EBBB2-CBC8-48EA-84D6-3141D484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8BB-747E-4CC3-B15C-F8A6C5FE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07399-DB57-4C02-8195-9B798F26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12ED5-C453-42C9-BE9D-C1DBE9DD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87BA6-5BBD-4203-A690-C7F5F5AC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2D2E6-2DED-4A64-B787-A3AA7B29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3D976-13A5-48C2-A41A-FF912CB1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F1CE8-5115-4A18-963A-BF6BFE26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508A6-32EE-490A-AAA8-80B86F57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A197F-AD81-4A54-8C4C-34775134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E75C3-2F77-4C13-9C2D-07C1AE27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73758-84CE-4B2B-AD72-5CB71701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0DEE-A255-4C94-A15A-4ABF29DD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6A15F-60D0-4788-A16D-629AB6FF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72949-3D2E-4BEA-9D70-653AC5A3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5D3B5-2499-4D61-937C-0EB0B683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7F5C3-66A4-486A-B52F-67B30B68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99DD8-652A-469C-B2BD-B895B04A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CCCC0-E50B-4955-B7AD-F29E5B16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E7E9D-7D1B-473D-B610-46C917CF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6DB9C-F9BA-4296-B994-B135C0C8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19434-932B-4331-A883-DC2620A2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4414B-EE47-448E-BFB6-1CC63348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094-8B33-4013-BD46-EBFD0211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DD1DA-CB47-4AF3-863E-01633C4D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19802-921C-4BB3-A11C-C04305D4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97CD1-E0AB-43EC-AB8C-04775707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EAB-A4C3-4DDE-9A9C-76056DAA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501-9675-4462-B27C-68566A1D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3B3F-3007-4E6B-9F62-3DBAD8B8ED20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0A77-84DA-4E87-96C9-F43074911F02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1D24-BF69-490F-A856-9BE134EF256A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5C8A-F1F5-4EAF-8A9C-5727ADB76511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2EF4-82D3-4DCC-99E7-0D2CF65887D9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A71E-5670-4949-B145-321AE5EC51B4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5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gradFill rotWithShape="0">
            <a:gsLst>
              <a:gs pos="0">
                <a:srgbClr val="0d506a"/>
              </a:gs>
              <a:gs pos="50000">
                <a:srgbClr val="1cade4"/>
              </a:gs>
              <a:gs pos="100000">
                <a:srgbClr val="0d50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gradFill rotWithShape="0">
            <a:gsLst>
              <a:gs pos="0">
                <a:srgbClr val="0d506a"/>
              </a:gs>
              <a:gs pos="50000">
                <a:srgbClr val="1cade4"/>
              </a:gs>
              <a:gs pos="100000">
                <a:srgbClr val="0d50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 flipH="1">
            <a:off x="0" y="0"/>
            <a:ext cx="9144000" cy="189000"/>
          </a:xfrm>
          <a:prstGeom prst="rect">
            <a:avLst/>
          </a:prstGeom>
          <a:gradFill rotWithShape="0">
            <a:gsLst>
              <a:gs pos="0">
                <a:srgbClr val="0d506a"/>
              </a:gs>
              <a:gs pos="50000">
                <a:srgbClr val="1cade4"/>
              </a:gs>
              <a:gs pos="100000">
                <a:srgbClr val="0d50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 flipH="1">
            <a:off x="-28584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0d506a"/>
              </a:gs>
              <a:gs pos="50000">
                <a:srgbClr val="1cade4"/>
              </a:gs>
              <a:gs pos="100000">
                <a:srgbClr val="0d50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9"/>
          <p:cNvSpPr/>
          <p:nvPr/>
        </p:nvSpPr>
        <p:spPr>
          <a:xfrm rot="5400000">
            <a:off x="-4680" y="4320"/>
            <a:ext cx="404640" cy="395280"/>
          </a:xfrm>
          <a:prstGeom prst="rtTriangle">
            <a:avLst/>
          </a:prstGeom>
          <a:gradFill rotWithShape="0">
            <a:gsLst>
              <a:gs pos="0">
                <a:srgbClr val="1cade4"/>
              </a:gs>
              <a:gs pos="100000">
                <a:srgbClr val="0d506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0" y="6462720"/>
            <a:ext cx="404640" cy="395280"/>
          </a:xfrm>
          <a:prstGeom prst="rtTriangle">
            <a:avLst/>
          </a:prstGeom>
          <a:gradFill rotWithShape="0">
            <a:gsLst>
              <a:gs pos="0">
                <a:srgbClr val="1cade4"/>
              </a:gs>
              <a:gs pos="100000">
                <a:srgbClr val="0d506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 rot="11050800">
            <a:off x="8739000" y="0"/>
            <a:ext cx="404640" cy="395280"/>
          </a:xfrm>
          <a:prstGeom prst="rtTriangle">
            <a:avLst/>
          </a:prstGeom>
          <a:gradFill rotWithShape="0">
            <a:gsLst>
              <a:gs pos="0">
                <a:srgbClr val="1cade4"/>
              </a:gs>
              <a:gs pos="100000">
                <a:srgbClr val="0d506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2"/>
          <p:cNvSpPr/>
          <p:nvPr/>
        </p:nvSpPr>
        <p:spPr>
          <a:xfrm rot="16200000">
            <a:off x="8744040" y="6458040"/>
            <a:ext cx="404640" cy="395280"/>
          </a:xfrm>
          <a:prstGeom prst="rtTriangle">
            <a:avLst/>
          </a:prstGeom>
          <a:gradFill rotWithShape="0">
            <a:gsLst>
              <a:gs pos="0">
                <a:srgbClr val="1cade4"/>
              </a:gs>
              <a:gs pos="100000">
                <a:srgbClr val="0d506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18"/>
          <p:cNvSpPr txBox="1"/>
          <p:nvPr/>
        </p:nvSpPr>
        <p:spPr>
          <a:xfrm>
            <a:off x="2286000" y="500040"/>
            <a:ext cx="50007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182f76"/>
                    </a:gs>
                    <a:gs pos="50000">
                      <a:srgbClr val="3366ff"/>
                    </a:gs>
                    <a:gs pos="100000">
                      <a:srgbClr val="182f76"/>
                    </a:gs>
                  </a:gsLst>
                  <a:lin ang="5400000"/>
                </a:gradFill>
                <a:latin typeface="Arial"/>
              </a:rPr>
              <a:t>Урок русского язык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182f76"/>
                  </a:gs>
                  <a:gs pos="50000">
                    <a:srgbClr val="3366ff"/>
                  </a:gs>
                  <a:gs pos="100000">
                    <a:srgbClr val="182f76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182f76"/>
                    </a:gs>
                    <a:gs pos="50000">
                      <a:srgbClr val="3366ff"/>
                    </a:gs>
                    <a:gs pos="100000">
                      <a:srgbClr val="182f76"/>
                    </a:gs>
                  </a:gsLst>
                  <a:lin ang="5400000"/>
                </a:gradFill>
                <a:latin typeface="Arial"/>
              </a:rPr>
              <a:t>3 класс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182f76"/>
                  </a:gs>
                  <a:gs pos="50000">
                    <a:srgbClr val="3366ff"/>
                  </a:gs>
                  <a:gs pos="100000">
                    <a:srgbClr val="182f7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Rectangle 20"/>
          <p:cNvSpPr/>
          <p:nvPr/>
        </p:nvSpPr>
        <p:spPr>
          <a:xfrm>
            <a:off x="2916360" y="6093000"/>
            <a:ext cx="33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Calibri"/>
              </a:rPr>
              <a:t>УМК "Школа Росс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1"/>
          <p:cNvSpPr/>
          <p:nvPr/>
        </p:nvSpPr>
        <p:spPr>
          <a:xfrm>
            <a:off x="1258920" y="1413000"/>
            <a:ext cx="584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Calibri"/>
              </a:rPr>
              <a:t>урок – закрепление и систематизация 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WordArt 22" descr=""/>
          <p:cNvPicPr/>
          <p:nvPr/>
        </p:nvPicPr>
        <p:blipFill>
          <a:blip r:embed="rId1"/>
          <a:stretch/>
        </p:blipFill>
        <p:spPr>
          <a:xfrm>
            <a:off x="2036880" y="2432160"/>
            <a:ext cx="6070320" cy="35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3" descr="golub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РАЗЛОЖИ СЛОВА НА ЧАСТИ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57200" y="1600200"/>
          <a:ext cx="8229600" cy="4694400"/>
        </p:xfrm>
        <a:graphic>
          <a:graphicData uri="http://schemas.openxmlformats.org/drawingml/2006/table">
            <a:tbl>
              <a:tblPr/>
              <a:tblGrid>
                <a:gridCol w="2085840"/>
                <a:gridCol w="1673280"/>
                <a:gridCol w="1254240"/>
                <a:gridCol w="1490760"/>
                <a:gridCol w="1725480"/>
              </a:tblGrid>
              <a:tr h="6523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Укажите части с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иста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ор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онч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огу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п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г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зем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з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езлес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е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ес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ый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дар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а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двод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од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d0d0d"/>
              </a:solidFill>
              <a:latin typeface="Calibri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0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alibri"/>
              </a:rPr>
              <a:t>КЛЮЧ ДЛЯ 1 ВАРИАНТА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18" name="Нижний колонтитул 11"/>
          <p:cNvSpPr/>
          <p:nvPr/>
        </p:nvSpPr>
        <p:spPr>
          <a:xfrm>
            <a:off x="1619280" y="0"/>
            <a:ext cx="62150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2"/>
          <p:cNvGrpSpPr/>
          <p:nvPr/>
        </p:nvGrpSpPr>
        <p:grpSpPr>
          <a:xfrm>
            <a:off x="611280" y="1267920"/>
            <a:ext cx="7704000" cy="5148360"/>
            <a:chOff x="611280" y="1267920"/>
            <a:chExt cx="7704000" cy="5148360"/>
          </a:xfrm>
        </p:grpSpPr>
        <p:sp>
          <p:nvSpPr>
            <p:cNvPr id="320" name="Rectangle 4"/>
            <p:cNvSpPr/>
            <p:nvPr/>
          </p:nvSpPr>
          <p:spPr>
            <a:xfrm>
              <a:off x="611280" y="1267920"/>
              <a:ext cx="7704000" cy="50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Прочитай внимательно текст. В подчеркнутых словах выдели приставку.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Слова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</a:rPr>
                <a:t>снежинки, пушистый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разбери по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составу. Озаглавь текст.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Пришла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зима. Первые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снежинки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закружились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в воздухе. Лес весь пушистый и белый. Теперь тетеревам незачем прятаться в лесную чащу. Прямо с деревьев нырнули вниз, в мягкий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пушистый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снег, и</a:t>
              </a: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 закопались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в нем. Ветер не дует, и от врагов </a:t>
              </a: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спрятаться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можно. Хорошо там!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Группа 15"/>
            <p:cNvGrpSpPr/>
            <p:nvPr/>
          </p:nvGrpSpPr>
          <p:grpSpPr>
            <a:xfrm>
              <a:off x="1298520" y="2585880"/>
              <a:ext cx="647640" cy="287640"/>
              <a:chOff x="1298520" y="2585880"/>
              <a:chExt cx="647640" cy="287640"/>
            </a:xfrm>
          </p:grpSpPr>
          <p:sp>
            <p:nvSpPr>
              <p:cNvPr id="322" name="Line 11"/>
              <p:cNvSpPr/>
              <p:nvPr/>
            </p:nvSpPr>
            <p:spPr>
              <a:xfrm>
                <a:off x="1298520" y="2585880"/>
                <a:ext cx="642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2"/>
              <p:cNvSpPr/>
              <p:nvPr/>
            </p:nvSpPr>
            <p:spPr>
              <a:xfrm>
                <a:off x="1946160" y="2585880"/>
                <a:ext cx="0" cy="28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Группа 15"/>
            <p:cNvGrpSpPr/>
            <p:nvPr/>
          </p:nvGrpSpPr>
          <p:grpSpPr>
            <a:xfrm>
              <a:off x="725400" y="2959200"/>
              <a:ext cx="428760" cy="285480"/>
              <a:chOff x="725400" y="2959200"/>
              <a:chExt cx="428760" cy="285480"/>
            </a:xfrm>
          </p:grpSpPr>
          <p:sp>
            <p:nvSpPr>
              <p:cNvPr id="325" name="Line 11"/>
              <p:cNvSpPr/>
              <p:nvPr/>
            </p:nvSpPr>
            <p:spPr>
              <a:xfrm>
                <a:off x="725400" y="2959200"/>
                <a:ext cx="4276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12"/>
              <p:cNvSpPr/>
              <p:nvPr/>
            </p:nvSpPr>
            <p:spPr>
              <a:xfrm>
                <a:off x="1154160" y="2959200"/>
                <a:ext cx="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Группа 15"/>
            <p:cNvGrpSpPr/>
            <p:nvPr/>
          </p:nvGrpSpPr>
          <p:grpSpPr>
            <a:xfrm>
              <a:off x="5651640" y="5072040"/>
              <a:ext cx="357120" cy="214200"/>
              <a:chOff x="5651640" y="5072040"/>
              <a:chExt cx="357120" cy="214200"/>
            </a:xfrm>
          </p:grpSpPr>
          <p:sp>
            <p:nvSpPr>
              <p:cNvPr id="328" name="Line 11"/>
              <p:cNvSpPr/>
              <p:nvPr/>
            </p:nvSpPr>
            <p:spPr>
              <a:xfrm>
                <a:off x="5651640" y="5072040"/>
                <a:ext cx="355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12"/>
              <p:cNvSpPr/>
              <p:nvPr/>
            </p:nvSpPr>
            <p:spPr>
              <a:xfrm>
                <a:off x="6008760" y="5072040"/>
                <a:ext cx="0" cy="214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Группа 15"/>
            <p:cNvGrpSpPr/>
            <p:nvPr/>
          </p:nvGrpSpPr>
          <p:grpSpPr>
            <a:xfrm>
              <a:off x="611280" y="6021360"/>
              <a:ext cx="290520" cy="144360"/>
              <a:chOff x="611280" y="6021360"/>
              <a:chExt cx="290520" cy="144360"/>
            </a:xfrm>
          </p:grpSpPr>
          <p:sp>
            <p:nvSpPr>
              <p:cNvPr id="331" name="Line 11"/>
              <p:cNvSpPr/>
              <p:nvPr/>
            </p:nvSpPr>
            <p:spPr>
              <a:xfrm>
                <a:off x="611280" y="6021360"/>
                <a:ext cx="289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12"/>
              <p:cNvSpPr/>
              <p:nvPr/>
            </p:nvSpPr>
            <p:spPr>
              <a:xfrm>
                <a:off x="901800" y="6021360"/>
                <a:ext cx="0" cy="144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Дуга 17"/>
            <p:cNvSpPr/>
            <p:nvPr/>
          </p:nvSpPr>
          <p:spPr>
            <a:xfrm rot="18902400">
              <a:off x="4986000" y="2730240"/>
              <a:ext cx="1716120" cy="1214280"/>
            </a:xfrm>
            <a:custGeom>
              <a:avLst/>
              <a:gdLst/>
              <a:ahLst/>
              <a:rect l="l" t="t" r="r" b="b"/>
              <a:pathLst>
                <a:path stroke="0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  <a:lnTo>
                    <a:pt x="5005" y="5007"/>
                  </a:lnTo>
                  <a:lnTo>
                    <a:pt x="7040" y="431"/>
                  </a:lnTo>
                  <a:close/>
                </a:path>
                <a:path fill="none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Дуга 18"/>
            <p:cNvSpPr/>
            <p:nvPr/>
          </p:nvSpPr>
          <p:spPr>
            <a:xfrm rot="18902400">
              <a:off x="1834920" y="5046480"/>
              <a:ext cx="1225440" cy="1096920"/>
            </a:xfrm>
            <a:custGeom>
              <a:avLst/>
              <a:gdLst/>
              <a:ahLst/>
              <a:rect l="l" t="t" r="r" b="b"/>
              <a:pathLst>
                <a:path stroke="0" w="10000" h="10000">
                  <a:moveTo>
                    <a:pt x="5000" y="0"/>
                  </a:moveTo>
                  <a:cubicBezTo>
                    <a:pt x="7761" y="0"/>
                    <a:pt x="9999" y="2242"/>
                    <a:pt x="9999" y="5007"/>
                  </a:cubicBezTo>
                  <a:lnTo>
                    <a:pt x="5000" y="5007"/>
                  </a:lnTo>
                  <a:lnTo>
                    <a:pt x="5000" y="0"/>
                  </a:lnTo>
                  <a:close/>
                </a:path>
                <a:path fill="none" w="10000" h="10000">
                  <a:moveTo>
                    <a:pt x="5000" y="0"/>
                  </a:moveTo>
                  <a:cubicBezTo>
                    <a:pt x="7761" y="0"/>
                    <a:pt x="9999" y="2242"/>
                    <a:pt x="9999" y="500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Группа 36"/>
            <p:cNvGrpSpPr/>
            <p:nvPr/>
          </p:nvGrpSpPr>
          <p:grpSpPr>
            <a:xfrm>
              <a:off x="2987280" y="4830120"/>
              <a:ext cx="500400" cy="357840"/>
              <a:chOff x="2987280" y="4830120"/>
              <a:chExt cx="500400" cy="357840"/>
            </a:xfrm>
          </p:grpSpPr>
          <p:sp>
            <p:nvSpPr>
              <p:cNvPr id="336" name="Прямая соединительная линия 20"/>
              <p:cNvSpPr/>
              <p:nvPr/>
            </p:nvSpPr>
            <p:spPr>
              <a:xfrm>
                <a:off x="3222720" y="4830840"/>
                <a:ext cx="264960" cy="357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Прямая соединительная линия 21"/>
              <p:cNvSpPr/>
              <p:nvPr/>
            </p:nvSpPr>
            <p:spPr>
              <a:xfrm flipH="1">
                <a:off x="2987280" y="4830120"/>
                <a:ext cx="235080" cy="3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Группа 36"/>
            <p:cNvGrpSpPr/>
            <p:nvPr/>
          </p:nvGrpSpPr>
          <p:grpSpPr>
            <a:xfrm>
              <a:off x="6516720" y="2491560"/>
              <a:ext cx="360360" cy="307080"/>
              <a:chOff x="6516720" y="2491560"/>
              <a:chExt cx="360360" cy="307080"/>
            </a:xfrm>
          </p:grpSpPr>
          <p:sp>
            <p:nvSpPr>
              <p:cNvPr id="339" name="Прямая соединительная линия 23"/>
              <p:cNvSpPr/>
              <p:nvPr/>
            </p:nvSpPr>
            <p:spPr>
              <a:xfrm>
                <a:off x="6686640" y="2492280"/>
                <a:ext cx="190440" cy="306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Прямая соединительная линия 24"/>
              <p:cNvSpPr/>
              <p:nvPr/>
            </p:nvSpPr>
            <p:spPr>
              <a:xfrm flipH="1">
                <a:off x="6516720" y="2491560"/>
                <a:ext cx="169920" cy="273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Rectangle 27"/>
            <p:cNvSpPr/>
            <p:nvPr/>
          </p:nvSpPr>
          <p:spPr>
            <a:xfrm>
              <a:off x="7161120" y="2670120"/>
              <a:ext cx="289080" cy="362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8"/>
            <p:cNvSpPr/>
            <p:nvPr/>
          </p:nvSpPr>
          <p:spPr>
            <a:xfrm>
              <a:off x="3564000" y="5132520"/>
              <a:ext cx="647640" cy="361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Группа 36"/>
            <p:cNvGrpSpPr/>
            <p:nvPr/>
          </p:nvGrpSpPr>
          <p:grpSpPr>
            <a:xfrm>
              <a:off x="6948360" y="2491560"/>
              <a:ext cx="216000" cy="286560"/>
              <a:chOff x="6948360" y="2491560"/>
              <a:chExt cx="216000" cy="286560"/>
            </a:xfrm>
          </p:grpSpPr>
          <p:sp>
            <p:nvSpPr>
              <p:cNvPr id="344" name="Прямая соединительная линия 23"/>
              <p:cNvSpPr/>
              <p:nvPr/>
            </p:nvSpPr>
            <p:spPr>
              <a:xfrm>
                <a:off x="7049880" y="2492280"/>
                <a:ext cx="114480" cy="285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Прямая соединительная линия 24"/>
              <p:cNvSpPr/>
              <p:nvPr/>
            </p:nvSpPr>
            <p:spPr>
              <a:xfrm flipH="1">
                <a:off x="6948360" y="2491560"/>
                <a:ext cx="101520" cy="255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0" descr="golub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alibri"/>
              </a:rPr>
              <a:t>КЛЮЧ ДЛЯ 2 ВАРИАНТА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48" name="Нижний колонтитул 11"/>
          <p:cNvSpPr/>
          <p:nvPr/>
        </p:nvSpPr>
        <p:spPr>
          <a:xfrm>
            <a:off x="1619280" y="0"/>
            <a:ext cx="62150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32"/>
          <p:cNvGrpSpPr/>
          <p:nvPr/>
        </p:nvGrpSpPr>
        <p:grpSpPr>
          <a:xfrm>
            <a:off x="1080" y="1258560"/>
            <a:ext cx="8499600" cy="6028200"/>
            <a:chOff x="1080" y="1258560"/>
            <a:chExt cx="8499600" cy="6028200"/>
          </a:xfrm>
        </p:grpSpPr>
        <p:sp>
          <p:nvSpPr>
            <p:cNvPr id="350" name="Rectangle 4"/>
            <p:cNvSpPr/>
            <p:nvPr/>
          </p:nvSpPr>
          <p:spPr>
            <a:xfrm>
              <a:off x="755280" y="1258560"/>
              <a:ext cx="7745400" cy="47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</a:rPr>
                <a:t>Прочитай внимательно текст.  Подчеркнутые слова разбери по составу. Найди слова с приставками.</a:t>
              </a:r>
              <a:br>
                <a:rPr sz="2800"/>
              </a:b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Ребята идут в </a:t>
              </a: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зимний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лес. Они несут корм для птиц. Вот на дереве висит </a:t>
              </a: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кормушка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. На снегу видна </a:t>
              </a: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цепочка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следов разных птиц. На </a:t>
              </a: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ветку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села синичка. Над елкой закружила стайка дроздов.  Вот с дерева прыгнула белка.  Полетела </a:t>
              </a: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снежная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ыль.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Группа 36"/>
            <p:cNvGrpSpPr/>
            <p:nvPr/>
          </p:nvGrpSpPr>
          <p:grpSpPr>
            <a:xfrm>
              <a:off x="6106320" y="4004640"/>
              <a:ext cx="143280" cy="357840"/>
              <a:chOff x="6106320" y="4004640"/>
              <a:chExt cx="143280" cy="357840"/>
            </a:xfrm>
          </p:grpSpPr>
          <p:sp>
            <p:nvSpPr>
              <p:cNvPr id="352" name="Прямая соединительная линия 6"/>
              <p:cNvSpPr/>
              <p:nvPr/>
            </p:nvSpPr>
            <p:spPr>
              <a:xfrm>
                <a:off x="6173280" y="4005360"/>
                <a:ext cx="76320" cy="357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Прямая соединительная линия 7"/>
              <p:cNvSpPr/>
              <p:nvPr/>
            </p:nvSpPr>
            <p:spPr>
              <a:xfrm flipH="1">
                <a:off x="6106320" y="4004640"/>
                <a:ext cx="66600" cy="3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Группа 36"/>
            <p:cNvGrpSpPr/>
            <p:nvPr/>
          </p:nvGrpSpPr>
          <p:grpSpPr>
            <a:xfrm>
              <a:off x="6609600" y="3499560"/>
              <a:ext cx="500400" cy="358200"/>
              <a:chOff x="6609600" y="3499560"/>
              <a:chExt cx="500400" cy="358200"/>
            </a:xfrm>
          </p:grpSpPr>
          <p:sp>
            <p:nvSpPr>
              <p:cNvPr id="355" name="Прямая соединительная линия 9"/>
              <p:cNvSpPr/>
              <p:nvPr/>
            </p:nvSpPr>
            <p:spPr>
              <a:xfrm>
                <a:off x="6845040" y="3500280"/>
                <a:ext cx="264960" cy="357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Прямая соединительная линия 10"/>
              <p:cNvSpPr/>
              <p:nvPr/>
            </p:nvSpPr>
            <p:spPr>
              <a:xfrm flipH="1">
                <a:off x="6609600" y="3499560"/>
                <a:ext cx="235080" cy="3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Группа 36"/>
            <p:cNvGrpSpPr/>
            <p:nvPr/>
          </p:nvGrpSpPr>
          <p:grpSpPr>
            <a:xfrm>
              <a:off x="4643280" y="2494800"/>
              <a:ext cx="214200" cy="357840"/>
              <a:chOff x="4643280" y="2494800"/>
              <a:chExt cx="214200" cy="357840"/>
            </a:xfrm>
          </p:grpSpPr>
          <p:sp>
            <p:nvSpPr>
              <p:cNvPr id="358" name="Прямая соединительная линия 12"/>
              <p:cNvSpPr/>
              <p:nvPr/>
            </p:nvSpPr>
            <p:spPr>
              <a:xfrm>
                <a:off x="4744800" y="2495520"/>
                <a:ext cx="112680" cy="357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Прямая соединительная линия 13"/>
              <p:cNvSpPr/>
              <p:nvPr/>
            </p:nvSpPr>
            <p:spPr>
              <a:xfrm flipH="1">
                <a:off x="4643280" y="2494800"/>
                <a:ext cx="101520" cy="3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Группа 36"/>
            <p:cNvGrpSpPr/>
            <p:nvPr/>
          </p:nvGrpSpPr>
          <p:grpSpPr>
            <a:xfrm>
              <a:off x="5098320" y="5299920"/>
              <a:ext cx="214920" cy="429480"/>
              <a:chOff x="5098320" y="5299920"/>
              <a:chExt cx="214920" cy="429480"/>
            </a:xfrm>
          </p:grpSpPr>
          <p:sp>
            <p:nvSpPr>
              <p:cNvPr id="361" name="Прямая соединительная линия 15"/>
              <p:cNvSpPr/>
              <p:nvPr/>
            </p:nvSpPr>
            <p:spPr>
              <a:xfrm>
                <a:off x="5200560" y="5300640"/>
                <a:ext cx="112680" cy="428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Прямая соединительная линия 16"/>
              <p:cNvSpPr/>
              <p:nvPr/>
            </p:nvSpPr>
            <p:spPr>
              <a:xfrm flipH="1">
                <a:off x="5098320" y="5299920"/>
                <a:ext cx="101880" cy="382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Группа 36"/>
            <p:cNvGrpSpPr/>
            <p:nvPr/>
          </p:nvGrpSpPr>
          <p:grpSpPr>
            <a:xfrm>
              <a:off x="1785240" y="3499560"/>
              <a:ext cx="572040" cy="429480"/>
              <a:chOff x="1785240" y="3499560"/>
              <a:chExt cx="572040" cy="429480"/>
            </a:xfrm>
          </p:grpSpPr>
          <p:sp>
            <p:nvSpPr>
              <p:cNvPr id="364" name="Прямая соединительная линия 24"/>
              <p:cNvSpPr/>
              <p:nvPr/>
            </p:nvSpPr>
            <p:spPr>
              <a:xfrm>
                <a:off x="2053800" y="3500280"/>
                <a:ext cx="303480" cy="428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Прямая соединительная линия 25"/>
              <p:cNvSpPr/>
              <p:nvPr/>
            </p:nvSpPr>
            <p:spPr>
              <a:xfrm flipH="1">
                <a:off x="1785240" y="3499560"/>
                <a:ext cx="268200" cy="382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Дуга 26"/>
            <p:cNvSpPr/>
            <p:nvPr/>
          </p:nvSpPr>
          <p:spPr>
            <a:xfrm rot="18902400">
              <a:off x="3202920" y="2784240"/>
              <a:ext cx="1716120" cy="1214280"/>
            </a:xfrm>
            <a:custGeom>
              <a:avLst/>
              <a:gdLst/>
              <a:ahLst/>
              <a:rect l="l" t="t" r="r" b="b"/>
              <a:pathLst>
                <a:path stroke="0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  <a:lnTo>
                    <a:pt x="5005" y="5007"/>
                  </a:lnTo>
                  <a:lnTo>
                    <a:pt x="7040" y="431"/>
                  </a:lnTo>
                  <a:close/>
                </a:path>
                <a:path fill="none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Дуга 27"/>
            <p:cNvSpPr/>
            <p:nvPr/>
          </p:nvSpPr>
          <p:spPr>
            <a:xfrm rot="18902400">
              <a:off x="178920" y="3789360"/>
              <a:ext cx="1715760" cy="1214280"/>
            </a:xfrm>
            <a:custGeom>
              <a:avLst/>
              <a:gdLst/>
              <a:ahLst/>
              <a:rect l="l" t="t" r="r" b="b"/>
              <a:pathLst>
                <a:path stroke="0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  <a:lnTo>
                    <a:pt x="5005" y="5007"/>
                  </a:lnTo>
                  <a:lnTo>
                    <a:pt x="7040" y="431"/>
                  </a:lnTo>
                  <a:close/>
                </a:path>
                <a:path fill="none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Дуга 28"/>
            <p:cNvSpPr/>
            <p:nvPr/>
          </p:nvSpPr>
          <p:spPr>
            <a:xfrm rot="18902400">
              <a:off x="5098680" y="3860280"/>
              <a:ext cx="1716120" cy="1214640"/>
            </a:xfrm>
            <a:custGeom>
              <a:avLst/>
              <a:gdLst/>
              <a:ahLst/>
              <a:rect l="l" t="t" r="r" b="b"/>
              <a:pathLst>
                <a:path stroke="0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  <a:lnTo>
                    <a:pt x="5005" y="5007"/>
                  </a:lnTo>
                  <a:lnTo>
                    <a:pt x="7040" y="431"/>
                  </a:lnTo>
                  <a:close/>
                </a:path>
                <a:path fill="none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Дуга 29"/>
            <p:cNvSpPr/>
            <p:nvPr/>
          </p:nvSpPr>
          <p:spPr>
            <a:xfrm rot="18902400">
              <a:off x="3585600" y="5643360"/>
              <a:ext cx="1716120" cy="1214280"/>
            </a:xfrm>
            <a:custGeom>
              <a:avLst/>
              <a:gdLst/>
              <a:ahLst/>
              <a:rect l="l" t="t" r="r" b="b"/>
              <a:pathLst>
                <a:path stroke="0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  <a:lnTo>
                    <a:pt x="5005" y="5007"/>
                  </a:lnTo>
                  <a:lnTo>
                    <a:pt x="7040" y="431"/>
                  </a:lnTo>
                  <a:close/>
                </a:path>
                <a:path fill="none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Дуга 30"/>
            <p:cNvSpPr/>
            <p:nvPr/>
          </p:nvSpPr>
          <p:spPr>
            <a:xfrm rot="18902400">
              <a:off x="4738320" y="4365720"/>
              <a:ext cx="1565280" cy="1060200"/>
            </a:xfrm>
            <a:custGeom>
              <a:avLst/>
              <a:gdLst/>
              <a:ahLst/>
              <a:rect l="l" t="t" r="r" b="b"/>
              <a:pathLst>
                <a:path stroke="0" w="10000" h="10000">
                  <a:moveTo>
                    <a:pt x="6968" y="404"/>
                  </a:moveTo>
                  <a:cubicBezTo>
                    <a:pt x="8416" y="1321"/>
                    <a:pt x="9294" y="2915"/>
                    <a:pt x="9294" y="4629"/>
                  </a:cubicBezTo>
                  <a:lnTo>
                    <a:pt x="5000" y="5000"/>
                  </a:lnTo>
                  <a:lnTo>
                    <a:pt x="6968" y="404"/>
                  </a:lnTo>
                  <a:close/>
                </a:path>
                <a:path fill="none" w="10000" h="10000">
                  <a:moveTo>
                    <a:pt x="6968" y="404"/>
                  </a:moveTo>
                  <a:cubicBezTo>
                    <a:pt x="8416" y="1321"/>
                    <a:pt x="9294" y="2915"/>
                    <a:pt x="9294" y="46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Группа 15"/>
            <p:cNvGrpSpPr/>
            <p:nvPr/>
          </p:nvGrpSpPr>
          <p:grpSpPr>
            <a:xfrm>
              <a:off x="4593960" y="4653000"/>
              <a:ext cx="361800" cy="287280"/>
              <a:chOff x="4593960" y="4653000"/>
              <a:chExt cx="361800" cy="287280"/>
            </a:xfrm>
          </p:grpSpPr>
          <p:sp>
            <p:nvSpPr>
              <p:cNvPr id="372" name="Line 11"/>
              <p:cNvSpPr/>
              <p:nvPr/>
            </p:nvSpPr>
            <p:spPr>
              <a:xfrm>
                <a:off x="4593960" y="4653000"/>
                <a:ext cx="357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2"/>
              <p:cNvSpPr/>
              <p:nvPr/>
            </p:nvSpPr>
            <p:spPr>
              <a:xfrm>
                <a:off x="4955760" y="4653000"/>
                <a:ext cx="0" cy="287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Группа 15"/>
            <p:cNvGrpSpPr/>
            <p:nvPr/>
          </p:nvGrpSpPr>
          <p:grpSpPr>
            <a:xfrm>
              <a:off x="2290320" y="5589720"/>
              <a:ext cx="500400" cy="285480"/>
              <a:chOff x="2290320" y="5589720"/>
              <a:chExt cx="500400" cy="285480"/>
            </a:xfrm>
          </p:grpSpPr>
          <p:sp>
            <p:nvSpPr>
              <p:cNvPr id="375" name="Line 11"/>
              <p:cNvSpPr/>
              <p:nvPr/>
            </p:nvSpPr>
            <p:spPr>
              <a:xfrm>
                <a:off x="2290320" y="5589720"/>
                <a:ext cx="496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2"/>
              <p:cNvSpPr/>
              <p:nvPr/>
            </p:nvSpPr>
            <p:spPr>
              <a:xfrm>
                <a:off x="2790720" y="5589720"/>
                <a:ext cx="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Rectangle 33"/>
          <p:cNvSpPr/>
          <p:nvPr/>
        </p:nvSpPr>
        <p:spPr>
          <a:xfrm>
            <a:off x="4859280" y="2637000"/>
            <a:ext cx="39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4"/>
          <p:cNvSpPr/>
          <p:nvPr/>
        </p:nvSpPr>
        <p:spPr>
          <a:xfrm>
            <a:off x="2411280" y="3716280"/>
            <a:ext cx="2890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5"/>
          <p:cNvSpPr/>
          <p:nvPr/>
        </p:nvSpPr>
        <p:spPr>
          <a:xfrm>
            <a:off x="7020000" y="364500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6"/>
          <p:cNvSpPr/>
          <p:nvPr/>
        </p:nvSpPr>
        <p:spPr>
          <a:xfrm>
            <a:off x="6227640" y="4221000"/>
            <a:ext cx="28764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7"/>
          <p:cNvSpPr/>
          <p:nvPr/>
        </p:nvSpPr>
        <p:spPr>
          <a:xfrm>
            <a:off x="5292720" y="5589720"/>
            <a:ext cx="50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0" descr="golub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alibri"/>
              </a:rPr>
              <a:t>КЛЮЧ ДЛЯ 3 ВАРИАНТА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84" name="Нижний колонтитул 11"/>
          <p:cNvSpPr/>
          <p:nvPr/>
        </p:nvSpPr>
        <p:spPr>
          <a:xfrm>
            <a:off x="1619280" y="0"/>
            <a:ext cx="62150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C:\Documents and Settings\Administrator\Рабочий стол\карточка 3 сканир.jpg"/>
          <p:cNvPicPr/>
          <p:nvPr/>
        </p:nvPicPr>
        <p:blipFill>
          <a:blip r:embed="rId2"/>
          <a:stretch/>
        </p:blipFill>
        <p:spPr>
          <a:xfrm>
            <a:off x="500040" y="1371600"/>
            <a:ext cx="7870680" cy="47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3" descr="golub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ДОМАШНЕЕ ЗАДАНИЕ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ние: Вставить пропущенные суффиксы. Записать текст. По данному началу составить рассказ «В лесу зимо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оит на лесной полян…е красавица берез…а. Легкий снеж… опушил ее тон…ие вет…и. И кажется, пришла она из сказ…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000680" y="357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СПАСИБО ЗА УРОК!</a:t>
            </a:r>
            <a:br>
              <a:rPr sz="4000"/>
            </a:br>
            <a:endParaRPr b="0" lang="en-US" sz="4000" spc="-1" strike="noStrike">
              <a:solidFill>
                <a:srgbClr val="0d0d0d"/>
              </a:solidFill>
              <a:latin typeface="Calibri"/>
            </a:endParaRPr>
          </a:p>
        </p:txBody>
      </p:sp>
      <p:pic>
        <p:nvPicPr>
          <p:cNvPr id="390" name="Picture 3" descr="cabg001"/>
          <p:cNvPicPr/>
          <p:nvPr/>
        </p:nvPicPr>
        <p:blipFill>
          <a:blip r:embed="rId1"/>
          <a:stretch/>
        </p:blipFill>
        <p:spPr>
          <a:xfrm>
            <a:off x="0" y="0"/>
            <a:ext cx="10630080" cy="742968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5"/>
          <p:cNvSpPr/>
          <p:nvPr/>
        </p:nvSpPr>
        <p:spPr>
          <a:xfrm rot="20584800">
            <a:off x="1042920" y="3141720"/>
            <a:ext cx="754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Monotype Corsiva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3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C:\Documents and Settings\Администратор\Рабочий стол\мама аттестация!!\snezhinko.png"/>
          <p:cNvPicPr/>
          <p:nvPr/>
        </p:nvPicPr>
        <p:blipFill>
          <a:blip r:embed="rId2"/>
          <a:stretch/>
        </p:blipFill>
        <p:spPr>
          <a:xfrm rot="20854200">
            <a:off x="5245200" y="-112680"/>
            <a:ext cx="4043160" cy="404316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3"/>
          <p:cNvSpPr/>
          <p:nvPr/>
        </p:nvSpPr>
        <p:spPr>
          <a:xfrm>
            <a:off x="428760" y="0"/>
            <a:ext cx="4857480" cy="75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ff"/>
                </a:solidFill>
                <a:latin typeface="Monotype Corsiva"/>
              </a:rPr>
              <a:t>Загад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на пришла такая снежн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крыла белыми одеждам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еса, поля, дома и улиц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на художница прилежная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се разрисует в царство снежное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есит кружева из инея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ая сказочно красив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3071880" y="428760"/>
            <a:ext cx="7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3643200" y="56437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3" descr="golub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57120" y="1000080"/>
            <a:ext cx="830592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ЗА…Ц  НАТАШЕ</a:t>
            </a:r>
            <a:br>
              <a:rPr sz="5400"/>
            </a:b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С…ЛДАТ  ДЛЯ  АНДРЮШИ</a:t>
            </a:r>
            <a:br>
              <a:rPr sz="5400"/>
            </a:b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ПШ…НИЦА- СИНИЦЕ</a:t>
            </a:r>
            <a:br>
              <a:rPr sz="5400"/>
            </a:b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Б…ЛЕТ  ДЛЯ  ПАВЛУШИ</a:t>
            </a:r>
            <a:br>
              <a:rPr sz="4000"/>
            </a:br>
            <a:endParaRPr b="0" lang="en-US" sz="54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3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30592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ЗА</a:t>
            </a:r>
            <a:r>
              <a:rPr b="0" i="1" lang="ru-RU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Я</a:t>
            </a: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Ц  НАТАШЕ</a:t>
            </a:r>
            <a:br>
              <a:rPr sz="5400"/>
            </a:b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С</a:t>
            </a:r>
            <a:r>
              <a:rPr b="0" i="1" lang="ru-RU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</a:t>
            </a: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ЛДАТ  ДЛЯ  АНДРЮШИ</a:t>
            </a:r>
            <a:br>
              <a:rPr sz="5400"/>
            </a:b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ПШ</a:t>
            </a:r>
            <a:r>
              <a:rPr b="0" i="1" lang="ru-RU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Е</a:t>
            </a: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НИЦА- СИНИЦЕ</a:t>
            </a:r>
            <a:br>
              <a:rPr sz="5400"/>
            </a:b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Б</a:t>
            </a:r>
            <a:r>
              <a:rPr b="0" i="1" lang="ru-RU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И</a:t>
            </a: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ЛЕТ  ДЛЯ  ПАВЛУШИ</a:t>
            </a:r>
            <a:br>
              <a:rPr sz="4000"/>
            </a:br>
            <a:endParaRPr b="0" lang="en-US" sz="54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3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НАЙДИТЕ СЛОВА, КОТОРЫЕ СООТВЕТСТВУЮТ СХЕМЕ: КОРЕНЬ+НУЛЕВОЕ ОКОНЧАНИЕ</a:t>
            </a: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яц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раб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илет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1835280" y="1700280"/>
            <a:ext cx="503280" cy="50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2843280" y="2492280"/>
            <a:ext cx="503280" cy="505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2571840" y="3357720"/>
            <a:ext cx="452520" cy="50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2340000" y="4149720"/>
            <a:ext cx="503280" cy="50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3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ПОДБЕРИТЕ ОДНОКОРЕННЫЕ СЛОВА</a:t>
            </a:r>
            <a:endParaRPr b="0" lang="en-US" sz="48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571400"/>
            <a:ext cx="3971880" cy="455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З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не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Ле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оро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Хол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Ле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Monotype Corsiva"/>
              </a:rPr>
              <a:t>ВОССТАНОВИТЕ ПОРЯДОК  СЛЕДОВАНИЯ МОРФЕМ В КАЖДОМ СЛОВЕ</a:t>
            </a:r>
            <a:endParaRPr b="0" lang="en-US" sz="40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699920"/>
            <a:ext cx="4535280" cy="43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, дар, и, по       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, гул, про, а      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ок, гор, при       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ов , берез, а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, енн, снеж, ый 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а, изб, уш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4572000" y="1773360"/>
            <a:ext cx="3672000" cy="5032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а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5003640" y="2349360"/>
            <a:ext cx="3672000" cy="5032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гу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4427640" y="2924280"/>
            <a:ext cx="3671640" cy="5032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го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932360" y="3500280"/>
            <a:ext cx="3672000" cy="5032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рез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4716360" y="4149720"/>
            <a:ext cx="3672000" cy="5032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снеж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5076720" y="4797360"/>
            <a:ext cx="3672000" cy="5032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б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3" descr="golub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Monotype Corsiva"/>
              </a:rPr>
              <a:t>СОБЕРИ СЛОВО</a:t>
            </a:r>
            <a:br>
              <a:rPr sz="4400"/>
            </a:b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pic>
        <p:nvPicPr>
          <p:cNvPr id="304" name="Содержимое 4" descr="http://festival.1september.ru/articles/567502/3.gif"/>
          <p:cNvPicPr/>
          <p:nvPr/>
        </p:nvPicPr>
        <p:blipFill>
          <a:blip r:embed="rId2"/>
          <a:stretch/>
        </p:blipFill>
        <p:spPr>
          <a:xfrm>
            <a:off x="395280" y="907920"/>
            <a:ext cx="8358120" cy="49294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539640" y="5300640"/>
            <a:ext cx="2519640" cy="50472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564000" y="5300640"/>
            <a:ext cx="2232000" cy="50472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56360" y="5229360"/>
            <a:ext cx="2592360" cy="57600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3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РАЗЛОЖИ СЛОВА НА ЧАСТИ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68360" y="1844640"/>
          <a:ext cx="8351640" cy="4064040"/>
        </p:xfrm>
        <a:graphic>
          <a:graphicData uri="http://schemas.openxmlformats.org/drawingml/2006/table">
            <a:tbl>
              <a:tblPr/>
              <a:tblGrid>
                <a:gridCol w="2117520"/>
                <a:gridCol w="1697040"/>
                <a:gridCol w="1273320"/>
                <a:gridCol w="1512720"/>
                <a:gridCol w="1751040"/>
              </a:tblGrid>
              <a:tr h="545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Укажите части с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иста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ор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онч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огу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п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г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зем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езлес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дар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двод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09:15:41Z</dcterms:created>
  <dc:creator>Admin</dc:creator>
  <dc:description/>
  <dc:language>en-US</dc:language>
  <cp:lastModifiedBy>user</cp:lastModifiedBy>
  <dcterms:modified xsi:type="dcterms:W3CDTF">2021-11-10T18:10:38Z</dcterms:modified>
  <cp:revision>86</cp:revision>
  <dc:subject/>
  <dc:title>Слайд 1</dc:title>
</cp:coreProperties>
</file>