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94CF-FB75-401C-9984-15809EC8C4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D60-18CB-41D0-A09A-F81B56762E9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D6B8-95D4-4354-92F4-23631323C8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CD3-29A8-47AE-A64E-E78BDFBB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8DC-CE30-4072-BFEF-673E6DB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998-E740-4B7C-A3EF-D5A58A4F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F8D-E6E1-401D-888C-4208914E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AC7E-0462-4EA3-B67B-6C31C044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0BC4-E682-422B-927E-2F5AABB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B24F-7A75-466C-8BD5-B6A5C91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E99D-53F4-43F2-BC7E-55992445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BDB6-34B7-4554-AC37-6522F7E4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CC22-4E36-460F-9B2A-CD43B561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66D4-733E-4C40-9982-39E9463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8BB-7C22-429A-A3CE-A5AE4C1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D1AF-FDD6-4C02-A458-82A9E25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C516-EDFB-44B0-8C29-86AA6E9F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3B41-8FE7-4FCD-A6BF-678AD785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6DD8-2E77-4145-B71F-E3752C0B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BF0C-9873-4D83-8D98-AC55F32F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A065-9D29-461F-93EE-4AC317E0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B351-8C19-4E49-B668-F3A30C6C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3A06-EAC2-4A24-A783-D5D1636D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DE48-0B8F-45BE-9973-B0F9EC3E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0A7B-C7A6-44F5-BAB4-C7D6A8DA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8DA-685E-42A8-9976-0A66F68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1C79-B88B-4009-BCD4-CA313E52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B8FB-A267-43DF-B144-4711679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E8A2-53C4-4B4C-A8E8-8EDED7A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A891-568D-4C2E-AEC0-90223558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70BE-49AF-433D-9FEA-AE405679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6AA2-2A2F-4983-86E0-9EEAA0EC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4E5E-20F8-48C0-8FEA-6501B8EA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ED23-E99F-4271-8001-AACBF825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C846-5A5F-4FFB-A893-BE876DB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CAF12-DFEB-4553-AD1D-1F2C8A73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765-119E-49B0-8589-E0B0E7C2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4B61-AE0E-4F44-8B16-828ED17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A2F3-121F-4EF8-9FA2-2F0BF677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0D02-5AB8-4271-9A24-62B7C35A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D803-DE6F-4FC9-950B-6B03B477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576F-D26C-4E6E-964A-5D5EF42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1AEA2-B2D3-4A20-8FC7-A71B910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7E4A-EAD7-4CC7-87DC-8A525802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736AC-E2D3-4932-AD64-1BF64052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9A32-60A3-4FFD-9622-8E4A0A26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CE69-D7F7-4CD5-8973-FB04B9A8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CA3-A518-44BC-A9A1-05A8435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A515-A0CC-4176-BDF3-FAADF277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B7A8F-546E-45DE-983F-B4FC1461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4A2D4-D31D-48DF-BA64-4314E93D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BF6BF-B198-459F-B2EA-4587345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8AE9-E2D5-4E20-8F8B-37E40CC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B5541-58AC-4BA0-A187-C3373BE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3B9CD-DF88-4DBF-A96F-3D40713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9289-9622-4283-8296-34C0E11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6866-61A8-4CF1-8CB7-15D5FB81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02C61-DC8E-443E-BA22-F941AB38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FAA-A0A6-4A48-A31A-58311C54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8082-AD9A-4EEA-B4B3-56CB2BE5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1930-4100-493E-950B-A5588355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B1EC-DE1F-48B5-A070-4B8551C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32299-F9B8-446C-9158-10E0A3D7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8AF9-A596-4A52-814D-B151DCEE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29D2-81E8-42FD-8827-0C397108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D6D16-11CD-453B-A5B9-37B56AC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2BEF1-996C-474B-A6F2-FAF5BA13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96BA-7F13-4DBB-95D7-C13D0AC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8FAB3-A4D0-468C-95D7-EF09CEF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95E-D3BA-4E52-A189-C675139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772B-DAF4-4F53-BC2D-C2B56EDE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C4C1A-691C-430D-B2AB-9B2FCD8E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A9C0-8E60-49C8-BFAC-945928C0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BA4-DFBC-4057-BD09-627E4FC0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FBF-4E42-457F-BF2C-2DF4F02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593B-DC1A-48DA-9445-F1FF5FFEC52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5B39-10BC-4125-A8C8-D47F47F35A4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4D35-7449-4430-BE4A-1F33D6F8FF7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A594-C1F7-49D1-8E67-B7E777420D2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98B3-5BD9-422D-9F59-498F00F06DD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48CF-4EDF-491D-8BEC-DF43445AF96F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 flipH="1">
            <a:off x="0" y="0"/>
            <a:ext cx="9144000" cy="189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 flipH="1">
            <a:off x="-28584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0d506a"/>
              </a:gs>
              <a:gs pos="50000">
                <a:srgbClr val="1cade4"/>
              </a:gs>
              <a:gs pos="100000">
                <a:srgbClr val="0d50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5400000">
            <a:off x="-4680" y="432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0" y="646272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 rot="11050800">
            <a:off x="8739000" y="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"/>
          <p:cNvSpPr/>
          <p:nvPr/>
        </p:nvSpPr>
        <p:spPr>
          <a:xfrm rot="16200000">
            <a:off x="8744040" y="6458040"/>
            <a:ext cx="404640" cy="395280"/>
          </a:xfrm>
          <a:prstGeom prst="rtTriangle">
            <a:avLst/>
          </a:prstGeom>
          <a:gradFill rotWithShape="0">
            <a:gsLst>
              <a:gs pos="0">
                <a:srgbClr val="1cade4"/>
              </a:gs>
              <a:gs pos="100000">
                <a:srgbClr val="0d5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8"/>
          <p:cNvSpPr txBox="1"/>
          <p:nvPr/>
        </p:nvSpPr>
        <p:spPr>
          <a:xfrm>
            <a:off x="2286000" y="500040"/>
            <a:ext cx="50007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76"/>
                    </a:gs>
                    <a:gs pos="50000">
                      <a:srgbClr val="3366ff"/>
                    </a:gs>
                    <a:gs pos="100000">
                      <a:srgbClr val="182f76"/>
                    </a:gs>
                  </a:gsLst>
                  <a:lin ang="5400000"/>
                </a:gradFill>
                <a:latin typeface="Arial"/>
              </a:rPr>
              <a:t>Урок русского язы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182f76"/>
                  </a:gs>
                  <a:gs pos="50000">
                    <a:srgbClr val="3366ff"/>
                  </a:gs>
                  <a:gs pos="100000">
                    <a:srgbClr val="182f7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76"/>
                    </a:gs>
                    <a:gs pos="50000">
                      <a:srgbClr val="3366ff"/>
                    </a:gs>
                    <a:gs pos="100000">
                      <a:srgbClr val="182f76"/>
                    </a:gs>
                  </a:gsLst>
                  <a:lin ang="5400000"/>
                </a:gradFill>
                <a:latin typeface="Arial"/>
              </a:rPr>
              <a:t>3 клас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182f76"/>
                  </a:gs>
                  <a:gs pos="50000">
                    <a:srgbClr val="3366ff"/>
                  </a:gs>
                  <a:gs pos="100000">
                    <a:srgbClr val="182f7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2916360" y="609300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bri"/>
              </a:rPr>
              <a:t>УМК "Школа Росс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1258920" y="1413000"/>
            <a:ext cx="58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bri"/>
              </a:rPr>
              <a:t>урок – закрепление и систематизация 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WordArt 22" descr=""/>
          <p:cNvPicPr/>
          <p:nvPr/>
        </p:nvPicPr>
        <p:blipFill>
          <a:blip r:embed="rId1"/>
          <a:stretch/>
        </p:blipFill>
        <p:spPr>
          <a:xfrm>
            <a:off x="2036880" y="2432160"/>
            <a:ext cx="6070320" cy="35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РАЗЛОЖИ СЛОВА НА ЧАСТИ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2085840"/>
                <a:gridCol w="1673280"/>
                <a:gridCol w="1254240"/>
                <a:gridCol w="1490760"/>
                <a:gridCol w="1725480"/>
              </a:tblGrid>
              <a:tr h="6523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кажите части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иста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гу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зем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з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зле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с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ы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а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а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вод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од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0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КЛЮЧ ДЛЯ 1 ВАРИАНТА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8" name="Нижний колонтитул 11"/>
          <p:cNvSpPr/>
          <p:nvPr/>
        </p:nvSpPr>
        <p:spPr>
          <a:xfrm>
            <a:off x="1619280" y="0"/>
            <a:ext cx="6215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2"/>
          <p:cNvGrpSpPr/>
          <p:nvPr/>
        </p:nvGrpSpPr>
        <p:grpSpPr>
          <a:xfrm>
            <a:off x="611280" y="1267920"/>
            <a:ext cx="7704000" cy="5148360"/>
            <a:chOff x="611280" y="1267920"/>
            <a:chExt cx="7704000" cy="5148360"/>
          </a:xfrm>
        </p:grpSpPr>
        <p:sp>
          <p:nvSpPr>
            <p:cNvPr id="320" name="Rectangle 4"/>
            <p:cNvSpPr/>
            <p:nvPr/>
          </p:nvSpPr>
          <p:spPr>
            <a:xfrm>
              <a:off x="611280" y="1267920"/>
              <a:ext cx="7704000" cy="50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Прочитай внимательно текст. В подчеркнутых словах выдели приставку.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Слов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</a:rPr>
                <a:t>снежинки, пушистый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азбери по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составу. Озаглавь текст.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ишл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има. Первые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нежинки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закружилис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в воздухе. Лес весь пушистый и белый. Теперь тетеревам незачем прятаться в лесную чащу. Прямо с деревьев нырнули вниз, в мягки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ушистый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нег, и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 закопалис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в нем. Ветер не дует, и от врагов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прятать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можно. Хорошо там!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Группа 15"/>
            <p:cNvGrpSpPr/>
            <p:nvPr/>
          </p:nvGrpSpPr>
          <p:grpSpPr>
            <a:xfrm>
              <a:off x="1298520" y="2585880"/>
              <a:ext cx="647640" cy="287640"/>
              <a:chOff x="1298520" y="2585880"/>
              <a:chExt cx="647640" cy="287640"/>
            </a:xfrm>
          </p:grpSpPr>
          <p:sp>
            <p:nvSpPr>
              <p:cNvPr id="322" name="Line 11"/>
              <p:cNvSpPr/>
              <p:nvPr/>
            </p:nvSpPr>
            <p:spPr>
              <a:xfrm>
                <a:off x="1298520" y="2585880"/>
                <a:ext cx="642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2"/>
              <p:cNvSpPr/>
              <p:nvPr/>
            </p:nvSpPr>
            <p:spPr>
              <a:xfrm>
                <a:off x="1946160" y="2585880"/>
                <a:ext cx="0" cy="28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Группа 15"/>
            <p:cNvGrpSpPr/>
            <p:nvPr/>
          </p:nvGrpSpPr>
          <p:grpSpPr>
            <a:xfrm>
              <a:off x="725400" y="2959200"/>
              <a:ext cx="428760" cy="285480"/>
              <a:chOff x="725400" y="2959200"/>
              <a:chExt cx="428760" cy="285480"/>
            </a:xfrm>
          </p:grpSpPr>
          <p:sp>
            <p:nvSpPr>
              <p:cNvPr id="325" name="Line 11"/>
              <p:cNvSpPr/>
              <p:nvPr/>
            </p:nvSpPr>
            <p:spPr>
              <a:xfrm>
                <a:off x="725400" y="2959200"/>
                <a:ext cx="427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2"/>
              <p:cNvSpPr/>
              <p:nvPr/>
            </p:nvSpPr>
            <p:spPr>
              <a:xfrm>
                <a:off x="1154160" y="2959200"/>
                <a:ext cx="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Группа 15"/>
            <p:cNvGrpSpPr/>
            <p:nvPr/>
          </p:nvGrpSpPr>
          <p:grpSpPr>
            <a:xfrm>
              <a:off x="5651640" y="5072040"/>
              <a:ext cx="357120" cy="214200"/>
              <a:chOff x="5651640" y="5072040"/>
              <a:chExt cx="357120" cy="214200"/>
            </a:xfrm>
          </p:grpSpPr>
          <p:sp>
            <p:nvSpPr>
              <p:cNvPr id="328" name="Line 11"/>
              <p:cNvSpPr/>
              <p:nvPr/>
            </p:nvSpPr>
            <p:spPr>
              <a:xfrm>
                <a:off x="5651640" y="5072040"/>
                <a:ext cx="355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2"/>
              <p:cNvSpPr/>
              <p:nvPr/>
            </p:nvSpPr>
            <p:spPr>
              <a:xfrm>
                <a:off x="6008760" y="5072040"/>
                <a:ext cx="0" cy="21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Группа 15"/>
            <p:cNvGrpSpPr/>
            <p:nvPr/>
          </p:nvGrpSpPr>
          <p:grpSpPr>
            <a:xfrm>
              <a:off x="611280" y="6021360"/>
              <a:ext cx="290520" cy="144360"/>
              <a:chOff x="611280" y="6021360"/>
              <a:chExt cx="290520" cy="144360"/>
            </a:xfrm>
          </p:grpSpPr>
          <p:sp>
            <p:nvSpPr>
              <p:cNvPr id="331" name="Line 11"/>
              <p:cNvSpPr/>
              <p:nvPr/>
            </p:nvSpPr>
            <p:spPr>
              <a:xfrm>
                <a:off x="611280" y="6021360"/>
                <a:ext cx="289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2"/>
              <p:cNvSpPr/>
              <p:nvPr/>
            </p:nvSpPr>
            <p:spPr>
              <a:xfrm>
                <a:off x="901800" y="6021360"/>
                <a:ext cx="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Дуга 17"/>
            <p:cNvSpPr/>
            <p:nvPr/>
          </p:nvSpPr>
          <p:spPr>
            <a:xfrm rot="18902400">
              <a:off x="4986000" y="2730240"/>
              <a:ext cx="171612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Дуга 18"/>
            <p:cNvSpPr/>
            <p:nvPr/>
          </p:nvSpPr>
          <p:spPr>
            <a:xfrm rot="18902400">
              <a:off x="1834920" y="5046480"/>
              <a:ext cx="1225440" cy="109692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5000" y="0"/>
                  </a:moveTo>
                  <a:cubicBezTo>
                    <a:pt x="7761" y="0"/>
                    <a:pt x="9999" y="2242"/>
                    <a:pt x="9999" y="5007"/>
                  </a:cubicBezTo>
                  <a:lnTo>
                    <a:pt x="5000" y="5007"/>
                  </a:lnTo>
                  <a:lnTo>
                    <a:pt x="5000" y="0"/>
                  </a:lnTo>
                  <a:close/>
                </a:path>
                <a:path fill="none" w="10000" h="10000">
                  <a:moveTo>
                    <a:pt x="5000" y="0"/>
                  </a:moveTo>
                  <a:cubicBezTo>
                    <a:pt x="7761" y="0"/>
                    <a:pt x="9999" y="2242"/>
                    <a:pt x="9999" y="500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Группа 36"/>
            <p:cNvGrpSpPr/>
            <p:nvPr/>
          </p:nvGrpSpPr>
          <p:grpSpPr>
            <a:xfrm>
              <a:off x="2987280" y="4830120"/>
              <a:ext cx="500400" cy="357840"/>
              <a:chOff x="2987280" y="4830120"/>
              <a:chExt cx="500400" cy="357840"/>
            </a:xfrm>
          </p:grpSpPr>
          <p:sp>
            <p:nvSpPr>
              <p:cNvPr id="336" name="Прямая соединительная линия 20"/>
              <p:cNvSpPr/>
              <p:nvPr/>
            </p:nvSpPr>
            <p:spPr>
              <a:xfrm>
                <a:off x="3222720" y="4830840"/>
                <a:ext cx="264960" cy="357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Прямая соединительная линия 21"/>
              <p:cNvSpPr/>
              <p:nvPr/>
            </p:nvSpPr>
            <p:spPr>
              <a:xfrm flipH="1">
                <a:off x="2987280" y="4830120"/>
                <a:ext cx="23508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Группа 36"/>
            <p:cNvGrpSpPr/>
            <p:nvPr/>
          </p:nvGrpSpPr>
          <p:grpSpPr>
            <a:xfrm>
              <a:off x="6516720" y="2491560"/>
              <a:ext cx="360360" cy="307080"/>
              <a:chOff x="6516720" y="2491560"/>
              <a:chExt cx="360360" cy="307080"/>
            </a:xfrm>
          </p:grpSpPr>
          <p:sp>
            <p:nvSpPr>
              <p:cNvPr id="339" name="Прямая соединительная линия 23"/>
              <p:cNvSpPr/>
              <p:nvPr/>
            </p:nvSpPr>
            <p:spPr>
              <a:xfrm>
                <a:off x="6686640" y="2492280"/>
                <a:ext cx="190440" cy="30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Прямая соединительная линия 24"/>
              <p:cNvSpPr/>
              <p:nvPr/>
            </p:nvSpPr>
            <p:spPr>
              <a:xfrm flipH="1">
                <a:off x="6516720" y="2491560"/>
                <a:ext cx="169920" cy="27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Rectangle 27"/>
            <p:cNvSpPr/>
            <p:nvPr/>
          </p:nvSpPr>
          <p:spPr>
            <a:xfrm>
              <a:off x="7161120" y="2670120"/>
              <a:ext cx="289080" cy="36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8"/>
            <p:cNvSpPr/>
            <p:nvPr/>
          </p:nvSpPr>
          <p:spPr>
            <a:xfrm>
              <a:off x="3564000" y="5132520"/>
              <a:ext cx="647640" cy="361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Группа 36"/>
            <p:cNvGrpSpPr/>
            <p:nvPr/>
          </p:nvGrpSpPr>
          <p:grpSpPr>
            <a:xfrm>
              <a:off x="6948360" y="2491560"/>
              <a:ext cx="216000" cy="286560"/>
              <a:chOff x="6948360" y="2491560"/>
              <a:chExt cx="216000" cy="286560"/>
            </a:xfrm>
          </p:grpSpPr>
          <p:sp>
            <p:nvSpPr>
              <p:cNvPr id="344" name="Прямая соединительная линия 23"/>
              <p:cNvSpPr/>
              <p:nvPr/>
            </p:nvSpPr>
            <p:spPr>
              <a:xfrm>
                <a:off x="7049880" y="2492280"/>
                <a:ext cx="114480" cy="285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Прямая соединительная линия 24"/>
              <p:cNvSpPr/>
              <p:nvPr/>
            </p:nvSpPr>
            <p:spPr>
              <a:xfrm flipH="1">
                <a:off x="6948360" y="2491560"/>
                <a:ext cx="101520" cy="255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0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КЛЮЧ ДЛЯ 2 ВАРИАНТА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8" name="Нижний колонтитул 11"/>
          <p:cNvSpPr/>
          <p:nvPr/>
        </p:nvSpPr>
        <p:spPr>
          <a:xfrm>
            <a:off x="1619280" y="0"/>
            <a:ext cx="6215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2"/>
          <p:cNvGrpSpPr/>
          <p:nvPr/>
        </p:nvGrpSpPr>
        <p:grpSpPr>
          <a:xfrm>
            <a:off x="1080" y="1258560"/>
            <a:ext cx="8499600" cy="6028200"/>
            <a:chOff x="1080" y="1258560"/>
            <a:chExt cx="8499600" cy="6028200"/>
          </a:xfrm>
        </p:grpSpPr>
        <p:sp>
          <p:nvSpPr>
            <p:cNvPr id="350" name="Rectangle 4"/>
            <p:cNvSpPr/>
            <p:nvPr/>
          </p:nvSpPr>
          <p:spPr>
            <a:xfrm>
              <a:off x="755280" y="1258560"/>
              <a:ext cx="7745400" cy="47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Прочитай внимательно текст.  Подчеркнутые слова разбери по составу. Найди слова с приставками.</a:t>
              </a:r>
              <a:br>
                <a:rPr sz="2800"/>
              </a:b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Ребята идут в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зимний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лес. Они несут корм для птиц. Вот на дереве висит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кормушк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 На снегу видна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цепочк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ледов разных птиц. На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етку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ела синичка. Над елкой закружила стайка дроздов.  Вот с дерева прыгнула белка.  Полетела </a:t>
              </a: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нежная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ыль.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Группа 36"/>
            <p:cNvGrpSpPr/>
            <p:nvPr/>
          </p:nvGrpSpPr>
          <p:grpSpPr>
            <a:xfrm>
              <a:off x="6106320" y="4004640"/>
              <a:ext cx="143280" cy="357840"/>
              <a:chOff x="6106320" y="4004640"/>
              <a:chExt cx="143280" cy="357840"/>
            </a:xfrm>
          </p:grpSpPr>
          <p:sp>
            <p:nvSpPr>
              <p:cNvPr id="352" name="Прямая соединительная линия 6"/>
              <p:cNvSpPr/>
              <p:nvPr/>
            </p:nvSpPr>
            <p:spPr>
              <a:xfrm>
                <a:off x="6173280" y="4005360"/>
                <a:ext cx="76320" cy="357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7"/>
              <p:cNvSpPr/>
              <p:nvPr/>
            </p:nvSpPr>
            <p:spPr>
              <a:xfrm flipH="1">
                <a:off x="6106320" y="4004640"/>
                <a:ext cx="6660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Группа 36"/>
            <p:cNvGrpSpPr/>
            <p:nvPr/>
          </p:nvGrpSpPr>
          <p:grpSpPr>
            <a:xfrm>
              <a:off x="6609600" y="3499560"/>
              <a:ext cx="500400" cy="358200"/>
              <a:chOff x="6609600" y="3499560"/>
              <a:chExt cx="500400" cy="358200"/>
            </a:xfrm>
          </p:grpSpPr>
          <p:sp>
            <p:nvSpPr>
              <p:cNvPr id="355" name="Прямая соединительная линия 9"/>
              <p:cNvSpPr/>
              <p:nvPr/>
            </p:nvSpPr>
            <p:spPr>
              <a:xfrm>
                <a:off x="6845040" y="3500280"/>
                <a:ext cx="264960" cy="35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Прямая соединительная линия 10"/>
              <p:cNvSpPr/>
              <p:nvPr/>
            </p:nvSpPr>
            <p:spPr>
              <a:xfrm flipH="1">
                <a:off x="6609600" y="3499560"/>
                <a:ext cx="23508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Группа 36"/>
            <p:cNvGrpSpPr/>
            <p:nvPr/>
          </p:nvGrpSpPr>
          <p:grpSpPr>
            <a:xfrm>
              <a:off x="4643280" y="2494800"/>
              <a:ext cx="214200" cy="357840"/>
              <a:chOff x="4643280" y="2494800"/>
              <a:chExt cx="214200" cy="357840"/>
            </a:xfrm>
          </p:grpSpPr>
          <p:sp>
            <p:nvSpPr>
              <p:cNvPr id="358" name="Прямая соединительная линия 12"/>
              <p:cNvSpPr/>
              <p:nvPr/>
            </p:nvSpPr>
            <p:spPr>
              <a:xfrm>
                <a:off x="4744800" y="2495520"/>
                <a:ext cx="112680" cy="357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Прямая соединительная линия 13"/>
              <p:cNvSpPr/>
              <p:nvPr/>
            </p:nvSpPr>
            <p:spPr>
              <a:xfrm flipH="1">
                <a:off x="4643280" y="2494800"/>
                <a:ext cx="101520" cy="3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Группа 36"/>
            <p:cNvGrpSpPr/>
            <p:nvPr/>
          </p:nvGrpSpPr>
          <p:grpSpPr>
            <a:xfrm>
              <a:off x="5098320" y="5299920"/>
              <a:ext cx="214920" cy="429480"/>
              <a:chOff x="5098320" y="5299920"/>
              <a:chExt cx="214920" cy="429480"/>
            </a:xfrm>
          </p:grpSpPr>
          <p:sp>
            <p:nvSpPr>
              <p:cNvPr id="361" name="Прямая соединительная линия 15"/>
              <p:cNvSpPr/>
              <p:nvPr/>
            </p:nvSpPr>
            <p:spPr>
              <a:xfrm>
                <a:off x="5200560" y="5300640"/>
                <a:ext cx="112680" cy="428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Прямая соединительная линия 16"/>
              <p:cNvSpPr/>
              <p:nvPr/>
            </p:nvSpPr>
            <p:spPr>
              <a:xfrm flipH="1">
                <a:off x="5098320" y="5299920"/>
                <a:ext cx="101880" cy="382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Группа 36"/>
            <p:cNvGrpSpPr/>
            <p:nvPr/>
          </p:nvGrpSpPr>
          <p:grpSpPr>
            <a:xfrm>
              <a:off x="1785240" y="3499560"/>
              <a:ext cx="572040" cy="429480"/>
              <a:chOff x="1785240" y="3499560"/>
              <a:chExt cx="572040" cy="429480"/>
            </a:xfrm>
          </p:grpSpPr>
          <p:sp>
            <p:nvSpPr>
              <p:cNvPr id="364" name="Прямая соединительная линия 24"/>
              <p:cNvSpPr/>
              <p:nvPr/>
            </p:nvSpPr>
            <p:spPr>
              <a:xfrm>
                <a:off x="2053800" y="3500280"/>
                <a:ext cx="303480" cy="428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Прямая соединительная линия 25"/>
              <p:cNvSpPr/>
              <p:nvPr/>
            </p:nvSpPr>
            <p:spPr>
              <a:xfrm flipH="1">
                <a:off x="1785240" y="3499560"/>
                <a:ext cx="268200" cy="382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Дуга 26"/>
            <p:cNvSpPr/>
            <p:nvPr/>
          </p:nvSpPr>
          <p:spPr>
            <a:xfrm rot="18902400">
              <a:off x="3202920" y="2784240"/>
              <a:ext cx="171612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Дуга 27"/>
            <p:cNvSpPr/>
            <p:nvPr/>
          </p:nvSpPr>
          <p:spPr>
            <a:xfrm rot="18902400">
              <a:off x="178920" y="3789360"/>
              <a:ext cx="171576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Дуга 28"/>
            <p:cNvSpPr/>
            <p:nvPr/>
          </p:nvSpPr>
          <p:spPr>
            <a:xfrm rot="18902400">
              <a:off x="5098680" y="3860280"/>
              <a:ext cx="1716120" cy="121464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Дуга 29"/>
            <p:cNvSpPr/>
            <p:nvPr/>
          </p:nvSpPr>
          <p:spPr>
            <a:xfrm rot="18902400">
              <a:off x="3585600" y="5643360"/>
              <a:ext cx="1716120" cy="121428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  <a:lnTo>
                    <a:pt x="5005" y="5007"/>
                  </a:lnTo>
                  <a:lnTo>
                    <a:pt x="7040" y="431"/>
                  </a:lnTo>
                  <a:close/>
                </a:path>
                <a:path fill="none" w="10000" h="10000">
                  <a:moveTo>
                    <a:pt x="7040" y="431"/>
                  </a:moveTo>
                  <a:cubicBezTo>
                    <a:pt x="8489" y="1349"/>
                    <a:pt x="9367" y="2945"/>
                    <a:pt x="9367" y="466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Дуга 30"/>
            <p:cNvSpPr/>
            <p:nvPr/>
          </p:nvSpPr>
          <p:spPr>
            <a:xfrm rot="18902400">
              <a:off x="4738320" y="4365720"/>
              <a:ext cx="1565280" cy="1060200"/>
            </a:xfrm>
            <a:custGeom>
              <a:avLst/>
              <a:gdLst/>
              <a:ahLst/>
              <a:rect l="l" t="t" r="r" b="b"/>
              <a:pathLst>
                <a:path stroke="0" w="10000" h="10000">
                  <a:moveTo>
                    <a:pt x="6968" y="404"/>
                  </a:moveTo>
                  <a:cubicBezTo>
                    <a:pt x="8416" y="1321"/>
                    <a:pt x="9294" y="2915"/>
                    <a:pt x="9294" y="4629"/>
                  </a:cubicBezTo>
                  <a:lnTo>
                    <a:pt x="5000" y="5000"/>
                  </a:lnTo>
                  <a:lnTo>
                    <a:pt x="6968" y="404"/>
                  </a:lnTo>
                  <a:close/>
                </a:path>
                <a:path fill="none" w="10000" h="10000">
                  <a:moveTo>
                    <a:pt x="6968" y="404"/>
                  </a:moveTo>
                  <a:cubicBezTo>
                    <a:pt x="8416" y="1321"/>
                    <a:pt x="9294" y="2915"/>
                    <a:pt x="9294" y="462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Группа 15"/>
            <p:cNvGrpSpPr/>
            <p:nvPr/>
          </p:nvGrpSpPr>
          <p:grpSpPr>
            <a:xfrm>
              <a:off x="4593960" y="4653000"/>
              <a:ext cx="361800" cy="287280"/>
              <a:chOff x="4593960" y="4653000"/>
              <a:chExt cx="361800" cy="287280"/>
            </a:xfrm>
          </p:grpSpPr>
          <p:sp>
            <p:nvSpPr>
              <p:cNvPr id="372" name="Line 11"/>
              <p:cNvSpPr/>
              <p:nvPr/>
            </p:nvSpPr>
            <p:spPr>
              <a:xfrm>
                <a:off x="4593960" y="4653000"/>
                <a:ext cx="357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2"/>
              <p:cNvSpPr/>
              <p:nvPr/>
            </p:nvSpPr>
            <p:spPr>
              <a:xfrm>
                <a:off x="4955760" y="4653000"/>
                <a:ext cx="0" cy="28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Группа 15"/>
            <p:cNvGrpSpPr/>
            <p:nvPr/>
          </p:nvGrpSpPr>
          <p:grpSpPr>
            <a:xfrm>
              <a:off x="2290320" y="5589720"/>
              <a:ext cx="500400" cy="285480"/>
              <a:chOff x="2290320" y="5589720"/>
              <a:chExt cx="500400" cy="285480"/>
            </a:xfrm>
          </p:grpSpPr>
          <p:sp>
            <p:nvSpPr>
              <p:cNvPr id="375" name="Line 11"/>
              <p:cNvSpPr/>
              <p:nvPr/>
            </p:nvSpPr>
            <p:spPr>
              <a:xfrm>
                <a:off x="2290320" y="5589720"/>
                <a:ext cx="496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2790720" y="5589720"/>
                <a:ext cx="0" cy="285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33"/>
          <p:cNvSpPr/>
          <p:nvPr/>
        </p:nvSpPr>
        <p:spPr>
          <a:xfrm>
            <a:off x="4859280" y="2637000"/>
            <a:ext cx="39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2411280" y="3716280"/>
            <a:ext cx="28908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7020000" y="3645000"/>
            <a:ext cx="360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6"/>
          <p:cNvSpPr/>
          <p:nvPr/>
        </p:nvSpPr>
        <p:spPr>
          <a:xfrm>
            <a:off x="6227640" y="4221000"/>
            <a:ext cx="28764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5292720" y="5589720"/>
            <a:ext cx="503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0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КЛЮЧ ДЛЯ 3 ВАРИАНТА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84" name="Нижний колонтитул 11"/>
          <p:cNvSpPr/>
          <p:nvPr/>
        </p:nvSpPr>
        <p:spPr>
          <a:xfrm>
            <a:off x="1619280" y="0"/>
            <a:ext cx="6215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C:\Documents and Settings\Administrator\Рабочий стол\карточка 3 сканир.jpg"/>
          <p:cNvPicPr/>
          <p:nvPr/>
        </p:nvPicPr>
        <p:blipFill>
          <a:blip r:embed="rId2"/>
          <a:stretch/>
        </p:blipFill>
        <p:spPr>
          <a:xfrm>
            <a:off x="500040" y="1371600"/>
            <a:ext cx="7870680" cy="47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ДОМАШНЕЕ ЗАДАНИЕ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: Вставить пропущенные суффиксы. Записать текст. По данному началу составить рассказ «В лесу зим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оит на лесной полян…е красавица берез…а. Легкий снеж… опушил ее тон…ие вет…и. И кажется, пришла она из сказ…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0068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СПАСИБО ЗА УРОК!</a:t>
            </a:r>
            <a:br>
              <a:rPr sz="4000"/>
            </a:br>
            <a:endParaRPr b="0" lang="en-US" sz="40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390" name="Picture 3" descr="cabg001"/>
          <p:cNvPicPr/>
          <p:nvPr/>
        </p:nvPicPr>
        <p:blipFill>
          <a:blip r:embed="rId1"/>
          <a:stretch/>
        </p:blipFill>
        <p:spPr>
          <a:xfrm>
            <a:off x="0" y="0"/>
            <a:ext cx="10630080" cy="74296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5"/>
          <p:cNvSpPr/>
          <p:nvPr/>
        </p:nvSpPr>
        <p:spPr>
          <a:xfrm rot="20584800">
            <a:off x="1042920" y="3141720"/>
            <a:ext cx="754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Monotype Corsiva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Documents and Settings\Администратор\Рабочий стол\мама аттестация!!\snezhinko.png"/>
          <p:cNvPicPr/>
          <p:nvPr/>
        </p:nvPicPr>
        <p:blipFill>
          <a:blip r:embed="rId2"/>
          <a:stretch/>
        </p:blipFill>
        <p:spPr>
          <a:xfrm rot="20854200">
            <a:off x="5245200" y="-112680"/>
            <a:ext cx="4043160" cy="404316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428760" y="0"/>
            <a:ext cx="4857480" cy="75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ff"/>
                </a:solidFill>
                <a:latin typeface="Monotype Corsiva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а пришла такая снеж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рыла белыми одежд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еса, поля, дома и улиц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а художница прилежна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разрисует в царство снежно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есит кружева из ине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ая сказочно красив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3071880" y="42876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3643200" y="5643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30592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ЗА…Ц  НАТАШ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С…ЛДАТ  ДЛЯ  АНДРЮШИ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ПШ…НИЦА- СИНИЦ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Б…ЛЕТ  ДЛЯ  ПАВЛУШИ</a:t>
            </a:r>
            <a:br>
              <a:rPr sz="4000"/>
            </a:br>
            <a:endParaRPr b="0" lang="en-US" sz="54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30592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ЗА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Я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Ц  НАТАШ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С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ЛДАТ  ДЛЯ  АНДРЮШИ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ПШ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Е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НИЦА- СИНИЦЕ</a:t>
            </a:r>
            <a:br>
              <a:rPr sz="5400"/>
            </a:b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Б</a:t>
            </a:r>
            <a:r>
              <a:rPr b="0" i="1" lang="ru-RU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</a:t>
            </a:r>
            <a:r>
              <a:rPr b="0" i="1" lang="ru-RU" sz="5400" spc="-1" strike="noStrike">
                <a:solidFill>
                  <a:srgbClr val="0d0d0d"/>
                </a:solidFill>
                <a:latin typeface="Arial Unicode MS"/>
                <a:ea typeface="Arial Unicode MS"/>
              </a:rPr>
              <a:t>ЛЕТ  ДЛЯ  ПАВЛУШИ</a:t>
            </a:r>
            <a:br>
              <a:rPr sz="4000"/>
            </a:br>
            <a:endParaRPr b="0" lang="en-US" sz="54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НАЙДИТЕ СЛОВА, КОТОРЫЕ СООТВЕТСТВУЮТ СХЕМЕ: КОРЕНЬ+НУЛЕВОЕ ОКОНЧАНИЕ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яц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аб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илет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835280" y="1700280"/>
            <a:ext cx="50328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843280" y="2492280"/>
            <a:ext cx="503280" cy="5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2571840" y="3357720"/>
            <a:ext cx="45252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2340000" y="4149720"/>
            <a:ext cx="50328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ПОДБЕРИТЕ ОДНОКОРЕННЫЕ СЛОВА</a:t>
            </a:r>
            <a:endParaRPr b="0" lang="en-US" sz="4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571400"/>
            <a:ext cx="3971880" cy="455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не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е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ро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Хол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е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ВОССТАНОВИТЕ ПОРЯДОК  СЛЕДОВАНИЯ МОРФЕМ В КАЖДОМ СЛОВЕ</a:t>
            </a:r>
            <a:endParaRPr b="0" lang="en-US" sz="40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699920"/>
            <a:ext cx="453528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, дар, и, по       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, гул, про, а      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к, гор, при       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в , берез, 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, енн, снеж, ый 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, изб, уш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572000" y="177336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5003640" y="234936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у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27640" y="2924280"/>
            <a:ext cx="367164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го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932360" y="350028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рез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716360" y="414972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снеж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076720" y="4797360"/>
            <a:ext cx="3672000" cy="5032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3" descr="golub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СОБЕРИ СЛОВО</a:t>
            </a:r>
            <a:br>
              <a:rPr sz="4400"/>
            </a:b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304" name="Содержимое 4" descr="http://festival.1september.ru/articles/567502/3.gif"/>
          <p:cNvPicPr/>
          <p:nvPr/>
        </p:nvPicPr>
        <p:blipFill>
          <a:blip r:embed="rId2"/>
          <a:stretch/>
        </p:blipFill>
        <p:spPr>
          <a:xfrm>
            <a:off x="395280" y="907920"/>
            <a:ext cx="8358120" cy="49294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539640" y="5300640"/>
            <a:ext cx="2519640" cy="504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564000" y="5300640"/>
            <a:ext cx="2232000" cy="504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56360" y="5229360"/>
            <a:ext cx="2592360" cy="57600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3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РАЗЛОЖИ СЛОВА НА ЧАСТИ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68360" y="1844640"/>
          <a:ext cx="8351640" cy="4064040"/>
        </p:xfrm>
        <a:graphic>
          <a:graphicData uri="http://schemas.openxmlformats.org/drawingml/2006/table">
            <a:tbl>
              <a:tblPr/>
              <a:tblGrid>
                <a:gridCol w="2117520"/>
                <a:gridCol w="1697040"/>
                <a:gridCol w="1273320"/>
                <a:gridCol w="1512720"/>
                <a:gridCol w="1751040"/>
              </a:tblGrid>
              <a:tr h="545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кажите части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иста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гу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п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г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зем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зле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а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вод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09:15:41Z</dcterms:created>
  <dc:creator>Admin</dc:creator>
  <dc:description/>
  <dc:language>en-US</dc:language>
  <cp:lastModifiedBy>user</cp:lastModifiedBy>
  <dcterms:modified xsi:type="dcterms:W3CDTF">2021-11-10T18:10:38Z</dcterms:modified>
  <cp:revision>86</cp:revision>
  <dc:subject/>
  <dc:title>Слайд 1</dc:title>
</cp:coreProperties>
</file>