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4DFCB-9628-48FE-B89E-F6F10C7E37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5C857-F039-4C07-A109-9D6AAB4FEE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75CCA-C998-404A-92D8-8F01CD5D27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D2A5A-768F-4FEF-9305-080A18FD84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271D9-F739-41C9-BC9F-2191EB39BC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07796-25D4-4371-8D89-58181D58E5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FD95C-3EB1-419E-8D39-9CB1966AA7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6DEB8-7D80-40D6-BCE1-B69CBD2139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82B1A-746E-49E0-937F-CFB10BCBDF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11FAF-96D7-4D6F-AA56-ADC87F6542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B2D0D-7B75-4673-9D9E-0E69989835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5850D-06B0-41AB-B83C-97BAA6AEEE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2D03A-78E1-4AEF-80B1-30DEBB227C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DC93E-1D98-4380-B74A-77D874ADC6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5B5BE-8D8B-4CDA-B60B-707ECB5B6D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5F0-21DF-427C-A54C-247DD46D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11B-69AA-489B-BF46-14CC61CA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FEA-6C0E-4CAB-AD73-814E1872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E89-7A42-4A70-96D8-254554A7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BDAA-CF2D-4A7B-B5A3-DBE2FACD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2AB-E48D-4320-B6E3-F315607C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21E-ED2E-4323-84D3-1FC35DE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C31-EA18-4557-925A-8DD6F8C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0B6-F4B3-478C-A678-662A170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23F-A253-4690-8B90-CCF624FE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39C-6B1E-45C9-872E-AB5B207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ADC-4D47-498C-B3CE-C6DD316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130141-F9A5-4F90-A7E3-781BBF26D6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3840" y="2422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абораторное исследование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эякуля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753080" y="5394240"/>
            <a:ext cx="489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дготовила: Херсонская К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664000" y="6732720"/>
            <a:ext cx="475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351000"/>
            <a:ext cx="10063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утность эякулят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висит от количества сперматозоидов. Чем больше сперматозоидов, тем более резко выражена молочно-белая мутность. Стекловидно-прозрачная сперма обычно бедная сперматозо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а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определяется органолептически. В нормальном эякуляте он условлен наличием спермина из предстательной железы и напоминает запах цветов каштана. При гнойно-воспалительных процессах запах зависит от микробной флоры, вызвавшей воспаление, иногда становится гнилос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2754360" y="4344840"/>
            <a:ext cx="4394160" cy="27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4160" y="565200"/>
            <a:ext cx="957240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систенция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рмальный эякулят во время выделения жидкий, но на воздухе сразу же приобретает студенистую консистенцию, затем при комнатной температуре происходит постепенное его разжижение за счет ферментов секрета простаты (фибринолизина и фибриногеназы). В норме это происходит через 20-30 мин. При хроническом воспалительном процессе в предстательной железе и семенных пузырьках эякулят долго остается вязким, не разжижается. Вязкая консистенция семени препятствует передвижению сперматозоидов и отражается на их оплодотворяющей 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68360" y="493560"/>
            <a:ext cx="96123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язкость эякулят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яется после его полного разжижения с помощью стеклянной палочки с оплавленным концом. Эякулят перемешивают, избегая пенообразования, стеклянной палочкой, которую затем медленно извлекают и отмечают на глаз длину нити до разрыва. В норме эта величина составляет 1—5 мм (на поверхности палочки остается капля спермы). При повышенной вязкости нить, тянущаяся от поверхности жидкости вслед за палочкой, длиннее 5 мм. При пониженной вязкости нить слизи короче 1 мм (капли на палочке не остаетс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язкость спермы можно определять с помощью гемовискозиметра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норме относительная вязкость колеблется в пределах 6,0-6,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2920" y="851040"/>
            <a:ext cx="9070920" cy="5906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еакц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свежей семенной жидкости определяется при помощи универсальной индикаторной бумаги или с помощью рН-метра. В норме рН спермы колеблется от 7,2 до 7,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наличии большого количества сперматозоидов в результате интенсивного фруктолиза, сопровождающегося накоплением молочной кислоты, рН снижается (происходит подкисление). В кислой среде сперматозоиды теряют способность к движению. При сдвиге рН в кислую сторону до рН=6,0 и ниже, обычно наблюдается некроспер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47680" y="565200"/>
            <a:ext cx="983304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икроскопическое исследова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эякулята проводится после полного его разж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но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в нативном препарате подвижности сперматозоидов (кинезиограмма) и наличие агглютинации или агрег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чет количества сперматозоидов, лейкоцитов и клеток сперматогенеза в камере Горяе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у жизнеспособности сперматозои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морфологии сперматозои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у в этих препаратах других клеточных элементов (макрофагов, эритроцитов, эпителия и т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ие в препаратах, окрашенных по Грамму, грамотрицательных диплокок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гглют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s://dazachatie.ru/wp-content/uploads/2018/07/agglyutinaciya-spermatozoidov2.jpg"/>
          <p:cNvPicPr/>
          <p:nvPr/>
        </p:nvPicPr>
        <p:blipFill>
          <a:blip r:embed="rId1"/>
          <a:stretch/>
        </p:blipFill>
        <p:spPr>
          <a:xfrm>
            <a:off x="314280" y="1338120"/>
            <a:ext cx="6931080" cy="519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ksmu.org.ru/wp-content/uploads/sperm-agglutination.jpg"/>
          <p:cNvPicPr/>
          <p:nvPr/>
        </p:nvPicPr>
        <p:blipFill>
          <a:blip r:embed="rId2"/>
          <a:stretch/>
        </p:blipFill>
        <p:spPr>
          <a:xfrm>
            <a:off x="5591160" y="419256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25440" y="279000"/>
            <a:ext cx="950112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6000"/>
          </a:bodyPr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ценка подвижности сперматозоидов и разделение их по группам – субъективный факт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а не только скорость, но и направление движения. Подвижность каждого сперматозоида классифицируется по категориям  А, В, С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– быстрое поступ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– медленное, вялое поступ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– непоступательное (колебательное, маятникообразное)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подвижные сперматозои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выдается в процен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Рисунок5.jpg"/>
          <p:cNvPicPr/>
          <p:nvPr/>
        </p:nvPicPr>
        <p:blipFill>
          <a:blip r:embed="rId1"/>
          <a:stretch/>
        </p:blipFill>
        <p:spPr>
          <a:xfrm>
            <a:off x="0" y="565200"/>
            <a:ext cx="100807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73040" y="1422360"/>
            <a:ext cx="907272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огласно рекомендациям ВОЗ подсчет проводят в 2 камерах Горяева и результат определяют как среднее 2 определений. В камере Горяева подсчитывают сперматозоиды в 5 больших квадратах по диагонали камеры. Считают только те сперматозоиды, головки которых лежат внутри квадра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Расчет при разведении эякулята в 10 раз ведут по форму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х 250 х 10 х 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=А х 500 00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 А-количество ♂ в 5 квадратах, 250-1/250-объем одного большого квадрата камеры Горяева, 10-степень разведения спермы, 1000- 1000мкл в 1мл эякулята, 5- количество квадратов, в которых подсчитаны сперматозои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>
            <a:off x="2039760" y="3994200"/>
            <a:ext cx="32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11240" y="279360"/>
            <a:ext cx="98582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дсчет количества сперматозоидов, лейкоцитов и клеток сперматогенеза в камере Горя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ические элементы эякул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Рисунок4.jpg"/>
          <p:cNvPicPr/>
          <p:nvPr/>
        </p:nvPicPr>
        <p:blipFill>
          <a:blip r:embed="rId1"/>
          <a:stretch/>
        </p:blipFill>
        <p:spPr>
          <a:xfrm>
            <a:off x="682560" y="1779480"/>
            <a:ext cx="8825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1365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ерматогенезом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ют формирование мужских половых клеток. Процесс этот происходит в яичках, а его продолжительность составляет примерно 75 суток. Образование сперматозоидов начинается под воздействием гормонов при половом созревании. Для полноценного сперматогенеза необходима температура примерно 34 градуса. Именно такая температура поддерживается в яичках, находящихся за пределами мужского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yamuzhchina.ru/wp-content/uploads/2017/03/i-3-3.jpg"/>
          <p:cNvPicPr/>
          <p:nvPr/>
        </p:nvPicPr>
        <p:blipFill>
          <a:blip r:embed="rId1"/>
          <a:stretch/>
        </p:blipFill>
        <p:spPr>
          <a:xfrm>
            <a:off x="157320" y="1101600"/>
            <a:ext cx="9882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Рисунок6.png"/>
          <p:cNvPicPr/>
          <p:nvPr/>
        </p:nvPicPr>
        <p:blipFill>
          <a:blip r:embed="rId1"/>
          <a:stretch/>
        </p:blipFill>
        <p:spPr>
          <a:xfrm>
            <a:off x="754200" y="636480"/>
            <a:ext cx="845964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0920" y="279000"/>
            <a:ext cx="90709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ерматозоид представляет собой длинную (55-65 мкм) клетку, в  нем различают головку, шейку (тело) и хвост. Форма головки овальная, сплюснутая в переднее - заднем направлении, заостренная  в переднем конце, размером 5—6 мкм. Большую часть головки занимает ядро, хроматин которого состоит из 23 хромосом, ДНК несет 50% генетической информации. Шейка короткая, переходит в тело и затем в хвост, содержащий фибриллы. Они обеспечивают движение хвоста и подвижность сперматозои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2254320" y="3851280"/>
            <a:ext cx="55674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6720" y="0"/>
            <a:ext cx="9071280" cy="3176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ую часть семенной жидкости составляю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реты предстательной желез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менных пузырько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Вязкость и студенистость секрета предохраняет сперматозоиды от повреждений при прохождении их по половым путям. Эпителий семенных пузырьков вырабатывает фруктозу, которая является источником энергии спе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нная жидкость, выброшенная за один раз, называ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якулято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825640" y="3851280"/>
            <a:ext cx="45720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авила сбора эякул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36520"/>
            <a:ext cx="907092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72000"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якулят для исследования получают после 3—5-дневного полового воздержания. В этот период недопустимо употребление алкоголя, проведение массажа предстательной железы и семенных пузырьков. Сбор спермы проводят методом мастурбации, при помощи специального вибратора в специальном помещении лаборатории. Материал собирают в чистую сухую посуду, желательно градуированную. Особенно тщательно должны быть собраны первые капли спермы, так как в них содержится около 70% сперматозо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Рисунок3.png"/>
          <p:cNvPicPr/>
          <p:nvPr/>
        </p:nvPicPr>
        <p:blipFill>
          <a:blip r:embed="rId1"/>
          <a:stretch/>
        </p:blipFill>
        <p:spPr>
          <a:xfrm>
            <a:off x="3111480" y="4708440"/>
            <a:ext cx="393372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000" y="1136160"/>
            <a:ext cx="90709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56000"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опустимо собирать и доставлять эякулят в презервативе или получать прерыванием полового акта. В отдельных случаях можно получать эякулят  в домашних условиях, но в посуду, полученную в лаборатории, при этом на бланке отмечается место сбора материала. Сперматозоиды обладают небольшим запасом энергии и при активном движении в тепле быстро истощают запас ее и становятся неподвижными. При низкой температуре необходимо оградить сперму от переохлаждения. Доставка спермы в лабораторию должна быть не позже 30-40 мин после эяк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397320" y="4923000"/>
            <a:ext cx="3929040" cy="2388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53964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авила сбора эякул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840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КО-ХИМИЧЕСКИЕ СВОЙСТВА СЕМЕННОЙ ЖИД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-23760" y="2708280"/>
            <a:ext cx="101044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ичество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эякулята измеряют в градуированной пробирке. У здоровых мужчин объем спермы за эякуляцию составляет 3—4 мл. Выделение значительного количества семени (более 6 мл) — полиспермия. Уменьшается до 1 мл - олигоспер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4935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вет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енная жидкость в норме имеет серовато-беловатый цвет с молочно-белой опалесценцией. Патологические примеси могут изменять цвет эякулята. При  гемоспермии эякулят окрашен розоватый  или коричневатый цвет. Желтый цвет семенной жидкости наблюдается при гной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Рисунок4.png"/>
          <p:cNvPicPr/>
          <p:nvPr/>
        </p:nvPicPr>
        <p:blipFill>
          <a:blip r:embed="rId1"/>
          <a:stretch/>
        </p:blipFill>
        <p:spPr>
          <a:xfrm>
            <a:off x="1468440" y="3851280"/>
            <a:ext cx="76010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11:17:21Z</dcterms:created>
  <dc:creator>ACER-PC</dc:creator>
  <dc:description/>
  <dc:language>en-US</dc:language>
  <cp:lastModifiedBy>Илья Херсонский</cp:lastModifiedBy>
  <dcterms:modified xsi:type="dcterms:W3CDTF">2021-11-11T05:50:34Z</dcterms:modified>
  <cp:revision>10</cp:revision>
  <dc:subject/>
  <dc:title>Исследование  эякулята</dc:title>
</cp:coreProperties>
</file>