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9D368-451F-4D27-8711-F55C760964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E3DE9-854E-4310-9B67-C5612D277A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CF452-19BC-449F-839A-E4F2E60D1E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07C6D-BFF4-428F-B0A2-8D6E994902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CEDAC-3476-4A43-8E61-7C3B4A128F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BAB4C-7F2B-49F7-B35F-B3B5F97E45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486B8-480C-4EE6-B86F-77F54DC552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5E5B3-011C-46C4-A982-06EB42C93F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989BF-448D-4AA3-A0B6-F2E0C7E17A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E800B-635C-4F5F-BE82-3BFC8C79A5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ED815-0377-4036-A8C8-62D202E2BB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89089-63D9-4FBA-A642-548873E368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30834-AB2F-4A2D-BCDD-87CC818C82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EDBE2-D849-4027-839D-665842114B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8F145-972C-4E04-BE6D-F5188364EB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047-2773-4CEE-89F4-87CE50C2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05E-D531-4BF9-8A13-90662452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256-46D8-4EC1-AF93-7DA6E261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FEB-00A2-4887-A8F0-1564109F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98C2-75EB-4F30-A0D9-020ED3D8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FC1-1B40-4ED4-9869-AEB341AD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DAD-EB9F-42A8-8B0D-B5D03D8B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D11-EED9-4317-B9FA-68C5E655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7EF8-AD9E-4E77-A0FE-A7B65138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BAE-23CE-4486-A2A2-05F48C40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14E-84CF-4706-8B8B-572F5776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6128-E0A0-4C4B-A850-17B32519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BD0FFE-B3E3-4CBC-AEEA-1D6E0A03EE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3840" y="2422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Лабораторное исследование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 эякуля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753080" y="5394240"/>
            <a:ext cx="4895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дготовила: Херсонская К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664000" y="6732720"/>
            <a:ext cx="4752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351000"/>
            <a:ext cx="100630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утность эякулят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висит от количества сперматозоидов. Чем больше сперматозоидов, тем более резко выражена молочно-белая мутность. Стекловидно-прозрачная сперма обычно бедная сперматозои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па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определяется органолептически. В нормальном эякуляте он условлен наличием спермина из предстательной железы и напоминает запах цветов каштана. При гнойно-воспалительных процессах запах зависит от микробной флоры, вызвавшей воспаление, иногда становится гнилос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Рисунок5.png"/>
          <p:cNvPicPr/>
          <p:nvPr/>
        </p:nvPicPr>
        <p:blipFill>
          <a:blip r:embed="rId1"/>
          <a:stretch/>
        </p:blipFill>
        <p:spPr>
          <a:xfrm>
            <a:off x="2754360" y="4344840"/>
            <a:ext cx="4394160" cy="27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4160" y="565200"/>
            <a:ext cx="9572400" cy="36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систенция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рмальный эякулят во время выделения жидкий, но на воздухе сразу же приобретает студенистую консистенцию, затем при комнатной температуре происходит постепенное его разжижение за счет ферментов секрета простаты (фибринолизина и фибриногеназы). В норме это происходит через 20-30 мин. При хроническом воспалительном процессе в предстательной железе и семенных пузырьках эякулят долго остается вязким, не разжижается. Вязкая консистенция семени препятствует передвижению сперматозоидов и отражается на их оплодотворяющей способ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68360" y="493560"/>
            <a:ext cx="961236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язкость эякулят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пределяется после его полного разжижения с помощью стеклянной палочки с оплавленным концом. Эякулят перемешивают, избегая пенообразования, стеклянной палочкой, которую затем медленно извлекают и отмечают на глаз длину нити до разрыва. В норме эта величина составляет 1—5 мм (на поверхности палочки остается капля спермы). При повышенной вязкости нить, тянущаяся от поверхности жидкости вслед за палочкой, длиннее 5 мм. При пониженной вязкости нить слизи короче 1 мм (капли на палочке не остаетс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язкость спермы можно определять с помощью гемовискозиметра.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норме относительная вязкость колеблется в пределах 6,0-6,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02920" y="851040"/>
            <a:ext cx="9070920" cy="59068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еакци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свежей семенной жидкости определяется при помощи универсальной индикаторной бумаги или с помощью рН-метра. В норме рН спермы колеблется от 7,2 до 7,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 наличии большого количества сперматозоидов в результате интенсивного фруктолиза, сопровождающегося накоплением молочной кислоты, рН снижается (происходит подкисление). В кислой среде сперматозоиды теряют способность к движению. При сдвиге рН в кислую сторону до рН=6,0 и ниже, обычно наблюдается некросперм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247680" y="565200"/>
            <a:ext cx="983304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икроскопическое исследование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эякулята проводится после полного его разж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но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в нативном препарате подвижности сперматозоидов (кинезиограмма) и наличие агглютинации или агрег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чет количества сперматозоидов, лейкоцитов и клеток сперматогенеза в камере Горяе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у жизнеспособности сперматозои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морфологии сперматозои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у в этих препаратах других клеточных элементов (макрофагов, эритроцитов, эпителия и т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наружение в препаратах, окрашенных по Грамму, грамотрицательных диплокок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гглютин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s://dazachatie.ru/wp-content/uploads/2018/07/agglyutinaciya-spermatozoidov2.jpg"/>
          <p:cNvPicPr/>
          <p:nvPr/>
        </p:nvPicPr>
        <p:blipFill>
          <a:blip r:embed="rId1"/>
          <a:stretch/>
        </p:blipFill>
        <p:spPr>
          <a:xfrm>
            <a:off x="314280" y="1338120"/>
            <a:ext cx="6931080" cy="5197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ksmu.org.ru/wp-content/uploads/sperm-agglutination.jpg"/>
          <p:cNvPicPr/>
          <p:nvPr/>
        </p:nvPicPr>
        <p:blipFill>
          <a:blip r:embed="rId2"/>
          <a:stretch/>
        </p:blipFill>
        <p:spPr>
          <a:xfrm>
            <a:off x="5591160" y="4192560"/>
            <a:ext cx="44895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25440" y="279000"/>
            <a:ext cx="950112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6000"/>
          </a:bodyPr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Оценка подвижности сперматозоидов и разделение их по группам – субъективный факто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а не только скорость, но и направление движения. Подвижность каждого сперматозоида классифицируется по категориям  А, В, С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– быстрое поступательное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– медленное, вялое поступательное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– непоступательное (колебательное, маятникообразное)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еподвижные сперматозои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 выдается в процен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4" descr="Рисунок5.jpg"/>
          <p:cNvPicPr/>
          <p:nvPr/>
        </p:nvPicPr>
        <p:blipFill>
          <a:blip r:embed="rId1"/>
          <a:stretch/>
        </p:blipFill>
        <p:spPr>
          <a:xfrm>
            <a:off x="0" y="565200"/>
            <a:ext cx="1008072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73040" y="1422360"/>
            <a:ext cx="907272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огласно рекомендациям ВОЗ подсчет проводят в 2 камерах Горяева и результат определяют как среднее 2 определений. В камере Горяева подсчитывают сперматозоиды в 5 больших квадратах по диагонали камеры. Считают только те сперматозоиды, головки которых лежат внутри квадра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Расчет при разведении эякулята в 10 раз ведут по формул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х 250 х 10 х 1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  =А х 500 000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де  А-количество ♂ в 5 квадратах, 250-1/250-объем одного большого квадрата камеры Горяева, 10-степень разведения спермы, 1000- 1000мкл в 1мл эякулята, 5- количество квадратов, в которых подсчитаны сперматозои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7"/>
          <p:cNvSpPr/>
          <p:nvPr/>
        </p:nvSpPr>
        <p:spPr>
          <a:xfrm>
            <a:off x="2039760" y="3994200"/>
            <a:ext cx="32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111240" y="279360"/>
            <a:ext cx="98582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дсчет количества сперматозоидов, лейкоцитов и клеток сперматогенеза в камере Горя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ические элементы эякул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Рисунок4.jpg"/>
          <p:cNvPicPr/>
          <p:nvPr/>
        </p:nvPicPr>
        <p:blipFill>
          <a:blip r:embed="rId1"/>
          <a:stretch/>
        </p:blipFill>
        <p:spPr>
          <a:xfrm>
            <a:off x="682560" y="1779480"/>
            <a:ext cx="8825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1365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ерматогенезом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имают формирование мужских половых клеток. Процесс этот происходит в яичках, а его продолжительность составляет примерно 75 суток. Образование сперматозоидов начинается под воздействием гормонов при половом созревании. Для полноценного сперматогенеза необходима температура примерно 34 градуса. Именно такая температура поддерживается в яичках, находящихся за пределами мужского те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yamuzhchina.ru/wp-content/uploads/2017/03/i-3-3.jpg"/>
          <p:cNvPicPr/>
          <p:nvPr/>
        </p:nvPicPr>
        <p:blipFill>
          <a:blip r:embed="rId1"/>
          <a:stretch/>
        </p:blipFill>
        <p:spPr>
          <a:xfrm>
            <a:off x="157320" y="1101600"/>
            <a:ext cx="988200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Рисунок6.png"/>
          <p:cNvPicPr/>
          <p:nvPr/>
        </p:nvPicPr>
        <p:blipFill>
          <a:blip r:embed="rId1"/>
          <a:stretch/>
        </p:blipFill>
        <p:spPr>
          <a:xfrm>
            <a:off x="754200" y="636480"/>
            <a:ext cx="845964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0920" y="279000"/>
            <a:ext cx="9070920" cy="36594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ерматозоид представляет собой длинную (55-65 мкм) клетку, в  нем различают головку, шейку (тело) и хвост. Форма головки овальная, сплюснутая в переднее - заднем направлении, заостренная  в переднем конце, размером 5—6 мкм. Большую часть головки занимает ядро, хроматин которого состоит из 23 хромосом, ДНК несет 50% генетической информации. Шейка короткая, переходит в тело и затем в хвост, содержащий фибриллы. Они обеспечивают движение хвоста и подвижность сперматозои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Рисунок1.png"/>
          <p:cNvPicPr/>
          <p:nvPr/>
        </p:nvPicPr>
        <p:blipFill>
          <a:blip r:embed="rId1"/>
          <a:stretch/>
        </p:blipFill>
        <p:spPr>
          <a:xfrm>
            <a:off x="2254320" y="3851280"/>
            <a:ext cx="556740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6720" y="0"/>
            <a:ext cx="9071280" cy="3176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2000"/>
          </a:bodyPr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новную часть семенной жидкости составляют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реты предстательной желез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менных пузырьков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Вязкость и студенистость секрета предохраняет сперматозоиды от повреждений при прохождении их по половым путям. Эпителий семенных пузырьков вырабатывает фруктозу, которая является источником энергии спе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менная жидкость, выброшенная за один раз, называ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якулятом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Рисунок2.png"/>
          <p:cNvPicPr/>
          <p:nvPr/>
        </p:nvPicPr>
        <p:blipFill>
          <a:blip r:embed="rId1"/>
          <a:stretch/>
        </p:blipFill>
        <p:spPr>
          <a:xfrm>
            <a:off x="2825640" y="3851280"/>
            <a:ext cx="457200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авила сбора эякул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136520"/>
            <a:ext cx="907092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72000"/>
          </a:bodyPr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якулят для исследования получают после 3—5-дневного полового воздержания. В этот период недопустимо употребление алкоголя, проведение массажа предстательной железы и семенных пузырьков. Сбор спермы проводят методом мастурбации, при помощи специального вибратора в специальном помещении лаборатории. Материал собирают в чистую сухую посуду, желательно градуированную. Особенно тщательно должны быть собраны первые капли спермы, так как в них содержится около 70% сперматозо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Рисунок3.png"/>
          <p:cNvPicPr/>
          <p:nvPr/>
        </p:nvPicPr>
        <p:blipFill>
          <a:blip r:embed="rId1"/>
          <a:stretch/>
        </p:blipFill>
        <p:spPr>
          <a:xfrm>
            <a:off x="3111480" y="4708440"/>
            <a:ext cx="3933720" cy="25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000" y="1136160"/>
            <a:ext cx="907092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 fontScale="56000"/>
          </a:bodyPr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допустимо собирать и доставлять эякулят в презервативе или получать прерыванием полового акта. В отдельных случаях можно получать эякулят  в домашних условиях, но в посуду, полученную в лаборатории, при этом на бланке отмечается место сбора материала. Сперматозоиды обладают небольшим запасом энергии и при активном движении в тепле быстро истощают запас ее и становятся неподвижными. При низкой температуре необходимо оградить сперму от переохлаждения. Доставка спермы в лабораторию должна быть не позже 30-40 мин после эякуля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397320" y="4923000"/>
            <a:ext cx="3929040" cy="23889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539640" y="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авила сбора эякул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28404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ФИЗИКО-ХИМИЧЕСКИЕ СВОЙСТВА СЕМЕННОЙ ЖИД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-23760" y="2708280"/>
            <a:ext cx="1010448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личество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эякулята измеряют в градуированной пробирке. У здоровых мужчин объем спермы за эякуляцию составляет 3—4 мл. Выделение значительного количества семени (более 6 мл) — полиспермия. Уменьшается до 1 мл - олигоспер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000" y="49356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0440" bIns="0" anchor="t">
            <a:normAutofit/>
          </a:bodyPr>
          <a:p>
            <a:pPr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вет.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менная жидкость в норме имеет серовато-беловатый цвет с молочно-белой опалесценцией. Патологические примеси могут изменять цвет эякулята. При  гемоспермии эякулят окрашен розоватый  или коричневатый цвет. Желтый цвет семенной жидкости наблюдается при гной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Рисунок4.png"/>
          <p:cNvPicPr/>
          <p:nvPr/>
        </p:nvPicPr>
        <p:blipFill>
          <a:blip r:embed="rId1"/>
          <a:stretch/>
        </p:blipFill>
        <p:spPr>
          <a:xfrm>
            <a:off x="1468440" y="3851280"/>
            <a:ext cx="7601040" cy="271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11:17:21Z</dcterms:created>
  <dc:creator>ACER-PC</dc:creator>
  <dc:description/>
  <dc:language>en-US</dc:language>
  <cp:lastModifiedBy>Илья Херсонский</cp:lastModifiedBy>
  <dcterms:modified xsi:type="dcterms:W3CDTF">2021-11-11T05:50:34Z</dcterms:modified>
  <cp:revision>10</cp:revision>
  <dc:subject/>
  <dc:title>Исследование  эякулята</dc:title>
</cp:coreProperties>
</file>