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F88-963D-4049-89BE-DBB67AA0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AA3-74D6-4054-9F1F-F844AB1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80C-1556-4575-805C-45C2E68A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ACD-2B50-4ED0-A9AF-C80B2951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94C-A7F1-4C82-8247-DC4FABC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A87-1642-497F-B2B2-3908E30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A1E-C315-495C-87A0-01931F53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F99-F2AE-4927-8AF4-81CCE0D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29B-D8C1-41F3-B391-1463BA75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F84-5F5F-40BB-AC75-96F8A37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B92-F4E0-4076-B2FF-42517D3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D9E-BDE4-4D81-AC68-252A5DE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9ED-CCAB-4BE7-B965-44D18D9A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560" y="6381720"/>
            <a:ext cx="8877240" cy="4428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omic Sans MS"/>
              </a:rPr>
              <a:t>Воспитатели: Василькова А.Ю., Буякова В.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2276640"/>
            <a:ext cx="4608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«ВРАЧОВСКАЯ НШД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ЭКОЛОГИЧЕСКИ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руппе «Весёлые звоно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«ВЕСЁЛЫЙ ОГОРОД В ДЕРЕВ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04640"/>
            <a:ext cx="488160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ид, тип проект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овой, краткосрочный, информационно-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роки реал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03.2021. – 02.04.20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Участник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ники разновозрастной группы «Весёлые звоночки», воспитатели, родител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озраст детей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-252360" y="0"/>
            <a:ext cx="9150120" cy="101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539640" y="1052640"/>
            <a:ext cx="8209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Актуаль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ияние окружающего мира на развитие ребенка огромно. Многие родители даже не подозревают, что зелёное царство начнёт вызывать огромный интерес у ребёнка, если взрослые научат его наблюдать за растениями, видеть в зелёном ростке особое живое существо, жизнь которого целиком зависит от того, получает оно уход или нет. Только с помощью взрослого дошкольник может понять, что жизнь растений зависит от наличия тепла, света и хорошей почвы, научится отличать здоровое растение от слабого, хилого, требующего «лечения», а научившись понимать состояние растений, ребёнок будет сочувствовать и ухаживать за ним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знакомление с ростом и развитием растений можно осуществлять в зимне-весенний период, выращивая в помещении детского сада различные культуры из семян и луковиц, используя для этого «огород на окне». А изменения в природе, побуждают бережно относится к растениям, ухаживать за обитателями уголка природы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им образом, решаются задачи познавательно – исследовательского, социально – исследовательского, социально – личностного, эстетического развития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0" y="255600"/>
            <a:ext cx="9150480" cy="804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9640" y="1471680"/>
            <a:ext cx="820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0920" y="1484280"/>
            <a:ext cx="864216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условий стимулирующих интерес к исследовательской деятельности, вовлечение детей в практическую деятельность по выращиванию культурных огородных растений и развитие потребности ухода за огородными культурами, умение наблюдать за их ро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-324000" y="0"/>
            <a:ext cx="9150480" cy="7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4000" y="691920"/>
            <a:ext cx="8640720" cy="41050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ить знания детей о культурных расте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ать знакомить детей с особенностями выращивания культурных растений (перец, лук, укроп, редис, овес, базилик, мелисса, броккол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бщать представление детей о необходимости света, тепла, влаги почвы для роста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особствовать развитию творческих способностей у детей; поощрять разнообразие детских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вать чувство ответственности за благополучное состояние растений (полив, взрыхле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ать развивать наблюдательность – умение замечать изменения в росте растений, связывать их с условиями, в которых они находятся, правильно отражать наблюдения в рисун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ывать уважение к труду, бережное отношение к его результа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89000"/>
            <a:ext cx="63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познакомятся с культурными раст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опытнической работы дети получат необходимые условия для роста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исследовательской работы дети должны будут выявить многообразие и разнообразие посев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детей будет формироваться бережное отношение к растительному ми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 детей уважительного отношения к тру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в группе огорода на подокон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родителей в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0" y="255600"/>
            <a:ext cx="9150480" cy="804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70792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9640" y="1471680"/>
            <a:ext cx="8209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250920" y="765000"/>
            <a:ext cx="864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Этапы работы над про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26828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дготовительный этап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1.03.21.- 05.03.21. (1 неделя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цели и задач проекта, сбор информационного материала, создание условий для организации работы в “огороде на окне”, составление плана мероприятий по организации дет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ой этап (реализация проекта)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9.03.21.-26.03.21. (2, 3, 4 недели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ятся запланированные мероприятия для реализации проекта (беседы, опыты, эксперименты, творческая деятельность, рассматривание иллюстраций, чт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лючительный этап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9.03.21.-02.04.21. (5 неделя)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одятся итоги, подготавливается презентация, итоговая бе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60280"/>
            <a:ext cx="660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Результатив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познакомились с культурными растени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мощью опытнической работы дети узнали необходимые условия для роста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мощью исследовательской работы дети выявили многообразие и разнообразие посевного матери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стали бережнее относиться к растительному миру, появилось чувство ответственности за благополучное состояние раст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гатили словарный запас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готовили поделки по лепке, аппликации, рисова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гатили эмоции воспитан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ли условия для развития исследовательской деятельности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формили выставку по продуктивной деятельности «Удивительное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ли в группе огород на подоконн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ти стали более уважительно относиться к тру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ализовали проект: “Весёлый огород в деревне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или презентацию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0:07:42Z</dcterms:created>
  <dc:creator>user</dc:creator>
  <dc:description/>
  <dc:language>en-US</dc:language>
  <cp:lastModifiedBy>user</cp:lastModifiedBy>
  <dcterms:modified xsi:type="dcterms:W3CDTF">2001-12-31T21:02:56Z</dcterms:modified>
  <cp:revision>2</cp:revision>
  <dc:subject/>
  <dc:title>Слайд 1</dc:title>
</cp:coreProperties>
</file>