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496-9E26-4006-A958-AB5E6EC6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A908-8960-4A66-90C7-33908075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510-1E2E-457D-93B8-A533B99F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843-26BA-4887-A916-5FCB62C6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5CFF-9605-4539-A650-159EB2DF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5F2B-8537-4D15-ADD7-56884866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43DA-DF97-424F-8231-89356416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BEE8-3BEE-4094-8A8B-5D95FFD5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54AA-6D1C-48C7-BAD9-4DD25DDA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70E0-F822-4A47-93F7-91F1B2EB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71CF-4E62-40A3-8690-CCFA17E8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EC4-C382-497A-97F2-21E7F73E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04AF-0C5E-4B3D-9F87-FB301346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4470-A6B6-4C96-A499-6F24165B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AD1A-C514-4B2B-A74A-C5F60903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F214-922A-4F64-A82C-29165635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C92F-D57B-460A-8016-0321954F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80062-EF7C-42E9-B160-AD6323F2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A283F-CF43-4B13-9734-A4397579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7B10F-A0EE-4C75-B543-E479D9DD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5E630-B449-4A21-B0CA-64BB3223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A3795-1DDD-4407-A5E8-CAD8D109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EEC3-A333-4710-8812-19F9561B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C9CD3-C599-4D9F-BB50-EC4D99F0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4C7F2-E0C4-45DB-A09C-9E904253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78428-5F3A-4F29-B5DA-520E2676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A92B9-4A4A-4B98-BE1C-EF9DD532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22E97-62CF-444A-A18E-3657D73D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AD76F-8CD2-4D9B-9546-FF86C003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98033-5AA0-4330-AB95-E36DA262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CFBE7-648F-4C9B-B6F3-773EB2F1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6603C-17C8-44C4-A039-C17853D1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A143F-1721-4102-A185-E1F9C241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8ED-FEE6-4C27-937C-BCCA0103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AFA0A-9564-467A-81D9-64D366A8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37C38-DD61-466B-86E0-01E164E9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88C4C-B20C-4965-BC06-D0716318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E64AB-36AF-4F13-8F79-EAC01532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C4DAC-8BC5-457C-ADAF-718E8193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D41D5-229F-47D2-984B-D5196381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46915-572D-4421-B79D-A0649126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A0FA8-02EF-437E-AB46-DC6736BE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BD491-7F8A-4A31-AF6D-D4325A3C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F715-7CB5-402C-BE3A-E1AC91C0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113F-ADAE-4E64-89ED-01E459A0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2647-3BED-46B3-B9BD-5CB362CB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1956-93FA-4CD7-BC64-22FAE249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A920-2096-4B89-A6F3-BE9DAC90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53D8-603B-4316-8E90-C99C9C23A6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E255-AFB3-4C97-84B5-68BBA5EFEF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5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6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2733-ACD9-49CC-B288-21A80DD41F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3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6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15D4-CE37-41E6-A5A0-69297BE0582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1447560"/>
            <a:ext cx="93250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Профилактика травматизма на уроках физкультуры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363528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Verdana"/>
              </a:rPr>
              <a:t>СОБОЛЕВ ВАСИЛИЙ ЮРЬЕВИЧ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Verdana"/>
              </a:rPr>
              <a:t>учитель физической культуры ОУ «Подсопочная ОШ»,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Verdana"/>
              </a:rPr>
              <a:t>филиал МКОУ «Сухобузимская СШ»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Особенности травм в отдельных видах спорта и их профилактик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843280" y="1483920"/>
            <a:ext cx="58435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Кроме общих организационно-профилактических мер обеспечения безопасности на уроках физической культуры и спортивных соревнованиях в отдельных видах спорта существуют меры профилактики травматизм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Picture 4" descr="http://www.websib.ru/~gardarika/bukvi/images/smile7.gif"/>
          <p:cNvPicPr/>
          <p:nvPr/>
        </p:nvPicPr>
        <p:blipFill>
          <a:blip r:embed="rId2"/>
          <a:stretch/>
        </p:blipFill>
        <p:spPr>
          <a:xfrm>
            <a:off x="0" y="2060640"/>
            <a:ext cx="2448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0" y="60480"/>
            <a:ext cx="795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В спортивном зале, на спортплощадке заниматьс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только в спортивной форм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2.На занятиях физкультурой не должны заниматься в часах, перстнях и браслета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3.Упражнения на спортивных снарядах выполняются с разрешения учителя физической культур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4.Перед выполнением упражнений провести разминку и разогрев мышц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5. Не толкать друг друга, не ставить поднож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6. Обувь должна быть на нескользящей подошве( кроссовки, кеды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7.Если при беге плохо себя почувствовали</a:t>
            </a:r>
            <a:r>
              <a:rPr b="1" lang="ru-RU" sz="2400" spc="-1" strike="noStrike">
                <a:solidFill>
                  <a:srgbClr val="0000cc"/>
                </a:solidFill>
                <a:latin typeface="Verdana"/>
              </a:rPr>
              <a:t>,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перейдите на шаг, а потом</a:t>
            </a:r>
            <a:r>
              <a:rPr b="1" lang="ru-RU" sz="24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сядьте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5" descr="animated_soccer"/>
          <p:cNvPicPr/>
          <p:nvPr/>
        </p:nvPicPr>
        <p:blipFill>
          <a:blip r:embed="rId1"/>
          <a:stretch/>
        </p:blipFill>
        <p:spPr>
          <a:xfrm>
            <a:off x="7308720" y="3645000"/>
            <a:ext cx="158616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0" y="203040"/>
            <a:ext cx="795672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Verdana"/>
              </a:rPr>
              <a:t>Требования безопасности перед началом и во время занятий гимнастико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1.Надеть спортивный костюм и спортивную обувь с нескользящей подошво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2.Протереть гриф перекладины сухой тряпкой и зачистить шкурко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3.Прверить надежность крепления перекладины, крепления опор гимнастического коня и козла, закрепление стопорных винтов брусье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4.В местах соскоков со снарядов положить гимнастические маты так, чтобы их поверхность была ровно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5.Не выполнять упражнения на спортивных снарядах без учителя, а также без страхов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6.При выполнении прыжков и соскоков со снарядов приземляться мягко на носки ступней, пружинисто приседа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7.Не стоять близко к снаряду при выполнении упражнений другим учащимс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8.Не выполнять упражнения на гимнастических снарядах с влажными ладоням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4" name="Picture 5" descr="animated_gymnastics_2"/>
          <p:cNvPicPr/>
          <p:nvPr/>
        </p:nvPicPr>
        <p:blipFill>
          <a:blip r:embed="rId1"/>
          <a:stretch/>
        </p:blipFill>
        <p:spPr>
          <a:xfrm>
            <a:off x="6227640" y="2708280"/>
            <a:ext cx="313236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4"/>
          <p:cNvSpPr/>
          <p:nvPr/>
        </p:nvSpPr>
        <p:spPr>
          <a:xfrm>
            <a:off x="556200" y="0"/>
            <a:ext cx="81968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Verdana"/>
              </a:rPr>
              <a:t>Требования безопасности перед началом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Verdana"/>
              </a:rPr>
              <a:t>и во время занятий по спортивным играм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1.Занятия по спортивным играм проводятся н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спортплощадках и в залах, имеющих размеры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отвечающие требованиям правил игр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2.Площадка должна быть сухой. Если в зале, то пол должен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быть чисто вымытым и сухи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3.Запрещается играть с кольцами, браслетами на руках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серьгами в ушах. Ногти должны быть коротко острижен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4.Провести разминк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5.Все острые и выступающие предметы должны быть заставле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матами и ограждениям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6.Строго соблюдать дисциплину, выполня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требования и указания судьи, учителя, тренер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и капитана команд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7.Спортивная форма(спортивный костюм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майка, трусы, кеды, кроссовки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8.Соблюдать при игре правила данных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видов спорт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9.Занятия должны проходить под руководство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учителя, тренер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6" name="Picture 5" descr="animated_baseball"/>
          <p:cNvPicPr/>
          <p:nvPr/>
        </p:nvPicPr>
        <p:blipFill>
          <a:blip r:embed="rId1"/>
          <a:stretch/>
        </p:blipFill>
        <p:spPr>
          <a:xfrm>
            <a:off x="7020000" y="4149720"/>
            <a:ext cx="148248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4"/>
          <p:cNvSpPr/>
          <p:nvPr/>
        </p:nvSpPr>
        <p:spPr>
          <a:xfrm>
            <a:off x="0" y="0"/>
            <a:ext cx="795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Verdana"/>
              </a:rPr>
              <a:t>Требования безопасности перед началом и во время занятий по легкой атлетик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1.Надеть спортивный костюм и спортивную обувь с нескользящей подошво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2.Тщательно разрыхлить песок в прыжковой яме – месте приземления, проверить отсутствие в песке посторонних предмет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3.Протереть насухо снаряды для метания (диск, ядро, гранату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4.Провести разминк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5.При групповом старте на короткие дистанции бежать только по своей дорожке. Дорожка должна продолжаться не менее чем на 15 м. (за финишную отметку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6.Во избежание столкновений исключить резко «стопорящую» остановк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7.Не выполнять прыжки на неровном , рыхлом и скользком грунте, не приземляться при прыжке на рук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8.Перед выполнением упражнений по метанию посмотреть, нет ли людей в секторе мета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9.Не производить метание без разрешения учителя, не оставлять без присмотра спортинвентар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10. Не стоять справа от метающего, не находиться в зоне броска, не ходить без разрешения  учителя за снарядам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6" descr="animated_run"/>
          <p:cNvPicPr/>
          <p:nvPr/>
        </p:nvPicPr>
        <p:blipFill>
          <a:blip r:embed="rId1"/>
          <a:stretch/>
        </p:blipFill>
        <p:spPr>
          <a:xfrm>
            <a:off x="7093080" y="3348000"/>
            <a:ext cx="2050920" cy="1268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0" y="0"/>
            <a:ext cx="802800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Verdana"/>
              </a:rPr>
              <a:t>Требования безопасности перед началом и во время занятий по лыжной подготовк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1.Получив инвентарь, проверьте его исправность и подгоните крепление лыж к ботинкам в помещении баз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2.Следите за товарищем и при появлении признаков обморожения(побелевшая кожа, потеря чувствительности открытых частей тела),немедленно растирайте поверхность тела рядом с обмороженным до порозовения, после чего слегка растирайте непосредственно обмороженное место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3.Во избежание потертостей не ходите на лыжах, не катайтесь на коньках в тесной или свободной обув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4.Если во время занятий вы по каким-либо причинам сошли с дистанции, обязательно предупредите учителя или товарищ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5.Слушайте внимательно объяснения учителя, соблюдайте интервал при движении на лыжах по дистанции 3-4 м., при спусках не менее 30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6.При спусках не выставляйте лыжные палки вперед, не останавливайтесь у подножия горы: вслед за вами следует товарищ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7.Не катайтесь без перчаток (варежек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8.При сильном морозе открытые части лица смазывайте жиро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0" name="Picture 4" descr="animated_ski"/>
          <p:cNvPicPr/>
          <p:nvPr/>
        </p:nvPicPr>
        <p:blipFill>
          <a:blip r:embed="rId1"/>
          <a:stretch/>
        </p:blipFill>
        <p:spPr>
          <a:xfrm>
            <a:off x="7236000" y="3573360"/>
            <a:ext cx="1908000" cy="190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Сформулируем следующие правила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55640" y="1599840"/>
            <a:ext cx="6357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Знание и соблюдение правил Техники Безопасност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Врачебный контроль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Правила личной гигиен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Качественная разминка и разогрев мышц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Правильное выполнение техники движени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Адекватный расчет сил и возможностей, соблюдение режима дн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Баланс между силой и гибкость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Соблюдение методических принцип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Квалификация учител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4" descr="http://www.websib.ru/~gardarika/bukvi/images/smile7.gif"/>
          <p:cNvPicPr/>
          <p:nvPr/>
        </p:nvPicPr>
        <p:blipFill>
          <a:blip r:embed="rId10"/>
          <a:stretch/>
        </p:blipFill>
        <p:spPr>
          <a:xfrm>
            <a:off x="0" y="981000"/>
            <a:ext cx="2448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65" name="Picture 4" descr="003"/>
          <p:cNvPicPr/>
          <p:nvPr/>
        </p:nvPicPr>
        <p:blipFill>
          <a:blip r:embed="rId1"/>
          <a:stretch/>
        </p:blipFill>
        <p:spPr>
          <a:xfrm>
            <a:off x="3757680" y="2752560"/>
            <a:ext cx="398304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604836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ПРОФИЛАКТИКА  от греческого слова  предохранительный ,или система мер по предупреждению трав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2" name="Picture 2" descr="C:\Users\методический кабинет\Desktop\анима\Анимации\Люди\41.gif"/>
          <p:cNvPicPr/>
          <p:nvPr/>
        </p:nvPicPr>
        <p:blipFill>
          <a:blip r:embed="rId2"/>
          <a:stretch/>
        </p:blipFill>
        <p:spPr>
          <a:xfrm>
            <a:off x="6200640" y="0"/>
            <a:ext cx="2943360" cy="31989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5"/>
          <p:cNvSpPr/>
          <p:nvPr/>
        </p:nvSpPr>
        <p:spPr>
          <a:xfrm>
            <a:off x="2843280" y="1916280"/>
            <a:ext cx="424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Травма –это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повреждение органа, ткани в результате внешнего воздействия (получить , нанести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2532240" y="5950080"/>
            <a:ext cx="63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Травматизм –это наличие трав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Особенность школьного травматизм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316" name="Diagram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317" name="Text Box 22"/>
          <p:cNvSpPr/>
          <p:nvPr/>
        </p:nvSpPr>
        <p:spPr>
          <a:xfrm>
            <a:off x="6351480" y="1068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AutoShape 24"/>
          <p:cNvSpPr/>
          <p:nvPr/>
        </p:nvSpPr>
        <p:spPr>
          <a:xfrm>
            <a:off x="0" y="1341360"/>
            <a:ext cx="9144000" cy="17272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f99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о 80 % на перемена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AutoShape 26"/>
          <p:cNvSpPr/>
          <p:nvPr/>
        </p:nvSpPr>
        <p:spPr>
          <a:xfrm>
            <a:off x="2268360" y="3213000"/>
            <a:ext cx="6875640" cy="1584360"/>
          </a:xfrm>
          <a:custGeom>
            <a:avLst/>
            <a:gdLst>
              <a:gd name="textAreaLeft" fmla="*/ 0 w 6875640"/>
              <a:gd name="textAreaRight" fmla="*/ 6876000 w 68756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f99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коло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70 % во время падений и бег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0" name="Diagram 2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321" name="AutoShape 31"/>
          <p:cNvSpPr/>
          <p:nvPr/>
        </p:nvSpPr>
        <p:spPr>
          <a:xfrm>
            <a:off x="2627280" y="5157720"/>
            <a:ext cx="6337440" cy="1008000"/>
          </a:xfrm>
          <a:custGeom>
            <a:avLst/>
            <a:gdLst>
              <a:gd name="textAreaLeft" fmla="*/ 0 w 6337440"/>
              <a:gd name="textAreaRight" fmla="*/ 6337800 w 6337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f99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нее 20 % при занятиях на спортивных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наряда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Text Box 32"/>
          <p:cNvSpPr/>
          <p:nvPr/>
        </p:nvSpPr>
        <p:spPr>
          <a:xfrm>
            <a:off x="3327480" y="5460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ричины создания травмоопасных ситуаций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Риск возникновения травм у детей обусловлен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недисциплинированностью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неумением распознавать травмоопасную ситуацию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необученностью необходимым навыкам поведения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недооценкой степени опасности внезапно возникшей ситуаци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физической слабостью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определенными особенностями развития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Основными причинами травмирования детей на уроках физкультуры (около четверти всех школьных травм) являются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недочеты в организации и методике проведения уроков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неудовлетворительное состояние части спортивных залов и спортивных площадок, оборудования, инвентаря, одежды и обув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скученность детей во время занятий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5" name="Рисунок 20" descr="141.gif"/>
          <p:cNvPicPr/>
          <p:nvPr/>
        </p:nvPicPr>
        <p:blipFill>
          <a:blip r:embed="rId12"/>
          <a:stretch/>
        </p:blipFill>
        <p:spPr>
          <a:xfrm>
            <a:off x="7275600" y="2133720"/>
            <a:ext cx="14745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заимосвязь уровня травматизма с возрастными особенностями детей 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68000" y="836640"/>
            <a:ext cx="6875640" cy="64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Verdana"/>
              </a:rPr>
              <a:t>В возрастном аспекте наиболее травмируемым считается возраст от 6 до 12 лет, что связано с повышенной эмоциональностью детей в этот период и недостаточно развитой у них способностью к самоконтролю. Причем с возрастом количество травм увеличивается, достигая наибольших значений у детей 11–14 ле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Verdana"/>
              </a:rPr>
              <a:t>Большое количество травм приходится на критические возрастные периоды: 3 года, 7 и 11–12 лет. В эти периоды дети и подростки становятся капризными, раздражительными, часто вступают в конфликт с окружающими. У них может сформироваться неприятие ранее беспрекословно выполнявшихся требований, доходящее до упрямства и негативизма, что приводит к нарушениям правил поведения и, как следствие, к травма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Verdana"/>
              </a:rPr>
              <a:t>Следует отметить, что чаще всего травмируются гиперактивные дети и дети, воспитывающиеся в условиях гипер- или гипоопеки. Кроме того, частые травмы получают дети с нарушением функции программирования и контроля собственного поведения, а также со сниженным интеллект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Травмы, обусловленные поведением пострадавшего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484000" y="1267920"/>
            <a:ext cx="6202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Verdana"/>
              </a:rPr>
              <a:t>недостаточное сенсомоторное развитие ребенка: низкий уровень координации движений, неумение владеть своим телом, а также отсутствие навыка выполнения действ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Verdana"/>
              </a:rPr>
              <a:t>отсутствие или недостаточность знаний об опасности и возможных последствиях выбранных действи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Verdana"/>
              </a:rPr>
              <a:t>пренебрежение известной опасностью из-за более сильного мотива, например, при желании произвести впечатление на значимых для ребенка или подростка люд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Verdana"/>
              </a:rPr>
              <a:t>психофизиологические состояние, влияющее на успешность протекания деятельности: усталость, эмоциональное возбуждение, игровой раж, спортивный азарт и д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Травмы вследствие неправомерных действий сверстников 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908000" y="476280"/>
            <a:ext cx="7236000" cy="705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Треть всех детских травм зависит от действий, окружающих ребенка сверстников. Результаты исследования показали, что чаще дети травмируют сверстников во время игры (20% случаев) либо непреднамеренно вне игры (30%), как правило, не замечая их (например, наталкиваются на других, бегая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Особое внимание следует обратить на случаи, связанные с поведением, содержащим элемент физического насилия по отношению к окружающим, а иногда и с целенаправленным стремлением причинить боль и показать свое физическое превосходство (свыше 40% травм). Отмечена тревожная тенденция увеличения количества травм, полученных подростками в результате драк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Picture 7" descr="animated_tennis_2"/>
          <p:cNvPicPr/>
          <p:nvPr/>
        </p:nvPicPr>
        <p:blipFill>
          <a:blip r:embed="rId3"/>
          <a:stretch/>
        </p:blipFill>
        <p:spPr>
          <a:xfrm>
            <a:off x="-541440" y="549360"/>
            <a:ext cx="31086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-630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5280" y="-45306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Oval 4"/>
          <p:cNvSpPr/>
          <p:nvPr/>
        </p:nvSpPr>
        <p:spPr>
          <a:xfrm>
            <a:off x="2195640" y="2133720"/>
            <a:ext cx="4176720" cy="17780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Виды трав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Line 5"/>
          <p:cNvSpPr/>
          <p:nvPr/>
        </p:nvSpPr>
        <p:spPr>
          <a:xfrm flipV="1">
            <a:off x="5148360" y="1628280"/>
            <a:ext cx="1511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3142440" y="1052640"/>
            <a:ext cx="59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Verdana"/>
              </a:rPr>
              <a:t>От характера травмируемой ткани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6892560" y="1500120"/>
            <a:ext cx="156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Кож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Подкож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Полост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Line 10"/>
          <p:cNvSpPr/>
          <p:nvPr/>
        </p:nvSpPr>
        <p:spPr>
          <a:xfrm flipH="1" flipV="1">
            <a:off x="1402920" y="1628280"/>
            <a:ext cx="1081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60120" y="11970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Verdana"/>
              </a:rPr>
              <a:t>Открыты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Line 12"/>
          <p:cNvSpPr/>
          <p:nvPr/>
        </p:nvSpPr>
        <p:spPr>
          <a:xfrm flipH="1">
            <a:off x="2268000" y="3789360"/>
            <a:ext cx="100836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1457280" y="509580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Verdana"/>
              </a:rPr>
              <a:t>Закрыты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6156360" y="3500280"/>
            <a:ext cx="93672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5237280" y="4365720"/>
            <a:ext cx="37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Verdana"/>
              </a:rPr>
              <a:t>От точки прилож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Text Box 18"/>
          <p:cNvSpPr/>
          <p:nvPr/>
        </p:nvSpPr>
        <p:spPr>
          <a:xfrm>
            <a:off x="6524280" y="4740120"/>
            <a:ext cx="240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Прям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Непрям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Одиноч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Множествен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Сочетан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Verdana"/>
              </a:rPr>
              <a:t>Комбинирован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Степень тяжести травм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700000" y="1599840"/>
            <a:ext cx="598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Тяжелые травм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Травмы средней степени тяже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Легкие травм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Острые травм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Хронические травм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Микротравм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Очень легкие травм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Очень тяжелые травм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07:45:49Z</dcterms:created>
  <dc:creator>Admin</dc:creator>
  <dc:description/>
  <dc:language>en-US</dc:language>
  <cp:lastModifiedBy>Pavel Sobolev</cp:lastModifiedBy>
  <dcterms:modified xsi:type="dcterms:W3CDTF">2021-11-13T06:28:14Z</dcterms:modified>
  <cp:revision>12</cp:revision>
  <dc:subject/>
  <dc:title>Профилактика травматизма на уроках физкультуры</dc:title>
</cp:coreProperties>
</file>