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E60-43BE-4A43-898D-18878D9E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D70-04D0-4095-BED9-AD8D4F8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6D9-7DFE-4140-BCCA-5E39307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DDC-D0F8-4FE8-BDA3-B98AE30B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B2E-5383-454C-84F6-83433CA4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D3B3-BA96-490B-B410-170EA84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AEBD-8C54-4992-9D80-2026384B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44C0-7AAE-484C-A23B-FCFB729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C0DA-621E-4BC7-AF54-999B8EEA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A086-6320-431E-809D-0FFE4D5E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8A20-46E0-4550-8682-DF6306B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F5E-9FD7-4FBF-B9FE-13184FF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41F6-EE5E-434F-8A57-43BEEF5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219-0B7F-467F-B2A8-4355B48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4327-0D44-4F8E-8571-4726B2E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6500-0CDF-46AA-9554-CA2F61F7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8F4D-8AE0-4D27-8E9A-905C8595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43AA-0C85-48BA-8ADE-392E47C6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F7A5-1741-44C3-8655-6B72AF9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42D9-60C7-439D-915D-94101385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0CAF-39DA-4CA3-9523-2B99C359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8E21-4D7F-4A5E-8CDA-6BDB20B8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C24-9391-4ADA-A582-D7A69CC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070A-9A94-4E28-BA8C-85F2D2D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276F-8CEB-412E-9588-9D4B213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ADBC-A1FB-4287-BCD5-86CF54D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BB47-0D1B-4EF5-97EE-2CEFB04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D769-4962-47A5-B1C4-36B07158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B11D-2500-4CE6-B44E-A839D63D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1D80-B959-410A-853C-C8A38D03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ABE7-39C5-4F7B-A4BE-05442824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F33E-F73E-43ED-B589-E93B595C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A68E-C91D-48D2-B867-85302CF5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CFF-CD55-4830-82EC-D47C82E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F88D-9FF4-420E-80CF-6621B18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1290-773F-4253-8399-3A9C44AA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1C81-847B-4E5D-8B84-76AC910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EDE5-245D-4F86-88A5-3ACE31A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677E-E628-4A3C-9F51-02C5E20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9929-0D56-4BF7-841F-7C7CB23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5A1E-6E95-4F7E-A0D9-07EC120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405D-9444-4946-9A2C-EC72027E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5619-625B-4068-8444-81D383A0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E51-A756-42D4-8396-A5FFBE9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D2F-1C6E-4F61-9884-8EEAD2D2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22A-F563-408D-B1CC-47E8A5E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964-CC3C-408D-AB89-9C2699B2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FC2-3937-44AC-BCFA-69C899A1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BACE-B5F2-424E-9DAC-585B33F5B5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9DE-80D9-4C90-9056-3F5CB5FB7D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10E-ADAE-4F04-A524-FC6E5F40F8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885D-0E89-4ECB-B8A2-129181F287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932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рофилактика травматизма на уроках физкультуры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635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СОБОЛЕВ ВАСИЛИЙ ЮРЬЕВИЧ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учитель физической культуры ОУ «Подсопочная ОШ»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филиал МКОУ «Сухобузимская СШ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обенности травм в отдельных видах спорта и их профилакти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843280" y="1483920"/>
            <a:ext cx="5843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Кроме общих организационно-профилактических мер обеспечения безопасности на уроках физической культуры и спортивных соревнованиях в отдельных видах спорта существуют меры профилактики травматиз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http://www.websib.ru/~gardarika/bukvi/images/smile7.gif"/>
          <p:cNvPicPr/>
          <p:nvPr/>
        </p:nvPicPr>
        <p:blipFill>
          <a:blip r:embed="rId2"/>
          <a:stretch/>
        </p:blipFill>
        <p:spPr>
          <a:xfrm>
            <a:off x="0" y="2060640"/>
            <a:ext cx="2448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0" y="60480"/>
            <a:ext cx="79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В спортивном зале, на спортплощадке занимать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только в спортивной форм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2.На занятиях физкультурой не должны заниматься в часах, перстнях и браслет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3.Упражнения на спортивных снарядах выполняются с разрешения учителя физической культур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4.Перед выполнением упражнений провести разминку и разогрев мыш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5. Не толкать друг друга, не ставить поднож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6. Обувь должна быть на нескользящей подошве( кроссовки, кед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7.Если при беге плохо себя почувствовали</a:t>
            </a: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,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перейдите на шаг, а потом</a:t>
            </a: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сядьт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5" descr="animated_soccer"/>
          <p:cNvPicPr/>
          <p:nvPr/>
        </p:nvPicPr>
        <p:blipFill>
          <a:blip r:embed="rId1"/>
          <a:stretch/>
        </p:blipFill>
        <p:spPr>
          <a:xfrm>
            <a:off x="7308720" y="3645000"/>
            <a:ext cx="15861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0" y="203040"/>
            <a:ext cx="7956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и во время занятий гимнастик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1.Надеть спортивный костюм и спортивную обувь с нескользящей подошв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2.Протереть гриф перекладины сухой тряпкой и зачистить шкур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3.Прверить надежность крепления перекладины, крепления опор гимнастического коня и козла, закрепление стопорных винтов брусье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4.В местах соскоков со снарядов положить гимнастические маты так, чтобы их поверхность была ров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5.Не выполнять упражнения на спортивных снарядах без учителя, а также без страх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6.При выполнении прыжков и соскоков со снарядов приземляться мягко на носки ступней, пружинисто присед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7.Не стоять близко к снаряду при выполнении упражнений другим учащим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8.Не выполнять упражнения на гимнастических снарядах с влажными ладоня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5" descr="animated_gymnastics_2"/>
          <p:cNvPicPr/>
          <p:nvPr/>
        </p:nvPicPr>
        <p:blipFill>
          <a:blip r:embed="rId1"/>
          <a:stretch/>
        </p:blipFill>
        <p:spPr>
          <a:xfrm>
            <a:off x="6227640" y="2708280"/>
            <a:ext cx="31323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556200" y="0"/>
            <a:ext cx="8196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и во время занятий по спортивным игра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Занятия по спортивным играм проводятся 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спортплощадках и в залах, имеющих размеры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отвечающие требованиям правил иг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Площадка должна быть сухой. Если в зале, то пол должен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быть чисто вымытым и сухи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Запрещается играть с кольцами, браслетами на руках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серьгами в ушах. Ногти должны быть коротко остриже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Провести размин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Все острые и выступающие предметы должны быть заставле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матами и ограждениям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Строго соблюдать дисциплину, выполня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требования и указания судьи, учителя, тренер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и капитана коман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Спортивная форма(спортивный костюм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майка, трусы, кеды, кроссовки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Соблюдать при игре правила данных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видов спор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9.Занятия должны проходить под руководств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учителя, трене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5" descr="animated_baseball"/>
          <p:cNvPicPr/>
          <p:nvPr/>
        </p:nvPicPr>
        <p:blipFill>
          <a:blip r:embed="rId1"/>
          <a:stretch/>
        </p:blipFill>
        <p:spPr>
          <a:xfrm>
            <a:off x="7020000" y="4149720"/>
            <a:ext cx="1482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0" y="0"/>
            <a:ext cx="795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и во время занятий по легкой атлетик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Надеть спортивный костюм и спортивную обувь с нескользящей подошв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Тщательно разрыхлить песок в прыжковой яме – месте приземления, проверить отсутствие в песке посторонних предм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Протереть насухо снаряды для метания (диск, ядро, гранату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Провести размин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При групповом старте на короткие дистанции бежать только по своей дорожке. Дорожка должна продолжаться не менее чем на 15 м. (за финишную отметку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Во избежание столкновений исключить резко «стопорящую» останов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Не выполнять прыжки на неровном , рыхлом и скользком грунте, не приземляться при прыжке на ру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Перед выполнением упражнений по метанию посмотреть, нет ли людей в секторе мета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9.Не производить метание без разрешения учителя, не оставлять без присмотра спортинвентар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0. Не стоять справа от метающего, не находиться в зоне броска, не ходить без разрешения  учителя за снаряд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6" descr="animated_run"/>
          <p:cNvPicPr/>
          <p:nvPr/>
        </p:nvPicPr>
        <p:blipFill>
          <a:blip r:embed="rId1"/>
          <a:stretch/>
        </p:blipFill>
        <p:spPr>
          <a:xfrm>
            <a:off x="7093080" y="3348000"/>
            <a:ext cx="2050920" cy="126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0" y="0"/>
            <a:ext cx="80280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и во время занятий по лыжной подготовк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Получив инвентарь, проверьте его исправность и подгоните крепление лыж к ботинкам в помещении ба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Следите за товарищем и при появлении признаков обморожения(побелевшая кожа, потеря чувствительности открытых частей тела),немедленно растирайте поверхность тела рядом с обмороженным до порозовения, после чего слегка растирайте непосредственно обмороженное мест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Во избежание потертостей не ходите на лыжах, не катайтесь на коньках в тесной или свободной обув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Если во время занятий вы по каким-либо причинам сошли с дистанции, обязательно предупредите учителя или товарищ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Слушайте внимательно объяснения учителя, соблюдайте интервал при движении на лыжах по дистанции 3-4 м., при спусках не менее 30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При спусках не выставляйте лыжные палки вперед, не останавливайтесь у подножия горы: вслед за вами следует товарищ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Не катайтесь без перчаток (варежек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При сильном морозе открытые части лица смазывайте жир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4" descr="animated_ski"/>
          <p:cNvPicPr/>
          <p:nvPr/>
        </p:nvPicPr>
        <p:blipFill>
          <a:blip r:embed="rId1"/>
          <a:stretch/>
        </p:blipFill>
        <p:spPr>
          <a:xfrm>
            <a:off x="7236000" y="35733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Сформулируем следующие правил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55640" y="1599840"/>
            <a:ext cx="635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Знание и соблюдение правил Техники Безопасн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Врачебный контрол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Правила личной гигие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Качественная разминка и разогрев мышц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Правильное выполнение техники движени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Адекватный расчет сил и возможностей, соблюдение режима дн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Баланс между силой и гибкость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Соблюдение методических принцип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Квалификация 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http://www.websib.ru/~gardarika/bukvi/images/smile7.gif"/>
          <p:cNvPicPr/>
          <p:nvPr/>
        </p:nvPicPr>
        <p:blipFill>
          <a:blip r:embed="rId10"/>
          <a:stretch/>
        </p:blipFill>
        <p:spPr>
          <a:xfrm>
            <a:off x="0" y="981000"/>
            <a:ext cx="2448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5" name="Picture 4" descr="003"/>
          <p:cNvPicPr/>
          <p:nvPr/>
        </p:nvPicPr>
        <p:blipFill>
          <a:blip r:embed="rId1"/>
          <a:stretch/>
        </p:blipFill>
        <p:spPr>
          <a:xfrm>
            <a:off x="3757680" y="2752560"/>
            <a:ext cx="39830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0483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РОФИЛАКТИКА  от греческого слова  предохранительный ,или система мер по предупреждению трав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2" descr="C:\Users\методический кабинет\Desktop\анима\Анимации\Люди\41.gif"/>
          <p:cNvPicPr/>
          <p:nvPr/>
        </p:nvPicPr>
        <p:blipFill>
          <a:blip r:embed="rId2"/>
          <a:stretch/>
        </p:blipFill>
        <p:spPr>
          <a:xfrm>
            <a:off x="6200640" y="0"/>
            <a:ext cx="2943360" cy="31989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2843280" y="191628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Травма –это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овреждение органа, ткани в результате внешнего воздействия (получить , нанести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32240" y="595008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Травматизм –это наличие трав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обенность школьного травматизм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16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17" name="Text Box 22"/>
          <p:cNvSpPr/>
          <p:nvPr/>
        </p:nvSpPr>
        <p:spPr>
          <a:xfrm>
            <a:off x="6351480" y="106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0" y="1341360"/>
            <a:ext cx="9144000" cy="1727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99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о 80 % на перемен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AutoShape 26"/>
          <p:cNvSpPr/>
          <p:nvPr/>
        </p:nvSpPr>
        <p:spPr>
          <a:xfrm>
            <a:off x="2268360" y="3213000"/>
            <a:ext cx="6875640" cy="1584360"/>
          </a:xfrm>
          <a:custGeom>
            <a:avLst/>
            <a:gdLst>
              <a:gd name="textAreaLeft" fmla="*/ 0 w 6875640"/>
              <a:gd name="textAreaRight" fmla="*/ 6876000 w 6875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99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коло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70 % во время падений и бег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0" name="Diagram 2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21" name="AutoShape 31"/>
          <p:cNvSpPr/>
          <p:nvPr/>
        </p:nvSpPr>
        <p:spPr>
          <a:xfrm>
            <a:off x="2627280" y="5157720"/>
            <a:ext cx="6337440" cy="1008000"/>
          </a:xfrm>
          <a:custGeom>
            <a:avLst/>
            <a:gdLst>
              <a:gd name="textAreaLeft" fmla="*/ 0 w 6337440"/>
              <a:gd name="textAreaRight" fmla="*/ 6337800 w 6337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99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ее 20 % при занятиях на спортивных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наряд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3327480" y="5460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ичины создания травмоопасных ситуаций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Риск возникновения травм у детей обусловлен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дисциплинированность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умением распознавать травмоопасную ситуаци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обученностью необходимым навыкам повед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дооценкой степени опасности внезапно возникшей ситуаци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физической слабость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определенными особенностями развит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Основными причинами травмирования детей на уроках физкультуры (около четверти всех школьных травм) являютс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дочеты в организации и методике проведения урок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удовлетворительное состояние части спортивных залов и спортивных площадок, оборудования, инвентаря, одежды и обув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скученность детей во время заняти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Рисунок 20" descr="141.gif"/>
          <p:cNvPicPr/>
          <p:nvPr/>
        </p:nvPicPr>
        <p:blipFill>
          <a:blip r:embed="rId12"/>
          <a:stretch/>
        </p:blipFill>
        <p:spPr>
          <a:xfrm>
            <a:off x="7275600" y="2133720"/>
            <a:ext cx="1474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заимосвязь уровня травматизма с возрастными особенностями детей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68000" y="836640"/>
            <a:ext cx="6875640" cy="64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В возрастном аспекте наиболее травмируемым считается возраст от 6 до 12 лет, что связано с повышенной эмоциональностью детей в этот период и недостаточно развитой у них способностью к самоконтролю. Причем с возрастом количество травм увеличивается, достигая наибольших значений у детей 11–14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Большое количество травм приходится на критические возрастные периоды: 3 года, 7 и 11–12 лет. В эти периоды дети и подростки становятся капризными, раздражительными, часто вступают в конфликт с окружающими. У них может сформироваться неприятие ранее беспрекословно выполнявшихся требований, доходящее до упрямства и негативизма, что приводит к нарушениям правил поведения и, как следствие, к травм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Следует отметить, что чаще всего травмируются гиперактивные дети и дети, воспитывающиеся в условиях гипер- или гипоопеки. Кроме того, частые травмы получают дети с нарушением функции программирования и контроля собственного поведения, а также со сниженным интеллект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Травмы, обусловленные поведением пострадавшего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484000" y="1267920"/>
            <a:ext cx="6202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недостаточное сенсомоторное развитие ребенка: низкий уровень координации движений, неумение владеть своим телом, а также отсутствие навыка выполнения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отсутствие или недостаточность знаний об опасности и возможных последствиях выбранных действ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пренебрежение известной опасностью из-за более сильного мотива, например, при желании произвести впечатление на значимых для ребенка или подростка люд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психофизиологические состояние, влияющее на успешность протекания деятельности: усталость, эмоциональное возбуждение, игровой раж, спортивный азарт и д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равмы вследствие неправомерных действий сверстников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08000" y="476280"/>
            <a:ext cx="7236000" cy="705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Треть всех детских травм зависит от действий, окружающих ребенка сверстников. Результаты исследования показали, что чаще дети травмируют сверстников во время игры (20% случаев) либо непреднамеренно вне игры (30%), как правило, не замечая их (например, наталкиваются на других, бегая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собое внимание следует обратить на случаи, связанные с поведением, содержащим элемент физического насилия по отношению к окружающим, а иногда и с целенаправленным стремлением причинить боль и показать свое физическое превосходство (свыше 40% травм). Отмечена тревожная тенденция увеличения количества травм, полученных подростками в результате дра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7" descr="animated_tennis_2"/>
          <p:cNvPicPr/>
          <p:nvPr/>
        </p:nvPicPr>
        <p:blipFill>
          <a:blip r:embed="rId3"/>
          <a:stretch/>
        </p:blipFill>
        <p:spPr>
          <a:xfrm>
            <a:off x="-541440" y="549360"/>
            <a:ext cx="3108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-4530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2195640" y="2133720"/>
            <a:ext cx="4176720" cy="17780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Виды трав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Line 5"/>
          <p:cNvSpPr/>
          <p:nvPr/>
        </p:nvSpPr>
        <p:spPr>
          <a:xfrm flipV="1">
            <a:off x="5148360" y="1628280"/>
            <a:ext cx="1511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142440" y="105264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От характера травмируемой ткани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892560" y="1500120"/>
            <a:ext cx="15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Кож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Подкож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Полост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 flipV="1">
            <a:off x="1402920" y="162828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60120" y="1197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Откры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 flipH="1">
            <a:off x="2268000" y="3789360"/>
            <a:ext cx="100836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1457280" y="509580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Закры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156360" y="3500280"/>
            <a:ext cx="93672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5237280" y="43657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От точки прило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6524280" y="4740120"/>
            <a:ext cx="240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Прям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прям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Одиноч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Множестве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Сочета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Комбинирова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Степень тяжести трав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Тяжелы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Травмы средней степени тяже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Легки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стры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Хронически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Микро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чень легки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чень тяжелы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7:45:49Z</dcterms:created>
  <dc:creator>Admin</dc:creator>
  <dc:description/>
  <dc:language>en-US</dc:language>
  <cp:lastModifiedBy>Pavel Sobolev</cp:lastModifiedBy>
  <dcterms:modified xsi:type="dcterms:W3CDTF">2021-11-13T06:28:14Z</dcterms:modified>
  <cp:revision>12</cp:revision>
  <dc:subject/>
  <dc:title>Профилактика травматизма на уроках физкультуры</dc:title>
</cp:coreProperties>
</file>