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ECA-0931-45A7-8B48-2C5AA070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9A6-D05D-4178-BB04-B0EFC51A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E63-04E3-485F-803E-E897BB9E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610-6BEB-4A8B-9D9D-7DC8CB7D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05E-B7F0-4B15-AD7F-5DACACDF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DD8-589C-4810-AFE0-892D7E42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542-AA0B-4564-93B0-13DAC32C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690-0174-483A-8BE2-593E94B2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1E1-CC96-4481-AF22-5E693114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3D9-9CE7-4EFB-ABAD-1842EFE2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5B0-B0F8-400F-856C-B72A4D2D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7F7-1879-4F9A-BB18-8759B02E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6FC2-508C-4917-972E-C4E39959B2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интез  искусств в процессе приобщения детей к музыкальной культуре</a:t>
            </a:r>
            <a:br>
              <a:rPr sz="2000"/>
            </a:b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 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229360"/>
            <a:ext cx="6729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Лепбу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дготовиала: музыкальный руководитель высшей категории Бухтатая М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МДОУ «Октябрьский детский сад №7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ой пес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Users\Анастасия\Desktop\грамота\DSCN9625.JPG"/>
          <p:cNvPicPr/>
          <p:nvPr/>
        </p:nvPicPr>
        <p:blipFill>
          <a:blip r:embed="rId1"/>
          <a:stretch/>
        </p:blipFill>
        <p:spPr>
          <a:xfrm>
            <a:off x="1428840" y="2071800"/>
            <a:ext cx="1960560" cy="162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Анастасия\Desktop\грамота\DSCN9626.JPG"/>
          <p:cNvPicPr/>
          <p:nvPr/>
        </p:nvPicPr>
        <p:blipFill>
          <a:blip r:embed="rId2"/>
          <a:stretch/>
        </p:blipFill>
        <p:spPr>
          <a:xfrm>
            <a:off x="4143240" y="2571840"/>
            <a:ext cx="2530440" cy="185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Анастасия\Desktop\грамота\DSCN9627.JPG"/>
          <p:cNvPicPr/>
          <p:nvPr/>
        </p:nvPicPr>
        <p:blipFill>
          <a:blip r:embed="rId3"/>
          <a:stretch/>
        </p:blipFill>
        <p:spPr>
          <a:xfrm>
            <a:off x="1785960" y="4000680"/>
            <a:ext cx="2030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ой пес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Анастасия\Desktop\грамота\DSCN9628.JPG"/>
          <p:cNvPicPr/>
          <p:nvPr/>
        </p:nvPicPr>
        <p:blipFill>
          <a:blip r:embed="rId1"/>
          <a:stretch/>
        </p:blipFill>
        <p:spPr>
          <a:xfrm>
            <a:off x="2571840" y="2143080"/>
            <a:ext cx="44416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/и «Назови инструмен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Анастасия\Desktop\грамота\DSCN9625.JPG"/>
          <p:cNvPicPr/>
          <p:nvPr/>
        </p:nvPicPr>
        <p:blipFill>
          <a:blip r:embed="rId1"/>
          <a:stretch/>
        </p:blipFill>
        <p:spPr>
          <a:xfrm>
            <a:off x="1428840" y="2714760"/>
            <a:ext cx="2035080" cy="176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Анастасия\Desktop\грамота\DSCN9629.JPG"/>
          <p:cNvPicPr/>
          <p:nvPr/>
        </p:nvPicPr>
        <p:blipFill>
          <a:blip r:embed="rId2"/>
          <a:stretch/>
        </p:blipFill>
        <p:spPr>
          <a:xfrm>
            <a:off x="4000680" y="2571840"/>
            <a:ext cx="29653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/и «Назови инструмен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Анастасия\Desktop\грамота\DSCN9630.JPG"/>
          <p:cNvPicPr/>
          <p:nvPr/>
        </p:nvPicPr>
        <p:blipFill>
          <a:blip r:embed="rId1"/>
          <a:stretch/>
        </p:blipFill>
        <p:spPr>
          <a:xfrm>
            <a:off x="4500720" y="2143080"/>
            <a:ext cx="2206440" cy="2519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Анастасия\Desktop\грамота\DSCN9631.JPG"/>
          <p:cNvPicPr/>
          <p:nvPr/>
        </p:nvPicPr>
        <p:blipFill>
          <a:blip r:embed="rId2"/>
          <a:stretch/>
        </p:blipFill>
        <p:spPr>
          <a:xfrm>
            <a:off x="1571760" y="2857680"/>
            <a:ext cx="2423880" cy="12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итмическое упражнение</a:t>
            </a:r>
            <a:br>
              <a:rPr sz="2000"/>
            </a:b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«Исполни ритм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C:\Users\Анастасия\Desktop\грамота\DSCN9632.JPG"/>
          <p:cNvPicPr/>
          <p:nvPr/>
        </p:nvPicPr>
        <p:blipFill>
          <a:blip r:embed="rId1"/>
          <a:stretch/>
        </p:blipFill>
        <p:spPr>
          <a:xfrm>
            <a:off x="3071880" y="2286000"/>
            <a:ext cx="3233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/И «Ну- ка угадай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Анастасия\Desktop\грамота\DSCN9633.JPG"/>
          <p:cNvPicPr/>
          <p:nvPr/>
        </p:nvPicPr>
        <p:blipFill>
          <a:blip r:embed="rId1"/>
          <a:stretch/>
        </p:blipFill>
        <p:spPr>
          <a:xfrm>
            <a:off x="2786040" y="235728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Анастасия\Desktop\грамота\DSCN9636.JPG"/>
          <p:cNvPicPr/>
          <p:nvPr/>
        </p:nvPicPr>
        <p:blipFill>
          <a:blip r:embed="rId2"/>
          <a:stretch/>
        </p:blipFill>
        <p:spPr>
          <a:xfrm>
            <a:off x="2857680" y="2071800"/>
            <a:ext cx="39128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599840"/>
            <a:ext cx="8642160" cy="49244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ый возраст – важнейший этап развития и воспитания лич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в дошкольном возрасте формируются эталоны красоты,  духовность,  приобретаются  знания, от которых зависит последующее эстетическое восприятие искусства и окружающего мира, осознания ими чувства прекрасного, воспитания у них музыкальной культуры, что ведет к художественно - эстетическому развитию дошколь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расширяет социальный опыт человека. Оно способствует познанию окружающего мира через художественные образы в музыке, живописи,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  искусств обусловливает их взаимообогащение, усиливает познавательные и воспитательные возможности искусства, способствует расширению и углублению детского сознания и развития общего и художественного развития детей — дошкольников, развитию их художественного восприятия и творч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построения лепб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в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ункциональность: способствует развитию творчества, вообра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дность к использованию одновременно группой детей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ом числе с участием взрослого как играющего партнер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ет дидактическими свойствами, несет в себе способы ознакомления с синтезом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(музыка, стихи , литература, живопись на тему Осень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средством художественно-эстетического развития ребенка, приобщает его к миру искус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ен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 несколько вариантов использования каждой его части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структура и содержание доступно детям дошкольного возрас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 игровую, познавательную, исследовательскую и творческую активность всех воспитан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Цель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активности ребёнка и разнообразия практической деятельности в процессе реализации художественно-эстетического развития дошколь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действовать лучшему пониманию и запоминанию изучаемого материала и применению полученного опыта в новых жизненных ситуац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здать условия для совместной музыкальной деятельности детей и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ать детям представления о различных видах искусства выразительных особенностях их художественных средст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акапливать  познавательно-ценностный опыт детей в творческой музыка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вивать все компоненты музыкально-эстетического сознания — эмоции, чувства,  музыкальный слух, ритмопластику;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оддерживать познавательную активность, инициативу и самостоятельность детей в музыка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Обогащать положительный  эмоциональный опы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одержимое лепб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арточки - Стихи про осен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артинки  -Расскажи сказ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арточки - Спой песен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артинки, музыкальные инструменты -Д/и «Назови музыкальный инструмент», «Ну- ка угадайка», «Угадай на чем играю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хемы, музыкальные инструменты- Ритмическое упражнение «Исполни ритм», «Повтори рит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Лепбук «Осень</a:t>
            </a:r>
            <a:r>
              <a:rPr b="1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Анастасия\Desktop\грамота\DSCN9619.JPG"/>
          <p:cNvPicPr/>
          <p:nvPr/>
        </p:nvPicPr>
        <p:blipFill>
          <a:blip r:embed="rId1"/>
          <a:stretch/>
        </p:blipFill>
        <p:spPr>
          <a:xfrm>
            <a:off x="2286000" y="2143080"/>
            <a:ext cx="4184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сскажи стихотвор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1674720" cy="223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Анастасия\Desktop\грамота\DSCN9622.JPG"/>
          <p:cNvPicPr/>
          <p:nvPr/>
        </p:nvPicPr>
        <p:blipFill>
          <a:blip r:embed="rId2"/>
          <a:stretch/>
        </p:blipFill>
        <p:spPr>
          <a:xfrm>
            <a:off x="6215040" y="2000160"/>
            <a:ext cx="1935360" cy="265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Анастасия\Desktop\грамота\DSCN9623.JPG"/>
          <p:cNvPicPr/>
          <p:nvPr/>
        </p:nvPicPr>
        <p:blipFill>
          <a:blip r:embed="rId3"/>
          <a:stretch/>
        </p:blipFill>
        <p:spPr>
          <a:xfrm>
            <a:off x="3571920" y="3214800"/>
            <a:ext cx="1849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сскажи сказку «Терем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Анастасия\Desktop\грамота\DSCN9624.JPG"/>
          <p:cNvPicPr/>
          <p:nvPr/>
        </p:nvPicPr>
        <p:blipFill>
          <a:blip r:embed="rId1"/>
          <a:stretch/>
        </p:blipFill>
        <p:spPr>
          <a:xfrm>
            <a:off x="2571840" y="2000160"/>
            <a:ext cx="40590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7T14:33:44Z</dcterms:created>
  <dc:creator>Анастасия</dc:creator>
  <dc:description/>
  <dc:language>en-US</dc:language>
  <cp:lastModifiedBy>Азм</cp:lastModifiedBy>
  <dcterms:modified xsi:type="dcterms:W3CDTF">2021-11-14T07:17:39Z</dcterms:modified>
  <cp:revision>12</cp:revision>
  <dc:subject/>
  <dc:title>Слайд 1</dc:title>
</cp:coreProperties>
</file>