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088-8A6B-4F64-B6C9-19A81E29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594-C3C2-41F9-B51C-235A5827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E9C-EF35-4785-9C9D-8DB012D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F9B-7637-4BBE-B254-B6E4DB9A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A70-38FE-491E-A414-F07A5351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EBF-64BB-493D-B17D-E0DD2A58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5AD-5910-4592-B434-DC9A5781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3C7-CABC-4B5E-B3B8-69C2442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0CC-A3CD-4F00-B731-BF8C106C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251-EF23-4008-9A4C-8E7802B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CE2-695C-4E34-93FE-BD865A0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345-5A24-49F3-A5E6-6A345AFF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BABC-6ECE-4CC6-8A83-5820D94AA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интез  искусств в процессе приобщения детей к музыкальной культуре</a:t>
            </a: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 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229360"/>
            <a:ext cx="6729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епбу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готовиала: музыкальный руководитель высшей категории Бухтатая М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ДОУ «Октябрьский детский сад №7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ой пес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Анастасия\Desktop\грамота\DSCN9625.JPG"/>
          <p:cNvPicPr/>
          <p:nvPr/>
        </p:nvPicPr>
        <p:blipFill>
          <a:blip r:embed="rId1"/>
          <a:stretch/>
        </p:blipFill>
        <p:spPr>
          <a:xfrm>
            <a:off x="1428840" y="2071800"/>
            <a:ext cx="1960560" cy="16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Анастасия\Desktop\грамота\DSCN9626.JPG"/>
          <p:cNvPicPr/>
          <p:nvPr/>
        </p:nvPicPr>
        <p:blipFill>
          <a:blip r:embed="rId2"/>
          <a:stretch/>
        </p:blipFill>
        <p:spPr>
          <a:xfrm>
            <a:off x="4143240" y="2571840"/>
            <a:ext cx="2530440" cy="185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Анастасия\Desktop\грамота\DSCN9627.JPG"/>
          <p:cNvPicPr/>
          <p:nvPr/>
        </p:nvPicPr>
        <p:blipFill>
          <a:blip r:embed="rId3"/>
          <a:stretch/>
        </p:blipFill>
        <p:spPr>
          <a:xfrm>
            <a:off x="1785960" y="4000680"/>
            <a:ext cx="2030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ой пес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Анастасия\Desktop\грамота\DSCN9628.JPG"/>
          <p:cNvPicPr/>
          <p:nvPr/>
        </p:nvPicPr>
        <p:blipFill>
          <a:blip r:embed="rId1"/>
          <a:stretch/>
        </p:blipFill>
        <p:spPr>
          <a:xfrm>
            <a:off x="2571840" y="2143080"/>
            <a:ext cx="44416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/и «Назови инструмен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Анастасия\Desktop\грамота\DSCN9625.JPG"/>
          <p:cNvPicPr/>
          <p:nvPr/>
        </p:nvPicPr>
        <p:blipFill>
          <a:blip r:embed="rId1"/>
          <a:stretch/>
        </p:blipFill>
        <p:spPr>
          <a:xfrm>
            <a:off x="1428840" y="2714760"/>
            <a:ext cx="2035080" cy="176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Анастасия\Desktop\грамота\DSCN9629.JPG"/>
          <p:cNvPicPr/>
          <p:nvPr/>
        </p:nvPicPr>
        <p:blipFill>
          <a:blip r:embed="rId2"/>
          <a:stretch/>
        </p:blipFill>
        <p:spPr>
          <a:xfrm>
            <a:off x="4000680" y="2571840"/>
            <a:ext cx="29653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/и «Назови инструмен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Анастасия\Desktop\грамота\DSCN9630.JPG"/>
          <p:cNvPicPr/>
          <p:nvPr/>
        </p:nvPicPr>
        <p:blipFill>
          <a:blip r:embed="rId1"/>
          <a:stretch/>
        </p:blipFill>
        <p:spPr>
          <a:xfrm>
            <a:off x="4500720" y="2143080"/>
            <a:ext cx="2206440" cy="251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Анастасия\Desktop\грамота\DSCN9631.JPG"/>
          <p:cNvPicPr/>
          <p:nvPr/>
        </p:nvPicPr>
        <p:blipFill>
          <a:blip r:embed="rId2"/>
          <a:stretch/>
        </p:blipFill>
        <p:spPr>
          <a:xfrm>
            <a:off x="1571760" y="2857680"/>
            <a:ext cx="242388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итмическое упражнение</a:t>
            </a: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Исполни рит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C:\Users\Анастасия\Desktop\грамота\DSCN9632.JPG"/>
          <p:cNvPicPr/>
          <p:nvPr/>
        </p:nvPicPr>
        <p:blipFill>
          <a:blip r:embed="rId1"/>
          <a:stretch/>
        </p:blipFill>
        <p:spPr>
          <a:xfrm>
            <a:off x="3071880" y="2286000"/>
            <a:ext cx="3233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/И «Ну- ка угадай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Анастасия\Desktop\грамота\DSCN9633.JPG"/>
          <p:cNvPicPr/>
          <p:nvPr/>
        </p:nvPicPr>
        <p:blipFill>
          <a:blip r:embed="rId1"/>
          <a:stretch/>
        </p:blipFill>
        <p:spPr>
          <a:xfrm>
            <a:off x="2786040" y="235728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Анастасия\Desktop\грамота\DSCN9636.JPG"/>
          <p:cNvPicPr/>
          <p:nvPr/>
        </p:nvPicPr>
        <p:blipFill>
          <a:blip r:embed="rId2"/>
          <a:stretch/>
        </p:blipFill>
        <p:spPr>
          <a:xfrm>
            <a:off x="2857680" y="2071800"/>
            <a:ext cx="39128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599840"/>
            <a:ext cx="8642160" cy="49244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й возраст – важнейший этап развития и воспитания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дошкольном возрасте формируются эталоны красоты,  духовность,  приобретаются  знания, от которых зависит последующее эстетическое восприятие искусства и окружающего мира, осознания ими чувства прекрасного, воспитания у них музыкальной культуры, что ведет к художественно - эстетическому развитию дошк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расширяет социальный опыт человека. Оно способствует познанию окружающего мира через художественные образы в музыке, живописи,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  искусств обусловливает их взаимообогащение, усиливает познавательные и воспитательные возможности искусства, способствует расширению и углублению детского сознания и развития общего и художественного развития детей — дошкольников, развитию их художественного восприятия и твор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построения лепб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в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ость: способствует развитию творчества, вообра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дность к использованию одновременно группой детей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ом числе с участием взрослого как играющего партнер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дидактическими свойствами, несет в себе способы ознакомления с синтезо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(музыка, стихи , литература, живопись на тему Осен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средством художественно-эстетического развития ребенка, приобщает его к миру искус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ен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 несколько вариантов использования каждой его части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труктура и содержание доступно детям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игровую, познавательную, исследовательскую и творческую активность всех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Цел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активности ребёнка и разнообразия практической деятельности в процессе реализации художественно-эстетического развития дошк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действовать лучшему пониманию и запоминанию изучаемого материала и применению полученного опыта в новых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ть условия для совместной музыкальной деятельности детей 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ать детям представления о различных видах искусства выразительных особенностях их художественных сред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акапливать  познавательно-ценностный опыт детей в творческой музыка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ивать все компоненты музыкально-эстетического сознания — эмоции, чувства,  музыкальный слух, ритмопластику;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ддерживать познавательную активность, инициативу и самостоятельность детей в музыка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Обогащать положительный  эмоциональный опы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одержимое лепб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очки - Стихи про осен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инки  -Расскажи сказ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очки - Спой песен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инки, музыкальные инструменты -Д/и «Назови музыкальный инструмент», «Ну- ка угадайка», «Угадай на чем играю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хемы, музыкальные инструменты- Ритмическое упражнение «Исполни ритм», «Повтори рит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епбук «Осень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Анастасия\Desktop\грамота\DSCN9619.JPG"/>
          <p:cNvPicPr/>
          <p:nvPr/>
        </p:nvPicPr>
        <p:blipFill>
          <a:blip r:embed="rId1"/>
          <a:stretch/>
        </p:blipFill>
        <p:spPr>
          <a:xfrm>
            <a:off x="2286000" y="2143080"/>
            <a:ext cx="4184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скажи стихотвор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1674720" cy="223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Анастасия\Desktop\грамота\DSCN9622.JPG"/>
          <p:cNvPicPr/>
          <p:nvPr/>
        </p:nvPicPr>
        <p:blipFill>
          <a:blip r:embed="rId2"/>
          <a:stretch/>
        </p:blipFill>
        <p:spPr>
          <a:xfrm>
            <a:off x="6215040" y="2000160"/>
            <a:ext cx="193536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Анастасия\Desktop\грамота\DSCN9623.JPG"/>
          <p:cNvPicPr/>
          <p:nvPr/>
        </p:nvPicPr>
        <p:blipFill>
          <a:blip r:embed="rId3"/>
          <a:stretch/>
        </p:blipFill>
        <p:spPr>
          <a:xfrm>
            <a:off x="3571920" y="3214800"/>
            <a:ext cx="1849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скажи сказку «Тере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Анастасия\Desktop\грамота\DSCN9624.JPG"/>
          <p:cNvPicPr/>
          <p:nvPr/>
        </p:nvPicPr>
        <p:blipFill>
          <a:blip r:embed="rId1"/>
          <a:stretch/>
        </p:blipFill>
        <p:spPr>
          <a:xfrm>
            <a:off x="2571840" y="2000160"/>
            <a:ext cx="40590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7T14:33:44Z</dcterms:created>
  <dc:creator>Анастасия</dc:creator>
  <dc:description/>
  <dc:language>en-US</dc:language>
  <cp:lastModifiedBy>Азм</cp:lastModifiedBy>
  <dcterms:modified xsi:type="dcterms:W3CDTF">2021-11-14T07:17:39Z</dcterms:modified>
  <cp:revision>12</cp:revision>
  <dc:subject/>
  <dc:title>Слайд 1</dc:title>
</cp:coreProperties>
</file>