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181-FFF0-4C2D-A35D-16B99E46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A62-8796-4A6F-B927-93CE7E2C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D4995-7BFF-43D1-9B29-36ABA15A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632B9-187C-465E-A170-391CC11D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BD26D-8F39-497D-B144-FFE885F2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D843B-91EC-46C4-A923-730C60D3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E86EF-6988-4240-A910-8F5541A5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1F10D-2CA3-404D-9DC0-614D58FC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D2A0C-18C1-4034-B118-ACBF9BEB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FFACF-C7A8-4A5C-9D27-A683829B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FC73C-2464-4A2C-B25B-F39E1054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77C1C6-2668-41C6-A3AA-54ED5AB5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A48-30DE-444A-B3AE-0EA0EC7C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737E7C-B4EE-4BF4-A24B-F834D056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18A19F-8D26-410D-A5E9-0B727880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2AA62B-86A9-4CDA-B97B-9D14E7B3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633349-23DC-4655-9391-CC5A207E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99AB8E-FD49-41E7-A1CF-268AA40B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262D06-B413-4898-A16C-C76AC83F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29C1DA-BBA5-458B-B47E-7DF6CE7B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06800A-85E4-4495-AAA1-8A2DE44A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074BA4-D2C7-4989-B783-282E3BCF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89A79A-8EC6-473F-82F5-5D6A162B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4B2-5007-4643-A931-7F3DF471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2204DD-512F-4670-BCEB-CEBB5E22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5831D-C050-44D9-8C6C-0E28C8FC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10751-F1F9-4880-ABA9-AF9DC542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AB145-8FFE-41F5-B37D-F0350049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96906-9CBC-495C-8724-8B4F73D9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C0FA0-49AF-42FF-9215-F19C3DE8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1879D-BEF7-4489-BC98-ADAB42A1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9EB0B-272C-4893-9222-EC03CDEF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20FF5-4401-499B-AE34-4B7E8858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B5014-500D-4D6F-9F48-A2CB0D30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77FA-B84F-4F54-B090-F3B2CCA6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4F5E0-3FBC-42F2-A881-BF4FDCCA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6241A-1411-4841-984E-19AC879E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04BFE-1B18-4AFD-902D-CD5CBF26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4EDCB-3D88-4419-8148-B5247E0C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307EA-3F3A-4877-8217-09111319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0808A-884A-4112-83BC-C85D7EA2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1501C-3E13-49BA-8288-1F001C37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489BF-6ADE-4128-9C59-5EC42403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3F30D-D583-4A26-95BC-C0A8E375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7EB8D-B926-4610-826E-03237DF9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809B-4638-4EDB-B863-CD5C4880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7C18F-E554-495F-B5B2-DF684771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861DC-27FF-4B8F-AF36-B7D436F4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2ED03-20C4-4E33-8A28-13B70BA5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356EA-C404-47D5-B5A7-829F0DEC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F6658-607B-47B5-872C-7436279F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3E2A2-5549-4089-91D9-48D7E9AC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8CB71-FA4F-432D-8AD6-4F5700B4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5BAA9-B5BC-435E-B4FC-D61042D5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39AF7-942F-4148-A137-DDB947D5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0B03F-7871-43C5-9188-17A39793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BFAC-6F15-4EDE-BA4B-23A0BDCE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2933D-6653-4F36-BE83-10CB9BB8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AAE61-98ED-4138-8A23-EAE8F03C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C2A48-3F0A-464B-A928-6D18E22D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835344-E808-40AE-B03A-012DCFF2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60055-A067-49EC-94C7-41CBA384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B29B1-41F1-4774-B109-86B702E9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CF27B-62BA-4F9C-89DA-0751AE7D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8D988B-5E1A-41B3-90EE-4E0C4387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103F8A-790B-4DA4-AAC9-20878853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9315BE-773F-4004-97A5-09BE5553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4AD0-EACB-46A9-8753-4A601FE3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E02F45-9583-40A9-8718-31E547CF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E01D3-F740-4DA4-A218-7416DF57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CB015-7A01-4399-AE51-70DE996A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E8944F-A7D0-4A54-B2D1-C4518E2E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4D024-5EC2-4B5C-B4F7-A3996FEE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E1046-92A6-45D5-AC45-F1376710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D031A-6A4F-417E-BA53-896F165C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9D2EC-AD1C-40FB-8B2C-C5AF01B8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00F07-8068-40CD-90A9-B78EEC51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A4C937-2869-448B-B430-F3F5ED4B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8C87-023A-4F0E-AD4D-CD3B5D02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79EDD0-1118-466D-9DC5-77BB58B2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AD296-E4D8-4770-97ED-13D187BB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2DA9E-1FD4-4535-B12D-1C5AF6F7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6BABE0-E628-4245-A961-3CA3E501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23CCE-BF8A-4478-83AC-DF1F6A30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A1270C-2434-48CE-ADB9-06BEFFC0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FEE822-7DD2-4E62-9F92-90961E9B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7F3EF4-062A-4423-A6C2-FD5AA58C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38EADC-46D4-4573-B8F1-C894E7B0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7592B-ED55-4F5D-9AAF-8A121BBF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80A5-2E23-408A-A277-71AB11FF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F7721-ED39-429A-B0A7-4D7AD1EB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466787-1F2B-4090-B3FD-2BA0B7B8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C9691-FEA4-43CD-B993-0B6C0865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9AA76E-F298-4EB8-AA94-066E6128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088F69-9BB4-4645-849A-774621AF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DAA72-0B51-43E9-AAB1-10AF2EB4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1A7E4-9F26-4258-AD38-9E847580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31FF50-C2B7-4CB5-BE4E-0605DA75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38BDB-2DEE-4445-8EFF-D75607FE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5E6786-32E5-4AB9-856A-223B673C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B099-17F7-4CB7-9512-2930D1E3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354F4F-4895-480F-8A58-D5FBE822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09E5B-BE5A-4DCE-9A73-34E9E3D3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732D3E-F1C6-427B-BE42-72F5F371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988DF8-C3A2-4805-9580-F032F9BD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9BD89C-678E-40B6-BBAE-4EB84C50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61028B-0CED-488A-9D3C-6E228723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128082-CDDB-4B88-8B3C-3015EE2E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B87B67-CBDF-4708-8744-4F10515B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AB0F3-0E0C-4CC8-8230-93FCB031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345AA-E0DF-46F3-ADED-58E9D776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BB4-E5BC-41CB-B789-BB56E05E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5B9E-6DED-4CCF-8C4C-DAC9FD2A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99613-07B9-4AA6-A04D-2E9D6187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AA2594-1A3C-4350-9D3B-507801AA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5E270-F9A2-48B4-A28A-FB8A1D5C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8F1C53-2269-4EF3-A199-224261F4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F482B8-F702-4EE0-A45C-DE41FFB6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359C3B-ABE3-48D1-A777-C9D4B4B9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886AEE-E339-4C32-9D19-93135B18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7BADB-B2ED-4BDC-99AF-2679182F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FB682B-16E4-4E3F-8644-DBAC72E2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EB22E8-552D-46F7-AE9C-ADB09098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5A13-1327-4218-AE37-719AD395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E589A5-3B08-4DDA-8E54-2476949E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24C901-F45A-490C-B9FE-22375CD2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1774FC-0A64-4D71-B9F4-E5B72FCF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C011FD-B1DD-4477-8F21-27D87986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CE4A4A-E82F-4F09-8921-CF52A2D2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AAAC56-D2D0-4CCA-8D13-D05C8210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B629BA-7894-4234-9761-87EC33A0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61BFEC-345C-4F1C-8086-C33C5A74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5B6348-7182-4EAD-960E-0DAA4FAC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871373-CCF3-4267-9329-C5B6586A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6009-97FF-4EBA-8B33-07635169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1B37F2-B992-485B-8F9E-4B83B732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CC6C97-4894-4362-A033-A157DF5F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94E83D-1ED8-4883-AE11-B6A76153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8FD6FB-4BCC-482F-8E89-813C2AA3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638C72-C23D-42F4-A227-4476AB99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61CD57-4498-495E-9178-C2DF8205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45623-00B0-43E4-BBDB-399EBFE1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F1D22C-6653-49B3-9030-4DD0181C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078491-4C12-4BB0-9A38-C34E8FB6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0D3B22-4AE0-4FC7-8CA5-B76058C1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443C-600E-4C80-A216-B8064BFE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EA5174-136A-4F0F-893F-7FA45C62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3BABBF-98FA-4091-A00B-A88F0F60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48BBB6-BC6B-491F-895E-13788218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6B4264-9B17-4808-966D-8A307D75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0289A5-E91E-4736-8A08-39809E3C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0E73BC-C303-4FAE-B674-33BCB317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814599-5A67-4325-9DC8-2B1F5902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DF4E6A-DCA3-49B6-83E7-BDFFCBA5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3F42AB-B37B-44EA-AEBE-22217378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297E2E-F49E-4557-85D2-300FCDC2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6F4F-4107-43C9-821D-D7F3B934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30D712-96AB-4D6F-8B82-1CCE6659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742565-2261-4C8F-A79D-5F816AB0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67CF2C-6C28-4603-A820-0FDCB263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9826DF-E43C-4B2B-8203-0F67B85C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178B31-737B-48F5-A4B3-AF2440E4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E806EA-2F75-414A-82A4-68567A8E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EB16CB-AE3D-491A-AF2C-F301874C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622D39-1648-46A4-ABA9-B83CDA83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D638B4-876D-48C2-964A-5DE399D5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95FB55-A68C-4B87-98CF-17939887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E64E3-C68B-4CD6-831A-39EEA7AC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9CE887-B2F4-41B8-A47C-3F1F6D2B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AAF23F-01AD-4079-9C02-3BFC0C04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D2E5FD-4743-466C-8940-5A6C0D4C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95CDBC-0280-4410-979D-AEC63F6D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145DDB-C2D2-4397-BB8B-684BD739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DE86A3-0DFE-4B56-A4BC-C3BCBED9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FE73B3-1638-4C18-9E59-E2B93CB2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494391-6F21-443C-B1BA-DD89D783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8FF3FB-DB7D-4B1F-B6AE-F5434A8B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05AF31-C213-42BB-A9AD-FE555A51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80B5-5B2D-4BD3-A97C-6FE08801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567F00-586B-4B5C-BFD1-A14A2BA9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60FC91-021C-41FC-81D4-1D275C19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2DCA7A-B895-4256-B4F5-BA2E89F5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F1AB92-3FC8-4622-8361-8A0BFA46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A17FB6-76A7-48B9-8B01-D5584FA3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67DF34-97BF-4ED9-A2FB-F32E8725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0DD513-9153-4700-817C-238005BC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903CDE-0AD0-4934-B007-8AE6BE42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E06A2A-D386-48FB-8F92-92A8FE6E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80BDCE-DA04-4405-8411-25E0F91E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E0CEA-47A5-4261-A790-E33641A8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7CC47B-4E6D-428A-9C95-5C70C512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1CF15D-3735-4FB1-9FED-476EE0EC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C5E51A-D0C6-420C-846C-2303BAB1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051BA4-6FF4-4330-815C-41C401B5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71CE9A-0DB8-4032-85F1-5E5F5E0D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03B229-C86C-41CF-B1BE-06D05820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740FEA-83E8-462F-8D1D-C987BC43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67BC0F-B457-444B-BD22-537B544B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942E44-7C37-4BB2-ABC1-166BF9EB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8E2199-16ED-4034-99AA-E858116C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DCDCF-C9C5-4F02-863A-99A76A05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E90232-410F-4C87-87C3-46E6C162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82D691-ACDB-43AD-B3A1-BF323877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814148-E7C6-4E48-991B-7A6827A1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F0E106-2899-4F41-80E4-AC797383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185EC2-3285-45F4-8FB6-7EBF3723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35AED9-337E-4227-8985-867EAC35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671C49-51CD-4ACB-912F-ACE1442D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4F594A-75AD-41BF-A956-51B91B08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7C07C0-FE4B-41E9-8E37-DCBFBCDE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7026FF-350F-47A2-81D0-5F44CB80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22A70-3F94-45BC-992B-54401762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2D3629-464E-41A7-A7EE-EDEA5F36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AC7F97-794F-4A98-98A1-875B3C27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E3CA19-2B46-4FE6-94E4-BF438DAE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2E2B9F-075D-4503-9730-CFAB623B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81E35A-AF5D-42B2-8ED0-1E65EABF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9E2111-9F50-4B8E-BDF7-E10E4F60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7A8F38-284F-456B-8978-619194F1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099F96-1D2A-4ED3-99F5-E7D1155B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5A7319-EB3E-4D28-9037-F4463D25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0A255A-0DBD-4EF0-851A-4DC3A905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836-6E92-4B7F-A07E-6E03193C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4158-BD8C-41EC-AEB8-4292225E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8D780B-1285-4D6C-8158-49B5FAD3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A5FB4E-23BF-4B35-83B1-D5D8DF3B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8497F9-33CD-4E7F-BE10-DD1DE1D0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F71702-F087-49AB-B120-DCD896D8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EA57A5-EF53-4453-8A6D-498C7322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0D1EE9-F66F-4721-B3BE-23922F29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8709BA-BA80-4881-8DD0-2C931846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B5DCED-4790-4804-9E0D-81AF0057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7F869E-72D8-4FA2-BDF1-625F61D8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67F78F-433A-4AF4-BEAB-7373C594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FE0E-ADB1-42B6-926F-03DF3942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FBF1B2-40BF-49DE-B510-EF48D817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407001-43BD-4E2C-98C2-92714693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54D30E-47E4-4B1F-988E-35B8F5F8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773686-264B-4B81-87B5-3DBCEF19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18A69E-19A4-477B-8512-1EAC1D4F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756B8F-88BA-4685-B637-701BCA2B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A3D956-19FF-4743-9C2B-0863EBFA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9239E5-2AC3-4DBA-96E3-68125D94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9D8F31-4D24-4FC9-AEC6-D5FDF1CA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0472E0-CA6A-4697-B21F-1D83FB56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5389A-5B6E-427E-98C9-EA96E7FC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97BC13-7E16-481F-BB2A-386A76B8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C5B3E3-7875-4C58-82F8-096F5310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C950CF-9298-477D-8BD7-92CCEFAD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2E75F9-5E50-4F2A-8420-6D37BFE0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013E29-79FF-4482-A174-69ADA050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262783-28F7-4CEB-9F32-6D92E8EB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E97931-4FA0-4078-A0F6-FC1B6720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B3BF84-EDDB-4E6A-8FBF-4D2B5F05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AAFCEB-DD36-41EE-AA9D-72FC2412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C21E4D-7B8B-41EE-99F6-87DBCE27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B0B7-C147-4820-8A98-A58D90F2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EEA1A5-25CF-4346-9D3F-4720BECC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F6CDFC-3838-4448-82EC-94F3440B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5B6F4E-BFEF-41F9-9FF3-2224140E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2F54D4-9AD8-4DB9-8A25-758EFE15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9F40E6-E195-4681-986D-A1768432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BA9B35-02CE-4500-BBCC-8F70234B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E352B5-B6E2-4B25-9FC6-EA1BD69A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F41948-027E-4827-BF04-0E9C07D3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1D5FE9-DA82-4C1F-BEC6-E11C31E3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F859CE-BBA4-4BB7-9BA3-EFB9382C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44F06-C577-4C96-ACE7-BCC13443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2A94B0-16E6-4D8A-85C7-DB716DC4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52288A-82E3-4AB0-A307-DB90AEE8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9D390E-105E-4276-86AC-9C447087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55E73D-5060-4331-8097-33E9D4C7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A2A4DE-ECB4-451F-98FF-644EDD2A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F2B0B4-74E5-4112-854A-EB0D6AAE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DBCCB2-206A-4D4E-A92F-7554FB89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AAB15C-8A98-49AF-97A0-7C72B192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E1DB13-B87A-48D8-A1AF-49637641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2C8995-2E1C-43CA-B3B9-80EB8B0C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514CA-22ED-4ECE-9B4F-738F52A0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4DF736-67EC-4AA6-B750-1BEBD403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009351-72DA-4AA4-9608-F4ECE3D8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1B3B9B-EACE-450B-8C4A-4B09C02E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F488BF-DB81-4EE4-B219-EF881424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53E6CC-F462-4F9F-BB88-BB22CDC1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B6F6EE-ED0F-49EC-BB6A-BEFF8B75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AB3BD5-443E-494F-BA3E-A0790ECB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9B85BA-962B-4B9D-960E-7DC7EDAB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02670A-969D-47B2-97DA-15D3FD30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1264FE-8936-4B85-83F7-585CA13A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7896D-2770-49DE-9EC7-96F82BFA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A9A1F1-911B-4661-BA3B-761E3312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9FDC52-8224-4705-90A8-5CB95F7A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1C405D-2369-4DAA-B39B-9121CDF1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A0E75F-5551-46F9-887B-658DDC6C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797D01-A081-4FC2-BA2C-DC7679D7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D6C657-E215-4C4F-9F95-E67238BB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3413E7-18D8-454D-89F7-43D6A961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2503E7-C7F8-4F6E-B742-6AEBBEB7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5CEEDC-B1D7-47E1-8A11-1829E19D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F150D7-85BD-4F50-832E-CB0346D1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F5C146-3C17-4954-AB54-EDFBDDD0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A09D47-8382-492B-AE0D-A40DD5E3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519AE6-7B6B-4627-ACD9-F2B16EE2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5AD6EE-0DE8-42EC-917F-E33B3E21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2B2FC7-0280-471B-9F12-46D52584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920F73-FCD1-4022-A18B-84F7F36E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0F8-FB69-46AB-B3A9-E4131A3A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A7F83E-9C3C-42E6-ADD3-89EECE8E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A1EC1-9180-4D14-ABF1-4AC71F8E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1DA55D-1CD4-4B7D-823A-7ACF9F35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845E4-EC5A-4D13-8476-A73AD874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53A78-D49F-4DE8-89B8-560709FC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11803-85B0-4D41-A4B2-4F4F627E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9DDEE2-2967-408C-9753-3F68F394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DC49E-CD83-4208-8963-1E99925C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5C7D63-78D2-46D5-99DE-2032B593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E7F22-F6C2-4126-A13B-4E6095E6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E69-9457-4CDE-84F2-1A6CF3C1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1701C-2668-4ACA-B7E6-1DEF629D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04072E-0717-4C48-AC0B-544D1B1C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53DB70-FC51-450B-A705-E29632DF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67446-CEE4-4FB0-BC1E-5E88596E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5C8A70-BAD4-4AB2-A8A1-1FE832BE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82C186-FE74-4F3F-9CF1-21C5143A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1A14B-25ED-4792-B921-554787AE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C9926-BCC1-4B52-A54E-532EA38E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44A24D-9AD2-4F80-A7C7-47803272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9FE66-41E7-40B3-A466-BC4084D2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5AA-EB63-4C0C-B2D9-9D9DA20D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B0113-12E0-490B-B017-F99CF915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3DCE3-3EE7-471C-8C5C-4AEF908F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CCE6D-4DC9-4B70-B837-EBD4B0E8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94C9E-7301-4239-9E98-9A6EE364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2B141-988C-47AF-9AAB-B00675B9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B4BCB-3B40-495E-8CF5-FCA5A777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BC9B6-E73C-4135-93B3-B5FC7676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683D9C-2C6B-4A59-A927-E68FCB9C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AF7698-AAE5-4CBF-87D2-E34422DA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DFF7AC-9771-437C-A694-213B588D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26A-C1FA-4B7F-89BC-68B87166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01B25F-4248-439A-8AE3-B6FA5343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6F7620-5C70-4A7A-A064-39BB0FD5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91E94-E99F-44AD-B347-76B2FEFB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D8528-A721-43CC-8E6A-A43FFE54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64FF2-71CB-46ED-B8EA-EB81D083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52DBA-57D2-4D59-86B7-CBFF1312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7A53E-979D-4C36-877C-E6E8F42C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51F6A-CBC4-49BC-8625-2713E1A0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CD0A0-1A40-4CC1-9D1E-37E3AE95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E681D-DEAF-44D7-8F15-E0B29FA4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7792-EAC2-440C-8B4C-D932A540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7E864-4CC1-4180-B141-343CE189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3BEC8-B3F0-4666-B548-C55EA079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F9CFD-A256-47BC-BA94-20604217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D8582-10AA-4769-9376-13DEACB4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91DD3-6D62-48D4-AC25-9E1DBA51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D8272-144E-4E5C-9BFE-8FF447DE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00A47-8358-4850-B725-DAD9855D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FC356-CE0F-4E7F-BA73-4358ABB4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515BB-A3FC-4BB3-911F-9B4DE5CA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4CFB7-3794-4753-912D-561707E7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A14-2330-4137-92DB-84D6FBFA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0AE18-CAE4-4B75-8AB4-E824CD69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24C02-CAD0-4090-B54E-1B4C6EE4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51B86-4876-4384-9A26-B2BE5E1C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FE7FE-5091-4911-A237-8EEC6BDC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CADB9-F4D5-443B-80BA-7C6ED7EB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08B5B-D855-49F7-9409-D06DD463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FB955-E050-4F39-8121-E05A0B6B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73093-A3F2-4DF5-948F-239F6B33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C5360-3BE8-4AD0-A49D-C51B3785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65315-95C3-491C-8223-930E5F09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083D-FBFF-47C3-94B6-03869D49C4AE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118D-5564-4E94-8686-39F01F73A5F6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D154-829F-4FA8-8BC4-C8CF32D54824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8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E4CA-1866-4D69-B7E3-C68886CB708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9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6436-81E8-4665-B068-30237F4DBFCA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3838-7B06-44C7-9EF4-49DF164ACE0E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4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4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48C2-D090-4A0A-9A31-324865CBBFFB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870A-21C1-4597-8089-1704C934FBC2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5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6279-7C53-4865-B1E0-487ED8B66F86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646A-4525-4F69-93DD-FA8F8E0F23C3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5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5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5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697B-8C4D-4F13-B177-93E9C74CCC20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2F25-65C7-4FBF-B297-83177EC95170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6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DEEC-DD69-49BC-AF6A-1E0F1A349A8D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0A52-656A-42B9-96DA-DE7EAAC8ECC4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6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6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6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03F8-84DD-4436-8090-081276CDA36B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6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6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6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8AD9-CFF5-4622-9945-DFBF7B071974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01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sldNum" idx="7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8263-BDA0-4006-AF2A-31B814A890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6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6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6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7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7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B079-2CA1-48D6-8620-B352C41FDCB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11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C8EB-3A03-497A-AB72-090BD1826E8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15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3B05-8433-4470-967C-BEF23E16708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2492-30DC-4CF0-9906-7CCF16D68D3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0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24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 type="dt" idx="8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 type="ftr" idx="8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 type="sldNum" idx="8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880A-B3F9-4CC8-A07C-91C0C89D44B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8655-5A90-4DCF-A537-0422F9B5B83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9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8A64-17B9-4C71-BF73-317C3DF0E11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9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9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9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C165-F525-4AD9-8004-1432EC4647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AB01-0F0D-4F55-9614-CA63D577469A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C2E0-DCB5-4B54-95A1-4D65A0BFAF6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98AE-5AC8-4728-A8CA-256DC976B8F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25A4-3CA2-4196-BB70-B76F8FB9715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0661-810C-4D20-966C-433564229A4C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sm_pencil.png"/>
          <p:cNvPicPr/>
          <p:nvPr/>
        </p:nvPicPr>
        <p:blipFill>
          <a:blip r:embed="rId2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feb80a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9345-55A8-4F62-B5C9-4E46CB90069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8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8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8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8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Rectangle 2" descr=""/>
          <p:cNvPicPr/>
          <p:nvPr/>
        </p:nvPicPr>
        <p:blipFill>
          <a:blip r:embed="rId1"/>
          <a:stretch/>
        </p:blipFill>
        <p:spPr>
          <a:xfrm>
            <a:off x="738360" y="1420920"/>
            <a:ext cx="8502480" cy="3475080"/>
          </a:xfrm>
          <a:prstGeom prst="rect">
            <a:avLst/>
          </a:prstGeom>
          <a:ln w="0">
            <a:noFill/>
          </a:ln>
        </p:spPr>
      </p:pic>
      <p:sp>
        <p:nvSpPr>
          <p:cNvPr id="1367" name="TextBox 1"/>
          <p:cNvSpPr/>
          <p:nvPr/>
        </p:nvSpPr>
        <p:spPr>
          <a:xfrm>
            <a:off x="1154160" y="260280"/>
            <a:ext cx="601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ское государственное бюдже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ессиона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адово-архитектурный колледж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Box 3"/>
          <p:cNvSpPr/>
          <p:nvPr/>
        </p:nvSpPr>
        <p:spPr>
          <a:xfrm>
            <a:off x="3700080" y="4797360"/>
            <a:ext cx="50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подаватель общественных дисципл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ементьева С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Box 4"/>
          <p:cNvSpPr/>
          <p:nvPr/>
        </p:nvSpPr>
        <p:spPr>
          <a:xfrm>
            <a:off x="3341520" y="587700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, 201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Заголовок 1" descr=""/>
          <p:cNvPicPr/>
          <p:nvPr/>
        </p:nvPicPr>
        <p:blipFill>
          <a:blip r:embed="rId1"/>
          <a:stretch/>
        </p:blipFill>
        <p:spPr>
          <a:xfrm>
            <a:off x="298440" y="122400"/>
            <a:ext cx="8699400" cy="1139760"/>
          </a:xfrm>
          <a:prstGeom prst="rect">
            <a:avLst/>
          </a:prstGeom>
          <a:ln w="0">
            <a:noFill/>
          </a:ln>
        </p:spPr>
      </p:pic>
      <p:sp>
        <p:nvSpPr>
          <p:cNvPr id="1390" name=""/>
          <p:cNvSpPr txBox="1"/>
          <p:nvPr/>
        </p:nvSpPr>
        <p:spPr>
          <a:xfrm>
            <a:off x="304920" y="785520"/>
            <a:ext cx="8686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тношение в обществе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рестьян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 получили помещичьи земли, многие «переселенцы» вынуждены были вернутьс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ворянство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дели в П.А.Столыпине разрушителя устое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ибералы и интеллигенц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 могли простить военно-полевых судов, антисемитских настроений, приверженности самодержавию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волюционные парт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читали его «вешателем» и «душителем» революц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ктябристы, чиновники, часть интеллигенц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держивали, затем стали недовольны нерешительностью в проведении рефор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иколай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II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рестал поддерживать Столыпина, опасаясь за власт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1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139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1911 г. вузы России охватила всеобщая студенческая забастов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фессора  университетов, протестуя против политики Министерства образования, ушли в отставку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ступления крестьян против реформы П.А.Столыпи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 апреля 1912 г - расстрел рабочих на Ленских приисках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ли в 1912 г. бастовал 1 млн человек, то в 1914 г. - более 2 млн.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етом 1914 г. в Петербурге началась всеобщая забастовка, происходили столкновения с войсками, строились баррикады. Лишь Первая мировая война предотвратила новую революцию в России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Заголовок 1" descr=""/>
          <p:cNvPicPr/>
          <p:nvPr/>
        </p:nvPicPr>
        <p:blipFill>
          <a:blip r:embed="rId1"/>
          <a:stretch/>
        </p:blipFill>
        <p:spPr>
          <a:xfrm>
            <a:off x="298440" y="13968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2" descr=""/>
          <p:cNvPicPr/>
          <p:nvPr/>
        </p:nvPicPr>
        <p:blipFill>
          <a:blip r:embed="rId2"/>
          <a:stretch/>
        </p:blipFill>
        <p:spPr>
          <a:xfrm>
            <a:off x="285840" y="1285920"/>
            <a:ext cx="3643200" cy="2643120"/>
          </a:xfrm>
          <a:prstGeom prst="rect">
            <a:avLst/>
          </a:prstGeom>
          <a:ln w="0">
            <a:noFill/>
          </a:ln>
        </p:spPr>
      </p:pic>
      <p:pic>
        <p:nvPicPr>
          <p:cNvPr id="1395" name="Picture 4" descr=""/>
          <p:cNvPicPr/>
          <p:nvPr/>
        </p:nvPicPr>
        <p:blipFill>
          <a:blip r:embed="rId3"/>
          <a:stretch/>
        </p:blipFill>
        <p:spPr>
          <a:xfrm>
            <a:off x="4932360" y="3860640"/>
            <a:ext cx="32148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 txBox="1"/>
          <p:nvPr/>
        </p:nvSpPr>
        <p:spPr>
          <a:xfrm>
            <a:off x="304920" y="135720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прочение франко-русского союза (заключен еще в 1893 г.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правящих кругах две группировки – пронемецкая и проанглийская. Николай 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после колебаний поддержал линию на сближение с Англие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907 год – образование Антанты (союза Франции, Англии и России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пытки России сохранить добрые отношения с Германие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алканские войны 1912-1913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острение отношений между Сербией и Австро-Венгрие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980200" cy="115272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 txBox="1"/>
          <p:nvPr/>
        </p:nvSpPr>
        <p:spPr>
          <a:xfrm>
            <a:off x="304920" y="1356840"/>
            <a:ext cx="8686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ояльность армии правительству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, (большинство солдат и офицеров остались верны монарху и присяге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скол оппозиционных сил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, вызванный царским Манифестом 17 октябр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тупки правительства в сфере рабочей политики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талость от беспорядков и нестабильности в среде горожан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отсутствие единой тактики среди революционных партий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аграрные реформы П.А.Столыпина и его жесткая политика в отношении революционеров-террористов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кредиты, полученные от Франции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Rectangle 2" descr=""/>
          <p:cNvPicPr/>
          <p:nvPr/>
        </p:nvPicPr>
        <p:blipFill>
          <a:blip r:embed="rId1"/>
          <a:stretch/>
        </p:blipFill>
        <p:spPr>
          <a:xfrm>
            <a:off x="676440" y="146160"/>
            <a:ext cx="7974000" cy="1560240"/>
          </a:xfrm>
          <a:prstGeom prst="rect">
            <a:avLst/>
          </a:prstGeom>
          <a:ln w="0">
            <a:noFill/>
          </a:ln>
        </p:spPr>
      </p:pic>
      <p:sp>
        <p:nvSpPr>
          <p:cNvPr id="1373" name=""/>
          <p:cNvSpPr txBox="1"/>
          <p:nvPr/>
        </p:nvSpPr>
        <p:spPr>
          <a:xfrm>
            <a:off x="428760" y="1714320"/>
            <a:ext cx="8501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 Госуд. Дума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9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1" lang="ru-RU" sz="2900" spc="-1" strike="noStrike">
                <a:solidFill>
                  <a:srgbClr val="4e3b30"/>
                </a:solidFill>
                <a:latin typeface="Franklin Gothic Book"/>
              </a:rPr>
              <a:t>начало работы -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апрель 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190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6</a:t>
            </a:r>
            <a:r>
              <a:rPr b="1" lang="ru-RU" sz="29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- давление на Правительство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- требование всеобщих выборов, расширения законодательных прав Думы, гарантий гражданских свобод, отмены смертной казни и т.п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Правительство отвергает требования, в ответ получает «вотум недоверия» *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9 июля 1906 года</a:t>
            </a: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 I </a:t>
            </a: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Дума была распущена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*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 Выраженное парламентом неодобрение политической линии, определенной акции или законопроекта правительства. На практике приводит либо к уходу правительства в отставку и формированию нового, либо к роспуску парламента и проведению досрочных выборов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4" name="Заголовок 1" descr=""/>
          <p:cNvPicPr/>
          <p:nvPr/>
        </p:nvPicPr>
        <p:blipFill>
          <a:blip r:embed="rId1"/>
          <a:stretch/>
        </p:blipFill>
        <p:spPr>
          <a:xfrm>
            <a:off x="298440" y="324000"/>
            <a:ext cx="8699400" cy="1511280"/>
          </a:xfrm>
          <a:prstGeom prst="rect">
            <a:avLst/>
          </a:prstGeom>
          <a:ln w="0">
            <a:noFill/>
          </a:ln>
        </p:spPr>
      </p:pic>
      <p:sp>
        <p:nvSpPr>
          <p:cNvPr id="13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II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Госуд. Дума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– начало работы 20 февраля 1907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Была еще более радикальной и непримиримой к правительству (которое возглавлял П.А. Столыпин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- споры по аграрному закону и по вопросу о чрезвычайных мерах против революционер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Была распущена 3 июня 1907 года.*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*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тот день считается днем окончания первой российской революци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6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13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III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Госуд. Дум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Лояльна к правительству*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оработала весь 5-ти летний срок и передала в 1912 году свои полномочия  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IV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Думе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, ставшей последней в дореволюционной истории Росси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*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овый избирательный закон резко сократил число россиян, имевших право участвовать в выборах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13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ервое заседание – 1 ноября 1907 год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Лидер – М.Родзянк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Состав думы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оциал-демократы -19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удовики -14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ациональные партии -26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деты – 28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грессисты – 28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ктябристы – 154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онархисты - 147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13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емьер-министр России с 8 июля 1906 года. Убит террористом Д.Богровым в 1911 год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с 19.08.1906 г. введены военно-полевые суды, войска подавляли все бунты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роме того, проведены мероприятия, направленные на модернизацию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приняты Законы о роспуске крестьянских общи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создан Крестьянский банк*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разрешено крестьянам занимать целинные и пустошные земли на Дальнем Востоке и в Зап.Сибири (ссуды и оплата переезда)**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*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1905-14 гг. продал крестьянам 9,5 млн Га земли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**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в 1907-14 гг. воспользовалось 3,5 млн крестьян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наметил проведение школьной реформы, предполагавшей всеобщее бесплатное образование для детей 8-12 лет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2" descr=""/>
          <p:cNvPicPr/>
          <p:nvPr/>
        </p:nvPicPr>
        <p:blipFill>
          <a:blip r:embed="rId2"/>
          <a:stretch/>
        </p:blipFill>
        <p:spPr>
          <a:xfrm>
            <a:off x="857160" y="1554120"/>
            <a:ext cx="750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13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тог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Россия вышла на 1 место в мире по производству зер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Экспорт зер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озможность выделить средства на модернизацию промышлен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Рост промышленного производства на 54%      (с 1908 по 1913 год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6" name="Стрелка вправо 3"/>
          <p:cNvSpPr/>
          <p:nvPr/>
        </p:nvSpPr>
        <p:spPr>
          <a:xfrm>
            <a:off x="4000680" y="2714760"/>
            <a:ext cx="1000080" cy="4284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Стрелка вправо 4"/>
          <p:cNvSpPr/>
          <p:nvPr/>
        </p:nvSpPr>
        <p:spPr>
          <a:xfrm>
            <a:off x="3000240" y="3286080"/>
            <a:ext cx="1214640" cy="5000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Стрелка вправо 5"/>
          <p:cNvSpPr/>
          <p:nvPr/>
        </p:nvSpPr>
        <p:spPr>
          <a:xfrm>
            <a:off x="6500880" y="4429080"/>
            <a:ext cx="1192320" cy="35712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8:25:37Z</dcterms:created>
  <dc:creator>User</dc:creator>
  <dc:description/>
  <dc:language>en-US</dc:language>
  <cp:lastModifiedBy>user</cp:lastModifiedBy>
  <cp:lastPrinted>2017-04-06T11:18:06Z</cp:lastPrinted>
  <dcterms:modified xsi:type="dcterms:W3CDTF">2021-11-15T11:38:20Z</dcterms:modified>
  <cp:revision>236</cp:revision>
  <dc:subject/>
  <dc:title>Наука о человеческой вселенной</dc:title>
</cp:coreProperties>
</file>