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532-C450-4B76-97A5-9F2DAD35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974-6B34-4D17-AE15-A456C873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C45F3-BD9E-4933-9B09-9781011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CED38-6BC7-4780-BD7E-F497C3E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F185-5C72-49F0-B86B-844CFF3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F728E-1D1C-4CD5-869B-4C60F2B5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D7334-7136-4A06-838C-F4216237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68F0-DA71-4744-AC8B-F93418AB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12B24-BE14-47BB-A8A8-C8E0503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F2CA7-2991-4D3D-A208-2C0B3BC0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B98BC-EF97-4390-8B5B-342E0EE6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01BA3-796E-4C12-8495-9A5B1EF9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516-9029-44EE-93F1-9DABBF4D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617F69-AA60-4F75-BA91-3D397D11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5298C3-41D1-4EE5-8DEB-A382E533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20A21-D251-4626-B5C5-B25E1965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DA1D51-6555-400C-8A94-83944C2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38DC1E-6D8D-49BD-9335-2D05101F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80BE9C-2259-4CC7-AD00-F768A172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12EB98-69B9-49B4-9383-D6B49FB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EBB994-D9E3-4555-9C14-9CACB0D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6F72DE-2798-4A98-808E-AC37AFE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DCBB4-63E3-4A5D-A9EC-69D0942E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966-21FE-4F22-A615-12317CA6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E883B-BCBC-4956-8D8F-42DD6535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DEDC5-702A-499D-A666-8786F715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A440-7FD4-4689-A242-BB7B174C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22B31-2E20-42AA-BC92-5BE92219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B784A-2504-42AC-8F9B-6D53481D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FFCD5-DD8A-4ED7-953A-661C209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A86AD-A0EE-4357-96B7-204B7DB9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37618-F069-45E2-89BE-66A2559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D303C-5BCC-428A-A109-E66679D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D08AC-C48B-4495-B390-FB38C69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5078-E51E-4E2E-BB61-9AF3453C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5CD3-A5F6-4600-BD17-2012B8F4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A0CDD-F4AA-4C00-A4F8-92390DAA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D5921-B58E-4259-9AE9-BA18C739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10479-C27C-40FE-AD5B-C3306677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96555-80B4-4B2A-9750-59EB74B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3F815-7913-4544-8EB6-28F8930F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A8773-717F-4027-82B4-FE34392C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B9811-D67D-4B69-9C4D-C994679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2E329-E14F-4A13-82EF-C526BCD3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74558-20DE-42B8-BA30-10ED0AB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3330-A966-41E3-8FA9-65C6520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1F9E9-E378-4C4F-8494-B938D41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88902-82C2-49A6-AD12-9CF7B55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42C37-57D1-4C62-9CFA-2EBA1B0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50AF0-CD39-4423-A2BA-C6E2CC61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06BAA-21E5-46B2-925C-9B536246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1C081-71F5-442F-9518-70CF2501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C763-902A-402E-98C3-65202460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59ABA-A3FA-47D1-9CAB-07BEF21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0420B-6C83-4610-A39E-A8D0B7D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5508C-37B9-44FF-BF76-25659F4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E67-9B14-444F-8318-74002B8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042D9-25A7-4D70-B633-64DF533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AF9BF-9C01-432B-9923-E6FB86E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D5E87-34C7-4EE3-8AA2-3321CA1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E3968-FEB5-45C9-B568-B7DC985A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1A211-325F-4AE1-BF53-4718BF0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041AB-BA63-485A-BDC0-79DEC690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AFB6D-8083-4CCB-BF90-A0A50545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ED33D-E6BC-4304-8063-77299F65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22E32-260D-4A0A-922E-A0B35A57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34275-20C6-4A99-B80C-946988E2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52E2-E039-441D-B84F-2B0D1F2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65EAE-8FE9-4DB0-8CBE-203EDEDE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CE70E-935F-4EAD-B6A6-099E9AD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7513C-92D5-41AC-80DA-787065C4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81554-03CD-4911-B0FE-B0FB5EB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8EF5B-1402-48EA-85B4-EDD1465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AFB55-F8F1-414C-A00C-F8FFFE7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A9B81-A420-4A9F-9351-CEDEF81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9ED32-2503-4D7E-AD69-2E766B48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1D492-0D99-482D-8D36-CEDD94E4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E3370-38A7-4329-A84D-70C51B43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2328-C501-459B-A692-54D1BEB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45F3E-FCE8-4775-86B1-68902F25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28820-94D8-44D1-907A-8EB93ED7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9B240-EB93-4EC8-883B-6213BEFD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A5697-3E5D-47DE-852F-B7518CF1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E501E-3C27-45B8-9969-AA394CC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2E8F8-DBCF-4C97-8337-D1663EF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2622F-1B46-4C41-9CDF-826E1E0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D1EB3-B3D6-48E4-A137-9196BD9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4BE86-A295-450F-913D-0A14C5F7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6258F-8931-4118-9267-B1869141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744-D15E-4F52-B710-B3E06434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7777A-466A-4D5D-B277-20C78076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9D62A-3C4C-4250-BE90-8847A4D3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E58F2-2D23-47E4-B94D-6550C75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65002-82A2-4A74-93DF-4C47ED15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8BEC0-D379-44A1-8BBF-9F96468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1165E-3001-46C4-A97A-9CDA90C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07A97-3C06-4664-B389-BFB6DCA9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901BC-5460-435D-A9A2-AD5F935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88030-1570-45A2-8CDD-1ACD566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E3947-EF96-44C3-9125-F506430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6DA2-0A78-461E-AC16-77DC7D52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F09F3-4469-4FE9-B154-DE99E97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C2A88-9F82-4E4B-8E25-75952B32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DF5D8-B10A-47EA-9A7C-90A47C77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24231-7A8E-4A78-A90E-5F119413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3C310-E0C8-4F6C-B231-F1D3918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DEA37-859B-48CD-AD0E-1ED4360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EB7E9-7419-4EEF-81DD-D1C25974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112E1-5EBF-41F7-B147-997D8EDB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CC824-4EF3-4253-AA44-FB97CBB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F4F79-AEA7-4E69-9E19-44F1607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549-83CF-4298-8422-1F5AA26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93C-E06E-47AF-873E-B8CA659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D83F3-1C40-4A9C-ABBD-0D75036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786B4-DE4F-4BC6-944E-C66AE67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2E890-0B71-4C63-8768-429B2F4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17C7D-2140-4A3B-B29D-5253ED32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21961-5740-4D7A-B452-419560EB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9D1B9-987B-4856-A1C5-17F84782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3A711-0DE8-460F-BDDA-274EB728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AC729-11C1-451E-82CA-AADAC05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DA058-0097-4736-8188-DD4ABC83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BEAF9-09ED-4137-B192-414927E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35D1-BB95-4596-A571-09AAEEC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9999C-B91F-4172-B919-41DF6ED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4B7C6-8E36-440E-9138-F300AEF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CE4A0-41BC-4A04-9AB7-D8B4DFD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22A11-3782-451E-9701-7322F0C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B6093-697B-4E10-B0DF-49C232FC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5C808-FEDC-4D7F-A147-096262D8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40610-A5D9-42E0-928A-B1EB96DD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2B7D1-3077-4C12-9B63-D30C4DF2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4C94F-B54B-4109-97ED-3751020A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B05C6-A2C8-440C-AE1B-5E2117A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D40-59D8-455F-A3E2-5C91D8A2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AAB69-72B4-44FE-95BE-BE19393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F392A-A28D-4BF9-8871-022F2149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64787-D2EE-4BF5-BB70-B591A25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9FD35-0A1B-4F46-A7EA-1DFF3A7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00E30-929E-4E34-8F40-804F08B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87E27-CE8D-4350-861E-401D0D5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3476D-A5BC-43AF-9232-9DB07793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C9A18-FC02-4991-BB1E-AC3176A6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F3958-31D0-4E82-A9F0-786B623F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41413-A5BC-4A59-96FE-B6E40D31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8CA-243C-4E82-8ACC-78FCD857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97F101-5FAE-4705-92B2-2CFAA95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6D529-EDD3-4580-ADFB-D55E5DD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F6813-2A09-47D7-B6A3-2B3B2F7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0963B-98C0-4A80-B625-D14C8A2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876B3-AD01-4B36-BBAC-D0FA07B3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C4D52-BB30-4685-BDF2-89A58BA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6CCB0-BE4F-46E2-A3A4-CF0297D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775A5-7F68-4612-BA62-D885B36D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5016C-2FE4-4C88-AC18-0D66FCE5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49C82-DCBF-4A90-9228-10DEC80A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B4F3-0ED6-4225-B080-E95F618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901B0-B844-47E4-8199-10A9D0C4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B02DE-C81B-49CF-BA51-9D480AA8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67389-578C-481D-8035-E556DF5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FE92A-CB8C-431E-9836-CE18381B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33E2B-2642-4679-A380-1C56E16D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733B8-113E-4339-8EF6-E0F72699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19EB7-C2D1-4E0B-85B2-EF1817C5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B0354-41BB-4F07-8852-A77C5F6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48636-9746-42DA-882B-E075690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6D4E8-0F0F-4546-BF2D-AE7B39B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975D-D223-4F8B-97F2-4FF2EC13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3CF3A-B44A-4219-A596-C0C5D0A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BFB5C-9078-4600-ADFC-56F0383A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7C747-4FA1-45E0-AB3E-4A791FA8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DB787A-E43A-40E5-AF3C-0E39A919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C92DE-B8C6-4CEB-A0F9-4A098A0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141E0-A2C6-4F3E-812D-BAE99B30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E82FF7-F388-42C7-81A6-BB1F619C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E00A59-DC7D-4705-A91A-04F2290B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153D7-727C-410F-8706-2B541383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1A929D-644C-4954-8765-7D7EB96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1441-7BA4-43AF-9A39-28D99440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AEF51A-67A0-4E10-9AF6-B0FAF61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7D389B-8F97-48C8-90B9-491B48C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8B591-E923-407A-88E0-1EDFF842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4A9583-4A53-4EC9-83F0-FDD6FA21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C5BB58-AF6B-4DBD-8DFE-8C1DC479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7416C3-3BC6-41B1-9A34-E45DD35A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C9AAD-ED43-4615-94D3-5C774C3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4F6153-32C3-416F-875A-67AC665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94462-530B-40EA-BE67-934EAA21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74843-3EE4-48B6-AFD7-FA9B3408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05CB-1823-4D17-8587-98DAE13E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0110F5-291E-4587-8DDD-7816383D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57776-E617-4BA4-BCB5-85440D0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E07A8-5587-4367-9C60-3C6F755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9E932-85C5-4FAC-8357-946B1E4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93B83-0FC4-4FC8-993C-A603113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F8CAD4-A60F-40E5-AA7D-C3DAEA0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767D7A-A04A-4F7B-AB17-A86893AB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377661-EE64-4878-A91A-A97D62C9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C4B84-D1B0-47DD-A997-82D6DF2B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8F78F-0C73-4BBB-BFF2-E32B67F0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24AE-7DB4-4F80-AB69-E04A324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24E43F-FE7D-424A-8245-6250874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B7E5EE-8D8D-4D36-93A1-988F53F1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90D128-AE11-44FE-A608-E3C7F9C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9CA6C2-19F9-4772-A453-6A93EE2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CDDC04-9E8A-4EE6-ACA5-1FE1290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83AD3C-A2CB-48CD-B6A9-296BC52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065743-4EFA-4990-BCEE-5D8CD1D1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C6C153-30DB-4881-B041-7E491AF4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A27393-7EC9-48F5-9B6E-C67D6FE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12A11F-ABE7-4B9C-9662-E5B59E2C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2BB3-91A5-47DB-83B2-57FE0DFA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E1FEEF-9795-4CBD-88C9-CDF6E05E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4256E6-5628-4AF4-B7AD-7D9C7FFE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06D55A-1AE2-45BD-9C2A-584A8E02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0466AC-2EFC-4E81-9385-E41DD256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855808-415F-484F-BD4A-2EEE6B6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EB7981-0B2B-4F96-9809-61B5796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13A82C-FD5C-4B7E-A7AD-2860F81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F51E22-7492-4036-9603-872D62A0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44E4BD-1E8F-432B-B9FA-6F378789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30041-6402-4B6F-A78B-AD4B99AD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7E0-D19F-433A-8F6F-51FC905D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6522-52CD-4847-A8A5-A14EA37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E265D5-E6A1-4BF8-81E1-5D3078DC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F3D50F-5C23-45AB-A62A-1425A126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A05951-E066-4710-9B74-BA681B1E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6296DD-5764-4A57-944E-DC9DFC2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461F1D-CB88-4C87-AD19-65EEF6E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88A2A6-9187-4BED-A27C-09975B91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835095-0282-47EC-95DD-01291A29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5E21D3-2F07-47D7-B2D0-30C6E48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57ACD1-1FD8-4C92-A99C-CD06F20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DC00F8-5770-4F5A-8A1A-30514A3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A9FE-00C2-4944-A177-49BF5B8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7E63D1-2EB0-4959-BF12-A55F135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4213B0-62F3-416D-A73A-7E672C48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F8497-5A55-4A14-8F53-465476AB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97D7B9-7010-47B6-8992-E890728F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3CB58A-FB72-4C6A-8CFF-1FBA1693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B27241-070F-46F0-B471-F519F05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6739CE-0E27-4DBE-8FBD-1B2629C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D8303-E699-4C36-B280-86DF499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796754-2A8F-4076-9E23-DE57A30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54B94E-9697-43CE-B530-55D0CD0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1A7F-30CD-4148-965B-2B6B89C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68A032-5E18-44F1-BFD5-6E0CC4E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9087AE-FC70-4F1B-9187-BE2B0F9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36A8D9-3A86-4A63-B6DC-CE72CE8C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849342-D226-4386-A8D9-DD69E1E1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040751-6752-4ADD-AA09-4370330E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6062C6-22E9-40C0-B298-BF809C09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6D8CDE-C68D-4337-925D-A77400F9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0FA30E-A26A-403F-8F82-91DE5C1B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695C6B-F2D1-4BFF-86CC-D67DA13C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C1F0EE-3E65-4A12-AE77-0D2FC38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A508-5BBD-4258-AE4C-BC02072F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52C9CA-786B-4E50-8AB0-7A6F4F45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B13CF7-8316-44B0-90CE-0983570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212764-DB82-435F-AB8A-024AD73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0D0C82-B249-4DA5-BDC7-8033750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55E1B9-2954-457C-B5ED-F7DD3F3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B92322-D344-4F07-A5AB-9B5C5EC5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0B78E5-1045-462F-B6B8-08CE8413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ADB3BE-F3E4-4566-890F-B4A2CA5B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034BDF-1CDC-4AFB-B5FD-205EA83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6A0D17-C279-4E10-B79A-4B888802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C366-BE76-460B-930E-A675440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F460AA-34F8-44D8-B4BE-D3395992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5B6834-419A-487C-97DE-7F7C292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F41DB0-7A5E-40BB-9B9E-608A6EA8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28B684-F391-44F5-A657-6DCC412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DEB418-4354-4276-B8A5-8713A10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534FF9-F374-4D4D-A13B-ED112F3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DD6426-8439-443B-A566-376730FD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691212-9D26-4BD2-AB11-8DE6AF7D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9F811D-9A7B-448C-8C6F-5675FF69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F2E2B0-F8B4-4697-830C-FFA4624D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52CC-6498-4F3B-AA43-E0DD48F9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F79E5F-0A74-4DD5-9840-C5D12231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01D69E-B847-4459-820E-A75B2F7B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15E151-5239-4CE9-B2FC-5B3573D8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4A8A0F-C788-4626-9A75-73BFA317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5F2260-A845-466D-B313-19363F16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03BB97-B182-48C0-B5DB-34A6CD5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8A0151-225F-4A58-AC1F-E63D378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5A4136-9501-47F2-8A0E-E18CDC4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5071DA-C858-41C3-8755-C3DC88BF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FB0C0C-81EB-43E9-987E-2E90BFC8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2F6E-E1FD-4D89-B9A4-653D2B70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622462-DF63-4C3C-87D4-0FA6B6CC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AC6164-8DD0-4B15-895A-3E66F43D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401E6-130C-4EDD-B5B7-982DF0AE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8ABA4F-19AF-4D08-9FBA-6B704DBF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4AA821-E6CB-407C-8119-0339C467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14FC53-0040-4804-B0F5-56368E72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7A98B3-0A99-4C64-842A-EBB80C7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51C430-42A9-4912-8C6E-5BAB1CA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AD2791-FD40-4FCD-9BAB-8F144A7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41E7FA-729C-4EDA-AA79-A36E050F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86F41-640B-4959-99B0-025D33F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E38B6E-892D-475B-86BB-2FC6C757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35EFF4-0D29-4BE5-AF06-302B056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457D81-7FFA-4985-9376-721FE784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71732-690B-4320-AF34-A2AE2CB6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F5044-4283-46DE-8EF8-A9C046E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3C8-2C14-4940-BFEA-9738F702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DBDF5-FB5E-4408-A8BB-59BABBF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82CA2-54FB-4AC3-9230-6E2B754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7074D-EBA4-4623-8497-B231899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4B1A6-FD2D-48A0-BA17-8A07710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D1A1-CC35-446C-B0E7-55A6705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8081C-AAA1-4786-83F3-EBA822E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768FB-1676-4342-B907-FABCAB66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C0165-DF6C-45B5-8C0F-AD8684F8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118D9-1F8C-46ED-AF83-1E2B4A2C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84B39-0DE9-4544-8A0A-EEE15F1B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C64-B32F-478B-877C-BEE131A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7DA9C-3247-4758-903B-96EA5482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8555D-1C58-485D-99F8-514BE39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9A100-6173-40CD-9855-68D0A36A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96A0A-7D2D-4D12-BF30-A2CCFBB7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87919-EFE2-4539-9FEB-0268FB5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40DAF-5D44-4141-8009-E7FFF811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7BB4A-D18A-46F1-A4B1-E2C4FE3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6E5F5-AA01-4DBF-9BDE-A79E962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CCE7F-01D7-4687-BD4D-0AE8524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413D8-4916-40D7-A16D-D50D70E7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B95-5CD4-4165-8C61-8E4BB59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AEC13-68F0-4FEB-8E1D-8CAEBF0E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98299-E142-4688-BFF3-5C739B0C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95854-692E-4C85-8747-DD063736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1367C-55B0-4F01-9A2E-7AA5BCE0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D87DC-65BC-4A4E-BA60-D41DBBF7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603CC-C4D5-4B69-B982-AA82722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40197-3CA5-4B54-8767-385ED173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1D4FC-70A5-4C1E-9C76-F6D1903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F9B1D-8DC4-4504-9B8E-3998C90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4A955-7DA8-4CCD-BF95-6490851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9EA-3F94-4930-AECD-5258BD7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4158B-7F56-4D3D-BE80-ECC998B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EB680-B57D-49D1-A0DE-1A883EB8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6CEB5-D853-4AC6-8C6B-E7570890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3FE3-6AC1-4AAC-A52A-A44A24BB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FD6A-49F9-4BA6-863C-6F87A13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2C2D-5C39-4ABD-AD46-05AFAE23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04D3-F85F-49BD-A986-795CE134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A68F-C168-45C4-B4CF-9CE5EF5C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BE97-E3CD-4C64-8C08-59DF69C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D021-8EBA-49CC-B9B2-77C70E5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C07-C75B-43BB-BF62-02BAD4D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D1C9F-E9A7-4D7E-BA92-EB185BD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757B-881F-4C26-9982-DE78FC3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6ACC-DC7C-42BC-9673-C5736EF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668F-B44B-4F96-AB2C-3ACA3246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A8CE-6182-42BA-A527-EEE3D7C9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BCE67-E368-4346-AAC4-897C35B9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6B708-4C00-43C1-AE17-4CE8588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65FF-80F0-435D-9D68-76B08306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7E0F1-B905-4E95-8122-8322AF8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0ED33-0514-4AE1-B2C8-D448E895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C30-E2B4-4060-B072-3F0F10B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59A1-E18E-40FC-BED1-501FC63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D1F3-7D40-49D7-A06D-4D691D4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07CA5-BB38-4E1C-BA8D-11143289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7B36-F13D-4022-8C45-0E03550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48EF-7277-463E-A2E9-0EA67E9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378B-B551-4239-9122-C39A9C40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07E5F-D6B7-4CC7-8BA9-9F346A88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36F2D-AA3A-4756-B693-CD1F5C9C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CD100-FA00-4472-B18F-FAD75FDD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7D8EE-0A5C-47A6-A1B7-580666A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FB74-CF7C-4E9E-88E1-A55610D69B14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AB06-0015-4FC0-AC0F-6862D4E7DD6E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F4E4-4CCD-4EC1-A79D-1F4F45A7AD3C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E88F-CCAF-4D43-9AEF-CB3DC9DDBE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9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9372-B70C-4463-8DE8-4A0016B1140D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F4D-12AB-47C1-9C02-14C3F76F0CDA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558-F5BD-4111-8A88-04920AA1EDBA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BB9A-0CA4-4EA6-9181-0DFA002E0C11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5BE2-65B8-408A-ABCE-912F95D56563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5572-66A3-4F55-8388-CAC473FFFB38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531-CAA5-49B3-87EC-87D25B449C2B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A06-5D7D-4731-8E7C-2C487FE32DA5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489C-55EC-4D64-991C-1A3BD0269867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C1E7-0073-424A-B7C8-729018F3FEA7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6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6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6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AAAB-011E-4B6A-8945-4FAEB73802B5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6C26-4F9F-4489-B8B7-EE543B891911}" type="slidenum">
              <a:rPr b="1" lang="ru-RU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7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06B-26E6-4366-A551-978913D803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6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6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6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4B9F-7475-499A-99AA-81123481DE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11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3287-ECAF-4817-89CC-D7282EE57F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15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00B-82D0-4BD4-8134-5B122D6F6D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E97-ACBB-477B-927C-2DCF3C2975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2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8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8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0C3-2274-4804-BCF7-DBA44AB8BD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12C3-D72A-4993-83D1-D642273161C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B6AE-CB19-4AD9-A262-EEF1FDFDE4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ABD-EC60-4F12-B922-3560FEB77F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03D-6542-449C-A5F9-6392210398F8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4D16-E8E7-4A94-B1A0-C4F32142AA3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DA6-429C-407A-A341-E714E74235E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0A33-31A0-4083-9C2A-1D937D27690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3E77-14A0-4BDD-846D-127CFAEFEFF9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41B9-9F03-4D14-82E8-EF63D0326CA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Rectangle 2" descr=""/>
          <p:cNvPicPr/>
          <p:nvPr/>
        </p:nvPicPr>
        <p:blipFill>
          <a:blip r:embed="rId1"/>
          <a:stretch/>
        </p:blipFill>
        <p:spPr>
          <a:xfrm>
            <a:off x="738360" y="1420920"/>
            <a:ext cx="8502480" cy="3475080"/>
          </a:xfrm>
          <a:prstGeom prst="rect">
            <a:avLst/>
          </a:prstGeom>
          <a:ln w="0">
            <a:noFill/>
          </a:ln>
        </p:spPr>
      </p:pic>
      <p:sp>
        <p:nvSpPr>
          <p:cNvPr id="1367" name="TextBox 1"/>
          <p:cNvSpPr/>
          <p:nvPr/>
        </p:nvSpPr>
        <p:spPr>
          <a:xfrm>
            <a:off x="1154160" y="260280"/>
            <a:ext cx="60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ское государственное бюдже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адово-архитектурный колледж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3"/>
          <p:cNvSpPr/>
          <p:nvPr/>
        </p:nvSpPr>
        <p:spPr>
          <a:xfrm>
            <a:off x="3700080" y="4797360"/>
            <a:ext cx="50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общественных дисцип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ментьева С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4"/>
          <p:cNvSpPr/>
          <p:nvPr/>
        </p:nvSpPr>
        <p:spPr>
          <a:xfrm>
            <a:off x="334152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, 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Заголовок 1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99400" cy="113976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 txBox="1"/>
          <p:nvPr/>
        </p:nvSpPr>
        <p:spPr>
          <a:xfrm>
            <a:off x="304920" y="785520"/>
            <a:ext cx="8686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ношение в обществ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естьян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получили помещичьи земли, многие «переселенцы» вынуждены были вернуть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ворянств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дели в П.А.Столыпине разрушителя устое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бералы и интеллигенц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могли простить военно-полевых судов, антисемитских настроений, приверженности самодержав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волюционные парт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читали его «вешателем» и «душителем» револю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ктябристы, чиновники, часть интеллиген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ли, затем стали недовольны нерешительностью в проведении рефор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иколай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естал поддерживать Столыпина, опасаясь за влас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1911 г. вузы России охватила всеобщая студенческая забастов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фессора  университетов, протестуя против политики Министерства образования, ушли в отставку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ступления крестьян против реформы П.А.Столыпи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 апреля 1912 г - расстрел рабочих на Ленских прииск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в 1912 г. бастовал 1 млн человек, то в 1914 г. - более 2 млн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том 1914 г. в Петербурге началась всеобщая забастовка, происходили столкновения с войсками, строились баррикады. Лишь Первая мировая война предотвратила новую революцию в России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Заголовок 1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2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4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214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 txBox="1"/>
          <p:nvPr/>
        </p:nvSpPr>
        <p:spPr>
          <a:xfrm>
            <a:off x="304920" y="135720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рочение франко-русского союза (заключен еще в 1893 г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правящих кругах две группировки – пронемецкая и проанглийская. Николай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осле колебаний поддержал линию на сближение с Англие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907 год – образование Антанты (союза Франции, Англии и России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пытки России сохранить добрые отношения с Германи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алканские войны 1912-1913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острение отношений между Сербией и Австро-Венгри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980200" cy="115272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 txBox="1"/>
          <p:nvPr/>
        </p:nvSpPr>
        <p:spPr>
          <a:xfrm>
            <a:off x="304920" y="1356840"/>
            <a:ext cx="8686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ояльность армии правительству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(большинство солдат и офицеров остались верны монарху и присяге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скол оппозиционных сил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вызванный царским Манифестом 17 октябр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упки правительства в сфере рабочей политики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лость от беспорядков и нестабильности в среде горожан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отсутствие единой тактики среди революционных партий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аграрные реформы П.А.Столыпина и его жесткая политика в отношении революционеров-террористов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кредиты, полученные от Франции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Rectangle 2" descr=""/>
          <p:cNvPicPr/>
          <p:nvPr/>
        </p:nvPicPr>
        <p:blipFill>
          <a:blip r:embed="rId1"/>
          <a:stretch/>
        </p:blipFill>
        <p:spPr>
          <a:xfrm>
            <a:off x="676440" y="146160"/>
            <a:ext cx="7974000" cy="156024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 txBox="1"/>
          <p:nvPr/>
        </p:nvSpPr>
        <p:spPr>
          <a:xfrm>
            <a:off x="428760" y="1714320"/>
            <a:ext cx="85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Госуд. Дума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9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ru-RU" sz="2900" spc="-1" strike="noStrike">
                <a:solidFill>
                  <a:srgbClr val="4e3b30"/>
                </a:solidFill>
                <a:latin typeface="Franklin Gothic Book"/>
              </a:rPr>
              <a:t>начало работы -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апрель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190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6</a:t>
            </a:r>
            <a:r>
              <a:rPr b="1" lang="ru-RU" sz="29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- давление на Правительство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- требование всеобщих выборов, расширения законодательных прав Думы, гарантий гражданских свобод, отмены смертной казни и т.п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равительство отвергает требования, в ответ получает «вотум недоверия» *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9 июля 1906 года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500" spc="-1" strike="noStrike">
                <a:solidFill>
                  <a:srgbClr val="4e3b30"/>
                </a:solidFill>
                <a:latin typeface="Franklin Gothic Book"/>
              </a:rPr>
              <a:t> I 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Дума была распущен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*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 Выраженное парламентом неодобрение политической линии, определенной акции или законопроекта правительства. На практике приводит либо к уходу правительства в отставку и формированию нового, либо к роспуску парламента и проведению досрочных выборов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128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I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осуд. Дума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– начало работы 20 февраля 1907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ыла еще более радикальной и непримиримой к правительству (которое возглавлял П.А. Столыпин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- споры по аграрному закону и по вопросу о чрезвычайных мерах против революционер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ыла распущена 3 июня 1907 года.*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*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т день считается днем окончания первой российской револю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II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осуд. Дум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Лояльна к правительству*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оработала весь 5-ти летний срок и передала в 1912 году свои полномочия 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V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Думе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, ставшей последней в дореволюционной истории Росс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*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вый избирательный закон резко сократил число россиян, имевших право участвовать в выбора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рвое заседание – 1 ноября 1907 год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идер – М.Родзянк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остав дум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циал-демократы -19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удовики -1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циональные партии -2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деты – 2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грессисты – 2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ктябристы – 15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нархисты - 14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мьер-министр России с 8 июля 1906 года. Убит террористом Д.Богровым в 1911 го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с 19.08.1906 г. введены военно-полевые суды, войска подавляли все бунты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оме того, проведены мероприятия, направленные на модернизацию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приняты Законы о роспуске крестьянских общ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создан Крестьянский банк*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разрешено крестьянам занимать целинные и пустошные земли на Дальнем Востоке и в Зап.Сибири (ссуды и оплата переезда)**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*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1905-14 гг. продал крестьянам 9,5 млн Га земли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**</a:t>
            </a:r>
            <a:r>
              <a:rPr b="0" lang="ru-RU" sz="1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 1907-14 гг. воспользовалось 3,5 млн крестьян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наметил проведение школьной реформы, предполагавшей всеобщее бесплатное образование для детей 8-12 лет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2" descr=""/>
          <p:cNvPicPr/>
          <p:nvPr/>
        </p:nvPicPr>
        <p:blipFill>
          <a:blip r:embed="rId2"/>
          <a:stretch/>
        </p:blipFill>
        <p:spPr>
          <a:xfrm>
            <a:off x="857160" y="1554120"/>
            <a:ext cx="750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тог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оссия вышла на 1 место в мире по производству зер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Экспорт зер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озможность выделить средства на модернизацию промышлен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ост промышленного производства на 54%      (с 1908 по 1913 год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6" name="Стрелка вправо 3"/>
          <p:cNvSpPr/>
          <p:nvPr/>
        </p:nvSpPr>
        <p:spPr>
          <a:xfrm>
            <a:off x="4000680" y="2714760"/>
            <a:ext cx="1000080" cy="4284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Стрелка вправо 4"/>
          <p:cNvSpPr/>
          <p:nvPr/>
        </p:nvSpPr>
        <p:spPr>
          <a:xfrm>
            <a:off x="3000240" y="3286080"/>
            <a:ext cx="1214640" cy="5000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Стрелка вправо 5"/>
          <p:cNvSpPr/>
          <p:nvPr/>
        </p:nvSpPr>
        <p:spPr>
          <a:xfrm>
            <a:off x="6500880" y="4429080"/>
            <a:ext cx="1192320" cy="35712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8:25:37Z</dcterms:created>
  <dc:creator>User</dc:creator>
  <dc:description/>
  <dc:language>en-US</dc:language>
  <cp:lastModifiedBy>user</cp:lastModifiedBy>
  <cp:lastPrinted>2017-04-06T11:18:06Z</cp:lastPrinted>
  <dcterms:modified xsi:type="dcterms:W3CDTF">2021-11-15T11:38:20Z</dcterms:modified>
  <cp:revision>236</cp:revision>
  <dc:subject/>
  <dc:title>Наука о человеческой вселенной</dc:title>
</cp:coreProperties>
</file>