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62C-4562-47E8-ADF4-D434459E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49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464-F01B-4218-9CEF-A8EEE07C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179-E57F-4915-959E-39145299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79C-9D7D-451E-9A64-F42D8E6C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0B90-9535-4C37-89B4-4A72B8B6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6F4D-570B-4F69-B419-386C1264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769F-2C8B-47A0-AAB7-C4BE4CC5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014-9912-4D11-9590-7673B3E9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2707-C79C-49C7-9501-C3074B88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D535-BE34-4ACE-9D4F-335FCBAC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0B1A-0D21-4F8E-B580-2BCAD0DF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9B0-71B0-40B5-83B3-973381C9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CB22-320C-4022-A4CF-5B50EF90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3903-4D6C-4A9F-917C-CF3904D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249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92F7-9788-4DA0-9DDC-48665669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EE7B-07A2-4ADE-918D-58A42C19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B249-266D-4B0B-8037-65CC609B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6E0-C264-4270-B3C8-BCA269F0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A65-A66E-4538-9BD0-89EED6D5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BF2-D321-4C15-A191-EA6BD5C3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29E-AD6B-4013-96DF-8744C21A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DE1-6401-4738-B76F-55F97BB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172-EAD3-4263-97BE-0F032BFF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FFE-0209-4CCA-849C-F7F4388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84B2-42EC-45B7-AFCD-C863E15D28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69D6-E305-4F02-BC7A-DDFE06F7BD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4;&#1086;&#1083;&#1086;&#1076;&#1086;&#1081;%20&#1082;&#1085;&#1103;&#1079;&#1100;%20&#1085;&#1077;&#1074;&#1089;&#1082;&#1080;&#1081;%20%20&#1082;&#1072;&#1088;&#1090;&#1080;&#1085;&#1082;&#1080;&amp;fp=0&amp;pos=9&amp;uinfo=ww-1349-wh-673-fw-1124-fh-467-pd-1&amp;rpt=simage&amp;img_url=http://www.abc-people.com/data/nevskiy/pic1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сский гер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0"/>
          <p:cNvSpPr/>
          <p:nvPr/>
        </p:nvSpPr>
        <p:spPr>
          <a:xfrm>
            <a:off x="22096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733920" y="3352680"/>
            <a:ext cx="510516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ТР Василёвская Н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 Владисл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а 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ова Вар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ова Васи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кина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итин Констан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манова Шук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: Владимирова Светла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темы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того, кто не помнит своей истории- нет будущего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F:\Александр Невский\3.jpg"/>
          <p:cNvPicPr/>
          <p:nvPr/>
        </p:nvPicPr>
        <p:blipFill>
          <a:blip r:embed="rId1"/>
          <a:stretch/>
        </p:blipFill>
        <p:spPr>
          <a:xfrm>
            <a:off x="762120" y="2376360"/>
            <a:ext cx="3352680" cy="257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D:\User\Desktop\Невский\yEBQMRY6T0U.jpg"/>
          <p:cNvPicPr/>
          <p:nvPr/>
        </p:nvPicPr>
        <p:blipFill>
          <a:blip r:embed="rId2"/>
          <a:stretch/>
        </p:blipFill>
        <p:spPr>
          <a:xfrm>
            <a:off x="5181480" y="1905120"/>
            <a:ext cx="2519640" cy="447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узнали, что Александр Невский успешно защищал русские земли от татар, шведов, литовцев, умело выстраивал дружеские отношения с другими прав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D:\User\Desktop\Невский\Kmhgm_fKaqc.jpg"/>
          <p:cNvPicPr/>
          <p:nvPr/>
        </p:nvPicPr>
        <p:blipFill>
          <a:blip r:embed="rId1"/>
          <a:stretch/>
        </p:blipFill>
        <p:spPr>
          <a:xfrm rot="255000">
            <a:off x="5964120" y="1387080"/>
            <a:ext cx="2670120" cy="474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F:\Полководцы\161133.jpg"/>
          <p:cNvPicPr/>
          <p:nvPr/>
        </p:nvPicPr>
        <p:blipFill>
          <a:blip r:embed="rId2"/>
          <a:stretch/>
        </p:blipFill>
        <p:spPr>
          <a:xfrm>
            <a:off x="1523880" y="2819520"/>
            <a:ext cx="3629160" cy="2724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4"/>
          <p:cNvSpPr/>
          <p:nvPr/>
        </p:nvSpPr>
        <p:spPr>
          <a:xfrm>
            <a:off x="1018800" y="60948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- Александр Невский известно каждому в нашем Отечеств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исполняется 800 лет со дня его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048120" y="6019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сю жизнь Александр Не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оиграл ни одно с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4.jpg"/>
          <p:cNvPicPr/>
          <p:nvPr/>
        </p:nvPicPr>
        <p:blipFill>
          <a:blip r:embed="rId1"/>
          <a:stretch/>
        </p:blipFill>
        <p:spPr>
          <a:xfrm>
            <a:off x="762120" y="762120"/>
            <a:ext cx="2971800" cy="237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:\User\Desktop\Невский\m5_yQBN4-7Q.jpg"/>
          <p:cNvPicPr/>
          <p:nvPr/>
        </p:nvPicPr>
        <p:blipFill>
          <a:blip r:embed="rId2"/>
          <a:stretch/>
        </p:blipFill>
        <p:spPr>
          <a:xfrm>
            <a:off x="3733920" y="2971800"/>
            <a:ext cx="5148000" cy="2895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267080" y="13716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рь Анастасия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ала,  что образ князя Александра Невского увековечен во многих произведениях художественн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426560" y="609588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асилёвской сельской библиот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D:\User\Desktop\Невский\74Y4dBpbuko.jpg"/>
          <p:cNvPicPr/>
          <p:nvPr/>
        </p:nvPicPr>
        <p:blipFill>
          <a:blip r:embed="rId3"/>
          <a:srcRect l="14250" t="0" r="0" b="0"/>
          <a:stretch/>
        </p:blipFill>
        <p:spPr>
          <a:xfrm rot="21013200">
            <a:off x="293760" y="3276360"/>
            <a:ext cx="37177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298080"/>
            <a:ext cx="2895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:\User\Desktop\Невский\dU5uygnCt0o.jpg"/>
          <p:cNvPicPr/>
          <p:nvPr/>
        </p:nvPicPr>
        <p:blipFill>
          <a:blip r:embed="rId4"/>
          <a:srcRect l="11573" t="0" r="13472" b="0"/>
          <a:stretch/>
        </p:blipFill>
        <p:spPr>
          <a:xfrm rot="15478800">
            <a:off x="3702600" y="432360"/>
            <a:ext cx="1067040" cy="80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D:\User\Desktop\Невский\eoC0KfjuS4o.jpg"/>
          <p:cNvPicPr/>
          <p:nvPr/>
        </p:nvPicPr>
        <p:blipFill>
          <a:blip r:embed="rId5"/>
          <a:srcRect l="10389" t="0" r="16131" b="4201"/>
          <a:stretch/>
        </p:blipFill>
        <p:spPr>
          <a:xfrm rot="15389400">
            <a:off x="4588200" y="400680"/>
            <a:ext cx="1087560" cy="79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:\User\Desktop\Невский\yrIkZVlQhoc.jpg"/>
          <p:cNvPicPr/>
          <p:nvPr/>
        </p:nvPicPr>
        <p:blipFill>
          <a:blip r:embed="rId6"/>
          <a:srcRect l="8572" t="7619" r="8572" b="9832"/>
          <a:stretch/>
        </p:blipFill>
        <p:spPr>
          <a:xfrm>
            <a:off x="5715000" y="457200"/>
            <a:ext cx="1676520" cy="93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одно изображение князя не дошло до наших дней, и каждый видит его по сво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533520" y="110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www.kuluar.ru/IMAGES/Mos0/Mos0.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19320"/>
            <a:ext cx="2617920" cy="2895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top-reyting.ru/images/stories/aleksandr_nevskiy.jpg"/>
          <p:cNvPicPr/>
          <p:nvPr/>
        </p:nvPicPr>
        <p:blipFill>
          <a:blip r:embed="rId3"/>
          <a:stretch/>
        </p:blipFill>
        <p:spPr>
          <a:xfrm>
            <a:off x="2286000" y="1752480"/>
            <a:ext cx="2424240" cy="320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im6-tub-ru.yandex.net/i?id=74778570-08-72&amp;n=21"/>
          <p:cNvPicPr/>
          <p:nvPr/>
        </p:nvPicPr>
        <p:blipFill>
          <a:blip r:embed="rId4"/>
          <a:srcRect l="15661" t="0" r="30128" b="0"/>
          <a:stretch/>
        </p:blipFill>
        <p:spPr>
          <a:xfrm>
            <a:off x="4267080" y="3657600"/>
            <a:ext cx="2590920" cy="2867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player.myshared.ru/6/551616/slides/slide_12.jpg"/>
          <p:cNvPicPr/>
          <p:nvPr/>
        </p:nvPicPr>
        <p:blipFill>
          <a:blip r:embed="rId5"/>
          <a:srcRect l="63335" t="30000" r="12500" b="36667"/>
          <a:stretch/>
        </p:blipFill>
        <p:spPr>
          <a:xfrm>
            <a:off x="4800600" y="137160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Александр Невский. Сообщение 3-4 класс"/>
          <p:cNvPicPr/>
          <p:nvPr/>
        </p:nvPicPr>
        <p:blipFill>
          <a:blip r:embed="rId6"/>
          <a:srcRect l="16003" t="0" r="3999" b="0"/>
          <a:stretch/>
        </p:blipFill>
        <p:spPr>
          <a:xfrm>
            <a:off x="6477120" y="2286000"/>
            <a:ext cx="247176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F:\Александр Невский\3.jpg"/>
          <p:cNvPicPr/>
          <p:nvPr/>
        </p:nvPicPr>
        <p:blipFill>
          <a:blip r:embed="rId7"/>
          <a:srcRect l="15906" t="0" r="11367" b="0"/>
          <a:stretch/>
        </p:blipFill>
        <p:spPr>
          <a:xfrm>
            <a:off x="7010280" y="4648320"/>
            <a:ext cx="1752840" cy="1850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6"/>
          <p:cNvSpPr/>
          <p:nvPr/>
        </p:nvSpPr>
        <p:spPr>
          <a:xfrm>
            <a:off x="838080" y="1312920"/>
            <a:ext cx="7500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я изображения Александра Невского, мы заметили, что художники используют такие цвета, как золотой и ал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D:\User\Desktop\Невский\ky30EL3TFuI.jpg"/>
          <p:cNvPicPr/>
          <p:nvPr/>
        </p:nvPicPr>
        <p:blipFill>
          <a:blip r:embed="rId1"/>
          <a:srcRect l="0" t="1132" r="3025" b="0"/>
          <a:stretch/>
        </p:blipFill>
        <p:spPr>
          <a:xfrm>
            <a:off x="6324480" y="1371600"/>
            <a:ext cx="2286000" cy="421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D:\User\Desktop\Невский\r2yjwOiBsas.jpg"/>
          <p:cNvPicPr/>
          <p:nvPr/>
        </p:nvPicPr>
        <p:blipFill>
          <a:blip r:embed="rId2"/>
          <a:srcRect l="0" t="8259" r="29875" b="12842"/>
          <a:stretch/>
        </p:blipFill>
        <p:spPr>
          <a:xfrm rot="20771400">
            <a:off x="4443480" y="1528920"/>
            <a:ext cx="1752480" cy="36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:\User\Desktop\Невский\d9MRrUp9xy4.jpg"/>
          <p:cNvPicPr/>
          <p:nvPr/>
        </p:nvPicPr>
        <p:blipFill>
          <a:blip r:embed="rId3"/>
          <a:srcRect l="0" t="6268" r="0" b="21606"/>
          <a:stretch/>
        </p:blipFill>
        <p:spPr>
          <a:xfrm>
            <a:off x="2362320" y="2666880"/>
            <a:ext cx="2079360" cy="2667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3200400" y="55627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щит является знаком мужества и любви к Родине. Золотой цвет является символом могущества, справедливости, богатства ст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:\User\Desktop\Невский\HHSwEC9NsKs.jpg"/>
          <p:cNvPicPr/>
          <p:nvPr/>
        </p:nvPicPr>
        <p:blipFill>
          <a:blip r:embed="rId4"/>
          <a:srcRect l="0" t="0" r="0" b="26189"/>
          <a:stretch/>
        </p:blipFill>
        <p:spPr>
          <a:xfrm rot="20654400">
            <a:off x="314280" y="1590480"/>
            <a:ext cx="1974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ятой княз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 flipV="1" rot="10800000">
            <a:off x="533520" y="125208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пространение христианства, а также за особую, посильную, помощь в восстановлении русских городов и церквей, Александр Невский получил прозвание «благоверны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Админ\Desktop\12_1.jpg"/>
          <p:cNvPicPr/>
          <p:nvPr/>
        </p:nvPicPr>
        <p:blipFill>
          <a:blip r:embed="rId1"/>
          <a:stretch/>
        </p:blipFill>
        <p:spPr>
          <a:xfrm>
            <a:off x="4653000" y="2301840"/>
            <a:ext cx="350352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:\User\Desktop\Невский\YTlBzr5Hpgs.jpg"/>
          <p:cNvPicPr/>
          <p:nvPr/>
        </p:nvPicPr>
        <p:blipFill>
          <a:blip r:embed="rId2"/>
          <a:srcRect l="0" t="9526" r="0" b="17859"/>
          <a:stretch/>
        </p:blipFill>
        <p:spPr>
          <a:xfrm rot="21102000">
            <a:off x="1295280" y="2544480"/>
            <a:ext cx="28321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D:\User\Desktop\Невский\slayd2_0.jpg"/>
          <p:cNvPicPr/>
          <p:nvPr/>
        </p:nvPicPr>
        <p:blipFill>
          <a:blip r:embed="rId1"/>
          <a:stretch/>
        </p:blipFill>
        <p:spPr>
          <a:xfrm>
            <a:off x="-81000" y="-60480"/>
            <a:ext cx="922500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man Narihkin</dc:creator>
  <dc:description/>
  <dc:language>en-US</dc:language>
  <cp:lastModifiedBy>Пользователь</cp:lastModifiedBy>
  <dcterms:modified xsi:type="dcterms:W3CDTF">2021-05-02T19:01:1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