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54D-6E7B-4714-A4D2-E752D5FE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2492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86C-765B-4634-8145-1822F205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2492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1EC-1FBB-48E7-B8BE-0EE11DB2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9856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9856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2492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2492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2492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955-C118-42C3-BF9C-517EF145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2A3B-1DF2-4D77-A1A7-4282AA89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9856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2272-5B7D-4398-9192-7C08258D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6AB0-270E-4661-9A55-6F65FF10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6EFF-5C79-4338-A6D1-588E9B2E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14C4-D91E-47FC-A920-B90634FD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D80B-F8FF-45F5-90CA-7AFFCE69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3D98-0122-4EE6-A111-71C0458B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9856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0AE-D34B-4DA8-BB73-70FEE3ED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2492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1C02-CAB2-497D-BAD2-478F57DD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8584-611A-46EC-8CC7-E8C328D7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2492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D836-3C3C-46F7-85B4-EA5E28DC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2492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6FC2-9A41-4BAA-B2D6-DA4B98E9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9856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9856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2492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2492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24920"/>
            <a:ext cx="264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A50E-ED42-472C-9C3F-1F8B5C11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4B3-5B74-48B4-B6A8-C5289C1C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ED6-7D64-4550-9547-CF3D5144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F99-08B5-44AF-999D-E3239696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FD0-87BB-4029-BAF5-65A45AF6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A1E-9C85-48B2-9740-874B3881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2492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463-B902-46F4-8369-C57DCADF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98560"/>
            <a:ext cx="401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492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E33-4615-40B0-ABB6-E4B4D01C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A5F4-1EF9-428A-A991-7ED4FE325D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EBC2-20F8-47F4-BFC5-092119C0D7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4;&#1086;&#1083;&#1086;&#1076;&#1086;&#1081;%20&#1082;&#1085;&#1103;&#1079;&#1100;%20&#1085;&#1077;&#1074;&#1089;&#1082;&#1080;&#1081;%20%20&#1082;&#1072;&#1088;&#1090;&#1080;&#1085;&#1082;&#1080;&amp;fp=0&amp;pos=9&amp;uinfo=ww-1349-wh-673-fw-1124-fh-467-pd-1&amp;rpt=simage&amp;img_url=http://www.abc-people.com/data/nevskiy/pic1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8380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сский геро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ександр Не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0"/>
          <p:cNvSpPr/>
          <p:nvPr/>
        </p:nvSpPr>
        <p:spPr>
          <a:xfrm>
            <a:off x="22096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733920" y="3352680"/>
            <a:ext cx="510516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ОУ ТР Василёвская Н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ьев Владисл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ьева 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ова Варв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ова Васи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кина Тат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итин Констан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манова Шук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: Владимирова Светлан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темы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того, кто не помнит своей истории- нет будущего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F:\Александр Невский\3.jpg"/>
          <p:cNvPicPr/>
          <p:nvPr/>
        </p:nvPicPr>
        <p:blipFill>
          <a:blip r:embed="rId1"/>
          <a:stretch/>
        </p:blipFill>
        <p:spPr>
          <a:xfrm>
            <a:off x="762120" y="2376360"/>
            <a:ext cx="3352680" cy="257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D:\User\Desktop\Невский\yEBQMRY6T0U.jpg"/>
          <p:cNvPicPr/>
          <p:nvPr/>
        </p:nvPicPr>
        <p:blipFill>
          <a:blip r:embed="rId2"/>
          <a:stretch/>
        </p:blipFill>
        <p:spPr>
          <a:xfrm>
            <a:off x="5181480" y="1905120"/>
            <a:ext cx="2519640" cy="4478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узнали, что Александр Невский успешно защищал русские земли от татар, шведов, литовцев, умело выстраивал дружеские отношения с другими прави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D:\User\Desktop\Невский\Kmhgm_fKaqc.jpg"/>
          <p:cNvPicPr/>
          <p:nvPr/>
        </p:nvPicPr>
        <p:blipFill>
          <a:blip r:embed="rId1"/>
          <a:stretch/>
        </p:blipFill>
        <p:spPr>
          <a:xfrm rot="255000">
            <a:off x="5964120" y="1387080"/>
            <a:ext cx="2670120" cy="4748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F:\Полководцы\161133.jpg"/>
          <p:cNvPicPr/>
          <p:nvPr/>
        </p:nvPicPr>
        <p:blipFill>
          <a:blip r:embed="rId2"/>
          <a:stretch/>
        </p:blipFill>
        <p:spPr>
          <a:xfrm>
            <a:off x="1523880" y="2819520"/>
            <a:ext cx="3629160" cy="2724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1" name="TextBox 4"/>
          <p:cNvSpPr/>
          <p:nvPr/>
        </p:nvSpPr>
        <p:spPr>
          <a:xfrm>
            <a:off x="1018800" y="60948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- Александр Невский известно каждому в нашем Отечеств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исполняется 800 лет со дня его р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048120" y="60199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сю жизнь Александр Не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оиграл ни одно с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4.jpg"/>
          <p:cNvPicPr/>
          <p:nvPr/>
        </p:nvPicPr>
        <p:blipFill>
          <a:blip r:embed="rId1"/>
          <a:stretch/>
        </p:blipFill>
        <p:spPr>
          <a:xfrm>
            <a:off x="762120" y="762120"/>
            <a:ext cx="2971800" cy="2377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D:\User\Desktop\Невский\m5_yQBN4-7Q.jpg"/>
          <p:cNvPicPr/>
          <p:nvPr/>
        </p:nvPicPr>
        <p:blipFill>
          <a:blip r:embed="rId2"/>
          <a:stretch/>
        </p:blipFill>
        <p:spPr>
          <a:xfrm>
            <a:off x="3733920" y="2971800"/>
            <a:ext cx="5148000" cy="289548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4267080" y="13716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рь Анастасия Валер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ала,  что образ князя Александра Невского увековечен во многих произведениях художественн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426560" y="6095880"/>
            <a:ext cx="41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асилёвской сельской библиот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D:\User\Desktop\Невский\74Y4dBpbuko.jpg"/>
          <p:cNvPicPr/>
          <p:nvPr/>
        </p:nvPicPr>
        <p:blipFill>
          <a:blip r:embed="rId3"/>
          <a:srcRect l="14250" t="0" r="0" b="0"/>
          <a:stretch/>
        </p:blipFill>
        <p:spPr>
          <a:xfrm rot="21013200">
            <a:off x="293760" y="3276360"/>
            <a:ext cx="371772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-298080"/>
            <a:ext cx="2895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D:\User\Desktop\Невский\dU5uygnCt0o.jpg"/>
          <p:cNvPicPr/>
          <p:nvPr/>
        </p:nvPicPr>
        <p:blipFill>
          <a:blip r:embed="rId4"/>
          <a:srcRect l="11573" t="0" r="13472" b="0"/>
          <a:stretch/>
        </p:blipFill>
        <p:spPr>
          <a:xfrm rot="15478800">
            <a:off x="3702600" y="432360"/>
            <a:ext cx="1067040" cy="80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D:\User\Desktop\Невский\eoC0KfjuS4o.jpg"/>
          <p:cNvPicPr/>
          <p:nvPr/>
        </p:nvPicPr>
        <p:blipFill>
          <a:blip r:embed="rId5"/>
          <a:srcRect l="10389" t="0" r="16131" b="4201"/>
          <a:stretch/>
        </p:blipFill>
        <p:spPr>
          <a:xfrm rot="15389400">
            <a:off x="4588200" y="400680"/>
            <a:ext cx="1087560" cy="796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D:\User\Desktop\Невский\yrIkZVlQhoc.jpg"/>
          <p:cNvPicPr/>
          <p:nvPr/>
        </p:nvPicPr>
        <p:blipFill>
          <a:blip r:embed="rId6"/>
          <a:srcRect l="8572" t="7619" r="8572" b="9832"/>
          <a:stretch/>
        </p:blipFill>
        <p:spPr>
          <a:xfrm>
            <a:off x="5715000" y="457200"/>
            <a:ext cx="1676520" cy="939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 одно изображение князя не дошло до наших дней, и каждый видит его по сво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533520" y="1106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://www.kuluar.ru/IMAGES/Mos0/Mos0.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219320"/>
            <a:ext cx="2617920" cy="2895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top-reyting.ru/images/stories/aleksandr_nevskiy.jpg"/>
          <p:cNvPicPr/>
          <p:nvPr/>
        </p:nvPicPr>
        <p:blipFill>
          <a:blip r:embed="rId3"/>
          <a:stretch/>
        </p:blipFill>
        <p:spPr>
          <a:xfrm>
            <a:off x="2286000" y="1752480"/>
            <a:ext cx="2424240" cy="320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im6-tub-ru.yandex.net/i?id=74778570-08-72&amp;n=21"/>
          <p:cNvPicPr/>
          <p:nvPr/>
        </p:nvPicPr>
        <p:blipFill>
          <a:blip r:embed="rId4"/>
          <a:srcRect l="15661" t="0" r="30128" b="0"/>
          <a:stretch/>
        </p:blipFill>
        <p:spPr>
          <a:xfrm>
            <a:off x="4267080" y="3657600"/>
            <a:ext cx="2590920" cy="2867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player.myshared.ru/6/551616/slides/slide_12.jpg"/>
          <p:cNvPicPr/>
          <p:nvPr/>
        </p:nvPicPr>
        <p:blipFill>
          <a:blip r:embed="rId5"/>
          <a:srcRect l="63335" t="30000" r="12500" b="36667"/>
          <a:stretch/>
        </p:blipFill>
        <p:spPr>
          <a:xfrm>
            <a:off x="4800600" y="137160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Александр Невский. Сообщение 3-4 класс"/>
          <p:cNvPicPr/>
          <p:nvPr/>
        </p:nvPicPr>
        <p:blipFill>
          <a:blip r:embed="rId6"/>
          <a:srcRect l="16003" t="0" r="3999" b="0"/>
          <a:stretch/>
        </p:blipFill>
        <p:spPr>
          <a:xfrm>
            <a:off x="6477120" y="2286000"/>
            <a:ext cx="247176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F:\Александр Невский\3.jpg"/>
          <p:cNvPicPr/>
          <p:nvPr/>
        </p:nvPicPr>
        <p:blipFill>
          <a:blip r:embed="rId7"/>
          <a:srcRect l="15906" t="0" r="11367" b="0"/>
          <a:stretch/>
        </p:blipFill>
        <p:spPr>
          <a:xfrm>
            <a:off x="7010280" y="4648320"/>
            <a:ext cx="1752840" cy="1850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6"/>
          <p:cNvSpPr/>
          <p:nvPr/>
        </p:nvSpPr>
        <p:spPr>
          <a:xfrm>
            <a:off x="838080" y="1312920"/>
            <a:ext cx="7500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атривая изображения Александра Невского, мы заметили, что художники используют такие цвета, как золотой и ал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D:\User\Desktop\Невский\ky30EL3TFuI.jpg"/>
          <p:cNvPicPr/>
          <p:nvPr/>
        </p:nvPicPr>
        <p:blipFill>
          <a:blip r:embed="rId1"/>
          <a:srcRect l="0" t="1132" r="3025" b="0"/>
          <a:stretch/>
        </p:blipFill>
        <p:spPr>
          <a:xfrm>
            <a:off x="6324480" y="1371600"/>
            <a:ext cx="2286000" cy="4211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D:\User\Desktop\Невский\r2yjwOiBsas.jpg"/>
          <p:cNvPicPr/>
          <p:nvPr/>
        </p:nvPicPr>
        <p:blipFill>
          <a:blip r:embed="rId2"/>
          <a:srcRect l="0" t="8259" r="29875" b="12842"/>
          <a:stretch/>
        </p:blipFill>
        <p:spPr>
          <a:xfrm rot="20771400">
            <a:off x="4443480" y="1528920"/>
            <a:ext cx="1752480" cy="36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D:\User\Desktop\Невский\d9MRrUp9xy4.jpg"/>
          <p:cNvPicPr/>
          <p:nvPr/>
        </p:nvPicPr>
        <p:blipFill>
          <a:blip r:embed="rId3"/>
          <a:srcRect l="0" t="6268" r="0" b="21606"/>
          <a:stretch/>
        </p:blipFill>
        <p:spPr>
          <a:xfrm>
            <a:off x="2362320" y="2666880"/>
            <a:ext cx="2079360" cy="26672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8"/>
          <p:cNvSpPr/>
          <p:nvPr/>
        </p:nvSpPr>
        <p:spPr>
          <a:xfrm>
            <a:off x="3200400" y="556272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 щит является знаком мужества и любви к Родине. Золотой цвет является символом могущества, справедливости, богатства стр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D:\User\Desktop\Невский\HHSwEC9NsKs.jpg"/>
          <p:cNvPicPr/>
          <p:nvPr/>
        </p:nvPicPr>
        <p:blipFill>
          <a:blip r:embed="rId4"/>
          <a:srcRect l="0" t="0" r="0" b="26189"/>
          <a:stretch/>
        </p:blipFill>
        <p:spPr>
          <a:xfrm rot="20654400">
            <a:off x="314280" y="1590480"/>
            <a:ext cx="197496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ятой княз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 flipV="1" rot="10800000">
            <a:off x="533520" y="1252080"/>
            <a:ext cx="76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спространение христианства, а также за особую, посильную, помощь в восстановлении русских городов и церквей, Александр Невский получил прозвание «благоверны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Админ\Desktop\12_1.jpg"/>
          <p:cNvPicPr/>
          <p:nvPr/>
        </p:nvPicPr>
        <p:blipFill>
          <a:blip r:embed="rId1"/>
          <a:stretch/>
        </p:blipFill>
        <p:spPr>
          <a:xfrm>
            <a:off x="4653000" y="2301840"/>
            <a:ext cx="350352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:\User\Desktop\Невский\YTlBzr5Hpgs.jpg"/>
          <p:cNvPicPr/>
          <p:nvPr/>
        </p:nvPicPr>
        <p:blipFill>
          <a:blip r:embed="rId2"/>
          <a:srcRect l="0" t="9526" r="0" b="17859"/>
          <a:stretch/>
        </p:blipFill>
        <p:spPr>
          <a:xfrm rot="21102000">
            <a:off x="1295280" y="2544480"/>
            <a:ext cx="28321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D:\User\Desktop\Невский\slayd2_0.jpg"/>
          <p:cNvPicPr/>
          <p:nvPr/>
        </p:nvPicPr>
        <p:blipFill>
          <a:blip r:embed="rId1"/>
          <a:stretch/>
        </p:blipFill>
        <p:spPr>
          <a:xfrm>
            <a:off x="-81000" y="-60480"/>
            <a:ext cx="9225000" cy="6918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man Narihkin</dc:creator>
  <dc:description/>
  <dc:language>en-US</dc:language>
  <cp:lastModifiedBy>Пользователь</cp:lastModifiedBy>
  <dcterms:modified xsi:type="dcterms:W3CDTF">2021-05-02T19:01:12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