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40.png" ContentType="image/png"/>
  <Override PartName="/ppt/media/image11.jpeg" ContentType="image/jpeg"/>
  <Override PartName="/ppt/media/image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png" ContentType="image/png"/>
  <Override PartName="/ppt/media/image35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39.png" ContentType="image/png"/>
  <Override PartName="/ppt/media/image12.jpeg" ContentType="image/jpeg"/>
  <Override PartName="/ppt/media/image4.wmf" ContentType="image/x-wmf"/>
  <Override PartName="/ppt/media/image13.jpeg" ContentType="image/jpeg"/>
  <Override PartName="/ppt/media/image29.jpeg" ContentType="image/jpeg"/>
  <Override PartName="/ppt/media/image3.wmf" ContentType="image/x-wmf"/>
  <Override PartName="/ppt/media/image1.png" ContentType="image/png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A6B-96D4-4AAF-94E2-96B7DDC7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02E-2ABC-440D-85B3-CE018BC3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2A2-C401-4E5B-A09A-D55D1711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6EEE-832E-47EB-A9CC-F44F8ED7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1E83-3B78-4703-A35B-6EF85D80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E6F4-9851-4756-BD48-5BF46453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E701-DDBE-475E-A1E5-FF8647C9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4CF2-DF8D-46C0-AE83-07777534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05C4-66E1-4AB2-AA11-2D4735D6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D3B8-3577-4855-8D74-9280D746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2945-99A6-4EF9-8B5D-0763AE4E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3D0-68D3-4C41-A9DB-A2F1B99B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DB5A-B9AB-4E34-8132-A0DAC0DA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CA8D-5499-4CCB-94A2-385F05D9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CE90-C66B-4801-91C1-2C2025B5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ED7A-125C-4679-A7F4-F6C41E4B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3D71-26F9-487E-84E5-622BC5C1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304C-C494-4207-B40C-04F4007F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2EF-33B4-4915-B7C4-839E446F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50B-92CB-4CF6-B589-9112145E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F3B-0424-4718-AAA7-8C423817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660-C69E-41BE-BA2A-16DC145A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8C7-02C7-4C2D-9752-3B8F908E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5792-E5D5-4282-9D19-0B76F0FB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5275-C621-433C-9611-546E4770443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F719-9970-42B2-A119-B3B8AB18F8D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828440" y="1142640"/>
            <a:ext cx="6172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ормирова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192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егулятивных УУД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192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 уроках технологии в начальной школ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192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2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2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атегори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2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«ОЦ» с. Воротне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2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ко Елена Викт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WordArt 5" descr=""/>
          <p:cNvPicPr/>
          <p:nvPr/>
        </p:nvPicPr>
        <p:blipFill>
          <a:blip r:embed="rId1"/>
          <a:stretch/>
        </p:blipFill>
        <p:spPr>
          <a:xfrm>
            <a:off x="1530360" y="347760"/>
            <a:ext cx="7278840" cy="102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с14"/>
          <p:cNvPicPr/>
          <p:nvPr/>
        </p:nvPicPr>
        <p:blipFill>
          <a:blip r:embed="rId2"/>
          <a:stretch/>
        </p:blipFill>
        <p:spPr>
          <a:xfrm>
            <a:off x="304920" y="1981080"/>
            <a:ext cx="217008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Picture 2" descr="с15"/>
          <p:cNvPicPr/>
          <p:nvPr/>
        </p:nvPicPr>
        <p:blipFill>
          <a:blip r:embed="rId3"/>
          <a:stretch/>
        </p:blipFill>
        <p:spPr>
          <a:xfrm>
            <a:off x="4648320" y="1828800"/>
            <a:ext cx="2057400" cy="278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4" name="Picture 6" descr="с66"/>
          <p:cNvPicPr/>
          <p:nvPr/>
        </p:nvPicPr>
        <p:blipFill>
          <a:blip r:embed="rId4"/>
          <a:stretch/>
        </p:blipFill>
        <p:spPr>
          <a:xfrm>
            <a:off x="2655720" y="3973680"/>
            <a:ext cx="1839960" cy="25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Picture 4" descr="с80"/>
          <p:cNvPicPr/>
          <p:nvPr/>
        </p:nvPicPr>
        <p:blipFill>
          <a:blip r:embed="rId5"/>
          <a:stretch/>
        </p:blipFill>
        <p:spPr>
          <a:xfrm>
            <a:off x="6858000" y="3657600"/>
            <a:ext cx="1968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остейшие задачи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конструктивного характер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Picture 2" descr="с24"/>
          <p:cNvPicPr/>
          <p:nvPr/>
        </p:nvPicPr>
        <p:blipFill>
          <a:blip r:embed="rId1"/>
          <a:stretch/>
        </p:blipFill>
        <p:spPr>
          <a:xfrm>
            <a:off x="1550880" y="2017800"/>
            <a:ext cx="30736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Picture 3" descr="25"/>
          <p:cNvPicPr/>
          <p:nvPr/>
        </p:nvPicPr>
        <p:blipFill>
          <a:blip r:embed="rId2"/>
          <a:stretch/>
        </p:blipFill>
        <p:spPr>
          <a:xfrm>
            <a:off x="5538960" y="2017800"/>
            <a:ext cx="30225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Box 6"/>
          <p:cNvSpPr/>
          <p:nvPr/>
        </p:nvSpPr>
        <p:spPr>
          <a:xfrm>
            <a:off x="2666880" y="620712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Алгоритм выполнени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WordArt 5" descr=""/>
          <p:cNvPicPr/>
          <p:nvPr/>
        </p:nvPicPr>
        <p:blipFill>
          <a:blip r:embed="rId1"/>
          <a:stretch/>
        </p:blipFill>
        <p:spPr>
          <a:xfrm>
            <a:off x="2517840" y="133200"/>
            <a:ext cx="5394240" cy="4892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7"/>
          <p:cNvSpPr/>
          <p:nvPr/>
        </p:nvSpPr>
        <p:spPr>
          <a:xfrm>
            <a:off x="755640" y="711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Соединение учебных предметов: математики, технологии, русского языка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3" descr="с48"/>
          <p:cNvPicPr/>
          <p:nvPr/>
        </p:nvPicPr>
        <p:blipFill>
          <a:blip r:embed="rId2"/>
          <a:stretch/>
        </p:blipFill>
        <p:spPr>
          <a:xfrm>
            <a:off x="1371600" y="1746360"/>
            <a:ext cx="3232080" cy="438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4" descr="с49"/>
          <p:cNvPicPr/>
          <p:nvPr/>
        </p:nvPicPr>
        <p:blipFill>
          <a:blip r:embed="rId3"/>
          <a:stretch/>
        </p:blipFill>
        <p:spPr>
          <a:xfrm>
            <a:off x="5334120" y="1735200"/>
            <a:ext cx="3225600" cy="439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Заголовок 1" descr=""/>
          <p:cNvPicPr/>
          <p:nvPr/>
        </p:nvPicPr>
        <p:blipFill>
          <a:blip r:embed="rId1"/>
          <a:stretch/>
        </p:blipFill>
        <p:spPr>
          <a:xfrm>
            <a:off x="1152360" y="212760"/>
            <a:ext cx="7790040" cy="14637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5"/>
          <p:cNvSpPr txBox="1"/>
          <p:nvPr/>
        </p:nvSpPr>
        <p:spPr>
          <a:xfrm>
            <a:off x="1447920" y="260280"/>
            <a:ext cx="672444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ИСПОЛЬЗОВАНИЕ ПЛОСКИХ ГЕОМЕТРИЧЕСКИХ ФИГУР</a:t>
            </a:r>
            <a:endParaRPr b="1" lang="en-US" sz="36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 ИЗГОТОВЛЕНИИ ИЗДЕЛИЙ</a:t>
            </a:r>
            <a:endParaRPr b="1" lang="en-US" sz="36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66" name="Picture 2" descr="22-23"/>
          <p:cNvPicPr/>
          <p:nvPr/>
        </p:nvPicPr>
        <p:blipFill>
          <a:blip r:embed="rId2"/>
          <a:stretch/>
        </p:blipFill>
        <p:spPr>
          <a:xfrm>
            <a:off x="533520" y="1981080"/>
            <a:ext cx="4459320" cy="294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7" name="Picture 3" descr="с93"/>
          <p:cNvPicPr/>
          <p:nvPr/>
        </p:nvPicPr>
        <p:blipFill>
          <a:blip r:embed="rId3"/>
          <a:stretch/>
        </p:blipFill>
        <p:spPr>
          <a:xfrm>
            <a:off x="5527800" y="2017800"/>
            <a:ext cx="30448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TextBox 5"/>
          <p:cNvSpPr/>
          <p:nvPr/>
        </p:nvSpPr>
        <p:spPr>
          <a:xfrm>
            <a:off x="214200" y="5072040"/>
            <a:ext cx="31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1 класс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Разметка по шаблону, линейк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Comic Sans MS"/>
              </a:rPr>
              <a:t>Проектная деятельность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Picture 6" descr="56"/>
          <p:cNvPicPr/>
          <p:nvPr/>
        </p:nvPicPr>
        <p:blipFill>
          <a:blip r:embed="rId1"/>
          <a:stretch/>
        </p:blipFill>
        <p:spPr>
          <a:xfrm>
            <a:off x="438120" y="2209680"/>
            <a:ext cx="1660680" cy="22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Picture 8" descr="с57"/>
          <p:cNvPicPr/>
          <p:nvPr/>
        </p:nvPicPr>
        <p:blipFill>
          <a:blip r:embed="rId2"/>
          <a:stretch/>
        </p:blipFill>
        <p:spPr>
          <a:xfrm>
            <a:off x="4114800" y="1628640"/>
            <a:ext cx="1676520" cy="233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Picture 5" descr="с58"/>
          <p:cNvPicPr/>
          <p:nvPr/>
        </p:nvPicPr>
        <p:blipFill>
          <a:blip r:embed="rId3"/>
          <a:stretch/>
        </p:blipFill>
        <p:spPr>
          <a:xfrm>
            <a:off x="2362320" y="3352680"/>
            <a:ext cx="1593720" cy="222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3" name="Picture 7" descr="59"/>
          <p:cNvPicPr/>
          <p:nvPr/>
        </p:nvPicPr>
        <p:blipFill>
          <a:blip r:embed="rId4"/>
          <a:stretch/>
        </p:blipFill>
        <p:spPr>
          <a:xfrm>
            <a:off x="6553080" y="3429000"/>
            <a:ext cx="1712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WordArt 4"/>
          <p:cNvSpPr txBox="1"/>
          <p:nvPr/>
        </p:nvSpPr>
        <p:spPr>
          <a:xfrm>
            <a:off x="2857680" y="5716440"/>
            <a:ext cx="3311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ОЛЛЕКТИВНЫЙ ПРОЕКТ</a:t>
            </a:r>
            <a:endParaRPr b="1" lang="en-US" sz="36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1676520" y="6248520"/>
            <a:ext cx="53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ahoma"/>
              </a:rPr>
              <a:t>2 класс «Оформление класса к Новому году»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3"/>
          <p:cNvSpPr txBox="1"/>
          <p:nvPr/>
        </p:nvSpPr>
        <p:spPr>
          <a:xfrm>
            <a:off x="2209680" y="270000"/>
            <a:ext cx="4175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МПЛЕКСНАЯ РАБОТА</a:t>
            </a:r>
            <a:endParaRPr b="1" lang="en-US" sz="36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7" name="WordArt 7"/>
          <p:cNvSpPr txBox="1"/>
          <p:nvPr/>
        </p:nvSpPr>
        <p:spPr>
          <a:xfrm>
            <a:off x="1828800" y="743040"/>
            <a:ext cx="561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ЕДИНЕНИЕ ПРОЕКТОВ НЕБОЛЬШИХ ГРУПП</a:t>
            </a:r>
            <a:endParaRPr b="1" lang="en-US" sz="36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ЕДИНОЕ ЦЕЛОЕ</a:t>
            </a:r>
            <a:endParaRPr b="1" lang="en-US" sz="36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863800" y="1371600"/>
            <a:ext cx="331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Интеграция :литературное чтение, русский язык, изобразительное искусство, технология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9" descr="с44-2"/>
          <p:cNvPicPr/>
          <p:nvPr/>
        </p:nvPicPr>
        <p:blipFill>
          <a:blip r:embed="rId1"/>
          <a:stretch/>
        </p:blipFill>
        <p:spPr>
          <a:xfrm>
            <a:off x="12600" y="1955880"/>
            <a:ext cx="1816200" cy="251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Picture 10" descr="с45-2"/>
          <p:cNvPicPr/>
          <p:nvPr/>
        </p:nvPicPr>
        <p:blipFill>
          <a:blip r:embed="rId2"/>
          <a:stretch/>
        </p:blipFill>
        <p:spPr>
          <a:xfrm>
            <a:off x="1523880" y="2897280"/>
            <a:ext cx="2428920" cy="33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Picture 11" descr="с46-2"/>
          <p:cNvPicPr/>
          <p:nvPr/>
        </p:nvPicPr>
        <p:blipFill>
          <a:blip r:embed="rId3"/>
          <a:stretch/>
        </p:blipFill>
        <p:spPr>
          <a:xfrm>
            <a:off x="4114800" y="2449440"/>
            <a:ext cx="243216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Picture 8" descr="с47-2"/>
          <p:cNvPicPr/>
          <p:nvPr/>
        </p:nvPicPr>
        <p:blipFill>
          <a:blip r:embed="rId4"/>
          <a:stretch/>
        </p:blipFill>
        <p:spPr>
          <a:xfrm>
            <a:off x="6643800" y="928800"/>
            <a:ext cx="2400120" cy="33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TextBox 11"/>
          <p:cNvSpPr/>
          <p:nvPr/>
        </p:nvSpPr>
        <p:spPr>
          <a:xfrm>
            <a:off x="3429000" y="624852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3 класс «Кукольное представление для родных и друзей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86" name="TextBox 4" descr=""/>
          <p:cNvPicPr/>
          <p:nvPr/>
        </p:nvPicPr>
        <p:blipFill>
          <a:blip r:embed="rId2"/>
          <a:stretch/>
        </p:blipFill>
        <p:spPr>
          <a:xfrm>
            <a:off x="835200" y="19080"/>
            <a:ext cx="7754760" cy="2170080"/>
          </a:xfrm>
          <a:prstGeom prst="rect">
            <a:avLst/>
          </a:prstGeom>
          <a:ln w="0">
            <a:noFill/>
          </a:ln>
        </p:spPr>
      </p:pic>
      <p:grpSp>
        <p:nvGrpSpPr>
          <p:cNvPr id="187" name="TextBox 3"/>
          <p:cNvGrpSpPr/>
          <p:nvPr/>
        </p:nvGrpSpPr>
        <p:grpSpPr>
          <a:xfrm>
            <a:off x="774720" y="1852560"/>
            <a:ext cx="8393040" cy="4560840"/>
            <a:chOff x="774720" y="1852560"/>
            <a:chExt cx="8393040" cy="4560840"/>
          </a:xfrm>
        </p:grpSpPr>
        <p:pic>
          <p:nvPicPr>
            <p:cNvPr id="188" name="TextBox 3" descr=""/>
            <p:cNvPicPr/>
            <p:nvPr/>
          </p:nvPicPr>
          <p:blipFill>
            <a:blip r:embed="rId3"/>
            <a:stretch/>
          </p:blipFill>
          <p:spPr>
            <a:xfrm>
              <a:off x="774720" y="1852560"/>
              <a:ext cx="8393040" cy="43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914400" y="1930320"/>
              <a:ext cx="807228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2e8a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e8a"/>
                  </a:solidFill>
                  <a:latin typeface="Tahoma"/>
                </a:rPr>
                <a:t>понимание роли трудовой деятельности в жизни человека; 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buClr>
                  <a:srgbClr val="002e8a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e8a"/>
                  </a:solidFill>
                  <a:latin typeface="Tahoma"/>
                </a:rPr>
                <a:t>знание основных источников информации; 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buClr>
                  <a:srgbClr val="002e8a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e8a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2e8a"/>
                  </a:solidFill>
                  <a:latin typeface="Tahoma"/>
                </a:rPr>
                <a:t>знание правил безопасного труда, личной гигиены, организации рабочего места  и применение этих правил  на практике; 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buClr>
                  <a:srgbClr val="002e8a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e8a"/>
                  </a:solidFill>
                  <a:latin typeface="Tahoma"/>
                </a:rPr>
                <a:t>получение  необходимой информации об объекте деятельности, используя технические рисунки, схемы, эскизы, чертежи (на бумажных и электронных носителях);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3" descr=""/>
          <p:cNvPicPr/>
          <p:nvPr/>
        </p:nvPicPr>
        <p:blipFill>
          <a:blip r:embed="rId1"/>
          <a:stretch/>
        </p:blipFill>
        <p:spPr>
          <a:xfrm>
            <a:off x="987480" y="517680"/>
            <a:ext cx="7954920" cy="1450800"/>
          </a:xfrm>
          <a:prstGeom prst="rect">
            <a:avLst/>
          </a:prstGeom>
          <a:ln w="0">
            <a:noFill/>
          </a:ln>
        </p:spPr>
      </p:pic>
      <p:grpSp>
        <p:nvGrpSpPr>
          <p:cNvPr id="191" name="Rectangle 18"/>
          <p:cNvGrpSpPr/>
          <p:nvPr/>
        </p:nvGrpSpPr>
        <p:grpSpPr>
          <a:xfrm>
            <a:off x="530280" y="2157480"/>
            <a:ext cx="8242200" cy="3328920"/>
            <a:chOff x="530280" y="2157480"/>
            <a:chExt cx="8242200" cy="3328920"/>
          </a:xfrm>
        </p:grpSpPr>
        <p:pic>
          <p:nvPicPr>
            <p:cNvPr id="192" name="Rectangle 18" descr=""/>
            <p:cNvPicPr/>
            <p:nvPr/>
          </p:nvPicPr>
          <p:blipFill>
            <a:blip r:embed="rId2"/>
            <a:stretch/>
          </p:blipFill>
          <p:spPr>
            <a:xfrm>
              <a:off x="530280" y="2157480"/>
              <a:ext cx="8242200" cy="33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09480" y="2219400"/>
              <a:ext cx="8077320" cy="30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3333cc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cc"/>
                  </a:solidFill>
                  <a:latin typeface="Tahoma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0066cc"/>
                  </a:solidFill>
                  <a:latin typeface="Tahoma"/>
                  <a:ea typeface="Times New Roman"/>
                </a:rPr>
                <a:t>овладение простейшими приемами работы с компьютерными программными средствами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499"/>
                </a:spcBef>
                <a:buClr>
                  <a:srgbClr val="3333cc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cc"/>
                  </a:solidFill>
                  <a:latin typeface="Tahoma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0066cc"/>
                  </a:solidFill>
                  <a:latin typeface="Tahoma"/>
                  <a:ea typeface="Times New Roman"/>
                </a:rPr>
                <a:t>коммуникативные  универсальные учебные действия для  осуществления совместной продуктивной деятельности 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499"/>
                </a:spcBef>
                <a:buClr>
                  <a:srgbClr val="3333cc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cc"/>
                  </a:solidFill>
                  <a:latin typeface="Tahoma"/>
                  <a:ea typeface="Times New Roman"/>
                </a:rPr>
                <a:t>распределение ролей руководителя и     подчиненного, распределение общего объема работ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499"/>
                </a:spcBef>
                <a:buClr>
                  <a:srgbClr val="3333cc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cc"/>
                  </a:solidFill>
                  <a:latin typeface="Tahoma"/>
                  <a:ea typeface="Times New Roman"/>
                </a:rPr>
                <a:t>приобретение навыков сотрудничества  и взаимопомощи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егулятивные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Схема 4" descr=""/>
          <p:cNvPicPr/>
          <p:nvPr/>
        </p:nvPicPr>
        <p:blipFill>
          <a:blip r:embed="rId1"/>
          <a:stretch/>
        </p:blipFill>
        <p:spPr>
          <a:xfrm>
            <a:off x="-384120" y="1755720"/>
            <a:ext cx="98330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26000"/>
            <a:ext cx="6782040" cy="210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онцепция </a:t>
            </a:r>
            <a:br>
              <a:rPr sz="4400"/>
            </a:b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урса «Технология»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440"/>
            <a:ext cx="77724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Духовно-нравственное  развит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оспитание личности     гражданина    Росс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нтеллектуальное  развит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Organization Chart 14"/>
          <p:cNvGrpSpPr/>
          <p:nvPr/>
        </p:nvGrpSpPr>
        <p:grpSpPr>
          <a:xfrm>
            <a:off x="73080" y="627120"/>
            <a:ext cx="8623800" cy="5165280"/>
            <a:chOff x="73080" y="627120"/>
            <a:chExt cx="8623800" cy="5165280"/>
          </a:xfrm>
        </p:grpSpPr>
        <p:cxnSp>
          <p:nvCxnSpPr>
            <p:cNvPr id="105" name="_s1028"/>
            <p:cNvCxnSpPr/>
            <p:nvPr/>
          </p:nvCxnSpPr>
          <p:spPr>
            <a:xfrm flipV="1" rot="16200000">
              <a:off x="6420240" y="1936440"/>
              <a:ext cx="1130400" cy="3423960"/>
            </a:xfrm>
            <a:prstGeom prst="bentConnector3">
              <a:avLst>
                <a:gd name="adj1" fmla="val 499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8" idx="2"/>
            </p:cNvCxnSpPr>
            <p:nvPr/>
          </p:nvCxnSpPr>
          <p:spPr>
            <a:xfrm flipH="1" flipV="1" rot="5400000">
              <a:off x="2394720" y="1396440"/>
              <a:ext cx="1238400" cy="4513320"/>
            </a:xfrm>
            <a:prstGeom prst="bentConnector3">
              <a:avLst>
                <a:gd name="adj1" fmla="val 499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1"/>
            <p:cNvSpPr/>
            <p:nvPr/>
          </p:nvSpPr>
          <p:spPr>
            <a:xfrm>
              <a:off x="3902400" y="627120"/>
              <a:ext cx="2743200" cy="240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делы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урса «Технология»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_s1032"/>
            <p:cNvSpPr/>
            <p:nvPr/>
          </p:nvSpPr>
          <p:spPr>
            <a:xfrm>
              <a:off x="73080" y="4272120"/>
              <a:ext cx="1374480" cy="1520280"/>
            </a:xfrm>
            <a:custGeom>
              <a:avLst/>
              <a:gdLst>
                <a:gd name="textAreaLeft" fmla="*/ 66960 w 1374480"/>
                <a:gd name="textAreaRight" fmla="*/ 1307520 w 1374480"/>
                <a:gd name="textAreaTop" fmla="*/ 66960 h 1520280"/>
                <a:gd name="textAreaBottom" fmla="*/ 1453320 h 1520280"/>
              </a:gdLst>
              <a:ahLst/>
              <a:rect l="textAreaLeft" t="textAreaTop" r="textAreaRight" b="textAreaBottom"/>
              <a:pathLst>
                <a:path w="21600" h="23891">
                  <a:moveTo>
                    <a:pt x="3600" y="0"/>
                  </a:moveTo>
                  <a:arcTo wR="3600" hR="3600" stAng="16200000" swAng="-5400000"/>
                  <a:lnTo>
                    <a:pt x="0" y="20291"/>
                  </a:lnTo>
                  <a:arcTo wR="3600" hR="3600" stAng="10800000" swAng="-5400000"/>
                  <a:lnTo>
                    <a:pt x="18000" y="238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6267960" y="4204080"/>
              <a:ext cx="1292400" cy="1522080"/>
            </a:xfrm>
            <a:custGeom>
              <a:avLst/>
              <a:gdLst>
                <a:gd name="textAreaLeft" fmla="*/ 63000 w 1292400"/>
                <a:gd name="textAreaRight" fmla="*/ 1229400 w 1292400"/>
                <a:gd name="textAreaTop" fmla="*/ 63000 h 1522080"/>
                <a:gd name="textAreaBottom" fmla="*/ 1459080 h 1522080"/>
              </a:gdLst>
              <a:ahLst/>
              <a:rect l="textAreaLeft" t="textAreaTop" r="textAreaRight" b="textAreaBottom"/>
              <a:pathLst>
                <a:path w="21600" h="25438">
                  <a:moveTo>
                    <a:pt x="3600" y="0"/>
                  </a:moveTo>
                  <a:arcTo wR="3600" hR="3600" stAng="16200000" swAng="-5400000"/>
                  <a:lnTo>
                    <a:pt x="0" y="21838"/>
                  </a:lnTo>
                  <a:arcTo wR="3600" hR="3600" stAng="10800000" swAng="-5400000"/>
                  <a:lnTo>
                    <a:pt x="18000" y="254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buClr>
                  <a:srgbClr val="000000"/>
                </a:buClr>
                <a:buSzPct val="60000"/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buClr>
                  <a:srgbClr val="000000"/>
                </a:buClr>
                <a:buSzPct val="60000"/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" name="_s1032"/>
          <p:cNvSpPr/>
          <p:nvPr/>
        </p:nvSpPr>
        <p:spPr>
          <a:xfrm>
            <a:off x="3124080" y="4218120"/>
            <a:ext cx="1447920" cy="152388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523880"/>
              <a:gd name="textAreaBottom" fmla="*/ 1453320 h 1523880"/>
            </a:gdLst>
            <a:ahLst/>
            <a:rect l="textAreaLeft" t="textAreaTop" r="textAreaRight" b="textAreaBottom"/>
            <a:pathLst>
              <a:path w="21600" h="22733">
                <a:moveTo>
                  <a:pt x="3600" y="0"/>
                </a:moveTo>
                <a:arcTo wR="3600" hR="3600" stAng="16200000" swAng="-5400000"/>
                <a:lnTo>
                  <a:pt x="0" y="19133"/>
                </a:lnTo>
                <a:arcTo wR="3600" hR="3600" stAng="10800000" swAng="-5400000"/>
                <a:lnTo>
                  <a:pt x="18000" y="227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_s1033"/>
          <p:cNvSpPr/>
          <p:nvPr/>
        </p:nvSpPr>
        <p:spPr>
          <a:xfrm>
            <a:off x="7635960" y="4205160"/>
            <a:ext cx="1371600" cy="15256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525680"/>
              <a:gd name="textAreaBottom" fmla="*/ 1458720 h 1525680"/>
            </a:gdLst>
            <a:ahLst/>
            <a:rect l="textAreaLeft" t="textAreaTop" r="textAreaRight" b="textAreaBottom"/>
            <a:pathLst>
              <a:path w="21600" h="24026">
                <a:moveTo>
                  <a:pt x="3600" y="0"/>
                </a:moveTo>
                <a:arcTo wR="3600" hR="3600" stAng="16200000" swAng="-5400000"/>
                <a:lnTo>
                  <a:pt x="0" y="20426"/>
                </a:lnTo>
                <a:arcTo wR="3600" hR="3600" stAng="10800000" swAng="-5400000"/>
                <a:lnTo>
                  <a:pt x="18000" y="24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_s1032"/>
          <p:cNvSpPr/>
          <p:nvPr/>
        </p:nvSpPr>
        <p:spPr>
          <a:xfrm>
            <a:off x="1569960" y="4257720"/>
            <a:ext cx="1447920" cy="152388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523880"/>
              <a:gd name="textAreaBottom" fmla="*/ 1453320 h 1523880"/>
            </a:gdLst>
            <a:ahLst/>
            <a:rect l="textAreaLeft" t="textAreaTop" r="textAreaRight" b="textAreaBottom"/>
            <a:pathLst>
              <a:path w="21600" h="22733">
                <a:moveTo>
                  <a:pt x="3600" y="0"/>
                </a:moveTo>
                <a:arcTo wR="3600" hR="3600" stAng="16200000" swAng="-5400000"/>
                <a:lnTo>
                  <a:pt x="0" y="19133"/>
                </a:lnTo>
                <a:arcTo wR="3600" hR="3600" stAng="10800000" swAng="-5400000"/>
                <a:lnTo>
                  <a:pt x="18000" y="227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_s1032"/>
          <p:cNvSpPr/>
          <p:nvPr/>
        </p:nvSpPr>
        <p:spPr>
          <a:xfrm>
            <a:off x="4694400" y="4218120"/>
            <a:ext cx="1447560" cy="152388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1523880"/>
              <a:gd name="textAreaBottom" fmla="*/ 1453320 h 1523880"/>
            </a:gdLst>
            <a:ahLst/>
            <a:rect l="textAreaLeft" t="textAreaTop" r="textAreaRight" b="textAreaBottom"/>
            <a:pathLst>
              <a:path w="21600" h="22739">
                <a:moveTo>
                  <a:pt x="3600" y="0"/>
                </a:moveTo>
                <a:arcTo wR="3600" hR="3600" stAng="16200000" swAng="-5400000"/>
                <a:lnTo>
                  <a:pt x="0" y="19139"/>
                </a:lnTo>
                <a:arcTo wR="3600" hR="3600" stAng="10800000" swAng="-5400000"/>
                <a:lnTo>
                  <a:pt x="18000" y="227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264960" y="457668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бумагой и картоном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Box 30"/>
          <p:cNvSpPr/>
          <p:nvPr/>
        </p:nvSpPr>
        <p:spPr>
          <a:xfrm>
            <a:off x="1798560" y="46530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канью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31"/>
          <p:cNvSpPr/>
          <p:nvPr/>
        </p:nvSpPr>
        <p:spPr>
          <a:xfrm>
            <a:off x="3263760" y="4597560"/>
            <a:ext cx="124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природным материалом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Box 32"/>
          <p:cNvSpPr/>
          <p:nvPr/>
        </p:nvSpPr>
        <p:spPr>
          <a:xfrm>
            <a:off x="4821120" y="454500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синтетическим материалом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33"/>
          <p:cNvSpPr/>
          <p:nvPr/>
        </p:nvSpPr>
        <p:spPr>
          <a:xfrm>
            <a:off x="6338880" y="4626000"/>
            <a:ext cx="129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пластилином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34"/>
          <p:cNvSpPr/>
          <p:nvPr/>
        </p:nvSpPr>
        <p:spPr>
          <a:xfrm>
            <a:off x="7772400" y="45576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проектной работы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Прямая соединительная линия 2"/>
          <p:cNvSpPr/>
          <p:nvPr/>
        </p:nvSpPr>
        <p:spPr>
          <a:xfrm>
            <a:off x="2293920" y="3654360"/>
            <a:ext cx="0" cy="6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Прямая соединительная линия 25"/>
          <p:cNvSpPr/>
          <p:nvPr/>
        </p:nvSpPr>
        <p:spPr>
          <a:xfrm>
            <a:off x="3848040" y="366876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Прямая соединительная линия 27"/>
          <p:cNvSpPr/>
          <p:nvPr/>
        </p:nvSpPr>
        <p:spPr>
          <a:xfrm>
            <a:off x="5418000" y="366876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Прямая соединительная линия 28"/>
          <p:cNvSpPr/>
          <p:nvPr/>
        </p:nvSpPr>
        <p:spPr>
          <a:xfrm>
            <a:off x="6907320" y="3668760"/>
            <a:ext cx="0" cy="53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ланируемые</a:t>
            </a:r>
            <a:br>
              <a:rPr sz="4400"/>
            </a:b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езульта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368360" y="2057400"/>
            <a:ext cx="354168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Выпускник научитс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принимать учебную задачу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сотрудничеству с учителем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планировать свои действия в соответствии с поставленной задачей и условиями её реализации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адекватно воспринимать предложения и оценку учителей, товарищей, родителей и других людей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различать способ и результат действия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вносить необходимые коррективы в действие после его завершения на основе его оценки и учёта характера сделанных ошибо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800240" y="2073240"/>
            <a:ext cx="30481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Выпускник получит возможность научитьс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в сотрудничестве с учителем ставить новые учебные задачи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преобразовывать практическую задачу в познавательную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проявлять познавательную инициативу в учебном сотрудничестве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самостоятельно адекватно оценивать правильность выполнения действия и вносить необходимые коррективы в исполнение как по ходу его реализации, так и в конце действ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Рисунок 4" descr="Копия j0435841.wmf"/>
          <p:cNvPicPr/>
          <p:nvPr/>
        </p:nvPicPr>
        <p:blipFill>
          <a:blip r:embed="rId1"/>
          <a:stretch/>
        </p:blipFill>
        <p:spPr>
          <a:xfrm rot="21423000">
            <a:off x="9360" y="2698560"/>
            <a:ext cx="1339920" cy="29923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Копия j0435773.wmf"/>
          <p:cNvPicPr/>
          <p:nvPr/>
        </p:nvPicPr>
        <p:blipFill>
          <a:blip r:embed="rId2"/>
          <a:stretch/>
        </p:blipFill>
        <p:spPr>
          <a:xfrm rot="206400">
            <a:off x="7732800" y="2836800"/>
            <a:ext cx="13255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хема 4" descr=""/>
          <p:cNvPicPr/>
          <p:nvPr/>
        </p:nvPicPr>
        <p:blipFill>
          <a:blip r:embed="rId1"/>
          <a:stretch/>
        </p:blipFill>
        <p:spPr>
          <a:xfrm>
            <a:off x="762120" y="1994040"/>
            <a:ext cx="7546680" cy="4790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ценка достижений планируемых результатов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933480" y="2362320"/>
            <a:ext cx="2571840" cy="314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ртфель достижений ученика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3714840" y="247968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…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4713120" y="2847960"/>
            <a:ext cx="421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400a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00a8"/>
                </a:solidFill>
                <a:latin typeface="Comic Sans MS"/>
              </a:rPr>
              <a:t>Нарастающая успешность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5400a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00a8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400a8"/>
                </a:solidFill>
                <a:latin typeface="Comic Sans MS"/>
              </a:rPr>
              <a:t>Объе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5400a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00a8"/>
                </a:solidFill>
                <a:latin typeface="Comic Sans MS"/>
              </a:rPr>
              <a:t>Глубина знаний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5400a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ормирование внутреннего плана на основе поэтапной отработки предметно-преобразовательных действий</a:t>
            </a:r>
            <a:br>
              <a:rPr sz="28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Picture 4" descr="с55"/>
          <p:cNvPicPr/>
          <p:nvPr/>
        </p:nvPicPr>
        <p:blipFill>
          <a:blip r:embed="rId1"/>
          <a:stretch/>
        </p:blipFill>
        <p:spPr>
          <a:xfrm>
            <a:off x="609480" y="2070000"/>
            <a:ext cx="198144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Picture 2" descr="РТ_с12"/>
          <p:cNvPicPr/>
          <p:nvPr/>
        </p:nvPicPr>
        <p:blipFill>
          <a:blip r:embed="rId2"/>
          <a:stretch/>
        </p:blipFill>
        <p:spPr>
          <a:xfrm>
            <a:off x="3048120" y="2255760"/>
            <a:ext cx="1981080" cy="267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Picture 3" descr="РТ_с13"/>
          <p:cNvPicPr/>
          <p:nvPr/>
        </p:nvPicPr>
        <p:blipFill>
          <a:blip r:embed="rId3"/>
          <a:stretch/>
        </p:blipFill>
        <p:spPr>
          <a:xfrm>
            <a:off x="6248520" y="2666880"/>
            <a:ext cx="2396880" cy="328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TextBox 8"/>
          <p:cNvSpPr/>
          <p:nvPr/>
        </p:nvSpPr>
        <p:spPr>
          <a:xfrm>
            <a:off x="304920" y="4778280"/>
            <a:ext cx="285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резание симметричной фигуры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3162240" y="5086440"/>
            <a:ext cx="357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зметка по шаблону, трафарету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3025800" y="1411200"/>
            <a:ext cx="297180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339933"/>
                </a:solidFill>
                <a:latin typeface="Arial"/>
              </a:rPr>
              <a:t>НАТЮРМОРТ</a:t>
            </a:r>
            <a:endParaRPr b="1" lang="en-US" sz="3600" spc="1" strike="noStrike">
              <a:ln w="12600">
                <a:solidFill>
                  <a:srgbClr val="003300"/>
                </a:solidFill>
                <a:miter/>
              </a:ln>
              <a:solidFill>
                <a:srgbClr val="3399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-152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чальные представления о ценности предшествующих культур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2438280" y="1371600"/>
            <a:ext cx="4321440" cy="33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339933"/>
                </a:solidFill>
                <a:latin typeface="Arial"/>
              </a:rPr>
              <a:t>ГЕОМЕТРИЧЕСКИЙ ОРНАМЕНТ</a:t>
            </a:r>
            <a:endParaRPr b="1" lang="en-US" sz="3600" spc="1" strike="noStrike">
              <a:ln w="12600">
                <a:solidFill>
                  <a:srgbClr val="003300"/>
                </a:solidFill>
                <a:miter/>
              </a:ln>
              <a:solidFill>
                <a:srgbClr val="339933"/>
              </a:solidFill>
              <a:latin typeface="Arial"/>
              <a:ea typeface="Arial"/>
            </a:endParaRPr>
          </a:p>
        </p:txBody>
      </p:sp>
      <p:pic>
        <p:nvPicPr>
          <p:cNvPr id="143" name="Picture 4" descr="с13"/>
          <p:cNvPicPr/>
          <p:nvPr/>
        </p:nvPicPr>
        <p:blipFill>
          <a:blip r:embed="rId1"/>
          <a:stretch/>
        </p:blipFill>
        <p:spPr>
          <a:xfrm>
            <a:off x="2200320" y="1828800"/>
            <a:ext cx="21477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Picture 3" descr="с12"/>
          <p:cNvPicPr/>
          <p:nvPr/>
        </p:nvPicPr>
        <p:blipFill>
          <a:blip r:embed="rId2"/>
          <a:stretch/>
        </p:blipFill>
        <p:spPr>
          <a:xfrm>
            <a:off x="6505560" y="1828800"/>
            <a:ext cx="205884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Text Box 7"/>
          <p:cNvSpPr/>
          <p:nvPr/>
        </p:nvSpPr>
        <p:spPr>
          <a:xfrm>
            <a:off x="1295280" y="60958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omic Sans MS"/>
              </a:rPr>
              <a:t>Итоговая работа 4 класс. Интеграция: Математика, Изобразительное искусство и Технология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чальные представления об отражении в предметах материальной среды нравственно-эстетического и социально-исторического опыта человечества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Picture 5" descr="с78"/>
          <p:cNvPicPr/>
          <p:nvPr/>
        </p:nvPicPr>
        <p:blipFill>
          <a:blip r:embed="rId1"/>
          <a:stretch/>
        </p:blipFill>
        <p:spPr>
          <a:xfrm>
            <a:off x="762120" y="2057400"/>
            <a:ext cx="1881000" cy="261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4" descr="с79"/>
          <p:cNvPicPr/>
          <p:nvPr/>
        </p:nvPicPr>
        <p:blipFill>
          <a:blip r:embed="rId2"/>
          <a:stretch/>
        </p:blipFill>
        <p:spPr>
          <a:xfrm>
            <a:off x="2514600" y="4191120"/>
            <a:ext cx="177804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9" name="Picture 7" descr="РТ_6"/>
          <p:cNvPicPr/>
          <p:nvPr/>
        </p:nvPicPr>
        <p:blipFill>
          <a:blip r:embed="rId3"/>
          <a:stretch/>
        </p:blipFill>
        <p:spPr>
          <a:xfrm>
            <a:off x="4495680" y="1981080"/>
            <a:ext cx="1817640" cy="25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0" name="Picture 6" descr="РТ_7"/>
          <p:cNvPicPr/>
          <p:nvPr/>
        </p:nvPicPr>
        <p:blipFill>
          <a:blip r:embed="rId4"/>
          <a:stretch/>
        </p:blipFill>
        <p:spPr>
          <a:xfrm>
            <a:off x="6553080" y="4114800"/>
            <a:ext cx="1838520" cy="24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1-11-15T17:43:55Z</dcterms:modified>
  <cp:revision>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