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AD6-B3A5-41A2-8F57-823CB40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176-3841-4E37-9F59-2B834C8A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3C9-F85A-4185-9FCD-40670D74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7CD-FDF6-4787-A4EE-2229E607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DF55-7BEF-44C5-9976-D45B0F61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D077-A00C-42F4-8589-97D277F3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7D08-CEDF-454A-8BC3-35AD2BCA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5455-1586-4325-8FDB-1C2E8EEB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B074-A35C-476D-A28F-BDE539F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8FAD-3426-492E-BB19-05D51AC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C009-7920-4588-B7AD-9FB0BA2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E96-E71D-40F5-AF73-8E943D6E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70B5-2AB2-4AA9-881C-B5F0CB9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70C8-396C-48AE-A259-47B534F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E2FA-E813-4927-A28F-4ADE2E01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CD9C-722A-4C24-A1F6-615D8FB1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6830-9AA9-4CB9-8BFE-69AF2A9D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3E65-D09F-4E1E-B490-E252972A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43D6-19E6-482C-AD42-C3EF24D3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C6BB-138D-4519-9662-D428F3B7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C331-C6A6-4395-A143-C6E223E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3A9F-6FD4-4F23-8306-F00498E5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EA7-536A-41D2-8FEB-C7F6899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CB58-E05A-4208-9C04-8A1DA87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5D8B-6876-49BA-8F4B-397BB24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A8D6-8EB0-487A-B06E-A5860CE5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4C1B-6E87-4E7F-8A1D-BFD4EDF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E6DC-B5C3-4C2E-8FB3-1B955AA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38CB-7163-487A-9AD3-6A509EAD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B49A-1502-4702-B67D-9DA84E9E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0CEE-FF2A-44F8-BC37-51C6FD5B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90F6-130D-483A-988F-C2756085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1A59-B945-4301-A0BD-97158BEB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3AD-90CC-457F-9A22-2086B444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C82A-51B8-40B9-8EF8-0D3FED85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F282-1060-4869-8CFB-70EBABE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348A-D661-4305-BACE-6763956B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EA99-9F70-4A6F-8F80-066BB48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BD6D-079E-41BE-994B-2347296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39DA-7DFB-4F41-9B26-19954ACF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2539-7E20-4370-9417-83DE7DAC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B43F-6FB4-4018-8A85-A10C9B50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F866-6A23-4013-9C4C-590D5E63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A8F5D-C142-4DEF-80B0-CD6245FA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36A-748A-4CA0-8EF4-816C1C52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B3F5-D9A0-4E37-A952-42FCDB6D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23EA-B844-4A66-9665-557FE381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C957-B838-4FFB-A433-A9D1E863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95027-6D2B-47BE-95FD-16124DE8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3580-C571-428F-9479-A967788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13442-4016-4CB1-AA4E-E16CC7D9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E6FC-B191-4E8C-90FF-DEA009F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3DE9-4F82-4C42-8B24-D9D648A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0A91-026F-4088-B243-5E96027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C420-E05A-466B-8D9A-7A11DB84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E3C-0FAD-4909-95B2-0AD29175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7DBA-641F-4383-B488-E79B8644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0DEB-9316-4657-B6DF-34E0366F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903A-1CCA-400C-8A23-D7ADC535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DE418-87C1-4461-857D-3689A8B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08F3F-E3B4-4BD7-A2A0-D596EF8C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0E810-9687-4AED-8DF5-31D9E71E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9697-D493-479D-9FCD-BCD3B667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4262-CAAC-461C-96C7-F048B83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856C-DA96-41C5-BBFE-5BB000E2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C4BF-6B11-469E-B8DE-2E94BED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203-AC30-46BF-8627-57A1AE5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9A852-5B29-4B17-A149-3CDB1F84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EBED7-2021-4AD3-9D74-BCD97779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2713-36FA-4B45-B325-361E5F00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E7FF5-2B15-456E-BF32-C14CE43A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3605-04C9-4ED3-B3EF-CE1C9BF7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572D8-5886-46D6-9F74-380F47CD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6F3B-AC10-4B2B-85FB-6A64FD20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1D84-B76E-4751-A42E-79015AC0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D57D-3CC8-405C-9304-1BD03EF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A8AA-355D-4E3C-939A-21660DC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AD8-D4EC-469F-98C7-823B9AC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038B-C064-450F-A583-F953CA1F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734C-0BA6-4A82-9A3D-5853E3D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F5963-8273-4205-A0EF-194DC425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D2DB6-179A-413B-AB35-0728A17E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D7A36-D7DE-490B-B3E0-01799EE4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10E-D1BB-4569-A6B3-B536309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DD07-7157-45CA-B34E-6B20D3A7755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4A44-E87A-4FBC-A6B7-6CDE72ED59F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8F4-93DC-45E2-A552-0A290FB9E5C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6C6-72F0-4E30-8C5E-D7C1E19050E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CDF3-461F-4779-B91D-D937CB0516C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8B40-0E9F-49B8-B407-04039D213A1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801-6FCD-478C-B737-9A51ED09624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891a7"/>
                </a:solidFill>
                <a:latin typeface="Arial Black"/>
              </a:rPr>
              <a:t>«Я и моё тело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63" descr="i?id=126303927-03-72"/>
          <p:cNvPicPr/>
          <p:nvPr/>
        </p:nvPicPr>
        <p:blipFill>
          <a:blip r:embed="rId1"/>
          <a:stretch/>
        </p:blipFill>
        <p:spPr>
          <a:xfrm>
            <a:off x="1247760" y="2859120"/>
            <a:ext cx="2428920" cy="3122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7" descr="i?id=17614584-68-72"/>
          <p:cNvPicPr/>
          <p:nvPr/>
        </p:nvPicPr>
        <p:blipFill>
          <a:blip r:embed="rId2"/>
          <a:stretch/>
        </p:blipFill>
        <p:spPr>
          <a:xfrm>
            <a:off x="4505400" y="1219320"/>
            <a:ext cx="1600200" cy="2462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9" descr="i?id=114570405-42-72"/>
          <p:cNvPicPr/>
          <p:nvPr/>
        </p:nvPicPr>
        <p:blipFill>
          <a:blip r:embed="rId3"/>
          <a:stretch/>
        </p:blipFill>
        <p:spPr>
          <a:xfrm>
            <a:off x="6934320" y="2911320"/>
            <a:ext cx="1622160" cy="284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i?id=10468452-00-72"/>
          <p:cNvPicPr/>
          <p:nvPr/>
        </p:nvPicPr>
        <p:blipFill>
          <a:blip r:embed="rId4"/>
          <a:stretch/>
        </p:blipFill>
        <p:spPr>
          <a:xfrm>
            <a:off x="0" y="0"/>
            <a:ext cx="16765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922223"/>
                </a:solidFill>
                <a:latin typeface="Arial Black"/>
              </a:rPr>
              <a:t>Отгадайте загадк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1371600" y="1658880"/>
            <a:ext cx="350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7f26"/>
                </a:solidFill>
                <a:latin typeface="Arial Black"/>
              </a:rPr>
              <a:t>Вот загадка, милый друг,</a:t>
            </a:r>
            <a:br>
              <a:rPr sz="3200"/>
            </a:br>
            <a:r>
              <a:rPr b="0" lang="ru-RU" sz="3200" spc="-1" strike="noStrike">
                <a:solidFill>
                  <a:srgbClr val="637f26"/>
                </a:solidFill>
                <a:latin typeface="Arial Black"/>
              </a:rPr>
              <a:t>Легкая - послушай:</a:t>
            </a:r>
            <a:br>
              <a:rPr sz="3200"/>
            </a:br>
            <a:r>
              <a:rPr b="0" lang="ru-RU" sz="3200" spc="-1" strike="noStrike">
                <a:solidFill>
                  <a:srgbClr val="637f26"/>
                </a:solidFill>
                <a:latin typeface="Arial Black"/>
              </a:rPr>
              <a:t>Ею ложку я беру,</a:t>
            </a:r>
            <a:br>
              <a:rPr sz="3200"/>
            </a:br>
            <a:r>
              <a:rPr b="0" lang="ru-RU" sz="3200" spc="-1" strike="noStrike">
                <a:solidFill>
                  <a:srgbClr val="637f26"/>
                </a:solidFill>
                <a:latin typeface="Arial Black"/>
              </a:rPr>
              <a:t>Кашу буду куша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1" descr="i?id=14590348-41-72"/>
          <p:cNvPicPr/>
          <p:nvPr/>
        </p:nvPicPr>
        <p:blipFill>
          <a:blip r:embed="rId1"/>
          <a:stretch/>
        </p:blipFill>
        <p:spPr>
          <a:xfrm>
            <a:off x="5246640" y="1596960"/>
            <a:ext cx="3897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i?id=421414332-58-72"/>
          <p:cNvPicPr/>
          <p:nvPr/>
        </p:nvPicPr>
        <p:blipFill>
          <a:blip r:embed="rId1"/>
          <a:stretch/>
        </p:blipFill>
        <p:spPr>
          <a:xfrm>
            <a:off x="1143000" y="609480"/>
            <a:ext cx="3135240" cy="5562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7"/>
          <p:cNvSpPr/>
          <p:nvPr/>
        </p:nvSpPr>
        <p:spPr>
          <a:xfrm>
            <a:off x="4278240" y="2354400"/>
            <a:ext cx="44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Хорошо здоровым быть!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Соков надо больше пить!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Гамбургер забросить в урну,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И купаться в речке бурной!!!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Закаляться, обливаться,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Спортом разным заниматься!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Вот тогда начнёте жить!</a:t>
            </a:r>
            <a:br>
              <a:rPr sz="2400"/>
            </a:b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Здорово здоровым быть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Arial Black"/>
              </a:rPr>
              <a:t>До свидание, ребята, до встречи!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4" descr="i?id=10468452-00-72"/>
          <p:cNvPicPr/>
          <p:nvPr/>
        </p:nvPicPr>
        <p:blipFill>
          <a:blip r:embed="rId1"/>
          <a:stretch/>
        </p:blipFill>
        <p:spPr>
          <a:xfrm>
            <a:off x="1828800" y="1600200"/>
            <a:ext cx="556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Arial Black"/>
              </a:rPr>
              <a:t>Здравствуйте, ребята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6" descr="i?id=10468452-00-72"/>
          <p:cNvPicPr/>
          <p:nvPr/>
        </p:nvPicPr>
        <p:blipFill>
          <a:blip r:embed="rId1"/>
          <a:stretch/>
        </p:blipFill>
        <p:spPr>
          <a:xfrm>
            <a:off x="1143000" y="1523880"/>
            <a:ext cx="3505320" cy="36576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300" spc="-1" strike="noStrike">
                <a:solidFill>
                  <a:srgbClr val="637f26"/>
                </a:solidFill>
                <a:latin typeface="Arial Black"/>
              </a:rPr>
              <a:t>Дорогие, ребята вы  знаете, как быть здоровым и не болеть? Прошу помочь моему другу Буратино</a:t>
            </a:r>
            <a:r>
              <a:rPr b="0" i="1" lang="ru-RU" sz="3300" spc="-1" strike="noStrike">
                <a:solidFill>
                  <a:srgbClr val="feb80a"/>
                </a:solidFill>
                <a:latin typeface="Corbe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30680" y="457200"/>
            <a:ext cx="3657600" cy="54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Я мальчик Буратин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Немного озорной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Хочу скорей   узнат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Что общего у  нас 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922223"/>
                </a:solidFill>
                <a:latin typeface="Arial Black"/>
              </a:rPr>
              <a:t>тоб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5" descr="i?id=421414332-58-72"/>
          <p:cNvPicPr/>
          <p:nvPr/>
        </p:nvPicPr>
        <p:blipFill>
          <a:blip r:embed="rId1"/>
          <a:stretch/>
        </p:blipFill>
        <p:spPr>
          <a:xfrm>
            <a:off x="1295280" y="676440"/>
            <a:ext cx="3353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3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35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350" fill="hold">
                                          <p:stCondLst>
                                            <p:cond delay="10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04640" y="30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2d2e"/>
                </a:solidFill>
                <a:latin typeface="Arial Black"/>
              </a:rPr>
              <a:t>Сравните нас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10" descr="i?id=51640123-54-72"/>
          <p:cNvPicPr/>
          <p:nvPr/>
        </p:nvPicPr>
        <p:blipFill>
          <a:blip r:embed="rId1"/>
          <a:stretch/>
        </p:blipFill>
        <p:spPr>
          <a:xfrm>
            <a:off x="4838760" y="1542960"/>
            <a:ext cx="3619440" cy="4761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i?id=126869449-48-72"/>
          <p:cNvPicPr/>
          <p:nvPr/>
        </p:nvPicPr>
        <p:blipFill>
          <a:blip r:embed="rId2"/>
          <a:stretch/>
        </p:blipFill>
        <p:spPr>
          <a:xfrm rot="21276600">
            <a:off x="1576080" y="167616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2d2e"/>
                </a:solidFill>
                <a:latin typeface="Arial Black"/>
              </a:rPr>
              <a:t>Назовите части тел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Picture 10" descr="i?id=73473536-49-72"/>
          <p:cNvPicPr/>
          <p:nvPr/>
        </p:nvPicPr>
        <p:blipFill>
          <a:blip r:embed="rId1"/>
          <a:stretch/>
        </p:blipFill>
        <p:spPr>
          <a:xfrm>
            <a:off x="2438280" y="1447920"/>
            <a:ext cx="39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32d2e"/>
                </a:solidFill>
                <a:latin typeface="Arial Black"/>
              </a:rPr>
              <a:t>Наши помощники</a:t>
            </a:r>
            <a:r>
              <a:rPr b="0" i="1" lang="ru-RU" sz="3600" spc="-1" strike="noStrike">
                <a:solidFill>
                  <a:srgbClr val="feb80a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4" descr="i?id=370639241-15-72"/>
          <p:cNvPicPr/>
          <p:nvPr/>
        </p:nvPicPr>
        <p:blipFill>
          <a:blip r:embed="rId1"/>
          <a:stretch/>
        </p:blipFill>
        <p:spPr>
          <a:xfrm>
            <a:off x="1371600" y="1828800"/>
            <a:ext cx="3405240" cy="3657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876920" y="1066680"/>
            <a:ext cx="4230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Есть четы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помощн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на службе у теб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Не замечая, и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используешь шут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Глаза тебе даны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что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видеть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А уши служат, чтоб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слышать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Язык во рту, что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вкус понять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А носик – зап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37f26"/>
                </a:solidFill>
                <a:latin typeface="Arial Black"/>
              </a:rPr>
              <a:t>различ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Arial Black"/>
              </a:rPr>
              <a:t>Что вредно, что полезно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8" descr="i?id=477375463-47-72"/>
          <p:cNvPicPr/>
          <p:nvPr/>
        </p:nvPicPr>
        <p:blipFill>
          <a:blip r:embed="rId1"/>
          <a:stretch/>
        </p:blipFill>
        <p:spPr>
          <a:xfrm>
            <a:off x="1143000" y="148608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i?id=170421510-23-72"/>
          <p:cNvPicPr/>
          <p:nvPr/>
        </p:nvPicPr>
        <p:blipFill>
          <a:blip r:embed="rId2"/>
          <a:stretch/>
        </p:blipFill>
        <p:spPr>
          <a:xfrm>
            <a:off x="6248520" y="1523880"/>
            <a:ext cx="2324160" cy="1590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i?id=44985170-64-72"/>
          <p:cNvPicPr/>
          <p:nvPr/>
        </p:nvPicPr>
        <p:blipFill>
          <a:blip r:embed="rId3"/>
          <a:stretch/>
        </p:blipFill>
        <p:spPr>
          <a:xfrm>
            <a:off x="1133640" y="43434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i?id=44798283-17-72"/>
          <p:cNvPicPr/>
          <p:nvPr/>
        </p:nvPicPr>
        <p:blipFill>
          <a:blip r:embed="rId4"/>
          <a:stretch/>
        </p:blipFill>
        <p:spPr>
          <a:xfrm>
            <a:off x="6019920" y="3809880"/>
            <a:ext cx="2305080" cy="2438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i?id=374953081-49-72"/>
          <p:cNvPicPr/>
          <p:nvPr/>
        </p:nvPicPr>
        <p:blipFill>
          <a:blip r:embed="rId5"/>
          <a:stretch/>
        </p:blipFill>
        <p:spPr>
          <a:xfrm>
            <a:off x="3657600" y="2362320"/>
            <a:ext cx="1981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 Black"/>
              </a:rPr>
              <a:t>     </a:t>
            </a: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Упражнение “Умывалочка”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7f26"/>
                </a:solidFill>
                <a:latin typeface="Arial Black"/>
              </a:rPr>
              <a:t>Кран, откройся! Нос умойся!</a:t>
            </a:r>
            <a:br>
              <a:rPr sz="3600"/>
            </a:br>
            <a:r>
              <a:rPr b="0" lang="ru-RU" sz="3600" spc="-1" strike="noStrike">
                <a:solidFill>
                  <a:srgbClr val="637f26"/>
                </a:solidFill>
                <a:latin typeface="Arial Black"/>
              </a:rPr>
              <a:t>Мойтесь сразу оба глаза!</a:t>
            </a:r>
            <a:br>
              <a:rPr sz="3600"/>
            </a:br>
            <a:r>
              <a:rPr b="0" lang="ru-RU" sz="3600" spc="-1" strike="noStrike">
                <a:solidFill>
                  <a:srgbClr val="637f26"/>
                </a:solidFill>
                <a:latin typeface="Arial Black"/>
              </a:rPr>
              <a:t>Мойтесь, ушки! Мойся, шейка!</a:t>
            </a:r>
            <a:br>
              <a:rPr sz="3600"/>
            </a:br>
            <a:r>
              <a:rPr b="0" lang="ru-RU" sz="3600" spc="-1" strike="noStrike">
                <a:solidFill>
                  <a:srgbClr val="637f26"/>
                </a:solidFill>
                <a:latin typeface="Arial Black"/>
              </a:rPr>
              <a:t>Шейка! Мойся хорошенько!</a:t>
            </a:r>
            <a:br>
              <a:rPr sz="3600"/>
            </a:br>
            <a:r>
              <a:rPr b="0" lang="ru-RU" sz="3600" spc="-1" strike="noStrike">
                <a:solidFill>
                  <a:srgbClr val="637f26"/>
                </a:solidFill>
                <a:latin typeface="Arial Black"/>
              </a:rPr>
              <a:t>Мойся, мойся, умывайся!</a:t>
            </a:r>
            <a:br>
              <a:rPr sz="3600"/>
            </a:br>
            <a:r>
              <a:rPr b="0" lang="ru-RU" sz="3600" spc="-1" strike="noStrike">
                <a:solidFill>
                  <a:srgbClr val="637f26"/>
                </a:solidFill>
                <a:latin typeface="Arial Black"/>
              </a:rPr>
              <a:t>Грязь, смывайся, грязь, смывайся</a:t>
            </a:r>
            <a:r>
              <a:rPr b="0" lang="ru-RU" sz="3600" spc="-1" strike="noStrike">
                <a:solidFill>
                  <a:srgbClr val="feb80a"/>
                </a:solidFill>
                <a:latin typeface="Corbe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Arial Black"/>
              </a:rPr>
              <a:t>Отгадайте загадку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66320" y="1523880"/>
            <a:ext cx="35053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37f26"/>
                </a:solidFill>
                <a:latin typeface="Arial Black"/>
              </a:rPr>
              <a:t>   </a:t>
            </a:r>
            <a:r>
              <a:rPr b="0" i="1" lang="ru-RU" sz="3300" spc="-1" strike="noStrike">
                <a:solidFill>
                  <a:srgbClr val="637f26"/>
                </a:solidFill>
                <a:latin typeface="Arial Black"/>
              </a:rPr>
              <a:t>Оля весело бежит</a:t>
            </a:r>
            <a:br>
              <a:rPr sz="3300"/>
            </a:br>
            <a:r>
              <a:rPr b="0" i="1" lang="ru-RU" sz="3300" spc="-1" strike="noStrike">
                <a:solidFill>
                  <a:srgbClr val="637f26"/>
                </a:solidFill>
                <a:latin typeface="Arial Black"/>
              </a:rPr>
              <a:t>К речке по дорожке.</a:t>
            </a:r>
            <a:br>
              <a:rPr sz="3300"/>
            </a:br>
            <a:r>
              <a:rPr b="0" i="1" lang="ru-RU" sz="3300" spc="-1" strike="noStrike">
                <a:solidFill>
                  <a:srgbClr val="637f26"/>
                </a:solidFill>
                <a:latin typeface="Arial Black"/>
              </a:rPr>
              <a:t>А для этого нужны</a:t>
            </a:r>
            <a:br>
              <a:rPr sz="3300"/>
            </a:br>
            <a:r>
              <a:rPr b="0" i="1" lang="ru-RU" sz="3300" spc="-1" strike="noStrike">
                <a:solidFill>
                  <a:srgbClr val="637f26"/>
                </a:solidFill>
                <a:latin typeface="Arial Black"/>
              </a:rPr>
              <a:t>Нашей Оле ...</a:t>
            </a:r>
            <a:br>
              <a:rPr sz="2600"/>
            </a:b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6" descr="i?id=21191203-04-72"/>
          <p:cNvPicPr/>
          <p:nvPr/>
        </p:nvPicPr>
        <p:blipFill>
          <a:blip r:embed="rId1"/>
          <a:stretch/>
        </p:blipFill>
        <p:spPr>
          <a:xfrm>
            <a:off x="4952880" y="1676520"/>
            <a:ext cx="38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8:27:58Z</dcterms:created>
  <dc:creator>Кристинчик</dc:creator>
  <dc:description/>
  <dc:language>en-US</dc:language>
  <cp:lastModifiedBy>Надежда</cp:lastModifiedBy>
  <dcterms:modified xsi:type="dcterms:W3CDTF">2021-11-14T14:12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