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BBA6-C202-456A-BCE8-5DF608F71E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844D-483A-46D1-B947-384269CD42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E49-0854-4DB1-A75E-3D126BA7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D05-B823-425D-8DD1-0F8FD5CB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3D6A9-BFC0-4694-A06A-DC227D6C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2BA58-A743-4BF2-BDC1-FA00CB7B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39619-1AE3-4104-9CF7-B10DA300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45FCD-1040-43ED-A5F6-C382D031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0499D-BE13-4DCD-9951-C5EEF62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10461-EED2-4696-97F9-F9DF61E9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D9834-334E-4412-BF3A-98F3232F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918F9-3705-4037-BB5E-9AB41FEA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E1088-0EB9-4CF1-9117-F672BEA2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F79F8-2FD2-4C4E-9F5F-68D1043E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9A3-D66D-4E34-9165-ACE7BE20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6B773-657A-4DA9-B389-79A15BFF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5A3D7-8795-432D-BED2-06770095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1BB57-18F2-494A-BBC2-09649225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89194-2A8F-48A8-AC45-48E09EC5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CC55B-D5A3-451E-95B8-AF8F6794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7D77B-E27A-45BF-B3B1-96D0CBD0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BC346-ED64-4380-AC32-81143A3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89A06-2076-4200-B640-3BF2314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2C9A3-571E-4207-B68E-7C798288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71BFE-8427-4980-8AD0-0D24058D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AEE-C63B-496D-A1F0-6E278867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50085-8917-4ADE-9835-92254E96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A3325-B547-4FC8-A386-EEBD8E3A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9080A-2E29-4628-854C-76ED2C0B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1B71C-F394-4A31-B0D2-F68F1AC6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EDEA1-2858-48B8-ACEE-C51D5CDC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77847-0BE5-495A-AE1F-8B9AE517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3A00F-3818-4CEB-848E-44865BD9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BB14A-63E7-4FC3-BE9B-6CD671A7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40E09-3923-4DCA-A284-3C4B127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4A2DF-0923-4D21-B357-C4588BFD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8652-71D0-424F-B72D-1BAA84C9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3C67F-7667-454B-9B4D-59B4005F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E6405-8154-49AC-84AC-A607EF28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8933E-E0AE-4FDC-A614-53DFDED5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FE509-C76E-416C-B04C-F3FAFE9B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05F41-D427-4E3D-8ED0-E65B1112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7B3AD-DE3F-4C31-B151-7EC276B7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0F032-6F47-43F9-A136-CCD9349A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000C9-DDC3-4CEC-B85A-66CC2B5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F91C9-FD74-48A8-BDE4-C16A4FCD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39A56-F567-477E-BD6D-DD58C190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C553-7065-448D-962F-1E4EDE75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2ED2F-DA60-49F4-B29F-6D1A2518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16872-63E2-483D-A222-20655007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8EAFB-DD38-417B-AC91-9C8BF2EF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06EAB-5571-47FF-B36D-3EC8BA6C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0F5D6-8068-4A93-9D52-72BECEB5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560C1-EA03-4164-B77F-D61A1FE7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C4E95-3CF6-414D-AB21-D815A9D5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DEB68-963C-40A2-B275-241A1948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C60B3-26BE-40C9-BB4D-7D3E64BD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20F4F-0486-486D-AC25-035F6E68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DE26-5BB0-43F9-AE24-C1E4B1F0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02E93-0F84-4C78-BD0B-C03004BA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AD70E-7C5C-4387-B4A2-94E84805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E564C-C589-4FAA-90E8-03F2F9A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08063-C3DD-4EEE-AE80-74FA3E8B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07F0D-0024-4124-B083-54775F3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3D14C-2515-475E-9695-AE2B5A7E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B514B-7BAA-4CA9-8953-18D193C8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E56FD-B49D-4326-9AD7-80571E55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66717-68D7-43D9-93E5-E0AE1416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4D52C-1C2F-44D2-BC21-E78DAA1E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6C2B-9376-4308-83E3-783CE3C3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56047-3583-425A-8C58-DDBE66C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A6A54-1EE1-4EBF-961C-4E685030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E5874-5443-49DC-83E0-59CDDDEC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DA84D-7C15-4998-928E-CCBAADE5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4055F-4087-43BA-A7C7-67896E6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43DB6-2179-4864-B964-0C04FAC2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A26B6-6DB3-452B-B563-61968630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45D5E-3F05-4057-A790-3E1BF8A6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62D1D-FD32-4FF2-AA2A-7E0B9DE8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A30AE-FDF0-4BE8-8775-A2CBD55D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2109-CBDD-4F67-90F9-4C22212D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4B3E3-89EF-44D0-BCD4-9F3D0E41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FFF28-3881-42C3-B020-FF9311DF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9D409-8898-41B1-8AE1-BF2A0E5F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F419B-699D-40DE-A006-02A007AD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9F572-0729-44C3-AC24-8E59962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23767-339A-426D-A02D-64EB0870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F286B-7467-4137-8C79-22B11D8A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BB6FD-2494-43E9-BDBA-EA4C697F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95430-BC82-46A5-B978-40A84673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19E37-872F-49C4-BA19-C1BC7EA0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E1EE-FA4A-4741-9180-47D1C4C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94136-B20D-4D61-99C5-2F48BFA2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3CF89-08AF-4EAB-AC7F-40F01B6F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93FC8-6FEF-46A9-A020-83E64A21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108C3-EEA3-40B7-BDBD-CC34CB16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2F117-0BD7-4A69-97CF-43DEDD61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86838-0378-402D-AE98-30B6066F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8C9A9-6096-4BB5-92DB-47A1F3F0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BB7AA-9D50-4850-824D-FDDBB3EF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BB073-3D9D-4E70-9211-A36227D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3B3AA-518F-4486-AA37-DC2DDF1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FE80-B9FB-41C3-B33C-EFC7EC8C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2E03A-D60B-4B75-AEE2-C90A1D28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87CC9-C345-4DE5-B24E-17149386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606D3B-809D-42D2-8B43-1F005BD9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1AD68-80BC-48E4-89F3-981F84BB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082A7-C6B2-42FD-8426-A6D43884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2764B-4E78-4371-8981-79418E58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2FCC1-82AF-4A27-AB9B-D93D2EB5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E3D22-8778-425F-BC00-90C765B9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D6F20-5CEE-4487-99F1-BB805853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59650-3DFC-436A-BC56-DB30261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4F1-405A-4B97-ADBD-71A87322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9FE1-E96E-4B97-ADA3-AC1ECC5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C0349-FFA6-4D0E-AC39-9C54F6D2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9D1EC-8D58-463C-B9DB-661D89FD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E5238-6C2B-4DBF-8D97-693969F2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91538-18A2-4F02-81E4-48A2D951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86FEB8-E803-4F14-8123-2FEE42EE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3BAA-8D2D-44A0-9035-A6368467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3E99-CB64-450D-B9AC-2EE4505A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0651-61AB-4D53-A8F8-ECE1118C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70E9-BBA6-4699-B030-F431CD61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BC92-6A2F-46D0-94F9-A0FC6F45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F284-9FC2-4CC4-8096-B8B163B1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BD1A-7E62-4821-B4F8-DAF4793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39A0-2705-4FDE-B39E-0C826D41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47A1-7695-4B55-BF08-A148BF1F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1A6-44BD-4036-A4FB-552B64BA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3E2D-6AD3-4F24-93E4-2AF89B0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1D86-9313-4961-81C1-B80D0B88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5C736-B28E-45DB-9821-A5530DA3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6F98-8DE6-4ECE-80B1-F6137AF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CC11-6ED0-4387-B3BA-863C5CA5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DC8F-093A-40EB-8581-A6DEAACD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739D-8870-4A5C-BEEE-D987AC2A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566C-C501-425B-9B42-38B35A8A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B3F9-6EF4-4A36-91ED-A1CBC35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4496-8CC8-4D0D-9F80-A762F193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6CB-DAD2-4C36-819E-631D0621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1FD07-58BA-4D5C-8445-019D7C65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C8B00-1062-41AE-A56F-509A35BA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C7AD-F465-4AEA-A203-A79A5ED0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EBB0-9907-48BC-92F6-DEF22C11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A07D-F9B5-4604-A4B7-87FF19B8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2037-E013-4DA7-8F1E-1701DD5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01FA-C18D-4499-A678-60176EE8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D6CA-C195-47BB-87D1-52F2C2A1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3953-F7C6-4291-B221-1BA19A45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A1687-4DDD-4CC9-ABDB-A26572F8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A03-FDB4-4EAD-937D-72E044C0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32471-286E-4FAE-9A76-B714B3BE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7684-F145-414E-AA7C-590B0467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366D9-D38D-44FA-8351-D3E26979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F659C-4DB4-452C-9E39-C8D37F19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37AE-66EB-4550-A861-401B743E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3E71E-3A6C-46E3-94C3-0F95B14A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5EDF-6B07-4C7A-8261-76E63D77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66AC-D931-489C-A33B-4D90C7C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622C-1470-49E3-ABD9-53F1659B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4DBF7-7527-4BB2-8F87-B2C42EDE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1E0-CD9B-4BF6-90ED-DE685313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D4D6D-4166-4954-9B08-82C2BA78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65A53-56C9-4E10-8049-369DD9EF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8A09B-CA7D-4FD1-8521-30B2BE6B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F38AA-3D07-45E3-ADFE-DC510197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86F53-12C6-4C9A-BDC3-6CF48861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0E576-640D-4FD8-8446-0B89D5B6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ACD0-EDB9-48FD-B7F5-727A7B70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DD33-7D88-4570-BD0A-1D0029B0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20EC4-7DBD-4686-AABD-92179B5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5C268-4647-4024-BB16-DC1A72C8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900-84BA-46FD-9C15-B2E2B2C7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DA4D1-9108-4622-BD3C-481B0073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4153-5254-4D5B-97AF-B12535DB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D514F-9A37-4A66-BB0D-24668ACD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9E9A7-EAF1-4C09-9B42-7A5E9A0E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D8393-6957-48C0-BD0B-347E7D4A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3CF48-077F-4E7E-B4A6-AE11F57A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E6428-D64E-43D3-90AA-7AA8A3DE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CCFE3-805D-46F6-BDC2-E38E9178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BC433-9D83-4F10-BBF6-48D40157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184A-8FF1-4197-8F44-FECE23BD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5CB-7180-41A5-88D0-33DCEAC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4BA6-E1BA-4366-A5A9-A4D1C98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008BA-A4BB-4FEC-AC28-E6A53D9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789C0-F51A-4F97-8208-8CE6ECE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8271-9C35-4513-A2EC-9AA0D6BF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8A187-DE57-4EEC-91A6-9F94F753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00E15-13B3-416D-8E5D-DDF52132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7EE77-3867-4E4E-951E-1F2845AB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7D937-7B8E-4D8C-A938-54F800A3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FE042-8521-442B-B5AD-C5AF9BEF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B83E1-2206-415A-9D3F-415905EC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F73-8903-4CF6-8143-6878AF2F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3018-A442-481E-8FBC-2116CBFE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86AFA-DD15-459F-9AEC-84531BB6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5F03C-67CC-4F25-91E7-0EA19F73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D8771-03EE-40CE-84B0-585D779C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37EAA-055A-4997-8F4C-743932E3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08930-845B-434F-A30C-49A511B0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4227A-CE17-4C68-BE62-C03934DE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6ADCD-64C9-475B-9942-DB0EF0F8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4E2FC-0B71-4AB5-BF4E-A1C4085D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2F47A-4CAB-478B-8DBE-5F0FBE5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3555-A63F-484A-9B91-4F44BFB689A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E674-1BCE-43E4-8FE8-384BDA6295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A4B4-AE14-43C7-9E9B-4696A9C7ACB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1584-5BBA-4497-A726-46B071901BE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E308-0A41-4B77-BFEC-62ADD9EA3FF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4A28-AA09-4C4A-A562-03450185FB3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5567-58EF-4283-BBE7-4219F23DF44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F715-7C1E-4D40-A065-16050D2174C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B8FD-0C5F-42F6-BEF2-1C9AB77A507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85C6-E909-446D-8BC1-DDFE2C29DA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2213-1A38-4888-BC1B-BE3FB751E8E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9217-F749-4F16-A948-981CBB2CDC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B4FD-6702-4974-9C2B-D9CB6CB6D55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81F7-9DE8-48CC-9B32-A042A4088C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F42-DEA5-498D-A81C-1366F2482AA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10FF-D7A5-4808-B683-1737333BB3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CD45-9398-4525-B46F-1E16301A3A9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BDE1-1F0D-4234-900B-909E50B6A62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E482-2FED-4F2D-87DD-2AF616582F9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1E1-C4DB-4969-9A02-F7C7F37333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494B-F30F-4DCB-983C-66780D55F46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21A0-4ECD-4D9B-9346-68D3536636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DE6F-18C2-402F-8A82-2C651493E16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4BE-6046-4D49-B0B9-B3426BF882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1F23-665B-4975-A99A-D17951639AD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F724-700A-4D95-8D9D-1A690A91D7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9E20-E228-46AA-94F4-A2E02C8E769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BA75-891D-453A-A353-220427A6EE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9DE0-13E7-41D0-B3B8-F144FBDA811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DEF5-06E1-4E4A-B61C-E960E11544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0CE4-B42E-4D46-A48B-270FFB282FD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5BF5-3A2C-4F5A-960E-08E86CA23E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BC31-8197-48D1-9EA2-313C0785039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C0B8-8620-4EF1-9FC9-6CE813E335A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731960" y="436680"/>
            <a:ext cx="7153200" cy="18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щадь треугольника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Рисунок 1" descr=""/>
          <p:cNvPicPr/>
          <p:nvPr/>
        </p:nvPicPr>
        <p:blipFill>
          <a:blip r:embed="rId1"/>
          <a:stretch/>
        </p:blipFill>
        <p:spPr>
          <a:xfrm>
            <a:off x="557280" y="2658960"/>
            <a:ext cx="306396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Text Box 4"/>
          <p:cNvSpPr/>
          <p:nvPr/>
        </p:nvSpPr>
        <p:spPr>
          <a:xfrm>
            <a:off x="363600" y="1935000"/>
            <a:ext cx="833112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Катеты прямоугольного треугольника 6 см, 8 см. Найдите радиусы описанной и вписанной окруж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ороны треугольника 4 см, 5 см и 7 см. Найти радиус вписанной в треугольник окруж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ороны треугольника 5 см и 8 см, а угол между ними 6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ти радиус окружности, вписанной в треугольник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1233360" y="363600"/>
            <a:ext cx="50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ь самостоятельно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Овал 82"/>
          <p:cNvSpPr/>
          <p:nvPr/>
        </p:nvSpPr>
        <p:spPr>
          <a:xfrm>
            <a:off x="684360" y="1341360"/>
            <a:ext cx="3214440" cy="3286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7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Group 28"/>
          <p:cNvGrpSpPr/>
          <p:nvPr/>
        </p:nvGrpSpPr>
        <p:grpSpPr>
          <a:xfrm>
            <a:off x="755280" y="1341360"/>
            <a:ext cx="3000600" cy="2216160"/>
            <a:chOff x="755280" y="1341360"/>
            <a:chExt cx="3000600" cy="2216160"/>
          </a:xfrm>
        </p:grpSpPr>
        <p:sp>
          <p:nvSpPr>
            <p:cNvPr id="1338" name="Прямая соединительная линия 60"/>
            <p:cNvSpPr/>
            <p:nvPr/>
          </p:nvSpPr>
          <p:spPr>
            <a:xfrm flipH="1">
              <a:off x="755280" y="1341360"/>
              <a:ext cx="1857240" cy="221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Прямая соединительная линия 62"/>
            <p:cNvSpPr/>
            <p:nvPr/>
          </p:nvSpPr>
          <p:spPr>
            <a:xfrm>
              <a:off x="2612160" y="1341360"/>
              <a:ext cx="1143000" cy="221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Прямая соединительная линия 64"/>
            <p:cNvSpPr/>
            <p:nvPr/>
          </p:nvSpPr>
          <p:spPr>
            <a:xfrm>
              <a:off x="755640" y="3556080"/>
              <a:ext cx="30002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" name="Прямая соединительная линия 70"/>
          <p:cNvSpPr/>
          <p:nvPr/>
        </p:nvSpPr>
        <p:spPr>
          <a:xfrm flipH="1">
            <a:off x="1187280" y="2125800"/>
            <a:ext cx="2657520" cy="157320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Прямая соединительная линия 73"/>
          <p:cNvSpPr/>
          <p:nvPr/>
        </p:nvSpPr>
        <p:spPr>
          <a:xfrm>
            <a:off x="1402560" y="2114640"/>
            <a:ext cx="2017800" cy="180000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Прямая соединительная линия 75"/>
          <p:cNvSpPr/>
          <p:nvPr/>
        </p:nvSpPr>
        <p:spPr>
          <a:xfrm flipV="1">
            <a:off x="2413800" y="1126800"/>
            <a:ext cx="1800" cy="271476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Прямая соединительная линия 77"/>
          <p:cNvSpPr/>
          <p:nvPr/>
        </p:nvSpPr>
        <p:spPr>
          <a:xfrm flipH="1">
            <a:off x="2394000" y="1341360"/>
            <a:ext cx="218880" cy="1638360"/>
          </a:xfrm>
          <a:prstGeom prst="line">
            <a:avLst/>
          </a:prstGeom>
          <a:ln cap="rnd" w="158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Прямая соединительная линия 79"/>
          <p:cNvSpPr/>
          <p:nvPr/>
        </p:nvSpPr>
        <p:spPr>
          <a:xfrm flipH="1" flipV="1">
            <a:off x="2393640" y="2979360"/>
            <a:ext cx="1361880" cy="576360"/>
          </a:xfrm>
          <a:prstGeom prst="line">
            <a:avLst/>
          </a:prstGeom>
          <a:ln cap="rnd" w="158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Прямая соединительная линия 81"/>
          <p:cNvSpPr/>
          <p:nvPr/>
        </p:nvSpPr>
        <p:spPr>
          <a:xfrm flipH="1">
            <a:off x="755280" y="2993400"/>
            <a:ext cx="1639800" cy="561960"/>
          </a:xfrm>
          <a:prstGeom prst="line">
            <a:avLst/>
          </a:prstGeom>
          <a:ln cap="rnd" w="158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Прямоугольник 31"/>
          <p:cNvSpPr/>
          <p:nvPr/>
        </p:nvSpPr>
        <p:spPr>
          <a:xfrm>
            <a:off x="5715000" y="2071800"/>
            <a:ext cx="2357280" cy="1071360"/>
          </a:xfrm>
          <a:prstGeom prst="rect">
            <a:avLst/>
          </a:prstGeom>
          <a:noFill/>
          <a:ln w="5724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3"/>
          <p:cNvSpPr/>
          <p:nvPr/>
        </p:nvSpPr>
        <p:spPr>
          <a:xfrm>
            <a:off x="25236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4"/>
          <p:cNvSpPr/>
          <p:nvPr/>
        </p:nvSpPr>
        <p:spPr>
          <a:xfrm>
            <a:off x="3068280" y="98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35"/>
          <p:cNvSpPr/>
          <p:nvPr/>
        </p:nvSpPr>
        <p:spPr>
          <a:xfrm>
            <a:off x="3851280" y="35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36"/>
          <p:cNvSpPr/>
          <p:nvPr/>
        </p:nvSpPr>
        <p:spPr>
          <a:xfrm>
            <a:off x="2484360" y="2492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Object 25"/>
              <p:cNvSpPr txBox="1"/>
              <p:nvPr/>
            </p:nvSpPr>
            <p:spPr>
              <a:xfrm>
                <a:off x="6084720" y="2133720"/>
                <a:ext cx="1656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Object 26"/>
              <p:cNvSpPr txBox="1"/>
              <p:nvPr/>
            </p:nvSpPr>
            <p:spPr>
              <a:xfrm>
                <a:off x="189000" y="4711680"/>
                <a:ext cx="87105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Мы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знаем, что 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in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 найдем из соотношения</m:t>
                        </m:r>
                      </m:e>
                      <m:e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 </m:t>
                            </m:r>
                            <m:r>
                              <m:t xml:space="preserve">∠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in 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4" name="Text Box 33"/>
          <p:cNvSpPr/>
          <p:nvPr/>
        </p:nvSpPr>
        <p:spPr>
          <a:xfrm>
            <a:off x="140472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25"/>
          <p:cNvSpPr/>
          <p:nvPr/>
        </p:nvSpPr>
        <p:spPr>
          <a:xfrm>
            <a:off x="-100080" y="171360"/>
            <a:ext cx="957888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лощадь треугольника через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диус описанной около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го окружност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6" name="Group 22"/>
          <p:cNvGrpSpPr/>
          <p:nvPr/>
        </p:nvGrpSpPr>
        <p:grpSpPr>
          <a:xfrm>
            <a:off x="1619280" y="1125360"/>
            <a:ext cx="4811040" cy="1519200"/>
            <a:chOff x="1619280" y="1125360"/>
            <a:chExt cx="4811040" cy="1519200"/>
          </a:xfrm>
        </p:grpSpPr>
        <p:sp>
          <p:nvSpPr>
            <p:cNvPr id="1357" name="Прямая соединительная линия 1"/>
            <p:cNvSpPr/>
            <p:nvPr/>
          </p:nvSpPr>
          <p:spPr>
            <a:xfrm>
              <a:off x="5320080" y="1125360"/>
              <a:ext cx="1110240" cy="1519200"/>
            </a:xfrm>
            <a:prstGeom prst="line">
              <a:avLst/>
            </a:prstGeom>
            <a:ln w="76320">
              <a:solidFill>
                <a:srgbClr val="fb4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Прямая соединительная линия 2"/>
            <p:cNvSpPr/>
            <p:nvPr/>
          </p:nvSpPr>
          <p:spPr>
            <a:xfrm flipH="1">
              <a:off x="1619280" y="1125360"/>
              <a:ext cx="3700800" cy="1519200"/>
            </a:xfrm>
            <a:prstGeom prst="line">
              <a:avLst/>
            </a:prstGeom>
            <a:ln w="76320">
              <a:solidFill>
                <a:srgbClr val="fb4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Прямая соединительная линия 3"/>
          <p:cNvSpPr/>
          <p:nvPr/>
        </p:nvSpPr>
        <p:spPr>
          <a:xfrm>
            <a:off x="1547640" y="2637000"/>
            <a:ext cx="4827600" cy="9360"/>
          </a:xfrm>
          <a:prstGeom prst="line">
            <a:avLst/>
          </a:prstGeom>
          <a:ln w="7632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0" name="Прямоугольник 10" descr=""/>
          <p:cNvPicPr/>
          <p:nvPr/>
        </p:nvPicPr>
        <p:blipFill>
          <a:blip r:embed="rId1"/>
          <a:stretch/>
        </p:blipFill>
        <p:spPr>
          <a:xfrm>
            <a:off x="2219400" y="139680"/>
            <a:ext cx="4900680" cy="79380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20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22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Object 30"/>
              <p:cNvSpPr txBox="1"/>
              <p:nvPr/>
            </p:nvSpPr>
            <p:spPr>
              <a:xfrm>
                <a:off x="5867280" y="1268280"/>
                <a:ext cx="428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31"/>
              <p:cNvSpPr txBox="1"/>
              <p:nvPr/>
            </p:nvSpPr>
            <p:spPr>
              <a:xfrm>
                <a:off x="4140360" y="2708280"/>
                <a:ext cx="377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32"/>
              <p:cNvSpPr txBox="1"/>
              <p:nvPr/>
            </p:nvSpPr>
            <p:spPr>
              <a:xfrm>
                <a:off x="3492360" y="1268280"/>
                <a:ext cx="400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66" name="Text Box 23"/>
          <p:cNvSpPr/>
          <p:nvPr/>
        </p:nvSpPr>
        <p:spPr>
          <a:xfrm>
            <a:off x="5508720" y="981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4"/>
          <p:cNvSpPr/>
          <p:nvPr/>
        </p:nvSpPr>
        <p:spPr>
          <a:xfrm>
            <a:off x="6589440" y="2492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5"/>
          <p:cNvSpPr/>
          <p:nvPr/>
        </p:nvSpPr>
        <p:spPr>
          <a:xfrm>
            <a:off x="1117440" y="2565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9" name="Object 34"/>
              <p:cNvSpPr txBox="1"/>
              <p:nvPr/>
            </p:nvSpPr>
            <p:spPr>
              <a:xfrm>
                <a:off x="1503360" y="5067360"/>
                <a:ext cx="59641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Object 35"/>
              <p:cNvSpPr txBox="1"/>
              <p:nvPr/>
            </p:nvSpPr>
            <p:spPr>
              <a:xfrm>
                <a:off x="1955880" y="3484440"/>
                <a:ext cx="447516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 Box 4"/>
          <p:cNvSpPr/>
          <p:nvPr/>
        </p:nvSpPr>
        <p:spPr>
          <a:xfrm>
            <a:off x="739800" y="592200"/>
            <a:ext cx="7589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гол при вершине равнобедренного треугольника равен 30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 а его площадь – 150 с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Найдите боковую сторону треугольника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Group 15"/>
          <p:cNvGrpSpPr/>
          <p:nvPr/>
        </p:nvGrpSpPr>
        <p:grpSpPr>
          <a:xfrm>
            <a:off x="264240" y="1768320"/>
            <a:ext cx="8265240" cy="4438800"/>
            <a:chOff x="264240" y="1768320"/>
            <a:chExt cx="8265240" cy="4438800"/>
          </a:xfrm>
        </p:grpSpPr>
        <p:sp>
          <p:nvSpPr>
            <p:cNvPr id="1373" name="Text Box 8"/>
            <p:cNvSpPr/>
            <p:nvPr/>
          </p:nvSpPr>
          <p:spPr>
            <a:xfrm>
              <a:off x="264240" y="4195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AutoShape 5"/>
            <p:cNvSpPr/>
            <p:nvPr/>
          </p:nvSpPr>
          <p:spPr>
            <a:xfrm>
              <a:off x="754200" y="2787480"/>
              <a:ext cx="1566720" cy="1756080"/>
            </a:xfrm>
            <a:prstGeom prst="triangle">
              <a:avLst>
                <a:gd name="adj" fmla="val 50000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Text Box 6"/>
            <p:cNvSpPr/>
            <p:nvPr/>
          </p:nvSpPr>
          <p:spPr>
            <a:xfrm>
              <a:off x="2916360" y="1768320"/>
              <a:ext cx="2367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ешение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6" name="Object 8"/>
                <p:cNvSpPr txBox="1"/>
                <p:nvPr/>
              </p:nvSpPr>
              <p:spPr>
                <a:xfrm>
                  <a:off x="3056040" y="2595600"/>
                  <a:ext cx="5473440" cy="36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Дан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rPr>
                              <m:lit/>
                              <m:nor/>
                            </m:rPr>
                            <m:t xml:space="preserve">АВС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∠</m:t>
                          </m:r>
                          <m:r>
                            <m:t xml:space="preserve">В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м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∠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∠</m:t>
                          </m:r>
                          <m:r>
                            <m:t xml:space="preserve">B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В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C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∠</m:t>
                              </m:r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В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00</m:t>
                              </m:r>
                            </m:num>
                            <m:den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600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00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Ответ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77" name="Text Box 8"/>
            <p:cNvSpPr/>
            <p:nvPr/>
          </p:nvSpPr>
          <p:spPr>
            <a:xfrm>
              <a:off x="1322640" y="238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Text Box 8"/>
            <p:cNvSpPr/>
            <p:nvPr/>
          </p:nvSpPr>
          <p:spPr>
            <a:xfrm>
              <a:off x="2305080" y="417996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4"/>
          <p:cNvSpPr/>
          <p:nvPr/>
        </p:nvSpPr>
        <p:spPr>
          <a:xfrm>
            <a:off x="1754280" y="1751040"/>
            <a:ext cx="49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Решить устн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Object 5"/>
              <p:cNvSpPr txBox="1"/>
              <p:nvPr/>
            </p:nvSpPr>
            <p:spPr>
              <a:xfrm>
                <a:off x="2082960" y="460440"/>
                <a:ext cx="3979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7" name="Line 7"/>
          <p:cNvSpPr/>
          <p:nvPr/>
        </p:nvSpPr>
        <p:spPr>
          <a:xfrm flipH="1">
            <a:off x="566280" y="3033720"/>
            <a:ext cx="376200" cy="9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8"/>
          <p:cNvSpPr/>
          <p:nvPr/>
        </p:nvSpPr>
        <p:spPr>
          <a:xfrm>
            <a:off x="581040" y="4021200"/>
            <a:ext cx="147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9"/>
          <p:cNvSpPr/>
          <p:nvPr/>
        </p:nvSpPr>
        <p:spPr>
          <a:xfrm>
            <a:off x="928800" y="3019320"/>
            <a:ext cx="1146240" cy="10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10"/>
          <p:cNvSpPr/>
          <p:nvPr/>
        </p:nvSpPr>
        <p:spPr>
          <a:xfrm flipV="1">
            <a:off x="581040" y="3220560"/>
            <a:ext cx="60948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11"/>
          <p:cNvSpPr/>
          <p:nvPr/>
        </p:nvSpPr>
        <p:spPr>
          <a:xfrm>
            <a:off x="1131840" y="3309840"/>
            <a:ext cx="13032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12"/>
          <p:cNvSpPr/>
          <p:nvPr/>
        </p:nvSpPr>
        <p:spPr>
          <a:xfrm flipH="1">
            <a:off x="1261800" y="3367080"/>
            <a:ext cx="586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12960" bIns="12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611280" y="2705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8"/>
          <p:cNvSpPr/>
          <p:nvPr/>
        </p:nvSpPr>
        <p:spPr>
          <a:xfrm>
            <a:off x="262080" y="3776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2076840" y="3776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8"/>
          <p:cNvSpPr/>
          <p:nvPr/>
        </p:nvSpPr>
        <p:spPr>
          <a:xfrm>
            <a:off x="1554120" y="329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8"/>
          <p:cNvSpPr/>
          <p:nvPr/>
        </p:nvSpPr>
        <p:spPr>
          <a:xfrm>
            <a:off x="887400" y="3454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8"/>
          <p:cNvSpPr/>
          <p:nvPr/>
        </p:nvSpPr>
        <p:spPr>
          <a:xfrm>
            <a:off x="1001880" y="42703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8"/>
          <p:cNvSpPr/>
          <p:nvPr/>
        </p:nvSpPr>
        <p:spPr>
          <a:xfrm>
            <a:off x="1175760" y="29368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Group 58"/>
          <p:cNvGrpSpPr/>
          <p:nvPr/>
        </p:nvGrpSpPr>
        <p:grpSpPr>
          <a:xfrm>
            <a:off x="5205600" y="2363040"/>
            <a:ext cx="2379240" cy="2329560"/>
            <a:chOff x="5205600" y="2363040"/>
            <a:chExt cx="2379240" cy="2329560"/>
          </a:xfrm>
        </p:grpSpPr>
        <p:sp>
          <p:nvSpPr>
            <p:cNvPr id="1201" name="AutoShape 42"/>
            <p:cNvSpPr/>
            <p:nvPr/>
          </p:nvSpPr>
          <p:spPr>
            <a:xfrm rot="19887000">
              <a:off x="5665680" y="2601720"/>
              <a:ext cx="1292040" cy="114588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Text Box 8"/>
            <p:cNvSpPr/>
            <p:nvPr/>
          </p:nvSpPr>
          <p:spPr>
            <a:xfrm>
              <a:off x="5205600" y="2584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Text Box 8"/>
            <p:cNvSpPr/>
            <p:nvPr/>
          </p:nvSpPr>
          <p:spPr>
            <a:xfrm>
              <a:off x="7251840" y="3224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Text Box 8"/>
            <p:cNvSpPr/>
            <p:nvPr/>
          </p:nvSpPr>
          <p:spPr>
            <a:xfrm>
              <a:off x="5684760" y="3835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8"/>
            <p:cNvSpPr/>
            <p:nvPr/>
          </p:nvSpPr>
          <p:spPr>
            <a:xfrm>
              <a:off x="6133680" y="271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8"/>
            <p:cNvSpPr/>
            <p:nvPr/>
          </p:nvSpPr>
          <p:spPr>
            <a:xfrm>
              <a:off x="6568920" y="3762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48"/>
            <p:cNvSpPr/>
            <p:nvPr/>
          </p:nvSpPr>
          <p:spPr>
            <a:xfrm flipV="1">
              <a:off x="5941800" y="3716280"/>
              <a:ext cx="2174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49"/>
            <p:cNvSpPr/>
            <p:nvPr/>
          </p:nvSpPr>
          <p:spPr>
            <a:xfrm>
              <a:off x="6159240" y="373068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8"/>
            <p:cNvSpPr/>
            <p:nvPr/>
          </p:nvSpPr>
          <p:spPr>
            <a:xfrm>
              <a:off x="6234120" y="432432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ис.3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Line 22"/>
          <p:cNvSpPr/>
          <p:nvPr/>
        </p:nvSpPr>
        <p:spPr>
          <a:xfrm>
            <a:off x="3425760" y="3059280"/>
            <a:ext cx="596880" cy="10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23"/>
          <p:cNvSpPr/>
          <p:nvPr/>
        </p:nvSpPr>
        <p:spPr>
          <a:xfrm flipV="1">
            <a:off x="3978360" y="4046400"/>
            <a:ext cx="565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31320" bIns="-31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24"/>
          <p:cNvSpPr/>
          <p:nvPr/>
        </p:nvSpPr>
        <p:spPr>
          <a:xfrm>
            <a:off x="3411360" y="3044880"/>
            <a:ext cx="1146240" cy="10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3094200" y="2730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8"/>
          <p:cNvSpPr/>
          <p:nvPr/>
        </p:nvSpPr>
        <p:spPr>
          <a:xfrm>
            <a:off x="3873600" y="4106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4559400" y="3801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4197240" y="4075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8"/>
          <p:cNvSpPr/>
          <p:nvPr/>
        </p:nvSpPr>
        <p:spPr>
          <a:xfrm>
            <a:off x="3746520" y="4560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.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35"/>
          <p:cNvSpPr/>
          <p:nvPr/>
        </p:nvSpPr>
        <p:spPr>
          <a:xfrm>
            <a:off x="3425760" y="3048120"/>
            <a:ext cx="5724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36"/>
          <p:cNvSpPr/>
          <p:nvPr/>
        </p:nvSpPr>
        <p:spPr>
          <a:xfrm flipH="1">
            <a:off x="3468240" y="4064040"/>
            <a:ext cx="5223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31320" bIns="-31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38"/>
          <p:cNvSpPr/>
          <p:nvPr/>
        </p:nvSpPr>
        <p:spPr>
          <a:xfrm flipV="1">
            <a:off x="3483000" y="3943080"/>
            <a:ext cx="174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1040" bIns="-41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39"/>
          <p:cNvSpPr/>
          <p:nvPr/>
        </p:nvSpPr>
        <p:spPr>
          <a:xfrm>
            <a:off x="3657600" y="394812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8"/>
          <p:cNvSpPr/>
          <p:nvPr/>
        </p:nvSpPr>
        <p:spPr>
          <a:xfrm>
            <a:off x="3062160" y="3495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8"/>
          <p:cNvSpPr/>
          <p:nvPr/>
        </p:nvSpPr>
        <p:spPr>
          <a:xfrm>
            <a:off x="3139560" y="393552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AutoShape 4"/>
          <p:cNvSpPr/>
          <p:nvPr/>
        </p:nvSpPr>
        <p:spPr>
          <a:xfrm>
            <a:off x="671400" y="2584440"/>
            <a:ext cx="3310200" cy="1987560"/>
          </a:xfrm>
          <a:prstGeom prst="rtTriangle">
            <a:avLst/>
          </a:prstGeom>
          <a:solidFill>
            <a:srgbClr val="ee6e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b4a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8"/>
          <p:cNvSpPr/>
          <p:nvPr/>
        </p:nvSpPr>
        <p:spPr>
          <a:xfrm>
            <a:off x="4037400" y="414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8"/>
          <p:cNvSpPr/>
          <p:nvPr/>
        </p:nvSpPr>
        <p:spPr>
          <a:xfrm>
            <a:off x="479880" y="2035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8"/>
          <p:cNvSpPr/>
          <p:nvPr/>
        </p:nvSpPr>
        <p:spPr>
          <a:xfrm>
            <a:off x="232200" y="421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8"/>
              <p:cNvSpPr txBox="1"/>
              <p:nvPr/>
            </p:nvSpPr>
            <p:spPr>
              <a:xfrm>
                <a:off x="4692600" y="1420920"/>
                <a:ext cx="266868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9" name="Text Box 8"/>
          <p:cNvSpPr/>
          <p:nvPr/>
        </p:nvSpPr>
        <p:spPr>
          <a:xfrm>
            <a:off x="219600" y="3343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8"/>
          <p:cNvSpPr/>
          <p:nvPr/>
        </p:nvSpPr>
        <p:spPr>
          <a:xfrm>
            <a:off x="19807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WordArt 13"/>
          <p:cNvSpPr txBox="1"/>
          <p:nvPr/>
        </p:nvSpPr>
        <p:spPr>
          <a:xfrm>
            <a:off x="298440" y="433440"/>
            <a:ext cx="8429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2060"/>
                </a:solidFill>
                <a:latin typeface="Times New Roman"/>
              </a:rPr>
              <a:t>Площадь прямоугольного треугольник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1232" name="Text Box 8"/>
          <p:cNvSpPr/>
          <p:nvPr/>
        </p:nvSpPr>
        <p:spPr>
          <a:xfrm>
            <a:off x="479880" y="2035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8"/>
          <p:cNvSpPr/>
          <p:nvPr/>
        </p:nvSpPr>
        <p:spPr>
          <a:xfrm>
            <a:off x="232200" y="421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8"/>
          <p:cNvSpPr/>
          <p:nvPr/>
        </p:nvSpPr>
        <p:spPr>
          <a:xfrm>
            <a:off x="4037400" y="414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8"/>
          <p:cNvSpPr/>
          <p:nvPr/>
        </p:nvSpPr>
        <p:spPr>
          <a:xfrm>
            <a:off x="479880" y="2035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8"/>
          <p:cNvSpPr/>
          <p:nvPr/>
        </p:nvSpPr>
        <p:spPr>
          <a:xfrm>
            <a:off x="232200" y="421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AutoShape 4"/>
          <p:cNvSpPr/>
          <p:nvPr/>
        </p:nvSpPr>
        <p:spPr>
          <a:xfrm>
            <a:off x="671400" y="2584440"/>
            <a:ext cx="3310200" cy="1987560"/>
          </a:xfrm>
          <a:prstGeom prst="rtTriangle">
            <a:avLst/>
          </a:prstGeom>
          <a:solidFill>
            <a:srgbClr val="ee6e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b4a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8"/>
          <p:cNvSpPr/>
          <p:nvPr/>
        </p:nvSpPr>
        <p:spPr>
          <a:xfrm>
            <a:off x="219600" y="3343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8"/>
          <p:cNvSpPr/>
          <p:nvPr/>
        </p:nvSpPr>
        <p:spPr>
          <a:xfrm>
            <a:off x="197964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1"/>
          <p:cNvSpPr/>
          <p:nvPr/>
        </p:nvSpPr>
        <p:spPr>
          <a:xfrm>
            <a:off x="4572000" y="1871640"/>
            <a:ext cx="4572000" cy="28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2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ти площадь треугольника, есл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8 см;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=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м;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3"/>
          <p:cNvSpPr/>
          <p:nvPr/>
        </p:nvSpPr>
        <p:spPr>
          <a:xfrm>
            <a:off x="1596960" y="347760"/>
            <a:ext cx="49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ь устн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8"/>
          <p:cNvSpPr/>
          <p:nvPr/>
        </p:nvSpPr>
        <p:spPr>
          <a:xfrm>
            <a:off x="1974600" y="283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3444840"/>
            <a:ext cx="8167680" cy="1565280"/>
          </a:xfrm>
          <a:prstGeom prst="rect">
            <a:avLst/>
          </a:prstGeom>
          <a:ln w="0">
            <a:noFill/>
          </a:ln>
        </p:spPr>
      </p:pic>
      <p:sp>
        <p:nvSpPr>
          <p:cNvPr id="1244" name="Rectangle 18"/>
          <p:cNvSpPr/>
          <p:nvPr/>
        </p:nvSpPr>
        <p:spPr>
          <a:xfrm>
            <a:off x="2500200" y="142920"/>
            <a:ext cx="3643560" cy="865080"/>
          </a:xfrm>
          <a:prstGeom prst="rect">
            <a:avLst/>
          </a:prstGeom>
          <a:noFill/>
          <a:ln w="5724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1"/>
          <p:cNvSpPr/>
          <p:nvPr/>
        </p:nvSpPr>
        <p:spPr>
          <a:xfrm>
            <a:off x="2195640" y="256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24"/>
              <p:cNvSpPr txBox="1"/>
              <p:nvPr/>
            </p:nvSpPr>
            <p:spPr>
              <a:xfrm>
                <a:off x="3203640" y="189000"/>
                <a:ext cx="2192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Line 25"/>
          <p:cNvSpPr/>
          <p:nvPr/>
        </p:nvSpPr>
        <p:spPr>
          <a:xfrm flipH="1">
            <a:off x="2136600" y="2637000"/>
            <a:ext cx="430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26"/>
          <p:cNvSpPr/>
          <p:nvPr/>
        </p:nvSpPr>
        <p:spPr>
          <a:xfrm flipV="1">
            <a:off x="2124000" y="1268280"/>
            <a:ext cx="2448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Line 27"/>
          <p:cNvSpPr/>
          <p:nvPr/>
        </p:nvSpPr>
        <p:spPr>
          <a:xfrm>
            <a:off x="4572000" y="1268280"/>
            <a:ext cx="1871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Line 28"/>
          <p:cNvSpPr/>
          <p:nvPr/>
        </p:nvSpPr>
        <p:spPr>
          <a:xfrm>
            <a:off x="4545000" y="1268280"/>
            <a:ext cx="0" cy="13687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29"/>
          <p:cNvSpPr/>
          <p:nvPr/>
        </p:nvSpPr>
        <p:spPr>
          <a:xfrm flipH="1">
            <a:off x="2117880" y="2637000"/>
            <a:ext cx="432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30"/>
          <p:cNvSpPr/>
          <p:nvPr/>
        </p:nvSpPr>
        <p:spPr>
          <a:xfrm flipV="1">
            <a:off x="2124000" y="1268280"/>
            <a:ext cx="2448000" cy="13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31"/>
          <p:cNvSpPr/>
          <p:nvPr/>
        </p:nvSpPr>
        <p:spPr>
          <a:xfrm>
            <a:off x="4572000" y="1268280"/>
            <a:ext cx="1871640" cy="13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161928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65964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457200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2600280" y="22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550872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3708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457200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4572000" y="19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Object 40"/>
              <p:cNvSpPr txBox="1"/>
              <p:nvPr/>
            </p:nvSpPr>
            <p:spPr>
              <a:xfrm>
                <a:off x="1712880" y="5048280"/>
                <a:ext cx="664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но из прямоугольного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реугольника ADC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3" name="Rectangle 42"/>
          <p:cNvSpPr/>
          <p:nvPr/>
        </p:nvSpPr>
        <p:spPr>
          <a:xfrm>
            <a:off x="306108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Arc 23"/>
          <p:cNvSpPr/>
          <p:nvPr/>
        </p:nvSpPr>
        <p:spPr>
          <a:xfrm>
            <a:off x="2467080" y="2438280"/>
            <a:ext cx="88920" cy="189000"/>
          </a:xfrm>
          <a:custGeom>
            <a:avLst/>
            <a:gdLst>
              <a:gd name="textAreaLeft" fmla="*/ 0 w 88920"/>
              <a:gd name="textAreaRight" fmla="*/ 89280 w 889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21"/>
          <p:cNvSpPr/>
          <p:nvPr/>
        </p:nvSpPr>
        <p:spPr>
          <a:xfrm>
            <a:off x="681120" y="3179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25"/>
          <p:cNvSpPr/>
          <p:nvPr/>
        </p:nvSpPr>
        <p:spPr>
          <a:xfrm flipH="1">
            <a:off x="622080" y="3251160"/>
            <a:ext cx="430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26"/>
          <p:cNvSpPr/>
          <p:nvPr/>
        </p:nvSpPr>
        <p:spPr>
          <a:xfrm flipV="1">
            <a:off x="609480" y="1882440"/>
            <a:ext cx="244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27"/>
          <p:cNvSpPr/>
          <p:nvPr/>
        </p:nvSpPr>
        <p:spPr>
          <a:xfrm>
            <a:off x="3057480" y="1882800"/>
            <a:ext cx="187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29"/>
          <p:cNvSpPr/>
          <p:nvPr/>
        </p:nvSpPr>
        <p:spPr>
          <a:xfrm flipH="1">
            <a:off x="603360" y="3251160"/>
            <a:ext cx="4325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30"/>
          <p:cNvSpPr/>
          <p:nvPr/>
        </p:nvSpPr>
        <p:spPr>
          <a:xfrm flipV="1">
            <a:off x="609480" y="1882440"/>
            <a:ext cx="244800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31"/>
          <p:cNvSpPr/>
          <p:nvPr/>
        </p:nvSpPr>
        <p:spPr>
          <a:xfrm>
            <a:off x="3057480" y="1882800"/>
            <a:ext cx="187164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35"/>
          <p:cNvSpPr/>
          <p:nvPr/>
        </p:nvSpPr>
        <p:spPr>
          <a:xfrm>
            <a:off x="1028880" y="2905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36"/>
          <p:cNvSpPr/>
          <p:nvPr/>
        </p:nvSpPr>
        <p:spPr>
          <a:xfrm>
            <a:off x="3994200" y="2027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37"/>
          <p:cNvSpPr/>
          <p:nvPr/>
        </p:nvSpPr>
        <p:spPr>
          <a:xfrm>
            <a:off x="2193840" y="3395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42"/>
          <p:cNvSpPr/>
          <p:nvPr/>
        </p:nvSpPr>
        <p:spPr>
          <a:xfrm>
            <a:off x="1546200" y="209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reeform 21"/>
          <p:cNvSpPr/>
          <p:nvPr/>
        </p:nvSpPr>
        <p:spPr>
          <a:xfrm>
            <a:off x="928800" y="3076560"/>
            <a:ext cx="112680" cy="174600"/>
          </a:xfrm>
          <a:custGeom>
            <a:avLst/>
            <a:gdLst>
              <a:gd name="textAreaLeft" fmla="*/ 0 w 112680"/>
              <a:gd name="textAreaRight" fmla="*/ 113040 w 1126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0" y="0"/>
                </a:moveTo>
                <a:cubicBezTo>
                  <a:pt x="71" y="17"/>
                  <a:pt x="55" y="29"/>
                  <a:pt x="55" y="1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23"/>
          <p:cNvSpPr/>
          <p:nvPr/>
        </p:nvSpPr>
        <p:spPr>
          <a:xfrm>
            <a:off x="1639800" y="279360"/>
            <a:ext cx="49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ь устн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24"/>
          <p:cNvSpPr/>
          <p:nvPr/>
        </p:nvSpPr>
        <p:spPr>
          <a:xfrm>
            <a:off x="5124600" y="1092240"/>
            <a:ext cx="343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=12 см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=9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м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ɣ=30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25"/>
          <p:cNvSpPr/>
          <p:nvPr/>
        </p:nvSpPr>
        <p:spPr>
          <a:xfrm>
            <a:off x="406440" y="110340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26"/>
          <p:cNvSpPr/>
          <p:nvPr/>
        </p:nvSpPr>
        <p:spPr>
          <a:xfrm>
            <a:off x="420840" y="41227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ine 27"/>
          <p:cNvSpPr/>
          <p:nvPr/>
        </p:nvSpPr>
        <p:spPr>
          <a:xfrm flipH="1">
            <a:off x="696960" y="4890960"/>
            <a:ext cx="682560" cy="12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Line 28"/>
          <p:cNvSpPr/>
          <p:nvPr/>
        </p:nvSpPr>
        <p:spPr>
          <a:xfrm>
            <a:off x="711360" y="6168960"/>
            <a:ext cx="25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Line 29"/>
          <p:cNvSpPr/>
          <p:nvPr/>
        </p:nvSpPr>
        <p:spPr>
          <a:xfrm>
            <a:off x="1363680" y="4890960"/>
            <a:ext cx="1946160" cy="12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35"/>
          <p:cNvSpPr/>
          <p:nvPr/>
        </p:nvSpPr>
        <p:spPr>
          <a:xfrm>
            <a:off x="811080" y="582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5"/>
          <p:cNvSpPr/>
          <p:nvPr/>
        </p:nvSpPr>
        <p:spPr>
          <a:xfrm>
            <a:off x="1262160" y="51246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35"/>
          <p:cNvSpPr/>
          <p:nvPr/>
        </p:nvSpPr>
        <p:spPr>
          <a:xfrm>
            <a:off x="2451240" y="5821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Freeform 34"/>
          <p:cNvSpPr/>
          <p:nvPr/>
        </p:nvSpPr>
        <p:spPr>
          <a:xfrm>
            <a:off x="784080" y="6008760"/>
            <a:ext cx="87480" cy="160200"/>
          </a:xfrm>
          <a:custGeom>
            <a:avLst/>
            <a:gdLst>
              <a:gd name="textAreaLeft" fmla="*/ 0 w 87480"/>
              <a:gd name="textAreaRight" fmla="*/ 87840 w 87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5" h="101">
                <a:moveTo>
                  <a:pt x="0" y="0"/>
                </a:moveTo>
                <a:cubicBezTo>
                  <a:pt x="9" y="3"/>
                  <a:pt x="22" y="1"/>
                  <a:pt x="27" y="9"/>
                </a:cubicBezTo>
                <a:cubicBezTo>
                  <a:pt x="35" y="20"/>
                  <a:pt x="55" y="78"/>
                  <a:pt x="55" y="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Freeform 36"/>
          <p:cNvSpPr/>
          <p:nvPr/>
        </p:nvSpPr>
        <p:spPr>
          <a:xfrm>
            <a:off x="1292400" y="5037120"/>
            <a:ext cx="245880" cy="44640"/>
          </a:xfrm>
          <a:custGeom>
            <a:avLst/>
            <a:gdLst>
              <a:gd name="textAreaLeft" fmla="*/ 0 w 245880"/>
              <a:gd name="textAreaRight" fmla="*/ 246240 w 2458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55" h="28">
                <a:moveTo>
                  <a:pt x="0" y="9"/>
                </a:moveTo>
                <a:cubicBezTo>
                  <a:pt x="56" y="28"/>
                  <a:pt x="30" y="23"/>
                  <a:pt x="128" y="9"/>
                </a:cubicBezTo>
                <a:cubicBezTo>
                  <a:pt x="137" y="8"/>
                  <a:pt x="155" y="0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Arc 40"/>
          <p:cNvSpPr/>
          <p:nvPr/>
        </p:nvSpPr>
        <p:spPr>
          <a:xfrm flipV="1">
            <a:off x="1233360" y="5077800"/>
            <a:ext cx="435240" cy="88920"/>
          </a:xfrm>
          <a:custGeom>
            <a:avLst/>
            <a:gdLst>
              <a:gd name="textAreaLeft" fmla="*/ 0 w 435240"/>
              <a:gd name="textAreaRight" fmla="*/ 435600 w 435240"/>
              <a:gd name="textAreaTop" fmla="*/ -360 h 88920"/>
              <a:gd name="textAreaBottom" fmla="*/ 88920 h 88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Arc 41"/>
          <p:cNvSpPr/>
          <p:nvPr/>
        </p:nvSpPr>
        <p:spPr>
          <a:xfrm flipH="1">
            <a:off x="2902680" y="5965920"/>
            <a:ext cx="101880" cy="217440"/>
          </a:xfrm>
          <a:custGeom>
            <a:avLst/>
            <a:gdLst>
              <a:gd name="textAreaLeft" fmla="*/ -360 w 101880"/>
              <a:gd name="textAreaRight" fmla="*/ 101880 w 1018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Arc 42"/>
          <p:cNvSpPr/>
          <p:nvPr/>
        </p:nvSpPr>
        <p:spPr>
          <a:xfrm flipH="1">
            <a:off x="2801880" y="5907240"/>
            <a:ext cx="101520" cy="261720"/>
          </a:xfrm>
          <a:custGeom>
            <a:avLst/>
            <a:gdLst>
              <a:gd name="textAreaLeft" fmla="*/ 360 w 101520"/>
              <a:gd name="textAreaRight" fmla="*/ 102240 w 10152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Arc 43"/>
          <p:cNvSpPr/>
          <p:nvPr/>
        </p:nvSpPr>
        <p:spPr>
          <a:xfrm flipH="1">
            <a:off x="3001320" y="6037200"/>
            <a:ext cx="88920" cy="146160"/>
          </a:xfrm>
          <a:custGeom>
            <a:avLst/>
            <a:gdLst>
              <a:gd name="textAreaLeft" fmla="*/ -360 w 88920"/>
              <a:gd name="textAreaRight" fmla="*/ 88920 w 88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36"/>
          <p:cNvSpPr/>
          <p:nvPr/>
        </p:nvSpPr>
        <p:spPr>
          <a:xfrm>
            <a:off x="2193840" y="510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37"/>
          <p:cNvSpPr/>
          <p:nvPr/>
        </p:nvSpPr>
        <p:spPr>
          <a:xfrm>
            <a:off x="1584360" y="618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42"/>
          <p:cNvSpPr/>
          <p:nvPr/>
        </p:nvSpPr>
        <p:spPr>
          <a:xfrm>
            <a:off x="633240" y="517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7"/>
          <p:cNvSpPr/>
          <p:nvPr/>
        </p:nvSpPr>
        <p:spPr>
          <a:xfrm>
            <a:off x="5037120" y="4902120"/>
            <a:ext cx="344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0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ɣ=70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=1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см, 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48"/>
          <p:cNvSpPr/>
          <p:nvPr/>
        </p:nvSpPr>
        <p:spPr>
          <a:xfrm>
            <a:off x="5311800" y="2441520"/>
            <a:ext cx="3832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=27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м</a:t>
            </a:r>
            <a:r>
              <a:rPr b="1" lang="ru-RU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9"/>
          <p:cNvSpPr/>
          <p:nvPr/>
        </p:nvSpPr>
        <p:spPr>
          <a:xfrm>
            <a:off x="5311800" y="5997600"/>
            <a:ext cx="3832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=2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м</a:t>
            </a:r>
            <a:r>
              <a:rPr b="1" lang="ru-RU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Прямая соединительная линия 2"/>
          <p:cNvSpPr/>
          <p:nvPr/>
        </p:nvSpPr>
        <p:spPr>
          <a:xfrm>
            <a:off x="3952080" y="1149480"/>
            <a:ext cx="1047960" cy="2373120"/>
          </a:xfrm>
          <a:prstGeom prst="line">
            <a:avLst/>
          </a:prstGeom>
          <a:ln w="2556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Прямая соединительная линия 3"/>
          <p:cNvSpPr/>
          <p:nvPr/>
        </p:nvSpPr>
        <p:spPr>
          <a:xfrm flipH="1">
            <a:off x="463680" y="1149480"/>
            <a:ext cx="3489120" cy="2373120"/>
          </a:xfrm>
          <a:prstGeom prst="line">
            <a:avLst/>
          </a:prstGeom>
          <a:ln w="2556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Прямая соединительная линия 4"/>
          <p:cNvSpPr/>
          <p:nvPr/>
        </p:nvSpPr>
        <p:spPr>
          <a:xfrm>
            <a:off x="463680" y="3522600"/>
            <a:ext cx="4537080" cy="3240"/>
          </a:xfrm>
          <a:prstGeom prst="line">
            <a:avLst/>
          </a:prstGeom>
          <a:ln w="2556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20"/>
          <p:cNvSpPr/>
          <p:nvPr/>
        </p:nvSpPr>
        <p:spPr>
          <a:xfrm>
            <a:off x="2819160" y="3532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21"/>
          <p:cNvSpPr/>
          <p:nvPr/>
        </p:nvSpPr>
        <p:spPr>
          <a:xfrm>
            <a:off x="1812960" y="1930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2"/>
          <p:cNvSpPr/>
          <p:nvPr/>
        </p:nvSpPr>
        <p:spPr>
          <a:xfrm>
            <a:off x="4561920" y="194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15"/>
          <p:cNvSpPr/>
          <p:nvPr/>
        </p:nvSpPr>
        <p:spPr>
          <a:xfrm>
            <a:off x="1596960" y="347760"/>
            <a:ext cx="49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ормула Герон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Object 19"/>
              <p:cNvSpPr txBox="1"/>
              <p:nvPr/>
            </p:nvSpPr>
            <p:spPr>
              <a:xfrm>
                <a:off x="449280" y="4191120"/>
                <a:ext cx="84121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Text Box 4"/>
          <p:cNvSpPr/>
          <p:nvPr/>
        </p:nvSpPr>
        <p:spPr>
          <a:xfrm>
            <a:off x="422280" y="347760"/>
            <a:ext cx="8331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йдите площадь треугольника, стороны     которого  равны 26 см, 28 см и 30 см. Найдите высоту, проведенную к большей стороне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Group 19"/>
          <p:cNvGrpSpPr/>
          <p:nvPr/>
        </p:nvGrpSpPr>
        <p:grpSpPr>
          <a:xfrm>
            <a:off x="1582560" y="2220840"/>
            <a:ext cx="5176800" cy="4334040"/>
            <a:chOff x="1582560" y="2220840"/>
            <a:chExt cx="5176800" cy="4334040"/>
          </a:xfrm>
        </p:grpSpPr>
        <p:sp>
          <p:nvSpPr>
            <p:cNvPr id="1309" name="Text Box 7"/>
            <p:cNvSpPr/>
            <p:nvPr/>
          </p:nvSpPr>
          <p:spPr>
            <a:xfrm>
              <a:off x="1582560" y="2220840"/>
              <a:ext cx="3120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ешение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0" name="Object 9"/>
                <p:cNvSpPr txBox="1"/>
                <p:nvPr/>
              </p:nvSpPr>
              <p:spPr>
                <a:xfrm>
                  <a:off x="1644480" y="2809800"/>
                  <a:ext cx="489096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Дан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треугольник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а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его 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тороны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а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6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, 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с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1" name="Object 11"/>
                <p:cNvSpPr txBox="1"/>
                <p:nvPr/>
              </p:nvSpPr>
              <p:spPr>
                <a:xfrm>
                  <a:off x="1655280" y="3567240"/>
                  <a:ext cx="464184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-a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-b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-c</m:t>
                          </m:r>
                          <m:r>
                            <m:t xml:space="preserve">)</m:t>
                          </m:r>
                        </m:e>
                      </m:rad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2" name="Object 12"/>
                <p:cNvSpPr txBox="1"/>
                <p:nvPr/>
              </p:nvSpPr>
              <p:spPr>
                <a:xfrm>
                  <a:off x="1603080" y="4114800"/>
                  <a:ext cx="5156280" cy="244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6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-26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-28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-30</m:t>
                              </m:r>
                              <m:r>
                                <m:t xml:space="preserve">)</m:t>
                              </m:r>
                            </m:e>
                          </m:ra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·16·14·12</m:t>
                              </m:r>
                            </m:e>
                          </m:rad>
                          <m:r>
                            <m:t xml:space="preserve">=</m:t>
                          </m:r>
                        </m:e>
                        <m:e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·3·16·14·3·4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rPr>
                              <m:lit/>
                              <m:nor/>
                            </m:rPr>
                            <m:t xml:space="preserve">·3·4·2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36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м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b>
                            <m:e>
                              <m:r>
                                <m:t xml:space="preserve">ch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·336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Ответ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336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м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31"/>
          <p:cNvSpPr/>
          <p:nvPr/>
        </p:nvSpPr>
        <p:spPr>
          <a:xfrm>
            <a:off x="4357800" y="1285920"/>
            <a:ext cx="4643280" cy="1152360"/>
          </a:xfrm>
          <a:prstGeom prst="rect">
            <a:avLst/>
          </a:prstGeom>
          <a:noFill/>
          <a:ln w="5724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2"/>
          <p:cNvSpPr/>
          <p:nvPr/>
        </p:nvSpPr>
        <p:spPr>
          <a:xfrm>
            <a:off x="18072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5" name="Object 27"/>
              <p:cNvSpPr txBox="1"/>
              <p:nvPr/>
            </p:nvSpPr>
            <p:spPr>
              <a:xfrm>
                <a:off x="2448000" y="4702320"/>
                <a:ext cx="50767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-  </m:t>
                        </m:r>
                        <m:r>
                          <m:rPr>
                            <m:lit/>
                            <m:nor/>
                          </m:rPr>
                          <m:t xml:space="preserve">радиус</m:t>
                        </m:r>
                        <m:r>
                          <m:rPr>
                            <m:lit/>
                            <m:nor/>
                          </m:rPr>
                          <m:t xml:space="preserve">вписанной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6" name="Овал 6"/>
          <p:cNvSpPr/>
          <p:nvPr/>
        </p:nvSpPr>
        <p:spPr>
          <a:xfrm>
            <a:off x="2311560" y="1873080"/>
            <a:ext cx="1871640" cy="1873440"/>
          </a:xfrm>
          <a:prstGeom prst="ellipse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Group 28"/>
          <p:cNvGrpSpPr/>
          <p:nvPr/>
        </p:nvGrpSpPr>
        <p:grpSpPr>
          <a:xfrm>
            <a:off x="684000" y="1268280"/>
            <a:ext cx="4225680" cy="2576160"/>
            <a:chOff x="684000" y="1268280"/>
            <a:chExt cx="4225680" cy="2576160"/>
          </a:xfrm>
        </p:grpSpPr>
        <p:sp>
          <p:nvSpPr>
            <p:cNvPr id="1318" name="Прямая соединительная линия 3"/>
            <p:cNvSpPr/>
            <p:nvPr/>
          </p:nvSpPr>
          <p:spPr>
            <a:xfrm>
              <a:off x="3501360" y="1268280"/>
              <a:ext cx="1408320" cy="2480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Прямая соединительная линия 5"/>
            <p:cNvSpPr/>
            <p:nvPr/>
          </p:nvSpPr>
          <p:spPr>
            <a:xfrm flipH="1">
              <a:off x="684000" y="1268280"/>
              <a:ext cx="2817000" cy="25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Прямая соединительная линия 11"/>
            <p:cNvSpPr/>
            <p:nvPr/>
          </p:nvSpPr>
          <p:spPr>
            <a:xfrm flipV="1">
              <a:off x="684360" y="3748320"/>
              <a:ext cx="4225320" cy="95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Прямая соединительная линия 23"/>
          <p:cNvSpPr/>
          <p:nvPr/>
        </p:nvSpPr>
        <p:spPr>
          <a:xfrm flipH="1">
            <a:off x="3295800" y="1268280"/>
            <a:ext cx="195120" cy="1548000"/>
          </a:xfrm>
          <a:prstGeom prst="line">
            <a:avLst/>
          </a:prstGeom>
          <a:ln w="381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Прямая соединительная линия 25"/>
          <p:cNvSpPr/>
          <p:nvPr/>
        </p:nvSpPr>
        <p:spPr>
          <a:xfrm>
            <a:off x="3295800" y="2816280"/>
            <a:ext cx="1563480" cy="87948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Прямая соединительная линия 27"/>
          <p:cNvSpPr/>
          <p:nvPr/>
        </p:nvSpPr>
        <p:spPr>
          <a:xfrm flipH="1">
            <a:off x="755640" y="2815560"/>
            <a:ext cx="2540160" cy="97308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Прямая соединительная линия 31"/>
          <p:cNvSpPr/>
          <p:nvPr/>
        </p:nvSpPr>
        <p:spPr>
          <a:xfrm flipV="1">
            <a:off x="3298680" y="2444400"/>
            <a:ext cx="841680" cy="382680"/>
          </a:xfrm>
          <a:prstGeom prst="line">
            <a:avLst/>
          </a:prstGeom>
          <a:ln cap="rnd" w="2232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Прямая соединительная линия 45"/>
          <p:cNvSpPr/>
          <p:nvPr/>
        </p:nvSpPr>
        <p:spPr>
          <a:xfrm>
            <a:off x="2483640" y="2133720"/>
            <a:ext cx="808200" cy="717480"/>
          </a:xfrm>
          <a:prstGeom prst="line">
            <a:avLst/>
          </a:prstGeom>
          <a:ln cap="rnd" w="2232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Прямая соединительная линия 47"/>
          <p:cNvSpPr/>
          <p:nvPr/>
        </p:nvSpPr>
        <p:spPr>
          <a:xfrm flipH="1">
            <a:off x="3268800" y="2857680"/>
            <a:ext cx="31680" cy="931680"/>
          </a:xfrm>
          <a:prstGeom prst="line">
            <a:avLst/>
          </a:prstGeom>
          <a:ln cap="rnd" w="2232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3"/>
          <p:cNvSpPr/>
          <p:nvPr/>
        </p:nvSpPr>
        <p:spPr>
          <a:xfrm>
            <a:off x="378180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34"/>
          <p:cNvSpPr/>
          <p:nvPr/>
        </p:nvSpPr>
        <p:spPr>
          <a:xfrm>
            <a:off x="500544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5"/>
          <p:cNvSpPr/>
          <p:nvPr/>
        </p:nvSpPr>
        <p:spPr>
          <a:xfrm>
            <a:off x="2988720" y="2924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2"/>
          <p:cNvSpPr/>
          <p:nvPr/>
        </p:nvSpPr>
        <p:spPr>
          <a:xfrm>
            <a:off x="2773440" y="2060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1" name="Object 25"/>
              <p:cNvSpPr txBox="1"/>
              <p:nvPr/>
            </p:nvSpPr>
            <p:spPr>
              <a:xfrm>
                <a:off x="4486320" y="1405080"/>
                <a:ext cx="44863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рr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2" name="Text Box 26"/>
          <p:cNvSpPr/>
          <p:nvPr/>
        </p:nvSpPr>
        <p:spPr>
          <a:xfrm>
            <a:off x="668160" y="3963960"/>
            <a:ext cx="80550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лощадь треугольника равна произведению полупериметра треугольника на радиус вписанной в него окружности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7"/>
          <p:cNvSpPr/>
          <p:nvPr/>
        </p:nvSpPr>
        <p:spPr>
          <a:xfrm>
            <a:off x="-100080" y="171360"/>
            <a:ext cx="9578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лощадь треугольника через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диус вписанной в него окружност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Елена Ванденко</cp:lastModifiedBy>
  <dcterms:modified xsi:type="dcterms:W3CDTF">2021-11-17T14:15:25Z</dcterms:modified>
  <cp:revision>216</cp:revision>
  <dc:subject/>
  <dc:title>Презентация PowerPoint</dc:title>
</cp:coreProperties>
</file>