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8BD-02CB-46CA-B1A2-F13B0C4D1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6750-23C3-4381-B131-F20F5B62B5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BF4-3187-435A-8AF5-4DC81BD9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832-8CC9-461E-9DC5-B4D0652A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FBB4C-F9DE-4B24-BD53-BABDF990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C4D55-944D-4C9D-BB72-E5FF4FCD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F7AFD-EA60-454F-8D2E-EDFF9A57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548FD-64B8-4C49-BCA3-C64F9C1E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2B0F7-8BA5-4678-80E1-27951958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BBAB0-814A-4FE2-8827-4B55A864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92D6D-37BA-44E8-85B7-C890771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ECCBA-CB3C-4860-AE25-19327828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39B4B-F52E-4B2D-8AA5-194CEB4C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83E5A-C10D-478D-9218-5CB90C2D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C41-0C87-4818-A2A2-7F696F7E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5E1E5-918C-48DC-8021-DC926A89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59798-A852-4921-9E71-5CE2F3E6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603DC-7002-44B3-81EF-856D69AF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30E52-6D8A-4724-A219-1C0B9D8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B3425-9D66-4D0D-83C3-8D858794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BAAC0-035B-46E3-A53C-7456783F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65C9E-EB10-4334-8CB2-91446D8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C2090-B0C3-444B-AA52-E5C801D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36D22-98A5-4F68-B2FB-4915EC9A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3E213-3159-4687-843E-76E00885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AA8-7E2F-42E2-9A93-7DE735AA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DBC7E-486E-471D-B558-C4248F6C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78244-A52C-44A5-9F32-B8A556B0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C80EC-2A55-4BEB-816D-313A3FA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B7CAD-F332-4D99-9C21-36E87271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87226-1997-4CD6-BDAB-E363A7A8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4A184-6A06-49C1-8E4C-27E90E50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8E60-4AE3-408B-8F53-D4BB3BA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802D8-A308-4608-A321-89340F49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D1980-F4B1-4600-A2C0-DC8BA9B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1F2CA-A28E-4F07-BB84-D9515A93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87B3-50E1-4584-8005-3ACE7FC4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4EDFD-590C-4E24-9A9E-143016D9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A4192-9D61-4979-B801-BD5C58F0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EE16D-DE15-4733-A07B-3B5D0196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5E759-DBF0-43BE-8BAD-FBC5B4CB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D131E-B63F-4FE9-9ED3-573B738C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7D506-1BB2-47D0-BCFE-85821029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0C6EF-12D2-4A71-BB7E-356ABFD8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47518-1E5D-4809-8D45-8413F1A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AF14C-B478-4144-90E8-61F0A115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B9DCE-5DE7-42ED-80A4-65A635FA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EE5F-F8F2-4CB7-A65D-8FA21BF3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5D54E-0CD7-4577-9C42-34CF907D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4BA07-0CCB-499C-AD64-9D6F79DA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5437A-AB74-4A58-AFA4-7D0C17D6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F584E-7FFE-4655-9596-C286CA21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5A7E7-D75F-48C8-80CC-5B30E275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5B3A9-7E46-4723-8CB0-7785A81E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FC21A-8480-4978-8C1B-BC43A726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F83E8-7701-401B-B28D-9B760A84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EB089-D3A2-498B-9AC7-4D7575FC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A25EE-5F8C-44E9-A94E-23B5C157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717-2447-4669-87AF-71BC2F59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68DCF-A928-40FB-8727-8FA8CC6E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A7198-E488-4DC9-9C30-BE39E5F4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EEE44-B109-481A-B395-15FB1CF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D5314-59F9-4B67-B397-6A65169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E8DAA-D190-4D42-A4D8-1BA0623E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6021B-C1F8-4336-BDBB-E81507E8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9256D-39BA-4727-92CE-D9C8DEE7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C432B-B11E-48D3-BA2C-B0FC5310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0A162-F11E-48A1-B694-629FD53A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84309-D601-4BF2-B959-D117C8F7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8333-D1F3-40FD-8E39-F6E464F6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EC912-B042-44D4-B2A1-2B086F46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1482F-2F3C-437A-BDF3-785A7F7B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A9076-1936-4D4D-B657-713EC9FC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ECB6B-6040-401A-A06B-44EEAB38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16F7A-7B42-44E1-B760-4310F06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257BA-F6B5-42FB-A46E-5A33628A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7A881-9623-4454-96A3-59FDCB9D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65388-8C89-49EA-B84B-5981ED43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3AE94-719E-40E8-8E7C-F319F5A8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DB6F34-FC76-423B-BC00-89BB1F32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CE59-21BE-4799-9609-3020278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06421-474E-4674-9685-84FBEA9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5FE74-22F1-4C4D-A0D1-92F54088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B982F-51D6-450C-A5B9-7398A2B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506CD-14E7-495F-99DF-79310080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2DE80-FBEA-4090-837C-25E5C548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E33D8-C89E-49AB-B0B8-4C2CD13E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6FCD7-CAFB-493A-A752-85734AB4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9ABA7-37E3-44A0-8E1A-93E3BC0D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5E651-100B-4B53-AE6C-DD662A4A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C3E75-3C9F-4CAD-95E4-5A47088A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9F4A-59CE-40CD-9146-B6734C49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26221-E8CA-4BFB-A2A2-E05E1906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C1C7A-93D1-49C0-84CD-E5621EEE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8E777-97E6-4A04-877F-AFB3A216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A295E-79F5-4B30-AF24-8A1166F4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8BDEA-9540-42F8-A9DB-5F43A8BC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367F8-579D-4D78-A146-F37319E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F11FA-098C-4F68-8635-F3FA56D1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E1A4F-5A36-4380-A8A7-53E11F5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85E42-4327-489F-A7FD-D592754C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E79DC9-B6F7-4FCC-BDED-A163E492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84ED-0935-4286-B383-CCFAAC4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20D69-0CF9-443B-918B-D01DCC96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96812-349B-405A-842E-158DA241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101EA-5585-4DFD-9365-38118F0C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407EB5-15CE-4682-9F40-B792F563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CF7D5-3FF2-414C-B6D7-72F90502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C51F2-DF10-46EC-8CC9-E93F96B2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B8D86-AE20-4790-8091-FEF7CBB6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5B9B3-F4B8-43A7-B44A-DEDF4E4C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4AE1A-D793-4DDF-A5F5-7244634D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68C53-81C0-44B6-8E8A-146D717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AD6-D0D9-42AA-8DCA-DE7A2609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F8E9-A772-4479-8879-46E37F1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9C7FF-7DA7-41F5-8367-DA90BD0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1E739-289A-41DE-87DA-14F8142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17AE8-E53C-488B-AEAB-685BADBC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7C929-F1C5-4969-99D8-8060AA3A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A2F0D-1616-47B9-977C-9DDCCA29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3486-A68E-4265-80C3-0AC3A1D8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E28A-E4F8-4C2B-9078-1A915013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2D6D-E5F0-46AF-9B6D-AB78A749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7271-3500-439E-9DDD-A09F62BA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FB4D-F385-474F-9582-3B13F76D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8830-3431-419C-BCC1-19D89A82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D029-8A5B-4245-8E85-8941AD75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9A62-B972-47BF-B09C-F9AFB902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9CC98-B05B-48A8-BBE0-7AD8451D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DF3-ADFF-4652-A210-8E8BC869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539F-3622-44BF-A99D-DC11AF73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1C63-3C10-4456-AE4E-5457AD0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41A4-3FC0-4722-B337-A850268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D427-3F16-4D7B-AEA3-177A18D5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65C3-B50E-4B10-818F-F80B9D3C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634F1-E8D5-425E-AB81-D3669265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CC42-A27E-40DA-BD80-F509765F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0305-F207-4C70-882A-37D19C3C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7F5BB-E02B-4CD5-B58A-B98622F7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81EC-2C67-4D4B-AD89-A7DB6DA2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2DF-BC58-41B5-A3C0-F6590966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06A7-8693-4C60-BDC0-BDC8CD2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F089-1DF9-40BA-AB23-648E7B9F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4D53-0010-4B7B-95EE-54E03E9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C186-2011-4FF9-9617-B7AE62E7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38CA-48FC-437E-AC13-0C78D7A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F349-ADD2-42ED-BBAC-E32EAE8C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5E1B-2AC8-4AA9-BC98-EADE309C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8164-8EE9-42DC-848E-7D5CD255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520B-54C6-4A56-9C41-C53B6BFB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66B6-0AC6-4DEC-9901-5CFC5DF0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197-24FF-42BF-BB7C-35359723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4DCB1-C1C5-4876-8983-A2F3F12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88714-0495-45B1-A7C2-D9187257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1137-529D-405D-8688-41752696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B17B-4DEA-4F75-ACE3-CD3F3074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20636-F8CE-41F6-9286-32951F15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CB68-98D7-41B8-8770-85BC56AA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FEEA3-CFD0-4398-937C-9FD89CF9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5976-C128-4A14-AB1E-70BD33B5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BB674-FB97-4A15-8FB1-F438C106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34A8-30AE-4995-9518-28CD8A33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939-6F55-4337-BD55-4AA0180E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A4855-DC92-41F2-94A2-DA82879E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174D-401B-4A22-8702-F74AA699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BCC78-3901-48B8-B115-4C920F6E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50A4-DDA7-42A1-BD12-550BB64F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4835-DB0D-4291-82E3-F037268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6768E-F264-4E7C-90C8-31A69D0E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1045C-4129-4F1A-A60A-94538E2C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932F8-17C8-434F-82EF-717FB158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E3205-035C-43F4-BC99-4B69E2A6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7E5DD-D4E0-4731-B8AC-23544DD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CEF-D757-488F-8B9B-4D77828B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50C54-512F-478C-B321-27ED3053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7951C-424F-4B27-9286-7F0DB87E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607D-59D5-4A14-BA02-1922F5F3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D4AAA-23E6-4AFE-9F4E-3C17BFC7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B745-8B77-4F0F-9F20-07F28ADD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546B0-D7AF-45F8-ABD8-472E9259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063E7-A711-4472-BDFB-9F1067F1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D854E-421F-41B8-88AD-378C4556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0FECC-3FDF-4B55-81C6-D8CA235F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70A9D-D1F6-4689-B828-8F16BBB7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938-FCE5-47FE-9A20-A48C29B2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3CD1-F8CC-4EE9-BB71-38212283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00A81-6544-4A92-A02D-40C5CCD6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F92E1-446C-412F-A975-AC83EC01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3E32D-97A9-4EC0-A5C1-5D0C6E49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BBB49-81FA-4127-B3FB-549F0CC9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77E20-555C-4B06-9FC7-08F0EEBA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A707B-CCCE-4FD4-809A-34609C4C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A754-1775-410F-9C4F-B7886658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078E1-4D89-47DC-B31D-DA7DD3B5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74249-8A54-403D-B5F5-71EFAD6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8D7-7F20-4B5C-9323-DB60E84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A2281-0A6C-4EB5-86FE-D821A83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CEB85-8933-4415-9D52-93F73E78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ECDBC-403B-40D5-AB76-E7BD2D0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DC47A-CFE3-414F-88C5-B18E1CCD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B4D3A-E3FD-4470-8EF9-5147550C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D129E-2C6B-4C64-8725-D5697005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675B8-B2ED-43A9-A30A-31F0884C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3243A-5B4C-46AD-9EA0-1F40DF6C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52EF7-DCDF-401E-9481-FD5FE49D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FDBB8-87CF-4637-A950-9EC7E2AF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419E-5F99-40E1-B8D7-0FE45AA51BA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43D4-6F0D-41D0-BDD7-5E9ABFE2F1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3DE5-F205-4FF7-9988-515B464565E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0184-3205-48C1-8AAC-7E66966E92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4479-4E54-4548-A46D-4886E613620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7DAD-7989-49F7-9464-C51447649E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B91F-8679-4FA6-B4E7-CA016A45809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3D20-0C2D-44E2-8D53-508D1716E8F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91D1-84E2-429B-B062-6AE1A0CE618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E309-B1B9-4074-A2AA-777A8A1316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80C-D881-442F-9742-8BE7AC36EDD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F493-147F-4273-975F-879310A91D8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C596-D428-4D5A-9FED-7011B40225D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4B4F-32DB-4DF6-8262-A0626767CA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08D9-9D29-4D7E-9655-B08E9551084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E8BC-4E7B-4EE5-9F7E-218ED132C69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DF82-F245-481F-99E2-BAA66DC37C9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3029-A920-4358-A143-6D2C511281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1E33-EBBB-40CD-A736-FB499893A8C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0AA2-7A4D-4FE9-A320-11AF4E1563F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3E2C-7228-4FB7-86C6-806B35F982A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8A39-41E8-490A-BECF-2FF9E47DC5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5B47-206E-45BA-8183-14E34B6A95F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C2A5-F551-4B02-A5E0-7C2C95AE51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2786-23D0-411A-92CE-4558CCB5725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CAD4-37F7-443B-8761-F98CBFC498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92AD-82B3-4B03-9320-0052A271985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C3A9-4832-46CC-93D2-9473026EBF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A460-3E0C-4829-BE45-02FB4704AEE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2270-BA97-4F51-AF4F-8A76E0CAE6C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F753-4303-4459-B427-29909D3F6BC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DAA9-91EA-4430-89FC-EB834F2619E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8267-5609-4DCF-898C-28CD107C080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F25-EF6E-4C40-8A2B-D2FD2FC51C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731960" y="436680"/>
            <a:ext cx="7153200" cy="18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щадь треугольника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Рисунок 1" descr=""/>
          <p:cNvPicPr/>
          <p:nvPr/>
        </p:nvPicPr>
        <p:blipFill>
          <a:blip r:embed="rId1"/>
          <a:stretch/>
        </p:blipFill>
        <p:spPr>
          <a:xfrm>
            <a:off x="557280" y="2658960"/>
            <a:ext cx="306396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Text Box 4"/>
          <p:cNvSpPr/>
          <p:nvPr/>
        </p:nvSpPr>
        <p:spPr>
          <a:xfrm>
            <a:off x="363600" y="1935000"/>
            <a:ext cx="833112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Катеты прямоугольного треугольника 6 см, 8 см. Найдите радиусы описанной и вписанной окруж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ороны треугольника 4 см, 5 см и 7 см. Найти радиус вписанной в треугольник окруж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ороны треугольника 5 см и 8 см, а угол между ними 6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ти радиус окружности, вписанной в треугольник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1233360" y="363600"/>
            <a:ext cx="50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ь самостоятельно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Овал 82"/>
          <p:cNvSpPr/>
          <p:nvPr/>
        </p:nvSpPr>
        <p:spPr>
          <a:xfrm>
            <a:off x="684360" y="1341360"/>
            <a:ext cx="3214440" cy="3286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e7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Group 28"/>
          <p:cNvGrpSpPr/>
          <p:nvPr/>
        </p:nvGrpSpPr>
        <p:grpSpPr>
          <a:xfrm>
            <a:off x="755280" y="1341360"/>
            <a:ext cx="3000600" cy="2216160"/>
            <a:chOff x="755280" y="1341360"/>
            <a:chExt cx="3000600" cy="2216160"/>
          </a:xfrm>
        </p:grpSpPr>
        <p:sp>
          <p:nvSpPr>
            <p:cNvPr id="1338" name="Прямая соединительная линия 60"/>
            <p:cNvSpPr/>
            <p:nvPr/>
          </p:nvSpPr>
          <p:spPr>
            <a:xfrm flipH="1">
              <a:off x="755280" y="1341360"/>
              <a:ext cx="1857240" cy="221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Прямая соединительная линия 62"/>
            <p:cNvSpPr/>
            <p:nvPr/>
          </p:nvSpPr>
          <p:spPr>
            <a:xfrm>
              <a:off x="2612160" y="1341360"/>
              <a:ext cx="1143000" cy="221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Прямая соединительная линия 64"/>
            <p:cNvSpPr/>
            <p:nvPr/>
          </p:nvSpPr>
          <p:spPr>
            <a:xfrm>
              <a:off x="755640" y="3556080"/>
              <a:ext cx="30002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" name="Прямая соединительная линия 70"/>
          <p:cNvSpPr/>
          <p:nvPr/>
        </p:nvSpPr>
        <p:spPr>
          <a:xfrm flipH="1">
            <a:off x="1187280" y="2125800"/>
            <a:ext cx="2657520" cy="157320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Прямая соединительная линия 73"/>
          <p:cNvSpPr/>
          <p:nvPr/>
        </p:nvSpPr>
        <p:spPr>
          <a:xfrm>
            <a:off x="1402560" y="2114640"/>
            <a:ext cx="2017800" cy="180000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Прямая соединительная линия 75"/>
          <p:cNvSpPr/>
          <p:nvPr/>
        </p:nvSpPr>
        <p:spPr>
          <a:xfrm flipV="1">
            <a:off x="2413800" y="1126800"/>
            <a:ext cx="1800" cy="271476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Прямая соединительная линия 77"/>
          <p:cNvSpPr/>
          <p:nvPr/>
        </p:nvSpPr>
        <p:spPr>
          <a:xfrm flipH="1">
            <a:off x="2394000" y="1341360"/>
            <a:ext cx="218880" cy="1638360"/>
          </a:xfrm>
          <a:prstGeom prst="line">
            <a:avLst/>
          </a:prstGeom>
          <a:ln cap="rnd" w="158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Прямая соединительная линия 79"/>
          <p:cNvSpPr/>
          <p:nvPr/>
        </p:nvSpPr>
        <p:spPr>
          <a:xfrm flipH="1" flipV="1">
            <a:off x="2393640" y="2979360"/>
            <a:ext cx="1361880" cy="576360"/>
          </a:xfrm>
          <a:prstGeom prst="line">
            <a:avLst/>
          </a:prstGeom>
          <a:ln cap="rnd" w="158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Прямая соединительная линия 81"/>
          <p:cNvSpPr/>
          <p:nvPr/>
        </p:nvSpPr>
        <p:spPr>
          <a:xfrm flipH="1">
            <a:off x="755280" y="2993400"/>
            <a:ext cx="1639800" cy="561960"/>
          </a:xfrm>
          <a:prstGeom prst="line">
            <a:avLst/>
          </a:prstGeom>
          <a:ln cap="rnd" w="158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Прямоугольник 31"/>
          <p:cNvSpPr/>
          <p:nvPr/>
        </p:nvSpPr>
        <p:spPr>
          <a:xfrm>
            <a:off x="5715000" y="2071800"/>
            <a:ext cx="2357280" cy="1071360"/>
          </a:xfrm>
          <a:prstGeom prst="rect">
            <a:avLst/>
          </a:prstGeom>
          <a:noFill/>
          <a:ln w="5724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3"/>
          <p:cNvSpPr/>
          <p:nvPr/>
        </p:nvSpPr>
        <p:spPr>
          <a:xfrm>
            <a:off x="25236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4"/>
          <p:cNvSpPr/>
          <p:nvPr/>
        </p:nvSpPr>
        <p:spPr>
          <a:xfrm>
            <a:off x="3068280" y="98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35"/>
          <p:cNvSpPr/>
          <p:nvPr/>
        </p:nvSpPr>
        <p:spPr>
          <a:xfrm>
            <a:off x="3851280" y="35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36"/>
          <p:cNvSpPr/>
          <p:nvPr/>
        </p:nvSpPr>
        <p:spPr>
          <a:xfrm>
            <a:off x="2484360" y="2492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Object 25"/>
              <p:cNvSpPr txBox="1"/>
              <p:nvPr/>
            </p:nvSpPr>
            <p:spPr>
              <a:xfrm>
                <a:off x="6084720" y="2133720"/>
                <a:ext cx="1656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Object 26"/>
              <p:cNvSpPr txBox="1"/>
              <p:nvPr/>
            </p:nvSpPr>
            <p:spPr>
              <a:xfrm>
                <a:off x="189000" y="4711680"/>
                <a:ext cx="87105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Мы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знаем, что 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in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 найдем из соотношения</m:t>
                        </m:r>
                      </m:e>
                      <m:e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 </m:t>
                            </m:r>
                            <m:r>
                              <m:t xml:space="preserve">∠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in 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4" name="Text Box 33"/>
          <p:cNvSpPr/>
          <p:nvPr/>
        </p:nvSpPr>
        <p:spPr>
          <a:xfrm>
            <a:off x="140472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25"/>
          <p:cNvSpPr/>
          <p:nvPr/>
        </p:nvSpPr>
        <p:spPr>
          <a:xfrm>
            <a:off x="-100080" y="171360"/>
            <a:ext cx="957888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лощадь треугольника через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диус описанной около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го окружност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6" name="Group 22"/>
          <p:cNvGrpSpPr/>
          <p:nvPr/>
        </p:nvGrpSpPr>
        <p:grpSpPr>
          <a:xfrm>
            <a:off x="1619280" y="1125360"/>
            <a:ext cx="4811040" cy="1519200"/>
            <a:chOff x="1619280" y="1125360"/>
            <a:chExt cx="4811040" cy="1519200"/>
          </a:xfrm>
        </p:grpSpPr>
        <p:sp>
          <p:nvSpPr>
            <p:cNvPr id="1357" name="Прямая соединительная линия 1"/>
            <p:cNvSpPr/>
            <p:nvPr/>
          </p:nvSpPr>
          <p:spPr>
            <a:xfrm>
              <a:off x="5320080" y="1125360"/>
              <a:ext cx="1110240" cy="1519200"/>
            </a:xfrm>
            <a:prstGeom prst="line">
              <a:avLst/>
            </a:prstGeom>
            <a:ln w="76320">
              <a:solidFill>
                <a:srgbClr val="fb4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Прямая соединительная линия 2"/>
            <p:cNvSpPr/>
            <p:nvPr/>
          </p:nvSpPr>
          <p:spPr>
            <a:xfrm flipH="1">
              <a:off x="1619280" y="1125360"/>
              <a:ext cx="3700800" cy="1519200"/>
            </a:xfrm>
            <a:prstGeom prst="line">
              <a:avLst/>
            </a:prstGeom>
            <a:ln w="76320">
              <a:solidFill>
                <a:srgbClr val="fb4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Прямая соединительная линия 3"/>
          <p:cNvSpPr/>
          <p:nvPr/>
        </p:nvSpPr>
        <p:spPr>
          <a:xfrm>
            <a:off x="1547640" y="2637000"/>
            <a:ext cx="4827600" cy="9360"/>
          </a:xfrm>
          <a:prstGeom prst="line">
            <a:avLst/>
          </a:prstGeom>
          <a:ln w="7632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0" name="Прямоугольник 10" descr=""/>
          <p:cNvPicPr/>
          <p:nvPr/>
        </p:nvPicPr>
        <p:blipFill>
          <a:blip r:embed="rId1"/>
          <a:stretch/>
        </p:blipFill>
        <p:spPr>
          <a:xfrm>
            <a:off x="2219400" y="139680"/>
            <a:ext cx="4900680" cy="79380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20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22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Object 30"/>
              <p:cNvSpPr txBox="1"/>
              <p:nvPr/>
            </p:nvSpPr>
            <p:spPr>
              <a:xfrm>
                <a:off x="5867280" y="1268280"/>
                <a:ext cx="428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31"/>
              <p:cNvSpPr txBox="1"/>
              <p:nvPr/>
            </p:nvSpPr>
            <p:spPr>
              <a:xfrm>
                <a:off x="4140360" y="2708280"/>
                <a:ext cx="377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32"/>
              <p:cNvSpPr txBox="1"/>
              <p:nvPr/>
            </p:nvSpPr>
            <p:spPr>
              <a:xfrm>
                <a:off x="3492360" y="1268280"/>
                <a:ext cx="400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66" name="Text Box 23"/>
          <p:cNvSpPr/>
          <p:nvPr/>
        </p:nvSpPr>
        <p:spPr>
          <a:xfrm>
            <a:off x="5508720" y="981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4"/>
          <p:cNvSpPr/>
          <p:nvPr/>
        </p:nvSpPr>
        <p:spPr>
          <a:xfrm>
            <a:off x="6589440" y="2492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5"/>
          <p:cNvSpPr/>
          <p:nvPr/>
        </p:nvSpPr>
        <p:spPr>
          <a:xfrm>
            <a:off x="1117440" y="2565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9" name="Object 34"/>
              <p:cNvSpPr txBox="1"/>
              <p:nvPr/>
            </p:nvSpPr>
            <p:spPr>
              <a:xfrm>
                <a:off x="1503360" y="5067360"/>
                <a:ext cx="59641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Object 35"/>
              <p:cNvSpPr txBox="1"/>
              <p:nvPr/>
            </p:nvSpPr>
            <p:spPr>
              <a:xfrm>
                <a:off x="1955880" y="3484440"/>
                <a:ext cx="447516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 Box 4"/>
          <p:cNvSpPr/>
          <p:nvPr/>
        </p:nvSpPr>
        <p:spPr>
          <a:xfrm>
            <a:off x="739800" y="592200"/>
            <a:ext cx="7589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гол при вершине равнобедренного треугольника равен 30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 а его площадь – 150 с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Найдите боковую сторону треугольника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Group 15"/>
          <p:cNvGrpSpPr/>
          <p:nvPr/>
        </p:nvGrpSpPr>
        <p:grpSpPr>
          <a:xfrm>
            <a:off x="264240" y="1768320"/>
            <a:ext cx="8265240" cy="4438800"/>
            <a:chOff x="264240" y="1768320"/>
            <a:chExt cx="8265240" cy="4438800"/>
          </a:xfrm>
        </p:grpSpPr>
        <p:sp>
          <p:nvSpPr>
            <p:cNvPr id="1373" name="Text Box 8"/>
            <p:cNvSpPr/>
            <p:nvPr/>
          </p:nvSpPr>
          <p:spPr>
            <a:xfrm>
              <a:off x="264240" y="4195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AutoShape 5"/>
            <p:cNvSpPr/>
            <p:nvPr/>
          </p:nvSpPr>
          <p:spPr>
            <a:xfrm>
              <a:off x="754200" y="2787480"/>
              <a:ext cx="1566720" cy="1756080"/>
            </a:xfrm>
            <a:prstGeom prst="triangle">
              <a:avLst>
                <a:gd name="adj" fmla="val 50000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Text Box 6"/>
            <p:cNvSpPr/>
            <p:nvPr/>
          </p:nvSpPr>
          <p:spPr>
            <a:xfrm>
              <a:off x="2916360" y="1768320"/>
              <a:ext cx="2367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ешение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6" name="Object 8"/>
                <p:cNvSpPr txBox="1"/>
                <p:nvPr/>
              </p:nvSpPr>
              <p:spPr>
                <a:xfrm>
                  <a:off x="3056040" y="2595600"/>
                  <a:ext cx="5473440" cy="36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Дан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rPr>
                              <m:lit/>
                              <m:nor/>
                            </m:rPr>
                            <m:t xml:space="preserve">АВС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∠</m:t>
                          </m:r>
                          <m:r>
                            <m:t xml:space="preserve">В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м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∠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∠</m:t>
                          </m:r>
                          <m:r>
                            <m:t xml:space="preserve">B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В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C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∠</m:t>
                              </m:r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В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00</m:t>
                              </m:r>
                            </m:num>
                            <m:den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600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00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Ответ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77" name="Text Box 8"/>
            <p:cNvSpPr/>
            <p:nvPr/>
          </p:nvSpPr>
          <p:spPr>
            <a:xfrm>
              <a:off x="1322640" y="238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Text Box 8"/>
            <p:cNvSpPr/>
            <p:nvPr/>
          </p:nvSpPr>
          <p:spPr>
            <a:xfrm>
              <a:off x="2305080" y="417996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66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4"/>
          <p:cNvSpPr/>
          <p:nvPr/>
        </p:nvSpPr>
        <p:spPr>
          <a:xfrm>
            <a:off x="1754280" y="1751040"/>
            <a:ext cx="49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Решить устн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Object 5"/>
              <p:cNvSpPr txBox="1"/>
              <p:nvPr/>
            </p:nvSpPr>
            <p:spPr>
              <a:xfrm>
                <a:off x="2082960" y="460440"/>
                <a:ext cx="3979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7" name="Line 7"/>
          <p:cNvSpPr/>
          <p:nvPr/>
        </p:nvSpPr>
        <p:spPr>
          <a:xfrm flipH="1">
            <a:off x="566280" y="3033720"/>
            <a:ext cx="376200" cy="98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8"/>
          <p:cNvSpPr/>
          <p:nvPr/>
        </p:nvSpPr>
        <p:spPr>
          <a:xfrm>
            <a:off x="581040" y="4021200"/>
            <a:ext cx="147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9"/>
          <p:cNvSpPr/>
          <p:nvPr/>
        </p:nvSpPr>
        <p:spPr>
          <a:xfrm>
            <a:off x="928800" y="3019320"/>
            <a:ext cx="1146240" cy="10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10"/>
          <p:cNvSpPr/>
          <p:nvPr/>
        </p:nvSpPr>
        <p:spPr>
          <a:xfrm flipV="1">
            <a:off x="581040" y="3220560"/>
            <a:ext cx="60948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11"/>
          <p:cNvSpPr/>
          <p:nvPr/>
        </p:nvSpPr>
        <p:spPr>
          <a:xfrm>
            <a:off x="1131840" y="3309840"/>
            <a:ext cx="13032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12"/>
          <p:cNvSpPr/>
          <p:nvPr/>
        </p:nvSpPr>
        <p:spPr>
          <a:xfrm flipH="1">
            <a:off x="1261800" y="3367080"/>
            <a:ext cx="586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12960" bIns="12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611280" y="2705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8"/>
          <p:cNvSpPr/>
          <p:nvPr/>
        </p:nvSpPr>
        <p:spPr>
          <a:xfrm>
            <a:off x="262080" y="3776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2076840" y="3776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8"/>
          <p:cNvSpPr/>
          <p:nvPr/>
        </p:nvSpPr>
        <p:spPr>
          <a:xfrm>
            <a:off x="1554120" y="329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8"/>
          <p:cNvSpPr/>
          <p:nvPr/>
        </p:nvSpPr>
        <p:spPr>
          <a:xfrm>
            <a:off x="887400" y="3454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8"/>
          <p:cNvSpPr/>
          <p:nvPr/>
        </p:nvSpPr>
        <p:spPr>
          <a:xfrm>
            <a:off x="1001880" y="42703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8"/>
          <p:cNvSpPr/>
          <p:nvPr/>
        </p:nvSpPr>
        <p:spPr>
          <a:xfrm>
            <a:off x="1175760" y="29368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Group 58"/>
          <p:cNvGrpSpPr/>
          <p:nvPr/>
        </p:nvGrpSpPr>
        <p:grpSpPr>
          <a:xfrm>
            <a:off x="5205600" y="2363040"/>
            <a:ext cx="2379240" cy="2329560"/>
            <a:chOff x="5205600" y="2363040"/>
            <a:chExt cx="2379240" cy="2329560"/>
          </a:xfrm>
        </p:grpSpPr>
        <p:sp>
          <p:nvSpPr>
            <p:cNvPr id="1201" name="AutoShape 42"/>
            <p:cNvSpPr/>
            <p:nvPr/>
          </p:nvSpPr>
          <p:spPr>
            <a:xfrm rot="19887000">
              <a:off x="5665680" y="2601720"/>
              <a:ext cx="1292040" cy="114588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Text Box 8"/>
            <p:cNvSpPr/>
            <p:nvPr/>
          </p:nvSpPr>
          <p:spPr>
            <a:xfrm>
              <a:off x="5205600" y="2584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Text Box 8"/>
            <p:cNvSpPr/>
            <p:nvPr/>
          </p:nvSpPr>
          <p:spPr>
            <a:xfrm>
              <a:off x="7251840" y="3224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Text Box 8"/>
            <p:cNvSpPr/>
            <p:nvPr/>
          </p:nvSpPr>
          <p:spPr>
            <a:xfrm>
              <a:off x="5684760" y="3835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8"/>
            <p:cNvSpPr/>
            <p:nvPr/>
          </p:nvSpPr>
          <p:spPr>
            <a:xfrm>
              <a:off x="6133680" y="271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8"/>
            <p:cNvSpPr/>
            <p:nvPr/>
          </p:nvSpPr>
          <p:spPr>
            <a:xfrm>
              <a:off x="6568920" y="3762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48"/>
            <p:cNvSpPr/>
            <p:nvPr/>
          </p:nvSpPr>
          <p:spPr>
            <a:xfrm flipV="1">
              <a:off x="5941800" y="3716280"/>
              <a:ext cx="21744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49"/>
            <p:cNvSpPr/>
            <p:nvPr/>
          </p:nvSpPr>
          <p:spPr>
            <a:xfrm>
              <a:off x="6159240" y="373068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8"/>
            <p:cNvSpPr/>
            <p:nvPr/>
          </p:nvSpPr>
          <p:spPr>
            <a:xfrm>
              <a:off x="6234120" y="432432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ис.3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Line 22"/>
          <p:cNvSpPr/>
          <p:nvPr/>
        </p:nvSpPr>
        <p:spPr>
          <a:xfrm>
            <a:off x="3425760" y="3059280"/>
            <a:ext cx="596880" cy="10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23"/>
          <p:cNvSpPr/>
          <p:nvPr/>
        </p:nvSpPr>
        <p:spPr>
          <a:xfrm flipV="1">
            <a:off x="3978360" y="4046400"/>
            <a:ext cx="56520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31320" bIns="-31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24"/>
          <p:cNvSpPr/>
          <p:nvPr/>
        </p:nvSpPr>
        <p:spPr>
          <a:xfrm>
            <a:off x="3411360" y="3044880"/>
            <a:ext cx="1146240" cy="10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3094200" y="2730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8"/>
          <p:cNvSpPr/>
          <p:nvPr/>
        </p:nvSpPr>
        <p:spPr>
          <a:xfrm>
            <a:off x="3873600" y="4106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4559400" y="3801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4197240" y="4075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8"/>
          <p:cNvSpPr/>
          <p:nvPr/>
        </p:nvSpPr>
        <p:spPr>
          <a:xfrm>
            <a:off x="3746520" y="4560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.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35"/>
          <p:cNvSpPr/>
          <p:nvPr/>
        </p:nvSpPr>
        <p:spPr>
          <a:xfrm>
            <a:off x="3425760" y="3048120"/>
            <a:ext cx="5724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36"/>
          <p:cNvSpPr/>
          <p:nvPr/>
        </p:nvSpPr>
        <p:spPr>
          <a:xfrm flipH="1">
            <a:off x="3468240" y="4064040"/>
            <a:ext cx="5223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31320" bIns="-31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38"/>
          <p:cNvSpPr/>
          <p:nvPr/>
        </p:nvSpPr>
        <p:spPr>
          <a:xfrm flipV="1">
            <a:off x="3483000" y="3943080"/>
            <a:ext cx="174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1040" bIns="-41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39"/>
          <p:cNvSpPr/>
          <p:nvPr/>
        </p:nvSpPr>
        <p:spPr>
          <a:xfrm>
            <a:off x="3657600" y="394812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8"/>
          <p:cNvSpPr/>
          <p:nvPr/>
        </p:nvSpPr>
        <p:spPr>
          <a:xfrm>
            <a:off x="3062160" y="3495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8"/>
          <p:cNvSpPr/>
          <p:nvPr/>
        </p:nvSpPr>
        <p:spPr>
          <a:xfrm>
            <a:off x="3139560" y="393552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AutoShape 4"/>
          <p:cNvSpPr/>
          <p:nvPr/>
        </p:nvSpPr>
        <p:spPr>
          <a:xfrm>
            <a:off x="671400" y="2584440"/>
            <a:ext cx="3310200" cy="1987560"/>
          </a:xfrm>
          <a:prstGeom prst="rtTriangle">
            <a:avLst/>
          </a:prstGeom>
          <a:solidFill>
            <a:srgbClr val="ee6e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b4a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8"/>
          <p:cNvSpPr/>
          <p:nvPr/>
        </p:nvSpPr>
        <p:spPr>
          <a:xfrm>
            <a:off x="4037400" y="414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8"/>
          <p:cNvSpPr/>
          <p:nvPr/>
        </p:nvSpPr>
        <p:spPr>
          <a:xfrm>
            <a:off x="479880" y="2035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8"/>
          <p:cNvSpPr/>
          <p:nvPr/>
        </p:nvSpPr>
        <p:spPr>
          <a:xfrm>
            <a:off x="232200" y="421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8"/>
              <p:cNvSpPr txBox="1"/>
              <p:nvPr/>
            </p:nvSpPr>
            <p:spPr>
              <a:xfrm>
                <a:off x="4692600" y="1420920"/>
                <a:ext cx="266868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9" name="Text Box 8"/>
          <p:cNvSpPr/>
          <p:nvPr/>
        </p:nvSpPr>
        <p:spPr>
          <a:xfrm>
            <a:off x="219600" y="3343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8"/>
          <p:cNvSpPr/>
          <p:nvPr/>
        </p:nvSpPr>
        <p:spPr>
          <a:xfrm>
            <a:off x="19807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WordArt 13"/>
          <p:cNvSpPr txBox="1"/>
          <p:nvPr/>
        </p:nvSpPr>
        <p:spPr>
          <a:xfrm>
            <a:off x="298440" y="433440"/>
            <a:ext cx="8429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2060"/>
                </a:solidFill>
                <a:latin typeface="Times New Roman"/>
              </a:rPr>
              <a:t>Площадь прямоугольного треугольник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1232" name="Text Box 8"/>
          <p:cNvSpPr/>
          <p:nvPr/>
        </p:nvSpPr>
        <p:spPr>
          <a:xfrm>
            <a:off x="479880" y="2035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8"/>
          <p:cNvSpPr/>
          <p:nvPr/>
        </p:nvSpPr>
        <p:spPr>
          <a:xfrm>
            <a:off x="232200" y="421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8"/>
          <p:cNvSpPr/>
          <p:nvPr/>
        </p:nvSpPr>
        <p:spPr>
          <a:xfrm>
            <a:off x="4037400" y="414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8"/>
          <p:cNvSpPr/>
          <p:nvPr/>
        </p:nvSpPr>
        <p:spPr>
          <a:xfrm>
            <a:off x="479880" y="2035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8"/>
          <p:cNvSpPr/>
          <p:nvPr/>
        </p:nvSpPr>
        <p:spPr>
          <a:xfrm>
            <a:off x="232200" y="421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AutoShape 4"/>
          <p:cNvSpPr/>
          <p:nvPr/>
        </p:nvSpPr>
        <p:spPr>
          <a:xfrm>
            <a:off x="671400" y="2584440"/>
            <a:ext cx="3310200" cy="1987560"/>
          </a:xfrm>
          <a:prstGeom prst="rtTriangle">
            <a:avLst/>
          </a:prstGeom>
          <a:solidFill>
            <a:srgbClr val="ee6e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b4a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8"/>
          <p:cNvSpPr/>
          <p:nvPr/>
        </p:nvSpPr>
        <p:spPr>
          <a:xfrm>
            <a:off x="219600" y="3343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8"/>
          <p:cNvSpPr/>
          <p:nvPr/>
        </p:nvSpPr>
        <p:spPr>
          <a:xfrm>
            <a:off x="197964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1"/>
          <p:cNvSpPr/>
          <p:nvPr/>
        </p:nvSpPr>
        <p:spPr>
          <a:xfrm>
            <a:off x="4572000" y="1871640"/>
            <a:ext cx="4572000" cy="28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2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ти площадь треугольника, есл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8 см;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=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м;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0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3"/>
          <p:cNvSpPr/>
          <p:nvPr/>
        </p:nvSpPr>
        <p:spPr>
          <a:xfrm>
            <a:off x="1596960" y="347760"/>
            <a:ext cx="49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ь устн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8"/>
          <p:cNvSpPr/>
          <p:nvPr/>
        </p:nvSpPr>
        <p:spPr>
          <a:xfrm>
            <a:off x="1974600" y="283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3444840"/>
            <a:ext cx="8167680" cy="1565280"/>
          </a:xfrm>
          <a:prstGeom prst="rect">
            <a:avLst/>
          </a:prstGeom>
          <a:ln w="0">
            <a:noFill/>
          </a:ln>
        </p:spPr>
      </p:pic>
      <p:sp>
        <p:nvSpPr>
          <p:cNvPr id="1244" name="Rectangle 18"/>
          <p:cNvSpPr/>
          <p:nvPr/>
        </p:nvSpPr>
        <p:spPr>
          <a:xfrm>
            <a:off x="2500200" y="142920"/>
            <a:ext cx="3643560" cy="865080"/>
          </a:xfrm>
          <a:prstGeom prst="rect">
            <a:avLst/>
          </a:prstGeom>
          <a:noFill/>
          <a:ln w="5724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1"/>
          <p:cNvSpPr/>
          <p:nvPr/>
        </p:nvSpPr>
        <p:spPr>
          <a:xfrm>
            <a:off x="2195640" y="256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24"/>
              <p:cNvSpPr txBox="1"/>
              <p:nvPr/>
            </p:nvSpPr>
            <p:spPr>
              <a:xfrm>
                <a:off x="3203640" y="189000"/>
                <a:ext cx="2192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Line 25"/>
          <p:cNvSpPr/>
          <p:nvPr/>
        </p:nvSpPr>
        <p:spPr>
          <a:xfrm flipH="1">
            <a:off x="2136600" y="2637000"/>
            <a:ext cx="430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26"/>
          <p:cNvSpPr/>
          <p:nvPr/>
        </p:nvSpPr>
        <p:spPr>
          <a:xfrm flipV="1">
            <a:off x="2124000" y="1268280"/>
            <a:ext cx="2448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Line 27"/>
          <p:cNvSpPr/>
          <p:nvPr/>
        </p:nvSpPr>
        <p:spPr>
          <a:xfrm>
            <a:off x="4572000" y="1268280"/>
            <a:ext cx="1871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Line 28"/>
          <p:cNvSpPr/>
          <p:nvPr/>
        </p:nvSpPr>
        <p:spPr>
          <a:xfrm>
            <a:off x="4545000" y="1268280"/>
            <a:ext cx="0" cy="13687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29"/>
          <p:cNvSpPr/>
          <p:nvPr/>
        </p:nvSpPr>
        <p:spPr>
          <a:xfrm flipH="1">
            <a:off x="2117880" y="2637000"/>
            <a:ext cx="432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30"/>
          <p:cNvSpPr/>
          <p:nvPr/>
        </p:nvSpPr>
        <p:spPr>
          <a:xfrm flipV="1">
            <a:off x="2124000" y="1268280"/>
            <a:ext cx="2448000" cy="13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31"/>
          <p:cNvSpPr/>
          <p:nvPr/>
        </p:nvSpPr>
        <p:spPr>
          <a:xfrm>
            <a:off x="4572000" y="1268280"/>
            <a:ext cx="1871640" cy="13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161928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65964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457200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2600280" y="22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550872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3708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457200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4572000" y="19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Object 40"/>
              <p:cNvSpPr txBox="1"/>
              <p:nvPr/>
            </p:nvSpPr>
            <p:spPr>
              <a:xfrm>
                <a:off x="1712880" y="5048280"/>
                <a:ext cx="664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но из прямоугольного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реугольника ADC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3" name="Rectangle 42"/>
          <p:cNvSpPr/>
          <p:nvPr/>
        </p:nvSpPr>
        <p:spPr>
          <a:xfrm>
            <a:off x="306108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Arc 23"/>
          <p:cNvSpPr/>
          <p:nvPr/>
        </p:nvSpPr>
        <p:spPr>
          <a:xfrm>
            <a:off x="2467080" y="2438280"/>
            <a:ext cx="88920" cy="189000"/>
          </a:xfrm>
          <a:custGeom>
            <a:avLst/>
            <a:gdLst>
              <a:gd name="textAreaLeft" fmla="*/ 0 w 88920"/>
              <a:gd name="textAreaRight" fmla="*/ 89280 w 889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21"/>
          <p:cNvSpPr/>
          <p:nvPr/>
        </p:nvSpPr>
        <p:spPr>
          <a:xfrm>
            <a:off x="681120" y="3179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25"/>
          <p:cNvSpPr/>
          <p:nvPr/>
        </p:nvSpPr>
        <p:spPr>
          <a:xfrm flipH="1">
            <a:off x="622080" y="3251160"/>
            <a:ext cx="430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26"/>
          <p:cNvSpPr/>
          <p:nvPr/>
        </p:nvSpPr>
        <p:spPr>
          <a:xfrm flipV="1">
            <a:off x="609480" y="1882440"/>
            <a:ext cx="244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27"/>
          <p:cNvSpPr/>
          <p:nvPr/>
        </p:nvSpPr>
        <p:spPr>
          <a:xfrm>
            <a:off x="3057480" y="1882800"/>
            <a:ext cx="1871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29"/>
          <p:cNvSpPr/>
          <p:nvPr/>
        </p:nvSpPr>
        <p:spPr>
          <a:xfrm flipH="1">
            <a:off x="603360" y="3251160"/>
            <a:ext cx="4325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30"/>
          <p:cNvSpPr/>
          <p:nvPr/>
        </p:nvSpPr>
        <p:spPr>
          <a:xfrm flipV="1">
            <a:off x="609480" y="1882440"/>
            <a:ext cx="244800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31"/>
          <p:cNvSpPr/>
          <p:nvPr/>
        </p:nvSpPr>
        <p:spPr>
          <a:xfrm>
            <a:off x="3057480" y="1882800"/>
            <a:ext cx="187164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35"/>
          <p:cNvSpPr/>
          <p:nvPr/>
        </p:nvSpPr>
        <p:spPr>
          <a:xfrm>
            <a:off x="1028880" y="2905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36"/>
          <p:cNvSpPr/>
          <p:nvPr/>
        </p:nvSpPr>
        <p:spPr>
          <a:xfrm>
            <a:off x="3994200" y="2027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37"/>
          <p:cNvSpPr/>
          <p:nvPr/>
        </p:nvSpPr>
        <p:spPr>
          <a:xfrm>
            <a:off x="2193840" y="3395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42"/>
          <p:cNvSpPr/>
          <p:nvPr/>
        </p:nvSpPr>
        <p:spPr>
          <a:xfrm>
            <a:off x="1546200" y="209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reeform 21"/>
          <p:cNvSpPr/>
          <p:nvPr/>
        </p:nvSpPr>
        <p:spPr>
          <a:xfrm>
            <a:off x="928800" y="3076560"/>
            <a:ext cx="112680" cy="174600"/>
          </a:xfrm>
          <a:custGeom>
            <a:avLst/>
            <a:gdLst>
              <a:gd name="textAreaLeft" fmla="*/ 0 w 112680"/>
              <a:gd name="textAreaRight" fmla="*/ 113040 w 1126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0" y="0"/>
                </a:moveTo>
                <a:cubicBezTo>
                  <a:pt x="71" y="17"/>
                  <a:pt x="55" y="29"/>
                  <a:pt x="55" y="1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23"/>
          <p:cNvSpPr/>
          <p:nvPr/>
        </p:nvSpPr>
        <p:spPr>
          <a:xfrm>
            <a:off x="1639800" y="279360"/>
            <a:ext cx="49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ь устн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24"/>
          <p:cNvSpPr/>
          <p:nvPr/>
        </p:nvSpPr>
        <p:spPr>
          <a:xfrm>
            <a:off x="5124600" y="1092240"/>
            <a:ext cx="343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=12 см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=9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м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ɣ=30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25"/>
          <p:cNvSpPr/>
          <p:nvPr/>
        </p:nvSpPr>
        <p:spPr>
          <a:xfrm>
            <a:off x="406440" y="110340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26"/>
          <p:cNvSpPr/>
          <p:nvPr/>
        </p:nvSpPr>
        <p:spPr>
          <a:xfrm>
            <a:off x="420840" y="41227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ine 27"/>
          <p:cNvSpPr/>
          <p:nvPr/>
        </p:nvSpPr>
        <p:spPr>
          <a:xfrm flipH="1">
            <a:off x="696960" y="4890960"/>
            <a:ext cx="682560" cy="12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Line 28"/>
          <p:cNvSpPr/>
          <p:nvPr/>
        </p:nvSpPr>
        <p:spPr>
          <a:xfrm>
            <a:off x="711360" y="6168960"/>
            <a:ext cx="25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Line 29"/>
          <p:cNvSpPr/>
          <p:nvPr/>
        </p:nvSpPr>
        <p:spPr>
          <a:xfrm>
            <a:off x="1363680" y="4890960"/>
            <a:ext cx="1946160" cy="12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35"/>
          <p:cNvSpPr/>
          <p:nvPr/>
        </p:nvSpPr>
        <p:spPr>
          <a:xfrm>
            <a:off x="811080" y="5821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5"/>
          <p:cNvSpPr/>
          <p:nvPr/>
        </p:nvSpPr>
        <p:spPr>
          <a:xfrm>
            <a:off x="1262160" y="51246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35"/>
          <p:cNvSpPr/>
          <p:nvPr/>
        </p:nvSpPr>
        <p:spPr>
          <a:xfrm>
            <a:off x="2451240" y="5821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Freeform 34"/>
          <p:cNvSpPr/>
          <p:nvPr/>
        </p:nvSpPr>
        <p:spPr>
          <a:xfrm>
            <a:off x="784080" y="6008760"/>
            <a:ext cx="87480" cy="160200"/>
          </a:xfrm>
          <a:custGeom>
            <a:avLst/>
            <a:gdLst>
              <a:gd name="textAreaLeft" fmla="*/ 0 w 87480"/>
              <a:gd name="textAreaRight" fmla="*/ 87840 w 87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5" h="101">
                <a:moveTo>
                  <a:pt x="0" y="0"/>
                </a:moveTo>
                <a:cubicBezTo>
                  <a:pt x="9" y="3"/>
                  <a:pt x="22" y="1"/>
                  <a:pt x="27" y="9"/>
                </a:cubicBezTo>
                <a:cubicBezTo>
                  <a:pt x="35" y="20"/>
                  <a:pt x="55" y="78"/>
                  <a:pt x="55" y="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Freeform 36"/>
          <p:cNvSpPr/>
          <p:nvPr/>
        </p:nvSpPr>
        <p:spPr>
          <a:xfrm>
            <a:off x="1292400" y="5037120"/>
            <a:ext cx="245880" cy="44640"/>
          </a:xfrm>
          <a:custGeom>
            <a:avLst/>
            <a:gdLst>
              <a:gd name="textAreaLeft" fmla="*/ 0 w 245880"/>
              <a:gd name="textAreaRight" fmla="*/ 246240 w 2458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55" h="28">
                <a:moveTo>
                  <a:pt x="0" y="9"/>
                </a:moveTo>
                <a:cubicBezTo>
                  <a:pt x="56" y="28"/>
                  <a:pt x="30" y="23"/>
                  <a:pt x="128" y="9"/>
                </a:cubicBezTo>
                <a:cubicBezTo>
                  <a:pt x="137" y="8"/>
                  <a:pt x="155" y="0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Arc 40"/>
          <p:cNvSpPr/>
          <p:nvPr/>
        </p:nvSpPr>
        <p:spPr>
          <a:xfrm flipV="1">
            <a:off x="1233360" y="5077800"/>
            <a:ext cx="435240" cy="88920"/>
          </a:xfrm>
          <a:custGeom>
            <a:avLst/>
            <a:gdLst>
              <a:gd name="textAreaLeft" fmla="*/ 0 w 435240"/>
              <a:gd name="textAreaRight" fmla="*/ 435600 w 435240"/>
              <a:gd name="textAreaTop" fmla="*/ -360 h 88920"/>
              <a:gd name="textAreaBottom" fmla="*/ 88920 h 88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Arc 41"/>
          <p:cNvSpPr/>
          <p:nvPr/>
        </p:nvSpPr>
        <p:spPr>
          <a:xfrm flipH="1">
            <a:off x="2902680" y="5965920"/>
            <a:ext cx="101880" cy="217440"/>
          </a:xfrm>
          <a:custGeom>
            <a:avLst/>
            <a:gdLst>
              <a:gd name="textAreaLeft" fmla="*/ -360 w 101880"/>
              <a:gd name="textAreaRight" fmla="*/ 101880 w 1018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Arc 42"/>
          <p:cNvSpPr/>
          <p:nvPr/>
        </p:nvSpPr>
        <p:spPr>
          <a:xfrm flipH="1">
            <a:off x="2801880" y="5907240"/>
            <a:ext cx="101520" cy="261720"/>
          </a:xfrm>
          <a:custGeom>
            <a:avLst/>
            <a:gdLst>
              <a:gd name="textAreaLeft" fmla="*/ 360 w 101520"/>
              <a:gd name="textAreaRight" fmla="*/ 102240 w 10152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Arc 43"/>
          <p:cNvSpPr/>
          <p:nvPr/>
        </p:nvSpPr>
        <p:spPr>
          <a:xfrm flipH="1">
            <a:off x="3001320" y="6037200"/>
            <a:ext cx="88920" cy="146160"/>
          </a:xfrm>
          <a:custGeom>
            <a:avLst/>
            <a:gdLst>
              <a:gd name="textAreaLeft" fmla="*/ -360 w 88920"/>
              <a:gd name="textAreaRight" fmla="*/ 88920 w 88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36"/>
          <p:cNvSpPr/>
          <p:nvPr/>
        </p:nvSpPr>
        <p:spPr>
          <a:xfrm>
            <a:off x="2193840" y="510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37"/>
          <p:cNvSpPr/>
          <p:nvPr/>
        </p:nvSpPr>
        <p:spPr>
          <a:xfrm>
            <a:off x="1584360" y="618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42"/>
          <p:cNvSpPr/>
          <p:nvPr/>
        </p:nvSpPr>
        <p:spPr>
          <a:xfrm>
            <a:off x="633240" y="517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7"/>
          <p:cNvSpPr/>
          <p:nvPr/>
        </p:nvSpPr>
        <p:spPr>
          <a:xfrm>
            <a:off x="5037120" y="4902120"/>
            <a:ext cx="344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0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ɣ=70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=1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см, 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48"/>
          <p:cNvSpPr/>
          <p:nvPr/>
        </p:nvSpPr>
        <p:spPr>
          <a:xfrm>
            <a:off x="5311800" y="2441520"/>
            <a:ext cx="3832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=27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м</a:t>
            </a:r>
            <a:r>
              <a:rPr b="1" lang="ru-RU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9"/>
          <p:cNvSpPr/>
          <p:nvPr/>
        </p:nvSpPr>
        <p:spPr>
          <a:xfrm>
            <a:off x="5311800" y="5997600"/>
            <a:ext cx="3832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=2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м</a:t>
            </a:r>
            <a:r>
              <a:rPr b="1" lang="ru-RU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Прямая соединительная линия 2"/>
          <p:cNvSpPr/>
          <p:nvPr/>
        </p:nvSpPr>
        <p:spPr>
          <a:xfrm>
            <a:off x="3952080" y="1149480"/>
            <a:ext cx="1047960" cy="2373120"/>
          </a:xfrm>
          <a:prstGeom prst="line">
            <a:avLst/>
          </a:prstGeom>
          <a:ln w="2556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Прямая соединительная линия 3"/>
          <p:cNvSpPr/>
          <p:nvPr/>
        </p:nvSpPr>
        <p:spPr>
          <a:xfrm flipH="1">
            <a:off x="463680" y="1149480"/>
            <a:ext cx="3489120" cy="2373120"/>
          </a:xfrm>
          <a:prstGeom prst="line">
            <a:avLst/>
          </a:prstGeom>
          <a:ln w="2556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Прямая соединительная линия 4"/>
          <p:cNvSpPr/>
          <p:nvPr/>
        </p:nvSpPr>
        <p:spPr>
          <a:xfrm>
            <a:off x="463680" y="3522600"/>
            <a:ext cx="4537080" cy="3240"/>
          </a:xfrm>
          <a:prstGeom prst="line">
            <a:avLst/>
          </a:prstGeom>
          <a:ln w="2556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20"/>
          <p:cNvSpPr/>
          <p:nvPr/>
        </p:nvSpPr>
        <p:spPr>
          <a:xfrm>
            <a:off x="2819160" y="3532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21"/>
          <p:cNvSpPr/>
          <p:nvPr/>
        </p:nvSpPr>
        <p:spPr>
          <a:xfrm>
            <a:off x="1812960" y="1930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2"/>
          <p:cNvSpPr/>
          <p:nvPr/>
        </p:nvSpPr>
        <p:spPr>
          <a:xfrm>
            <a:off x="4561920" y="194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15"/>
          <p:cNvSpPr/>
          <p:nvPr/>
        </p:nvSpPr>
        <p:spPr>
          <a:xfrm>
            <a:off x="1596960" y="347760"/>
            <a:ext cx="49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ормула Герон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Object 19"/>
              <p:cNvSpPr txBox="1"/>
              <p:nvPr/>
            </p:nvSpPr>
            <p:spPr>
              <a:xfrm>
                <a:off x="449280" y="4191120"/>
                <a:ext cx="84121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Text Box 4"/>
          <p:cNvSpPr/>
          <p:nvPr/>
        </p:nvSpPr>
        <p:spPr>
          <a:xfrm>
            <a:off x="422280" y="347760"/>
            <a:ext cx="8331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йдите площадь треугольника, стороны     которого  равны 26 см, 28 см и 30 см. Найдите высоту, проведенную к большей стороне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Group 19"/>
          <p:cNvGrpSpPr/>
          <p:nvPr/>
        </p:nvGrpSpPr>
        <p:grpSpPr>
          <a:xfrm>
            <a:off x="1582560" y="2220840"/>
            <a:ext cx="5176800" cy="4334040"/>
            <a:chOff x="1582560" y="2220840"/>
            <a:chExt cx="5176800" cy="4334040"/>
          </a:xfrm>
        </p:grpSpPr>
        <p:sp>
          <p:nvSpPr>
            <p:cNvPr id="1309" name="Text Box 7"/>
            <p:cNvSpPr/>
            <p:nvPr/>
          </p:nvSpPr>
          <p:spPr>
            <a:xfrm>
              <a:off x="1582560" y="2220840"/>
              <a:ext cx="3120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ешение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0" name="Object 9"/>
                <p:cNvSpPr txBox="1"/>
                <p:nvPr/>
              </p:nvSpPr>
              <p:spPr>
                <a:xfrm>
                  <a:off x="1644480" y="2809800"/>
                  <a:ext cx="489096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Дан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треугольник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а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его 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тороны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а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6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, 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с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1" name="Object 11"/>
                <p:cNvSpPr txBox="1"/>
                <p:nvPr/>
              </p:nvSpPr>
              <p:spPr>
                <a:xfrm>
                  <a:off x="1655280" y="3567240"/>
                  <a:ext cx="464184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-a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-b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-c</m:t>
                          </m:r>
                          <m:r>
                            <m:t xml:space="preserve">)</m:t>
                          </m:r>
                        </m:e>
                      </m:rad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2" name="Object 12"/>
                <p:cNvSpPr txBox="1"/>
                <p:nvPr/>
              </p:nvSpPr>
              <p:spPr>
                <a:xfrm>
                  <a:off x="1603080" y="4114800"/>
                  <a:ext cx="5156280" cy="244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6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-26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-28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-30</m:t>
                              </m:r>
                              <m:r>
                                <m:t xml:space="preserve">)</m:t>
                              </m:r>
                            </m:e>
                          </m:ra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·16·14·12</m:t>
                              </m:r>
                            </m:e>
                          </m:rad>
                          <m:r>
                            <m:t xml:space="preserve">=</m:t>
                          </m:r>
                        </m:e>
                        <m:e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·3·16·14·3·4</m:t>
                              </m:r>
                            </m:e>
                          </m:rad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rPr>
                              <m:lit/>
                              <m:nor/>
                            </m:rPr>
                            <m:t xml:space="preserve">·3·4·2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36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м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b>
                            <m:e>
                              <m:r>
                                <m:t xml:space="preserve">ch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·336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Ответ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336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м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31"/>
          <p:cNvSpPr/>
          <p:nvPr/>
        </p:nvSpPr>
        <p:spPr>
          <a:xfrm>
            <a:off x="4357800" y="1285920"/>
            <a:ext cx="4643280" cy="1152360"/>
          </a:xfrm>
          <a:prstGeom prst="rect">
            <a:avLst/>
          </a:prstGeom>
          <a:noFill/>
          <a:ln w="5724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2"/>
          <p:cNvSpPr/>
          <p:nvPr/>
        </p:nvSpPr>
        <p:spPr>
          <a:xfrm>
            <a:off x="18072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5" name="Object 27"/>
              <p:cNvSpPr txBox="1"/>
              <p:nvPr/>
            </p:nvSpPr>
            <p:spPr>
              <a:xfrm>
                <a:off x="2448000" y="4702320"/>
                <a:ext cx="50767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-  </m:t>
                        </m:r>
                        <m:r>
                          <m:rPr>
                            <m:lit/>
                            <m:nor/>
                          </m:rPr>
                          <m:t xml:space="preserve">радиус</m:t>
                        </m:r>
                        <m:r>
                          <m:rPr>
                            <m:lit/>
                            <m:nor/>
                          </m:rPr>
                          <m:t xml:space="preserve">вписанной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6" name="Овал 6"/>
          <p:cNvSpPr/>
          <p:nvPr/>
        </p:nvSpPr>
        <p:spPr>
          <a:xfrm>
            <a:off x="2311560" y="1873080"/>
            <a:ext cx="1871640" cy="1873440"/>
          </a:xfrm>
          <a:prstGeom prst="ellipse">
            <a:avLst/>
          </a:prstGeom>
          <a:solidFill>
            <a:srgbClr val="ffffff"/>
          </a:solidFill>
          <a:ln cap="rnd" w="15840">
            <a:solidFill>
              <a:srgbClr val="de7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Group 28"/>
          <p:cNvGrpSpPr/>
          <p:nvPr/>
        </p:nvGrpSpPr>
        <p:grpSpPr>
          <a:xfrm>
            <a:off x="684000" y="1268280"/>
            <a:ext cx="4225680" cy="2576160"/>
            <a:chOff x="684000" y="1268280"/>
            <a:chExt cx="4225680" cy="2576160"/>
          </a:xfrm>
        </p:grpSpPr>
        <p:sp>
          <p:nvSpPr>
            <p:cNvPr id="1318" name="Прямая соединительная линия 3"/>
            <p:cNvSpPr/>
            <p:nvPr/>
          </p:nvSpPr>
          <p:spPr>
            <a:xfrm>
              <a:off x="3501360" y="1268280"/>
              <a:ext cx="1408320" cy="2480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Прямая соединительная линия 5"/>
            <p:cNvSpPr/>
            <p:nvPr/>
          </p:nvSpPr>
          <p:spPr>
            <a:xfrm flipH="1">
              <a:off x="684000" y="1268280"/>
              <a:ext cx="2817000" cy="25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Прямая соединительная линия 11"/>
            <p:cNvSpPr/>
            <p:nvPr/>
          </p:nvSpPr>
          <p:spPr>
            <a:xfrm flipV="1">
              <a:off x="684360" y="3748320"/>
              <a:ext cx="4225320" cy="95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Прямая соединительная линия 23"/>
          <p:cNvSpPr/>
          <p:nvPr/>
        </p:nvSpPr>
        <p:spPr>
          <a:xfrm flipH="1">
            <a:off x="3295800" y="1268280"/>
            <a:ext cx="195120" cy="1548000"/>
          </a:xfrm>
          <a:prstGeom prst="line">
            <a:avLst/>
          </a:prstGeom>
          <a:ln w="381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Прямая соединительная линия 25"/>
          <p:cNvSpPr/>
          <p:nvPr/>
        </p:nvSpPr>
        <p:spPr>
          <a:xfrm>
            <a:off x="3295800" y="2816280"/>
            <a:ext cx="1563480" cy="87948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Прямая соединительная линия 27"/>
          <p:cNvSpPr/>
          <p:nvPr/>
        </p:nvSpPr>
        <p:spPr>
          <a:xfrm flipH="1">
            <a:off x="755640" y="2815560"/>
            <a:ext cx="2540160" cy="973080"/>
          </a:xfrm>
          <a:prstGeom prst="line">
            <a:avLst/>
          </a:prstGeom>
          <a:ln w="25560">
            <a:solidFill>
              <a:srgbClr val="9bbb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Прямая соединительная линия 31"/>
          <p:cNvSpPr/>
          <p:nvPr/>
        </p:nvSpPr>
        <p:spPr>
          <a:xfrm flipV="1">
            <a:off x="3298680" y="2444400"/>
            <a:ext cx="841680" cy="382680"/>
          </a:xfrm>
          <a:prstGeom prst="line">
            <a:avLst/>
          </a:prstGeom>
          <a:ln cap="rnd" w="2232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Прямая соединительная линия 45"/>
          <p:cNvSpPr/>
          <p:nvPr/>
        </p:nvSpPr>
        <p:spPr>
          <a:xfrm>
            <a:off x="2483640" y="2133720"/>
            <a:ext cx="808200" cy="717480"/>
          </a:xfrm>
          <a:prstGeom prst="line">
            <a:avLst/>
          </a:prstGeom>
          <a:ln cap="rnd" w="2232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Прямая соединительная линия 47"/>
          <p:cNvSpPr/>
          <p:nvPr/>
        </p:nvSpPr>
        <p:spPr>
          <a:xfrm flipH="1">
            <a:off x="3268800" y="2857680"/>
            <a:ext cx="31680" cy="931680"/>
          </a:xfrm>
          <a:prstGeom prst="line">
            <a:avLst/>
          </a:prstGeom>
          <a:ln cap="rnd" w="2232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3"/>
          <p:cNvSpPr/>
          <p:nvPr/>
        </p:nvSpPr>
        <p:spPr>
          <a:xfrm>
            <a:off x="378180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34"/>
          <p:cNvSpPr/>
          <p:nvPr/>
        </p:nvSpPr>
        <p:spPr>
          <a:xfrm>
            <a:off x="500544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5"/>
          <p:cNvSpPr/>
          <p:nvPr/>
        </p:nvSpPr>
        <p:spPr>
          <a:xfrm>
            <a:off x="2988720" y="2924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2"/>
          <p:cNvSpPr/>
          <p:nvPr/>
        </p:nvSpPr>
        <p:spPr>
          <a:xfrm>
            <a:off x="2773440" y="2060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1" name="Object 25"/>
              <p:cNvSpPr txBox="1"/>
              <p:nvPr/>
            </p:nvSpPr>
            <p:spPr>
              <a:xfrm>
                <a:off x="4486320" y="1405080"/>
                <a:ext cx="44863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рr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2" name="Text Box 26"/>
          <p:cNvSpPr/>
          <p:nvPr/>
        </p:nvSpPr>
        <p:spPr>
          <a:xfrm>
            <a:off x="668160" y="3963960"/>
            <a:ext cx="80550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лощадь треугольника равна произведению полупериметра треугольника на радиус вписанной в него окружности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7"/>
          <p:cNvSpPr/>
          <p:nvPr/>
        </p:nvSpPr>
        <p:spPr>
          <a:xfrm>
            <a:off x="-100080" y="171360"/>
            <a:ext cx="9578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лощадь треугольника через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диус вписанной в него окружност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Елена Ванденко</cp:lastModifiedBy>
  <dcterms:modified xsi:type="dcterms:W3CDTF">2021-11-17T14:15:25Z</dcterms:modified>
  <cp:revision>216</cp:revision>
  <dc:subject/>
  <dc:title>Презентация PowerPoint</dc:title>
</cp:coreProperties>
</file>