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87E-1406-4A4F-933F-E244FA2B1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9D0-A106-4EB2-B799-2C2257CFD7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68E6-730B-4E10-9744-713070D483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753D-C650-4274-B090-1D7A55BACA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CF11-0F25-4DAF-9521-45F85BA9F4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D044-C19C-46CC-925F-5D4E761121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F89E-CBA0-4ACA-A998-21E08D2031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E9F-8501-42E7-A4C5-11CB8E61C9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EE8A-63BD-42E8-A9CF-F428E6CE62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6F09-9CB9-4465-8814-E9F3B170BC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AEE1-DB8A-4E03-8BE7-ECB0A1B680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9F82-562A-428E-80E5-6C5237C24B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623-AAA6-4631-8F99-F4D60F507C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8C7-9641-418E-9D66-3D24CCD644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A786-89C9-4DE2-8E09-9CA8E28F3D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8BDC-C874-48CE-AED6-3F7F0B38FF3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11C-87A2-48B6-BF88-2757E02102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5FD-2614-4353-9497-95FBEC27CF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D590-1FA7-4833-9357-F2B626B266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D19-5EAF-43D2-AAC6-D925C09B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92C-F471-4ECD-A341-899DEC7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58F-5EDB-4826-BCBE-E37C8DA4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339-6AF8-42C8-A221-D6ECA2FF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0F2-2719-4A44-B6D8-2391E1E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B921-9CB1-43A1-99B6-7ACDE96F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F4DA-3E52-4082-974F-A0D3D892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4F45-EE3F-43E1-9A04-3997C144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9AC9-5414-47A9-AE2E-2C182649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404C-528D-42EE-BA0A-513FC2FD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6EDC-5319-4EB6-AF02-8B76357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A08-81B9-4C65-80C3-CD1C377E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FA13-9A52-4D23-9114-8639F4C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BD8-85F5-40C9-A9EF-BB10C29A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2EEB-51B6-4D58-B3AC-4C74225F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60E7-25C9-4956-9781-A9263989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A2B3-56DC-495D-B34E-0521FE93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A1D0-0D62-4067-9D4C-4D518BAD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D5A5-D125-485D-BA19-C178007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0CA2-1425-4557-85A0-45ED60E4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A741-57FD-4597-8586-5778D26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4550-4898-4BA3-8F0C-DAE1DE1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E8B-360B-4175-B81B-DA5538A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563E-59C1-4E0B-A108-02CCA520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7489-708B-471C-A8C8-FA77837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BF37-9B11-4786-BEF0-B8A30D3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F870-4903-4E54-852E-A664EF86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B360-B19C-42D2-B282-5BCDF59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8051-ECB3-4E3C-BA3A-1F1FF9F7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3D5F-E321-422E-9E8D-9B2C6852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C3CF-3E95-4683-B031-8F747915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F0A2A-4C82-4A3E-B403-13A7CA3A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02C3-3843-4699-A2A5-B5E1F7B0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5A7-237F-4952-B568-AD2F38F9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5E03-8BE3-467B-BFBA-F0D8FDFA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C1EE-77F8-46AB-912E-C46357E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7FFB-4367-4D9B-BB27-2AC78585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42C8-776C-46EF-81A5-FDD80C9E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BF0B-48E0-41CF-98DE-BEDF47A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F361-F6D9-4533-98DB-86E2F8A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60CC-5FAB-4518-9E64-878A0189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0805C-51EC-4691-B02A-A79CCCFB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CF98-E42B-48C5-BAD6-EBF0A982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0C2-A1AE-4C57-9A1C-84E57E6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AE1-2B0B-4740-B6EA-F3ADD9C4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703-78F3-4870-BB06-4039F6E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E34-67EC-456C-848E-8C9F4DC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7D3-616F-4DC2-8DE8-36EE12B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706-C71B-45B4-9EC5-3FB094E46849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832B-E985-41B9-8062-E7011884BB86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ADC0-4067-4436-8EDD-0A4FB79D4C6D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084-8B91-416B-BB30-5856E0A7B200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7.xml"/><Relationship Id="rId11" Type="http://schemas.openxmlformats.org/officeDocument/2006/relationships/slide" Target="slide13.xml"/><Relationship Id="rId12" Type="http://schemas.openxmlformats.org/officeDocument/2006/relationships/slide" Target="slide11.xml"/><Relationship Id="rId13" Type="http://schemas.openxmlformats.org/officeDocument/2006/relationships/slide" Target="slide15.xml"/><Relationship Id="rId14" Type="http://schemas.openxmlformats.org/officeDocument/2006/relationships/slide" Target="slide14.xml"/><Relationship Id="rId15" Type="http://schemas.openxmlformats.org/officeDocument/2006/relationships/slide" Target="slide12.xml"/><Relationship Id="rId16" Type="http://schemas.openxmlformats.org/officeDocument/2006/relationships/slide" Target="slide15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3" descr=""/>
          <p:cNvPicPr/>
          <p:nvPr/>
        </p:nvPicPr>
        <p:blipFill>
          <a:blip r:embed="rId1"/>
          <a:stretch/>
        </p:blipFill>
        <p:spPr>
          <a:xfrm>
            <a:off x="1494000" y="1474920"/>
            <a:ext cx="10021680" cy="2127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4360" y="384300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1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630360" y="355680"/>
            <a:ext cx="113997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имая  ягода  Александра  Пушкина. Одно  из  народных  названий  «северный апельсин».  Очень  полезна  и  вкусна.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4537080" y="4429080"/>
            <a:ext cx="35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Моро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Управляющая кнопка: домой 5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477720" y="487440"/>
            <a:ext cx="109188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очная героиня, владелица первого в мире летального аппара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216320" y="41832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Баба- Я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396720" y="755640"/>
            <a:ext cx="959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2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 сказку по ребус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477720" y="55483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Золу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rcRect l="15668" t="31228" r="12166" b="34110"/>
          <a:stretch/>
        </p:blipFill>
        <p:spPr>
          <a:xfrm>
            <a:off x="1386000" y="2011320"/>
            <a:ext cx="8824680" cy="31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112680" y="395280"/>
            <a:ext cx="56484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3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адай героя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маленький толстенький самоуверенный человечек, который умеет летать сам по себе. Стоит ему нажать кнопку на животе, как у него за спиной тут же начинает работать хитроумный моторчик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477720" y="596268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Карлс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Управляющая кнопка: домой 5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1" descr=""/>
          <p:cNvPicPr/>
          <p:nvPr/>
        </p:nvPicPr>
        <p:blipFill>
          <a:blip r:embed="rId1"/>
          <a:stretch/>
        </p:blipFill>
        <p:spPr>
          <a:xfrm>
            <a:off x="5761080" y="1512720"/>
            <a:ext cx="632916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477720" y="792000"/>
            <a:ext cx="112572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4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ево, чаще всего встречающееся в сказк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4816440" y="3760920"/>
            <a:ext cx="55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Ду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477720" y="792000"/>
            <a:ext cx="11400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берёзе росло 90 яблок. Подул сильный ветер, и 10 яблок упало. Сколько осталос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2611440" y="3867120"/>
            <a:ext cx="71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Яблоки не растут на берёз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477720" y="822240"/>
            <a:ext cx="1140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 сестёр находятся на даче, где каждая занята каким-то делом. Первая сестра читает книгу, вторая — готовит еду, третья — играет в шахматы, четвёртая — разгадывает судоку, пятая — занимается стиркой, шестая — ухаживает за растениями. А чем занимается седьмая сестра?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3611520" y="4836960"/>
            <a:ext cx="58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Играет в шахма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Управляющая кнопка: домой 5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244440" y="325440"/>
            <a:ext cx="116935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есть только одна спичка. В тёмной комнате стоят керосиновая лампа, печь и свеча. Что вы зажжёте в первую очередь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4664160" y="409572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Спичку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244440" y="325440"/>
            <a:ext cx="112269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вторник идёт раньше, чем понедельник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4100400" y="371628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В словар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Скругленный прямоугольник 6"/>
          <p:cNvSpPr/>
          <p:nvPr/>
        </p:nvSpPr>
        <p:spPr>
          <a:xfrm>
            <a:off x="609480" y="466560"/>
            <a:ext cx="3756240" cy="8496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к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Скругленный прямоугольник 7"/>
          <p:cNvSpPr/>
          <p:nvPr/>
        </p:nvSpPr>
        <p:spPr>
          <a:xfrm>
            <a:off x="609480" y="1414440"/>
            <a:ext cx="3756240" cy="84924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рай родной - Каре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Скругленный прямоугольник 8"/>
          <p:cNvSpPr/>
          <p:nvPr/>
        </p:nvSpPr>
        <p:spPr>
          <a:xfrm>
            <a:off x="609480" y="2390760"/>
            <a:ext cx="3756240" cy="84924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Скругленный прямоугольник 11">
            <a:hlinkClick r:id="rId1" action="ppaction://hlinksldjump"/>
          </p:cNvPr>
          <p:cNvSpPr/>
          <p:nvPr/>
        </p:nvSpPr>
        <p:spPr>
          <a:xfrm>
            <a:off x="4746600" y="466560"/>
            <a:ext cx="87012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Скругленный прямоугольник 12">
            <a:hlinkClick r:id="rId2" action="ppaction://hlinksldjump"/>
          </p:cNvPr>
          <p:cNvSpPr/>
          <p:nvPr/>
        </p:nvSpPr>
        <p:spPr>
          <a:xfrm>
            <a:off x="5794200" y="466560"/>
            <a:ext cx="87156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кругленный прямоугольник 13">
            <a:hlinkClick r:id="rId3" action="ppaction://hlinksldjump"/>
          </p:cNvPr>
          <p:cNvSpPr/>
          <p:nvPr/>
        </p:nvSpPr>
        <p:spPr>
          <a:xfrm>
            <a:off x="6843600" y="466560"/>
            <a:ext cx="87156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кругленный прямоугольник 14">
            <a:hlinkClick r:id="rId4" action="ppaction://hlinksldjump"/>
          </p:cNvPr>
          <p:cNvSpPr/>
          <p:nvPr/>
        </p:nvSpPr>
        <p:spPr>
          <a:xfrm>
            <a:off x="7893000" y="466560"/>
            <a:ext cx="87012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Скругленный прямоугольник 15">
            <a:hlinkClick r:id="rId5" action="ppaction://hlinksldjump"/>
          </p:cNvPr>
          <p:cNvSpPr/>
          <p:nvPr/>
        </p:nvSpPr>
        <p:spPr>
          <a:xfrm>
            <a:off x="4745160" y="340524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19">
            <a:hlinkClick r:id="rId6" action="ppaction://hlinksldjump"/>
          </p:cNvPr>
          <p:cNvSpPr/>
          <p:nvPr/>
        </p:nvSpPr>
        <p:spPr>
          <a:xfrm>
            <a:off x="4746600" y="1449360"/>
            <a:ext cx="87012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кругленный прямоугольник 20">
            <a:hlinkClick r:id="rId7" action="ppaction://hlinksldjump"/>
          </p:cNvPr>
          <p:cNvSpPr/>
          <p:nvPr/>
        </p:nvSpPr>
        <p:spPr>
          <a:xfrm>
            <a:off x="5794200" y="144936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Скругленный прямоугольник 21">
            <a:hlinkClick r:id="rId8" action="ppaction://hlinksldjump"/>
          </p:cNvPr>
          <p:cNvSpPr/>
          <p:nvPr/>
        </p:nvSpPr>
        <p:spPr>
          <a:xfrm>
            <a:off x="6843600" y="144936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Скругленный прямоугольник 22">
            <a:hlinkClick r:id="rId9" action="ppaction://hlinksldjump"/>
          </p:cNvPr>
          <p:cNvSpPr/>
          <p:nvPr/>
        </p:nvSpPr>
        <p:spPr>
          <a:xfrm>
            <a:off x="7893000" y="1449360"/>
            <a:ext cx="87012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Скругленный прямоугольник 23">
            <a:hlinkClick r:id="rId10" action="ppaction://hlinksldjump"/>
          </p:cNvPr>
          <p:cNvSpPr/>
          <p:nvPr/>
        </p:nvSpPr>
        <p:spPr>
          <a:xfrm>
            <a:off x="5816520" y="340200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кругленный прямоугольник 26">
            <a:hlinkClick r:id="rId11" action="ppaction://hlinksldjump"/>
          </p:cNvPr>
          <p:cNvSpPr/>
          <p:nvPr/>
        </p:nvSpPr>
        <p:spPr>
          <a:xfrm>
            <a:off x="4746600" y="2427120"/>
            <a:ext cx="87012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Скругленный прямоугольник 27">
            <a:hlinkClick r:id="rId12" action="ppaction://hlinksldjump"/>
          </p:cNvPr>
          <p:cNvSpPr/>
          <p:nvPr/>
        </p:nvSpPr>
        <p:spPr>
          <a:xfrm>
            <a:off x="5794200" y="2427120"/>
            <a:ext cx="87156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28">
            <a:hlinkClick r:id="rId13" action="ppaction://hlinksldjump"/>
          </p:cNvPr>
          <p:cNvSpPr/>
          <p:nvPr/>
        </p:nvSpPr>
        <p:spPr>
          <a:xfrm>
            <a:off x="6843600" y="2427120"/>
            <a:ext cx="87156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Скругленный прямоугольник 29">
            <a:hlinkClick r:id="rId14" action="ppaction://hlinksldjump"/>
          </p:cNvPr>
          <p:cNvSpPr/>
          <p:nvPr/>
        </p:nvSpPr>
        <p:spPr>
          <a:xfrm>
            <a:off x="7893000" y="2427120"/>
            <a:ext cx="87012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Скругленный прямоугольник 30">
            <a:hlinkClick r:id="rId15" action="ppaction://hlinksldjump"/>
          </p:cNvPr>
          <p:cNvSpPr/>
          <p:nvPr/>
        </p:nvSpPr>
        <p:spPr>
          <a:xfrm>
            <a:off x="6888240" y="3419640"/>
            <a:ext cx="871560" cy="8586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47"/>
          <p:cNvSpPr/>
          <p:nvPr/>
        </p:nvSpPr>
        <p:spPr>
          <a:xfrm>
            <a:off x="981000" y="4965840"/>
            <a:ext cx="2718000" cy="633240"/>
          </a:xfrm>
          <a:prstGeom prst="rect">
            <a:avLst/>
          </a:prstGeom>
          <a:solidFill>
            <a:srgbClr val="a50e82"/>
          </a:solidFill>
          <a:ln cap="rnd" w="15840">
            <a:solidFill>
              <a:srgbClr val="6f0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КОМАНДА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Овал 48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50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51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Овал 52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Овал 53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Овал 54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Овал 55"/>
          <p:cNvSpPr/>
          <p:nvPr/>
        </p:nvSpPr>
        <p:spPr>
          <a:xfrm>
            <a:off x="2011320" y="598644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Овал 56"/>
          <p:cNvSpPr/>
          <p:nvPr/>
        </p:nvSpPr>
        <p:spPr>
          <a:xfrm>
            <a:off x="2011320" y="59911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Овал 57"/>
          <p:cNvSpPr/>
          <p:nvPr/>
        </p:nvSpPr>
        <p:spPr>
          <a:xfrm>
            <a:off x="2011320" y="59911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Овал 58"/>
          <p:cNvSpPr/>
          <p:nvPr/>
        </p:nvSpPr>
        <p:spPr>
          <a:xfrm>
            <a:off x="2011320" y="59896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Овал 59"/>
          <p:cNvSpPr/>
          <p:nvPr/>
        </p:nvSpPr>
        <p:spPr>
          <a:xfrm>
            <a:off x="2011320" y="59911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Овал 60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61"/>
          <p:cNvSpPr/>
          <p:nvPr/>
        </p:nvSpPr>
        <p:spPr>
          <a:xfrm>
            <a:off x="2011320" y="5996160"/>
            <a:ext cx="760320" cy="71244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Овал 62"/>
          <p:cNvSpPr/>
          <p:nvPr/>
        </p:nvSpPr>
        <p:spPr>
          <a:xfrm>
            <a:off x="2011320" y="600084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Овал 63"/>
          <p:cNvSpPr/>
          <p:nvPr/>
        </p:nvSpPr>
        <p:spPr>
          <a:xfrm>
            <a:off x="2011320" y="5975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Овал 64"/>
          <p:cNvSpPr/>
          <p:nvPr/>
        </p:nvSpPr>
        <p:spPr>
          <a:xfrm>
            <a:off x="2011320" y="600084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65"/>
          <p:cNvSpPr/>
          <p:nvPr/>
        </p:nvSpPr>
        <p:spPr>
          <a:xfrm>
            <a:off x="2011320" y="59896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Овал 66"/>
          <p:cNvSpPr/>
          <p:nvPr/>
        </p:nvSpPr>
        <p:spPr>
          <a:xfrm>
            <a:off x="2011320" y="59770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67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Овал 68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Овал 69"/>
          <p:cNvSpPr/>
          <p:nvPr/>
        </p:nvSpPr>
        <p:spPr>
          <a:xfrm>
            <a:off x="2011320" y="6002280"/>
            <a:ext cx="76032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Овал 70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Овал 71"/>
          <p:cNvSpPr/>
          <p:nvPr/>
        </p:nvSpPr>
        <p:spPr>
          <a:xfrm>
            <a:off x="2011320" y="59878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72"/>
          <p:cNvSpPr/>
          <p:nvPr/>
        </p:nvSpPr>
        <p:spPr>
          <a:xfrm>
            <a:off x="2011320" y="5999040"/>
            <a:ext cx="76032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Овал 73"/>
          <p:cNvSpPr/>
          <p:nvPr/>
        </p:nvSpPr>
        <p:spPr>
          <a:xfrm>
            <a:off x="2011320" y="59878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вал 74"/>
          <p:cNvSpPr/>
          <p:nvPr/>
        </p:nvSpPr>
        <p:spPr>
          <a:xfrm>
            <a:off x="2011320" y="5992920"/>
            <a:ext cx="770040" cy="74124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75"/>
          <p:cNvSpPr/>
          <p:nvPr/>
        </p:nvSpPr>
        <p:spPr>
          <a:xfrm>
            <a:off x="4657680" y="4964040"/>
            <a:ext cx="3057480" cy="635040"/>
          </a:xfrm>
          <a:prstGeom prst="rect">
            <a:avLst/>
          </a:prstGeom>
          <a:solidFill>
            <a:srgbClr val="c62324"/>
          </a:solidFill>
          <a:ln cap="rnd" w="15840">
            <a:solidFill>
              <a:srgbClr val="9117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КОМАНДА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Овал 76"/>
          <p:cNvSpPr/>
          <p:nvPr/>
        </p:nvSpPr>
        <p:spPr>
          <a:xfrm>
            <a:off x="590544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Овал 78"/>
          <p:cNvSpPr/>
          <p:nvPr/>
        </p:nvSpPr>
        <p:spPr>
          <a:xfrm>
            <a:off x="5927760" y="597384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Овал 79"/>
          <p:cNvSpPr/>
          <p:nvPr/>
        </p:nvSpPr>
        <p:spPr>
          <a:xfrm>
            <a:off x="5915160" y="597384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Овал 80"/>
          <p:cNvSpPr/>
          <p:nvPr/>
        </p:nvSpPr>
        <p:spPr>
          <a:xfrm>
            <a:off x="590544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Овал 81"/>
          <p:cNvSpPr/>
          <p:nvPr/>
        </p:nvSpPr>
        <p:spPr>
          <a:xfrm>
            <a:off x="588312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Овал 82"/>
          <p:cNvSpPr/>
          <p:nvPr/>
        </p:nvSpPr>
        <p:spPr>
          <a:xfrm>
            <a:off x="589608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Овал 83"/>
          <p:cNvSpPr/>
          <p:nvPr/>
        </p:nvSpPr>
        <p:spPr>
          <a:xfrm>
            <a:off x="5908680" y="598320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Овал 84"/>
          <p:cNvSpPr/>
          <p:nvPr/>
        </p:nvSpPr>
        <p:spPr>
          <a:xfrm>
            <a:off x="5899320" y="600408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85"/>
          <p:cNvSpPr/>
          <p:nvPr/>
        </p:nvSpPr>
        <p:spPr>
          <a:xfrm>
            <a:off x="590868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86"/>
          <p:cNvSpPr/>
          <p:nvPr/>
        </p:nvSpPr>
        <p:spPr>
          <a:xfrm>
            <a:off x="5902200" y="600228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Овал 87"/>
          <p:cNvSpPr/>
          <p:nvPr/>
        </p:nvSpPr>
        <p:spPr>
          <a:xfrm>
            <a:off x="5902200" y="601200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Овал 88"/>
          <p:cNvSpPr/>
          <p:nvPr/>
        </p:nvSpPr>
        <p:spPr>
          <a:xfrm>
            <a:off x="590220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Овал 89"/>
          <p:cNvSpPr/>
          <p:nvPr/>
        </p:nvSpPr>
        <p:spPr>
          <a:xfrm>
            <a:off x="590868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90"/>
          <p:cNvSpPr/>
          <p:nvPr/>
        </p:nvSpPr>
        <p:spPr>
          <a:xfrm>
            <a:off x="590868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91"/>
          <p:cNvSpPr/>
          <p:nvPr/>
        </p:nvSpPr>
        <p:spPr>
          <a:xfrm>
            <a:off x="5918040" y="5994360"/>
            <a:ext cx="76068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92"/>
          <p:cNvSpPr/>
          <p:nvPr/>
        </p:nvSpPr>
        <p:spPr>
          <a:xfrm>
            <a:off x="590544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93"/>
          <p:cNvSpPr/>
          <p:nvPr/>
        </p:nvSpPr>
        <p:spPr>
          <a:xfrm>
            <a:off x="5918040" y="600228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Овал 94"/>
          <p:cNvSpPr/>
          <p:nvPr/>
        </p:nvSpPr>
        <p:spPr>
          <a:xfrm>
            <a:off x="591516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Овал 95"/>
          <p:cNvSpPr/>
          <p:nvPr/>
        </p:nvSpPr>
        <p:spPr>
          <a:xfrm>
            <a:off x="5915160" y="601200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Овал 96"/>
          <p:cNvSpPr/>
          <p:nvPr/>
        </p:nvSpPr>
        <p:spPr>
          <a:xfrm>
            <a:off x="590220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Овал 97"/>
          <p:cNvSpPr/>
          <p:nvPr/>
        </p:nvSpPr>
        <p:spPr>
          <a:xfrm>
            <a:off x="588636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Овал 98"/>
          <p:cNvSpPr/>
          <p:nvPr/>
        </p:nvSpPr>
        <p:spPr>
          <a:xfrm>
            <a:off x="590544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Овал 99"/>
          <p:cNvSpPr/>
          <p:nvPr/>
        </p:nvSpPr>
        <p:spPr>
          <a:xfrm>
            <a:off x="5905440" y="601200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Овал 100"/>
          <p:cNvSpPr/>
          <p:nvPr/>
        </p:nvSpPr>
        <p:spPr>
          <a:xfrm>
            <a:off x="590544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Овал 101"/>
          <p:cNvSpPr/>
          <p:nvPr/>
        </p:nvSpPr>
        <p:spPr>
          <a:xfrm>
            <a:off x="5905440" y="6013440"/>
            <a:ext cx="76032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Овал 102"/>
          <p:cNvSpPr/>
          <p:nvPr/>
        </p:nvSpPr>
        <p:spPr>
          <a:xfrm>
            <a:off x="5908680" y="601200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Скругленный прямоугольник 103"/>
          <p:cNvSpPr/>
          <p:nvPr/>
        </p:nvSpPr>
        <p:spPr>
          <a:xfrm>
            <a:off x="609480" y="3367080"/>
            <a:ext cx="3756240" cy="84924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Скругленный прямоугольник 104">
            <a:hlinkClick r:id="rId16" action="ppaction://hlinksldjump"/>
          </p:cNvPr>
          <p:cNvSpPr/>
          <p:nvPr/>
        </p:nvSpPr>
        <p:spPr>
          <a:xfrm>
            <a:off x="7891560" y="3402000"/>
            <a:ext cx="87156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477720" y="574560"/>
            <a:ext cx="112064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насекомое слышит ног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4511520" y="3600360"/>
            <a:ext cx="47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Кузнеч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Управляющая кнопка: домой 5">
            <a:hlinkClick r:id="" action="ppaction://hlinkshowjump?jump=previousslide"/>
          </p:cNvPr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336600" y="376200"/>
            <a:ext cx="116218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ноги у жирафа длиннее, передние или зад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3708360" y="3778200"/>
            <a:ext cx="62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Они одинаков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Управляющая кнопка: домой 6">
            <a:hlinkClick r:id="rId1" action="ppaction://hlinksldjump"/>
          </p:cNvPr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498600" y="246240"/>
            <a:ext cx="1135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 меня очень красивые рога, но каждую зиму мне приходиться их сбрасывать. Тело покрыто красивыми мелкими светлыми крапинками. Шерсть хорошо предохраняет от морозов, а широкие копыта не позволяют мне проваливаться в снегу. Я горжусь хорошим зрением, а мой слух и нюх позволяют без особого труда обнаружить опас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4106880" y="467532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Ол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5213520" y="5707080"/>
            <a:ext cx="473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Управляющая кнопка: домой 6">
            <a:hlinkClick r:id="rId1" action="ppaction://hlinksldjump"/>
          </p:cNvPr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325440" y="365040"/>
            <a:ext cx="1156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4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маленький зверек с бархатистым мехом темно- серого цвета. У меня сильные передние лапы, похожие на большие лопатки. На них растут когти, которыми я рою землю и отбрасываю ее назад. У меня есть глаза, но это всего лишь крохотные бусинки, прикрытые шерстью и кожей. Глаза мне не нужны, так как я постоянно живу под землей в кромешной темноте. Но у меня великолепный нюх. Я чувствую запах дождевого червя за несколько метро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4848120" y="5645160"/>
            <a:ext cx="33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твет: Кр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4848120" y="5707080"/>
            <a:ext cx="51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2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430200" y="830160"/>
            <a:ext cx="96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1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402160" y="5288040"/>
            <a:ext cx="49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1868400" y="1908000"/>
            <a:ext cx="2414520" cy="1359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2" descr=""/>
          <p:cNvPicPr/>
          <p:nvPr/>
        </p:nvPicPr>
        <p:blipFill>
          <a:blip r:embed="rId2"/>
          <a:stretch/>
        </p:blipFill>
        <p:spPr>
          <a:xfrm>
            <a:off x="5079960" y="1908000"/>
            <a:ext cx="2365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"/>
          <p:cNvPicPr/>
          <p:nvPr/>
        </p:nvPicPr>
        <p:blipFill>
          <a:blip r:embed="rId3"/>
          <a:stretch/>
        </p:blipFill>
        <p:spPr>
          <a:xfrm>
            <a:off x="8134200" y="1859040"/>
            <a:ext cx="2536920" cy="14572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" descr=""/>
          <p:cNvPicPr/>
          <p:nvPr/>
        </p:nvPicPr>
        <p:blipFill>
          <a:blip r:embed="rId4"/>
          <a:stretch/>
        </p:blipFill>
        <p:spPr>
          <a:xfrm>
            <a:off x="2413080" y="3683160"/>
            <a:ext cx="8372520" cy="8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534960" y="782640"/>
            <a:ext cx="113936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юбилей отмечала Карелия в 2020 году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1495440" y="533880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Рисунок 1" descr=""/>
          <p:cNvPicPr/>
          <p:nvPr/>
        </p:nvPicPr>
        <p:blipFill>
          <a:blip r:embed="rId1"/>
          <a:stretch/>
        </p:blipFill>
        <p:spPr>
          <a:xfrm>
            <a:off x="4578480" y="2657520"/>
            <a:ext cx="315756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214200" y="1092240"/>
            <a:ext cx="11977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нный  остров,  врезанный  в  бескрайнюю  водную  гладь  Ладожского  озера,  не  раз  становился источником  вдохновения  для  поэтов  и  художников. Изображение  живописного архипелага  запечатлено  на  полотнах  великих  худож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3643200" y="472608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Остров  Вала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4:53:38Z</dcterms:created>
  <dc:creator>Георгий Аствацатуров</dc:creator>
  <dc:description/>
  <dc:language>en-US</dc:language>
  <cp:lastModifiedBy>Олеся Копёнкина</cp:lastModifiedBy>
  <dcterms:modified xsi:type="dcterms:W3CDTF">2021-03-28T20:47:16Z</dcterms:modified>
  <cp:revision>52</cp:revision>
  <dc:subject/>
  <dc:title>igra</dc:title>
</cp:coreProperties>
</file>