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44DBC-92FA-4E51-9F8B-506FEC19B97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7E4E6-D8B6-498E-8D2A-513B7F81947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34323-2202-45D0-AC0C-C6A9D1AE1E3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2F6F7-0F75-49B9-B030-0673AE1CF54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4E8E0-2F90-4B7C-8975-7CB1E414D05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3EEED-0AA1-4A40-A253-244F37B07DA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8EE53-67FC-4CD6-AD82-935E8DAC0E2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6D89C-3EEF-4EBD-B87B-B64BE960FB9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648BC-E554-408E-B58D-1F09CD99EDC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86B28-0B39-465E-89F3-E90609F90A1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3EC55-2814-4099-AE35-7A59ED61354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1802C-CDC0-4052-A222-EF3CC5647D4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62B77-319B-48C7-BE3B-FC64BE3FE99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B7F9E-0C8A-4160-A914-328C59AC220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5F4FB-907C-4565-ADD6-AA7FB682DE0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EE1D0-0849-4152-A35F-D5001FC0539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A9FA8-FD0D-4DB9-AC5E-34A88C64FC3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90A44-818C-4D4A-98A8-6A8DDE59C08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DFF8F-050A-486E-9876-E41C397F9E6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F23D-4E89-433F-8809-FCFD43B46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4286-E28B-400B-AA3C-107C09502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1C8B-9A1C-493E-811D-7F0E8C35E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9995-FD07-44E1-A412-8D2ACF07E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E6949-284B-4BAE-9A87-256A2490F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F96D9-FB61-473B-8F4E-543BB255D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1449F-731C-491A-A454-4A0461B50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A7AD0-27ED-482B-8ED4-69CF76816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3D63B-8A10-4949-A385-0A1E2BDD0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000D3-9BC1-44CD-B525-68C957837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05DC3-82B8-44EF-B82B-2020F75F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7E2B-96CB-46A3-B231-9DAAE4E59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59A75-D335-4B4C-9DB9-5B83CE7D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839FC-674B-42F6-BB14-2182702B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8015B-87E3-434D-8A11-66BD63BC5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3032E-A729-4AC5-AE3E-1F30CF7F4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D632D-B698-4F3B-B2FB-2E1E8586A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6DF3D-E867-451F-9AE3-67C522956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3AEA8-CD79-4F49-9747-3D52DCACD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FBB2D-E921-40E8-979B-750A0BD47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8BEEB-7664-4B2F-8599-2BDD1A391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32BF0-26B5-472E-83DB-C42F89B22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FE33-81DA-4A9D-9B7E-5642308A8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AF10F-1C68-4037-B991-E30D84028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9B24B-AC45-49EA-8260-714ABC93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4EC15-564F-43A9-BB13-798C093F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C57FA-6315-48C2-BD47-F01B290F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71F4D-F2BF-45F6-ABA6-FDD8BA846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6DDE6-D621-4F52-B319-C80D1FC2B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6365C-2232-4191-AB7A-3E128F356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B291A-C0BF-4208-AE4C-8F3C9EDA2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74DF7-997A-47E9-A6A4-D57E2476A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FD69E-CD83-47B3-9501-C12A9641A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05FD-90EB-4897-8E80-63FA21B5A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F9C9C-A1D8-414D-BB38-04A401937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9A01C-54D4-411F-BADD-47725E7AF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9DCD7-6533-4168-9B16-82DB7A8BF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9B4F4-E448-4110-AAF0-56046B53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FCC08-EFF6-4ABE-A10B-B8D5AC02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93A88-A68C-41C5-8EC6-AE2B2696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42654-85F4-43C8-832B-ED59E6F03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61697-6508-4E74-B918-789D456E1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002F3-290D-410B-A44F-979011F6E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FA42-50A5-4D26-81A1-C86F21262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C851-B577-44AB-ABDB-8D1A506D0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AACC-B371-40AF-9D03-4CB9AF0B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F165-AC52-48C6-A4A8-1F4C4E51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C40F-BF6C-4C69-ACA8-7E3B5878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9207360" y="2963880"/>
            <a:ext cx="2981520" cy="3208320"/>
            <a:chOff x="9207360" y="2963880"/>
            <a:chExt cx="2981520" cy="320832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11275920" y="2963880"/>
              <a:ext cx="912960" cy="9126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9207360" y="3190680"/>
              <a:ext cx="2981520" cy="29815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10293120" y="3286080"/>
              <a:ext cx="1895760" cy="1895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10443600" y="3132000"/>
              <a:ext cx="1744920" cy="17445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10918800" y="3682800"/>
              <a:ext cx="1270080" cy="12700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2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472B-B419-4259-A52F-5793B411AAD3}" type="slidenum">
              <a:rPr b="0" lang="ru-RU" sz="32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traight Connector 15"/>
          <p:cNvSpPr/>
          <p:nvPr/>
        </p:nvSpPr>
        <p:spPr>
          <a:xfrm flipH="1">
            <a:off x="8227800" y="7920"/>
            <a:ext cx="3809880" cy="380988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Straight Connector 16"/>
          <p:cNvSpPr/>
          <p:nvPr/>
        </p:nvSpPr>
        <p:spPr>
          <a:xfrm flipH="1">
            <a:off x="6108480" y="92160"/>
            <a:ext cx="6080040" cy="608004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Straight Connector 18"/>
          <p:cNvSpPr/>
          <p:nvPr/>
        </p:nvSpPr>
        <p:spPr>
          <a:xfrm flipH="1">
            <a:off x="7236000" y="228600"/>
            <a:ext cx="4952880" cy="495288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Straight Connector 20"/>
          <p:cNvSpPr/>
          <p:nvPr/>
        </p:nvSpPr>
        <p:spPr>
          <a:xfrm flipH="1">
            <a:off x="7335360" y="31680"/>
            <a:ext cx="4853160" cy="4853160"/>
          </a:xfrm>
          <a:prstGeom prst="line">
            <a:avLst/>
          </a:prstGeom>
          <a:ln cap="rnd"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Straight Connector 22"/>
          <p:cNvSpPr/>
          <p:nvPr/>
        </p:nvSpPr>
        <p:spPr>
          <a:xfrm flipH="1">
            <a:off x="7845120" y="609480"/>
            <a:ext cx="4343400" cy="4343400"/>
          </a:xfrm>
          <a:prstGeom prst="line">
            <a:avLst/>
          </a:prstGeom>
          <a:ln cap="rnd"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2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3CE79-7601-40B4-8619-2A22F058B212}" type="slidenum">
              <a:rPr b="0" lang="ru-RU" sz="32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6"/>
          <p:cNvGrpSpPr/>
          <p:nvPr/>
        </p:nvGrpSpPr>
        <p:grpSpPr>
          <a:xfrm>
            <a:off x="9207360" y="2963880"/>
            <a:ext cx="2981520" cy="3208320"/>
            <a:chOff x="9207360" y="2963880"/>
            <a:chExt cx="2981520" cy="3208320"/>
          </a:xfrm>
        </p:grpSpPr>
        <p:sp>
          <p:nvSpPr>
            <p:cNvPr id="94" name="Straight Connector 7"/>
            <p:cNvSpPr/>
            <p:nvPr/>
          </p:nvSpPr>
          <p:spPr>
            <a:xfrm flipH="1">
              <a:off x="11275920" y="2963880"/>
              <a:ext cx="912960" cy="9126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Straight Connector 8"/>
            <p:cNvSpPr/>
            <p:nvPr/>
          </p:nvSpPr>
          <p:spPr>
            <a:xfrm flipH="1">
              <a:off x="9207360" y="3190680"/>
              <a:ext cx="2981520" cy="29815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Straight Connector 9"/>
            <p:cNvSpPr/>
            <p:nvPr/>
          </p:nvSpPr>
          <p:spPr>
            <a:xfrm flipH="1">
              <a:off x="10293120" y="3286080"/>
              <a:ext cx="1895760" cy="1895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Straight Connector 10"/>
            <p:cNvSpPr/>
            <p:nvPr/>
          </p:nvSpPr>
          <p:spPr>
            <a:xfrm flipH="1">
              <a:off x="10443600" y="3132000"/>
              <a:ext cx="1744920" cy="17445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Straight Connector 11"/>
            <p:cNvSpPr/>
            <p:nvPr/>
          </p:nvSpPr>
          <p:spPr>
            <a:xfrm flipH="1">
              <a:off x="10918800" y="3682800"/>
              <a:ext cx="1270080" cy="12700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" name="TextBox 12"/>
          <p:cNvSpPr/>
          <p:nvPr/>
        </p:nvSpPr>
        <p:spPr>
          <a:xfrm>
            <a:off x="531720" y="81288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13"/>
          <p:cNvSpPr/>
          <p:nvPr/>
        </p:nvSpPr>
        <p:spPr>
          <a:xfrm>
            <a:off x="10285560" y="276876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2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38A8C-3A84-4748-91D3-92FD2A36B265}" type="slidenum">
              <a:rPr b="0" lang="ru-RU" sz="32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6"/>
          <p:cNvGrpSpPr/>
          <p:nvPr/>
        </p:nvGrpSpPr>
        <p:grpSpPr>
          <a:xfrm>
            <a:off x="9207360" y="2963880"/>
            <a:ext cx="2981520" cy="3208320"/>
            <a:chOff x="9207360" y="2963880"/>
            <a:chExt cx="2981520" cy="3208320"/>
          </a:xfrm>
        </p:grpSpPr>
        <p:sp>
          <p:nvSpPr>
            <p:cNvPr id="143" name="Straight Connector 7"/>
            <p:cNvSpPr/>
            <p:nvPr/>
          </p:nvSpPr>
          <p:spPr>
            <a:xfrm flipH="1">
              <a:off x="11275920" y="2963880"/>
              <a:ext cx="912960" cy="9126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Straight Connector 8"/>
            <p:cNvSpPr/>
            <p:nvPr/>
          </p:nvSpPr>
          <p:spPr>
            <a:xfrm flipH="1">
              <a:off x="9207360" y="3190680"/>
              <a:ext cx="2981520" cy="29815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Straight Connector 9"/>
            <p:cNvSpPr/>
            <p:nvPr/>
          </p:nvSpPr>
          <p:spPr>
            <a:xfrm flipH="1">
              <a:off x="10293120" y="3286080"/>
              <a:ext cx="1895760" cy="1895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Straight Connector 10"/>
            <p:cNvSpPr/>
            <p:nvPr/>
          </p:nvSpPr>
          <p:spPr>
            <a:xfrm flipH="1">
              <a:off x="10443600" y="3132000"/>
              <a:ext cx="1744920" cy="17445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Straight Connector 11"/>
            <p:cNvSpPr/>
            <p:nvPr/>
          </p:nvSpPr>
          <p:spPr>
            <a:xfrm flipH="1">
              <a:off x="10918800" y="3682800"/>
              <a:ext cx="1270080" cy="12700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8" name="TextBox 12"/>
          <p:cNvSpPr/>
          <p:nvPr/>
        </p:nvSpPr>
        <p:spPr>
          <a:xfrm>
            <a:off x="531720" y="81288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Box 13"/>
          <p:cNvSpPr/>
          <p:nvPr/>
        </p:nvSpPr>
        <p:spPr>
          <a:xfrm>
            <a:off x="10285560" y="276876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2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140E7-43D3-4C83-9D30-08903E5F666A}" type="slidenum">
              <a:rPr b="0" lang="ru-RU" sz="32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1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7.xml"/><Relationship Id="rId11" Type="http://schemas.openxmlformats.org/officeDocument/2006/relationships/slide" Target="slide13.xml"/><Relationship Id="rId12" Type="http://schemas.openxmlformats.org/officeDocument/2006/relationships/slide" Target="slide11.xml"/><Relationship Id="rId13" Type="http://schemas.openxmlformats.org/officeDocument/2006/relationships/slide" Target="slide15.xml"/><Relationship Id="rId14" Type="http://schemas.openxmlformats.org/officeDocument/2006/relationships/slide" Target="slide14.xml"/><Relationship Id="rId15" Type="http://schemas.openxmlformats.org/officeDocument/2006/relationships/slide" Target="slide12.xml"/><Relationship Id="rId16" Type="http://schemas.openxmlformats.org/officeDocument/2006/relationships/slide" Target="slide15.xml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Заголовок 3" descr=""/>
          <p:cNvPicPr/>
          <p:nvPr/>
        </p:nvPicPr>
        <p:blipFill>
          <a:blip r:embed="rId1"/>
          <a:stretch/>
        </p:blipFill>
        <p:spPr>
          <a:xfrm>
            <a:off x="1494000" y="1474920"/>
            <a:ext cx="10021680" cy="212724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684360" y="3843000"/>
            <a:ext cx="6400800" cy="19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21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Box 1"/>
          <p:cNvSpPr/>
          <p:nvPr/>
        </p:nvSpPr>
        <p:spPr>
          <a:xfrm>
            <a:off x="630360" y="355680"/>
            <a:ext cx="11399760" cy="38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ОПРОС 2.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юбимая  ягода  Александра  Пушкина. Одно  из  народных  названий  «северный апельсин».  Очень  полезна  и  вкусна.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Box 3"/>
          <p:cNvSpPr/>
          <p:nvPr/>
        </p:nvSpPr>
        <p:spPr>
          <a:xfrm>
            <a:off x="4537080" y="4429080"/>
            <a:ext cx="358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: Морош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Управляющая кнопка: домой 5"/>
          <p:cNvSpPr/>
          <p:nvPr/>
        </p:nvSpPr>
        <p:spPr>
          <a:xfrm>
            <a:off x="11396520" y="6113520"/>
            <a:ext cx="795600" cy="744480"/>
          </a:xfrm>
          <a:custGeom>
            <a:avLst/>
            <a:gdLst>
              <a:gd name="textAreaLeft" fmla="*/ 48240 w 795600"/>
              <a:gd name="textAreaRight" fmla="*/ 747360 w 795600"/>
              <a:gd name="textAreaTop" fmla="*/ 48240 h 744480"/>
              <a:gd name="textAreaBottom" fmla="*/ 696240 h 744480"/>
            </a:gdLst>
            <a:ahLst/>
            <a:rect l="textAreaLeft" t="textAreaTop" r="textAreaRight" b="textAreaBottom"/>
            <a:pathLst>
              <a:path w="23082" h="21600">
                <a:moveTo>
                  <a:pt x="0" y="0"/>
                </a:moveTo>
                <a:lnTo>
                  <a:pt x="23082" y="0"/>
                </a:lnTo>
                <a:lnTo>
                  <a:pt x="23082" y="21600"/>
                </a:lnTo>
                <a:lnTo>
                  <a:pt x="0" y="21600"/>
                </a:lnTo>
                <a:close/>
              </a:path>
              <a:path fill="lightenLess" w="23082" h="21600">
                <a:moveTo>
                  <a:pt x="0" y="0"/>
                </a:moveTo>
                <a:lnTo>
                  <a:pt x="23082" y="0"/>
                </a:lnTo>
                <a:lnTo>
                  <a:pt x="21682" y="1400"/>
                </a:lnTo>
                <a:lnTo>
                  <a:pt x="1400" y="1400"/>
                </a:lnTo>
                <a:close/>
              </a:path>
              <a:path fill="darken" w="23082" h="21600">
                <a:moveTo>
                  <a:pt x="23082" y="0"/>
                </a:moveTo>
                <a:lnTo>
                  <a:pt x="23082" y="21600"/>
                </a:lnTo>
                <a:lnTo>
                  <a:pt x="21682" y="20200"/>
                </a:lnTo>
                <a:lnTo>
                  <a:pt x="21682" y="1400"/>
                </a:lnTo>
                <a:close/>
              </a:path>
              <a:path fill="darkenLess" w="23082" h="21600">
                <a:moveTo>
                  <a:pt x="23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82" y="20200"/>
                </a:lnTo>
                <a:close/>
              </a:path>
              <a:path fill="lighten" w="23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82" h="21600">
                <a:moveTo>
                  <a:pt x="11541" y="3837"/>
                </a:moveTo>
                <a:lnTo>
                  <a:pt x="14118" y="6448"/>
                </a:lnTo>
                <a:lnTo>
                  <a:pt x="14118" y="4707"/>
                </a:lnTo>
                <a:lnTo>
                  <a:pt x="15893" y="4707"/>
                </a:lnTo>
                <a:lnTo>
                  <a:pt x="15893" y="8224"/>
                </a:lnTo>
                <a:lnTo>
                  <a:pt x="18504" y="10800"/>
                </a:lnTo>
                <a:lnTo>
                  <a:pt x="16850" y="10800"/>
                </a:lnTo>
                <a:lnTo>
                  <a:pt x="16850" y="17989"/>
                </a:lnTo>
                <a:lnTo>
                  <a:pt x="6232" y="17989"/>
                </a:lnTo>
                <a:lnTo>
                  <a:pt x="6232" y="10800"/>
                </a:lnTo>
                <a:lnTo>
                  <a:pt x="4578" y="10800"/>
                </a:lnTo>
                <a:close/>
              </a:path>
              <a:path fill="darkenLess" w="23082" h="21600">
                <a:moveTo>
                  <a:pt x="14118" y="6448"/>
                </a:moveTo>
                <a:lnTo>
                  <a:pt x="14118" y="4707"/>
                </a:lnTo>
                <a:lnTo>
                  <a:pt x="15893" y="4707"/>
                </a:lnTo>
                <a:lnTo>
                  <a:pt x="15893" y="8224"/>
                </a:lnTo>
                <a:close/>
              </a:path>
              <a:path fill="darkenLess" w="23082" h="21600">
                <a:moveTo>
                  <a:pt x="10619" y="14299"/>
                </a:moveTo>
                <a:lnTo>
                  <a:pt x="12464" y="14299"/>
                </a:lnTo>
                <a:lnTo>
                  <a:pt x="12464" y="17989"/>
                </a:lnTo>
                <a:lnTo>
                  <a:pt x="16850" y="17989"/>
                </a:lnTo>
                <a:lnTo>
                  <a:pt x="16850" y="10800"/>
                </a:lnTo>
                <a:lnTo>
                  <a:pt x="6232" y="10800"/>
                </a:lnTo>
                <a:lnTo>
                  <a:pt x="6232" y="17989"/>
                </a:lnTo>
                <a:lnTo>
                  <a:pt x="10619" y="17989"/>
                </a:lnTo>
                <a:close/>
              </a:path>
            </a:pathLst>
          </a:cu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Box 1"/>
          <p:cNvSpPr/>
          <p:nvPr/>
        </p:nvSpPr>
        <p:spPr>
          <a:xfrm>
            <a:off x="477720" y="487440"/>
            <a:ext cx="1091880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ОПРОС 3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казочная героиня, владелица первого в мире летального аппарат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Box 3"/>
          <p:cNvSpPr/>
          <p:nvPr/>
        </p:nvSpPr>
        <p:spPr>
          <a:xfrm>
            <a:off x="4216320" y="4183200"/>
            <a:ext cx="379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: Баба- Яг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Управляющая кнопка: домой 6"/>
          <p:cNvSpPr/>
          <p:nvPr/>
        </p:nvSpPr>
        <p:spPr>
          <a:xfrm>
            <a:off x="11396520" y="6113520"/>
            <a:ext cx="795600" cy="744480"/>
          </a:xfrm>
          <a:custGeom>
            <a:avLst/>
            <a:gdLst>
              <a:gd name="textAreaLeft" fmla="*/ 48240 w 795600"/>
              <a:gd name="textAreaRight" fmla="*/ 747360 w 795600"/>
              <a:gd name="textAreaTop" fmla="*/ 48240 h 744480"/>
              <a:gd name="textAreaBottom" fmla="*/ 696240 h 744480"/>
            </a:gdLst>
            <a:ahLst/>
            <a:rect l="textAreaLeft" t="textAreaTop" r="textAreaRight" b="textAreaBottom"/>
            <a:pathLst>
              <a:path w="23082" h="21600">
                <a:moveTo>
                  <a:pt x="0" y="0"/>
                </a:moveTo>
                <a:lnTo>
                  <a:pt x="23082" y="0"/>
                </a:lnTo>
                <a:lnTo>
                  <a:pt x="23082" y="21600"/>
                </a:lnTo>
                <a:lnTo>
                  <a:pt x="0" y="21600"/>
                </a:lnTo>
                <a:close/>
              </a:path>
              <a:path fill="lightenLess" w="23082" h="21600">
                <a:moveTo>
                  <a:pt x="0" y="0"/>
                </a:moveTo>
                <a:lnTo>
                  <a:pt x="23082" y="0"/>
                </a:lnTo>
                <a:lnTo>
                  <a:pt x="21682" y="1400"/>
                </a:lnTo>
                <a:lnTo>
                  <a:pt x="1400" y="1400"/>
                </a:lnTo>
                <a:close/>
              </a:path>
              <a:path fill="darken" w="23082" h="21600">
                <a:moveTo>
                  <a:pt x="23082" y="0"/>
                </a:moveTo>
                <a:lnTo>
                  <a:pt x="23082" y="21600"/>
                </a:lnTo>
                <a:lnTo>
                  <a:pt x="21682" y="20200"/>
                </a:lnTo>
                <a:lnTo>
                  <a:pt x="21682" y="1400"/>
                </a:lnTo>
                <a:close/>
              </a:path>
              <a:path fill="darkenLess" w="23082" h="21600">
                <a:moveTo>
                  <a:pt x="23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82" y="20200"/>
                </a:lnTo>
                <a:close/>
              </a:path>
              <a:path fill="lighten" w="23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82" h="21600">
                <a:moveTo>
                  <a:pt x="11541" y="3837"/>
                </a:moveTo>
                <a:lnTo>
                  <a:pt x="14118" y="6448"/>
                </a:lnTo>
                <a:lnTo>
                  <a:pt x="14118" y="4707"/>
                </a:lnTo>
                <a:lnTo>
                  <a:pt x="15893" y="4707"/>
                </a:lnTo>
                <a:lnTo>
                  <a:pt x="15893" y="8224"/>
                </a:lnTo>
                <a:lnTo>
                  <a:pt x="18504" y="10800"/>
                </a:lnTo>
                <a:lnTo>
                  <a:pt x="16850" y="10800"/>
                </a:lnTo>
                <a:lnTo>
                  <a:pt x="16850" y="17989"/>
                </a:lnTo>
                <a:lnTo>
                  <a:pt x="6232" y="17989"/>
                </a:lnTo>
                <a:lnTo>
                  <a:pt x="6232" y="10800"/>
                </a:lnTo>
                <a:lnTo>
                  <a:pt x="4578" y="10800"/>
                </a:lnTo>
                <a:close/>
              </a:path>
              <a:path fill="darkenLess" w="23082" h="21600">
                <a:moveTo>
                  <a:pt x="14118" y="6448"/>
                </a:moveTo>
                <a:lnTo>
                  <a:pt x="14118" y="4707"/>
                </a:lnTo>
                <a:lnTo>
                  <a:pt x="15893" y="4707"/>
                </a:lnTo>
                <a:lnTo>
                  <a:pt x="15893" y="8224"/>
                </a:lnTo>
                <a:close/>
              </a:path>
              <a:path fill="darkenLess" w="23082" h="21600">
                <a:moveTo>
                  <a:pt x="10619" y="14299"/>
                </a:moveTo>
                <a:lnTo>
                  <a:pt x="12464" y="14299"/>
                </a:lnTo>
                <a:lnTo>
                  <a:pt x="12464" y="17989"/>
                </a:lnTo>
                <a:lnTo>
                  <a:pt x="16850" y="17989"/>
                </a:lnTo>
                <a:lnTo>
                  <a:pt x="16850" y="10800"/>
                </a:lnTo>
                <a:lnTo>
                  <a:pt x="6232" y="10800"/>
                </a:lnTo>
                <a:lnTo>
                  <a:pt x="6232" y="17989"/>
                </a:lnTo>
                <a:lnTo>
                  <a:pt x="10619" y="17989"/>
                </a:lnTo>
                <a:close/>
              </a:path>
            </a:pathLst>
          </a:cu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Box 1"/>
          <p:cNvSpPr/>
          <p:nvPr/>
        </p:nvSpPr>
        <p:spPr>
          <a:xfrm>
            <a:off x="396720" y="755640"/>
            <a:ext cx="95932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ОПРОС 3.2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гадай сказку по ребус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Box 3"/>
          <p:cNvSpPr/>
          <p:nvPr/>
        </p:nvSpPr>
        <p:spPr>
          <a:xfrm>
            <a:off x="477720" y="5548320"/>
            <a:ext cx="357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: Золуш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Управляющая кнопка: домой 6"/>
          <p:cNvSpPr/>
          <p:nvPr/>
        </p:nvSpPr>
        <p:spPr>
          <a:xfrm>
            <a:off x="11396520" y="6113520"/>
            <a:ext cx="795600" cy="744480"/>
          </a:xfrm>
          <a:custGeom>
            <a:avLst/>
            <a:gdLst>
              <a:gd name="textAreaLeft" fmla="*/ 48240 w 795600"/>
              <a:gd name="textAreaRight" fmla="*/ 747360 w 795600"/>
              <a:gd name="textAreaTop" fmla="*/ 48240 h 744480"/>
              <a:gd name="textAreaBottom" fmla="*/ 696240 h 744480"/>
            </a:gdLst>
            <a:ahLst/>
            <a:rect l="textAreaLeft" t="textAreaTop" r="textAreaRight" b="textAreaBottom"/>
            <a:pathLst>
              <a:path w="23082" h="21600">
                <a:moveTo>
                  <a:pt x="0" y="0"/>
                </a:moveTo>
                <a:lnTo>
                  <a:pt x="23082" y="0"/>
                </a:lnTo>
                <a:lnTo>
                  <a:pt x="23082" y="21600"/>
                </a:lnTo>
                <a:lnTo>
                  <a:pt x="0" y="21600"/>
                </a:lnTo>
                <a:close/>
              </a:path>
              <a:path fill="lightenLess" w="23082" h="21600">
                <a:moveTo>
                  <a:pt x="0" y="0"/>
                </a:moveTo>
                <a:lnTo>
                  <a:pt x="23082" y="0"/>
                </a:lnTo>
                <a:lnTo>
                  <a:pt x="21682" y="1400"/>
                </a:lnTo>
                <a:lnTo>
                  <a:pt x="1400" y="1400"/>
                </a:lnTo>
                <a:close/>
              </a:path>
              <a:path fill="darken" w="23082" h="21600">
                <a:moveTo>
                  <a:pt x="23082" y="0"/>
                </a:moveTo>
                <a:lnTo>
                  <a:pt x="23082" y="21600"/>
                </a:lnTo>
                <a:lnTo>
                  <a:pt x="21682" y="20200"/>
                </a:lnTo>
                <a:lnTo>
                  <a:pt x="21682" y="1400"/>
                </a:lnTo>
                <a:close/>
              </a:path>
              <a:path fill="darkenLess" w="23082" h="21600">
                <a:moveTo>
                  <a:pt x="23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82" y="20200"/>
                </a:lnTo>
                <a:close/>
              </a:path>
              <a:path fill="lighten" w="23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82" h="21600">
                <a:moveTo>
                  <a:pt x="11541" y="3837"/>
                </a:moveTo>
                <a:lnTo>
                  <a:pt x="14118" y="6448"/>
                </a:lnTo>
                <a:lnTo>
                  <a:pt x="14118" y="4707"/>
                </a:lnTo>
                <a:lnTo>
                  <a:pt x="15893" y="4707"/>
                </a:lnTo>
                <a:lnTo>
                  <a:pt x="15893" y="8224"/>
                </a:lnTo>
                <a:lnTo>
                  <a:pt x="18504" y="10800"/>
                </a:lnTo>
                <a:lnTo>
                  <a:pt x="16850" y="10800"/>
                </a:lnTo>
                <a:lnTo>
                  <a:pt x="16850" y="17989"/>
                </a:lnTo>
                <a:lnTo>
                  <a:pt x="6232" y="17989"/>
                </a:lnTo>
                <a:lnTo>
                  <a:pt x="6232" y="10800"/>
                </a:lnTo>
                <a:lnTo>
                  <a:pt x="4578" y="10800"/>
                </a:lnTo>
                <a:close/>
              </a:path>
              <a:path fill="darkenLess" w="23082" h="21600">
                <a:moveTo>
                  <a:pt x="14118" y="6448"/>
                </a:moveTo>
                <a:lnTo>
                  <a:pt x="14118" y="4707"/>
                </a:lnTo>
                <a:lnTo>
                  <a:pt x="15893" y="4707"/>
                </a:lnTo>
                <a:lnTo>
                  <a:pt x="15893" y="8224"/>
                </a:lnTo>
                <a:close/>
              </a:path>
              <a:path fill="darkenLess" w="23082" h="21600">
                <a:moveTo>
                  <a:pt x="10619" y="14299"/>
                </a:moveTo>
                <a:lnTo>
                  <a:pt x="12464" y="14299"/>
                </a:lnTo>
                <a:lnTo>
                  <a:pt x="12464" y="17989"/>
                </a:lnTo>
                <a:lnTo>
                  <a:pt x="16850" y="17989"/>
                </a:lnTo>
                <a:lnTo>
                  <a:pt x="16850" y="10800"/>
                </a:lnTo>
                <a:lnTo>
                  <a:pt x="6232" y="10800"/>
                </a:lnTo>
                <a:lnTo>
                  <a:pt x="6232" y="17989"/>
                </a:lnTo>
                <a:lnTo>
                  <a:pt x="10619" y="17989"/>
                </a:lnTo>
                <a:close/>
              </a:path>
            </a:pathLst>
          </a:cu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Рисунок 1" descr=""/>
          <p:cNvPicPr/>
          <p:nvPr/>
        </p:nvPicPr>
        <p:blipFill>
          <a:blip r:embed="rId1"/>
          <a:srcRect l="15668" t="31228" r="12166" b="34110"/>
          <a:stretch/>
        </p:blipFill>
        <p:spPr>
          <a:xfrm>
            <a:off x="1386000" y="2011320"/>
            <a:ext cx="8824680" cy="317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Box 1"/>
          <p:cNvSpPr/>
          <p:nvPr/>
        </p:nvSpPr>
        <p:spPr>
          <a:xfrm>
            <a:off x="112680" y="395280"/>
            <a:ext cx="5648400" cy="55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ОПРОС 3.3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гадай героя: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о маленький толстенький самоуверенный человечек, который умеет летать сам по себе. Стоит ему нажать кнопку на животе, как у него за спиной тут же начинает работать хитроумный моторчик…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Box 3"/>
          <p:cNvSpPr/>
          <p:nvPr/>
        </p:nvSpPr>
        <p:spPr>
          <a:xfrm>
            <a:off x="477720" y="5962680"/>
            <a:ext cx="395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: Карлсо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Управляющая кнопка: домой 5"/>
          <p:cNvSpPr/>
          <p:nvPr/>
        </p:nvSpPr>
        <p:spPr>
          <a:xfrm>
            <a:off x="11396520" y="6113520"/>
            <a:ext cx="795600" cy="744480"/>
          </a:xfrm>
          <a:custGeom>
            <a:avLst/>
            <a:gdLst>
              <a:gd name="textAreaLeft" fmla="*/ 48240 w 795600"/>
              <a:gd name="textAreaRight" fmla="*/ 747360 w 795600"/>
              <a:gd name="textAreaTop" fmla="*/ 48240 h 744480"/>
              <a:gd name="textAreaBottom" fmla="*/ 696240 h 744480"/>
            </a:gdLst>
            <a:ahLst/>
            <a:rect l="textAreaLeft" t="textAreaTop" r="textAreaRight" b="textAreaBottom"/>
            <a:pathLst>
              <a:path w="23082" h="21600">
                <a:moveTo>
                  <a:pt x="0" y="0"/>
                </a:moveTo>
                <a:lnTo>
                  <a:pt x="23082" y="0"/>
                </a:lnTo>
                <a:lnTo>
                  <a:pt x="23082" y="21600"/>
                </a:lnTo>
                <a:lnTo>
                  <a:pt x="0" y="21600"/>
                </a:lnTo>
                <a:close/>
              </a:path>
              <a:path fill="lightenLess" w="23082" h="21600">
                <a:moveTo>
                  <a:pt x="0" y="0"/>
                </a:moveTo>
                <a:lnTo>
                  <a:pt x="23082" y="0"/>
                </a:lnTo>
                <a:lnTo>
                  <a:pt x="21682" y="1400"/>
                </a:lnTo>
                <a:lnTo>
                  <a:pt x="1400" y="1400"/>
                </a:lnTo>
                <a:close/>
              </a:path>
              <a:path fill="darken" w="23082" h="21600">
                <a:moveTo>
                  <a:pt x="23082" y="0"/>
                </a:moveTo>
                <a:lnTo>
                  <a:pt x="23082" y="21600"/>
                </a:lnTo>
                <a:lnTo>
                  <a:pt x="21682" y="20200"/>
                </a:lnTo>
                <a:lnTo>
                  <a:pt x="21682" y="1400"/>
                </a:lnTo>
                <a:close/>
              </a:path>
              <a:path fill="darkenLess" w="23082" h="21600">
                <a:moveTo>
                  <a:pt x="23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82" y="20200"/>
                </a:lnTo>
                <a:close/>
              </a:path>
              <a:path fill="lighten" w="23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82" h="21600">
                <a:moveTo>
                  <a:pt x="11541" y="3837"/>
                </a:moveTo>
                <a:lnTo>
                  <a:pt x="14118" y="6448"/>
                </a:lnTo>
                <a:lnTo>
                  <a:pt x="14118" y="4707"/>
                </a:lnTo>
                <a:lnTo>
                  <a:pt x="15893" y="4707"/>
                </a:lnTo>
                <a:lnTo>
                  <a:pt x="15893" y="8224"/>
                </a:lnTo>
                <a:lnTo>
                  <a:pt x="18504" y="10800"/>
                </a:lnTo>
                <a:lnTo>
                  <a:pt x="16850" y="10800"/>
                </a:lnTo>
                <a:lnTo>
                  <a:pt x="16850" y="17989"/>
                </a:lnTo>
                <a:lnTo>
                  <a:pt x="6232" y="17989"/>
                </a:lnTo>
                <a:lnTo>
                  <a:pt x="6232" y="10800"/>
                </a:lnTo>
                <a:lnTo>
                  <a:pt x="4578" y="10800"/>
                </a:lnTo>
                <a:close/>
              </a:path>
              <a:path fill="darkenLess" w="23082" h="21600">
                <a:moveTo>
                  <a:pt x="14118" y="6448"/>
                </a:moveTo>
                <a:lnTo>
                  <a:pt x="14118" y="4707"/>
                </a:lnTo>
                <a:lnTo>
                  <a:pt x="15893" y="4707"/>
                </a:lnTo>
                <a:lnTo>
                  <a:pt x="15893" y="8224"/>
                </a:lnTo>
                <a:close/>
              </a:path>
              <a:path fill="darkenLess" w="23082" h="21600">
                <a:moveTo>
                  <a:pt x="10619" y="14299"/>
                </a:moveTo>
                <a:lnTo>
                  <a:pt x="12464" y="14299"/>
                </a:lnTo>
                <a:lnTo>
                  <a:pt x="12464" y="17989"/>
                </a:lnTo>
                <a:lnTo>
                  <a:pt x="16850" y="17989"/>
                </a:lnTo>
                <a:lnTo>
                  <a:pt x="16850" y="10800"/>
                </a:lnTo>
                <a:lnTo>
                  <a:pt x="6232" y="10800"/>
                </a:lnTo>
                <a:lnTo>
                  <a:pt x="6232" y="17989"/>
                </a:lnTo>
                <a:lnTo>
                  <a:pt x="10619" y="17989"/>
                </a:lnTo>
                <a:close/>
              </a:path>
            </a:pathLst>
          </a:cu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" name="Рисунок 1" descr=""/>
          <p:cNvPicPr/>
          <p:nvPr/>
        </p:nvPicPr>
        <p:blipFill>
          <a:blip r:embed="rId1"/>
          <a:stretch/>
        </p:blipFill>
        <p:spPr>
          <a:xfrm>
            <a:off x="5761080" y="1512720"/>
            <a:ext cx="6329160" cy="355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Box 1"/>
          <p:cNvSpPr/>
          <p:nvPr/>
        </p:nvSpPr>
        <p:spPr>
          <a:xfrm>
            <a:off x="477720" y="792000"/>
            <a:ext cx="1125720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ОПРОС 3.4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рево, чаще всего встречающееся в сказках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Box 3"/>
          <p:cNvSpPr/>
          <p:nvPr/>
        </p:nvSpPr>
        <p:spPr>
          <a:xfrm>
            <a:off x="4816440" y="3760920"/>
            <a:ext cx="551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: Ду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Управляющая кнопка: домой 6"/>
          <p:cNvSpPr/>
          <p:nvPr/>
        </p:nvSpPr>
        <p:spPr>
          <a:xfrm>
            <a:off x="11396520" y="6113520"/>
            <a:ext cx="795600" cy="744480"/>
          </a:xfrm>
          <a:custGeom>
            <a:avLst/>
            <a:gdLst>
              <a:gd name="textAreaLeft" fmla="*/ 48240 w 795600"/>
              <a:gd name="textAreaRight" fmla="*/ 747360 w 795600"/>
              <a:gd name="textAreaTop" fmla="*/ 48240 h 744480"/>
              <a:gd name="textAreaBottom" fmla="*/ 696240 h 744480"/>
            </a:gdLst>
            <a:ahLst/>
            <a:rect l="textAreaLeft" t="textAreaTop" r="textAreaRight" b="textAreaBottom"/>
            <a:pathLst>
              <a:path w="23082" h="21600">
                <a:moveTo>
                  <a:pt x="0" y="0"/>
                </a:moveTo>
                <a:lnTo>
                  <a:pt x="23082" y="0"/>
                </a:lnTo>
                <a:lnTo>
                  <a:pt x="23082" y="21600"/>
                </a:lnTo>
                <a:lnTo>
                  <a:pt x="0" y="21600"/>
                </a:lnTo>
                <a:close/>
              </a:path>
              <a:path fill="lightenLess" w="23082" h="21600">
                <a:moveTo>
                  <a:pt x="0" y="0"/>
                </a:moveTo>
                <a:lnTo>
                  <a:pt x="23082" y="0"/>
                </a:lnTo>
                <a:lnTo>
                  <a:pt x="21682" y="1400"/>
                </a:lnTo>
                <a:lnTo>
                  <a:pt x="1400" y="1400"/>
                </a:lnTo>
                <a:close/>
              </a:path>
              <a:path fill="darken" w="23082" h="21600">
                <a:moveTo>
                  <a:pt x="23082" y="0"/>
                </a:moveTo>
                <a:lnTo>
                  <a:pt x="23082" y="21600"/>
                </a:lnTo>
                <a:lnTo>
                  <a:pt x="21682" y="20200"/>
                </a:lnTo>
                <a:lnTo>
                  <a:pt x="21682" y="1400"/>
                </a:lnTo>
                <a:close/>
              </a:path>
              <a:path fill="darkenLess" w="23082" h="21600">
                <a:moveTo>
                  <a:pt x="23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82" y="20200"/>
                </a:lnTo>
                <a:close/>
              </a:path>
              <a:path fill="lighten" w="23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82" h="21600">
                <a:moveTo>
                  <a:pt x="11541" y="3837"/>
                </a:moveTo>
                <a:lnTo>
                  <a:pt x="14118" y="6448"/>
                </a:lnTo>
                <a:lnTo>
                  <a:pt x="14118" y="4707"/>
                </a:lnTo>
                <a:lnTo>
                  <a:pt x="15893" y="4707"/>
                </a:lnTo>
                <a:lnTo>
                  <a:pt x="15893" y="8224"/>
                </a:lnTo>
                <a:lnTo>
                  <a:pt x="18504" y="10800"/>
                </a:lnTo>
                <a:lnTo>
                  <a:pt x="16850" y="10800"/>
                </a:lnTo>
                <a:lnTo>
                  <a:pt x="16850" y="17989"/>
                </a:lnTo>
                <a:lnTo>
                  <a:pt x="6232" y="17989"/>
                </a:lnTo>
                <a:lnTo>
                  <a:pt x="6232" y="10800"/>
                </a:lnTo>
                <a:lnTo>
                  <a:pt x="4578" y="10800"/>
                </a:lnTo>
                <a:close/>
              </a:path>
              <a:path fill="darkenLess" w="23082" h="21600">
                <a:moveTo>
                  <a:pt x="14118" y="6448"/>
                </a:moveTo>
                <a:lnTo>
                  <a:pt x="14118" y="4707"/>
                </a:lnTo>
                <a:lnTo>
                  <a:pt x="15893" y="4707"/>
                </a:lnTo>
                <a:lnTo>
                  <a:pt x="15893" y="8224"/>
                </a:lnTo>
                <a:close/>
              </a:path>
              <a:path fill="darkenLess" w="23082" h="21600">
                <a:moveTo>
                  <a:pt x="10619" y="14299"/>
                </a:moveTo>
                <a:lnTo>
                  <a:pt x="12464" y="14299"/>
                </a:lnTo>
                <a:lnTo>
                  <a:pt x="12464" y="17989"/>
                </a:lnTo>
                <a:lnTo>
                  <a:pt x="16850" y="17989"/>
                </a:lnTo>
                <a:lnTo>
                  <a:pt x="16850" y="10800"/>
                </a:lnTo>
                <a:lnTo>
                  <a:pt x="6232" y="10800"/>
                </a:lnTo>
                <a:lnTo>
                  <a:pt x="6232" y="17989"/>
                </a:lnTo>
                <a:lnTo>
                  <a:pt x="10619" y="17989"/>
                </a:lnTo>
                <a:close/>
              </a:path>
            </a:pathLst>
          </a:cu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Box 1"/>
          <p:cNvSpPr/>
          <p:nvPr/>
        </p:nvSpPr>
        <p:spPr>
          <a:xfrm>
            <a:off x="477720" y="792000"/>
            <a:ext cx="1140012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ОПРОС 4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берёзе росло 90 яблок. Подул сильный ветер, и 10 яблок упало. Сколько осталось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Box 3"/>
          <p:cNvSpPr/>
          <p:nvPr/>
        </p:nvSpPr>
        <p:spPr>
          <a:xfrm>
            <a:off x="2611440" y="3867120"/>
            <a:ext cx="713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: Яблоки не растут на берёз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Управляющая кнопка: домой 6"/>
          <p:cNvSpPr/>
          <p:nvPr/>
        </p:nvSpPr>
        <p:spPr>
          <a:xfrm>
            <a:off x="11396520" y="6113520"/>
            <a:ext cx="795600" cy="744480"/>
          </a:xfrm>
          <a:custGeom>
            <a:avLst/>
            <a:gdLst>
              <a:gd name="textAreaLeft" fmla="*/ 48240 w 795600"/>
              <a:gd name="textAreaRight" fmla="*/ 747360 w 795600"/>
              <a:gd name="textAreaTop" fmla="*/ 48240 h 744480"/>
              <a:gd name="textAreaBottom" fmla="*/ 696240 h 744480"/>
            </a:gdLst>
            <a:ahLst/>
            <a:rect l="textAreaLeft" t="textAreaTop" r="textAreaRight" b="textAreaBottom"/>
            <a:pathLst>
              <a:path w="23082" h="21600">
                <a:moveTo>
                  <a:pt x="0" y="0"/>
                </a:moveTo>
                <a:lnTo>
                  <a:pt x="23082" y="0"/>
                </a:lnTo>
                <a:lnTo>
                  <a:pt x="23082" y="21600"/>
                </a:lnTo>
                <a:lnTo>
                  <a:pt x="0" y="21600"/>
                </a:lnTo>
                <a:close/>
              </a:path>
              <a:path fill="lightenLess" w="23082" h="21600">
                <a:moveTo>
                  <a:pt x="0" y="0"/>
                </a:moveTo>
                <a:lnTo>
                  <a:pt x="23082" y="0"/>
                </a:lnTo>
                <a:lnTo>
                  <a:pt x="21682" y="1400"/>
                </a:lnTo>
                <a:lnTo>
                  <a:pt x="1400" y="1400"/>
                </a:lnTo>
                <a:close/>
              </a:path>
              <a:path fill="darken" w="23082" h="21600">
                <a:moveTo>
                  <a:pt x="23082" y="0"/>
                </a:moveTo>
                <a:lnTo>
                  <a:pt x="23082" y="21600"/>
                </a:lnTo>
                <a:lnTo>
                  <a:pt x="21682" y="20200"/>
                </a:lnTo>
                <a:lnTo>
                  <a:pt x="21682" y="1400"/>
                </a:lnTo>
                <a:close/>
              </a:path>
              <a:path fill="darkenLess" w="23082" h="21600">
                <a:moveTo>
                  <a:pt x="23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82" y="20200"/>
                </a:lnTo>
                <a:close/>
              </a:path>
              <a:path fill="lighten" w="23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82" h="21600">
                <a:moveTo>
                  <a:pt x="11541" y="3837"/>
                </a:moveTo>
                <a:lnTo>
                  <a:pt x="14118" y="6448"/>
                </a:lnTo>
                <a:lnTo>
                  <a:pt x="14118" y="4707"/>
                </a:lnTo>
                <a:lnTo>
                  <a:pt x="15893" y="4707"/>
                </a:lnTo>
                <a:lnTo>
                  <a:pt x="15893" y="8224"/>
                </a:lnTo>
                <a:lnTo>
                  <a:pt x="18504" y="10800"/>
                </a:lnTo>
                <a:lnTo>
                  <a:pt x="16850" y="10800"/>
                </a:lnTo>
                <a:lnTo>
                  <a:pt x="16850" y="17989"/>
                </a:lnTo>
                <a:lnTo>
                  <a:pt x="6232" y="17989"/>
                </a:lnTo>
                <a:lnTo>
                  <a:pt x="6232" y="10800"/>
                </a:lnTo>
                <a:lnTo>
                  <a:pt x="4578" y="10800"/>
                </a:lnTo>
                <a:close/>
              </a:path>
              <a:path fill="darkenLess" w="23082" h="21600">
                <a:moveTo>
                  <a:pt x="14118" y="6448"/>
                </a:moveTo>
                <a:lnTo>
                  <a:pt x="14118" y="4707"/>
                </a:lnTo>
                <a:lnTo>
                  <a:pt x="15893" y="4707"/>
                </a:lnTo>
                <a:lnTo>
                  <a:pt x="15893" y="8224"/>
                </a:lnTo>
                <a:close/>
              </a:path>
              <a:path fill="darkenLess" w="23082" h="21600">
                <a:moveTo>
                  <a:pt x="10619" y="14299"/>
                </a:moveTo>
                <a:lnTo>
                  <a:pt x="12464" y="14299"/>
                </a:lnTo>
                <a:lnTo>
                  <a:pt x="12464" y="17989"/>
                </a:lnTo>
                <a:lnTo>
                  <a:pt x="16850" y="17989"/>
                </a:lnTo>
                <a:lnTo>
                  <a:pt x="16850" y="10800"/>
                </a:lnTo>
                <a:lnTo>
                  <a:pt x="6232" y="10800"/>
                </a:lnTo>
                <a:lnTo>
                  <a:pt x="6232" y="17989"/>
                </a:lnTo>
                <a:lnTo>
                  <a:pt x="10619" y="17989"/>
                </a:lnTo>
                <a:close/>
              </a:path>
            </a:pathLst>
          </a:cu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Box 1"/>
          <p:cNvSpPr/>
          <p:nvPr/>
        </p:nvSpPr>
        <p:spPr>
          <a:xfrm>
            <a:off x="477720" y="822240"/>
            <a:ext cx="11400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ОПРОС 4.2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мь сестёр находятся на даче, где каждая занята каким-то делом. Первая сестра читает книгу, вторая — готовит еду, третья — играет в шахматы, четвёртая — разгадывает судоку, пятая — занимается стиркой, шестая — ухаживает за растениями. А чем занимается седьмая сестра?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60093"/>
                </a:solidFill>
                <a:latin typeface="Calibri"/>
              </a:rPr>
              <a:t>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Box 3"/>
          <p:cNvSpPr/>
          <p:nvPr/>
        </p:nvSpPr>
        <p:spPr>
          <a:xfrm>
            <a:off x="3611520" y="4836960"/>
            <a:ext cx="58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: Играет в шахматы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Управляющая кнопка: домой 5"/>
          <p:cNvSpPr/>
          <p:nvPr/>
        </p:nvSpPr>
        <p:spPr>
          <a:xfrm>
            <a:off x="11396520" y="6113520"/>
            <a:ext cx="795600" cy="744480"/>
          </a:xfrm>
          <a:custGeom>
            <a:avLst/>
            <a:gdLst>
              <a:gd name="textAreaLeft" fmla="*/ 48240 w 795600"/>
              <a:gd name="textAreaRight" fmla="*/ 747360 w 795600"/>
              <a:gd name="textAreaTop" fmla="*/ 48240 h 744480"/>
              <a:gd name="textAreaBottom" fmla="*/ 696240 h 744480"/>
            </a:gdLst>
            <a:ahLst/>
            <a:rect l="textAreaLeft" t="textAreaTop" r="textAreaRight" b="textAreaBottom"/>
            <a:pathLst>
              <a:path w="23082" h="21600">
                <a:moveTo>
                  <a:pt x="0" y="0"/>
                </a:moveTo>
                <a:lnTo>
                  <a:pt x="23082" y="0"/>
                </a:lnTo>
                <a:lnTo>
                  <a:pt x="23082" y="21600"/>
                </a:lnTo>
                <a:lnTo>
                  <a:pt x="0" y="21600"/>
                </a:lnTo>
                <a:close/>
              </a:path>
              <a:path fill="lightenLess" w="23082" h="21600">
                <a:moveTo>
                  <a:pt x="0" y="0"/>
                </a:moveTo>
                <a:lnTo>
                  <a:pt x="23082" y="0"/>
                </a:lnTo>
                <a:lnTo>
                  <a:pt x="21682" y="1400"/>
                </a:lnTo>
                <a:lnTo>
                  <a:pt x="1400" y="1400"/>
                </a:lnTo>
                <a:close/>
              </a:path>
              <a:path fill="darken" w="23082" h="21600">
                <a:moveTo>
                  <a:pt x="23082" y="0"/>
                </a:moveTo>
                <a:lnTo>
                  <a:pt x="23082" y="21600"/>
                </a:lnTo>
                <a:lnTo>
                  <a:pt x="21682" y="20200"/>
                </a:lnTo>
                <a:lnTo>
                  <a:pt x="21682" y="1400"/>
                </a:lnTo>
                <a:close/>
              </a:path>
              <a:path fill="darkenLess" w="23082" h="21600">
                <a:moveTo>
                  <a:pt x="23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82" y="20200"/>
                </a:lnTo>
                <a:close/>
              </a:path>
              <a:path fill="lighten" w="23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82" h="21600">
                <a:moveTo>
                  <a:pt x="11541" y="3837"/>
                </a:moveTo>
                <a:lnTo>
                  <a:pt x="14118" y="6448"/>
                </a:lnTo>
                <a:lnTo>
                  <a:pt x="14118" y="4707"/>
                </a:lnTo>
                <a:lnTo>
                  <a:pt x="15893" y="4707"/>
                </a:lnTo>
                <a:lnTo>
                  <a:pt x="15893" y="8224"/>
                </a:lnTo>
                <a:lnTo>
                  <a:pt x="18504" y="10800"/>
                </a:lnTo>
                <a:lnTo>
                  <a:pt x="16850" y="10800"/>
                </a:lnTo>
                <a:lnTo>
                  <a:pt x="16850" y="17989"/>
                </a:lnTo>
                <a:lnTo>
                  <a:pt x="6232" y="17989"/>
                </a:lnTo>
                <a:lnTo>
                  <a:pt x="6232" y="10800"/>
                </a:lnTo>
                <a:lnTo>
                  <a:pt x="4578" y="10800"/>
                </a:lnTo>
                <a:close/>
              </a:path>
              <a:path fill="darkenLess" w="23082" h="21600">
                <a:moveTo>
                  <a:pt x="14118" y="6448"/>
                </a:moveTo>
                <a:lnTo>
                  <a:pt x="14118" y="4707"/>
                </a:lnTo>
                <a:lnTo>
                  <a:pt x="15893" y="4707"/>
                </a:lnTo>
                <a:lnTo>
                  <a:pt x="15893" y="8224"/>
                </a:lnTo>
                <a:close/>
              </a:path>
              <a:path fill="darkenLess" w="23082" h="21600">
                <a:moveTo>
                  <a:pt x="10619" y="14299"/>
                </a:moveTo>
                <a:lnTo>
                  <a:pt x="12464" y="14299"/>
                </a:lnTo>
                <a:lnTo>
                  <a:pt x="12464" y="17989"/>
                </a:lnTo>
                <a:lnTo>
                  <a:pt x="16850" y="17989"/>
                </a:lnTo>
                <a:lnTo>
                  <a:pt x="16850" y="10800"/>
                </a:lnTo>
                <a:lnTo>
                  <a:pt x="6232" y="10800"/>
                </a:lnTo>
                <a:lnTo>
                  <a:pt x="6232" y="17989"/>
                </a:lnTo>
                <a:lnTo>
                  <a:pt x="10619" y="17989"/>
                </a:lnTo>
                <a:close/>
              </a:path>
            </a:pathLst>
          </a:cu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Box 1"/>
          <p:cNvSpPr/>
          <p:nvPr/>
        </p:nvSpPr>
        <p:spPr>
          <a:xfrm>
            <a:off x="244440" y="325440"/>
            <a:ext cx="116935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ОПРОС 4.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вас есть только одна спичка. В тёмной комнате стоят керосиновая лампа, печь и свеча. Что вы зажжёте в первую очередь?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Box 3"/>
          <p:cNvSpPr/>
          <p:nvPr/>
        </p:nvSpPr>
        <p:spPr>
          <a:xfrm>
            <a:off x="4664160" y="4095720"/>
            <a:ext cx="35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: Спичку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Управляющая кнопка: домой 6"/>
          <p:cNvSpPr/>
          <p:nvPr/>
        </p:nvSpPr>
        <p:spPr>
          <a:xfrm>
            <a:off x="11396520" y="6113520"/>
            <a:ext cx="795600" cy="744480"/>
          </a:xfrm>
          <a:custGeom>
            <a:avLst/>
            <a:gdLst>
              <a:gd name="textAreaLeft" fmla="*/ 48240 w 795600"/>
              <a:gd name="textAreaRight" fmla="*/ 747360 w 795600"/>
              <a:gd name="textAreaTop" fmla="*/ 48240 h 744480"/>
              <a:gd name="textAreaBottom" fmla="*/ 696240 h 744480"/>
            </a:gdLst>
            <a:ahLst/>
            <a:rect l="textAreaLeft" t="textAreaTop" r="textAreaRight" b="textAreaBottom"/>
            <a:pathLst>
              <a:path w="23082" h="21600">
                <a:moveTo>
                  <a:pt x="0" y="0"/>
                </a:moveTo>
                <a:lnTo>
                  <a:pt x="23082" y="0"/>
                </a:lnTo>
                <a:lnTo>
                  <a:pt x="23082" y="21600"/>
                </a:lnTo>
                <a:lnTo>
                  <a:pt x="0" y="21600"/>
                </a:lnTo>
                <a:close/>
              </a:path>
              <a:path fill="lightenLess" w="23082" h="21600">
                <a:moveTo>
                  <a:pt x="0" y="0"/>
                </a:moveTo>
                <a:lnTo>
                  <a:pt x="23082" y="0"/>
                </a:lnTo>
                <a:lnTo>
                  <a:pt x="21682" y="1400"/>
                </a:lnTo>
                <a:lnTo>
                  <a:pt x="1400" y="1400"/>
                </a:lnTo>
                <a:close/>
              </a:path>
              <a:path fill="darken" w="23082" h="21600">
                <a:moveTo>
                  <a:pt x="23082" y="0"/>
                </a:moveTo>
                <a:lnTo>
                  <a:pt x="23082" y="21600"/>
                </a:lnTo>
                <a:lnTo>
                  <a:pt x="21682" y="20200"/>
                </a:lnTo>
                <a:lnTo>
                  <a:pt x="21682" y="1400"/>
                </a:lnTo>
                <a:close/>
              </a:path>
              <a:path fill="darkenLess" w="23082" h="21600">
                <a:moveTo>
                  <a:pt x="23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82" y="20200"/>
                </a:lnTo>
                <a:close/>
              </a:path>
              <a:path fill="lighten" w="23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82" h="21600">
                <a:moveTo>
                  <a:pt x="11541" y="3837"/>
                </a:moveTo>
                <a:lnTo>
                  <a:pt x="14118" y="6448"/>
                </a:lnTo>
                <a:lnTo>
                  <a:pt x="14118" y="4707"/>
                </a:lnTo>
                <a:lnTo>
                  <a:pt x="15893" y="4707"/>
                </a:lnTo>
                <a:lnTo>
                  <a:pt x="15893" y="8224"/>
                </a:lnTo>
                <a:lnTo>
                  <a:pt x="18504" y="10800"/>
                </a:lnTo>
                <a:lnTo>
                  <a:pt x="16850" y="10800"/>
                </a:lnTo>
                <a:lnTo>
                  <a:pt x="16850" y="17989"/>
                </a:lnTo>
                <a:lnTo>
                  <a:pt x="6232" y="17989"/>
                </a:lnTo>
                <a:lnTo>
                  <a:pt x="6232" y="10800"/>
                </a:lnTo>
                <a:lnTo>
                  <a:pt x="4578" y="10800"/>
                </a:lnTo>
                <a:close/>
              </a:path>
              <a:path fill="darkenLess" w="23082" h="21600">
                <a:moveTo>
                  <a:pt x="14118" y="6448"/>
                </a:moveTo>
                <a:lnTo>
                  <a:pt x="14118" y="4707"/>
                </a:lnTo>
                <a:lnTo>
                  <a:pt x="15893" y="4707"/>
                </a:lnTo>
                <a:lnTo>
                  <a:pt x="15893" y="8224"/>
                </a:lnTo>
                <a:close/>
              </a:path>
              <a:path fill="darkenLess" w="23082" h="21600">
                <a:moveTo>
                  <a:pt x="10619" y="14299"/>
                </a:moveTo>
                <a:lnTo>
                  <a:pt x="12464" y="14299"/>
                </a:lnTo>
                <a:lnTo>
                  <a:pt x="12464" y="17989"/>
                </a:lnTo>
                <a:lnTo>
                  <a:pt x="16850" y="17989"/>
                </a:lnTo>
                <a:lnTo>
                  <a:pt x="16850" y="10800"/>
                </a:lnTo>
                <a:lnTo>
                  <a:pt x="6232" y="10800"/>
                </a:lnTo>
                <a:lnTo>
                  <a:pt x="6232" y="17989"/>
                </a:lnTo>
                <a:lnTo>
                  <a:pt x="10619" y="17989"/>
                </a:lnTo>
                <a:close/>
              </a:path>
            </a:pathLst>
          </a:cu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Box 1"/>
          <p:cNvSpPr/>
          <p:nvPr/>
        </p:nvSpPr>
        <p:spPr>
          <a:xfrm>
            <a:off x="244440" y="325440"/>
            <a:ext cx="1122696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ОПРОС 4.4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де вторник идёт раньше, чем понедельник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Box 3"/>
          <p:cNvSpPr/>
          <p:nvPr/>
        </p:nvSpPr>
        <p:spPr>
          <a:xfrm>
            <a:off x="4100400" y="3716280"/>
            <a:ext cx="351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: В словаре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Управляющая кнопка: домой 6"/>
          <p:cNvSpPr/>
          <p:nvPr/>
        </p:nvSpPr>
        <p:spPr>
          <a:xfrm>
            <a:off x="11396520" y="6113520"/>
            <a:ext cx="795600" cy="744480"/>
          </a:xfrm>
          <a:custGeom>
            <a:avLst/>
            <a:gdLst>
              <a:gd name="textAreaLeft" fmla="*/ 48240 w 795600"/>
              <a:gd name="textAreaRight" fmla="*/ 747360 w 795600"/>
              <a:gd name="textAreaTop" fmla="*/ 48240 h 744480"/>
              <a:gd name="textAreaBottom" fmla="*/ 696240 h 744480"/>
            </a:gdLst>
            <a:ahLst/>
            <a:rect l="textAreaLeft" t="textAreaTop" r="textAreaRight" b="textAreaBottom"/>
            <a:pathLst>
              <a:path w="23082" h="21600">
                <a:moveTo>
                  <a:pt x="0" y="0"/>
                </a:moveTo>
                <a:lnTo>
                  <a:pt x="23082" y="0"/>
                </a:lnTo>
                <a:lnTo>
                  <a:pt x="23082" y="21600"/>
                </a:lnTo>
                <a:lnTo>
                  <a:pt x="0" y="21600"/>
                </a:lnTo>
                <a:close/>
              </a:path>
              <a:path fill="lightenLess" w="23082" h="21600">
                <a:moveTo>
                  <a:pt x="0" y="0"/>
                </a:moveTo>
                <a:lnTo>
                  <a:pt x="23082" y="0"/>
                </a:lnTo>
                <a:lnTo>
                  <a:pt x="21682" y="1400"/>
                </a:lnTo>
                <a:lnTo>
                  <a:pt x="1400" y="1400"/>
                </a:lnTo>
                <a:close/>
              </a:path>
              <a:path fill="darken" w="23082" h="21600">
                <a:moveTo>
                  <a:pt x="23082" y="0"/>
                </a:moveTo>
                <a:lnTo>
                  <a:pt x="23082" y="21600"/>
                </a:lnTo>
                <a:lnTo>
                  <a:pt x="21682" y="20200"/>
                </a:lnTo>
                <a:lnTo>
                  <a:pt x="21682" y="1400"/>
                </a:lnTo>
                <a:close/>
              </a:path>
              <a:path fill="darkenLess" w="23082" h="21600">
                <a:moveTo>
                  <a:pt x="23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82" y="20200"/>
                </a:lnTo>
                <a:close/>
              </a:path>
              <a:path fill="lighten" w="23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82" h="21600">
                <a:moveTo>
                  <a:pt x="11541" y="3837"/>
                </a:moveTo>
                <a:lnTo>
                  <a:pt x="14118" y="6448"/>
                </a:lnTo>
                <a:lnTo>
                  <a:pt x="14118" y="4707"/>
                </a:lnTo>
                <a:lnTo>
                  <a:pt x="15893" y="4707"/>
                </a:lnTo>
                <a:lnTo>
                  <a:pt x="15893" y="8224"/>
                </a:lnTo>
                <a:lnTo>
                  <a:pt x="18504" y="10800"/>
                </a:lnTo>
                <a:lnTo>
                  <a:pt x="16850" y="10800"/>
                </a:lnTo>
                <a:lnTo>
                  <a:pt x="16850" y="17989"/>
                </a:lnTo>
                <a:lnTo>
                  <a:pt x="6232" y="17989"/>
                </a:lnTo>
                <a:lnTo>
                  <a:pt x="6232" y="10800"/>
                </a:lnTo>
                <a:lnTo>
                  <a:pt x="4578" y="10800"/>
                </a:lnTo>
                <a:close/>
              </a:path>
              <a:path fill="darkenLess" w="23082" h="21600">
                <a:moveTo>
                  <a:pt x="14118" y="6448"/>
                </a:moveTo>
                <a:lnTo>
                  <a:pt x="14118" y="4707"/>
                </a:lnTo>
                <a:lnTo>
                  <a:pt x="15893" y="4707"/>
                </a:lnTo>
                <a:lnTo>
                  <a:pt x="15893" y="8224"/>
                </a:lnTo>
                <a:close/>
              </a:path>
              <a:path fill="darkenLess" w="23082" h="21600">
                <a:moveTo>
                  <a:pt x="10619" y="14299"/>
                </a:moveTo>
                <a:lnTo>
                  <a:pt x="12464" y="14299"/>
                </a:lnTo>
                <a:lnTo>
                  <a:pt x="12464" y="17989"/>
                </a:lnTo>
                <a:lnTo>
                  <a:pt x="16850" y="17989"/>
                </a:lnTo>
                <a:lnTo>
                  <a:pt x="16850" y="10800"/>
                </a:lnTo>
                <a:lnTo>
                  <a:pt x="6232" y="10800"/>
                </a:lnTo>
                <a:lnTo>
                  <a:pt x="6232" y="17989"/>
                </a:lnTo>
                <a:lnTo>
                  <a:pt x="10619" y="17989"/>
                </a:lnTo>
                <a:close/>
              </a:path>
            </a:pathLst>
          </a:cu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Скругленный прямоугольник 6"/>
          <p:cNvSpPr/>
          <p:nvPr/>
        </p:nvSpPr>
        <p:spPr>
          <a:xfrm>
            <a:off x="609480" y="466560"/>
            <a:ext cx="3756240" cy="849600"/>
          </a:xfrm>
          <a:prstGeom prst="roundRect">
            <a:avLst>
              <a:gd name="adj" fmla="val 16667"/>
            </a:avLst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Эколог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Скругленный прямоугольник 7"/>
          <p:cNvSpPr/>
          <p:nvPr/>
        </p:nvSpPr>
        <p:spPr>
          <a:xfrm>
            <a:off x="609480" y="1414440"/>
            <a:ext cx="3756240" cy="849240"/>
          </a:xfrm>
          <a:prstGeom prst="roundRect">
            <a:avLst>
              <a:gd name="adj" fmla="val 16667"/>
            </a:avLst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Край родной - Карел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Скругленный прямоугольник 8"/>
          <p:cNvSpPr/>
          <p:nvPr/>
        </p:nvSpPr>
        <p:spPr>
          <a:xfrm>
            <a:off x="609480" y="2390760"/>
            <a:ext cx="3756240" cy="849240"/>
          </a:xfrm>
          <a:prstGeom prst="roundRect">
            <a:avLst>
              <a:gd name="adj" fmla="val 16667"/>
            </a:avLst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Сказ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Скругленный прямоугольник 11">
            <a:hlinkClick r:id="rId1" action="ppaction://hlinksldjump"/>
          </p:cNvPr>
          <p:cNvSpPr/>
          <p:nvPr/>
        </p:nvSpPr>
        <p:spPr>
          <a:xfrm>
            <a:off x="4746600" y="466560"/>
            <a:ext cx="870120" cy="860760"/>
          </a:xfrm>
          <a:prstGeom prst="roundRect">
            <a:avLst>
              <a:gd name="adj" fmla="val 16667"/>
            </a:avLst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entury Gothic"/>
              </a:rPr>
              <a:t>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Скругленный прямоугольник 12">
            <a:hlinkClick r:id="rId2" action="ppaction://hlinksldjump"/>
          </p:cNvPr>
          <p:cNvSpPr/>
          <p:nvPr/>
        </p:nvSpPr>
        <p:spPr>
          <a:xfrm>
            <a:off x="5794200" y="466560"/>
            <a:ext cx="871560" cy="860760"/>
          </a:xfrm>
          <a:prstGeom prst="roundRect">
            <a:avLst>
              <a:gd name="adj" fmla="val 16667"/>
            </a:avLst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entury Gothic"/>
              </a:rPr>
              <a:t>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Скругленный прямоугольник 13">
            <a:hlinkClick r:id="rId3" action="ppaction://hlinksldjump"/>
          </p:cNvPr>
          <p:cNvSpPr/>
          <p:nvPr/>
        </p:nvSpPr>
        <p:spPr>
          <a:xfrm>
            <a:off x="6843600" y="466560"/>
            <a:ext cx="871560" cy="860760"/>
          </a:xfrm>
          <a:prstGeom prst="roundRect">
            <a:avLst>
              <a:gd name="adj" fmla="val 16667"/>
            </a:avLst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entury Gothic"/>
              </a:rPr>
              <a:t>3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Скругленный прямоугольник 14">
            <a:hlinkClick r:id="rId4" action="ppaction://hlinksldjump"/>
          </p:cNvPr>
          <p:cNvSpPr/>
          <p:nvPr/>
        </p:nvSpPr>
        <p:spPr>
          <a:xfrm>
            <a:off x="7893000" y="466560"/>
            <a:ext cx="870120" cy="860760"/>
          </a:xfrm>
          <a:prstGeom prst="roundRect">
            <a:avLst>
              <a:gd name="adj" fmla="val 16667"/>
            </a:avLst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entury Gothic"/>
              </a:rPr>
              <a:t>4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Скругленный прямоугольник 15">
            <a:hlinkClick r:id="rId5" action="ppaction://hlinksldjump"/>
          </p:cNvPr>
          <p:cNvSpPr/>
          <p:nvPr/>
        </p:nvSpPr>
        <p:spPr>
          <a:xfrm>
            <a:off x="4745160" y="3405240"/>
            <a:ext cx="871560" cy="860400"/>
          </a:xfrm>
          <a:prstGeom prst="roundRect">
            <a:avLst>
              <a:gd name="adj" fmla="val 16667"/>
            </a:avLst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entury Gothic"/>
              </a:rPr>
              <a:t>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Скругленный прямоугольник 19">
            <a:hlinkClick r:id="rId6" action="ppaction://hlinksldjump"/>
          </p:cNvPr>
          <p:cNvSpPr/>
          <p:nvPr/>
        </p:nvSpPr>
        <p:spPr>
          <a:xfrm>
            <a:off x="4746600" y="1449360"/>
            <a:ext cx="870120" cy="860400"/>
          </a:xfrm>
          <a:prstGeom prst="roundRect">
            <a:avLst>
              <a:gd name="adj" fmla="val 16667"/>
            </a:avLst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entury Gothic"/>
              </a:rPr>
              <a:t>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Скругленный прямоугольник 20">
            <a:hlinkClick r:id="rId7" action="ppaction://hlinksldjump"/>
          </p:cNvPr>
          <p:cNvSpPr/>
          <p:nvPr/>
        </p:nvSpPr>
        <p:spPr>
          <a:xfrm>
            <a:off x="5794200" y="1449360"/>
            <a:ext cx="871560" cy="860400"/>
          </a:xfrm>
          <a:prstGeom prst="roundRect">
            <a:avLst>
              <a:gd name="adj" fmla="val 16667"/>
            </a:avLst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entury Gothic"/>
              </a:rPr>
              <a:t>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Скругленный прямоугольник 21">
            <a:hlinkClick r:id="rId8" action="ppaction://hlinksldjump"/>
          </p:cNvPr>
          <p:cNvSpPr/>
          <p:nvPr/>
        </p:nvSpPr>
        <p:spPr>
          <a:xfrm>
            <a:off x="6843600" y="1449360"/>
            <a:ext cx="871560" cy="860400"/>
          </a:xfrm>
          <a:prstGeom prst="roundRect">
            <a:avLst>
              <a:gd name="adj" fmla="val 16667"/>
            </a:avLst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entury Gothic"/>
              </a:rPr>
              <a:t>3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Скругленный прямоугольник 22">
            <a:hlinkClick r:id="rId9" action="ppaction://hlinksldjump"/>
          </p:cNvPr>
          <p:cNvSpPr/>
          <p:nvPr/>
        </p:nvSpPr>
        <p:spPr>
          <a:xfrm>
            <a:off x="7893000" y="1449360"/>
            <a:ext cx="870120" cy="860400"/>
          </a:xfrm>
          <a:prstGeom prst="roundRect">
            <a:avLst>
              <a:gd name="adj" fmla="val 16667"/>
            </a:avLst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entury Gothic"/>
              </a:rPr>
              <a:t>4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Скругленный прямоугольник 23">
            <a:hlinkClick r:id="rId10" action="ppaction://hlinksldjump"/>
          </p:cNvPr>
          <p:cNvSpPr/>
          <p:nvPr/>
        </p:nvSpPr>
        <p:spPr>
          <a:xfrm>
            <a:off x="5816520" y="3402000"/>
            <a:ext cx="871560" cy="860400"/>
          </a:xfrm>
          <a:prstGeom prst="roundRect">
            <a:avLst>
              <a:gd name="adj" fmla="val 16667"/>
            </a:avLst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entury Gothic"/>
              </a:rPr>
              <a:t>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Скругленный прямоугольник 26">
            <a:hlinkClick r:id="rId11" action="ppaction://hlinksldjump"/>
          </p:cNvPr>
          <p:cNvSpPr/>
          <p:nvPr/>
        </p:nvSpPr>
        <p:spPr>
          <a:xfrm>
            <a:off x="4746600" y="2427120"/>
            <a:ext cx="870120" cy="858960"/>
          </a:xfrm>
          <a:prstGeom prst="roundRect">
            <a:avLst>
              <a:gd name="adj" fmla="val 16667"/>
            </a:avLst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entury Gothic"/>
              </a:rPr>
              <a:t>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Скругленный прямоугольник 27">
            <a:hlinkClick r:id="rId12" action="ppaction://hlinksldjump"/>
          </p:cNvPr>
          <p:cNvSpPr/>
          <p:nvPr/>
        </p:nvSpPr>
        <p:spPr>
          <a:xfrm>
            <a:off x="5794200" y="2427120"/>
            <a:ext cx="871560" cy="858960"/>
          </a:xfrm>
          <a:prstGeom prst="roundRect">
            <a:avLst>
              <a:gd name="adj" fmla="val 16667"/>
            </a:avLst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entury Gothic"/>
              </a:rPr>
              <a:t>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Скругленный прямоугольник 28">
            <a:hlinkClick r:id="rId13" action="ppaction://hlinksldjump"/>
          </p:cNvPr>
          <p:cNvSpPr/>
          <p:nvPr/>
        </p:nvSpPr>
        <p:spPr>
          <a:xfrm>
            <a:off x="6843600" y="2427120"/>
            <a:ext cx="871560" cy="858960"/>
          </a:xfrm>
          <a:prstGeom prst="roundRect">
            <a:avLst>
              <a:gd name="adj" fmla="val 16667"/>
            </a:avLst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entury Gothic"/>
              </a:rPr>
              <a:t>3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Скругленный прямоугольник 29">
            <a:hlinkClick r:id="rId14" action="ppaction://hlinksldjump"/>
          </p:cNvPr>
          <p:cNvSpPr/>
          <p:nvPr/>
        </p:nvSpPr>
        <p:spPr>
          <a:xfrm>
            <a:off x="7893000" y="2427120"/>
            <a:ext cx="870120" cy="858960"/>
          </a:xfrm>
          <a:prstGeom prst="roundRect">
            <a:avLst>
              <a:gd name="adj" fmla="val 16667"/>
            </a:avLst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entury Gothic"/>
              </a:rPr>
              <a:t>4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Скругленный прямоугольник 30">
            <a:hlinkClick r:id="rId15" action="ppaction://hlinksldjump"/>
          </p:cNvPr>
          <p:cNvSpPr/>
          <p:nvPr/>
        </p:nvSpPr>
        <p:spPr>
          <a:xfrm>
            <a:off x="6888240" y="3419640"/>
            <a:ext cx="871560" cy="858600"/>
          </a:xfrm>
          <a:prstGeom prst="roundRect">
            <a:avLst>
              <a:gd name="adj" fmla="val 16667"/>
            </a:avLst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entury Gothic"/>
              </a:rPr>
              <a:t>3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47"/>
          <p:cNvSpPr/>
          <p:nvPr/>
        </p:nvSpPr>
        <p:spPr>
          <a:xfrm>
            <a:off x="981000" y="4965840"/>
            <a:ext cx="2718000" cy="633240"/>
          </a:xfrm>
          <a:prstGeom prst="rect">
            <a:avLst/>
          </a:prstGeom>
          <a:solidFill>
            <a:srgbClr val="a50e82"/>
          </a:solidFill>
          <a:ln cap="rnd" w="15840">
            <a:solidFill>
              <a:srgbClr val="6f07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КОМАНДА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Овал 48"/>
          <p:cNvSpPr/>
          <p:nvPr/>
        </p:nvSpPr>
        <p:spPr>
          <a:xfrm>
            <a:off x="2011320" y="5967360"/>
            <a:ext cx="760320" cy="71280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Овал 50"/>
          <p:cNvSpPr/>
          <p:nvPr/>
        </p:nvSpPr>
        <p:spPr>
          <a:xfrm>
            <a:off x="2011320" y="5967360"/>
            <a:ext cx="760320" cy="71280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Овал 51"/>
          <p:cNvSpPr/>
          <p:nvPr/>
        </p:nvSpPr>
        <p:spPr>
          <a:xfrm>
            <a:off x="2011320" y="5967360"/>
            <a:ext cx="760320" cy="71280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Овал 52"/>
          <p:cNvSpPr/>
          <p:nvPr/>
        </p:nvSpPr>
        <p:spPr>
          <a:xfrm>
            <a:off x="2011320" y="5967360"/>
            <a:ext cx="760320" cy="71280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Овал 53"/>
          <p:cNvSpPr/>
          <p:nvPr/>
        </p:nvSpPr>
        <p:spPr>
          <a:xfrm>
            <a:off x="2011320" y="5967360"/>
            <a:ext cx="760320" cy="71280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Овал 54"/>
          <p:cNvSpPr/>
          <p:nvPr/>
        </p:nvSpPr>
        <p:spPr>
          <a:xfrm>
            <a:off x="2011320" y="5967360"/>
            <a:ext cx="760320" cy="71280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Овал 55"/>
          <p:cNvSpPr/>
          <p:nvPr/>
        </p:nvSpPr>
        <p:spPr>
          <a:xfrm>
            <a:off x="2011320" y="5986440"/>
            <a:ext cx="760320" cy="71280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Овал 56"/>
          <p:cNvSpPr/>
          <p:nvPr/>
        </p:nvSpPr>
        <p:spPr>
          <a:xfrm>
            <a:off x="2011320" y="5991120"/>
            <a:ext cx="760320" cy="71280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Овал 57"/>
          <p:cNvSpPr/>
          <p:nvPr/>
        </p:nvSpPr>
        <p:spPr>
          <a:xfrm>
            <a:off x="2011320" y="5991120"/>
            <a:ext cx="760320" cy="71280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Овал 58"/>
          <p:cNvSpPr/>
          <p:nvPr/>
        </p:nvSpPr>
        <p:spPr>
          <a:xfrm>
            <a:off x="2011320" y="5989680"/>
            <a:ext cx="760320" cy="71280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Овал 59"/>
          <p:cNvSpPr/>
          <p:nvPr/>
        </p:nvSpPr>
        <p:spPr>
          <a:xfrm>
            <a:off x="2011320" y="5991120"/>
            <a:ext cx="760320" cy="71280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Овал 60"/>
          <p:cNvSpPr/>
          <p:nvPr/>
        </p:nvSpPr>
        <p:spPr>
          <a:xfrm>
            <a:off x="2011320" y="5967360"/>
            <a:ext cx="760320" cy="71280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Овал 61"/>
          <p:cNvSpPr/>
          <p:nvPr/>
        </p:nvSpPr>
        <p:spPr>
          <a:xfrm>
            <a:off x="2011320" y="5996160"/>
            <a:ext cx="760320" cy="71244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Овал 62"/>
          <p:cNvSpPr/>
          <p:nvPr/>
        </p:nvSpPr>
        <p:spPr>
          <a:xfrm>
            <a:off x="2011320" y="6000840"/>
            <a:ext cx="760320" cy="71100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Овал 63"/>
          <p:cNvSpPr/>
          <p:nvPr/>
        </p:nvSpPr>
        <p:spPr>
          <a:xfrm>
            <a:off x="2011320" y="5975280"/>
            <a:ext cx="760320" cy="71280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Овал 64"/>
          <p:cNvSpPr/>
          <p:nvPr/>
        </p:nvSpPr>
        <p:spPr>
          <a:xfrm>
            <a:off x="2011320" y="6000840"/>
            <a:ext cx="760320" cy="71100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Овал 65"/>
          <p:cNvSpPr/>
          <p:nvPr/>
        </p:nvSpPr>
        <p:spPr>
          <a:xfrm>
            <a:off x="2011320" y="5989680"/>
            <a:ext cx="760320" cy="71280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Овал 66"/>
          <p:cNvSpPr/>
          <p:nvPr/>
        </p:nvSpPr>
        <p:spPr>
          <a:xfrm>
            <a:off x="2011320" y="5977080"/>
            <a:ext cx="760320" cy="71280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1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Овал 67"/>
          <p:cNvSpPr/>
          <p:nvPr/>
        </p:nvSpPr>
        <p:spPr>
          <a:xfrm>
            <a:off x="2011320" y="5967360"/>
            <a:ext cx="760320" cy="71280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1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Овал 68"/>
          <p:cNvSpPr/>
          <p:nvPr/>
        </p:nvSpPr>
        <p:spPr>
          <a:xfrm>
            <a:off x="2011320" y="5967360"/>
            <a:ext cx="760320" cy="71280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Овал 69"/>
          <p:cNvSpPr/>
          <p:nvPr/>
        </p:nvSpPr>
        <p:spPr>
          <a:xfrm>
            <a:off x="2011320" y="6002280"/>
            <a:ext cx="760320" cy="71136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Овал 70"/>
          <p:cNvSpPr/>
          <p:nvPr/>
        </p:nvSpPr>
        <p:spPr>
          <a:xfrm>
            <a:off x="2011320" y="5967360"/>
            <a:ext cx="760320" cy="71280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2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Овал 71"/>
          <p:cNvSpPr/>
          <p:nvPr/>
        </p:nvSpPr>
        <p:spPr>
          <a:xfrm>
            <a:off x="2011320" y="5987880"/>
            <a:ext cx="760320" cy="71280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Овал 72"/>
          <p:cNvSpPr/>
          <p:nvPr/>
        </p:nvSpPr>
        <p:spPr>
          <a:xfrm>
            <a:off x="2011320" y="5999040"/>
            <a:ext cx="760320" cy="71136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2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Овал 73"/>
          <p:cNvSpPr/>
          <p:nvPr/>
        </p:nvSpPr>
        <p:spPr>
          <a:xfrm>
            <a:off x="2011320" y="5987880"/>
            <a:ext cx="760320" cy="71280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Овал 74"/>
          <p:cNvSpPr/>
          <p:nvPr/>
        </p:nvSpPr>
        <p:spPr>
          <a:xfrm>
            <a:off x="2011320" y="5992920"/>
            <a:ext cx="770040" cy="74124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Прямоугольник 75"/>
          <p:cNvSpPr/>
          <p:nvPr/>
        </p:nvSpPr>
        <p:spPr>
          <a:xfrm>
            <a:off x="4657680" y="4964040"/>
            <a:ext cx="3057480" cy="635040"/>
          </a:xfrm>
          <a:prstGeom prst="rect">
            <a:avLst/>
          </a:prstGeom>
          <a:solidFill>
            <a:srgbClr val="c62324"/>
          </a:solidFill>
          <a:ln cap="rnd" w="15840">
            <a:solidFill>
              <a:srgbClr val="9117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КОМАНДА 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Овал 76"/>
          <p:cNvSpPr/>
          <p:nvPr/>
        </p:nvSpPr>
        <p:spPr>
          <a:xfrm>
            <a:off x="5905440" y="6002280"/>
            <a:ext cx="760320" cy="71280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Овал 78"/>
          <p:cNvSpPr/>
          <p:nvPr/>
        </p:nvSpPr>
        <p:spPr>
          <a:xfrm>
            <a:off x="5927760" y="5973840"/>
            <a:ext cx="760320" cy="71280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Овал 79"/>
          <p:cNvSpPr/>
          <p:nvPr/>
        </p:nvSpPr>
        <p:spPr>
          <a:xfrm>
            <a:off x="5915160" y="5973840"/>
            <a:ext cx="760320" cy="71280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Овал 80"/>
          <p:cNvSpPr/>
          <p:nvPr/>
        </p:nvSpPr>
        <p:spPr>
          <a:xfrm>
            <a:off x="5905440" y="6002280"/>
            <a:ext cx="760320" cy="71280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Овал 81"/>
          <p:cNvSpPr/>
          <p:nvPr/>
        </p:nvSpPr>
        <p:spPr>
          <a:xfrm>
            <a:off x="5883120" y="5992920"/>
            <a:ext cx="760680" cy="71280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Овал 82"/>
          <p:cNvSpPr/>
          <p:nvPr/>
        </p:nvSpPr>
        <p:spPr>
          <a:xfrm>
            <a:off x="5896080" y="6002280"/>
            <a:ext cx="760320" cy="71280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Овал 83"/>
          <p:cNvSpPr/>
          <p:nvPr/>
        </p:nvSpPr>
        <p:spPr>
          <a:xfrm>
            <a:off x="5908680" y="5983200"/>
            <a:ext cx="760320" cy="71280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Овал 84"/>
          <p:cNvSpPr/>
          <p:nvPr/>
        </p:nvSpPr>
        <p:spPr>
          <a:xfrm>
            <a:off x="5899320" y="6004080"/>
            <a:ext cx="760320" cy="71100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Овал 85"/>
          <p:cNvSpPr/>
          <p:nvPr/>
        </p:nvSpPr>
        <p:spPr>
          <a:xfrm>
            <a:off x="5908680" y="5992920"/>
            <a:ext cx="760320" cy="71280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Овал 86"/>
          <p:cNvSpPr/>
          <p:nvPr/>
        </p:nvSpPr>
        <p:spPr>
          <a:xfrm>
            <a:off x="5902200" y="6002280"/>
            <a:ext cx="760680" cy="71280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Овал 87"/>
          <p:cNvSpPr/>
          <p:nvPr/>
        </p:nvSpPr>
        <p:spPr>
          <a:xfrm>
            <a:off x="5902200" y="6012000"/>
            <a:ext cx="760680" cy="71280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Овал 88"/>
          <p:cNvSpPr/>
          <p:nvPr/>
        </p:nvSpPr>
        <p:spPr>
          <a:xfrm>
            <a:off x="5902200" y="5992920"/>
            <a:ext cx="760680" cy="71280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Овал 89"/>
          <p:cNvSpPr/>
          <p:nvPr/>
        </p:nvSpPr>
        <p:spPr>
          <a:xfrm>
            <a:off x="5908680" y="5992920"/>
            <a:ext cx="760320" cy="71280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Овал 90"/>
          <p:cNvSpPr/>
          <p:nvPr/>
        </p:nvSpPr>
        <p:spPr>
          <a:xfrm>
            <a:off x="5908680" y="6002280"/>
            <a:ext cx="760320" cy="71280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Овал 91"/>
          <p:cNvSpPr/>
          <p:nvPr/>
        </p:nvSpPr>
        <p:spPr>
          <a:xfrm>
            <a:off x="5918040" y="5994360"/>
            <a:ext cx="760680" cy="71136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Овал 92"/>
          <p:cNvSpPr/>
          <p:nvPr/>
        </p:nvSpPr>
        <p:spPr>
          <a:xfrm>
            <a:off x="5905440" y="5992920"/>
            <a:ext cx="760320" cy="71280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Овал 93"/>
          <p:cNvSpPr/>
          <p:nvPr/>
        </p:nvSpPr>
        <p:spPr>
          <a:xfrm>
            <a:off x="5918040" y="6002280"/>
            <a:ext cx="760680" cy="71280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Овал 94"/>
          <p:cNvSpPr/>
          <p:nvPr/>
        </p:nvSpPr>
        <p:spPr>
          <a:xfrm>
            <a:off x="5915160" y="5992920"/>
            <a:ext cx="760320" cy="71280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1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Овал 95"/>
          <p:cNvSpPr/>
          <p:nvPr/>
        </p:nvSpPr>
        <p:spPr>
          <a:xfrm>
            <a:off x="5915160" y="6012000"/>
            <a:ext cx="760320" cy="71280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1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Овал 96"/>
          <p:cNvSpPr/>
          <p:nvPr/>
        </p:nvSpPr>
        <p:spPr>
          <a:xfrm>
            <a:off x="5902200" y="5992920"/>
            <a:ext cx="760680" cy="71280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Овал 97"/>
          <p:cNvSpPr/>
          <p:nvPr/>
        </p:nvSpPr>
        <p:spPr>
          <a:xfrm>
            <a:off x="5886360" y="5992920"/>
            <a:ext cx="760680" cy="71280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Овал 98"/>
          <p:cNvSpPr/>
          <p:nvPr/>
        </p:nvSpPr>
        <p:spPr>
          <a:xfrm>
            <a:off x="5905440" y="5992920"/>
            <a:ext cx="760320" cy="71280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2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Овал 99"/>
          <p:cNvSpPr/>
          <p:nvPr/>
        </p:nvSpPr>
        <p:spPr>
          <a:xfrm>
            <a:off x="5905440" y="6012000"/>
            <a:ext cx="760320" cy="71280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Овал 100"/>
          <p:cNvSpPr/>
          <p:nvPr/>
        </p:nvSpPr>
        <p:spPr>
          <a:xfrm>
            <a:off x="5905440" y="6002280"/>
            <a:ext cx="760320" cy="71280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2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Овал 101"/>
          <p:cNvSpPr/>
          <p:nvPr/>
        </p:nvSpPr>
        <p:spPr>
          <a:xfrm>
            <a:off x="5905440" y="6013440"/>
            <a:ext cx="760320" cy="71136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Овал 102"/>
          <p:cNvSpPr/>
          <p:nvPr/>
        </p:nvSpPr>
        <p:spPr>
          <a:xfrm>
            <a:off x="5908680" y="6012000"/>
            <a:ext cx="760320" cy="711000"/>
          </a:xfrm>
          <a:prstGeom prst="ellipse">
            <a:avLst/>
          </a:prstGeom>
          <a:solidFill>
            <a:srgbClr val="c00000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Скругленный прямоугольник 103"/>
          <p:cNvSpPr/>
          <p:nvPr/>
        </p:nvSpPr>
        <p:spPr>
          <a:xfrm>
            <a:off x="609480" y="3367080"/>
            <a:ext cx="3756240" cy="849240"/>
          </a:xfrm>
          <a:prstGeom prst="roundRect">
            <a:avLst>
              <a:gd name="adj" fmla="val 16667"/>
            </a:avLst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Загад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Скругленный прямоугольник 104">
            <a:hlinkClick r:id="rId16" action="ppaction://hlinksldjump"/>
          </p:cNvPr>
          <p:cNvSpPr/>
          <p:nvPr/>
        </p:nvSpPr>
        <p:spPr>
          <a:xfrm>
            <a:off x="7891560" y="3402000"/>
            <a:ext cx="871560" cy="858960"/>
          </a:xfrm>
          <a:prstGeom prst="roundRect">
            <a:avLst>
              <a:gd name="adj" fmla="val 16667"/>
            </a:avLst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entury Gothic"/>
              </a:rPr>
              <a:t>4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  <p:set>
                                      <p:cBhvr>
                                        <p:cTn id="7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  <p:set>
                                      <p:cBhvr>
                                        <p:cTn id="13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  <p:set>
                                      <p:cBhvr>
                                        <p:cTn id="19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  <p:set>
                                      <p:cBhvr>
                                        <p:cTn id="25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  <p:set>
                                      <p:cBhvr>
                                        <p:cTn id="31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  <p:set>
                                      <p:cBhvr>
                                        <p:cTn id="37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39" nodeType="clickEffect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  <p:set>
                                      <p:cBhvr>
                                        <p:cTn id="43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  <p:set>
                                      <p:cBhvr>
                                        <p:cTn id="49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  <p:set>
                                      <p:cBhvr>
                                        <p:cTn id="55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57" nodeType="clickEffect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  <p:set>
                                      <p:cBhvr>
                                        <p:cTn id="61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  <p:set>
                                      <p:cBhvr>
                                        <p:cTn id="67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69" nodeType="clickEffect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  <p:set>
                                      <p:cBhvr>
                                        <p:cTn id="73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75" nodeType="clickEffect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  <p:set>
                                      <p:cBhvr>
                                        <p:cTn id="79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81" nodeType="clickEffect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  <p:set>
                                      <p:cBhvr>
                                        <p:cTn id="85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87" nodeType="clickEffect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  <p:set>
                                      <p:cBhvr>
                                        <p:cTn id="91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93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219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4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345" nodeType="clickEffect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  <p:set>
                                      <p:cBhvr>
                                        <p:cTn id="349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Box 1"/>
          <p:cNvSpPr/>
          <p:nvPr/>
        </p:nvSpPr>
        <p:spPr>
          <a:xfrm>
            <a:off x="477720" y="574560"/>
            <a:ext cx="1120644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ОПРОС 1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ое насекомое слышит ногами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Box 3"/>
          <p:cNvSpPr/>
          <p:nvPr/>
        </p:nvSpPr>
        <p:spPr>
          <a:xfrm>
            <a:off x="4511520" y="3600360"/>
            <a:ext cx="478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: Кузнечи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Управляющая кнопка: домой 5">
            <a:hlinkClick r:id="" action="ppaction://hlinkshowjump?jump=previousslide"/>
          </p:cNvPr>
          <p:cNvSpPr/>
          <p:nvPr/>
        </p:nvSpPr>
        <p:spPr>
          <a:xfrm>
            <a:off x="11396520" y="6113520"/>
            <a:ext cx="795600" cy="744480"/>
          </a:xfrm>
          <a:custGeom>
            <a:avLst/>
            <a:gdLst>
              <a:gd name="textAreaLeft" fmla="*/ 48240 w 795600"/>
              <a:gd name="textAreaRight" fmla="*/ 747360 w 795600"/>
              <a:gd name="textAreaTop" fmla="*/ 48240 h 744480"/>
              <a:gd name="textAreaBottom" fmla="*/ 696240 h 744480"/>
            </a:gdLst>
            <a:ahLst/>
            <a:rect l="textAreaLeft" t="textAreaTop" r="textAreaRight" b="textAreaBottom"/>
            <a:pathLst>
              <a:path w="23082" h="21600">
                <a:moveTo>
                  <a:pt x="0" y="0"/>
                </a:moveTo>
                <a:lnTo>
                  <a:pt x="23082" y="0"/>
                </a:lnTo>
                <a:lnTo>
                  <a:pt x="23082" y="21600"/>
                </a:lnTo>
                <a:lnTo>
                  <a:pt x="0" y="21600"/>
                </a:lnTo>
                <a:close/>
              </a:path>
              <a:path fill="lightenLess" w="23082" h="21600">
                <a:moveTo>
                  <a:pt x="0" y="0"/>
                </a:moveTo>
                <a:lnTo>
                  <a:pt x="23082" y="0"/>
                </a:lnTo>
                <a:lnTo>
                  <a:pt x="21682" y="1400"/>
                </a:lnTo>
                <a:lnTo>
                  <a:pt x="1400" y="1400"/>
                </a:lnTo>
                <a:close/>
              </a:path>
              <a:path fill="darken" w="23082" h="21600">
                <a:moveTo>
                  <a:pt x="23082" y="0"/>
                </a:moveTo>
                <a:lnTo>
                  <a:pt x="23082" y="21600"/>
                </a:lnTo>
                <a:lnTo>
                  <a:pt x="21682" y="20200"/>
                </a:lnTo>
                <a:lnTo>
                  <a:pt x="21682" y="1400"/>
                </a:lnTo>
                <a:close/>
              </a:path>
              <a:path fill="darkenLess" w="23082" h="21600">
                <a:moveTo>
                  <a:pt x="23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82" y="20200"/>
                </a:lnTo>
                <a:close/>
              </a:path>
              <a:path fill="lighten" w="23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82" h="21600">
                <a:moveTo>
                  <a:pt x="11541" y="3837"/>
                </a:moveTo>
                <a:lnTo>
                  <a:pt x="14118" y="6448"/>
                </a:lnTo>
                <a:lnTo>
                  <a:pt x="14118" y="4707"/>
                </a:lnTo>
                <a:lnTo>
                  <a:pt x="15893" y="4707"/>
                </a:lnTo>
                <a:lnTo>
                  <a:pt x="15893" y="8224"/>
                </a:lnTo>
                <a:lnTo>
                  <a:pt x="18504" y="10800"/>
                </a:lnTo>
                <a:lnTo>
                  <a:pt x="16850" y="10800"/>
                </a:lnTo>
                <a:lnTo>
                  <a:pt x="16850" y="17989"/>
                </a:lnTo>
                <a:lnTo>
                  <a:pt x="6232" y="17989"/>
                </a:lnTo>
                <a:lnTo>
                  <a:pt x="6232" y="10800"/>
                </a:lnTo>
                <a:lnTo>
                  <a:pt x="4578" y="10800"/>
                </a:lnTo>
                <a:close/>
              </a:path>
              <a:path fill="darkenLess" w="23082" h="21600">
                <a:moveTo>
                  <a:pt x="14118" y="6448"/>
                </a:moveTo>
                <a:lnTo>
                  <a:pt x="14118" y="4707"/>
                </a:lnTo>
                <a:lnTo>
                  <a:pt x="15893" y="4707"/>
                </a:lnTo>
                <a:lnTo>
                  <a:pt x="15893" y="8224"/>
                </a:lnTo>
                <a:close/>
              </a:path>
              <a:path fill="darkenLess" w="23082" h="21600">
                <a:moveTo>
                  <a:pt x="10619" y="14299"/>
                </a:moveTo>
                <a:lnTo>
                  <a:pt x="12464" y="14299"/>
                </a:lnTo>
                <a:lnTo>
                  <a:pt x="12464" y="17989"/>
                </a:lnTo>
                <a:lnTo>
                  <a:pt x="16850" y="17989"/>
                </a:lnTo>
                <a:lnTo>
                  <a:pt x="16850" y="10800"/>
                </a:lnTo>
                <a:lnTo>
                  <a:pt x="6232" y="10800"/>
                </a:lnTo>
                <a:lnTo>
                  <a:pt x="6232" y="17989"/>
                </a:lnTo>
                <a:lnTo>
                  <a:pt x="10619" y="17989"/>
                </a:lnTo>
                <a:close/>
              </a:path>
            </a:pathLst>
          </a:cu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Box 1"/>
          <p:cNvSpPr/>
          <p:nvPr/>
        </p:nvSpPr>
        <p:spPr>
          <a:xfrm>
            <a:off x="336600" y="376200"/>
            <a:ext cx="1162188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ОПРОС 1.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ие ноги у жирафа длиннее, передние или задни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Box 3"/>
          <p:cNvSpPr/>
          <p:nvPr/>
        </p:nvSpPr>
        <p:spPr>
          <a:xfrm>
            <a:off x="3708360" y="3778200"/>
            <a:ext cx="628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: Они одинаковы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Управляющая кнопка: домой 6">
            <a:hlinkClick r:id="rId1" action="ppaction://hlinksldjump"/>
          </p:cNvPr>
          <p:cNvSpPr/>
          <p:nvPr/>
        </p:nvSpPr>
        <p:spPr>
          <a:xfrm>
            <a:off x="11396520" y="6113520"/>
            <a:ext cx="795600" cy="744480"/>
          </a:xfrm>
          <a:custGeom>
            <a:avLst/>
            <a:gdLst>
              <a:gd name="textAreaLeft" fmla="*/ 48240 w 795600"/>
              <a:gd name="textAreaRight" fmla="*/ 747360 w 795600"/>
              <a:gd name="textAreaTop" fmla="*/ 48240 h 744480"/>
              <a:gd name="textAreaBottom" fmla="*/ 696240 h 744480"/>
            </a:gdLst>
            <a:ahLst/>
            <a:rect l="textAreaLeft" t="textAreaTop" r="textAreaRight" b="textAreaBottom"/>
            <a:pathLst>
              <a:path w="23082" h="21600">
                <a:moveTo>
                  <a:pt x="0" y="0"/>
                </a:moveTo>
                <a:lnTo>
                  <a:pt x="23082" y="0"/>
                </a:lnTo>
                <a:lnTo>
                  <a:pt x="23082" y="21600"/>
                </a:lnTo>
                <a:lnTo>
                  <a:pt x="0" y="21600"/>
                </a:lnTo>
                <a:close/>
              </a:path>
              <a:path fill="lightenLess" w="23082" h="21600">
                <a:moveTo>
                  <a:pt x="0" y="0"/>
                </a:moveTo>
                <a:lnTo>
                  <a:pt x="23082" y="0"/>
                </a:lnTo>
                <a:lnTo>
                  <a:pt x="21682" y="1400"/>
                </a:lnTo>
                <a:lnTo>
                  <a:pt x="1400" y="1400"/>
                </a:lnTo>
                <a:close/>
              </a:path>
              <a:path fill="darken" w="23082" h="21600">
                <a:moveTo>
                  <a:pt x="23082" y="0"/>
                </a:moveTo>
                <a:lnTo>
                  <a:pt x="23082" y="21600"/>
                </a:lnTo>
                <a:lnTo>
                  <a:pt x="21682" y="20200"/>
                </a:lnTo>
                <a:lnTo>
                  <a:pt x="21682" y="1400"/>
                </a:lnTo>
                <a:close/>
              </a:path>
              <a:path fill="darkenLess" w="23082" h="21600">
                <a:moveTo>
                  <a:pt x="23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82" y="20200"/>
                </a:lnTo>
                <a:close/>
              </a:path>
              <a:path fill="lighten" w="23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82" h="21600">
                <a:moveTo>
                  <a:pt x="11541" y="3837"/>
                </a:moveTo>
                <a:lnTo>
                  <a:pt x="14118" y="6448"/>
                </a:lnTo>
                <a:lnTo>
                  <a:pt x="14118" y="4707"/>
                </a:lnTo>
                <a:lnTo>
                  <a:pt x="15893" y="4707"/>
                </a:lnTo>
                <a:lnTo>
                  <a:pt x="15893" y="8224"/>
                </a:lnTo>
                <a:lnTo>
                  <a:pt x="18504" y="10800"/>
                </a:lnTo>
                <a:lnTo>
                  <a:pt x="16850" y="10800"/>
                </a:lnTo>
                <a:lnTo>
                  <a:pt x="16850" y="17989"/>
                </a:lnTo>
                <a:lnTo>
                  <a:pt x="6232" y="17989"/>
                </a:lnTo>
                <a:lnTo>
                  <a:pt x="6232" y="10800"/>
                </a:lnTo>
                <a:lnTo>
                  <a:pt x="4578" y="10800"/>
                </a:lnTo>
                <a:close/>
              </a:path>
              <a:path fill="darkenLess" w="23082" h="21600">
                <a:moveTo>
                  <a:pt x="14118" y="6448"/>
                </a:moveTo>
                <a:lnTo>
                  <a:pt x="14118" y="4707"/>
                </a:lnTo>
                <a:lnTo>
                  <a:pt x="15893" y="4707"/>
                </a:lnTo>
                <a:lnTo>
                  <a:pt x="15893" y="8224"/>
                </a:lnTo>
                <a:close/>
              </a:path>
              <a:path fill="darkenLess" w="23082" h="21600">
                <a:moveTo>
                  <a:pt x="10619" y="14299"/>
                </a:moveTo>
                <a:lnTo>
                  <a:pt x="12464" y="14299"/>
                </a:lnTo>
                <a:lnTo>
                  <a:pt x="12464" y="17989"/>
                </a:lnTo>
                <a:lnTo>
                  <a:pt x="16850" y="17989"/>
                </a:lnTo>
                <a:lnTo>
                  <a:pt x="16850" y="10800"/>
                </a:lnTo>
                <a:lnTo>
                  <a:pt x="6232" y="10800"/>
                </a:lnTo>
                <a:lnTo>
                  <a:pt x="6232" y="17989"/>
                </a:lnTo>
                <a:lnTo>
                  <a:pt x="10619" y="17989"/>
                </a:lnTo>
                <a:close/>
              </a:path>
            </a:pathLst>
          </a:cu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Box 1"/>
          <p:cNvSpPr/>
          <p:nvPr/>
        </p:nvSpPr>
        <p:spPr>
          <a:xfrm>
            <a:off x="498600" y="246240"/>
            <a:ext cx="11358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ОПРОС 1.3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У меня очень красивые рога, но каждую зиму мне приходиться их сбрасывать. Тело покрыто красивыми мелкими светлыми крапинками. Шерсть хорошо предохраняет от морозов, а широкие копыта не позволяют мне проваливаться в снегу. Я горжусь хорошим зрением, а мой слух и нюх позволяют без особого труда обнаружить опасность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Box 3"/>
          <p:cNvSpPr/>
          <p:nvPr/>
        </p:nvSpPr>
        <p:spPr>
          <a:xfrm>
            <a:off x="4106880" y="4675320"/>
            <a:ext cx="41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: Олен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Box 4"/>
          <p:cNvSpPr/>
          <p:nvPr/>
        </p:nvSpPr>
        <p:spPr>
          <a:xfrm>
            <a:off x="5213520" y="5707080"/>
            <a:ext cx="4735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Управляющая кнопка: домой 6">
            <a:hlinkClick r:id="rId1" action="ppaction://hlinksldjump"/>
          </p:cNvPr>
          <p:cNvSpPr/>
          <p:nvPr/>
        </p:nvSpPr>
        <p:spPr>
          <a:xfrm>
            <a:off x="11396520" y="6113520"/>
            <a:ext cx="795600" cy="744480"/>
          </a:xfrm>
          <a:custGeom>
            <a:avLst/>
            <a:gdLst>
              <a:gd name="textAreaLeft" fmla="*/ 48240 w 795600"/>
              <a:gd name="textAreaRight" fmla="*/ 747360 w 795600"/>
              <a:gd name="textAreaTop" fmla="*/ 48240 h 744480"/>
              <a:gd name="textAreaBottom" fmla="*/ 696240 h 744480"/>
            </a:gdLst>
            <a:ahLst/>
            <a:rect l="textAreaLeft" t="textAreaTop" r="textAreaRight" b="textAreaBottom"/>
            <a:pathLst>
              <a:path w="23082" h="21600">
                <a:moveTo>
                  <a:pt x="0" y="0"/>
                </a:moveTo>
                <a:lnTo>
                  <a:pt x="23082" y="0"/>
                </a:lnTo>
                <a:lnTo>
                  <a:pt x="23082" y="21600"/>
                </a:lnTo>
                <a:lnTo>
                  <a:pt x="0" y="21600"/>
                </a:lnTo>
                <a:close/>
              </a:path>
              <a:path fill="lightenLess" w="23082" h="21600">
                <a:moveTo>
                  <a:pt x="0" y="0"/>
                </a:moveTo>
                <a:lnTo>
                  <a:pt x="23082" y="0"/>
                </a:lnTo>
                <a:lnTo>
                  <a:pt x="21682" y="1400"/>
                </a:lnTo>
                <a:lnTo>
                  <a:pt x="1400" y="1400"/>
                </a:lnTo>
                <a:close/>
              </a:path>
              <a:path fill="darken" w="23082" h="21600">
                <a:moveTo>
                  <a:pt x="23082" y="0"/>
                </a:moveTo>
                <a:lnTo>
                  <a:pt x="23082" y="21600"/>
                </a:lnTo>
                <a:lnTo>
                  <a:pt x="21682" y="20200"/>
                </a:lnTo>
                <a:lnTo>
                  <a:pt x="21682" y="1400"/>
                </a:lnTo>
                <a:close/>
              </a:path>
              <a:path fill="darkenLess" w="23082" h="21600">
                <a:moveTo>
                  <a:pt x="23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82" y="20200"/>
                </a:lnTo>
                <a:close/>
              </a:path>
              <a:path fill="lighten" w="23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82" h="21600">
                <a:moveTo>
                  <a:pt x="11541" y="3837"/>
                </a:moveTo>
                <a:lnTo>
                  <a:pt x="14118" y="6448"/>
                </a:lnTo>
                <a:lnTo>
                  <a:pt x="14118" y="4707"/>
                </a:lnTo>
                <a:lnTo>
                  <a:pt x="15893" y="4707"/>
                </a:lnTo>
                <a:lnTo>
                  <a:pt x="15893" y="8224"/>
                </a:lnTo>
                <a:lnTo>
                  <a:pt x="18504" y="10800"/>
                </a:lnTo>
                <a:lnTo>
                  <a:pt x="16850" y="10800"/>
                </a:lnTo>
                <a:lnTo>
                  <a:pt x="16850" y="17989"/>
                </a:lnTo>
                <a:lnTo>
                  <a:pt x="6232" y="17989"/>
                </a:lnTo>
                <a:lnTo>
                  <a:pt x="6232" y="10800"/>
                </a:lnTo>
                <a:lnTo>
                  <a:pt x="4578" y="10800"/>
                </a:lnTo>
                <a:close/>
              </a:path>
              <a:path fill="darkenLess" w="23082" h="21600">
                <a:moveTo>
                  <a:pt x="14118" y="6448"/>
                </a:moveTo>
                <a:lnTo>
                  <a:pt x="14118" y="4707"/>
                </a:lnTo>
                <a:lnTo>
                  <a:pt x="15893" y="4707"/>
                </a:lnTo>
                <a:lnTo>
                  <a:pt x="15893" y="8224"/>
                </a:lnTo>
                <a:close/>
              </a:path>
              <a:path fill="darkenLess" w="23082" h="21600">
                <a:moveTo>
                  <a:pt x="10619" y="14299"/>
                </a:moveTo>
                <a:lnTo>
                  <a:pt x="12464" y="14299"/>
                </a:lnTo>
                <a:lnTo>
                  <a:pt x="12464" y="17989"/>
                </a:lnTo>
                <a:lnTo>
                  <a:pt x="16850" y="17989"/>
                </a:lnTo>
                <a:lnTo>
                  <a:pt x="16850" y="10800"/>
                </a:lnTo>
                <a:lnTo>
                  <a:pt x="6232" y="10800"/>
                </a:lnTo>
                <a:lnTo>
                  <a:pt x="6232" y="17989"/>
                </a:lnTo>
                <a:lnTo>
                  <a:pt x="10619" y="17989"/>
                </a:lnTo>
                <a:close/>
              </a:path>
            </a:pathLst>
          </a:cu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4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375" nodeType="clickEffect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125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Box 1"/>
          <p:cNvSpPr/>
          <p:nvPr/>
        </p:nvSpPr>
        <p:spPr>
          <a:xfrm>
            <a:off x="325440" y="365040"/>
            <a:ext cx="115617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ОПРОС 1.4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«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 маленький зверек с бархатистым мехом темно- серого цвета. У меня сильные передние лапы, похожие на большие лопатки. На них растут когти, которыми я рою землю и отбрасываю ее назад. У меня есть глаза, но это всего лишь крохотные бусинки, прикрытые шерстью и кожей. Глаза мне не нужны, так как я постоянно живу под землей в кромешной темноте. Но у меня великолепный нюх. Я чувствую запах дождевого червя за несколько метров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Box 3"/>
          <p:cNvSpPr/>
          <p:nvPr/>
        </p:nvSpPr>
        <p:spPr>
          <a:xfrm>
            <a:off x="4848120" y="5645160"/>
            <a:ext cx="330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Ответ: Кро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Box 4"/>
          <p:cNvSpPr/>
          <p:nvPr/>
        </p:nvSpPr>
        <p:spPr>
          <a:xfrm>
            <a:off x="4848120" y="5707080"/>
            <a:ext cx="51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Управляющая кнопка: домой 6"/>
          <p:cNvSpPr/>
          <p:nvPr/>
        </p:nvSpPr>
        <p:spPr>
          <a:xfrm>
            <a:off x="11396520" y="6113520"/>
            <a:ext cx="795600" cy="744480"/>
          </a:xfrm>
          <a:custGeom>
            <a:avLst/>
            <a:gdLst>
              <a:gd name="textAreaLeft" fmla="*/ 48240 w 795600"/>
              <a:gd name="textAreaRight" fmla="*/ 747360 w 795600"/>
              <a:gd name="textAreaTop" fmla="*/ 48240 h 744480"/>
              <a:gd name="textAreaBottom" fmla="*/ 696240 h 744480"/>
            </a:gdLst>
            <a:ahLst/>
            <a:rect l="textAreaLeft" t="textAreaTop" r="textAreaRight" b="textAreaBottom"/>
            <a:pathLst>
              <a:path w="23082" h="21600">
                <a:moveTo>
                  <a:pt x="0" y="0"/>
                </a:moveTo>
                <a:lnTo>
                  <a:pt x="23082" y="0"/>
                </a:lnTo>
                <a:lnTo>
                  <a:pt x="23082" y="21600"/>
                </a:lnTo>
                <a:lnTo>
                  <a:pt x="0" y="21600"/>
                </a:lnTo>
                <a:close/>
              </a:path>
              <a:path fill="lightenLess" w="23082" h="21600">
                <a:moveTo>
                  <a:pt x="0" y="0"/>
                </a:moveTo>
                <a:lnTo>
                  <a:pt x="23082" y="0"/>
                </a:lnTo>
                <a:lnTo>
                  <a:pt x="21682" y="1400"/>
                </a:lnTo>
                <a:lnTo>
                  <a:pt x="1400" y="1400"/>
                </a:lnTo>
                <a:close/>
              </a:path>
              <a:path fill="darken" w="23082" h="21600">
                <a:moveTo>
                  <a:pt x="23082" y="0"/>
                </a:moveTo>
                <a:lnTo>
                  <a:pt x="23082" y="21600"/>
                </a:lnTo>
                <a:lnTo>
                  <a:pt x="21682" y="20200"/>
                </a:lnTo>
                <a:lnTo>
                  <a:pt x="21682" y="1400"/>
                </a:lnTo>
                <a:close/>
              </a:path>
              <a:path fill="darkenLess" w="23082" h="21600">
                <a:moveTo>
                  <a:pt x="23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82" y="20200"/>
                </a:lnTo>
                <a:close/>
              </a:path>
              <a:path fill="lighten" w="23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82" h="21600">
                <a:moveTo>
                  <a:pt x="11541" y="3837"/>
                </a:moveTo>
                <a:lnTo>
                  <a:pt x="14118" y="6448"/>
                </a:lnTo>
                <a:lnTo>
                  <a:pt x="14118" y="4707"/>
                </a:lnTo>
                <a:lnTo>
                  <a:pt x="15893" y="4707"/>
                </a:lnTo>
                <a:lnTo>
                  <a:pt x="15893" y="8224"/>
                </a:lnTo>
                <a:lnTo>
                  <a:pt x="18504" y="10800"/>
                </a:lnTo>
                <a:lnTo>
                  <a:pt x="16850" y="10800"/>
                </a:lnTo>
                <a:lnTo>
                  <a:pt x="16850" y="17989"/>
                </a:lnTo>
                <a:lnTo>
                  <a:pt x="6232" y="17989"/>
                </a:lnTo>
                <a:lnTo>
                  <a:pt x="6232" y="10800"/>
                </a:lnTo>
                <a:lnTo>
                  <a:pt x="4578" y="10800"/>
                </a:lnTo>
                <a:close/>
              </a:path>
              <a:path fill="darkenLess" w="23082" h="21600">
                <a:moveTo>
                  <a:pt x="14118" y="6448"/>
                </a:moveTo>
                <a:lnTo>
                  <a:pt x="14118" y="4707"/>
                </a:lnTo>
                <a:lnTo>
                  <a:pt x="15893" y="4707"/>
                </a:lnTo>
                <a:lnTo>
                  <a:pt x="15893" y="8224"/>
                </a:lnTo>
                <a:close/>
              </a:path>
              <a:path fill="darkenLess" w="23082" h="21600">
                <a:moveTo>
                  <a:pt x="10619" y="14299"/>
                </a:moveTo>
                <a:lnTo>
                  <a:pt x="12464" y="14299"/>
                </a:lnTo>
                <a:lnTo>
                  <a:pt x="12464" y="17989"/>
                </a:lnTo>
                <a:lnTo>
                  <a:pt x="16850" y="17989"/>
                </a:lnTo>
                <a:lnTo>
                  <a:pt x="16850" y="10800"/>
                </a:lnTo>
                <a:lnTo>
                  <a:pt x="6232" y="10800"/>
                </a:lnTo>
                <a:lnTo>
                  <a:pt x="6232" y="17989"/>
                </a:lnTo>
                <a:lnTo>
                  <a:pt x="10619" y="17989"/>
                </a:lnTo>
                <a:close/>
              </a:path>
            </a:pathLst>
          </a:cu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8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389" nodeType="clickEffect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125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Box 1"/>
          <p:cNvSpPr/>
          <p:nvPr/>
        </p:nvSpPr>
        <p:spPr>
          <a:xfrm>
            <a:off x="430200" y="830160"/>
            <a:ext cx="965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ОПРОС 2.1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60093"/>
                </a:solidFill>
                <a:latin typeface="Calibri"/>
              </a:rPr>
              <a:t>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Box 3"/>
          <p:cNvSpPr/>
          <p:nvPr/>
        </p:nvSpPr>
        <p:spPr>
          <a:xfrm>
            <a:off x="5402160" y="5288040"/>
            <a:ext cx="494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: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Управляющая кнопка: домой 6"/>
          <p:cNvSpPr/>
          <p:nvPr/>
        </p:nvSpPr>
        <p:spPr>
          <a:xfrm>
            <a:off x="11396520" y="6113520"/>
            <a:ext cx="795600" cy="744480"/>
          </a:xfrm>
          <a:custGeom>
            <a:avLst/>
            <a:gdLst>
              <a:gd name="textAreaLeft" fmla="*/ 48240 w 795600"/>
              <a:gd name="textAreaRight" fmla="*/ 747360 w 795600"/>
              <a:gd name="textAreaTop" fmla="*/ 48240 h 744480"/>
              <a:gd name="textAreaBottom" fmla="*/ 696240 h 744480"/>
            </a:gdLst>
            <a:ahLst/>
            <a:rect l="textAreaLeft" t="textAreaTop" r="textAreaRight" b="textAreaBottom"/>
            <a:pathLst>
              <a:path w="23082" h="21600">
                <a:moveTo>
                  <a:pt x="0" y="0"/>
                </a:moveTo>
                <a:lnTo>
                  <a:pt x="23082" y="0"/>
                </a:lnTo>
                <a:lnTo>
                  <a:pt x="23082" y="21600"/>
                </a:lnTo>
                <a:lnTo>
                  <a:pt x="0" y="21600"/>
                </a:lnTo>
                <a:close/>
              </a:path>
              <a:path fill="lightenLess" w="23082" h="21600">
                <a:moveTo>
                  <a:pt x="0" y="0"/>
                </a:moveTo>
                <a:lnTo>
                  <a:pt x="23082" y="0"/>
                </a:lnTo>
                <a:lnTo>
                  <a:pt x="21682" y="1400"/>
                </a:lnTo>
                <a:lnTo>
                  <a:pt x="1400" y="1400"/>
                </a:lnTo>
                <a:close/>
              </a:path>
              <a:path fill="darken" w="23082" h="21600">
                <a:moveTo>
                  <a:pt x="23082" y="0"/>
                </a:moveTo>
                <a:lnTo>
                  <a:pt x="23082" y="21600"/>
                </a:lnTo>
                <a:lnTo>
                  <a:pt x="21682" y="20200"/>
                </a:lnTo>
                <a:lnTo>
                  <a:pt x="21682" y="1400"/>
                </a:lnTo>
                <a:close/>
              </a:path>
              <a:path fill="darkenLess" w="23082" h="21600">
                <a:moveTo>
                  <a:pt x="23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82" y="20200"/>
                </a:lnTo>
                <a:close/>
              </a:path>
              <a:path fill="lighten" w="23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82" h="21600">
                <a:moveTo>
                  <a:pt x="11541" y="3837"/>
                </a:moveTo>
                <a:lnTo>
                  <a:pt x="14118" y="6448"/>
                </a:lnTo>
                <a:lnTo>
                  <a:pt x="14118" y="4707"/>
                </a:lnTo>
                <a:lnTo>
                  <a:pt x="15893" y="4707"/>
                </a:lnTo>
                <a:lnTo>
                  <a:pt x="15893" y="8224"/>
                </a:lnTo>
                <a:lnTo>
                  <a:pt x="18504" y="10800"/>
                </a:lnTo>
                <a:lnTo>
                  <a:pt x="16850" y="10800"/>
                </a:lnTo>
                <a:lnTo>
                  <a:pt x="16850" y="17989"/>
                </a:lnTo>
                <a:lnTo>
                  <a:pt x="6232" y="17989"/>
                </a:lnTo>
                <a:lnTo>
                  <a:pt x="6232" y="10800"/>
                </a:lnTo>
                <a:lnTo>
                  <a:pt x="4578" y="10800"/>
                </a:lnTo>
                <a:close/>
              </a:path>
              <a:path fill="darkenLess" w="23082" h="21600">
                <a:moveTo>
                  <a:pt x="14118" y="6448"/>
                </a:moveTo>
                <a:lnTo>
                  <a:pt x="14118" y="4707"/>
                </a:lnTo>
                <a:lnTo>
                  <a:pt x="15893" y="4707"/>
                </a:lnTo>
                <a:lnTo>
                  <a:pt x="15893" y="8224"/>
                </a:lnTo>
                <a:close/>
              </a:path>
              <a:path fill="darkenLess" w="23082" h="21600">
                <a:moveTo>
                  <a:pt x="10619" y="14299"/>
                </a:moveTo>
                <a:lnTo>
                  <a:pt x="12464" y="14299"/>
                </a:lnTo>
                <a:lnTo>
                  <a:pt x="12464" y="17989"/>
                </a:lnTo>
                <a:lnTo>
                  <a:pt x="16850" y="17989"/>
                </a:lnTo>
                <a:lnTo>
                  <a:pt x="16850" y="10800"/>
                </a:lnTo>
                <a:lnTo>
                  <a:pt x="6232" y="10800"/>
                </a:lnTo>
                <a:lnTo>
                  <a:pt x="6232" y="17989"/>
                </a:lnTo>
                <a:lnTo>
                  <a:pt x="10619" y="17989"/>
                </a:lnTo>
                <a:close/>
              </a:path>
            </a:pathLst>
          </a:cu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Рисунок 1" descr=""/>
          <p:cNvPicPr/>
          <p:nvPr/>
        </p:nvPicPr>
        <p:blipFill>
          <a:blip r:embed="rId1"/>
          <a:stretch/>
        </p:blipFill>
        <p:spPr>
          <a:xfrm>
            <a:off x="1868400" y="1908000"/>
            <a:ext cx="2414520" cy="1359000"/>
          </a:xfrm>
          <a:prstGeom prst="rect">
            <a:avLst/>
          </a:prstGeom>
          <a:ln w="0">
            <a:noFill/>
          </a:ln>
        </p:spPr>
      </p:pic>
      <p:pic>
        <p:nvPicPr>
          <p:cNvPr id="292" name="Рисунок 2" descr=""/>
          <p:cNvPicPr/>
          <p:nvPr/>
        </p:nvPicPr>
        <p:blipFill>
          <a:blip r:embed="rId2"/>
          <a:stretch/>
        </p:blipFill>
        <p:spPr>
          <a:xfrm>
            <a:off x="5079960" y="1908000"/>
            <a:ext cx="2365560" cy="1359000"/>
          </a:xfrm>
          <a:prstGeom prst="rect">
            <a:avLst/>
          </a:prstGeom>
          <a:ln w="0">
            <a:noFill/>
          </a:ln>
        </p:spPr>
      </p:pic>
      <p:pic>
        <p:nvPicPr>
          <p:cNvPr id="293" name="Рисунок 4" descr=""/>
          <p:cNvPicPr/>
          <p:nvPr/>
        </p:nvPicPr>
        <p:blipFill>
          <a:blip r:embed="rId3"/>
          <a:stretch/>
        </p:blipFill>
        <p:spPr>
          <a:xfrm>
            <a:off x="8134200" y="1859040"/>
            <a:ext cx="2536920" cy="1457280"/>
          </a:xfrm>
          <a:prstGeom prst="rect">
            <a:avLst/>
          </a:prstGeom>
          <a:ln w="0">
            <a:noFill/>
          </a:ln>
        </p:spPr>
      </p:pic>
      <p:pic>
        <p:nvPicPr>
          <p:cNvPr id="294" name="Рисунок 8" descr=""/>
          <p:cNvPicPr/>
          <p:nvPr/>
        </p:nvPicPr>
        <p:blipFill>
          <a:blip r:embed="rId4"/>
          <a:stretch/>
        </p:blipFill>
        <p:spPr>
          <a:xfrm>
            <a:off x="2413080" y="3683160"/>
            <a:ext cx="8372520" cy="85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Box 1"/>
          <p:cNvSpPr/>
          <p:nvPr/>
        </p:nvSpPr>
        <p:spPr>
          <a:xfrm>
            <a:off x="534960" y="782640"/>
            <a:ext cx="1139364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ОПРОС 2.2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ой юбилей отмечала Карелия в 2020 году?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60093"/>
                </a:solidFill>
                <a:latin typeface="Calibri"/>
              </a:rPr>
              <a:t>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Box 3"/>
          <p:cNvSpPr/>
          <p:nvPr/>
        </p:nvSpPr>
        <p:spPr>
          <a:xfrm>
            <a:off x="1495440" y="5338800"/>
            <a:ext cx="517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: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Управляющая кнопка: домой 6"/>
          <p:cNvSpPr/>
          <p:nvPr/>
        </p:nvSpPr>
        <p:spPr>
          <a:xfrm>
            <a:off x="11396520" y="6113520"/>
            <a:ext cx="795600" cy="744480"/>
          </a:xfrm>
          <a:custGeom>
            <a:avLst/>
            <a:gdLst>
              <a:gd name="textAreaLeft" fmla="*/ 48240 w 795600"/>
              <a:gd name="textAreaRight" fmla="*/ 747360 w 795600"/>
              <a:gd name="textAreaTop" fmla="*/ 48240 h 744480"/>
              <a:gd name="textAreaBottom" fmla="*/ 696240 h 744480"/>
            </a:gdLst>
            <a:ahLst/>
            <a:rect l="textAreaLeft" t="textAreaTop" r="textAreaRight" b="textAreaBottom"/>
            <a:pathLst>
              <a:path w="23082" h="21600">
                <a:moveTo>
                  <a:pt x="0" y="0"/>
                </a:moveTo>
                <a:lnTo>
                  <a:pt x="23082" y="0"/>
                </a:lnTo>
                <a:lnTo>
                  <a:pt x="23082" y="21600"/>
                </a:lnTo>
                <a:lnTo>
                  <a:pt x="0" y="21600"/>
                </a:lnTo>
                <a:close/>
              </a:path>
              <a:path fill="lightenLess" w="23082" h="21600">
                <a:moveTo>
                  <a:pt x="0" y="0"/>
                </a:moveTo>
                <a:lnTo>
                  <a:pt x="23082" y="0"/>
                </a:lnTo>
                <a:lnTo>
                  <a:pt x="21682" y="1400"/>
                </a:lnTo>
                <a:lnTo>
                  <a:pt x="1400" y="1400"/>
                </a:lnTo>
                <a:close/>
              </a:path>
              <a:path fill="darken" w="23082" h="21600">
                <a:moveTo>
                  <a:pt x="23082" y="0"/>
                </a:moveTo>
                <a:lnTo>
                  <a:pt x="23082" y="21600"/>
                </a:lnTo>
                <a:lnTo>
                  <a:pt x="21682" y="20200"/>
                </a:lnTo>
                <a:lnTo>
                  <a:pt x="21682" y="1400"/>
                </a:lnTo>
                <a:close/>
              </a:path>
              <a:path fill="darkenLess" w="23082" h="21600">
                <a:moveTo>
                  <a:pt x="23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82" y="20200"/>
                </a:lnTo>
                <a:close/>
              </a:path>
              <a:path fill="lighten" w="23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82" h="21600">
                <a:moveTo>
                  <a:pt x="11541" y="3837"/>
                </a:moveTo>
                <a:lnTo>
                  <a:pt x="14118" y="6448"/>
                </a:lnTo>
                <a:lnTo>
                  <a:pt x="14118" y="4707"/>
                </a:lnTo>
                <a:lnTo>
                  <a:pt x="15893" y="4707"/>
                </a:lnTo>
                <a:lnTo>
                  <a:pt x="15893" y="8224"/>
                </a:lnTo>
                <a:lnTo>
                  <a:pt x="18504" y="10800"/>
                </a:lnTo>
                <a:lnTo>
                  <a:pt x="16850" y="10800"/>
                </a:lnTo>
                <a:lnTo>
                  <a:pt x="16850" y="17989"/>
                </a:lnTo>
                <a:lnTo>
                  <a:pt x="6232" y="17989"/>
                </a:lnTo>
                <a:lnTo>
                  <a:pt x="6232" y="10800"/>
                </a:lnTo>
                <a:lnTo>
                  <a:pt x="4578" y="10800"/>
                </a:lnTo>
                <a:close/>
              </a:path>
              <a:path fill="darkenLess" w="23082" h="21600">
                <a:moveTo>
                  <a:pt x="14118" y="6448"/>
                </a:moveTo>
                <a:lnTo>
                  <a:pt x="14118" y="4707"/>
                </a:lnTo>
                <a:lnTo>
                  <a:pt x="15893" y="4707"/>
                </a:lnTo>
                <a:lnTo>
                  <a:pt x="15893" y="8224"/>
                </a:lnTo>
                <a:close/>
              </a:path>
              <a:path fill="darkenLess" w="23082" h="21600">
                <a:moveTo>
                  <a:pt x="10619" y="14299"/>
                </a:moveTo>
                <a:lnTo>
                  <a:pt x="12464" y="14299"/>
                </a:lnTo>
                <a:lnTo>
                  <a:pt x="12464" y="17989"/>
                </a:lnTo>
                <a:lnTo>
                  <a:pt x="16850" y="17989"/>
                </a:lnTo>
                <a:lnTo>
                  <a:pt x="16850" y="10800"/>
                </a:lnTo>
                <a:lnTo>
                  <a:pt x="6232" y="10800"/>
                </a:lnTo>
                <a:lnTo>
                  <a:pt x="6232" y="17989"/>
                </a:lnTo>
                <a:lnTo>
                  <a:pt x="10619" y="17989"/>
                </a:lnTo>
                <a:close/>
              </a:path>
            </a:pathLst>
          </a:cu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8" name="Рисунок 1" descr=""/>
          <p:cNvPicPr/>
          <p:nvPr/>
        </p:nvPicPr>
        <p:blipFill>
          <a:blip r:embed="rId1"/>
          <a:stretch/>
        </p:blipFill>
        <p:spPr>
          <a:xfrm>
            <a:off x="4578480" y="2657520"/>
            <a:ext cx="3157560" cy="26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Box 1"/>
          <p:cNvSpPr/>
          <p:nvPr/>
        </p:nvSpPr>
        <p:spPr>
          <a:xfrm>
            <a:off x="214200" y="1092240"/>
            <a:ext cx="11977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ОПРОС 2.3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менный  остров,  врезанный  в  бескрайнюю  водную  гладь  Ладожского  озера,  не  раз  становился источником  вдохновения  для  поэтов  и  художников. Изображение  живописного архипелага  запечатлено  на  полотнах  великих  художник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Box 3"/>
          <p:cNvSpPr/>
          <p:nvPr/>
        </p:nvSpPr>
        <p:spPr>
          <a:xfrm>
            <a:off x="3643200" y="4726080"/>
            <a:ext cx="51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: Остров  Валаа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Управляющая кнопка: домой 6"/>
          <p:cNvSpPr/>
          <p:nvPr/>
        </p:nvSpPr>
        <p:spPr>
          <a:xfrm>
            <a:off x="11396520" y="6113520"/>
            <a:ext cx="795600" cy="744480"/>
          </a:xfrm>
          <a:custGeom>
            <a:avLst/>
            <a:gdLst>
              <a:gd name="textAreaLeft" fmla="*/ 48240 w 795600"/>
              <a:gd name="textAreaRight" fmla="*/ 747360 w 795600"/>
              <a:gd name="textAreaTop" fmla="*/ 48240 h 744480"/>
              <a:gd name="textAreaBottom" fmla="*/ 696240 h 744480"/>
            </a:gdLst>
            <a:ahLst/>
            <a:rect l="textAreaLeft" t="textAreaTop" r="textAreaRight" b="textAreaBottom"/>
            <a:pathLst>
              <a:path w="23082" h="21600">
                <a:moveTo>
                  <a:pt x="0" y="0"/>
                </a:moveTo>
                <a:lnTo>
                  <a:pt x="23082" y="0"/>
                </a:lnTo>
                <a:lnTo>
                  <a:pt x="23082" y="21600"/>
                </a:lnTo>
                <a:lnTo>
                  <a:pt x="0" y="21600"/>
                </a:lnTo>
                <a:close/>
              </a:path>
              <a:path fill="lightenLess" w="23082" h="21600">
                <a:moveTo>
                  <a:pt x="0" y="0"/>
                </a:moveTo>
                <a:lnTo>
                  <a:pt x="23082" y="0"/>
                </a:lnTo>
                <a:lnTo>
                  <a:pt x="21682" y="1400"/>
                </a:lnTo>
                <a:lnTo>
                  <a:pt x="1400" y="1400"/>
                </a:lnTo>
                <a:close/>
              </a:path>
              <a:path fill="darken" w="23082" h="21600">
                <a:moveTo>
                  <a:pt x="23082" y="0"/>
                </a:moveTo>
                <a:lnTo>
                  <a:pt x="23082" y="21600"/>
                </a:lnTo>
                <a:lnTo>
                  <a:pt x="21682" y="20200"/>
                </a:lnTo>
                <a:lnTo>
                  <a:pt x="21682" y="1400"/>
                </a:lnTo>
                <a:close/>
              </a:path>
              <a:path fill="darkenLess" w="23082" h="21600">
                <a:moveTo>
                  <a:pt x="23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82" y="20200"/>
                </a:lnTo>
                <a:close/>
              </a:path>
              <a:path fill="lighten" w="23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82" h="21600">
                <a:moveTo>
                  <a:pt x="11541" y="3837"/>
                </a:moveTo>
                <a:lnTo>
                  <a:pt x="14118" y="6448"/>
                </a:lnTo>
                <a:lnTo>
                  <a:pt x="14118" y="4707"/>
                </a:lnTo>
                <a:lnTo>
                  <a:pt x="15893" y="4707"/>
                </a:lnTo>
                <a:lnTo>
                  <a:pt x="15893" y="8224"/>
                </a:lnTo>
                <a:lnTo>
                  <a:pt x="18504" y="10800"/>
                </a:lnTo>
                <a:lnTo>
                  <a:pt x="16850" y="10800"/>
                </a:lnTo>
                <a:lnTo>
                  <a:pt x="16850" y="17989"/>
                </a:lnTo>
                <a:lnTo>
                  <a:pt x="6232" y="17989"/>
                </a:lnTo>
                <a:lnTo>
                  <a:pt x="6232" y="10800"/>
                </a:lnTo>
                <a:lnTo>
                  <a:pt x="4578" y="10800"/>
                </a:lnTo>
                <a:close/>
              </a:path>
              <a:path fill="darkenLess" w="23082" h="21600">
                <a:moveTo>
                  <a:pt x="14118" y="6448"/>
                </a:moveTo>
                <a:lnTo>
                  <a:pt x="14118" y="4707"/>
                </a:lnTo>
                <a:lnTo>
                  <a:pt x="15893" y="4707"/>
                </a:lnTo>
                <a:lnTo>
                  <a:pt x="15893" y="8224"/>
                </a:lnTo>
                <a:close/>
              </a:path>
              <a:path fill="darkenLess" w="23082" h="21600">
                <a:moveTo>
                  <a:pt x="10619" y="14299"/>
                </a:moveTo>
                <a:lnTo>
                  <a:pt x="12464" y="14299"/>
                </a:lnTo>
                <a:lnTo>
                  <a:pt x="12464" y="17989"/>
                </a:lnTo>
                <a:lnTo>
                  <a:pt x="16850" y="17989"/>
                </a:lnTo>
                <a:lnTo>
                  <a:pt x="16850" y="10800"/>
                </a:lnTo>
                <a:lnTo>
                  <a:pt x="6232" y="10800"/>
                </a:lnTo>
                <a:lnTo>
                  <a:pt x="6232" y="17989"/>
                </a:lnTo>
                <a:lnTo>
                  <a:pt x="10619" y="17989"/>
                </a:lnTo>
                <a:close/>
              </a:path>
            </a:pathLst>
          </a:cu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05T04:53:38Z</dcterms:created>
  <dc:creator>Георгий Аствацатуров</dc:creator>
  <dc:description/>
  <dc:language>en-US</dc:language>
  <cp:lastModifiedBy>Олеся Копёнкина</cp:lastModifiedBy>
  <dcterms:modified xsi:type="dcterms:W3CDTF">2021-03-28T20:47:16Z</dcterms:modified>
  <cp:revision>52</cp:revision>
  <dc:subject/>
  <dc:title>igra</dc:title>
</cp:coreProperties>
</file>