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600-E5A8-4967-840B-91D24CC4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E8F-82F0-4610-A1C1-5B76B8C2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010-ACE1-46C4-BC4D-C55E92D9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3D6-CBB3-4423-A4FF-4D302B01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C34-BAC7-4826-9769-824E3ABC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15F7-708B-48E3-BDAF-7322A19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726C-A4F8-4A50-A6B5-E5F27200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FD8-2DCC-4A6A-9F65-7EDB9B9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96F6-CBA6-48D1-B4DE-0CDADB83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145-AA22-4EF6-8B44-5F66F43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C064-4146-4F35-8427-53CCFEC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48E-BF0B-4928-8318-D38E7AC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A938-0B5A-4578-A10C-901399D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5677-C340-4A3C-8A42-1D588AFF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2BCD-1F2F-4936-9C05-6E5AF509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089-E27D-4AD7-B835-4BBA4B54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5DD8-E7A2-4165-865D-247F69CD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830-1845-4CFA-8BB8-16EC30D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378-E521-498E-9813-A2809403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26C-21EF-4653-9910-18FFA41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797-6D1D-4C2F-BAC4-925082E6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BED-DDAE-45D8-A3AF-320F95F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2FB-7E98-4FF0-9FAB-735DBEC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FFD-D737-4004-8521-2C936BA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Блок-схема: документ 8"/>
          <p:cNvSpPr/>
          <p:nvPr/>
        </p:nvSpPr>
        <p:spPr>
          <a:xfrm rot="10800000">
            <a:off x="0" y="0"/>
            <a:ext cx="9144000" cy="685800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DDC-6C81-43DF-BE5F-7D7FC9174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7" descr="1.png"/>
          <p:cNvPicPr/>
          <p:nvPr/>
        </p:nvPicPr>
        <p:blipFill>
          <a:blip r:embed="rId2"/>
          <a:srcRect l="0" t="0" r="4973" b="0"/>
          <a:stretch/>
        </p:blipFill>
        <p:spPr>
          <a:xfrm>
            <a:off x="0" y="40766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6" name="Прямоугольник 10" descr=""/>
          <p:cNvPicPr/>
          <p:nvPr/>
        </p:nvPicPr>
        <p:blipFill>
          <a:blip r:embed="rId3"/>
          <a:stretch/>
        </p:blipFill>
        <p:spPr>
          <a:xfrm>
            <a:off x="152280" y="158760"/>
            <a:ext cx="8839440" cy="654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Блок-схема: документ 8"/>
          <p:cNvSpPr/>
          <p:nvPr/>
        </p:nvSpPr>
        <p:spPr>
          <a:xfrm rot="10800000">
            <a:off x="0" y="0"/>
            <a:ext cx="9144000" cy="685800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1.png"/>
          <p:cNvPicPr/>
          <p:nvPr/>
        </p:nvPicPr>
        <p:blipFill>
          <a:blip r:embed="rId2"/>
          <a:srcRect l="0" t="0" r="4973" b="0"/>
          <a:stretch/>
        </p:blipFill>
        <p:spPr>
          <a:xfrm>
            <a:off x="0" y="40766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0" descr=""/>
          <p:cNvPicPr/>
          <p:nvPr/>
        </p:nvPicPr>
        <p:blipFill>
          <a:blip r:embed="rId3"/>
          <a:stretch/>
        </p:blipFill>
        <p:spPr>
          <a:xfrm>
            <a:off x="152280" y="158760"/>
            <a:ext cx="8839440" cy="6540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>
              <a:alpha val="69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8D3-C686-4E75-A14A-8E846FC61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уроку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ем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осочетание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1"/>
          <a:stretch/>
        </p:blipFill>
        <p:spPr>
          <a:xfrm>
            <a:off x="2484360" y="2666880"/>
            <a:ext cx="655164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60440" y="552600"/>
            <a:ext cx="84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житель. Этот морж не боится даже белого медведя. У моржа острые и могучие клыки. Морж совсем безобидный. Клыками морж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89000" y="3475080"/>
            <a:ext cx="275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 для справ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, великан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, з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2484360" y="2666880"/>
            <a:ext cx="655164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60440" y="552600"/>
            <a:ext cx="84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житель. Этот морж не боится даже белого медведя. У моржа острые и могучие клыки. Морж совсем безобидный. Клыками морж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280" y="1412640"/>
            <a:ext cx="8434440" cy="4957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жител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. Этот </a:t>
            </a:r>
            <a:r>
              <a:rPr b="1" lang="ru-RU" sz="3200" spc="-1" strike="noStrike">
                <a:solidFill>
                  <a:srgbClr val="4f6228"/>
                </a:solidFill>
                <a:latin typeface="Century Schoolbook"/>
              </a:rPr>
              <a:t>великан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е боится даже белого медведя. У </a:t>
            </a:r>
            <a:r>
              <a:rPr b="1" lang="ru-RU" sz="3200" spc="-1" strike="noStrike">
                <a:solidFill>
                  <a:srgbClr val="4f6228"/>
                </a:solidFill>
                <a:latin typeface="Century Schoolbook"/>
              </a:rPr>
              <a:t>не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стрые и могучие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лыки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. Морж совсем безобидный. Клыками </a:t>
            </a:r>
            <a:r>
              <a:rPr b="1" i="1" lang="ru-RU" sz="3200" spc="-1" strike="noStrike">
                <a:solidFill>
                  <a:srgbClr val="4f6228"/>
                </a:solidFill>
                <a:latin typeface="Century Schoolbook"/>
              </a:rPr>
              <a:t>звер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24000" y="1432080"/>
            <a:ext cx="8712000" cy="3506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два слова, связанные между собой по смыслу. В словосочетании одно слово зависит от другого. Подлежащее и сказуемое не образуют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дложении 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</a:rPr>
              <a:t>Девочка пела весёлую песенк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1) пела что? Пес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2) песенку какую? весёл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3059280" y="357336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4653000" y="3573360"/>
            <a:ext cx="78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653000" y="3645000"/>
            <a:ext cx="78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11280" y="1125360"/>
            <a:ext cx="79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что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чем?) карандашам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в чем?) в альбоме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для кого?) для мамы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как?) краси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гл+на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95280" y="765000"/>
            <a:ext cx="8748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ём итог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словосочет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найти словосочетание в предлож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задания вызвали у вас затруд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6:28:30Z</dcterms:created>
  <dc:creator>Компас</dc:creator>
  <dc:description/>
  <dc:language>en-US</dc:language>
  <cp:lastModifiedBy>Teacher</cp:lastModifiedBy>
  <dcterms:modified xsi:type="dcterms:W3CDTF">2021-11-15T15:00:07Z</dcterms:modified>
  <cp:revision>16</cp:revision>
  <dc:subject/>
  <dc:title>Слайд 1</dc:title>
</cp:coreProperties>
</file>