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D91A-7347-4B32-BE04-F0C6DAF3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3D69-CE54-42A2-B246-6ED18167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00CA-C3C1-4848-8E14-88B85A8F4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58D4-A18E-4565-9098-BAD0BAF24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7DFB-2ECC-4711-9B0B-0FE37612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856A-43AE-4D54-AEAA-0C2B9924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F806-8C1F-459A-9744-05766724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4470-29F8-422E-A554-76A42224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FF60-842C-4E2A-A951-D9184A9F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C98B-AB58-46CC-9441-89EF536A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0CEF-2299-4760-AB61-3A542418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9DBE-CF38-4569-B7B6-E4186406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E1D9-E07B-4A9B-B8F3-633FD1AC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B3D6-38FE-44C3-BCFE-42F87A9E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0032-4AE3-41C6-8532-76EF49C0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617E-9A2A-473D-A498-69E796C60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121F-7B3A-4CD3-9CF2-CBA0BED0D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E1FB-9E7F-4C38-98D5-5ABF8358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2F9C-67DA-43E5-A2BE-B5BD5872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E1A2-FB03-4AB2-A055-CA015A39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BF97-971F-4612-8A35-3A3AE097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1AD8-76EC-4DD2-A10A-67E4E03E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C735-0D0B-4858-B4C3-AA030C7F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2341-9845-486F-B1C5-04CE5FA6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Блок-схема: документ 8"/>
          <p:cNvSpPr/>
          <p:nvPr/>
        </p:nvSpPr>
        <p:spPr>
          <a:xfrm rot="10800000">
            <a:off x="0" y="0"/>
            <a:ext cx="9144000" cy="6858000"/>
          </a:xfrm>
          <a:prstGeom prst="flowChartDocumen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6159-F284-4392-8C64-8F81A793A1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Рисунок 7" descr="1.png"/>
          <p:cNvPicPr/>
          <p:nvPr/>
        </p:nvPicPr>
        <p:blipFill>
          <a:blip r:embed="rId2"/>
          <a:srcRect l="0" t="0" r="4973" b="0"/>
          <a:stretch/>
        </p:blipFill>
        <p:spPr>
          <a:xfrm>
            <a:off x="0" y="4076640"/>
            <a:ext cx="9144000" cy="3143160"/>
          </a:xfrm>
          <a:prstGeom prst="rect">
            <a:avLst/>
          </a:prstGeom>
          <a:ln w="0">
            <a:noFill/>
          </a:ln>
        </p:spPr>
      </p:pic>
      <p:pic>
        <p:nvPicPr>
          <p:cNvPr id="6" name="Прямоугольник 10" descr=""/>
          <p:cNvPicPr/>
          <p:nvPr/>
        </p:nvPicPr>
        <p:blipFill>
          <a:blip r:embed="rId3"/>
          <a:stretch/>
        </p:blipFill>
        <p:spPr>
          <a:xfrm>
            <a:off x="152280" y="158760"/>
            <a:ext cx="8839440" cy="654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Блок-схема: документ 8"/>
          <p:cNvSpPr/>
          <p:nvPr/>
        </p:nvSpPr>
        <p:spPr>
          <a:xfrm rot="10800000">
            <a:off x="0" y="0"/>
            <a:ext cx="9144000" cy="6858000"/>
          </a:xfrm>
          <a:prstGeom prst="flowChartDocumen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7" descr="1.png"/>
          <p:cNvPicPr/>
          <p:nvPr/>
        </p:nvPicPr>
        <p:blipFill>
          <a:blip r:embed="rId2"/>
          <a:srcRect l="0" t="0" r="4973" b="0"/>
          <a:stretch/>
        </p:blipFill>
        <p:spPr>
          <a:xfrm>
            <a:off x="0" y="4076640"/>
            <a:ext cx="9144000" cy="314316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10" descr=""/>
          <p:cNvPicPr/>
          <p:nvPr/>
        </p:nvPicPr>
        <p:blipFill>
          <a:blip r:embed="rId3"/>
          <a:stretch/>
        </p:blipFill>
        <p:spPr>
          <a:xfrm>
            <a:off x="152280" y="158760"/>
            <a:ext cx="8839440" cy="654048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9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f">
              <a:alpha val="69000"/>
            </a:srgbClr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87D0-6FA0-4AC6-963A-255B2EE23F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ент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 уроку русского язык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 теме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овосочетание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 класс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УМК «Перспектив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5" descr=""/>
          <p:cNvPicPr/>
          <p:nvPr/>
        </p:nvPicPr>
        <p:blipFill>
          <a:blip r:embed="rId1"/>
          <a:stretch/>
        </p:blipFill>
        <p:spPr>
          <a:xfrm>
            <a:off x="2484360" y="2666880"/>
            <a:ext cx="6551640" cy="419112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460440" y="552600"/>
            <a:ext cx="843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Морж – полярный житель. Этот морж не боится даже белого медведя. У моржа острые и могучие клыки. Морж совсем безобидный. Клыками морж выкапывает из ила раковины и съедает  их содержим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189000" y="3475080"/>
            <a:ext cx="2752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лова для справок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, великан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него, з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5" descr=""/>
          <p:cNvPicPr/>
          <p:nvPr/>
        </p:nvPicPr>
        <p:blipFill>
          <a:blip r:embed="rId2"/>
          <a:stretch/>
        </p:blipFill>
        <p:spPr>
          <a:xfrm>
            <a:off x="2484360" y="2666880"/>
            <a:ext cx="6551640" cy="419112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460440" y="552600"/>
            <a:ext cx="843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Морж – полярный житель. Этот морж не боится даже белого медведя. У моржа острые и могучие клыки. Морж совсем безобидный. Клыками морж выкапывает из ила раковины и съедает  их содержим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39280" y="1412640"/>
            <a:ext cx="8434440" cy="49575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Морж – полярный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житель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. Этот </a:t>
            </a:r>
            <a:r>
              <a:rPr b="1" lang="ru-RU" sz="3200" spc="-1" strike="noStrike">
                <a:solidFill>
                  <a:srgbClr val="4f6228"/>
                </a:solidFill>
                <a:latin typeface="Century Schoolbook"/>
              </a:rPr>
              <a:t>великан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не боится даже белого медведя. У </a:t>
            </a:r>
            <a:r>
              <a:rPr b="1" lang="ru-RU" sz="3200" spc="-1" strike="noStrike">
                <a:solidFill>
                  <a:srgbClr val="4f6228"/>
                </a:solidFill>
                <a:latin typeface="Century Schoolbook"/>
              </a:rPr>
              <a:t>него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острые и могучие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клыки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. Морж совсем безобидный. Клыками </a:t>
            </a:r>
            <a:r>
              <a:rPr b="1" i="1" lang="ru-RU" sz="3200" spc="-1" strike="noStrike">
                <a:solidFill>
                  <a:srgbClr val="4f6228"/>
                </a:solidFill>
                <a:latin typeface="Century Schoolbook"/>
              </a:rPr>
              <a:t>зверь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выкапывает из ила раковины и съедает  их содержим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324000" y="1432080"/>
            <a:ext cx="8712000" cy="35067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восочет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два слова, связанные между собой по смыслу. В словосочетании одно слово зависит от другого. Подлежащее и сказуемое не образуют словосоче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едложении </a:t>
            </a:r>
            <a:r>
              <a:rPr b="1" lang="ru-RU" sz="2800" spc="-1" strike="noStrike">
                <a:solidFill>
                  <a:srgbClr val="558ed5"/>
                </a:solidFill>
                <a:latin typeface="Arial"/>
              </a:rPr>
              <a:t>Девочка пела весёлую песенку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а словосоче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558ed5"/>
                </a:solidFill>
                <a:latin typeface="Arial"/>
              </a:rPr>
              <a:t>1) пела что? Песен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58ed5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558ed5"/>
                </a:solidFill>
                <a:latin typeface="Arial"/>
              </a:rPr>
              <a:t>2) песенку какую? весёлу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3"/>
          <p:cNvSpPr/>
          <p:nvPr/>
        </p:nvSpPr>
        <p:spPr>
          <a:xfrm>
            <a:off x="3059280" y="3573360"/>
            <a:ext cx="144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4"/>
          <p:cNvSpPr/>
          <p:nvPr/>
        </p:nvSpPr>
        <p:spPr>
          <a:xfrm>
            <a:off x="4653000" y="3573360"/>
            <a:ext cx="78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8"/>
          <p:cNvSpPr/>
          <p:nvPr/>
        </p:nvSpPr>
        <p:spPr>
          <a:xfrm>
            <a:off x="4653000" y="3645000"/>
            <a:ext cx="78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611280" y="1125360"/>
            <a:ext cx="7993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ть (что?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ок (гл+сущ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ть (чем?) карандашам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+сущ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ть (в чем?) в альбоме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+сущ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ть (для кого?) для мамы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+сущ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ть (как?) красив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(гл+на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395280" y="765000"/>
            <a:ext cx="8748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ведём итог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такое словосочета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найти словосочетание в предложен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нового узнали на уро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ие задания вызвали у вас затрудне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5T16:28:30Z</dcterms:created>
  <dc:creator>Компас</dc:creator>
  <dc:description/>
  <dc:language>en-US</dc:language>
  <cp:lastModifiedBy>Teacher</cp:lastModifiedBy>
  <dcterms:modified xsi:type="dcterms:W3CDTF">2021-11-15T15:00:07Z</dcterms:modified>
  <cp:revision>16</cp:revision>
  <dc:subject/>
  <dc:title>Слайд 1</dc:title>
</cp:coreProperties>
</file>