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E4E-6150-488D-9C21-85848077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A3F-3958-4309-9731-F47A8170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B933-56C9-49D3-9AEF-9001A724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059-38F5-4AE2-A3DB-21E5827C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B75-01AE-45CC-96FE-E4A04F96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F26-7080-4177-ABB2-2CE26EAD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22A-4E91-4198-BAFA-2C43C6D8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815-754E-45F3-A94D-2ADBA23F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59C-8A9A-482A-A0E7-0BF6EA74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3D2-B066-4895-A744-91C61833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A02-5281-460D-AC6D-6C6787C1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A01-6FD8-4925-BF5D-8E426D93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6068-9BA9-41DA-A2E3-B23BE775459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2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7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9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3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36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35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3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ds04.infourok.ru/uploads/ex/023a/0014fd51-c472baa2/img3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928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Конституция Российской Федерац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уальность темы: Конституция РФ – основной закон страны, закон высшей юридической силы. Конституцию своего Отечества следует глубоко уваж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ла: воспитатель Кенджаева Л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ная категория: 8-11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5" descr="День Конституции Российской Федерации (12 декабря) Конституция - основа всег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0" descr="По своей структуре Конституция РФ состоит из Преамбулы и двух разделов. В Пр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9" descr="https://lusana.ru/files/20359/653/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0" descr="https://lusana.ru/files/20359/653/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2" descr="Основы конституционного строя РФ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сударственная символика 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едставляет собой совокупность символов, которые отражают традиции стра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сударственная символ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это отличительные знаки страны, которые выделяют ее в мировом сообществе. Кроме этого, государственная символика может отражать экономику, географическое положение, духовный и интеллектуальный потенциал. Государственная символика ориентирована на перспективы и отношения с другими стран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ая российская символ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вляется выражением суверенитета страны и ее самобытности. Символика России отражает многонациональность культур и тради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мволика 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ключает в себ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лаг, герб и гим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тра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лаг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Documents and Settings\alex\Рабочий стол\Материалы КЛП 12.2019\флаг1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рб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C:\Documents and Settings\alex\Рабочий стол\Материалы КЛП 12.2019\герб1.jp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1439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ссия - священная наша держав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ссия - любимая наша стра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гучая воля, великая слава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вое достоянье на все времена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пев::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авься, Отечество наше свободно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ратских народов союз вековой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ками данная мудрость народная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авься, страна! Мы гордимся тобой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южных морей до полярного кра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кинулись наши леса и пол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на ты на свете! Одна ты такая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Хранимая Богом родная земля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пе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Широкий простор для мечты и для жиз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ядущие нам открывают г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м силу дает наша верность Отчизн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к было, так есть и так будет всегда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п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енный гимн Российской 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осударственный гим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енный гимн Российской Федерации был утвержден Государственной Думой в декабре 2000 г. Текст Гимна утвержден указом Президента России В.В.Путина 30 декабря 2000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кст гимна принадлежит известному писателю С.В.Михалко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зыка осталась от прежнего гимна композитора и хорового дирижера А.В.Александр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крыть высший смысл и назначение нашей Конституции как Основного зак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, на какой ценностной основе строится Конституция РФ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ить основные принципы, составляющие основу нашего конституционного стро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крепление и углубление знаний воспитанников о значении Конституции Р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47" descr="Конституция государства закрепила ряд важных основополагающих обязанностей гр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9" descr="Политические права и свободы: 1. Право принимать участие в управлении своей 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8" descr="Гражданские права и свободы: Право на свободу и личную неприкосновенность. 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50" descr="Экономические права и свободы: Право на собственность. Право на труд. Право 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а и обязанности граждан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0" y="178596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венство прав и свобод, право на жизнь, право на личную неприкосновенность, право на защиту своей чести и доброго имени, право на свободное передвижение, право на жилище и его неприкосновенность, право на труд, право на отдых, право на образование, право на охрану здоровья и медицинскую помощь, право на получение юридической помощи, право на получение социальной помощи, свобода мысли и слова, свобода совести, свобода вероисповеданий, свобода информации, свобода творчества. обязанность защищать Родину, обязанность соблюдать законы, обязанность сохранять природу и окружающую среду, обязанность платить налоги, забота о детях, их воспитание – равное право и обязанность родител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Федеративное устройст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сийская Федерация есть демократическое федеративное правовое государство с республиканской формой прав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сийская Федерация состоит из 85 субъектов, 22 из которых являются республик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26" descr="Глава 3. Федеративное устройство Субъектами федерации в России являются: рес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7" descr="Согласно Конституции 1993 г., Российская Федерация есть демократическое фед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РОДА ФЕДЕРАЛЬНОГО ЗНА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328608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Моск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Санкт-Петербур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Севастопол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:\Documents and Settings\alex\Рабочий стол\Материалы КЛП 12.2019\москва5.jpg"/>
          <p:cNvPicPr/>
          <p:nvPr/>
        </p:nvPicPr>
        <p:blipFill>
          <a:blip r:embed="rId1"/>
          <a:stretch/>
        </p:blipFill>
        <p:spPr>
          <a:xfrm>
            <a:off x="0" y="2516040"/>
            <a:ext cx="4495680" cy="4341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alex\Рабочий стол\Материалы КЛП 12.2019\москва8.jpg"/>
          <p:cNvPicPr/>
          <p:nvPr/>
        </p:nvPicPr>
        <p:blipFill>
          <a:blip r:embed="rId2"/>
          <a:stretch/>
        </p:blipFill>
        <p:spPr>
          <a:xfrm>
            <a:off x="4500720" y="2516040"/>
            <a:ext cx="46432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alex\Рабочий стол\Материалы КЛП 12.2019\Картинки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вастоп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Documents and Settings\alex\Рабочий стол\Материалы КЛП 12.2019\севастополь1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7" descr="Глава 4. Президент РФ является главой государства является гарантом Конститу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зидент Российской Федерации</a:t>
            </a:r>
            <a:br>
              <a:rPr sz="36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ладимир Владимирович Пут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Documents and Settings\alex\Рабочий стол\Материалы КЛП 12.2019\Путин1.jpg"/>
          <p:cNvPicPr/>
          <p:nvPr/>
        </p:nvPicPr>
        <p:blipFill>
          <a:blip r:embed="rId1"/>
          <a:stretch/>
        </p:blipFill>
        <p:spPr>
          <a:xfrm>
            <a:off x="2771640" y="1071720"/>
            <a:ext cx="410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8" descr="Глава 4. Президент Российской Федерации (до 93 ст) Глава государства, гара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зидент – глава государства, избираемый прямым голосованием сроком на 6 ле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2214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писывает законы, возвращает их на повторное рассмотрение, вносит законопроекты в Госдуму, издает указы и распоря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яет Совету Федерации кандидатов на должности судей Конституционного суда, Верховного суда, Высшего арбитражного суда, Генерального прокур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ует правительство: назначает с согласия Думы председателя, его заместителей, руководителей комитетов и ведомств, принимает решение об отставке правитель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главляет Совет безопасности, руководит внешней политикой, решает вопросы гражданства, помилования, присуждает государственные награ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4" descr="Структура органов государственной власти в РФ РФ федеративное правовое госу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5" descr="Особенности государственной власти в России: парламент Федеральное Собрание 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5" descr="Особенности государственной власти в России: парламент Федеральное Собрание 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29" descr="Глава 5. Федеральное собрание является представительным и законодательным ор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4" descr="Истинное равенство граждан состоит в том, чтобы все они одинаково были подч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0" descr="Полномочия Совета Федерации Разработка законопроектов Рассмотрение законов У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вет Федер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multimedia.RGMU\Desktop\Символы Росии\совфед1.jpg"/>
          <p:cNvPicPr/>
          <p:nvPr/>
        </p:nvPicPr>
        <p:blipFill>
          <a:blip r:embed="rId2"/>
          <a:srcRect l="0" t="0" r="0" b="145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1" descr="Полномочия Государственной Думы Разработка законопроектов Принятие законов Е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енная Дума Российской Федер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multimedia.RGMU\Desktop\35199526_VUDPsbDs1O4CTYNVbjfjFRYF_bgkCIl8bGzUQz4aJYk.jpg"/>
          <p:cNvPicPr/>
          <p:nvPr/>
        </p:nvPicPr>
        <p:blipFill>
          <a:blip r:embed="rId1"/>
          <a:stretch/>
        </p:blipFill>
        <p:spPr>
          <a:xfrm>
            <a:off x="1619280" y="1600200"/>
            <a:ext cx="56894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2" descr="Глава 6. Правительство РФ Осуществляет исполнительную власть Состоит из Предс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м Правительства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9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ава Правительства Российской Федераци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шустин Михаил Владимирови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C:\Users\multimedia.RGMU\Desktop\8a84dadc.jpg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удебная вла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существляет контроль за соответствием законов и иных нормативных актов Конститу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171432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рховный суд РФ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жданские, уголовные, административные и иные дела, подсудные судам общей юрисди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ший Арбитражный суд РФ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зрешение экономических сп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адачи судебной систе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ешать конфликты и споры на основании зак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уществлять конституционный контр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щищать и восстанавливать нарушенные права и своб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ть меры юридической ответственности в виде наказаний за виновные противоправные дея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34" descr="Глава 8. Местное самоуправление Обеспечивает самостоятельное решение населен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5" descr="Глава 9. Конституционные поправки и пересмотр Конституции Положения глав 1,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3" descr="Конституция РФ имеет высшую юридическую силу, прямое действие и применяется 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17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ституция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71432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Конституция РФ имеет высшую юридическую силу, прямое действие и применяется на всей территории России. Законы и иные правовые акты, применяемые в Российской Федерации, не должны противоречить Конституции РФ. В конституции закрепляются нормы взаимоотношений граждан и государства, права личности, правовое равенство всех граждан; описываются характер государства, статус различных властей; правила взаимоотношения парламента, президента, правительства и суда, а также структура и порядок функционирования органов управл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4" descr="Конституция РФ выступает Основным законом нашей страны. Её фундаментом являю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alex\Рабочий стол\Материалы КЛП 12.2019\Картин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alex\Рабочий стол\Материалы КЛП 12.2019\Картинки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7T07:21:53Z</dcterms:created>
  <dc:creator>алекс</dc:creator>
  <dc:description/>
  <dc:language>en-US</dc:language>
  <cp:lastModifiedBy>Multimedia</cp:lastModifiedBy>
  <dcterms:modified xsi:type="dcterms:W3CDTF">2021-11-20T10:21:38Z</dcterms:modified>
  <cp:revision>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1c0000000000010291210207f7000400038000</vt:lpwstr>
  </property>
</Properties>
</file>