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96C-3468-4C2A-B1BB-9BBB2814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7B3-8767-43A0-809C-F845D52E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F7D-6C25-4D21-92D9-E986B5DD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721-CA1A-4EF3-8B76-25BDA158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E93-7A61-410E-9E5A-3751B351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2B3-F672-409F-830E-E2BA3927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97B-A601-4FA2-AA8E-EB88768D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3EF-4883-48BB-AD25-C3306F40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DA7-1CB9-4697-B2E5-9330027D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A08-7E5E-4E1D-95F9-B3E03682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682-6755-4FC0-84E9-74C3966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613-97DD-4457-A45D-30A26A0B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3E6D-19EE-45F8-9B07-D5BB794AD57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9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3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36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35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3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3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928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онституция Российской Федерац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ьность темы: Конституция РФ – основной закон страны, закон высшей юридической силы. Конституцию своего Отечества следует глубоко уваж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ла: воспитатель Кенджаева Л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ная категория: 8-11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5" descr="День Конституции Российской Федерации (12 декабря) Конституция - основа всег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0" descr="По своей структуре Конституция РФ состоит из Преамбулы и двух разделов. В Пр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9" descr="https://lusana.ru/files/20359/653/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0" descr="https://lusana.ru/files/20359/653/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2" descr="Основы конституционного строя РФ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сударственная символика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едставляет собой совокупность символов, которые отражают традиции стр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сударственная символ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это отличительные знаки страны, которые выделяют ее в мировом сообществе. Кроме этого, государственная символика может отражать экономику, географическое положение, духовный и интеллектуальный потенциал. Государственная символика ориентирована на перспективы и отношения с другими стра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ая российская символ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выражением суверенитета страны и ее самобытности. Символика России отражает многонациональность культур и тради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ика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ключает в себ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лаг, герб и гим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тр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лаг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alex\Рабочий стол\Материалы КЛП 12.2019\флаг1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рб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Documents and Settings\alex\Рабочий стол\Материалы КЛП 12.2019\герб1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143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ссия - священная наша держав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ссия - любимая наша стра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гучая воля, великая слава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вое достоянье на все времена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пев::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авься, Отечество наше свободно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ратских народов союз веково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ками данная мудрость народная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авься, страна! Мы гордимся тобой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южных морей до полярного кра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кинулись наши леса и пол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а ты на свете! Одна ты такая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Хранимая Богом родная земля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пе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Широкий простор для мечты и для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ядущие нам открывают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м силу дает наша верность Отчизн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к было, так есть и так будет всегда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п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ый гимн Российской 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осударственный гим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ый гимн Российской Федерации был утвержден Государственной Думой в декабре 2000 г. Текст Гимна утвержден указом Президента России В.В.Путина 30 декабря 2000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ст гимна принадлежит известному писателю С.В.Михалко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зыка осталась от прежнего гимна композитора и хорового дирижера А.В.Александр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крыть высший смысл и назначение нашей Конституции как Основного зак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, на какой ценностной основе строится Конституция РФ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ить основные принципы, составляющие основу нашего конституционного стро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крепление и углубление знаний воспитанников о значении Конституции Р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47" descr="Конституция государства закрепила ряд важных основополагающих обязанностей г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9" descr="Политические права и свободы: 1. Право принимать участие в управлении своей 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8" descr="Гражданские права и свободы: Право на свободу и личную неприкосновенность. 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0" descr="Экономические права и свободы: Право на собственность. Право на труд. Право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а и обязанности граждан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0" y="178596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венство прав и свобод, право на жизнь, право на личную неприкосновенность, право на защиту своей чести и доброго имени, право на свободное передвижение, право на жилище и его неприкосновенность, право на труд, право на отдых, право на образование, право на охрану здоровья и медицинскую помощь, право на получение юридической помощи, право на получение социальной помощи, свобода мысли и слова, свобода совести, свобода вероисповеданий, свобода информации, свобода творчества. обязанность защищать Родину, обязанность соблюдать законы, обязанность сохранять природу и окружающую среду, обязанность платить налоги, забота о детях, их воспитание – равное право и обязанность родител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Федеративное устрой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сийская Федерация есть демократическое федеративное правовое государство с республиканской формой прав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сийская Федерация состоит из 85 субъектов, 22 из которых являются республик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6" descr="Глава 3. Федеративное устройство Субъектами федерации в России являются: рес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7" descr="Согласно Конституции 1993 г., Российская Федерация есть демократическое фед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ОДА ФЕДЕРАЛЬНОГО ЗНА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328608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Моск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Санкт-Петербур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Севастопол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Documents and Settings\alex\Рабочий стол\Материалы КЛП 12.2019\москва5.jpg"/>
          <p:cNvPicPr/>
          <p:nvPr/>
        </p:nvPicPr>
        <p:blipFill>
          <a:blip r:embed="rId1"/>
          <a:stretch/>
        </p:blipFill>
        <p:spPr>
          <a:xfrm>
            <a:off x="0" y="2516040"/>
            <a:ext cx="4495680" cy="4341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alex\Рабочий стол\Материалы КЛП 12.2019\москва8.jpg"/>
          <p:cNvPicPr/>
          <p:nvPr/>
        </p:nvPicPr>
        <p:blipFill>
          <a:blip r:embed="rId2"/>
          <a:stretch/>
        </p:blipFill>
        <p:spPr>
          <a:xfrm>
            <a:off x="4500720" y="2516040"/>
            <a:ext cx="46432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lex\Рабочий стол\Материалы КЛП 12.2019\Картинки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вастоп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Documents and Settings\alex\Рабочий стол\Материалы КЛП 12.2019\севастополь1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7" descr="Глава 4. Президент РФ является главой государства является гарантом Конститу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зидент Российской Федерации</a:t>
            </a:r>
            <a:br>
              <a:rPr sz="36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ладимир Владимирович Пут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Documents and Settings\alex\Рабочий стол\Материалы КЛП 12.2019\Путин1.jpg"/>
          <p:cNvPicPr/>
          <p:nvPr/>
        </p:nvPicPr>
        <p:blipFill>
          <a:blip r:embed="rId1"/>
          <a:stretch/>
        </p:blipFill>
        <p:spPr>
          <a:xfrm>
            <a:off x="2771640" y="1071720"/>
            <a:ext cx="410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8" descr="Глава 4. Президент Российской Федерации (до 93 ст) Глава государства, гара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зидент – глава государства, избираемый прямым голосованием сроком на 6 ле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писывает законы, возвращает их на повторное рассмотрение, вносит законопроекты в Госдуму, издает указы и распоря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вету Федерации кандидатов на должности судей Конституционного суда, Верховного суда, Высшего арбитражного суда, Генерального прокур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ует правительство: назначает с согласия Думы председателя, его заместителей, руководителей комитетов и ведомств, принимает решение об отставке правите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главляет Совет безопасности, руководит внешней политикой, решает вопросы гражданства, помилования, присуждает государственные нагр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4" descr="Структура органов государственной власти в РФ РФ федеративное правовое госу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5" descr="Особенности государственной власти в России: парламент Федеральное Собрание 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5" descr="Особенности государственной власти в России: парламент Федеральное Собрание 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29" descr="Глава 5. Федеральное собрание является представительным и законодательным ор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4" descr="Истинное равенство граждан состоит в том, чтобы все они одинаково были подч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0" descr="Полномочия Совета Федерации Разработка законопроектов Рассмотрение законов У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вет Феде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multimedia.RGMU\Desktop\Символы Росии\совфед1.jpg"/>
          <p:cNvPicPr/>
          <p:nvPr/>
        </p:nvPicPr>
        <p:blipFill>
          <a:blip r:embed="rId2"/>
          <a:srcRect l="0" t="0" r="0" b="145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1" descr="Полномочия Государственной Думы Разработка законопроектов Принятие законов Е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енная Дума Российской Федер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multimedia.RGMU\Desktop\35199526_VUDPsbDs1O4CTYNVbjfjFRYF_bgkCIl8bGzUQz4aJYk.jpg"/>
          <p:cNvPicPr/>
          <p:nvPr/>
        </p:nvPicPr>
        <p:blipFill>
          <a:blip r:embed="rId1"/>
          <a:stretch/>
        </p:blipFill>
        <p:spPr>
          <a:xfrm>
            <a:off x="1619280" y="1600200"/>
            <a:ext cx="56894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2" descr="Глава 6. Правительство РФ Осуществляет исполнительную власть Состоит из Предс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м Правительства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ава Правительства Российской Федераци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шустин Михаил Владимир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C:\Users\multimedia.RGMU\Desktop\8a84dadc.jpg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удебная вла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существляет контроль за соответствием законов и иных нормативных актов Конститу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рховный суд РФ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ские, уголовные, административные и иные дела, подсудные судам общей юрисди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ий Арбитражный суд РФ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зрешение экономических сп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дачи судебной сист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ешать конфликты и споры на основании зак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ществлять конституционный контр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щать и восстанавливать нарушенные права и своб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ть меры юридической ответственности в виде наказаний за виновные противоправные дея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4" descr="Глава 8. Местное самоуправление Обеспечивает самостоятельное решение населен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5" descr="Глава 9. Конституционные поправки и пересмотр Конституции Положения глав 1,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3" descr="Конституция РФ имеет высшую юридическую силу, прямое действие и применяется 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17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ституция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Конституция РФ имеет высшую юридическую силу, прямое действие и применяется на всей территории России. Законы и иные правовые акты, применяемые в Российской Федерации, не должны противоречить Конституции РФ. В конституции закрепляются нормы взаимоотношений граждан и государства, права личности, правовое равенство всех граждан; описываются характер государства, статус различных властей; правила взаимоотношения парламента, президента, правительства и суда, а также структура и порядок функционирования органов управ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4" descr="Конституция РФ выступает Основным законом нашей страны. Её фундаментом являю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lex\Рабочий стол\Материалы КЛП 12.2019\Картин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lex\Рабочий стол\Материалы КЛП 12.2019\Картинки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7T07:21:53Z</dcterms:created>
  <dc:creator>алекс</dc:creator>
  <dc:description/>
  <dc:language>en-US</dc:language>
  <cp:lastModifiedBy>Multimedia</cp:lastModifiedBy>
  <dcterms:modified xsi:type="dcterms:W3CDTF">2021-11-20T10:21:38Z</dcterms:modified>
  <cp:revision>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c0000000000010291210207f7000400038000</vt:lpwstr>
  </property>
</Properties>
</file>