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D9F-3CD0-44CA-ADBF-D60CE5BB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B8C-D7A2-4473-BA6F-4B3FA7F1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025-33CE-4117-9422-4DCA4595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371-5B25-427C-81B3-F19AD2B9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53E-E416-4D14-BF90-430DB58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F7F-1671-458B-B783-BDCB227C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8F1-52C3-4B6B-9CD8-84EFFDCD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111-9864-44BC-B1F4-94E63C22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DC4-1ECC-490A-B1C2-2318381B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684-E252-4DEC-A149-5F2F740A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BFA-06A3-4E8C-B459-42488D5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057-05B9-4777-A133-7FA9D32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8CC8D-6EFA-4340-AC14-1A0AD2E563E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360" y="791640"/>
            <a:ext cx="82281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Урок </a:t>
            </a:r>
            <a:br>
              <a:rPr sz="8000"/>
            </a:b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открытия </a:t>
            </a:r>
            <a:br>
              <a:rPr sz="8000"/>
            </a:b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нового </a:t>
            </a:r>
            <a:br>
              <a:rPr sz="8000"/>
            </a:b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знания</a:t>
            </a:r>
            <a:endParaRPr b="1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32360" y="144360"/>
            <a:ext cx="324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Georgia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260280"/>
            <a:ext cx="7775640" cy="1584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помним свойства сложения и выч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71640" y="4770360"/>
            <a:ext cx="6372360" cy="2087640"/>
          </a:xfrm>
          <a:prstGeom prst="cloudCallout">
            <a:avLst>
              <a:gd name="adj1" fmla="val -63277"/>
              <a:gd name="adj2" fmla="val -5060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переместительное свойство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0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89000"/>
            <a:ext cx="7775640" cy="187308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уквенная запись переместительного свойства с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76640"/>
            <a:ext cx="431964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+ b = b + a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3429000"/>
            <a:ext cx="3241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1 + 9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429264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 + 48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5084640"/>
            <a:ext cx="3241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3 + 4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321300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9 + 7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407664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8 + 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941720"/>
            <a:ext cx="31683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 + 1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260280"/>
            <a:ext cx="7775640" cy="1584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помним свойства сложения и выч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71640" y="4770360"/>
            <a:ext cx="6372360" cy="2087640"/>
          </a:xfrm>
          <a:prstGeom prst="cloudCallout">
            <a:avLst>
              <a:gd name="adj1" fmla="val -63277"/>
              <a:gd name="adj2" fmla="val -5060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сочетательное свойство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0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189000"/>
            <a:ext cx="7775640" cy="187308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уквенная запись сочетательного свойства с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458136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a + (b + c)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0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402000"/>
            <a:ext cx="2119320" cy="345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0"/>
            <a:ext cx="7453440" cy="1413000"/>
          </a:xfrm>
          <a:prstGeom prst="cloudCallout">
            <a:avLst>
              <a:gd name="adj1" fmla="val -35199"/>
              <a:gd name="adj2" fmla="val 169550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Как  иначе  можно  записать формул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800360" y="316872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a + (b + c)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44720" y="446400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b + (a + c)</a:t>
            </a:r>
            <a:endParaRPr b="1" i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16000" y="5472000"/>
            <a:ext cx="7056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c + (a + b)</a:t>
            </a:r>
            <a:endParaRPr b="1" i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0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189000"/>
            <a:ext cx="7704000" cy="2448000"/>
          </a:xfrm>
          <a:prstGeom prst="cloudCallout">
            <a:avLst>
              <a:gd name="adj1" fmla="val 40398"/>
              <a:gd name="adj2" fmla="val 8917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апишите примеры, применяя сочетательное  свойство  с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3357720"/>
            <a:ext cx="4897440" cy="585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71 + 16) + 9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7440" y="4292640"/>
            <a:ext cx="47512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 + (48 + 6)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360" y="5157720"/>
            <a:ext cx="4897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3 + 4 + 37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3213000"/>
            <a:ext cx="4537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16 + (71 + 9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4149720"/>
            <a:ext cx="453708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8 + (24 + 6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5084640"/>
            <a:ext cx="4537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 + (113 + 3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0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260280"/>
            <a:ext cx="7775640" cy="1584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помним свойства сложения и выч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71640" y="4770360"/>
            <a:ext cx="6372360" cy="2087640"/>
          </a:xfrm>
          <a:prstGeom prst="cloudCallout">
            <a:avLst>
              <a:gd name="adj1" fmla="val -63277"/>
              <a:gd name="adj2" fmla="val -5060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свойство нуля при  с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0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189000"/>
            <a:ext cx="7775640" cy="187308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уквенная запись  свойства нуля при сложе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92000" y="259236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+ 0 =  a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0200" y="430992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 + 0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0200" y="532764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 + 63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95640" y="403236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66920" y="504972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fill="hold">
                      <p:stCondLst>
                        <p:cond delay="0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свойства сложения упростим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916360" y="2565360"/>
            <a:ext cx="4897440" cy="585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7 + х + 33 =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59280" y="4581360"/>
            <a:ext cx="48974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+ (47 + 33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59280" y="5734080"/>
            <a:ext cx="2449440" cy="50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+ 80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dur="indefinite" fill="hold">
                      <p:stCondLst>
                        <p:cond delay="0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89000"/>
            <a:ext cx="7775640" cy="1008000"/>
          </a:xfrm>
          <a:prstGeom prst="cloudCallout">
            <a:avLst>
              <a:gd name="adj1" fmla="val 38976"/>
              <a:gd name="adj2" fmla="val 23803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773360"/>
            <a:ext cx="4319280" cy="51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5 + а + 1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920" y="2781360"/>
            <a:ext cx="4319640" cy="51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 + 14 + b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141300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а + 8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4724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3933720"/>
            <a:ext cx="4319640" cy="5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 + 81 + 11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5013360"/>
            <a:ext cx="431964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3 + y + 38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357336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0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903320" y="1900080"/>
          <a:ext cx="5811480" cy="3960720"/>
        </p:xfrm>
        <a:graphic>
          <a:graphicData uri="http://schemas.openxmlformats.org/drawingml/2006/table">
            <a:tbl>
              <a:tblPr/>
              <a:tblGrid>
                <a:gridCol w="1937160"/>
                <a:gridCol w="1935720"/>
                <a:gridCol w="1938600"/>
              </a:tblGrid>
              <a:tr h="19803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03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32720" y="2421000"/>
            <a:ext cx="1511280" cy="3698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-144360" y="2232000"/>
            <a:ext cx="1584360" cy="364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0"/>
            <a:ext cx="8893080" cy="2781360"/>
          </a:xfrm>
          <a:prstGeom prst="cloudCallout">
            <a:avLst>
              <a:gd name="adj1" fmla="val -35560"/>
              <a:gd name="adj2" fmla="val 5148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правило вычитания числа из суммы и попробуйте сделать буквенную запись этого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58920" y="515772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- c = a + (b - c),b&gt;c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5950080"/>
            <a:ext cx="7056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- c = b + (a - c),a&gt;c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0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22560" y="2808360"/>
            <a:ext cx="489744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225 + х) - 11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95640" y="410364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(225 - 112)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38920" y="417672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 х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68720" y="5256360"/>
            <a:ext cx="280836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113 + х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fill="hold">
                      <p:stCondLst>
                        <p:cond delay="0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 еще одно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73440" y="2308320"/>
            <a:ext cx="439272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- 39 + 4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16360" y="321300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(у + 42)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56360" y="3213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39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95640" y="511164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у + 3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24360" y="424800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у +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32360" y="4176720"/>
            <a:ext cx="33116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42 - 39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dur="indefinite" fill="hold">
                      <p:stCondLst>
                        <p:cond delay="0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189000"/>
            <a:ext cx="7775640" cy="1008000"/>
          </a:xfrm>
          <a:prstGeom prst="cloudCallout">
            <a:avLst>
              <a:gd name="adj1" fmla="val 38976"/>
              <a:gd name="adj2" fmla="val 23803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4000" y="1628640"/>
            <a:ext cx="431928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217 + у) - 208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278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346 + п) - 186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141300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9 + 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4724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b+1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920" y="3933720"/>
            <a:ext cx="4319640" cy="5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- 178 + 389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5013360"/>
            <a:ext cx="431964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 - 315 + 440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57336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211+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2492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n+1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dur="indefinite" fill="hold">
                      <p:stCondLst>
                        <p:cond delay="0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696000" y="2205000"/>
            <a:ext cx="2303640" cy="348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440000" cy="3411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0"/>
            <a:ext cx="8893080" cy="2781360"/>
          </a:xfrm>
          <a:prstGeom prst="cloudCallout">
            <a:avLst>
              <a:gd name="adj1" fmla="val -35560"/>
              <a:gd name="adj2" fmla="val 5148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 правило вычитания суммы из числа и попробуй сделать буквенную запись этого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565360"/>
            <a:ext cx="4537080" cy="1584360"/>
          </a:xfrm>
          <a:prstGeom prst="cloudCallout">
            <a:avLst>
              <a:gd name="adj1" fmla="val 73374"/>
              <a:gd name="adj2" fmla="val 1953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лод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равн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87280" y="5661000"/>
            <a:ext cx="7056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- (b + c) = a - b - c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dur="indefinite" fill="hold">
                      <p:stCondLst>
                        <p:cond delay="0"/>
                      </p:stCondLst>
                      <p:childTnLst>
                        <p:par>
                          <p:cTn id="5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878200" y="2592360"/>
            <a:ext cx="48974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9 - (12 + x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52720" y="3959280"/>
            <a:ext cx="489600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39 - 12 - x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59280" y="5040360"/>
            <a:ext cx="280800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27 - x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16720" y="2519280"/>
            <a:ext cx="79200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75280" y="3959280"/>
            <a:ext cx="79236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dur="indefinite" fill="hold">
                      <p:stCondLst>
                        <p:cond delay="0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dur="indefinite" fill="hold">
                      <p:stCondLst>
                        <p:cond delay="indefinite"/>
                      </p:stCondLst>
                      <p:childTnLst>
                        <p:par>
                          <p:cTn id="5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dur="indefinite" fill="hold">
                      <p:stCondLst>
                        <p:cond delay="indefinite"/>
                      </p:stCondLst>
                      <p:childTnLst>
                        <p:par>
                          <p:cTn id="5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ещё одно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95640" y="2808360"/>
            <a:ext cx="43210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- 22 - 33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24360" y="4030560"/>
            <a:ext cx="53290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- (22 + 33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95640" y="5256360"/>
            <a:ext cx="280836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- 55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11640" y="2735280"/>
            <a:ext cx="79236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32360" y="3959280"/>
            <a:ext cx="79236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dur="indefinite" fill="hold">
                      <p:stCondLst>
                        <p:cond delay="0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dur="indefinite" fill="hold">
                      <p:stCondLst>
                        <p:cond delay="indefinite"/>
                      </p:stCondLst>
                      <p:childTnLst>
                        <p:par>
                          <p:cTn id="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dur="indefinite" fill="hold">
                      <p:stCondLst>
                        <p:cond delay="indefinite"/>
                      </p:stCondLst>
                      <p:childTnLst>
                        <p:par>
                          <p:cTn id="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68360" y="189000"/>
            <a:ext cx="7775640" cy="1008000"/>
          </a:xfrm>
          <a:prstGeom prst="cloudCallout">
            <a:avLst>
              <a:gd name="adj1" fmla="val 38976"/>
              <a:gd name="adj2" fmla="val 23803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1628640"/>
            <a:ext cx="431928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5 - (15 + х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920" y="278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39 - (88 + у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41300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00-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724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0920" y="3933720"/>
            <a:ext cx="4319640" cy="5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- 344 - 156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5013360"/>
            <a:ext cx="403236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 - 88 - 11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57336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-5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2492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51-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dur="indefinite" fill="hold">
                      <p:stCondLst>
                        <p:cond delay="0"/>
                      </p:stCondLst>
                      <p:childTnLst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dur="indefinite" fill="hold">
                      <p:stCondLst>
                        <p:cond delay="indefinite"/>
                      </p:stCondLst>
                      <p:childTnLst>
                        <p:par>
                          <p:cTn id="6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dur="indefinite" fill="hold">
                      <p:stCondLst>
                        <p:cond delay="indefinite"/>
                      </p:stCondLst>
                      <p:childTnLst>
                        <p:par>
                          <p:cTn id="6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8360" y="189000"/>
            <a:ext cx="7954920" cy="2232000"/>
          </a:xfrm>
          <a:prstGeom prst="cloudCallout">
            <a:avLst>
              <a:gd name="adj1" fmla="val 37541"/>
              <a:gd name="adj2" fmla="val 10260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формулируйте свойства вычитания нуля и вычитания того же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делайте буквенную запись этих св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20640" y="2735280"/>
            <a:ext cx="4535640" cy="17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- 0 =  a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- a = 0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8920" y="5111640"/>
            <a:ext cx="3241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7 - 0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30200" y="597528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 - 12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95640" y="489600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95640" y="5759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dur="indefinite" fill="hold">
                      <p:stCondLst>
                        <p:cond delay="0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dur="indefinite" fill="hold">
                      <p:stCondLst>
                        <p:cond delay="indefinite"/>
                      </p:stCondLst>
                      <p:childTnLst>
                        <p:par>
                          <p:cTn id="6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dur="indefinite" fill="hold">
                      <p:stCondLst>
                        <p:cond delay="indefinite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65160" y="3354480"/>
            <a:ext cx="2046240" cy="3336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9280" y="71280"/>
            <a:ext cx="7740720" cy="1729080"/>
          </a:xfrm>
          <a:prstGeom prst="cloudCallout">
            <a:avLst>
              <a:gd name="adj1" fmla="val -43203"/>
              <a:gd name="adj2" fmla="val 113319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Выбер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 rot="420000">
            <a:off x="9478800" y="5373720"/>
            <a:ext cx="1019160" cy="1473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551240" y="2448000"/>
            <a:ext cx="734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ступили каникулы, и пятикласс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течение трёх дней проложили вокр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школы настоящий туристский маршр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вый день они прош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км,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торой – на 7 км меньше, а в третий –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 км больше, чем во второй. К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тяжённость этого маршру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 rot="420000">
            <a:off x="9694800" y="56008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 rot="420000">
            <a:off x="9551880" y="58024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2376360" y="554364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024360" y="5384880"/>
            <a:ext cx="1153800" cy="1473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1689120" y="541332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 rot="21240000">
            <a:off x="7914960" y="4524480"/>
            <a:ext cx="1077840" cy="1473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 rot="21240000">
            <a:off x="7551360" y="5099040"/>
            <a:ext cx="1079640" cy="1473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 rot="21240000">
            <a:off x="7981560" y="5098680"/>
            <a:ext cx="1081080" cy="147312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716360" y="6237360"/>
            <a:ext cx="2519640" cy="404640"/>
          </a:xfrm>
          <a:custGeom>
            <a:avLst/>
            <a:gdLst>
              <a:gd name="textAreaLeft" fmla="*/ 25920 w 2519640"/>
              <a:gd name="textAreaRight" fmla="*/ 2493720 w 251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34400" h="21600">
                <a:moveTo>
                  <a:pt x="0" y="0"/>
                </a:moveTo>
                <a:lnTo>
                  <a:pt x="134400" y="0"/>
                </a:lnTo>
                <a:lnTo>
                  <a:pt x="134400" y="21600"/>
                </a:lnTo>
                <a:lnTo>
                  <a:pt x="0" y="21600"/>
                </a:lnTo>
                <a:close/>
              </a:path>
              <a:path fill="lightenLess" w="134400" h="21600">
                <a:moveTo>
                  <a:pt x="0" y="0"/>
                </a:moveTo>
                <a:lnTo>
                  <a:pt x="134400" y="0"/>
                </a:lnTo>
                <a:lnTo>
                  <a:pt x="133000" y="1400"/>
                </a:lnTo>
                <a:lnTo>
                  <a:pt x="1400" y="1400"/>
                </a:lnTo>
                <a:close/>
              </a:path>
              <a:path fill="darken" w="134400" h="21600">
                <a:moveTo>
                  <a:pt x="134400" y="0"/>
                </a:moveTo>
                <a:lnTo>
                  <a:pt x="134400" y="21600"/>
                </a:lnTo>
                <a:lnTo>
                  <a:pt x="133000" y="20200"/>
                </a:lnTo>
                <a:lnTo>
                  <a:pt x="133000" y="1400"/>
                </a:lnTo>
                <a:close/>
              </a:path>
              <a:path fill="darkenLess" w="134400" h="21600">
                <a:moveTo>
                  <a:pt x="13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000" y="20200"/>
                </a:lnTo>
                <a:close/>
              </a:path>
              <a:path fill="lighten" w="13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dur="indefinite" fill="hold">
                      <p:stCondLst>
                        <p:cond delay="0"/>
                      </p:stCondLst>
                      <p:childTnLst>
                        <p:par>
                          <p:cTn id="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dur="indefinite" fill="hold">
                            <p:stCondLst>
                              <p:cond delay="432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dur="indefinite" fill="hold">
                            <p:stCondLst>
                              <p:cond delay="560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dur="indefinite" fill="hold">
                            <p:stCondLst>
                              <p:cond delay="692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dur="indefinite" fill="hold">
                            <p:stCondLst>
                              <p:cond delay="8039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dur="indefinite" fill="hold">
                            <p:stCondLst>
                              <p:cond delay="9280"/>
                            </p:stCondLst>
                            <p:childTnLst>
                              <p:par>
                                <p:cTn id="7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dur="indefinite" fill="hold">
                            <p:stCondLst>
                              <p:cond delay="1044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dur="indefinite" fill="hold">
                      <p:stCondLst>
                        <p:cond delay="indefinite"/>
                      </p:stCondLst>
                      <p:childTnLst>
                        <p:par>
                          <p:cTn id="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77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77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777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79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80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80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80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80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82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82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831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84240" y="2160720"/>
          <a:ext cx="5821200" cy="3987360"/>
        </p:xfrm>
        <a:graphic>
          <a:graphicData uri="http://schemas.openxmlformats.org/drawingml/2006/table">
            <a:tbl>
              <a:tblPr/>
              <a:tblGrid>
                <a:gridCol w="1938960"/>
                <a:gridCol w="1942200"/>
                <a:gridCol w="1940040"/>
              </a:tblGrid>
              <a:tr h="19911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620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68360" y="2421000"/>
            <a:ext cx="5472000" cy="64764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1 – (42 – 7) + (41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3645000"/>
            <a:ext cx="5472000" cy="64764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1 + (41 – 7) + (41 – 7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4941720"/>
            <a:ext cx="5472000" cy="64800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1 – (71 – 7) + 2 – (41 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98920" y="836640"/>
            <a:ext cx="2737080" cy="792000"/>
          </a:xfrm>
          <a:prstGeom prst="wedgeRoundRectCallout">
            <a:avLst>
              <a:gd name="adj1" fmla="val 63226"/>
              <a:gd name="adj2" fmla="val 303106"/>
              <a:gd name="adj3" fmla="val 16667"/>
            </a:avLst>
          </a:prstGeom>
          <a:solidFill>
            <a:srgbClr val="fddbe6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907920"/>
            <a:ext cx="2737080" cy="792360"/>
          </a:xfrm>
          <a:prstGeom prst="wedgeRoundRectCallout">
            <a:avLst>
              <a:gd name="adj1" fmla="val 55685"/>
              <a:gd name="adj2" fmla="val 277657"/>
              <a:gd name="adj3" fmla="val 16667"/>
            </a:avLst>
          </a:prstGeom>
          <a:solidFill>
            <a:srgbClr val="ccffcc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1052640"/>
            <a:ext cx="2737080" cy="792000"/>
          </a:xfrm>
          <a:prstGeom prst="wedgeRoundRectCallout">
            <a:avLst>
              <a:gd name="adj1" fmla="val 63166"/>
              <a:gd name="adj2" fmla="val 303106"/>
              <a:gd name="adj3" fmla="val 16667"/>
            </a:avLst>
          </a:prstGeom>
          <a:solidFill>
            <a:srgbClr val="fddbe6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4716360" y="6237360"/>
            <a:ext cx="2519640" cy="404640"/>
          </a:xfrm>
          <a:custGeom>
            <a:avLst/>
            <a:gdLst>
              <a:gd name="textAreaLeft" fmla="*/ 25920 w 2519640"/>
              <a:gd name="textAreaRight" fmla="*/ 2493720 w 251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34400" h="21600">
                <a:moveTo>
                  <a:pt x="0" y="0"/>
                </a:moveTo>
                <a:lnTo>
                  <a:pt x="134400" y="0"/>
                </a:lnTo>
                <a:lnTo>
                  <a:pt x="134400" y="21600"/>
                </a:lnTo>
                <a:lnTo>
                  <a:pt x="0" y="21600"/>
                </a:lnTo>
                <a:close/>
              </a:path>
              <a:path fill="lightenLess" w="134400" h="21600">
                <a:moveTo>
                  <a:pt x="0" y="0"/>
                </a:moveTo>
                <a:lnTo>
                  <a:pt x="134400" y="0"/>
                </a:lnTo>
                <a:lnTo>
                  <a:pt x="133000" y="1400"/>
                </a:lnTo>
                <a:lnTo>
                  <a:pt x="1400" y="1400"/>
                </a:lnTo>
                <a:close/>
              </a:path>
              <a:path fill="darken" w="134400" h="21600">
                <a:moveTo>
                  <a:pt x="134400" y="0"/>
                </a:moveTo>
                <a:lnTo>
                  <a:pt x="134400" y="21600"/>
                </a:lnTo>
                <a:lnTo>
                  <a:pt x="133000" y="20200"/>
                </a:lnTo>
                <a:lnTo>
                  <a:pt x="133000" y="1400"/>
                </a:lnTo>
                <a:close/>
              </a:path>
              <a:path fill="darkenLess" w="134400" h="21600">
                <a:moveTo>
                  <a:pt x="13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000" y="20200"/>
                </a:lnTo>
                <a:close/>
              </a:path>
              <a:path fill="lighten" w="13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dur="indefinite" fill="hold">
                      <p:stCondLst>
                        <p:cond delay="0"/>
                      </p:stCondLst>
                      <p:childTnLst>
                        <p:par>
                          <p:cTn id="8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5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6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dur="indefinite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68" dur="indefinite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dur="indefinite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82" dur="indefinite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dur="indefinite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dur="indefinite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892" dur="indefinite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8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 rot="420000">
            <a:off x="9478800" y="537372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 rot="420000">
            <a:off x="9694800" y="56008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 rot="420000">
            <a:off x="9551880" y="5802480"/>
            <a:ext cx="1019160" cy="1473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060560" y="7588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1440" y="17002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2720" y="26370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56000" y="90792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 к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484360" y="429264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2700360" y="450864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2557440" y="4713120"/>
            <a:ext cx="1154160" cy="1473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2556000" y="1773360"/>
            <a:ext cx="3816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7 км м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5840000">
            <a:off x="6202800" y="11595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 rot="21240000">
            <a:off x="7440120" y="4160880"/>
            <a:ext cx="1078200" cy="1473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 rot="21240000">
            <a:off x="7654680" y="4367160"/>
            <a:ext cx="1079280" cy="1473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 rot="21240000">
            <a:off x="7509960" y="4571640"/>
            <a:ext cx="1081080" cy="1473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556000" y="2708280"/>
            <a:ext cx="3816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2 км б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5840000">
            <a:off x="6202800" y="224064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981000"/>
            <a:ext cx="439560" cy="2282760"/>
          </a:xfrm>
          <a:custGeom>
            <a:avLst/>
            <a:gdLst>
              <a:gd name="textAreaLeft" fmla="*/ 0 w 439560"/>
              <a:gd name="textAreaRight" fmla="*/ 158760 w 439560"/>
              <a:gd name="textAreaTop" fmla="*/ 59400 h 2282760"/>
              <a:gd name="textAreaBottom" fmla="*/ 2223360 h 22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6720" y="1628640"/>
            <a:ext cx="914400" cy="914400"/>
          </a:xfrm>
          <a:prstGeom prst="ellipse">
            <a:avLst/>
          </a:prstGeom>
          <a:solidFill>
            <a:srgbClr val="ffff99"/>
          </a:solidFill>
          <a:ln cap="sq"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101080" y="26028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3794"/>
                </a:moveTo>
                <a:lnTo>
                  <a:pt x="20933" y="10800"/>
                </a:lnTo>
                <a:lnTo>
                  <a:pt x="692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dur="indefinite" fill="hold">
                      <p:stCondLst>
                        <p:cond delay="0"/>
                      </p:stCondLst>
                      <p:childTnLst>
                        <p:par>
                          <p:cTn id="9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90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90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91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dur="indefinite" fill="hold">
                      <p:stCondLst>
                        <p:cond delay="indefinite"/>
                      </p:stCondLst>
                      <p:childTnLst>
                        <p:par>
                          <p:cTn id="9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4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94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94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95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5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dur="indefinite" fill="hold">
                      <p:stCondLst>
                        <p:cond delay="indefinite"/>
                      </p:stCondLst>
                      <p:childTnLst>
                        <p:par>
                          <p:cTn id="9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98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99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99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9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dur="indefinite" fill="hold">
                      <p:stCondLst>
                        <p:cond delay="indefinite"/>
                      </p:stCondLst>
                      <p:childTnLst>
                        <p:par>
                          <p:cTn id="10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420000">
            <a:off x="9478800" y="537372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420000">
            <a:off x="9694800" y="56008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 rot="420000">
            <a:off x="9551880" y="5802480"/>
            <a:ext cx="1019160" cy="14731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060560" y="7588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81440" y="17002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52720" y="26370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56000" y="90792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 к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1441440" y="5078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3022560" y="48960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2376360" y="5078520"/>
            <a:ext cx="1154160" cy="1473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484360" y="170028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41 - 7) км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 rot="21240000">
            <a:off x="6976800" y="4962600"/>
            <a:ext cx="1077840" cy="1473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 rot="21240000">
            <a:off x="7911720" y="4948200"/>
            <a:ext cx="1079640" cy="1473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 rot="21240000">
            <a:off x="7554600" y="5236920"/>
            <a:ext cx="1081080" cy="1473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556000" y="256536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41 - 7 + 2) к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80360" y="981000"/>
            <a:ext cx="439560" cy="2282760"/>
          </a:xfrm>
          <a:custGeom>
            <a:avLst/>
            <a:gdLst>
              <a:gd name="textAreaLeft" fmla="*/ 0 w 439560"/>
              <a:gd name="textAreaRight" fmla="*/ 158760 w 439560"/>
              <a:gd name="textAreaTop" fmla="*/ 59400 h 2282760"/>
              <a:gd name="textAreaBottom" fmla="*/ 2223360 h 22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56720" y="1628640"/>
            <a:ext cx="914400" cy="914400"/>
          </a:xfrm>
          <a:prstGeom prst="ellipse">
            <a:avLst/>
          </a:prstGeom>
          <a:solidFill>
            <a:srgbClr val="ffff99"/>
          </a:solidFill>
          <a:ln cap="sq"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4360" y="400536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 + (41 - 7) + (41 - 7 + 2)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dur="indefinite" fill="hold">
                      <p:stCondLst>
                        <p:cond delay="0"/>
                      </p:stCondLst>
                      <p:childTnLst>
                        <p:par>
                          <p:cTn id="10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1038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104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104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1077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1079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108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1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111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1118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1120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dur="indefinite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4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5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9280" y="260280"/>
            <a:ext cx="3095640" cy="981000"/>
          </a:xfrm>
          <a:prstGeom prst="cloudCallout">
            <a:avLst>
              <a:gd name="adj1" fmla="val -32768"/>
              <a:gd name="adj2" fmla="val 235921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5120" y="907920"/>
            <a:ext cx="74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треугольнике одна сторо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см, друг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 меньше, а третья на х см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вой стороны. Найдите периме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а. Составьте выражение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шения задачи и найдите его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700360" y="2924280"/>
          <a:ext cx="4981320" cy="1490040"/>
        </p:xfrm>
        <a:graphic>
          <a:graphicData uri="http://schemas.openxmlformats.org/drawingml/2006/table">
            <a:tbl>
              <a:tblPr/>
              <a:tblGrid>
                <a:gridCol w="2489760"/>
                <a:gridCol w="2491560"/>
              </a:tblGrid>
              <a:tr h="833400"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 rot="540000">
            <a:off x="3862080" y="3787920"/>
            <a:ext cx="4205160" cy="2347920"/>
          </a:xfrm>
          <a:custGeom>
            <a:avLst/>
            <a:gdLst/>
            <a:ahLst/>
            <a:rect l="l" t="t" r="r" b="b"/>
            <a:pathLst>
              <a:path w="2649" h="1479">
                <a:moveTo>
                  <a:pt x="2640" y="10"/>
                </a:moveTo>
                <a:lnTo>
                  <a:pt x="1401" y="1479"/>
                </a:lnTo>
                <a:lnTo>
                  <a:pt x="0" y="1095"/>
                </a:lnTo>
                <a:lnTo>
                  <a:pt x="2649" y="0"/>
                </a:lnTo>
              </a:path>
            </a:pathLst>
          </a:custGeom>
          <a:noFill/>
          <a:ln cap="sq"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8720" y="189000"/>
            <a:ext cx="1582920" cy="404640"/>
          </a:xfrm>
          <a:custGeom>
            <a:avLst/>
            <a:gdLst>
              <a:gd name="textAreaLeft" fmla="*/ 25920 w 1582920"/>
              <a:gd name="textAreaRight" fmla="*/ 1557000 w 1582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4442" h="21600">
                <a:moveTo>
                  <a:pt x="0" y="0"/>
                </a:moveTo>
                <a:lnTo>
                  <a:pt x="84442" y="0"/>
                </a:lnTo>
                <a:lnTo>
                  <a:pt x="84442" y="21600"/>
                </a:lnTo>
                <a:lnTo>
                  <a:pt x="0" y="21600"/>
                </a:lnTo>
                <a:close/>
              </a:path>
              <a:path fill="lightenLess" w="84442" h="21600">
                <a:moveTo>
                  <a:pt x="0" y="0"/>
                </a:moveTo>
                <a:lnTo>
                  <a:pt x="84442" y="0"/>
                </a:lnTo>
                <a:lnTo>
                  <a:pt x="83042" y="1400"/>
                </a:lnTo>
                <a:lnTo>
                  <a:pt x="1400" y="1400"/>
                </a:lnTo>
                <a:close/>
              </a:path>
              <a:path fill="darken" w="84442" h="21600">
                <a:moveTo>
                  <a:pt x="84442" y="0"/>
                </a:moveTo>
                <a:lnTo>
                  <a:pt x="84442" y="21600"/>
                </a:lnTo>
                <a:lnTo>
                  <a:pt x="83042" y="20200"/>
                </a:lnTo>
                <a:lnTo>
                  <a:pt x="83042" y="1400"/>
                </a:lnTo>
                <a:close/>
              </a:path>
              <a:path fill="darkenLess" w="84442" h="21600">
                <a:moveTo>
                  <a:pt x="84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42" y="20200"/>
                </a:lnTo>
                <a:close/>
              </a:path>
              <a:path fill="lighten" w="84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ка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16720" y="4724280"/>
            <a:ext cx="649080" cy="627120"/>
          </a:xfrm>
          <a:prstGeom prst="ellipse">
            <a:avLst/>
          </a:prstGeom>
          <a:solidFill>
            <a:srgbClr val="ffff99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16360" y="5229360"/>
            <a:ext cx="649440" cy="626760"/>
          </a:xfrm>
          <a:prstGeom prst="ellipse">
            <a:avLst/>
          </a:prstGeom>
          <a:solidFill>
            <a:srgbClr val="ffff99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4508640"/>
            <a:ext cx="649080" cy="626760"/>
          </a:xfrm>
          <a:prstGeom prst="ellipse">
            <a:avLst/>
          </a:prstGeom>
          <a:solidFill>
            <a:srgbClr val="ffff99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80000" y="5013360"/>
            <a:ext cx="649440" cy="627120"/>
          </a:xfrm>
          <a:prstGeom prst="ellipse">
            <a:avLst/>
          </a:prstGeom>
          <a:solidFill>
            <a:srgbClr val="ffccff"/>
          </a:solidFill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659640" y="5516640"/>
            <a:ext cx="64908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987640" y="558972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 - 4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427640" y="4148280"/>
            <a:ext cx="17287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 + х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6210360"/>
            <a:ext cx="5472000" cy="64764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6 + (36 – 4) + (36 + 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19280" y="3141720"/>
            <a:ext cx="3313080" cy="122400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08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64000" y="3068640"/>
            <a:ext cx="3311640" cy="1224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12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dur="indefinite" fill="hold">
                      <p:stCondLst>
                        <p:cond delay="0"/>
                      </p:stCondLst>
                      <p:childTnLst>
                        <p:par>
                          <p:cTn id="1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dur="indefinite" fill="hold">
                            <p:stCondLst>
                              <p:cond delay="444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dur="indefinite" fill="hold">
                            <p:stCondLst>
                              <p:cond delay="5680"/>
                            </p:stCondLst>
                            <p:childTnLst>
                              <p:par>
                                <p:cTn id="1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6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dur="indefinite" fill="hold">
                            <p:stCondLst>
                              <p:cond delay="6880"/>
                            </p:stCondLst>
                            <p:childTnLst>
                              <p:par>
                                <p:cTn id="1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dur="indefinite" fill="hold">
                            <p:stCondLst>
                              <p:cond delay="8280"/>
                            </p:stCondLst>
                            <p:childTnLst>
                              <p:par>
                                <p:cTn id="1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dur="indefinite" fill="hold">
                            <p:stCondLst>
                              <p:cond delay="9640"/>
                            </p:stCondLst>
                            <p:childTnLst>
                              <p:par>
                                <p:cTn id="120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dur="indefinite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207" dur="indefinite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dur="indefinite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dur="indefinite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835280" y="1916280"/>
            <a:ext cx="568944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оставь задачу, решением  которой является данное выражение</a:t>
            </a:r>
            <a:r>
              <a:rPr b="1" lang="ru-RU" sz="2800" spc="-1" strike="noStrike">
                <a:solidFill>
                  <a:srgbClr val="cc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68360" y="476280"/>
            <a:ext cx="813600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40000" y="3357720"/>
            <a:ext cx="4032360" cy="72072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2 + (42+ 14) + 42 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2420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63160" y="433404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П.9, №346 (а, г); 36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dur="indefinite" fill="hold">
                      <p:stCondLst>
                        <p:cond delay="0"/>
                      </p:stCondLst>
                      <p:childTnLst>
                        <p:par>
                          <p:cTn id="1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-144360" y="1812600"/>
            <a:ext cx="9431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 чем мы сегодня познакомились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Что мы научились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Буквенную запись каких свойств сложения и вычитания мы научились состал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Где применяются свойства сложения и вычит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74840" y="482760"/>
            <a:ext cx="813564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тоги урока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Кто работал на уроке луч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Кому еще нужно стара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каким настроением вы заканчиваете ур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584360" y="503280"/>
            <a:ext cx="609120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Рефлексия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90720" y="1838160"/>
          <a:ext cx="5805000" cy="3414600"/>
        </p:xfrm>
        <a:graphic>
          <a:graphicData uri="http://schemas.openxmlformats.org/drawingml/2006/table">
            <a:tbl>
              <a:tblPr/>
              <a:tblGrid>
                <a:gridCol w="1933920"/>
                <a:gridCol w="1935360"/>
                <a:gridCol w="1935720"/>
              </a:tblGrid>
              <a:tr h="17089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68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43200" y="1766880"/>
          <a:ext cx="6086160" cy="3627000"/>
        </p:xfrm>
        <a:graphic>
          <a:graphicData uri="http://schemas.openxmlformats.org/drawingml/2006/table">
            <a:tbl>
              <a:tblPr/>
              <a:tblGrid>
                <a:gridCol w="2028960"/>
                <a:gridCol w="2026440"/>
                <a:gridCol w="2030760"/>
              </a:tblGrid>
              <a:tr h="1802880">
                <a:tc>
                  <a:txBody>
                    <a:bodyPr lIns="90000" rIns="90000" tIns="8733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41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25720" y="2011320"/>
          <a:ext cx="5230440" cy="3369960"/>
        </p:xfrm>
        <a:graphic>
          <a:graphicData uri="http://schemas.openxmlformats.org/drawingml/2006/table">
            <a:tbl>
              <a:tblPr/>
              <a:tblGrid>
                <a:gridCol w="1743480"/>
                <a:gridCol w="1743840"/>
                <a:gridCol w="1743120"/>
              </a:tblGrid>
              <a:tr h="174060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93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86120" y="1854360"/>
          <a:ext cx="5592240" cy="3512520"/>
        </p:xfrm>
        <a:graphic>
          <a:graphicData uri="http://schemas.openxmlformats.org/drawingml/2006/table">
            <a:tbl>
              <a:tblPr/>
              <a:tblGrid>
                <a:gridCol w="1864080"/>
                <a:gridCol w="1864080"/>
                <a:gridCol w="1864080"/>
              </a:tblGrid>
              <a:tr h="1813320"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00360" y="792000"/>
            <a:ext cx="5616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Прежде чем сме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К задачам ид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Тему из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Ты сумей собер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4200" y="3384720"/>
            <a:ext cx="2160720" cy="321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67640" y="3527280"/>
            <a:ext cx="20890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816360"/>
            <a:ext cx="1657440" cy="299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295280" y="289080"/>
            <a:ext cx="6408720" cy="496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Буквенная 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запись 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войств сложения и 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ычитания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83280" y="3240000"/>
            <a:ext cx="2160720" cy="33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3:07:37Z</dcterms:created>
  <dc:creator>MAMA</dc:creator>
  <dc:description/>
  <dc:language>en-US</dc:language>
  <cp:lastModifiedBy>Admin</cp:lastModifiedBy>
  <dcterms:modified xsi:type="dcterms:W3CDTF">2010-02-04T10:38:02Z</dcterms:modified>
  <cp:revision>10</cp:revision>
  <dc:subject/>
  <dc:title>Слайд 1</dc:title>
</cp:coreProperties>
</file>