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4E97-AFF7-45B8-A9A4-A881C9EE0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C0D4-07A9-4E6D-B5F7-77ED5169C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C688-C41B-446D-A8A0-C1AF507DC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42E3-253F-45AD-8E1B-8496CC9B5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17EB-907C-4F95-9A6E-71E07A7EA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03D3-BD97-42C1-A481-A8AAFF56F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CE95-4DE7-42C1-A65A-83C40E2FE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B55F-F6A5-4B14-B48B-9E0BCC1AD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54FE-691F-4070-824A-8E7A8A605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45B5-98DA-4F3E-B5FA-E7B4EBF8A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7FF6-0B46-40BE-9E09-54F00A29B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A198-9052-40AE-8573-C6D238DEB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81CA6-EFB2-4E8D-BE46-DD8EA22944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41240" y="700200"/>
            <a:ext cx="860436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99284c"/>
                </a:solidFill>
                <a:latin typeface="Arial"/>
              </a:rPr>
              <a:t>       </a:t>
            </a:r>
            <a:r>
              <a:rPr b="1" i="1" lang="ru-RU" sz="8000" spc="-1" strike="noStrike">
                <a:solidFill>
                  <a:srgbClr val="99284c"/>
                </a:solidFill>
                <a:latin typeface="Arial"/>
              </a:rPr>
              <a:t>19 марта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99284c"/>
                </a:solidFill>
                <a:latin typeface="Times New Roman"/>
                <a:ea typeface="Tahoma"/>
              </a:rPr>
              <a:t>Классная работа.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4998" r="29905" b="75017"/>
          <a:stretch/>
        </p:blipFill>
        <p:spPr>
          <a:xfrm>
            <a:off x="1224000" y="3600360"/>
            <a:ext cx="727236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900000"/>
            <a:ext cx="900108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была, не переживали, не выполнил.</a:t>
            </a:r>
            <a:r>
              <a:rPr b="0" i="1" lang="ru-RU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36720" y="5284800"/>
            <a:ext cx="285264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0360" y="598320"/>
            <a:ext cx="914400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3 групп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ahoma"/>
              </a:rPr>
              <a:t>Вот проснулась пчёлка от своего зимнего сна. Прочистила глазки мохнатыми лапками. Разбудила подруг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5760" y="1224000"/>
            <a:ext cx="674460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проснулась,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прочистила,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разбудила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92000" y="5148360"/>
            <a:ext cx="2854440" cy="17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0360" y="395280"/>
            <a:ext cx="914400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4 групп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Белка спустилась ко мне по сосне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Ела орешки из рук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ак же узнала она обо мне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Что я не враг ей, а друг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87640" y="1116000"/>
            <a:ext cx="597672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 спустилась, не ела, не узнала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2040" y="5219640"/>
            <a:ext cx="285264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Arial"/>
              </a:rPr>
              <a:t>Оцените свою работу в групп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2240" y="213840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Arial"/>
              </a:rPr>
              <a:t>Работа выполнена верно 1 бал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Arial"/>
              </a:rPr>
              <a:t>Работал  активно 1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Arial"/>
              </a:rPr>
              <a:t>Не принимали участие 0б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0360" y="5580000"/>
            <a:ext cx="2854440" cy="17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Arial"/>
              </a:rPr>
              <a:t>Оцените свою работу в парах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2240" y="213840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333333"/>
                </a:solidFill>
                <a:uFillTx/>
                <a:latin typeface="Arial"/>
              </a:rPr>
              <a:t>2б-работа выполнили верно, и совместн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333333"/>
                </a:solidFill>
                <a:uFillTx/>
                <a:latin typeface="Arial"/>
              </a:rPr>
              <a:t>Верно, но не дружно 1б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333333"/>
                </a:solidFill>
                <a:uFillTx/>
                <a:latin typeface="Arial"/>
              </a:rPr>
              <a:t>Остальное 0б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3280" y="5121360"/>
            <a:ext cx="2854440" cy="17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240" y="2016000"/>
            <a:ext cx="443412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124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333333"/>
                </a:solidFill>
                <a:latin typeface="Arial"/>
              </a:rPr>
              <a:t>Снег в лесу ещё нерас­ таял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Arial"/>
              </a:rPr>
              <a:t>Мама несварила кашу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333333"/>
                </a:solidFill>
                <a:latin typeface="Arial"/>
              </a:rPr>
              <a:t>Сегодня самолёты нелетают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Arial"/>
              </a:rPr>
              <a:t>Он неиграл в мяч</a:t>
            </a:r>
            <a:r>
              <a:rPr b="1" lang="de-DE" sz="5400" spc="-1" strike="noStrike">
                <a:solidFill>
                  <a:srgbClr val="000000"/>
                </a:solidFill>
                <a:latin typeface="quot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1240" y="700200"/>
            <a:ext cx="860436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Знаю, справлюсь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Знаю, но есть сомнения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Не уверен в своих знаниях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Пока не знаю, не уме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2240" y="2016000"/>
            <a:ext cx="443412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333333"/>
                </a:solidFill>
                <a:latin typeface="Arial"/>
              </a:rPr>
              <a:t>Снег в лесу ещё нерас­ таял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Arial"/>
              </a:rPr>
              <a:t>Мама несварила кашу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333333"/>
                </a:solidFill>
                <a:latin typeface="Arial"/>
              </a:rPr>
              <a:t>Сегодня самолёты нелетают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Arial"/>
              </a:rPr>
              <a:t>Он неиграл в мяч</a:t>
            </a:r>
            <a:r>
              <a:rPr b="1" lang="de-DE" sz="5400" spc="-1" strike="noStrike">
                <a:solidFill>
                  <a:srgbClr val="000000"/>
                </a:solidFill>
                <a:latin typeface="quot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41240" y="700200"/>
            <a:ext cx="860436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8000" spc="-1" strike="noStrike">
                <a:solidFill>
                  <a:srgbClr val="99284c"/>
                </a:solidFill>
                <a:latin typeface="Arial"/>
              </a:rPr>
              <a:t>   согласны</a:t>
            </a:r>
            <a:br>
              <a:rPr sz="8000"/>
            </a:br>
            <a:br>
              <a:rPr sz="8000"/>
            </a:b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8000" spc="-1" strike="noStrike">
                <a:solidFill>
                  <a:srgbClr val="99284c"/>
                </a:solidFill>
                <a:latin typeface="Arial"/>
              </a:rPr>
              <a:t> не согласны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1240" y="1763640"/>
            <a:ext cx="84186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нег в лесу ещё н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ая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ма н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арила каш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годня самолёты н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таю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н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л в мяч</a:t>
            </a:r>
            <a:r>
              <a:rPr b="1" lang="ru-RU" sz="4000" spc="-1" strike="noStrike">
                <a:solidFill>
                  <a:srgbClr val="000000"/>
                </a:solidFill>
                <a:latin typeface="Times New Roman;serif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41840" y="4248000"/>
            <a:ext cx="4322880" cy="26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Критерии оценивания самостоятельн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5400" y="1152360"/>
            <a:ext cx="84186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Arial"/>
              </a:rPr>
              <a:t>Выполнено верно</a:t>
            </a:r>
            <a:r>
              <a:rPr b="0" lang="ru-RU" sz="36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бал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Arial"/>
              </a:rPr>
              <a:t>Одна ошиб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1 ба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Arial"/>
              </a:rPr>
              <a:t>Остально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 балл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4325760"/>
            <a:ext cx="432288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20720" y="71748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99284c"/>
                </a:solidFill>
                <a:uFillTx/>
                <a:latin typeface="Arial"/>
              </a:rPr>
              <a:t>Оцените свою работу на уро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2240" y="213840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Лист самооцени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600" indent="-427320" algn="ctr">
              <a:lnSpc>
                <a:spcPct val="93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9-7 баллов (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зелёный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)У меня все получилось! Я доволен своей рабо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600" indent="-427320">
              <a:lnSpc>
                <a:spcPct val="93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6-4 баллов (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) У меня получилось почти всё, но я делал оши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600" indent="-427320">
              <a:lnSpc>
                <a:spcPct val="93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4-0 баллов (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) У меня было много ошибок, мне нужна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7280" y="6167520"/>
            <a:ext cx="223524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Закончите предл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2240" y="2251080"/>
            <a:ext cx="84186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егодня на уроке мы закрепили знания о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Я могу похвалить себя за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не было трудно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ое настроение на уроке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268200"/>
            <a:ext cx="2838600" cy="17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31640" y="395280"/>
            <a:ext cx="892980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яя рабо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. Запиши пословицу, раскрывая скоб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ак (не) злись метелица, весной повева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.         Собери пословиц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есною, (не) вернёшь, день, упустишь, го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.         Составь 3 правила поведения                                весной (используя частицу                                         не-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1640" y="4716360"/>
            <a:ext cx="432288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20720" y="53964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460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9600" spc="-1" strike="noStrike">
                <a:solidFill>
                  <a:srgbClr val="99284c"/>
                </a:solidFill>
                <a:latin typeface="Arial"/>
              </a:rPr>
              <a:t>Спасибо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9600" spc="-1" strike="noStrike">
                <a:solidFill>
                  <a:srgbClr val="99284c"/>
                </a:solidFill>
                <a:latin typeface="Arial"/>
              </a:rPr>
              <a:t>з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9600" spc="-1" strike="noStrike">
                <a:solidFill>
                  <a:srgbClr val="99284c"/>
                </a:solidFill>
                <a:latin typeface="Arial"/>
              </a:rPr>
              <a:t>работу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55720" y="3508200"/>
            <a:ext cx="432288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99284c"/>
                </a:solidFill>
                <a:uFillTx/>
                <a:latin typeface="Arial"/>
              </a:rPr>
              <a:t>Оцените свою работу, результат запишите в оценочный лис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1240" y="0"/>
            <a:ext cx="88362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Правильно подчеркнули</a:t>
            </a:r>
            <a:r>
              <a:rPr b="1" lang="en-US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подлежащее и сказуем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1 б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Верно подписали части реч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1 бал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допустили орфографических ошибок 1 бал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6000" y="4921200"/>
            <a:ext cx="432252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284c"/>
                </a:solidFill>
                <a:latin typeface="Arial"/>
              </a:rPr>
              <a:t>Правила от Незнай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2240" y="700200"/>
            <a:ext cx="8418600" cy="62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        …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говарива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урок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       …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ису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арт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        …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ита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ёж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        …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крикивай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ес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        …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ушай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44360" y="4865760"/>
            <a:ext cx="4322520" cy="26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284c"/>
                </a:solidFill>
                <a:latin typeface="Arial"/>
              </a:rPr>
              <a:t>Правила от Незнай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2240" y="700200"/>
            <a:ext cx="8418600" cy="62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    Не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й на урок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   Не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уй на парт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    Не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й лёж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    Н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рикивай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ес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    Н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шай подсказ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44360" y="4865760"/>
            <a:ext cx="4322520" cy="26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3280" y="1116000"/>
            <a:ext cx="907416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Times New Roman"/>
              </a:rPr>
              <a:t>Правописание.....с.........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3280" y="1116000"/>
            <a:ext cx="9074160" cy="46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.групп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ahoma"/>
              </a:rPr>
              <a:t>Летом я поеду в деревню к бабушке. Там живет мой друг Илья. Мы с ним любим кататься на велосипеде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47640" y="1042920"/>
            <a:ext cx="86407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ahoma"/>
              </a:rPr>
              <a:t>Не поеду,  не живет, не любим, не кататься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36720" y="1042920"/>
            <a:ext cx="285264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3280" y="395280"/>
            <a:ext cx="914544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2.групп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годня в школе была контрольная работа. Все очень переживали. Я выполнил все верно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класс  3</cp:lastModifiedBy>
  <dcterms:modified xsi:type="dcterms:W3CDTF">2019-02-21T09:19:24Z</dcterms:modified>
  <cp:revision>18</cp:revision>
  <dc:subject/>
  <dc:title>21 февраля. Классная работа.</dc:title>
</cp:coreProperties>
</file>