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EF0-F1FB-440A-AD06-477D5D08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F14-B63D-4820-9D49-9620480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680EB-CCE0-4879-9936-F8211145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26E38-D3ED-4B29-9702-D666A84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B26FF-D730-4701-BF32-40D1B5B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55351-AD88-4A6E-9E21-8D03D13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3EBE-6508-4CB4-BF89-EA8F9C7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BA88A-88C0-4A83-AABF-41525E8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856F4-CD6F-407D-AFD8-67C7F34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1E740-75D6-490C-9932-5A0054D7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332B6-FE71-4B55-8719-0EEC2103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036-66CD-44E3-8745-602E511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1A0-8901-4829-A969-6FA4BD0D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2F0B-7D0D-4A73-A299-5FACAB1C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30B7-CC96-47B2-A994-51B5E227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41F3-9B9B-4186-B92D-85D46CA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3F6-1A62-4302-AA39-6B6DD901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0B43-D780-450D-B08A-C544399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5811-A0F0-4B3D-8BCC-AADB12F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578-88A8-4A65-BBC3-584F848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11B-5764-4C55-9A60-EB160A80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613B-EFE1-4F03-8D9A-F7810A18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D503-B5A3-4D15-AA5B-9C705AA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3129-1003-47B6-A710-71E1D4DD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E7A9-1140-44FC-948B-0F323ED0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E91-0097-4EB3-98B3-8754B209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193D-A127-4860-9E8B-887ADF7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AEC2-EB83-4891-88AF-F833EE4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8192-B97C-4148-A933-BC23C91F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3164-B84F-4547-B8F2-2E60E26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8877-CB60-4BA3-98FB-75C43A8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EDC-9854-422F-9674-1A80EDDF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8AF8-74F0-425E-BBA0-227D3A28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6826-115E-45A7-BFCE-C558BE7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18C4-2AC7-40E7-9D44-480FE04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D8A8-DAC3-407F-899A-9D452DA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4D89-F0A2-4170-9B1D-D2E9733B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66E1-993A-4E74-9515-1628E802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B870-4648-4910-BF67-7D90CA7B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B92A-5BE1-49EF-A73A-0FD2CED4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BA20-0559-4ACF-9B90-74792B5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7987-DD44-422B-B346-EF25F12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F2E-6C76-47D9-B7B7-331A632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0250-F3DA-4F2B-A30C-B1E0CE33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9BD6-624B-4EE5-B775-311B2E6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E34E-7B3D-467C-AB68-DB7E3B3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12DF-B884-429C-BF62-CA38003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4AF7-481D-45DB-8368-2495837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AD17-C3BF-43B2-A91E-A3AE0F8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6BFC-21CE-4020-946E-D06790E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3E5A-E618-4E27-8FCE-08787278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3F64-5A61-4555-92BA-596E5BC5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1F77-241C-428A-AAA7-2BC1C2D9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7A6-BB7E-42ED-8DAB-43965323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A34D-704E-4CE3-A8DC-415400B2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9DAE-E00C-4901-A977-3627CC2A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3061-F7D3-4F63-B1D9-372DCB29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0A51-7B5A-4011-94F8-B7D5153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031B-8772-4344-AC57-88171D9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00BF-9E6C-4732-B305-5664D2D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53D9-945F-49AB-B49C-E5DC605B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0661-B5E5-4007-A599-32D917C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C1FE-297D-481D-96B1-A4984EF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43C0-0F8D-4E14-A0D0-FD36B72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4EF-69FE-404A-B41D-B54788F0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19A64-5656-46FD-BD35-2B16B1ED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F5BA-46E9-4C07-96D6-47727DA3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D4404-92B0-4042-9236-0E94207E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689E8-CD86-4B7D-B621-D1CFA874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4954D-4F73-458A-9B0A-4415FDD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CB3B5-8A49-46C3-8868-F9A57F1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A228-F9BD-47A9-8A6D-4EBE1DD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454E-5900-42E7-82BE-86A16B5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716F-F954-468E-B4AC-CD94696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9D0E2-C9B8-429D-9713-6F8E34AA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365-5534-4163-8ED8-8CA1E15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9838-EDD5-4C59-B0D3-5D0BB3FB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91ADE-551B-4718-860A-7B162E7A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EE70-1264-44F0-A754-AADFF50F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E615F-04B6-4FE2-AA5E-EB7C89C5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FCFEF-8434-4A33-A771-AEEAD395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7A49-F32C-4B79-9060-A0EA36B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171E-AB5D-475D-82AE-6BB9CC5B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FF40-B64D-4EEF-A338-624DF82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2507-3023-409F-BFA3-FF9D374C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F3D3-A2C3-44B5-836F-AE5E96E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475-45E0-4A2C-9251-5BF6539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76B7-6698-4ED4-BCFF-4FD1BE5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DCC0-9B3B-4775-9FFD-7A1122E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0297-DFE0-4FA1-975B-A8C2E8B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712E-9B46-4FA1-8F7C-B928BB30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B05A-6A8D-4E7A-82C2-7EFE5069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EA81-B85E-4B67-B6C3-58D9B4E5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DF98F-005C-49C1-851C-B9E1F510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6B4E-D24C-47EB-98B9-7A23086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4F1C-4CB2-4E4E-897D-E66C7974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147A-7C97-43D0-A295-A8F76F90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5C3-9176-4CA8-9AF3-97C6621E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AB8D1-6D47-46D0-BB1C-46251C8E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DE7F8-7E9B-47D9-A59E-33C4F3F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6F4E-707A-4DD7-B62B-324999D7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4F54-8578-4C9C-A8E3-5DEA6D7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E0676-AD0F-4E78-931C-F508018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55DE8-34A0-4408-AE0C-F3032A0C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7FC2-5AD9-440A-BBCD-48CFECB0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628B-731A-4565-8A1A-1F0456D0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4FAFA-8088-4805-AFF4-60B6A397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6AD1-1254-4CCB-9EA3-5E78248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D410-A2E7-4060-9FA7-21C066CF6F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01E3-2B16-4FE1-AC5C-11D1B96694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8BE7-600D-47B0-88BE-162C17A1C9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D25-731C-4AFF-901B-F7C012B343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524C-F0AA-4DD2-9816-E6C398F01C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59D-196A-4CAE-95DF-50DDC740D8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EFAD-17B5-43E4-9A69-A961A624F5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4DB3-4958-498B-9923-6FE26109D2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A82-EC2F-4B71-B49E-44CFB9753D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s://fs00.infourok.ru/images/doc/293/292403/2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468360" y="260280"/>
            <a:ext cx="825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равнобедренн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если у него две сторон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Равнобедренный треугольник 2"/>
          <p:cNvSpPr/>
          <p:nvPr/>
        </p:nvSpPr>
        <p:spPr>
          <a:xfrm>
            <a:off x="2700360" y="3213000"/>
            <a:ext cx="1800360" cy="2519640"/>
          </a:xfrm>
          <a:prstGeom prst="triangle">
            <a:avLst>
              <a:gd name="adj" fmla="val 50000"/>
            </a:avLst>
          </a:prstGeom>
          <a:solidFill>
            <a:srgbClr val="ffc42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2195640" y="5445000"/>
            <a:ext cx="3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3360960" y="2637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4803120" y="5445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2779200" y="587700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446160" y="2708280"/>
            <a:ext cx="13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В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727960" y="3500280"/>
            <a:ext cx="30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В и ВС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оков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С - 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1"/>
          <p:cNvSpPr/>
          <p:nvPr/>
        </p:nvSpPr>
        <p:spPr>
          <a:xfrm>
            <a:off x="2916360" y="458136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 flipV="1">
            <a:off x="3995640" y="4508280"/>
            <a:ext cx="2174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12600" y="404640"/>
            <a:ext cx="885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авносторонним,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если у него все три стороны  рав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Равнобедренный треугольник 2"/>
          <p:cNvSpPr/>
          <p:nvPr/>
        </p:nvSpPr>
        <p:spPr>
          <a:xfrm>
            <a:off x="2556000" y="3068640"/>
            <a:ext cx="3384360" cy="2521080"/>
          </a:xfrm>
          <a:prstGeom prst="triangle">
            <a:avLst>
              <a:gd name="adj" fmla="val 50000"/>
            </a:avLst>
          </a:prstGeom>
          <a:solidFill>
            <a:srgbClr val="ffc42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"/>
          <p:cNvSpPr/>
          <p:nvPr/>
        </p:nvSpPr>
        <p:spPr>
          <a:xfrm>
            <a:off x="6125040" y="2492280"/>
            <a:ext cx="18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В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ВС=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994040" y="537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4080240" y="2492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617148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>
            <a:off x="3348000" y="4221000"/>
            <a:ext cx="1429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"/>
          <p:cNvSpPr/>
          <p:nvPr/>
        </p:nvSpPr>
        <p:spPr>
          <a:xfrm flipV="1">
            <a:off x="5003640" y="4220640"/>
            <a:ext cx="1429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4211640" y="5445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http://cdn01.ru/files/users/images/31/b2/31b2cc2caa2ea0a6c77865f4284242c0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WordArt 4" descr=""/>
          <p:cNvPicPr/>
          <p:nvPr/>
        </p:nvPicPr>
        <p:blipFill>
          <a:blip r:embed="rId1"/>
          <a:stretch/>
        </p:blipFill>
        <p:spPr>
          <a:xfrm>
            <a:off x="2036880" y="328680"/>
            <a:ext cx="5851440" cy="750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5"/>
          <p:cNvSpPr/>
          <p:nvPr/>
        </p:nvSpPr>
        <p:spPr>
          <a:xfrm>
            <a:off x="1332000" y="2205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11280" y="1268280"/>
            <a:ext cx="6840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ь определение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ть элементы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ть виды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ь определение равных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4"/>
          <p:cNvSpPr/>
          <p:nvPr/>
        </p:nvSpPr>
        <p:spPr>
          <a:xfrm>
            <a:off x="2534400" y="4762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Прямая со стрелкой 6"/>
          <p:cNvCxnSpPr/>
          <p:nvPr/>
        </p:nvCxnSpPr>
        <p:spPr>
          <a:xfrm>
            <a:off x="5435640" y="1196640"/>
            <a:ext cx="1442160" cy="180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5" name="Прямая со стрелкой 8"/>
          <p:cNvCxnSpPr>
            <a:endCxn id="406" idx="0"/>
          </p:cNvCxnSpPr>
          <p:nvPr/>
        </p:nvCxnSpPr>
        <p:spPr>
          <a:xfrm flipH="1">
            <a:off x="4102200" y="1125000"/>
            <a:ext cx="255960" cy="2809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7" name="TextBox 11"/>
          <p:cNvSpPr/>
          <p:nvPr/>
        </p:nvSpPr>
        <p:spPr>
          <a:xfrm>
            <a:off x="20520" y="15573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ОСТР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"/>
          <p:cNvSpPr/>
          <p:nvPr/>
        </p:nvSpPr>
        <p:spPr>
          <a:xfrm>
            <a:off x="2576160" y="393372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РЯМ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6012360" y="314172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УП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70160" y="5084640"/>
            <a:ext cx="31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d1f1f"/>
                </a:solidFill>
                <a:uFillTx/>
                <a:latin typeface="Century Schoolbook"/>
              </a:rPr>
              <a:t>РАВНОБЕД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 flipH="1">
            <a:off x="1618920" y="1125360"/>
            <a:ext cx="2374920" cy="395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4716360" y="5589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d1f1f"/>
                </a:solidFill>
                <a:uFillTx/>
                <a:latin typeface="Century Schoolbook"/>
              </a:rPr>
              <a:t>РАВ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5003640" y="981000"/>
            <a:ext cx="1366920" cy="4533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2555640" y="981000"/>
            <a:ext cx="936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395280" y="189000"/>
            <a:ext cx="795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Треугольником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называется фигура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торая состоит из трёх точек, не лежащих на одной прямой, и трёх отрезков, соединяющих эти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6516720" y="29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3132000" y="24922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3723480" y="37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611280" y="4581360"/>
            <a:ext cx="759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очки </a:t>
            </a: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, В и С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называются вершинам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трезки </a:t>
            </a: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В, ВС и С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называются сторонами треугольника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6372360" y="3141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4140360" y="3860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3635280" y="2637000"/>
            <a:ext cx="28083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3635280" y="2637000"/>
            <a:ext cx="576360" cy="12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9"/>
          <p:cNvSpPr/>
          <p:nvPr/>
        </p:nvSpPr>
        <p:spPr>
          <a:xfrm flipV="1">
            <a:off x="4140360" y="3213000"/>
            <a:ext cx="23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"/>
          <p:cNvSpPr/>
          <p:nvPr/>
        </p:nvSpPr>
        <p:spPr>
          <a:xfrm>
            <a:off x="1187280" y="549360"/>
            <a:ext cx="734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глом треугольник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ВС при вершина А называется угол, образованный полупрямыми АВ и АС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ак же определяются углы треугольника при вершинах В и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3059280" y="4149720"/>
            <a:ext cx="3240000" cy="1655640"/>
          </a:xfrm>
          <a:prstGeom prst="triangle">
            <a:avLst>
              <a:gd name="adj" fmla="val 8853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5651640" y="36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6372360" y="54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rc 12"/>
          <p:cNvSpPr/>
          <p:nvPr/>
        </p:nvSpPr>
        <p:spPr>
          <a:xfrm>
            <a:off x="4146480" y="5113440"/>
            <a:ext cx="496800" cy="69192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3"/>
          <p:cNvSpPr/>
          <p:nvPr/>
        </p:nvSpPr>
        <p:spPr>
          <a:xfrm>
            <a:off x="755640" y="33336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остроугольным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, если у него  все углы остр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Равнобедренный треугольник 4"/>
          <p:cNvSpPr/>
          <p:nvPr/>
        </p:nvSpPr>
        <p:spPr>
          <a:xfrm>
            <a:off x="4859280" y="2997360"/>
            <a:ext cx="2665440" cy="1726920"/>
          </a:xfrm>
          <a:prstGeom prst="triangle">
            <a:avLst>
              <a:gd name="adj" fmla="val 75463"/>
            </a:avLst>
          </a:prstGeom>
          <a:solidFill>
            <a:srgbClr val="ccff3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6733800" y="2565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595640" y="4581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363560" y="4508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9"/>
          <p:cNvSpPr/>
          <p:nvPr/>
        </p:nvSpPr>
        <p:spPr>
          <a:xfrm>
            <a:off x="5435640" y="4221000"/>
            <a:ext cx="288720" cy="503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1"/>
          <p:cNvSpPr/>
          <p:nvPr/>
        </p:nvSpPr>
        <p:spPr>
          <a:xfrm>
            <a:off x="6443640" y="3357720"/>
            <a:ext cx="573120" cy="288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rc 12"/>
          <p:cNvSpPr/>
          <p:nvPr/>
        </p:nvSpPr>
        <p:spPr>
          <a:xfrm>
            <a:off x="5219640" y="4335480"/>
            <a:ext cx="285840" cy="460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5"/>
          <p:cNvGrpSpPr/>
          <p:nvPr/>
        </p:nvGrpSpPr>
        <p:grpSpPr>
          <a:xfrm>
            <a:off x="6803640" y="4149720"/>
            <a:ext cx="574920" cy="717480"/>
            <a:chOff x="6803640" y="4149720"/>
            <a:chExt cx="574920" cy="717480"/>
          </a:xfrm>
        </p:grpSpPr>
        <p:sp>
          <p:nvSpPr>
            <p:cNvPr id="440" name="Arc 10"/>
            <p:cNvSpPr/>
            <p:nvPr/>
          </p:nvSpPr>
          <p:spPr>
            <a:xfrm flipH="1">
              <a:off x="6803280" y="4149720"/>
              <a:ext cx="431640" cy="57456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rc 13"/>
            <p:cNvSpPr/>
            <p:nvPr/>
          </p:nvSpPr>
          <p:spPr>
            <a:xfrm flipH="1">
              <a:off x="6881760" y="4221000"/>
              <a:ext cx="425520" cy="57492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rc 14"/>
            <p:cNvSpPr/>
            <p:nvPr/>
          </p:nvSpPr>
          <p:spPr>
            <a:xfrm flipH="1">
              <a:off x="6959520" y="4299120"/>
              <a:ext cx="419040" cy="568080"/>
            </a:xfrm>
            <a:prstGeom prst="pie">
              <a:avLst/>
            </a:pr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3"/>
          <p:cNvSpPr/>
          <p:nvPr/>
        </p:nvSpPr>
        <p:spPr>
          <a:xfrm>
            <a:off x="611280" y="190440"/>
            <a:ext cx="660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тупоугольным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, если у него один угол туп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276720" y="5516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104292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795672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0"/>
          <p:cNvGrpSpPr/>
          <p:nvPr/>
        </p:nvGrpSpPr>
        <p:grpSpPr>
          <a:xfrm>
            <a:off x="1403280" y="3429000"/>
            <a:ext cx="6553440" cy="1944720"/>
            <a:chOff x="1403280" y="3429000"/>
            <a:chExt cx="6553440" cy="1944720"/>
          </a:xfrm>
        </p:grpSpPr>
        <p:sp>
          <p:nvSpPr>
            <p:cNvPr id="448" name="Line 17"/>
            <p:cNvSpPr/>
            <p:nvPr/>
          </p:nvSpPr>
          <p:spPr>
            <a:xfrm>
              <a:off x="1403280" y="3429000"/>
              <a:ext cx="2448000" cy="19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 flipV="1">
              <a:off x="3851280" y="4724280"/>
              <a:ext cx="410544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9"/>
            <p:cNvSpPr/>
            <p:nvPr/>
          </p:nvSpPr>
          <p:spPr>
            <a:xfrm>
              <a:off x="1403280" y="3429000"/>
              <a:ext cx="655344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rc 21"/>
          <p:cNvSpPr/>
          <p:nvPr/>
        </p:nvSpPr>
        <p:spPr>
          <a:xfrm rot="20020800">
            <a:off x="3492000" y="4652640"/>
            <a:ext cx="936720" cy="863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5"/>
          <p:cNvSpPr/>
          <p:nvPr/>
        </p:nvSpPr>
        <p:spPr>
          <a:xfrm>
            <a:off x="755640" y="33336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реугольник называется  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прямоугольным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, если у него есть прямой уг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3291120" y="220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5232600" y="4292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3147120" y="4292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4"/>
          <p:cNvSpPr/>
          <p:nvPr/>
        </p:nvSpPr>
        <p:spPr>
          <a:xfrm>
            <a:off x="3708360" y="4292640"/>
            <a:ext cx="21600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 rot="3283800">
            <a:off x="3781440" y="30175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ипотен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6"/>
          <p:cNvSpPr/>
          <p:nvPr/>
        </p:nvSpPr>
        <p:spPr>
          <a:xfrm rot="5400000">
            <a:off x="2671200" y="3328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а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7"/>
          <p:cNvSpPr/>
          <p:nvPr/>
        </p:nvSpPr>
        <p:spPr>
          <a:xfrm>
            <a:off x="3797280" y="47242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а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3708360" y="263700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3708360" y="4508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3708360" y="2637000"/>
            <a:ext cx="1368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539640" y="4762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торона прямоугольно треугольника, противолежащая прямому углу называется гипотенузой,  две другие кате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В- гипотен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</a:rPr>
              <a:t>АС и ВС- катеты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2268360" y="3429000"/>
            <a:ext cx="4824720" cy="2448000"/>
          </a:xfrm>
          <a:prstGeom prst="rtTriangle">
            <a:avLst/>
          </a:prstGeom>
          <a:solidFill>
            <a:srgbClr val="ffc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76364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7164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763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2268360" y="5516640"/>
            <a:ext cx="3589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 flipV="1">
            <a:off x="2700360" y="4581000"/>
            <a:ext cx="1511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2268360" y="3429000"/>
            <a:ext cx="482472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4"/>
          <p:cNvSpPr/>
          <p:nvPr/>
        </p:nvSpPr>
        <p:spPr>
          <a:xfrm>
            <a:off x="2268360" y="342900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2268360" y="5877000"/>
            <a:ext cx="48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8:24:01Z</dcterms:created>
  <dc:creator>comp_2</dc:creator>
  <dc:description/>
  <dc:language>en-US</dc:language>
  <cp:lastModifiedBy>Дом</cp:lastModifiedBy>
  <dcterms:modified xsi:type="dcterms:W3CDTF">2021-10-04T20:08:29Z</dcterms:modified>
  <cp:revision>72</cp:revision>
  <dc:subject/>
  <dc:title>Презентация</dc:title>
</cp:coreProperties>
</file>