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D70-7DAA-4864-9262-D26DE4EF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ABA-8A3B-439A-A64B-4EBA67D1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62B63-CCBD-41A4-B4A9-7E338B1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6D3F-5C23-44A5-9504-B3FBE50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4A86F-0F01-4038-AD1D-9650974F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96113-1341-4837-9657-605E62A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2D98-9FD2-4657-9AD0-60BBAC4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2782-9AC8-4E87-8D8A-C9AB7546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149FE-9EE0-464A-A604-818F6F58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900FC-0012-4857-A4FE-756B5CB9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C100D-8DC4-4D0A-BA15-FB5A4DE4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81F-990D-4CCB-ACF3-A187BA59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7FC-C90E-4DED-918F-F04C74D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76DE-EDBD-4BE9-B181-ED626D00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67A7-D161-4222-8DAF-FD40147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5978-F586-4FF2-8182-E0B18EDA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C07E-4A12-495E-BDC4-E3434813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33C6-A188-48E2-9A60-AFB2935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4CA-3886-4F96-B16B-85810E7A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C675-29FC-489B-B2C9-77C4055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E96-69C4-4295-A327-B5CB342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776-F531-4D32-917B-469E5A6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AAE-F007-4581-A8C9-33138D7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89EA-C72E-49E3-852B-E56E15C5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DD1-A595-48BB-B253-FCAF84C2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52EF-DC24-46B1-A39A-69B2D4BB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F8C0-D3A9-4017-A80B-7BA2BD9D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CAE4-EB4F-4D9D-9C02-CCBF7F2E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DC41-208A-4F97-8E59-C5327390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D7B0-3172-437D-9C96-046D050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2A4E-B320-40B6-BA65-797F218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CD2-D47A-4F34-81B4-CD20E6C1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3195-BDE1-4861-B281-A997293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2FA7-A497-49A1-BA95-F48D581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B6F7-7676-480A-9E19-720E532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8B2A-9874-437A-A163-96BB44B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6F1A-AD94-44DD-A3AB-43F796E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AE46-5D81-4815-A321-9DB4A462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C198-BB1A-4229-94F8-4E3A02E7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CEE1-11EE-4D02-9007-73D0FE4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0AF5-F4F5-461B-BDF4-8BE135F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5DD5-7004-44A6-AFF2-1CD63F5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D12-8D83-44A9-907F-346536B1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27FA-054B-4B81-A043-EDBBC843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DC66-AA0A-42FC-B30F-089F481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4487-EF16-4C7A-A809-8D20314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DCFF-C4B0-48F1-850A-495D03A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5856-9FED-402B-A12F-5DFB5BA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2522-B407-4F1A-8FB3-05A0942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B0AA-CC34-44C8-8F28-A30B0E7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D7CF-1014-4A41-BDE6-3E228EA8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18DA-574A-4DE6-BCA0-FA9751DA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618F-6C84-4437-960E-E44AEEFC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FF3-1C92-4983-872D-CFE0B44A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37ED-8CEA-4BD2-AC6B-DBF6A4D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EBE3-DF96-4797-94FF-021D613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AD10-2806-4A23-A10D-57F390A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BD28-B212-4F2B-9BE3-C125050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A054-F37E-4091-AF45-B4750BCD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DF5A-17AD-4975-981B-A42BB8C8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A01A-2BCE-4C03-AA4A-43F2B2E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96FFB-BA68-42F0-97F2-B94D406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D2E0-E22C-4591-A815-58573E58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4221-1787-4528-A778-2C0E2B6F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A5D-B36C-46DB-B56C-FC62B88E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95C41-1903-42BD-ADEC-D291CEE3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7D38F-CFD2-4A3F-9B9A-0D9E59BD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A57B9-0071-4534-991B-9FD0F6B0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48462-0ADB-450B-BB07-91E348B0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05B2-4C92-4F4C-A4ED-1156753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F8A2-565D-45CD-B6A5-36BA7128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59A3-269B-47AF-A3D6-84B0F80F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F42B-0F7F-4A17-86AA-B456D78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DB88A-2796-4592-8EE3-3B914C8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3BF23-35D4-494A-A08D-0A4ECB9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733-A094-429D-8576-265C3F4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75CAB-412A-4476-801E-0D1D38F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5DB7-7527-4991-9CD0-E175E7D9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4DA1-92F8-4CF0-A6FF-433EC51A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E5D3-E8C6-449D-97DE-A9FF271A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C3BC-863F-4130-BCBD-7EE83BD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F508-4CF2-4E15-8F37-4F7ADCC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0EA4-D58D-4192-B024-809DDF2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8A8AC-0727-4CCF-B765-93A1495E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A2E5-7C2E-463C-8723-834EE91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FDD6-7A74-4914-9D6F-BF5A9FB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AEB-CE48-41A3-9659-8C6FBAD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FE07-39B5-4AB7-94A7-A19D014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6A3A-A1A5-4769-BD36-67D7824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C7E4A-F328-48D3-91CC-2C1DDFA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88C0-3319-449F-832F-A2DB0D4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B436-F230-4ABD-AC8C-EF4F7F6C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D1E7-B418-40F7-BE7A-C7C28CDC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2265B-6496-4E9A-BA90-5E8C5C86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7B73-964C-4A42-8953-33982A9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1A32-E32B-478F-94A1-43F9BBA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E98E-C7D0-4FB9-B976-0AA8644C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04E-79BB-4DA8-8DC1-88FE97B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8FD8-A8FE-44C2-8B15-2DC723A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74DC-185A-4E8B-B18C-5ABB4B61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6604-D20C-4433-BD1D-C7C27A8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A993-2536-45F0-B817-642183C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EB75-8CD7-41E6-8FC5-0F14DA3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7C847-AFB7-4C2F-8E52-9B1F0F24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773B4-0C85-4468-842B-B7644CA1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2108-9230-47D1-9BDB-C89A7666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35104-6728-4A54-85DE-1A5D3EA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2A229-7E27-4E13-BCC9-0749FC1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9DD-4705-4F50-B150-EC6B9A966B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442-0D09-4ADF-8893-0FD3493D7F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11F1-EDD0-47A4-839C-F317E05A8D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E2F3-E978-4E83-9C68-8F9CEAF2FB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E27-1ACA-4307-9D5A-2139D1567D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2C21-EBBF-43A7-B7D3-C8891B7391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F1E-585B-421E-A4CC-40B0E1F9E1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01C-3A62-4BE6-9D1B-8F23F2050F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983-DE74-43E7-ABCA-D4ECFEC5B3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s://fs00.infourok.ru/images/doc/293/292403/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468360" y="260280"/>
            <a:ext cx="825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равнобедренн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у него две сторон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Равнобедренный треугольник 2"/>
          <p:cNvSpPr/>
          <p:nvPr/>
        </p:nvSpPr>
        <p:spPr>
          <a:xfrm>
            <a:off x="2700360" y="3213000"/>
            <a:ext cx="1800360" cy="2519640"/>
          </a:xfrm>
          <a:prstGeom prst="triangle">
            <a:avLst>
              <a:gd name="adj" fmla="val 50000"/>
            </a:avLst>
          </a:prstGeom>
          <a:solidFill>
            <a:srgbClr val="ffc42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2195640" y="5445000"/>
            <a:ext cx="3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3360960" y="2637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4803120" y="5445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2779200" y="587700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446160" y="2708280"/>
            <a:ext cx="13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В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727960" y="3500280"/>
            <a:ext cx="30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В и ВС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оков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С - 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"/>
          <p:cNvSpPr/>
          <p:nvPr/>
        </p:nvSpPr>
        <p:spPr>
          <a:xfrm>
            <a:off x="2916360" y="458136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 flipV="1">
            <a:off x="3995640" y="4508280"/>
            <a:ext cx="2174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12600" y="404640"/>
            <a:ext cx="885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авносторонним,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если у него все три стороны  рав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Равнобедренный треугольник 2"/>
          <p:cNvSpPr/>
          <p:nvPr/>
        </p:nvSpPr>
        <p:spPr>
          <a:xfrm>
            <a:off x="2556000" y="3068640"/>
            <a:ext cx="3384360" cy="2521080"/>
          </a:xfrm>
          <a:prstGeom prst="triangle">
            <a:avLst>
              <a:gd name="adj" fmla="val 50000"/>
            </a:avLst>
          </a:prstGeom>
          <a:solidFill>
            <a:srgbClr val="ffc42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6125040" y="2492280"/>
            <a:ext cx="18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В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ВС=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994040" y="537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4080240" y="2492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617148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>
            <a:off x="3348000" y="4221000"/>
            <a:ext cx="1429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 flipV="1">
            <a:off x="5003640" y="4220640"/>
            <a:ext cx="1429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http://cdn01.ru/files/users/images/31/b2/31b2cc2caa2ea0a6c77865f4284242c0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WordArt 4" descr=""/>
          <p:cNvPicPr/>
          <p:nvPr/>
        </p:nvPicPr>
        <p:blipFill>
          <a:blip r:embed="rId1"/>
          <a:stretch/>
        </p:blipFill>
        <p:spPr>
          <a:xfrm>
            <a:off x="2036880" y="328680"/>
            <a:ext cx="5851440" cy="750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"/>
          <p:cNvSpPr/>
          <p:nvPr/>
        </p:nvSpPr>
        <p:spPr>
          <a:xfrm>
            <a:off x="1332000" y="2205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11280" y="1268280"/>
            <a:ext cx="6840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ь определение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элемент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виды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ь определение равных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4"/>
          <p:cNvSpPr/>
          <p:nvPr/>
        </p:nvSpPr>
        <p:spPr>
          <a:xfrm>
            <a:off x="2534400" y="4762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Прямая со стрелкой 6"/>
          <p:cNvCxnSpPr/>
          <p:nvPr/>
        </p:nvCxnSpPr>
        <p:spPr>
          <a:xfrm>
            <a:off x="5435640" y="1196640"/>
            <a:ext cx="1442160" cy="180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Прямая со стрелкой 8"/>
          <p:cNvCxnSpPr>
            <a:endCxn id="406" idx="0"/>
          </p:cNvCxnSpPr>
          <p:nvPr/>
        </p:nvCxnSpPr>
        <p:spPr>
          <a:xfrm flipH="1">
            <a:off x="4102200" y="1125000"/>
            <a:ext cx="255960" cy="2809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7" name="TextBox 11"/>
          <p:cNvSpPr/>
          <p:nvPr/>
        </p:nvSpPr>
        <p:spPr>
          <a:xfrm>
            <a:off x="20520" y="15573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"/>
          <p:cNvSpPr/>
          <p:nvPr/>
        </p:nvSpPr>
        <p:spPr>
          <a:xfrm>
            <a:off x="2576160" y="39337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6012360" y="314172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70160" y="5084640"/>
            <a:ext cx="31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d1f1f"/>
                </a:solidFill>
                <a:uFillTx/>
                <a:latin typeface="Century Schoolbook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H="1">
            <a:off x="1618920" y="1125360"/>
            <a:ext cx="2374920" cy="395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716360" y="5589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d1f1f"/>
                </a:solidFill>
                <a:uFillTx/>
                <a:latin typeface="Century Schoolbook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5003640" y="981000"/>
            <a:ext cx="1366920" cy="4533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2555640" y="981000"/>
            <a:ext cx="93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395280" y="189000"/>
            <a:ext cx="79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Треугольником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называется фигура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торая состоит из трёх точек, не лежащих на одной прямой, и трёх отрезков, соединяющих эти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51672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132000" y="24922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3723480" y="37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611280" y="4581360"/>
            <a:ext cx="759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очки </a:t>
            </a: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, В и 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называются вершинам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резки </a:t>
            </a: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В, ВС и С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называются сторонами треугольник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6372360" y="3141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4140360" y="3860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3635280" y="2637000"/>
            <a:ext cx="28083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3635280" y="2637000"/>
            <a:ext cx="576360" cy="12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9"/>
          <p:cNvSpPr/>
          <p:nvPr/>
        </p:nvSpPr>
        <p:spPr>
          <a:xfrm flipV="1">
            <a:off x="4140360" y="3213000"/>
            <a:ext cx="23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1187280" y="549360"/>
            <a:ext cx="73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глом треугольник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ВС при вершина А называется угол, образованный полупрямыми АВ и АС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ак же определяются углы треугольника при вершинах В и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3059280" y="4149720"/>
            <a:ext cx="3240000" cy="1655640"/>
          </a:xfrm>
          <a:prstGeom prst="triangle">
            <a:avLst>
              <a:gd name="adj" fmla="val 8853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5651640" y="36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6372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rc 12"/>
          <p:cNvSpPr/>
          <p:nvPr/>
        </p:nvSpPr>
        <p:spPr>
          <a:xfrm>
            <a:off x="4146480" y="5113440"/>
            <a:ext cx="496800" cy="69192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3"/>
          <p:cNvSpPr/>
          <p:nvPr/>
        </p:nvSpPr>
        <p:spPr>
          <a:xfrm>
            <a:off x="755640" y="33336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остроугольным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, если у него  все углы ост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Равнобедренный треугольник 4"/>
          <p:cNvSpPr/>
          <p:nvPr/>
        </p:nvSpPr>
        <p:spPr>
          <a:xfrm>
            <a:off x="4859280" y="2997360"/>
            <a:ext cx="2665440" cy="1726920"/>
          </a:xfrm>
          <a:prstGeom prst="triangle">
            <a:avLst>
              <a:gd name="adj" fmla="val 75463"/>
            </a:avLst>
          </a:prstGeom>
          <a:solidFill>
            <a:srgbClr val="ccff3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6733800" y="2565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595640" y="4581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363560" y="4508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9"/>
          <p:cNvSpPr/>
          <p:nvPr/>
        </p:nvSpPr>
        <p:spPr>
          <a:xfrm>
            <a:off x="5435640" y="4221000"/>
            <a:ext cx="288720" cy="503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1"/>
          <p:cNvSpPr/>
          <p:nvPr/>
        </p:nvSpPr>
        <p:spPr>
          <a:xfrm>
            <a:off x="6443640" y="3357720"/>
            <a:ext cx="573120" cy="28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rc 12"/>
          <p:cNvSpPr/>
          <p:nvPr/>
        </p:nvSpPr>
        <p:spPr>
          <a:xfrm>
            <a:off x="5219640" y="4335480"/>
            <a:ext cx="285840" cy="460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5"/>
          <p:cNvGrpSpPr/>
          <p:nvPr/>
        </p:nvGrpSpPr>
        <p:grpSpPr>
          <a:xfrm>
            <a:off x="6803640" y="4149720"/>
            <a:ext cx="574920" cy="717480"/>
            <a:chOff x="6803640" y="4149720"/>
            <a:chExt cx="574920" cy="717480"/>
          </a:xfrm>
        </p:grpSpPr>
        <p:sp>
          <p:nvSpPr>
            <p:cNvPr id="440" name="Arc 10"/>
            <p:cNvSpPr/>
            <p:nvPr/>
          </p:nvSpPr>
          <p:spPr>
            <a:xfrm flipH="1">
              <a:off x="6803280" y="4149720"/>
              <a:ext cx="431640" cy="57456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rc 13"/>
            <p:cNvSpPr/>
            <p:nvPr/>
          </p:nvSpPr>
          <p:spPr>
            <a:xfrm flipH="1">
              <a:off x="6881760" y="4221000"/>
              <a:ext cx="425520" cy="57492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14"/>
            <p:cNvSpPr/>
            <p:nvPr/>
          </p:nvSpPr>
          <p:spPr>
            <a:xfrm flipH="1">
              <a:off x="6959520" y="4299120"/>
              <a:ext cx="419040" cy="56808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3"/>
          <p:cNvSpPr/>
          <p:nvPr/>
        </p:nvSpPr>
        <p:spPr>
          <a:xfrm>
            <a:off x="611280" y="190440"/>
            <a:ext cx="660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тупоугольным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, если у него один угол туп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276720" y="5516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104292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795672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0"/>
          <p:cNvGrpSpPr/>
          <p:nvPr/>
        </p:nvGrpSpPr>
        <p:grpSpPr>
          <a:xfrm>
            <a:off x="1403280" y="3429000"/>
            <a:ext cx="6553440" cy="1944720"/>
            <a:chOff x="1403280" y="3429000"/>
            <a:chExt cx="6553440" cy="1944720"/>
          </a:xfrm>
        </p:grpSpPr>
        <p:sp>
          <p:nvSpPr>
            <p:cNvPr id="448" name="Line 17"/>
            <p:cNvSpPr/>
            <p:nvPr/>
          </p:nvSpPr>
          <p:spPr>
            <a:xfrm>
              <a:off x="1403280" y="3429000"/>
              <a:ext cx="2448000" cy="19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 flipV="1">
              <a:off x="3851280" y="4724280"/>
              <a:ext cx="410544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9"/>
            <p:cNvSpPr/>
            <p:nvPr/>
          </p:nvSpPr>
          <p:spPr>
            <a:xfrm>
              <a:off x="1403280" y="3429000"/>
              <a:ext cx="655344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rc 21"/>
          <p:cNvSpPr/>
          <p:nvPr/>
        </p:nvSpPr>
        <p:spPr>
          <a:xfrm rot="20020800">
            <a:off x="3492000" y="4652640"/>
            <a:ext cx="936720" cy="863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5"/>
          <p:cNvSpPr/>
          <p:nvPr/>
        </p:nvSpPr>
        <p:spPr>
          <a:xfrm>
            <a:off x="755640" y="33336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 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ямоугольным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, если у него есть прямой уг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3291120" y="220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5232600" y="4292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3147120" y="4292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4"/>
          <p:cNvSpPr/>
          <p:nvPr/>
        </p:nvSpPr>
        <p:spPr>
          <a:xfrm>
            <a:off x="3708360" y="4292640"/>
            <a:ext cx="21600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 rot="3283800">
            <a:off x="3781440" y="30175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ипотен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6"/>
          <p:cNvSpPr/>
          <p:nvPr/>
        </p:nvSpPr>
        <p:spPr>
          <a:xfrm rot="5400000">
            <a:off x="2671200" y="3328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7"/>
          <p:cNvSpPr/>
          <p:nvPr/>
        </p:nvSpPr>
        <p:spPr>
          <a:xfrm>
            <a:off x="3797280" y="47242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3708360" y="263700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3708360" y="4508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3708360" y="2637000"/>
            <a:ext cx="1368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539640" y="476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торона прямоугольно треугольника, противолежащая прямому углу называется гипотенузой,  две другие кате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В- гипотен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С и ВС- катеты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2268360" y="3429000"/>
            <a:ext cx="4824720" cy="2448000"/>
          </a:xfrm>
          <a:prstGeom prst="rtTriangle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76364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7164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763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2268360" y="5516640"/>
            <a:ext cx="3589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 flipV="1">
            <a:off x="2700360" y="4581000"/>
            <a:ext cx="1511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2268360" y="3429000"/>
            <a:ext cx="482472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4"/>
          <p:cNvSpPr/>
          <p:nvPr/>
        </p:nvSpPr>
        <p:spPr>
          <a:xfrm>
            <a:off x="2268360" y="342900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2268360" y="5877000"/>
            <a:ext cx="48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8:24:01Z</dcterms:created>
  <dc:creator>comp_2</dc:creator>
  <dc:description/>
  <dc:language>en-US</dc:language>
  <cp:lastModifiedBy>Дом</cp:lastModifiedBy>
  <dcterms:modified xsi:type="dcterms:W3CDTF">2021-10-04T20:08:29Z</dcterms:modified>
  <cp:revision>72</cp:revision>
  <dc:subject/>
  <dc:title>Презентация</dc:title>
</cp:coreProperties>
</file>