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2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3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D7F50D-AFB6-4319-AA25-2E28B9BF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86E6E8-8724-4570-8368-2D3D7AC48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E0DD71-80C2-4C8C-BF16-C9BCAB8A8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602122-7C45-4383-9A97-46F84D829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61BD0E-4A1E-4CC9-870A-BE639F78C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0C189F-0058-4423-9B6E-90D0E5283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034E96-ACA8-4F77-84DA-7216C7FCB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B4088E-190E-4491-97B7-2563D1535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92E664-E3C6-45C6-9842-D77933263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214E7-B241-4D05-8582-6EA5709AA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5830F-71C7-42D8-AF80-65713D4DA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DF17E9-8D56-4D04-85EB-A8E418885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EF4501-3934-426B-AAA4-2EC03C223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643B88-967D-4496-968D-922F00BA9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2FCE02-1FF4-43EB-88F9-B823C79E1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9BD-F771-465D-A315-18176CF5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232-AAC2-4C9E-B18C-1C4F0FA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47C-DFA6-4BA8-9573-C620D776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254-34C6-4910-83AC-BC3A50CD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7BB-80F2-4BD8-B28D-36E2B2D6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C72A-1DDC-4E6A-91D1-6933DC2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BDE-1CBA-4E49-ACBE-A6605809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25EC-66D2-4D93-B719-8789A76F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A13-8539-4C75-90CC-DA694F77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3835-89E9-4C6D-A6E6-91484BB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9C4-B274-4A35-9AFA-096B582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293-B7A9-41BE-9E2A-AC63EB4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0F23-5FFF-4C1F-83FB-D8B5661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A567-8179-4BAF-8868-FD6EB5C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75F0-4E94-4BD9-94EC-87B38EA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9929-427A-42B5-A562-993C819B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6FE-16F2-49A3-900D-89DB9307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4CD9-A998-4680-A438-039FE0D9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B529-3F87-47B0-B8BB-A022476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5BAB-7501-43BF-94DD-BDF92418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EF05-0595-4A37-B30B-00BBCCD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04DC-06AB-465A-8DF1-1B7B2FB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223-2F65-4B4D-BF99-86B3FFA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06C1-CF7E-4FAD-8815-E1ABC2EB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5175-E4CF-49BB-8ABB-C44FDD6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84F7-7603-43DB-9088-109D013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FE68-D354-4D06-86E2-8EE33A8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6FB6-355E-4C58-9C41-E3D7587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3AC7-5622-4FD5-BE39-96B359F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D8B1-93F0-44AF-944E-80D6FF4A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7E7-3297-4D7D-93D4-B1D211C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4E1-675D-4961-A1A4-193B6EC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26A-8048-4833-A945-5D2E32B4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1F9-7432-401E-ACE2-E0CDA33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489-3374-4500-978E-7DDA0D6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E13-BFB7-41B4-B05D-33B52CD3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311F67-C10D-40CC-A5F3-CF046F143C4C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EEDBA4-929D-45A7-9CC4-8ED59A13C6D5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BFE824-B319-451C-8BFE-80BD4BDB932A}" type="slidenum">
              <a:rPr b="0" lang="ru-RU" sz="1200" spc="-1" strike="noStrike">
                <a:solidFill>
                  <a:srgbClr val="b5a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6eda06c73d16ecb00097ba8fdcccfd2e"/>
          <p:cNvPicPr/>
          <p:nvPr/>
        </p:nvPicPr>
        <p:blipFill>
          <a:blip r:embed="rId1"/>
          <a:stretch/>
        </p:blipFill>
        <p:spPr>
          <a:xfrm>
            <a:off x="1285920" y="1928880"/>
            <a:ext cx="2671560" cy="40064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3857760" y="1857240"/>
            <a:ext cx="528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/>
                </a:solidFill>
                <a:latin typeface="Tahoma"/>
              </a:rPr>
              <a:t>«Моя профессия – моё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429080" y="3286080"/>
            <a:ext cx="40003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Преподаватель МД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299" strike="noStrike">
                <a:solidFill>
                  <a:srgbClr val="5fb9d7"/>
                </a:solidFill>
                <a:latin typeface="Tahoma"/>
              </a:rPr>
              <a:t>Теслева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979640" y="4046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971640" y="332640"/>
            <a:ext cx="770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оршибирский фили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ого бюджетного профессионального образовательного учреждения «Байкальский колледж недрополь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215040" y="642960"/>
            <a:ext cx="2463120" cy="1631520"/>
          </a:xfrm>
          <a:prstGeom prst="rect">
            <a:avLst/>
          </a:prstGeom>
          <a:ln w="9525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509960" cy="8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Области применения професси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14320"/>
            <a:ext cx="5760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ведения общественного питания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афе, рестораны, столовые;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Учебные и производственные предприятия и т.п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286680" y="2571840"/>
            <a:ext cx="2372040" cy="157140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2889000" cy="216648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1571760" y="4429080"/>
            <a:ext cx="2670120" cy="1785600"/>
          </a:xfrm>
          <a:prstGeom prst="rect">
            <a:avLst/>
          </a:prstGeom>
          <a:ln w="9525">
            <a:noFill/>
          </a:ln>
        </p:spPr>
      </p:pic>
    </p:spTree>
  </p:cSld>
  <p:transition spd="slow"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68576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Немного о знаменитостях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4143240" y="1000080"/>
            <a:ext cx="457164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жейми Оливер - самый известный повар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ломенный блондин с мальчишеской улыбкой, отзывающийся на прозвище «голый повар», мультимиллионер, англичанин и самый знаменитый повар во всем ми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жейми призывает всех вести приусадебное хозяйство и фокусируется на простых блюдах, приготовленных из собственноручно выращенных продук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2714400" cy="192924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6357960" y="3429000"/>
            <a:ext cx="1980360" cy="2404800"/>
          </a:xfrm>
          <a:prstGeom prst="rect">
            <a:avLst/>
          </a:prstGeom>
          <a:ln w="9525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1500120" y="3714840"/>
            <a:ext cx="457164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йчел Рэй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мый высокооплачиваемый и популярных в мире шеф-повар. Рейчел известная ведущая на телеканале «Food Network» (Сеть Питания), увлекается изучением национальных кухонь всего земного ша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год зарабатывает примерно 18 миллионов долларов СШ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о помимо кулинарных увлечений, Рейчел также пишет книги, выпускает журнал и снимается в рекламных роли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68576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амые знаменитые повара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4143240" y="1000080"/>
            <a:ext cx="45716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льфган Па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заработавший за год $16 мл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еф-повар австралийского происхождения начал свою сногсшибательную карьеру в Лос Анджелесе, в ресторане "Спаго" в 1982 году. Сегодня Вольфгану принадлежит более десятка престижных кулинарных брендов, включая "Chinois", "Cut" и "Source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71760" y="857160"/>
            <a:ext cx="2071440" cy="25153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5" descr="62348216_most_famous_cook_1"/>
          <p:cNvPicPr/>
          <p:nvPr/>
        </p:nvPicPr>
        <p:blipFill>
          <a:blip r:embed="rId2"/>
          <a:stretch/>
        </p:blipFill>
        <p:spPr>
          <a:xfrm>
            <a:off x="5572080" y="3714840"/>
            <a:ext cx="3255840" cy="22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214280" y="3714840"/>
            <a:ext cx="421452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96840" indent="-4680" algn="just">
              <a:lnSpc>
                <a:spcPts val="1599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н Дюкасс </a:t>
            </a:r>
            <a:r>
              <a:rPr b="1" lang="ru-RU" sz="1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ый известный повар, единственный во всем мире, три ресторана которого получили одновременно три звезды "Мишлен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840" indent="-4680" algn="just">
              <a:lnSpc>
                <a:spcPts val="1599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та награда является самой высокой в ресторанном бизнесе. А в 2003 году имя Алена Дюкасса появилось в списке сотни самых известных и влиятельных людей на страницах журнала "Forbes", причем в этом списке он - единственный француз. Родился Ален Дюкасс на юго-западе Франции в городке Кастель-Сарразен 13 сентября 1956 года в крестьянско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3921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ои шедевры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DSC01414"/>
          <p:cNvPicPr/>
          <p:nvPr/>
        </p:nvPicPr>
        <p:blipFill>
          <a:blip r:embed="rId1"/>
          <a:stretch/>
        </p:blipFill>
        <p:spPr>
          <a:xfrm rot="484800">
            <a:off x="6312960" y="1065240"/>
            <a:ext cx="2054880" cy="1540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5" descr="DSC01449"/>
          <p:cNvPicPr/>
          <p:nvPr/>
        </p:nvPicPr>
        <p:blipFill>
          <a:blip r:embed="rId2"/>
          <a:stretch/>
        </p:blipFill>
        <p:spPr>
          <a:xfrm rot="20583600">
            <a:off x="1236960" y="1374840"/>
            <a:ext cx="2093040" cy="1569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7" name="Picture 6"/>
          <p:cNvSpPr/>
          <p:nvPr/>
        </p:nvSpPr>
        <p:spPr>
          <a:xfrm rot="562200">
            <a:off x="6374520" y="4494240"/>
            <a:ext cx="2323800" cy="174276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cture 7"/>
          <p:cNvSpPr/>
          <p:nvPr/>
        </p:nvSpPr>
        <p:spPr>
          <a:xfrm rot="21016800">
            <a:off x="1037880" y="5011560"/>
            <a:ext cx="1946880" cy="145980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IMG_0798"/>
          <p:cNvPicPr/>
          <p:nvPr/>
        </p:nvPicPr>
        <p:blipFill>
          <a:blip r:embed="rId5"/>
          <a:stretch/>
        </p:blipFill>
        <p:spPr>
          <a:xfrm rot="20541000">
            <a:off x="6610320" y="2555280"/>
            <a:ext cx="2009880" cy="1507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10" descr="DSC01468"/>
          <p:cNvPicPr/>
          <p:nvPr/>
        </p:nvPicPr>
        <p:blipFill>
          <a:blip r:embed="rId6"/>
          <a:stretch/>
        </p:blipFill>
        <p:spPr>
          <a:xfrm rot="1324200">
            <a:off x="1199160" y="3306240"/>
            <a:ext cx="1909080" cy="1432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2" descr="C:\Documents and Settings\Ольга\Мои документы\надя копия.jpg"/>
          <p:cNvPicPr/>
          <p:nvPr/>
        </p:nvPicPr>
        <p:blipFill>
          <a:blip r:embed="rId7"/>
          <a:stretch/>
        </p:blipFill>
        <p:spPr>
          <a:xfrm>
            <a:off x="3214800" y="2286000"/>
            <a:ext cx="3220560" cy="429696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sp>
        <p:nvSpPr>
          <p:cNvPr id="202" name="TextBox 9"/>
          <p:cNvSpPr/>
          <p:nvPr/>
        </p:nvSpPr>
        <p:spPr>
          <a:xfrm>
            <a:off x="3214800" y="1000080"/>
            <a:ext cx="30715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Люблю готовить, украшать, удивлять, приносить рад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я профессия – это  то, о чем я мечтала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ои мечты….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1428840" y="185724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Открыть свой малый бизнес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000160" y="264312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Развивать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00120" y="3857760"/>
            <a:ext cx="45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пока: … 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143240" y="41432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072040" y="46432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143760" y="51436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 flipH="1">
            <a:off x="4928400" y="785880"/>
            <a:ext cx="3571560" cy="4857480"/>
          </a:xfrm>
          <a:custGeom>
            <a:avLst/>
            <a:gdLst>
              <a:gd name="textAreaLeft" fmla="*/ 2054520 w 3571560"/>
              <a:gd name="textAreaRight" fmla="*/ 3013560 w 3571560"/>
              <a:gd name="textAreaTop" fmla="*/ 654840 h 4857480"/>
              <a:gd name="textAreaBottom" fmla="*/ 2079360 h 4857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ffe9d2"/>
              </a:gs>
              <a:gs pos="100000">
                <a:srgbClr val="ffdab1"/>
              </a:gs>
            </a:gsLst>
            <a:path path="circle">
              <a:fillToRect l="50000" t="50000" r="50000" b="50000"/>
            </a:path>
          </a:gradFill>
          <a:ln>
            <a:solidFill>
              <a:srgbClr val="feb80a"/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7358040" y="521496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то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214280" y="4286160"/>
            <a:ext cx="1768680" cy="2356920"/>
          </a:xfrm>
          <a:prstGeom prst="rect">
            <a:avLst/>
          </a:prstGeom>
          <a:ln w="9525">
            <a:noFill/>
          </a:ln>
        </p:spPr>
      </p:pic>
    </p:spTree>
  </p:cSld>
  <p:transition spd="slow" advTm="1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6214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0080" y="1357200"/>
            <a:ext cx="749772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5600" spc="-1" strike="noStrike">
              <a:solidFill>
                <a:srgbClr val="000000"/>
              </a:solidFill>
              <a:latin typeface="Gill Sans MT"/>
            </a:endParaRPr>
          </a:p>
          <a:p>
            <a:pPr marL="331200" indent="-2563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5600" spc="-1" strike="noStrike">
                <a:solidFill>
                  <a:srgbClr val="000000"/>
                </a:solidFill>
                <a:latin typeface="Gill Sans MT"/>
              </a:rPr>
              <a:t>на базе среднего (неполного) общего образования (9 классов), срок обучения - 3 года 10 месяцев</a:t>
            </a:r>
            <a:endParaRPr b="0" lang="ru-RU" sz="5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6957360" y="0"/>
            <a:ext cx="2186280" cy="16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 advTm="2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43640" y="1484640"/>
            <a:ext cx="72835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Зачисление на все специальности ведется без экзаменов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Юношам предоставляется отсрочка от призыва на военную службу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22392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Учащимся выплачивается академическая и социальная стипендия зависит от успеваемости и участия в творческих мероприятиях)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6912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07080" indent="-237960">
              <a:lnSpc>
                <a:spcPct val="1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ru-RU" sz="7200" spc="-1" strike="noStrike">
                <a:solidFill>
                  <a:srgbClr val="000000"/>
                </a:solidFill>
                <a:latin typeface="Gill Sans MT"/>
              </a:rPr>
              <a:t>По окончании обучения выдается диплом государственного образца.</a:t>
            </a:r>
            <a:br>
              <a:rPr sz="4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957360" y="0"/>
            <a:ext cx="2186280" cy="1642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2214720"/>
            <a:ext cx="5354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пасибо за внимание!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1295615027_2011-01-21_154555"/>
          <p:cNvPicPr/>
          <p:nvPr/>
        </p:nvPicPr>
        <p:blipFill>
          <a:blip r:embed="rId1"/>
          <a:stretch/>
        </p:blipFill>
        <p:spPr>
          <a:xfrm>
            <a:off x="1285920" y="1214280"/>
            <a:ext cx="3298320" cy="4723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42429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вару…</a:t>
            </a:r>
            <a:endParaRPr b="0" lang="ru-RU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4920" y="1071720"/>
            <a:ext cx="442872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амый вкусный, аппети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Кисло-сладкий, горьковат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Ароматный и при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Лучший в мире человек!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Вы всегда своим талантом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Словно сказочным   брильянтом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Озаряете, слепите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   Этот сочный белый свет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   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Без кастрюль и поварёшек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Вилок, противней и ложек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Сковородок, мисок, чашек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Не прожить Вам даже дня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Оттого-то, всем понятно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Человечек Вы зан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Смелый, стильный и опрят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        Весь кипящий и прохладный,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амый добрый для меня! </a:t>
            </a:r>
            <a:br>
              <a:rPr sz="1800"/>
            </a:b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1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14280" y="428760"/>
            <a:ext cx="550044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Повар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- специалист, который занимается приготовлением пищи в заведениях общественного питания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6" name="Picture 7" descr="г"/>
          <p:cNvPicPr/>
          <p:nvPr/>
        </p:nvPicPr>
        <p:blipFill>
          <a:blip r:embed="rId1"/>
          <a:stretch/>
        </p:blipFill>
        <p:spPr>
          <a:xfrm>
            <a:off x="6715080" y="642960"/>
            <a:ext cx="1823760" cy="268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56663531_55308250_1266409492_KruyskaKRUYSKA"/>
          <p:cNvPicPr/>
          <p:nvPr/>
        </p:nvPicPr>
        <p:blipFill>
          <a:blip r:embed="rId2"/>
          <a:stretch/>
        </p:blipFill>
        <p:spPr>
          <a:xfrm>
            <a:off x="1000080" y="4572000"/>
            <a:ext cx="1236240" cy="1809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1357200" y="1643040"/>
            <a:ext cx="52858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25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чем же проявляется отличие любительской кулинарии от профессиональн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ар может приготовить из тех же самых продуктов что-нибудь изысканное, и суметь со вкусом это подать к ст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2286000" y="4000680"/>
            <a:ext cx="6286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2500"/>
              </a:lnSpc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Повар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это не только человек, который умеет готовить блюда технологически правильно и в строгом соответствии с рецептом, а еще и специалист, которы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юбит свою работ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олучает от неё искреннее удовольствие и радос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гда результаты его труда восхищают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575120" cy="7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Тип и класс профессии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28960" y="1000080"/>
            <a:ext cx="5786280" cy="5643360"/>
          </a:xfrm>
          <a:prstGeom prst="rect">
            <a:avLst/>
          </a:prstGeom>
          <a:solidFill>
            <a:schemeClr val="lt1"/>
          </a:solidFill>
          <a:ln w="38160">
            <a:solidFill>
              <a:srgbClr val="ffc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я повара относится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Природа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связана с работой с объектами природы (продуктами), в ней требуется высокий уровень развития наблюдательности, внимательности, физической выносливост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Также профессию повара можно отнести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Художественный образ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ведь в ней требуется проявлять воображение и эстетический вкус, творческие способности, образное мышление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ю повара можно отнести и к тип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Человек - Техника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в ней можно столкнуться с эксплуатацией технических устройств, управлением техническими устройствам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фессия повара относится к классу </a:t>
            </a:r>
            <a:r>
              <a:rPr b="1" lang="ru-RU" sz="1800" spc="-1" strike="noStrike">
                <a:solidFill>
                  <a:schemeClr val="dk1"/>
                </a:solidFill>
                <a:latin typeface="Gill Sans MT"/>
              </a:rPr>
              <a:t>«исполнительских»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так как связана с исполнением решений, работой по заданному образцу, соблюдением имеющихся правил и нормативов, следованием инструкциям и т.п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2" name="Picture 7" descr="post-49114-1211827508_thumb"/>
          <p:cNvPicPr/>
          <p:nvPr/>
        </p:nvPicPr>
        <p:blipFill>
          <a:blip r:embed="rId1"/>
          <a:stretch/>
        </p:blipFill>
        <p:spPr>
          <a:xfrm>
            <a:off x="0" y="2143080"/>
            <a:ext cx="3171600" cy="458100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проба"/>
          <p:cNvPicPr/>
          <p:nvPr/>
        </p:nvPicPr>
        <p:blipFill>
          <a:blip r:embed="rId1"/>
          <a:stretch/>
        </p:blipFill>
        <p:spPr>
          <a:xfrm>
            <a:off x="6715080" y="571320"/>
            <a:ext cx="2131560" cy="256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571320"/>
            <a:ext cx="69656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Требования к знаниям и умениям специалист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Для успешного освоения профессии повар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еобходимы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базовые знания по естествознанию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валифицированный пова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должен знать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новы кулинарии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бования к готовке различных блюд и обработке продуктов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нципы приготовления диетических блюд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ецепты приготовления и оформления блюд и т.д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валифицированный пова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должен уметь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ботать с кухонной утварью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готавливать блюда в соответствии с рецептами;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8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" charset="2"/>
              <a:buChar char="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брабатывать различные продукты и т.п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C:\Documents and Settings\Ольга\Рабочий стол\Конкурсы\картинки\917637745.png"/>
          <p:cNvPicPr/>
          <p:nvPr/>
        </p:nvPicPr>
        <p:blipFill>
          <a:blip r:embed="rId1"/>
          <a:stretch/>
        </p:blipFill>
        <p:spPr>
          <a:xfrm>
            <a:off x="142920" y="1714320"/>
            <a:ext cx="2356920" cy="3039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3857400" cy="35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Gill Sans MT"/>
              </a:rPr>
              <a:t>Условия труда</a:t>
            </a:r>
            <a:br>
              <a:rPr sz="2900"/>
            </a:b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0" y="1143000"/>
            <a:ext cx="6409800" cy="460800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txBody>
          <a:bodyPr lIns="90000" rIns="90000" tIns="45000" bIns="45000" anchor="ctr">
            <a:normAutofit fontScale="73000"/>
          </a:bodyPr>
          <a:p>
            <a:pPr marL="3441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ар может работать как самостоятельно, так и в коллективе, который может состоять из нескольких специалистов. Чаще всего представители данной профессии работают в помещениях. Это могут быть помещения столовых, кафе, ресторанов. Работа происходит преимущественно стоя, в движении, с использованием специальных инструментов. Как правило, это подвижная деятельность, связанная с активностью и физическим трудом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ар в своей работе часто ограничен требованиями рецепта и пожеланиями к конечному результату работы со стороны владельцев заведения, в котором он работает. Зачастую, только шеф-повара с собственной репутацией могут диктовать свою волю и проявлять самостоятельность в работе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2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85920" y="1357200"/>
            <a:ext cx="7500600" cy="38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реимущества профессии</a:t>
            </a: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: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азнообразие деятельности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творческий подход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остребованность на рынке труда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Ограничения профессии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е всегда комфортные условия труда,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257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еобходимо наличие медицинской книжк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8" descr="1276442454_img_0004"/>
          <p:cNvPicPr/>
          <p:nvPr/>
        </p:nvPicPr>
        <p:blipFill>
          <a:blip r:embed="rId1"/>
          <a:stretch/>
        </p:blipFill>
        <p:spPr>
          <a:xfrm>
            <a:off x="6429240" y="0"/>
            <a:ext cx="2474640" cy="2569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5289120" cy="9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ути получения профессии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4280" y="1000080"/>
            <a:ext cx="453528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то различные учрежд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фессионального образования: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ТУ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ицеи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хникумы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6206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рсы поваров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5" descr="image"/>
          <p:cNvPicPr/>
          <p:nvPr/>
        </p:nvPicPr>
        <p:blipFill>
          <a:blip r:embed="rId1"/>
          <a:stretch/>
        </p:blipFill>
        <p:spPr>
          <a:xfrm>
            <a:off x="5143680" y="1785960"/>
            <a:ext cx="3712680" cy="486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1143000" y="3357720"/>
            <a:ext cx="44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ыпускникам учреждений среднего профессионального образования присваи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3 категор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3 категор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 позволяет работать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омощником повара.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 algn="just">
              <a:lnSpc>
                <a:spcPts val="25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тобы достичь уровня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шеф-повар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, необходимо получить высш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ill Sans MT"/>
              </a:rPr>
              <a:t>5-6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6480">
              <a:lnSpc>
                <a:spcPct val="8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147360" y="0"/>
            <a:ext cx="2996280" cy="231876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83856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Gill Sans MT"/>
              </a:rPr>
              <a:t>Перспективы карьерного роста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14348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Возможные пути развития повара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 algn="just">
              <a:lnSpc>
                <a:spcPts val="2599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пециализация и освоение смежных областей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Повара могут специализироваться в конкретных сферах поварского искусства, блюдах той или иной кухни и т.п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Но для профессионального развития потребу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Gill Sans MT"/>
              </a:rPr>
              <a:t>постоянная специализация и получение дополнительного образ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702360" indent="0" algn="just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Мастерства в этой профессии можно достичь на уровне шеф-повара, который является уже не только специалистом, но и руководителем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 algn="just">
              <a:lnSpc>
                <a:spcPts val="2599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воение смежных специализаций, таких как: кондитер, кулинар рыбных и морепродуктов и т.п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20000">
    <p:fade/>
  </p:transition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964</TotalTime>
  <Application>LibreOffice/7.4.7.2$Linux_X86_64 LibreOffice_project/40$Build-2</Application>
  <AppVersion>15.0000</AppVersion>
  <Words>795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34:32Z</dcterms:created>
  <dc:creator>1</dc:creator>
  <dc:description/>
  <dc:language>en-US</dc:language>
  <cp:lastModifiedBy>Киселева</cp:lastModifiedBy>
  <dcterms:modified xsi:type="dcterms:W3CDTF">2021-11-23T07:45:51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