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2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3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1F73E2-8F54-4B5B-933E-4B016AD6B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EC0086-C8AD-466F-9AAC-332A26BDC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167361-3310-4C41-AF56-5B7A87E6A3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1B085F-4930-4FD6-BB89-48FCE84C5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B8EC7D-C943-4BC4-BC58-9B025BA96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4687D8-CD5E-4902-9071-D9784A5C2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C93403-BCC5-4E2A-AF88-A3F1704E9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FED3CE-F4CD-48E0-BFAA-A4685C39E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2E9355-5C3F-4569-9BE2-8E6F82A01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BDBCA5-767B-494D-830F-F6660E9B6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2DACE2-5EB4-49F9-AD41-11BF1AF24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3165ED-534D-4306-8BB2-BF931A850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57BFAA-3862-4FE0-9AC3-F2AC01A5D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BF458D-4300-4CC2-9FDB-426547306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C995E9-CB5F-4E1B-987D-EDFA2E1BC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DDD-AA98-46C4-A4F2-649C2EEF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F47-69F8-4509-8329-C57D61A5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63A-134E-4D94-B4E6-B7E8C861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0CD-DC2F-4449-8DAE-186D9149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BB0F-998C-4FE3-B2FC-4DFB4198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2832-0F00-41BA-809C-DB8E18E9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0225-71BF-4871-8FF3-54822F8E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80D5-347B-4939-ACB7-CF77B24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8AFC-541D-4D33-B650-23A5007F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9063-E53C-41C6-BF0A-DDB705A4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7092-B07F-4761-9F65-B258FEC2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ADC-FE14-47FD-AEA1-3A7013DD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C973-DCCF-4203-BE61-8C683E0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293D-AB7B-4947-BEFE-D2E57C6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AEEF-8AFD-4B4F-A822-E3845A73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D8BE-0B75-4CE1-9B10-0AB7FD4B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654B-CC01-4EA1-B893-9E9EA8D1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6763-4777-4A62-B6DA-7879BA08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E8AA-7252-4105-BCC6-8C80DFEF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21CE-A502-42BB-9543-E2CA5BC6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B878-8C5B-4C76-989D-40943D9C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D655-7787-4C3B-844F-68A2E3B8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359-C2FE-44A0-927F-784E7017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18A7-8177-489D-9C90-433DEC13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2185-EF38-45F5-BC15-69850FF4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F394-5D14-4995-8E78-0190ACD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BBD4-D8E6-49CE-8AB1-8D9F7B89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5AFE-FD21-4E2C-903A-104321F0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4781-24DA-43D6-A92C-9E4B9B29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320F-8AF2-40AE-95FB-96AD1EB0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D50-DB83-4605-9F94-CE76FEBB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162-D3BB-4A8F-A109-5C5E2B68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3A4-3530-4853-88BE-3A44543B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DEB-AAAA-4196-8B38-E166777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DB2-EEE0-4290-942B-C89AF45B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346-EAFE-4344-9FFE-1007F929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8F6EBE-9A3B-4261-80F2-3C9442AE924B}" type="slidenum">
              <a:rPr b="0" lang="ru-RU" sz="1200" spc="-1" strike="noStrike">
                <a:solidFill>
                  <a:srgbClr val="b5a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FC0D195-2549-4B40-B2DD-63875ECA2C8E}" type="slidenum">
              <a:rPr b="0" lang="ru-RU" sz="1200" spc="-1" strike="noStrike">
                <a:solidFill>
                  <a:srgbClr val="b5a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14512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DAD4B6-08C6-4D14-AFD4-6C296B6C44D4}" type="slidenum">
              <a:rPr b="0" lang="ru-RU" sz="1200" spc="-1" strike="noStrike">
                <a:solidFill>
                  <a:srgbClr val="b5a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6eda06c73d16ecb00097ba8fdcccfd2e"/>
          <p:cNvPicPr/>
          <p:nvPr/>
        </p:nvPicPr>
        <p:blipFill>
          <a:blip r:embed="rId1"/>
          <a:stretch/>
        </p:blipFill>
        <p:spPr>
          <a:xfrm>
            <a:off x="1285920" y="1928880"/>
            <a:ext cx="2671560" cy="40064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3857760" y="1857240"/>
            <a:ext cx="5285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/>
                </a:solidFill>
                <a:latin typeface="Tahoma"/>
              </a:rPr>
              <a:t>«Моя профессия – моё будущ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429080" y="3286080"/>
            <a:ext cx="40003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299" strike="noStrike">
                <a:solidFill>
                  <a:srgbClr val="5fb9d7"/>
                </a:solidFill>
                <a:latin typeface="Tahoma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299" strike="noStrike">
                <a:solidFill>
                  <a:srgbClr val="5fb9d7"/>
                </a:solidFill>
                <a:latin typeface="Tahoma"/>
              </a:rPr>
              <a:t>Преподаватель МД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299" strike="noStrike">
                <a:solidFill>
                  <a:srgbClr val="5fb9d7"/>
                </a:solidFill>
                <a:latin typeface="Tahoma"/>
              </a:rPr>
              <a:t>Теслева Г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979640" y="40464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"/>
          <p:cNvSpPr/>
          <p:nvPr/>
        </p:nvSpPr>
        <p:spPr>
          <a:xfrm>
            <a:off x="971640" y="332640"/>
            <a:ext cx="770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и науки 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хоршибирский фили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ого бюджетного профессионального образовательного учреждения «Байкальский колледж недрополь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215040" y="642960"/>
            <a:ext cx="2463120" cy="1631520"/>
          </a:xfrm>
          <a:prstGeom prst="rect">
            <a:avLst/>
          </a:prstGeom>
          <a:ln w="9525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7509960" cy="8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Области применения профессии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5760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аведения общественного питания;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афе, рестораны, столовые;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Учебные и производственные предприятия и т.п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6286680" y="2571840"/>
            <a:ext cx="2372040" cy="157140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2889000" cy="216648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4"/>
          <a:stretch/>
        </p:blipFill>
        <p:spPr>
          <a:xfrm>
            <a:off x="1571760" y="4429080"/>
            <a:ext cx="2670120" cy="1785600"/>
          </a:xfrm>
          <a:prstGeom prst="rect">
            <a:avLst/>
          </a:prstGeom>
          <a:ln w="9525">
            <a:noFill/>
          </a:ln>
        </p:spPr>
      </p:pic>
    </p:spTree>
  </p:cSld>
  <p:transition spd="slow"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57200" y="0"/>
            <a:ext cx="68576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Немного о знаменитостях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4143240" y="1000080"/>
            <a:ext cx="457164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жейми Оливер - самый известный повар в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ломенный блондин с мальчишеской улыбкой, отзывающийся на прозвище «голый повар», мультимиллионер, англичанин и самый знаменитый повар во всем ми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жейми призывает всех вести приусадебное хозяйство и фокусируется на простых блюдах, приготовленных из собственноручно выращенных продук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285920" y="1214280"/>
            <a:ext cx="2714400" cy="192924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6357960" y="3429000"/>
            <a:ext cx="1980360" cy="2404800"/>
          </a:xfrm>
          <a:prstGeom prst="rect">
            <a:avLst/>
          </a:prstGeom>
          <a:ln w="9525">
            <a:noFill/>
          </a:ln>
        </p:spPr>
      </p:pic>
      <p:sp>
        <p:nvSpPr>
          <p:cNvPr id="188" name="Прямоугольник 6"/>
          <p:cNvSpPr/>
          <p:nvPr/>
        </p:nvSpPr>
        <p:spPr>
          <a:xfrm>
            <a:off x="1500120" y="3714840"/>
            <a:ext cx="457164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йчел Рэй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мый высокооплачиваемый и популярных в мире шеф-повар. Рейчел известная ведущая на телеканале «Food Network» (Сеть Питания), увлекается изучением национальных кухонь всего земного ша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год зарабатывает примерно 18 миллионов долларов СШ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о помимо кулинарных увлечений, Рейчел также пишет книги, выпускает журнал и снимается в рекламных роли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57200" y="0"/>
            <a:ext cx="68576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Самые знаменитые повара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4143240" y="1000080"/>
            <a:ext cx="457164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льфган Пак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заработавший за год $16 мл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еф-повар австралийского происхождения начал свою сногсшибательную карьеру в Лос Анджелесе, в ресторане "Спаго" в 1982 году. Сегодня Вольфгану принадлежит более десятка престижных кулинарных брендов, включая "Chinois", "Cut" и "Source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571760" y="857160"/>
            <a:ext cx="2071440" cy="251532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5" descr="62348216_most_famous_cook_1"/>
          <p:cNvPicPr/>
          <p:nvPr/>
        </p:nvPicPr>
        <p:blipFill>
          <a:blip r:embed="rId2"/>
          <a:stretch/>
        </p:blipFill>
        <p:spPr>
          <a:xfrm>
            <a:off x="5572080" y="3714840"/>
            <a:ext cx="3255840" cy="22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1214280" y="3714840"/>
            <a:ext cx="421452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96840" indent="-4680" algn="just">
              <a:lnSpc>
                <a:spcPts val="1599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н Дюкасс </a:t>
            </a:r>
            <a:r>
              <a:rPr b="1" lang="ru-RU" sz="1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ый известный повар, единственный во всем мире, три ресторана которого получили одновременно три звезды "Мишлен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840" indent="-4680" algn="just">
              <a:lnSpc>
                <a:spcPts val="1599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Эта награда является самой высокой в ресторанном бизнесе. А в 2003 году имя Алена Дюкасса появилось в списке сотни самых известных и влиятельных людей на страницах журнала "Forbes", причем в этом списке он - единственный француз. Родился Ален Дюкасс на юго-западе Франции в городке Кастель-Сарразен 13 сентября 1956 года в крестьянской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3921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Мои шедевры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DSC01414"/>
          <p:cNvPicPr/>
          <p:nvPr/>
        </p:nvPicPr>
        <p:blipFill>
          <a:blip r:embed="rId1"/>
          <a:stretch/>
        </p:blipFill>
        <p:spPr>
          <a:xfrm rot="484800">
            <a:off x="6312960" y="1065240"/>
            <a:ext cx="2054880" cy="1540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96" name="Picture 5" descr="DSC01449"/>
          <p:cNvPicPr/>
          <p:nvPr/>
        </p:nvPicPr>
        <p:blipFill>
          <a:blip r:embed="rId2"/>
          <a:stretch/>
        </p:blipFill>
        <p:spPr>
          <a:xfrm rot="20583600">
            <a:off x="1236960" y="1374840"/>
            <a:ext cx="2093040" cy="1569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7" name="Picture 6"/>
          <p:cNvSpPr/>
          <p:nvPr/>
        </p:nvSpPr>
        <p:spPr>
          <a:xfrm rot="562200">
            <a:off x="6374520" y="4494240"/>
            <a:ext cx="2323800" cy="174276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cture 7"/>
          <p:cNvSpPr/>
          <p:nvPr/>
        </p:nvSpPr>
        <p:spPr>
          <a:xfrm rot="21016800">
            <a:off x="1037880" y="5011560"/>
            <a:ext cx="1946880" cy="145980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IMG_0798"/>
          <p:cNvPicPr/>
          <p:nvPr/>
        </p:nvPicPr>
        <p:blipFill>
          <a:blip r:embed="rId5"/>
          <a:stretch/>
        </p:blipFill>
        <p:spPr>
          <a:xfrm rot="20541000">
            <a:off x="6610320" y="2555280"/>
            <a:ext cx="2009880" cy="1507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00" name="Picture 10" descr="DSC01468"/>
          <p:cNvPicPr/>
          <p:nvPr/>
        </p:nvPicPr>
        <p:blipFill>
          <a:blip r:embed="rId6"/>
          <a:stretch/>
        </p:blipFill>
        <p:spPr>
          <a:xfrm rot="1324200">
            <a:off x="1199160" y="3306240"/>
            <a:ext cx="1909080" cy="1432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2" descr="C:\Documents and Settings\Ольга\Мои документы\надя копия.jpg"/>
          <p:cNvPicPr/>
          <p:nvPr/>
        </p:nvPicPr>
        <p:blipFill>
          <a:blip r:embed="rId7"/>
          <a:stretch/>
        </p:blipFill>
        <p:spPr>
          <a:xfrm>
            <a:off x="3214800" y="2286000"/>
            <a:ext cx="3220560" cy="429696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  <p:sp>
        <p:nvSpPr>
          <p:cNvPr id="202" name="TextBox 9"/>
          <p:cNvSpPr/>
          <p:nvPr/>
        </p:nvSpPr>
        <p:spPr>
          <a:xfrm>
            <a:off x="3214800" y="1000080"/>
            <a:ext cx="30715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Люблю готовить, украшать, удивлять, приносить рад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я профессия – это  то, о чем я мечтала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Мои мечты….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1428840" y="1857240"/>
            <a:ext cx="450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Открыть свой малый бизнес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000160" y="2643120"/>
            <a:ext cx="450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Развивать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00120" y="3857760"/>
            <a:ext cx="450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пока: …  закон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4143240" y="414324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072040" y="464328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6143760" y="514368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"/>
          <p:cNvSpPr/>
          <p:nvPr/>
        </p:nvSpPr>
        <p:spPr>
          <a:xfrm flipH="1">
            <a:off x="4928400" y="785880"/>
            <a:ext cx="3571560" cy="4857480"/>
          </a:xfrm>
          <a:custGeom>
            <a:avLst/>
            <a:gdLst>
              <a:gd name="textAreaLeft" fmla="*/ 2054520 w 3571560"/>
              <a:gd name="textAreaRight" fmla="*/ 3013560 w 3571560"/>
              <a:gd name="textAreaTop" fmla="*/ 654840 h 4857480"/>
              <a:gd name="textAreaBottom" fmla="*/ 2079360 h 4857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ffe9d2"/>
              </a:gs>
              <a:gs pos="100000">
                <a:srgbClr val="ffdab1"/>
              </a:gs>
            </a:gsLst>
            <a:path path="circle">
              <a:fillToRect l="50000" t="50000" r="50000" b="50000"/>
            </a:path>
          </a:gradFill>
          <a:ln>
            <a:solidFill>
              <a:srgbClr val="feb80a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7358040" y="5214960"/>
            <a:ext cx="121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тог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214280" y="4286160"/>
            <a:ext cx="1768680" cy="2356920"/>
          </a:xfrm>
          <a:prstGeom prst="rect">
            <a:avLst/>
          </a:prstGeom>
          <a:ln w="9525">
            <a:noFill/>
          </a:ln>
        </p:spPr>
      </p:pic>
    </p:spTree>
  </p:cSld>
  <p:transition spd="slow" advTm="14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62146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0080" y="1357200"/>
            <a:ext cx="7497720" cy="49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5600" spc="-1" strike="noStrike">
              <a:solidFill>
                <a:srgbClr val="000000"/>
              </a:solidFill>
              <a:latin typeface="Gill Sans MT"/>
            </a:endParaRPr>
          </a:p>
          <a:p>
            <a:pPr marL="331200" indent="-25632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5600" spc="-1" strike="noStrike">
                <a:solidFill>
                  <a:srgbClr val="000000"/>
                </a:solidFill>
                <a:latin typeface="Gill Sans MT"/>
              </a:rPr>
              <a:t>на базе среднего (неполного) общего образования (9 классов), срок обучения - 3 года 10 месяцев</a:t>
            </a:r>
            <a:endParaRPr b="0" lang="ru-RU" sz="5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6957360" y="0"/>
            <a:ext cx="2186280" cy="1642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 advTm="21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43640" y="1484640"/>
            <a:ext cx="72835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1000"/>
          </a:bodyPr>
          <a:p>
            <a:pPr marL="307080" indent="-237960">
              <a:lnSpc>
                <a:spcPct val="1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Зачисление на все специальности ведется без экзаменов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07080" indent="-237960">
              <a:lnSpc>
                <a:spcPct val="1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Юношам предоставляется отсрочка от призыва на военную службу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223920">
              <a:lnSpc>
                <a:spcPct val="1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Учащимся выплачивается академическая и социальная стипендия зависит от успеваемости и участия в творческих мероприятиях)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6912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07080" indent="-237960">
              <a:lnSpc>
                <a:spcPct val="1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По окончании обучения выдается диплом государственного образца.</a:t>
            </a:r>
            <a:br>
              <a:rPr sz="48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957360" y="0"/>
            <a:ext cx="2186280" cy="1642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spd="slow"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0" y="2214720"/>
            <a:ext cx="53546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Спасибо за внимание!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1295615027_2011-01-21_154555"/>
          <p:cNvPicPr/>
          <p:nvPr/>
        </p:nvPicPr>
        <p:blipFill>
          <a:blip r:embed="rId1"/>
          <a:stretch/>
        </p:blipFill>
        <p:spPr>
          <a:xfrm>
            <a:off x="1285920" y="1214280"/>
            <a:ext cx="3298320" cy="4723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42429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вару…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4920" y="1071720"/>
            <a:ext cx="442872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</a:t>
            </a: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Самый вкусный, аппетит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Кисло-сладкий, горьковат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Ароматный и прият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Лучший в мире человек!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</a:t>
            </a: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Вы всегда своим талантом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Словно сказочным   брильянтом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Озаряете, слепите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     Этот сочный белый свет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      </a:t>
            </a: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Без кастрюль и поварёшек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Вилок, противней и ложек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Сковородок, мисок, чашек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Не прожить Вам даже дня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Оттого-то, всем понятно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Человечек Вы занят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  Смелый, стильный и опрят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  Весь кипящий и прохлад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Самый добрый для меня! </a:t>
            </a:r>
            <a:br>
              <a:rPr sz="1800"/>
            </a:b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1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14280" y="428760"/>
            <a:ext cx="550044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Повар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- специалист, который занимается приготовлением пищи в заведениях общественного питания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6" name="Picture 7" descr="г"/>
          <p:cNvPicPr/>
          <p:nvPr/>
        </p:nvPicPr>
        <p:blipFill>
          <a:blip r:embed="rId1"/>
          <a:stretch/>
        </p:blipFill>
        <p:spPr>
          <a:xfrm>
            <a:off x="6715080" y="642960"/>
            <a:ext cx="1823760" cy="268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56663531_55308250_1266409492_KruyskaKRUYSKA"/>
          <p:cNvPicPr/>
          <p:nvPr/>
        </p:nvPicPr>
        <p:blipFill>
          <a:blip r:embed="rId2"/>
          <a:stretch/>
        </p:blipFill>
        <p:spPr>
          <a:xfrm>
            <a:off x="1000080" y="4572000"/>
            <a:ext cx="1236240" cy="18093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1357200" y="1643040"/>
            <a:ext cx="52858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25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чем же проявляется отличие любительской кулинарии от профессиональн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ар может приготовить из тех же самых продуктов что-нибудь изысканное, и суметь со вкусом это подать к ст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2286000" y="4000680"/>
            <a:ext cx="6286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2500"/>
              </a:lnSpc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Повар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это не только человек, который умеет готовить блюда технологически правильно и в строгом соответствии с рецептом, а еще и специалист, которы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любит свою работ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олучает от неё искреннее удовольствие и радос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когда результаты его труда восхищают кл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75120" cy="7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2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72314"/>
                </a:solidFill>
                <a:latin typeface="Gill Sans MT"/>
              </a:rPr>
              <a:t>Тип и класс профессии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28960" y="1000080"/>
            <a:ext cx="5786280" cy="5643360"/>
          </a:xfrm>
          <a:prstGeom prst="rect">
            <a:avLst/>
          </a:prstGeom>
          <a:solidFill>
            <a:schemeClr val="lt1"/>
          </a:solidFill>
          <a:ln w="38160">
            <a:solidFill>
              <a:srgbClr val="ffc00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Профессия повара относится к типу </a:t>
            </a:r>
            <a:r>
              <a:rPr b="1" lang="ru-RU" sz="1800" spc="-1" strike="noStrike">
                <a:solidFill>
                  <a:schemeClr val="dk1"/>
                </a:solidFill>
                <a:latin typeface="Gill Sans MT"/>
              </a:rPr>
              <a:t>«Человек - Природа»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так как связана с работой с объектами природы (продуктами), в ней требуется высокий уровень развития наблюдательности, внимательности, физической выносливости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Также профессию повара можно отнести к типу </a:t>
            </a:r>
            <a:r>
              <a:rPr b="1" lang="ru-RU" sz="1800" spc="-1" strike="noStrike">
                <a:solidFill>
                  <a:schemeClr val="dk1"/>
                </a:solidFill>
                <a:latin typeface="Gill Sans MT"/>
              </a:rPr>
              <a:t>«Человек - Художественный образ»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ведь в ней требуется проявлять воображение и эстетический вкус, творческие способности, образное мышление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Профессию повара можно отнести и к типу </a:t>
            </a:r>
            <a:r>
              <a:rPr b="1" lang="ru-RU" sz="1800" spc="-1" strike="noStrike">
                <a:solidFill>
                  <a:schemeClr val="dk1"/>
                </a:solidFill>
                <a:latin typeface="Gill Sans MT"/>
              </a:rPr>
              <a:t>«Человек - Техника»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так как в ней можно столкнуться с эксплуатацией технических устройств, управлением техническими устройствами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Профессия повара относится к классу </a:t>
            </a:r>
            <a:r>
              <a:rPr b="1" lang="ru-RU" sz="1800" spc="-1" strike="noStrike">
                <a:solidFill>
                  <a:schemeClr val="dk1"/>
                </a:solidFill>
                <a:latin typeface="Gill Sans MT"/>
              </a:rPr>
              <a:t>«исполнительских»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так как связана с исполнением решений, работой по заданному образцу, соблюдением имеющихся правил и нормативов, следованием инструкциям и т.п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2" name="Picture 7" descr="post-49114-1211827508_thumb"/>
          <p:cNvPicPr/>
          <p:nvPr/>
        </p:nvPicPr>
        <p:blipFill>
          <a:blip r:embed="rId1"/>
          <a:stretch/>
        </p:blipFill>
        <p:spPr>
          <a:xfrm>
            <a:off x="0" y="2143080"/>
            <a:ext cx="3171600" cy="458100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проба"/>
          <p:cNvPicPr/>
          <p:nvPr/>
        </p:nvPicPr>
        <p:blipFill>
          <a:blip r:embed="rId1"/>
          <a:stretch/>
        </p:blipFill>
        <p:spPr>
          <a:xfrm>
            <a:off x="6715080" y="571320"/>
            <a:ext cx="2131560" cy="2565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571320"/>
            <a:ext cx="6965640" cy="9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5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Требования к знаниям и умениям специалист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Для успешного освоения профессии повар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еобходимы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ill Sans MT"/>
              </a:rPr>
              <a:t>базовые знания по естествознанию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Квалифицированный пова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ill Sans MT"/>
              </a:rPr>
              <a:t>должен знать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новы кулинарии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бования к готовке различных блюд и обработке продуктов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инципы приготовления диетических блюд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ецепты приготовления и оформления блюд и т.д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Квалифицированный пова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ill Sans MT"/>
              </a:rPr>
              <a:t>должен уметь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аботать с кухонной утварью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иготавливать блюда в соответствии с рецептами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брабатывать различные продукты и т.п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1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C:\Documents and Settings\Ольга\Рабочий стол\Конкурсы\картинки\917637745.png"/>
          <p:cNvPicPr/>
          <p:nvPr/>
        </p:nvPicPr>
        <p:blipFill>
          <a:blip r:embed="rId1"/>
          <a:stretch/>
        </p:blipFill>
        <p:spPr>
          <a:xfrm>
            <a:off x="142920" y="1714320"/>
            <a:ext cx="2356920" cy="30398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3857400" cy="35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2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72314"/>
                </a:solidFill>
                <a:latin typeface="Gill Sans MT"/>
              </a:rPr>
              <a:t>Условия труда</a:t>
            </a:r>
            <a:br>
              <a:rPr sz="2900"/>
            </a:b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0" y="1143000"/>
            <a:ext cx="6409800" cy="4608000"/>
          </a:xfrm>
          <a:prstGeom prst="rect">
            <a:avLst/>
          </a:prstGeom>
          <a:noFill/>
          <a:ln w="38160">
            <a:solidFill>
              <a:srgbClr val="ffc000"/>
            </a:solidFill>
            <a:round/>
          </a:ln>
        </p:spPr>
        <p:txBody>
          <a:bodyPr lIns="90000" rIns="90000" tIns="45000" bIns="45000" anchor="ctr">
            <a:normAutofit fontScale="73000"/>
          </a:bodyPr>
          <a:p>
            <a:pPr marL="3441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вар может работать как самостоятельно, так и в коллективе, который может состоять из нескольких специалистов. Чаще всего представители данной профессии работают в помещениях. Это могут быть помещения столовых, кафе, ресторанов. Работа происходит преимущественно стоя, в движении, с использованием специальных инструментов. Как правило, это подвижная деятельность, связанная с активностью и физическим трудом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вар в своей работе часто ограничен требованиями рецепта и пожеланиями к конечному результату работы со стороны владельцев заведения, в котором он работает. Зачастую, только шеф-повара с собственной репутацией могут диктовать свою волю и проявлять самостоятельность в работе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2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85920" y="1357200"/>
            <a:ext cx="7500600" cy="38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Преимущества профессии</a:t>
            </a: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: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разнообразие деятельности,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творческий подход,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остребованность на рынке труда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Ограничения профессии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не всегда комфортные условия труда,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необходимо наличие медицинской книжк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8" descr="1276442454_img_0004"/>
          <p:cNvPicPr/>
          <p:nvPr/>
        </p:nvPicPr>
        <p:blipFill>
          <a:blip r:embed="rId1"/>
          <a:stretch/>
        </p:blipFill>
        <p:spPr>
          <a:xfrm>
            <a:off x="6429240" y="0"/>
            <a:ext cx="2474640" cy="2569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5289120" cy="9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Пути получения профессии: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4280" y="1000080"/>
            <a:ext cx="453528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то различные учрежде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фессионального образования: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ТУ,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ицеи,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хникумы,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рсы поваров.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3" name="Picture 5" descr="image"/>
          <p:cNvPicPr/>
          <p:nvPr/>
        </p:nvPicPr>
        <p:blipFill>
          <a:blip r:embed="rId1"/>
          <a:stretch/>
        </p:blipFill>
        <p:spPr>
          <a:xfrm>
            <a:off x="5143680" y="1785960"/>
            <a:ext cx="3712680" cy="48686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1143000" y="3357720"/>
            <a:ext cx="442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5040" indent="-6480" algn="just">
              <a:lnSpc>
                <a:spcPts val="25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ыпускникам учреждений среднего профессионального образования присваи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ill Sans MT"/>
              </a:rPr>
              <a:t>3 категор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6480" algn="just">
              <a:lnSpc>
                <a:spcPts val="25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ill Sans MT"/>
              </a:rPr>
              <a:t>3 категор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 позволяет работать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омощником повара.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6480" algn="just">
              <a:lnSpc>
                <a:spcPts val="25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тобы достичь уровня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шеф-повара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, необходимо получить высши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ill Sans MT"/>
              </a:rPr>
              <a:t>5-6 катег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6480">
              <a:lnSpc>
                <a:spcPct val="8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147360" y="0"/>
            <a:ext cx="2996280" cy="231876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683856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Перспективы карьерного роста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285920"/>
            <a:ext cx="714348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just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Возможные пути развития повара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 algn="just">
              <a:lnSpc>
                <a:spcPts val="2599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пециализация и освоение смежных областей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702360" indent="0" algn="just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Повара могут специализироваться в конкретных сферах поварского искусства, блюдах той или иной кухни и т.п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702360" indent="0" algn="just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Но для профессионального развития потребуетс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Gill Sans MT"/>
              </a:rPr>
              <a:t>постоянная специализация и получение дополнительного образ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702360" indent="0" algn="just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Мастерства в этой профессии можно достичь на уровне шеф-повара, который является уже не только специалистом, но и руководителем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 algn="just">
              <a:lnSpc>
                <a:spcPts val="2599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воение смежных специализаций, таких как: кондитер, кулинар рыбных и морепродуктов и т.п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20000">
    <p:fade/>
  </p:transition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964</TotalTime>
  <Application>LibreOffice/7.4.7.2$Linux_X86_64 LibreOffice_project/40$Build-2</Application>
  <AppVersion>15.0000</AppVersion>
  <Words>795</Words>
  <Paragraphs>1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34:32Z</dcterms:created>
  <dc:creator>1</dc:creator>
  <dc:description/>
  <dc:language>en-US</dc:language>
  <cp:lastModifiedBy>Киселева</cp:lastModifiedBy>
  <dcterms:modified xsi:type="dcterms:W3CDTF">2021-11-23T07:45:51Z</dcterms:modified>
  <cp:revision>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