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20.png" ContentType="image/png"/>
  <Override PartName="/ppt/media/image57.png" ContentType="image/png"/>
  <Override PartName="/ppt/media/image47.png" ContentType="image/png"/>
  <Override PartName="/ppt/media/image15.jpeg" ContentType="image/jpeg"/>
  <Override PartName="/ppt/media/image64.png" ContentType="image/png"/>
  <Override PartName="/ppt/media/image54.png" ContentType="image/png"/>
  <Override PartName="/ppt/media/image14.jpeg" ContentType="image/jpeg"/>
  <Override PartName="/ppt/media/image17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22.png" ContentType="image/png"/>
  <Override PartName="/ppt/media/image59.png" ContentType="image/png"/>
  <Override PartName="/ppt/media/image11.jpeg" ContentType="image/jpeg"/>
  <Override PartName="/ppt/media/image24.png" ContentType="image/png"/>
  <Override PartName="/ppt/media/image72.png" ContentType="image/png"/>
  <Override PartName="/ppt/media/image60.png" ContentType="image/png"/>
  <Override PartName="/ppt/media/image18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5.png" ContentType="image/png"/>
  <Override PartName="/ppt/media/image66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3.png" ContentType="image/png"/>
  <Override PartName="/ppt/media/image62.png" ContentType="image/png"/>
  <Override PartName="/ppt/media/image27.png" ContentType="image/png"/>
  <Override PartName="/ppt/media/image25.png" ContentType="image/pn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7.jpeg" ContentType="image/jpeg"/>
  <Override PartName="/ppt/media/image16.png" ContentType="image/png"/>
  <Override PartName="/ppt/media/image12.jpeg" ContentType="image/jpeg"/>
  <Override PartName="/ppt/media/image34.png" ContentType="image/png"/>
  <Override PartName="/ppt/media/image10.jpeg" ContentType="image/jpeg"/>
  <Override PartName="/ppt/media/image26.png" ContentType="image/png"/>
  <Override PartName="/ppt/media/image8.jpeg" ContentType="image/jpeg"/>
  <Override PartName="/ppt/media/image38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48.png" ContentType="image/png"/>
  <Override PartName="/ppt/media/image33.png" ContentType="image/png"/>
  <Override PartName="/ppt/media/image35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3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9DB4-184D-443B-8AC0-90CD017E0C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8DE3-4EC0-49EF-987F-37EFBDD8F2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F65B-93FC-4AB7-A4FC-BBC3BDA456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9477-AFE5-4482-AE85-FBBBFDE1B1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2E3-9BDF-4191-82DA-CD57BC87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6164-0547-4801-A140-8F8905AE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D2A-25B4-4AE5-A441-A44BB439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8B9-E2C3-43AE-B261-CD4DF777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4E6-5584-49C1-85BD-0ED8B1A1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25A-1112-45A4-B255-34D935AB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EF5A-A479-46EC-AE0C-D0B23790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DF0-D6B4-4720-A7F6-50E55438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3E78-52DF-43FF-9AE0-56B068B0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AB0B-9D27-4F48-B52B-2AE38FF5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328B-3DC0-4F8A-85F2-379EB0A6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ABA-A7AD-4C13-BC66-9880AC5D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1694-0678-4099-8990-C848FAB146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slide" Target="slide1.xml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23.png"/><Relationship Id="rId18" Type="http://schemas.openxmlformats.org/officeDocument/2006/relationships/image" Target="../media/image46.png"/><Relationship Id="rId19" Type="http://schemas.openxmlformats.org/officeDocument/2006/relationships/image" Target="../media/image47.png"/><Relationship Id="rId20" Type="http://schemas.openxmlformats.org/officeDocument/2006/relationships/image" Target="../media/image48.png"/><Relationship Id="rId21" Type="http://schemas.openxmlformats.org/officeDocument/2006/relationships/image" Target="../media/image49.png"/><Relationship Id="rId22" Type="http://schemas.openxmlformats.org/officeDocument/2006/relationships/image" Target="../media/image50.png"/><Relationship Id="rId23" Type="http://schemas.openxmlformats.org/officeDocument/2006/relationships/image" Target="../media/image51.png"/><Relationship Id="rId24" Type="http://schemas.openxmlformats.org/officeDocument/2006/relationships/image" Target="../media/image52.png"/><Relationship Id="rId25" Type="http://schemas.openxmlformats.org/officeDocument/2006/relationships/image" Target="../media/image26.png"/><Relationship Id="rId26" Type="http://schemas.openxmlformats.org/officeDocument/2006/relationships/image" Target="../media/image53.png"/><Relationship Id="rId27" Type="http://schemas.openxmlformats.org/officeDocument/2006/relationships/image" Target="../media/image54.png"/><Relationship Id="rId28" Type="http://schemas.openxmlformats.org/officeDocument/2006/relationships/image" Target="../media/image55.png"/><Relationship Id="rId29" Type="http://schemas.openxmlformats.org/officeDocument/2006/relationships/slide" Target="slide5.xml"/><Relationship Id="rId30" Type="http://schemas.openxmlformats.org/officeDocument/2006/relationships/image" Target="../media/image56.png"/><Relationship Id="rId31" Type="http://schemas.openxmlformats.org/officeDocument/2006/relationships/slide" Target="slide4.xml"/><Relationship Id="rId32" Type="http://schemas.openxmlformats.org/officeDocument/2006/relationships/image" Target="../media/image57.png"/><Relationship Id="rId33" Type="http://schemas.openxmlformats.org/officeDocument/2006/relationships/slide" Target="slide7.xml"/><Relationship Id="rId34" Type="http://schemas.openxmlformats.org/officeDocument/2006/relationships/image" Target="../media/image58.png"/><Relationship Id="rId35" Type="http://schemas.openxmlformats.org/officeDocument/2006/relationships/slide" Target="slide6.xml"/><Relationship Id="rId36" Type="http://schemas.openxmlformats.org/officeDocument/2006/relationships/image" Target="../media/image59.png"/><Relationship Id="rId37" Type="http://schemas.openxmlformats.org/officeDocument/2006/relationships/image" Target="../media/image60.png"/><Relationship Id="rId38" Type="http://schemas.openxmlformats.org/officeDocument/2006/relationships/image" Target="../media/image61.png"/><Relationship Id="rId39" Type="http://schemas.openxmlformats.org/officeDocument/2006/relationships/image" Target="../media/image62.png"/><Relationship Id="rId40" Type="http://schemas.openxmlformats.org/officeDocument/2006/relationships/image" Target="../media/image28.png"/><Relationship Id="rId4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8.png"/><Relationship Id="rId3" Type="http://schemas.openxmlformats.org/officeDocument/2006/relationships/image" Target="../media/image64.png"/><Relationship Id="rId4" Type="http://schemas.openxmlformats.org/officeDocument/2006/relationships/image" Target="../media/image5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28"/>
          <p:cNvSpPr txBox="1"/>
          <p:nvPr/>
        </p:nvSpPr>
        <p:spPr>
          <a:xfrm rot="19788600">
            <a:off x="2246400" y="2011320"/>
            <a:ext cx="7269120" cy="30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4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507a"/>
                </a:solidFill>
                <a:latin typeface="Verdana"/>
              </a:rPr>
              <a:t>ПРИРОДНЫЕ РЕСУРСЫ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507a"/>
              </a:solidFill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507a"/>
                </a:solidFill>
                <a:latin typeface="Verdana"/>
              </a:rPr>
              <a:t>И ОХРАНА ПРИРОД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507a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Прямоугольник 16" descr=""/>
          <p:cNvPicPr/>
          <p:nvPr/>
        </p:nvPicPr>
        <p:blipFill>
          <a:blip r:embed="rId1"/>
          <a:stretch/>
        </p:blipFill>
        <p:spPr>
          <a:xfrm>
            <a:off x="1755720" y="-291960"/>
            <a:ext cx="5589720" cy="1809720"/>
          </a:xfrm>
          <a:prstGeom prst="rect">
            <a:avLst/>
          </a:prstGeom>
          <a:ln w="0">
            <a:noFill/>
          </a:ln>
        </p:spPr>
      </p:pic>
      <p:pic>
        <p:nvPicPr>
          <p:cNvPr id="72" name="Схема 1" descr=""/>
          <p:cNvPicPr/>
          <p:nvPr/>
        </p:nvPicPr>
        <p:blipFill>
          <a:blip r:embed="rId2"/>
          <a:stretch/>
        </p:blipFill>
        <p:spPr>
          <a:xfrm>
            <a:off x="-19080" y="835200"/>
            <a:ext cx="9175680" cy="6029280"/>
          </a:xfrm>
          <a:prstGeom prst="rect">
            <a:avLst/>
          </a:prstGeom>
          <a:ln w="0">
            <a:noFill/>
          </a:ln>
        </p:spPr>
      </p:pic>
      <p:grpSp>
        <p:nvGrpSpPr>
          <p:cNvPr id="73" name="Скругленный прямоугольник 3"/>
          <p:cNvGrpSpPr/>
          <p:nvPr/>
        </p:nvGrpSpPr>
        <p:grpSpPr>
          <a:xfrm>
            <a:off x="189000" y="-19080"/>
            <a:ext cx="1700280" cy="615960"/>
            <a:chOff x="189000" y="-19080"/>
            <a:chExt cx="1700280" cy="615960"/>
          </a:xfrm>
        </p:grpSpPr>
        <p:pic>
          <p:nvPicPr>
            <p:cNvPr id="74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9000" y="-19080"/>
              <a:ext cx="17002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76120" y="42840"/>
              <a:ext cx="1535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1 команд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Скругленный прямоугольник 4"/>
          <p:cNvGrpSpPr/>
          <p:nvPr/>
        </p:nvGrpSpPr>
        <p:grpSpPr>
          <a:xfrm>
            <a:off x="7296120" y="6480"/>
            <a:ext cx="1701720" cy="615960"/>
            <a:chOff x="7296120" y="6480"/>
            <a:chExt cx="1701720" cy="615960"/>
          </a:xfrm>
        </p:grpSpPr>
        <p:pic>
          <p:nvPicPr>
            <p:cNvPr id="77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7296120" y="6480"/>
              <a:ext cx="17017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383600" y="68400"/>
              <a:ext cx="1535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2 команд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Группа 15"/>
          <p:cNvGrpSpPr/>
          <p:nvPr/>
        </p:nvGrpSpPr>
        <p:grpSpPr>
          <a:xfrm>
            <a:off x="133200" y="619200"/>
            <a:ext cx="4073760" cy="268200"/>
            <a:chOff x="133200" y="619200"/>
            <a:chExt cx="4073760" cy="268200"/>
          </a:xfrm>
        </p:grpSpPr>
        <p:grpSp>
          <p:nvGrpSpPr>
            <p:cNvPr id="80" name="Группа 17"/>
            <p:cNvGrpSpPr/>
            <p:nvPr/>
          </p:nvGrpSpPr>
          <p:grpSpPr>
            <a:xfrm>
              <a:off x="224280" y="619200"/>
              <a:ext cx="3982680" cy="268200"/>
              <a:chOff x="224280" y="619200"/>
              <a:chExt cx="3982680" cy="268200"/>
            </a:xfrm>
          </p:grpSpPr>
          <p:grpSp>
            <p:nvGrpSpPr>
              <p:cNvPr id="81" name="Цилиндр 19"/>
              <p:cNvGrpSpPr/>
              <p:nvPr/>
            </p:nvGrpSpPr>
            <p:grpSpPr>
              <a:xfrm>
                <a:off x="3199320" y="619200"/>
                <a:ext cx="1007640" cy="268200"/>
                <a:chOff x="3199320" y="619200"/>
                <a:chExt cx="1007640" cy="268200"/>
              </a:xfrm>
            </p:grpSpPr>
            <p:pic>
              <p:nvPicPr>
                <p:cNvPr id="82" name="Цилиндр 1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199320" y="619200"/>
                  <a:ext cx="1007640" cy="26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 rot="16200000">
                  <a:off x="3592080" y="302400"/>
                  <a:ext cx="256680" cy="89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4" name="Трапеция 20"/>
              <p:cNvGrpSpPr/>
              <p:nvPr/>
            </p:nvGrpSpPr>
            <p:grpSpPr>
              <a:xfrm>
                <a:off x="224280" y="619200"/>
                <a:ext cx="3199680" cy="268200"/>
                <a:chOff x="224280" y="619200"/>
                <a:chExt cx="3199680" cy="268200"/>
              </a:xfrm>
            </p:grpSpPr>
            <p:pic>
              <p:nvPicPr>
                <p:cNvPr id="85" name="Трапеция 2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24280" y="619200"/>
                  <a:ext cx="3199680" cy="26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 rot="16200000">
                  <a:off x="2004120" y="-577440"/>
                  <a:ext cx="171000" cy="265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7" name="Цилиндр 18"/>
            <p:cNvGrpSpPr/>
            <p:nvPr/>
          </p:nvGrpSpPr>
          <p:grpSpPr>
            <a:xfrm>
              <a:off x="133200" y="682560"/>
              <a:ext cx="352800" cy="146160"/>
              <a:chOff x="133200" y="682560"/>
              <a:chExt cx="352800" cy="146160"/>
            </a:xfrm>
          </p:grpSpPr>
          <p:pic>
            <p:nvPicPr>
              <p:cNvPr id="88" name="Цилиндр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33200" y="682560"/>
                <a:ext cx="35280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 rot="5400000">
                <a:off x="233640" y="606960"/>
                <a:ext cx="1342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0" name="Группа 21"/>
          <p:cNvGrpSpPr/>
          <p:nvPr/>
        </p:nvGrpSpPr>
        <p:grpSpPr>
          <a:xfrm>
            <a:off x="5141880" y="582480"/>
            <a:ext cx="4002120" cy="246240"/>
            <a:chOff x="5141880" y="582480"/>
            <a:chExt cx="4002120" cy="246240"/>
          </a:xfrm>
        </p:grpSpPr>
        <p:grpSp>
          <p:nvGrpSpPr>
            <p:cNvPr id="91" name="Группа 22"/>
            <p:cNvGrpSpPr/>
            <p:nvPr/>
          </p:nvGrpSpPr>
          <p:grpSpPr>
            <a:xfrm>
              <a:off x="5235120" y="582480"/>
              <a:ext cx="3908880" cy="246240"/>
              <a:chOff x="5235120" y="582480"/>
              <a:chExt cx="3908880" cy="246240"/>
            </a:xfrm>
          </p:grpSpPr>
          <p:grpSp>
            <p:nvGrpSpPr>
              <p:cNvPr id="92" name="Цилиндр 24"/>
              <p:cNvGrpSpPr/>
              <p:nvPr/>
            </p:nvGrpSpPr>
            <p:grpSpPr>
              <a:xfrm>
                <a:off x="8156160" y="582480"/>
                <a:ext cx="987840" cy="246240"/>
                <a:chOff x="8156160" y="582480"/>
                <a:chExt cx="987840" cy="246240"/>
              </a:xfrm>
            </p:grpSpPr>
            <p:pic>
              <p:nvPicPr>
                <p:cNvPr id="93" name="Цилиндр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156160" y="582480"/>
                  <a:ext cx="987840" cy="24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 rot="16200000">
                  <a:off x="8546040" y="261360"/>
                  <a:ext cx="236880" cy="88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5" name="Трапеция 25"/>
              <p:cNvGrpSpPr/>
              <p:nvPr/>
            </p:nvGrpSpPr>
            <p:grpSpPr>
              <a:xfrm>
                <a:off x="5235120" y="582480"/>
                <a:ext cx="3139200" cy="246240"/>
                <a:chOff x="5235120" y="582480"/>
                <a:chExt cx="3139200" cy="246240"/>
              </a:xfrm>
            </p:grpSpPr>
            <p:pic>
              <p:nvPicPr>
                <p:cNvPr id="96" name="Трапеция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235120" y="582480"/>
                  <a:ext cx="3139200" cy="24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" name=""/>
                <p:cNvSpPr/>
                <p:nvPr/>
              </p:nvSpPr>
              <p:spPr>
                <a:xfrm rot="16200000">
                  <a:off x="6987960" y="-597960"/>
                  <a:ext cx="157680" cy="260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8" name="Цилиндр 23"/>
            <p:cNvGrpSpPr/>
            <p:nvPr/>
          </p:nvGrpSpPr>
          <p:grpSpPr>
            <a:xfrm>
              <a:off x="5141880" y="639720"/>
              <a:ext cx="352800" cy="134280"/>
              <a:chOff x="5141880" y="639720"/>
              <a:chExt cx="352800" cy="134280"/>
            </a:xfrm>
          </p:grpSpPr>
          <p:pic>
            <p:nvPicPr>
              <p:cNvPr id="99" name="Цилиндр 23" descr=""/>
              <p:cNvPicPr/>
              <p:nvPr/>
            </p:nvPicPr>
            <p:blipFill>
              <a:blip r:embed="rId10"/>
              <a:stretch/>
            </p:blipFill>
            <p:spPr>
              <a:xfrm>
                <a:off x="5141880" y="639720"/>
                <a:ext cx="352800" cy="13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5400000">
                <a:off x="5248800" y="560160"/>
                <a:ext cx="123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1" name="Управляющая кнопка: настраиваемая 26"/>
          <p:cNvGrpSpPr/>
          <p:nvPr/>
        </p:nvGrpSpPr>
        <p:grpSpPr>
          <a:xfrm>
            <a:off x="-115920" y="5675400"/>
            <a:ext cx="554040" cy="1255680"/>
            <a:chOff x="-115920" y="5675400"/>
            <a:chExt cx="554040" cy="1255680"/>
          </a:xfrm>
        </p:grpSpPr>
        <p:pic>
          <p:nvPicPr>
            <p:cNvPr id="102" name="Управляющая кнопка: настраиваемая 26" descr="">
              <a:hlinkClick r:id="" action="ppaction://hlinkshowjump?jump=endshow"/>
            </p:cNvPr>
            <p:cNvPicPr/>
            <p:nvPr/>
          </p:nvPicPr>
          <p:blipFill>
            <a:blip r:embed="rId11"/>
            <a:stretch/>
          </p:blipFill>
          <p:spPr>
            <a:xfrm>
              <a:off x="-115920" y="5675400"/>
              <a:ext cx="5540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5805360"/>
              <a:ext cx="32400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выхо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Управляющая кнопка: настраиваемая 27"/>
          <p:cNvGrpSpPr/>
          <p:nvPr/>
        </p:nvGrpSpPr>
        <p:grpSpPr>
          <a:xfrm>
            <a:off x="8699400" y="5632560"/>
            <a:ext cx="560520" cy="1298520"/>
            <a:chOff x="8699400" y="5632560"/>
            <a:chExt cx="560520" cy="1298520"/>
          </a:xfrm>
        </p:grpSpPr>
        <p:pic>
          <p:nvPicPr>
            <p:cNvPr id="105" name="Управляющая кнопка: настраиваемая 2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8699400" y="5632560"/>
              <a:ext cx="5605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820000" y="5805360"/>
              <a:ext cx="32400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ресурс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Rectangle 38"/>
          <p:cNvSpPr/>
          <p:nvPr/>
        </p:nvSpPr>
        <p:spPr>
          <a:xfrm>
            <a:off x="6084720" y="4411800"/>
            <a:ext cx="1582920" cy="21564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правильн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39"/>
          <p:cNvSpPr/>
          <p:nvPr/>
        </p:nvSpPr>
        <p:spPr>
          <a:xfrm>
            <a:off x="1979640" y="5203800"/>
            <a:ext cx="1008000" cy="21600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жима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40"/>
          <p:cNvSpPr/>
          <p:nvPr/>
        </p:nvSpPr>
        <p:spPr>
          <a:xfrm>
            <a:off x="5148360" y="5614920"/>
            <a:ext cx="3600360" cy="21600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нажатии на «ответ №…» в сетк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41"/>
          <p:cNvSpPr/>
          <p:nvPr/>
        </p:nvSpPr>
        <p:spPr>
          <a:xfrm>
            <a:off x="5405400" y="3213000"/>
            <a:ext cx="69840" cy="71640"/>
          </a:xfrm>
          <a:custGeom>
            <a:avLst/>
            <a:gdLst>
              <a:gd name="textAreaLeft" fmla="*/ 0 w 69840"/>
              <a:gd name="textAreaRight" fmla="*/ 70200 w 698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5" h="45">
                <a:moveTo>
                  <a:pt x="0" y="13"/>
                </a:moveTo>
                <a:cubicBezTo>
                  <a:pt x="3" y="26"/>
                  <a:pt x="13" y="27"/>
                  <a:pt x="15" y="13"/>
                </a:cubicBezTo>
                <a:cubicBezTo>
                  <a:pt x="11" y="12"/>
                  <a:pt x="9" y="8"/>
                  <a:pt x="5" y="9"/>
                </a:cubicBezTo>
                <a:cubicBezTo>
                  <a:pt x="3" y="9"/>
                  <a:pt x="1" y="12"/>
                  <a:pt x="2" y="13"/>
                </a:cubicBezTo>
                <a:cubicBezTo>
                  <a:pt x="4" y="15"/>
                  <a:pt x="8" y="10"/>
                  <a:pt x="11" y="9"/>
                </a:cubicBezTo>
                <a:cubicBezTo>
                  <a:pt x="15" y="12"/>
                  <a:pt x="22" y="17"/>
                  <a:pt x="12" y="15"/>
                </a:cubicBezTo>
                <a:cubicBezTo>
                  <a:pt x="11" y="16"/>
                  <a:pt x="11" y="19"/>
                  <a:pt x="9" y="19"/>
                </a:cubicBezTo>
                <a:cubicBezTo>
                  <a:pt x="7" y="19"/>
                  <a:pt x="5" y="15"/>
                  <a:pt x="5" y="15"/>
                </a:cubicBezTo>
                <a:cubicBezTo>
                  <a:pt x="25" y="0"/>
                  <a:pt x="17" y="39"/>
                  <a:pt x="6" y="45"/>
                </a:cubicBezTo>
                <a:cubicBezTo>
                  <a:pt x="10" y="36"/>
                  <a:pt x="13" y="36"/>
                  <a:pt x="9" y="25"/>
                </a:cubicBezTo>
                <a:cubicBezTo>
                  <a:pt x="10" y="24"/>
                  <a:pt x="10" y="20"/>
                  <a:pt x="11" y="21"/>
                </a:cubicBezTo>
                <a:lnTo>
                  <a:pt x="12" y="27"/>
                </a:lnTo>
                <a:cubicBezTo>
                  <a:pt x="12" y="27"/>
                  <a:pt x="11" y="27"/>
                  <a:pt x="11" y="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42"/>
          <p:cNvSpPr/>
          <p:nvPr/>
        </p:nvSpPr>
        <p:spPr>
          <a:xfrm>
            <a:off x="5580000" y="2678040"/>
            <a:ext cx="41400" cy="30240"/>
          </a:xfrm>
          <a:custGeom>
            <a:avLst/>
            <a:gdLst>
              <a:gd name="textAreaLeft" fmla="*/ 0 w 41400"/>
              <a:gd name="textAreaRight" fmla="*/ 41760 w 41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6" h="19">
                <a:moveTo>
                  <a:pt x="6" y="10"/>
                </a:moveTo>
                <a:cubicBezTo>
                  <a:pt x="10" y="7"/>
                  <a:pt x="15" y="5"/>
                  <a:pt x="19" y="2"/>
                </a:cubicBezTo>
                <a:cubicBezTo>
                  <a:pt x="18" y="10"/>
                  <a:pt x="18" y="12"/>
                  <a:pt x="10" y="16"/>
                </a:cubicBezTo>
                <a:cubicBezTo>
                  <a:pt x="3" y="12"/>
                  <a:pt x="8" y="10"/>
                  <a:pt x="13" y="7"/>
                </a:cubicBezTo>
                <a:cubicBezTo>
                  <a:pt x="15" y="7"/>
                  <a:pt x="17" y="6"/>
                  <a:pt x="18" y="8"/>
                </a:cubicBezTo>
                <a:cubicBezTo>
                  <a:pt x="19" y="10"/>
                  <a:pt x="18" y="13"/>
                  <a:pt x="16" y="14"/>
                </a:cubicBezTo>
                <a:cubicBezTo>
                  <a:pt x="12" y="15"/>
                  <a:pt x="8" y="13"/>
                  <a:pt x="4" y="13"/>
                </a:cubicBezTo>
                <a:cubicBezTo>
                  <a:pt x="7" y="2"/>
                  <a:pt x="10" y="0"/>
                  <a:pt x="19" y="7"/>
                </a:cubicBezTo>
                <a:cubicBezTo>
                  <a:pt x="23" y="16"/>
                  <a:pt x="24" y="16"/>
                  <a:pt x="13" y="17"/>
                </a:cubicBezTo>
                <a:cubicBezTo>
                  <a:pt x="6" y="12"/>
                  <a:pt x="0" y="12"/>
                  <a:pt x="10" y="5"/>
                </a:cubicBezTo>
                <a:cubicBezTo>
                  <a:pt x="20" y="7"/>
                  <a:pt x="23" y="10"/>
                  <a:pt x="13" y="16"/>
                </a:cubicBezTo>
                <a:cubicBezTo>
                  <a:pt x="4" y="14"/>
                  <a:pt x="0" y="7"/>
                  <a:pt x="10" y="2"/>
                </a:cubicBezTo>
                <a:cubicBezTo>
                  <a:pt x="19" y="4"/>
                  <a:pt x="18" y="7"/>
                  <a:pt x="25" y="10"/>
                </a:cubicBezTo>
                <a:cubicBezTo>
                  <a:pt x="24" y="19"/>
                  <a:pt x="26" y="16"/>
                  <a:pt x="16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43"/>
          <p:cNvSpPr/>
          <p:nvPr/>
        </p:nvSpPr>
        <p:spPr>
          <a:xfrm>
            <a:off x="8707320" y="3213000"/>
            <a:ext cx="41400" cy="30240"/>
          </a:xfrm>
          <a:custGeom>
            <a:avLst/>
            <a:gdLst>
              <a:gd name="textAreaLeft" fmla="*/ 0 w 41400"/>
              <a:gd name="textAreaRight" fmla="*/ 41760 w 41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6" h="19">
                <a:moveTo>
                  <a:pt x="6" y="10"/>
                </a:moveTo>
                <a:cubicBezTo>
                  <a:pt x="10" y="7"/>
                  <a:pt x="15" y="5"/>
                  <a:pt x="19" y="2"/>
                </a:cubicBezTo>
                <a:cubicBezTo>
                  <a:pt x="18" y="10"/>
                  <a:pt x="18" y="12"/>
                  <a:pt x="10" y="16"/>
                </a:cubicBezTo>
                <a:cubicBezTo>
                  <a:pt x="3" y="12"/>
                  <a:pt x="8" y="10"/>
                  <a:pt x="13" y="7"/>
                </a:cubicBezTo>
                <a:cubicBezTo>
                  <a:pt x="15" y="7"/>
                  <a:pt x="17" y="6"/>
                  <a:pt x="18" y="8"/>
                </a:cubicBezTo>
                <a:cubicBezTo>
                  <a:pt x="19" y="10"/>
                  <a:pt x="18" y="13"/>
                  <a:pt x="16" y="14"/>
                </a:cubicBezTo>
                <a:cubicBezTo>
                  <a:pt x="12" y="15"/>
                  <a:pt x="8" y="13"/>
                  <a:pt x="4" y="13"/>
                </a:cubicBezTo>
                <a:cubicBezTo>
                  <a:pt x="7" y="2"/>
                  <a:pt x="10" y="0"/>
                  <a:pt x="19" y="7"/>
                </a:cubicBezTo>
                <a:cubicBezTo>
                  <a:pt x="23" y="16"/>
                  <a:pt x="24" y="16"/>
                  <a:pt x="13" y="17"/>
                </a:cubicBezTo>
                <a:cubicBezTo>
                  <a:pt x="6" y="12"/>
                  <a:pt x="0" y="12"/>
                  <a:pt x="10" y="5"/>
                </a:cubicBezTo>
                <a:cubicBezTo>
                  <a:pt x="20" y="7"/>
                  <a:pt x="23" y="10"/>
                  <a:pt x="13" y="16"/>
                </a:cubicBezTo>
                <a:cubicBezTo>
                  <a:pt x="4" y="14"/>
                  <a:pt x="0" y="7"/>
                  <a:pt x="10" y="2"/>
                </a:cubicBezTo>
                <a:cubicBezTo>
                  <a:pt x="19" y="4"/>
                  <a:pt x="18" y="7"/>
                  <a:pt x="25" y="10"/>
                </a:cubicBezTo>
                <a:cubicBezTo>
                  <a:pt x="24" y="19"/>
                  <a:pt x="26" y="16"/>
                  <a:pt x="16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44"/>
          <p:cNvSpPr/>
          <p:nvPr/>
        </p:nvSpPr>
        <p:spPr>
          <a:xfrm>
            <a:off x="3492360" y="4046400"/>
            <a:ext cx="41400" cy="30240"/>
          </a:xfrm>
          <a:custGeom>
            <a:avLst/>
            <a:gdLst>
              <a:gd name="textAreaLeft" fmla="*/ 0 w 41400"/>
              <a:gd name="textAreaRight" fmla="*/ 41760 w 41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6" h="19">
                <a:moveTo>
                  <a:pt x="6" y="10"/>
                </a:moveTo>
                <a:cubicBezTo>
                  <a:pt x="10" y="7"/>
                  <a:pt x="15" y="5"/>
                  <a:pt x="19" y="2"/>
                </a:cubicBezTo>
                <a:cubicBezTo>
                  <a:pt x="18" y="10"/>
                  <a:pt x="18" y="12"/>
                  <a:pt x="10" y="16"/>
                </a:cubicBezTo>
                <a:cubicBezTo>
                  <a:pt x="3" y="12"/>
                  <a:pt x="8" y="10"/>
                  <a:pt x="13" y="7"/>
                </a:cubicBezTo>
                <a:cubicBezTo>
                  <a:pt x="15" y="7"/>
                  <a:pt x="17" y="6"/>
                  <a:pt x="18" y="8"/>
                </a:cubicBezTo>
                <a:cubicBezTo>
                  <a:pt x="19" y="10"/>
                  <a:pt x="18" y="13"/>
                  <a:pt x="16" y="14"/>
                </a:cubicBezTo>
                <a:cubicBezTo>
                  <a:pt x="12" y="15"/>
                  <a:pt x="8" y="13"/>
                  <a:pt x="4" y="13"/>
                </a:cubicBezTo>
                <a:cubicBezTo>
                  <a:pt x="7" y="2"/>
                  <a:pt x="10" y="0"/>
                  <a:pt x="19" y="7"/>
                </a:cubicBezTo>
                <a:cubicBezTo>
                  <a:pt x="23" y="16"/>
                  <a:pt x="24" y="16"/>
                  <a:pt x="13" y="17"/>
                </a:cubicBezTo>
                <a:cubicBezTo>
                  <a:pt x="6" y="12"/>
                  <a:pt x="0" y="12"/>
                  <a:pt x="10" y="5"/>
                </a:cubicBezTo>
                <a:cubicBezTo>
                  <a:pt x="20" y="7"/>
                  <a:pt x="23" y="10"/>
                  <a:pt x="13" y="16"/>
                </a:cubicBezTo>
                <a:cubicBezTo>
                  <a:pt x="4" y="14"/>
                  <a:pt x="0" y="7"/>
                  <a:pt x="10" y="2"/>
                </a:cubicBezTo>
                <a:cubicBezTo>
                  <a:pt x="19" y="4"/>
                  <a:pt x="18" y="7"/>
                  <a:pt x="25" y="10"/>
                </a:cubicBezTo>
                <a:cubicBezTo>
                  <a:pt x="24" y="19"/>
                  <a:pt x="26" y="16"/>
                  <a:pt x="16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1" descr=""/>
          <p:cNvPicPr/>
          <p:nvPr/>
        </p:nvPicPr>
        <p:blipFill>
          <a:blip r:embed="rId1"/>
          <a:stretch/>
        </p:blipFill>
        <p:spPr>
          <a:xfrm>
            <a:off x="3541680" y="360360"/>
            <a:ext cx="5473800" cy="1803240"/>
          </a:xfrm>
          <a:prstGeom prst="rect">
            <a:avLst/>
          </a:prstGeom>
          <a:ln w="0">
            <a:noFill/>
          </a:ln>
        </p:spPr>
      </p:pic>
      <p:grpSp>
        <p:nvGrpSpPr>
          <p:cNvPr id="115" name="Группа 11"/>
          <p:cNvGrpSpPr/>
          <p:nvPr/>
        </p:nvGrpSpPr>
        <p:grpSpPr>
          <a:xfrm>
            <a:off x="324000" y="1909800"/>
            <a:ext cx="8586720" cy="4398840"/>
            <a:chOff x="324000" y="1909800"/>
            <a:chExt cx="8586720" cy="4398840"/>
          </a:xfrm>
        </p:grpSpPr>
        <p:grpSp>
          <p:nvGrpSpPr>
            <p:cNvPr id="116" name="Прямоугольник 10"/>
            <p:cNvGrpSpPr/>
            <p:nvPr/>
          </p:nvGrpSpPr>
          <p:grpSpPr>
            <a:xfrm>
              <a:off x="650880" y="2204640"/>
              <a:ext cx="7975440" cy="3749040"/>
              <a:chOff x="650880" y="2204640"/>
              <a:chExt cx="7975440" cy="3749040"/>
            </a:xfrm>
          </p:grpSpPr>
          <p:pic>
            <p:nvPicPr>
              <p:cNvPr id="117" name="Прямоугольник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650880" y="2204640"/>
                <a:ext cx="7975440" cy="374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714240" y="2241360"/>
                <a:ext cx="7858800" cy="363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9" name="Скругленный прямоугольник 9"/>
            <p:cNvGrpSpPr/>
            <p:nvPr/>
          </p:nvGrpSpPr>
          <p:grpSpPr>
            <a:xfrm>
              <a:off x="8541360" y="2427120"/>
              <a:ext cx="326880" cy="3400200"/>
              <a:chOff x="8541360" y="2427120"/>
              <a:chExt cx="326880" cy="3400200"/>
            </a:xfrm>
          </p:grpSpPr>
          <p:pic>
            <p:nvPicPr>
              <p:cNvPr id="120" name="Скругленный прямоугольник 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41360" y="2427120"/>
                <a:ext cx="326880" cy="34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 rot="16200000">
                <a:off x="7018560" y="4032360"/>
                <a:ext cx="332388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2" name="Скругленный прямоугольник 8"/>
            <p:cNvGrpSpPr/>
            <p:nvPr/>
          </p:nvGrpSpPr>
          <p:grpSpPr>
            <a:xfrm>
              <a:off x="711360" y="5851440"/>
              <a:ext cx="7944840" cy="258480"/>
              <a:chOff x="711360" y="5851440"/>
              <a:chExt cx="7944840" cy="258480"/>
            </a:xfrm>
          </p:grpSpPr>
          <p:pic>
            <p:nvPicPr>
              <p:cNvPr id="123" name="Скругленный прямоугольник 8" descr=""/>
              <p:cNvPicPr/>
              <p:nvPr/>
            </p:nvPicPr>
            <p:blipFill>
              <a:blip r:embed="rId4"/>
              <a:stretch/>
            </p:blipFill>
            <p:spPr>
              <a:xfrm>
                <a:off x="711360" y="5851440"/>
                <a:ext cx="7944840" cy="25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749160" y="5889600"/>
                <a:ext cx="78735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5" name="Скругленный прямоугольник 7"/>
            <p:cNvGrpSpPr/>
            <p:nvPr/>
          </p:nvGrpSpPr>
          <p:grpSpPr>
            <a:xfrm>
              <a:off x="469080" y="2331000"/>
              <a:ext cx="320760" cy="3394080"/>
              <a:chOff x="469080" y="2331000"/>
              <a:chExt cx="320760" cy="3394080"/>
            </a:xfrm>
          </p:grpSpPr>
          <p:pic>
            <p:nvPicPr>
              <p:cNvPr id="126" name="Скругленный прямоугольник 7" descr=""/>
              <p:cNvPicPr/>
              <p:nvPr/>
            </p:nvPicPr>
            <p:blipFill>
              <a:blip r:embed="rId5"/>
              <a:stretch/>
            </p:blipFill>
            <p:spPr>
              <a:xfrm>
                <a:off x="469080" y="2331000"/>
                <a:ext cx="320760" cy="339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 rot="16200000">
                <a:off x="-1055520" y="3933360"/>
                <a:ext cx="332388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8" name="Скругленный прямоугольник 6"/>
            <p:cNvGrpSpPr/>
            <p:nvPr/>
          </p:nvGrpSpPr>
          <p:grpSpPr>
            <a:xfrm>
              <a:off x="705240" y="1999800"/>
              <a:ext cx="7950960" cy="318600"/>
              <a:chOff x="705240" y="1999800"/>
              <a:chExt cx="7950960" cy="318600"/>
            </a:xfrm>
          </p:grpSpPr>
          <p:pic>
            <p:nvPicPr>
              <p:cNvPr id="129" name="Скругленный прямоугольник 6" descr=""/>
              <p:cNvPicPr/>
              <p:nvPr/>
            </p:nvPicPr>
            <p:blipFill>
              <a:blip r:embed="rId6"/>
              <a:stretch/>
            </p:blipFill>
            <p:spPr>
              <a:xfrm>
                <a:off x="705240" y="1999800"/>
                <a:ext cx="7950960" cy="31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744480" y="2042280"/>
                <a:ext cx="7873920" cy="18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" name="Овал 2"/>
            <p:cNvGrpSpPr/>
            <p:nvPr/>
          </p:nvGrpSpPr>
          <p:grpSpPr>
            <a:xfrm>
              <a:off x="324000" y="1909800"/>
              <a:ext cx="556920" cy="655920"/>
              <a:chOff x="324000" y="1909800"/>
              <a:chExt cx="556920" cy="655920"/>
            </a:xfrm>
          </p:grpSpPr>
          <p:pic>
            <p:nvPicPr>
              <p:cNvPr id="132" name="Овал 2" descr=""/>
              <p:cNvPicPr/>
              <p:nvPr/>
            </p:nvPicPr>
            <p:blipFill>
              <a:blip r:embed="rId7"/>
              <a:stretch/>
            </p:blipFill>
            <p:spPr>
              <a:xfrm>
                <a:off x="324000" y="1909800"/>
                <a:ext cx="556920" cy="65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428400" y="2029320"/>
                <a:ext cx="35532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Овал 3"/>
            <p:cNvGrpSpPr/>
            <p:nvPr/>
          </p:nvGrpSpPr>
          <p:grpSpPr>
            <a:xfrm>
              <a:off x="8353800" y="1909800"/>
              <a:ext cx="556920" cy="655920"/>
              <a:chOff x="8353800" y="1909800"/>
              <a:chExt cx="556920" cy="655920"/>
            </a:xfrm>
          </p:grpSpPr>
          <p:pic>
            <p:nvPicPr>
              <p:cNvPr id="135" name="Овал 3" descr=""/>
              <p:cNvPicPr/>
              <p:nvPr/>
            </p:nvPicPr>
            <p:blipFill>
              <a:blip r:embed="rId8"/>
              <a:stretch/>
            </p:blipFill>
            <p:spPr>
              <a:xfrm>
                <a:off x="8353800" y="1909800"/>
                <a:ext cx="556920" cy="65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8455680" y="2029320"/>
                <a:ext cx="35532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7" name="Овал 4"/>
            <p:cNvGrpSpPr/>
            <p:nvPr/>
          </p:nvGrpSpPr>
          <p:grpSpPr>
            <a:xfrm>
              <a:off x="342000" y="5652720"/>
              <a:ext cx="563040" cy="655920"/>
              <a:chOff x="342000" y="5652720"/>
              <a:chExt cx="563040" cy="655920"/>
            </a:xfrm>
          </p:grpSpPr>
          <p:pic>
            <p:nvPicPr>
              <p:cNvPr id="138" name="Овал 4" descr=""/>
              <p:cNvPicPr/>
              <p:nvPr/>
            </p:nvPicPr>
            <p:blipFill>
              <a:blip r:embed="rId9"/>
              <a:stretch/>
            </p:blipFill>
            <p:spPr>
              <a:xfrm>
                <a:off x="342000" y="5652720"/>
                <a:ext cx="563040" cy="65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448560" y="5771880"/>
                <a:ext cx="35532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0" name="Овал 5"/>
            <p:cNvGrpSpPr/>
            <p:nvPr/>
          </p:nvGrpSpPr>
          <p:grpSpPr>
            <a:xfrm>
              <a:off x="8353800" y="5604840"/>
              <a:ext cx="556920" cy="655920"/>
              <a:chOff x="8353800" y="5604840"/>
              <a:chExt cx="556920" cy="655920"/>
            </a:xfrm>
          </p:grpSpPr>
          <p:pic>
            <p:nvPicPr>
              <p:cNvPr id="141" name="Овал 5" descr=""/>
              <p:cNvPicPr/>
              <p:nvPr/>
            </p:nvPicPr>
            <p:blipFill>
              <a:blip r:embed="rId10"/>
              <a:stretch/>
            </p:blipFill>
            <p:spPr>
              <a:xfrm>
                <a:off x="8353800" y="5604840"/>
                <a:ext cx="556920" cy="65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8455680" y="5725440"/>
                <a:ext cx="35532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3" name="Овал 12"/>
          <p:cNvGrpSpPr/>
          <p:nvPr/>
        </p:nvGrpSpPr>
        <p:grpSpPr>
          <a:xfrm>
            <a:off x="1500120" y="3706920"/>
            <a:ext cx="414360" cy="414360"/>
            <a:chOff x="1500120" y="3706920"/>
            <a:chExt cx="414360" cy="414360"/>
          </a:xfrm>
        </p:grpSpPr>
        <p:pic>
          <p:nvPicPr>
            <p:cNvPr id="144" name="Овал 12" descr=""/>
            <p:cNvPicPr/>
            <p:nvPr/>
          </p:nvPicPr>
          <p:blipFill>
            <a:blip r:embed="rId11"/>
            <a:stretch/>
          </p:blipFill>
          <p:spPr>
            <a:xfrm>
              <a:off x="1500120" y="370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584360" y="3789360"/>
              <a:ext cx="2538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Овал 13"/>
          <p:cNvGrpSpPr/>
          <p:nvPr/>
        </p:nvGrpSpPr>
        <p:grpSpPr>
          <a:xfrm>
            <a:off x="1500120" y="4492800"/>
            <a:ext cx="414360" cy="420480"/>
            <a:chOff x="1500120" y="4492800"/>
            <a:chExt cx="414360" cy="420480"/>
          </a:xfrm>
        </p:grpSpPr>
        <p:pic>
          <p:nvPicPr>
            <p:cNvPr id="147" name="Овал 13" descr=""/>
            <p:cNvPicPr/>
            <p:nvPr/>
          </p:nvPicPr>
          <p:blipFill>
            <a:blip r:embed="rId12"/>
            <a:stretch/>
          </p:blipFill>
          <p:spPr>
            <a:xfrm>
              <a:off x="1500120" y="4492800"/>
              <a:ext cx="4143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584360" y="4578480"/>
              <a:ext cx="253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Овал 14"/>
          <p:cNvGrpSpPr/>
          <p:nvPr/>
        </p:nvGrpSpPr>
        <p:grpSpPr>
          <a:xfrm>
            <a:off x="1500120" y="3346560"/>
            <a:ext cx="414360" cy="414360"/>
            <a:chOff x="1500120" y="3346560"/>
            <a:chExt cx="414360" cy="414360"/>
          </a:xfrm>
        </p:grpSpPr>
        <p:pic>
          <p:nvPicPr>
            <p:cNvPr id="150" name="Овал 14" descr=""/>
            <p:cNvPicPr/>
            <p:nvPr/>
          </p:nvPicPr>
          <p:blipFill>
            <a:blip r:embed="rId13"/>
            <a:stretch/>
          </p:blipFill>
          <p:spPr>
            <a:xfrm>
              <a:off x="1500120" y="334656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584360" y="3429000"/>
              <a:ext cx="2538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Овал 15"/>
          <p:cNvGrpSpPr/>
          <p:nvPr/>
        </p:nvGrpSpPr>
        <p:grpSpPr>
          <a:xfrm>
            <a:off x="1500120" y="4095720"/>
            <a:ext cx="414360" cy="415800"/>
            <a:chOff x="1500120" y="4095720"/>
            <a:chExt cx="414360" cy="415800"/>
          </a:xfrm>
        </p:grpSpPr>
        <p:pic>
          <p:nvPicPr>
            <p:cNvPr id="153" name="Овал 15" descr=""/>
            <p:cNvPicPr/>
            <p:nvPr/>
          </p:nvPicPr>
          <p:blipFill>
            <a:blip r:embed="rId14"/>
            <a:stretch/>
          </p:blipFill>
          <p:spPr>
            <a:xfrm>
              <a:off x="1500120" y="4095720"/>
              <a:ext cx="414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584360" y="4176720"/>
              <a:ext cx="253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Овал 16"/>
          <p:cNvGrpSpPr/>
          <p:nvPr/>
        </p:nvGrpSpPr>
        <p:grpSpPr>
          <a:xfrm>
            <a:off x="1859040" y="3505320"/>
            <a:ext cx="414360" cy="414360"/>
            <a:chOff x="1859040" y="3505320"/>
            <a:chExt cx="414360" cy="414360"/>
          </a:xfrm>
        </p:grpSpPr>
        <p:pic>
          <p:nvPicPr>
            <p:cNvPr id="156" name="Овал 16" descr=""/>
            <p:cNvPicPr/>
            <p:nvPr/>
          </p:nvPicPr>
          <p:blipFill>
            <a:blip r:embed="rId15"/>
            <a:stretch/>
          </p:blipFill>
          <p:spPr>
            <a:xfrm>
              <a:off x="1859040" y="35053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944720" y="3589200"/>
              <a:ext cx="2538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Группа 21"/>
          <p:cNvGrpSpPr/>
          <p:nvPr/>
        </p:nvGrpSpPr>
        <p:grpSpPr>
          <a:xfrm>
            <a:off x="4836960" y="1776240"/>
            <a:ext cx="4073760" cy="266760"/>
            <a:chOff x="4836960" y="1776240"/>
            <a:chExt cx="4073760" cy="266760"/>
          </a:xfrm>
        </p:grpSpPr>
        <p:grpSp>
          <p:nvGrpSpPr>
            <p:cNvPr id="159" name="Группа 19"/>
            <p:cNvGrpSpPr/>
            <p:nvPr/>
          </p:nvGrpSpPr>
          <p:grpSpPr>
            <a:xfrm>
              <a:off x="4931640" y="1776240"/>
              <a:ext cx="3979080" cy="266760"/>
              <a:chOff x="4931640" y="1776240"/>
              <a:chExt cx="3979080" cy="266760"/>
            </a:xfrm>
          </p:grpSpPr>
          <p:grpSp>
            <p:nvGrpSpPr>
              <p:cNvPr id="160" name="Цилиндр 17"/>
              <p:cNvGrpSpPr/>
              <p:nvPr/>
            </p:nvGrpSpPr>
            <p:grpSpPr>
              <a:xfrm>
                <a:off x="7903800" y="1776240"/>
                <a:ext cx="1006920" cy="266760"/>
                <a:chOff x="7903800" y="1776240"/>
                <a:chExt cx="1006920" cy="266760"/>
              </a:xfrm>
            </p:grpSpPr>
            <p:pic>
              <p:nvPicPr>
                <p:cNvPr id="161" name="Цилиндр 1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7903800" y="1776240"/>
                  <a:ext cx="100692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2" name=""/>
                <p:cNvSpPr/>
                <p:nvPr/>
              </p:nvSpPr>
              <p:spPr>
                <a:xfrm rot="16200000">
                  <a:off x="8294760" y="1462680"/>
                  <a:ext cx="253800" cy="89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3" name="Трапеция 18"/>
              <p:cNvGrpSpPr/>
              <p:nvPr/>
            </p:nvGrpSpPr>
            <p:grpSpPr>
              <a:xfrm>
                <a:off x="4931640" y="1776240"/>
                <a:ext cx="3196800" cy="266760"/>
                <a:chOff x="4931640" y="1776240"/>
                <a:chExt cx="3196800" cy="266760"/>
              </a:xfrm>
            </p:grpSpPr>
            <p:pic>
              <p:nvPicPr>
                <p:cNvPr id="164" name="Трапеция 18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931640" y="1776240"/>
                  <a:ext cx="319680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5" name=""/>
                <p:cNvSpPr/>
                <p:nvPr/>
              </p:nvSpPr>
              <p:spPr>
                <a:xfrm rot="16200000">
                  <a:off x="6708240" y="584280"/>
                  <a:ext cx="169200" cy="26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66" name="Цилиндр 20"/>
            <p:cNvGrpSpPr/>
            <p:nvPr/>
          </p:nvGrpSpPr>
          <p:grpSpPr>
            <a:xfrm>
              <a:off x="4836960" y="1834560"/>
              <a:ext cx="358560" cy="146520"/>
              <a:chOff x="4836960" y="1834560"/>
              <a:chExt cx="358560" cy="146520"/>
            </a:xfrm>
          </p:grpSpPr>
          <p:pic>
            <p:nvPicPr>
              <p:cNvPr id="167" name="Цилиндр 20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36960" y="1834560"/>
                <a:ext cx="358560" cy="14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 rot="5400000">
                <a:off x="4941360" y="1763280"/>
                <a:ext cx="1335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9" name="Овал 22"/>
          <p:cNvGrpSpPr/>
          <p:nvPr/>
        </p:nvGrpSpPr>
        <p:grpSpPr>
          <a:xfrm>
            <a:off x="1859040" y="3919680"/>
            <a:ext cx="414360" cy="414360"/>
            <a:chOff x="1859040" y="3919680"/>
            <a:chExt cx="414360" cy="414360"/>
          </a:xfrm>
        </p:grpSpPr>
        <p:pic>
          <p:nvPicPr>
            <p:cNvPr id="170" name="Овал 22" descr=""/>
            <p:cNvPicPr/>
            <p:nvPr/>
          </p:nvPicPr>
          <p:blipFill>
            <a:blip r:embed="rId19"/>
            <a:stretch/>
          </p:blipFill>
          <p:spPr>
            <a:xfrm>
              <a:off x="1859040" y="3919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944720" y="4003560"/>
              <a:ext cx="2538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Овал 23"/>
          <p:cNvGrpSpPr/>
          <p:nvPr/>
        </p:nvGrpSpPr>
        <p:grpSpPr>
          <a:xfrm>
            <a:off x="2219400" y="4145040"/>
            <a:ext cx="414360" cy="414360"/>
            <a:chOff x="2219400" y="4145040"/>
            <a:chExt cx="414360" cy="414360"/>
          </a:xfrm>
        </p:grpSpPr>
        <p:pic>
          <p:nvPicPr>
            <p:cNvPr id="173" name="Овал 23" descr=""/>
            <p:cNvPicPr/>
            <p:nvPr/>
          </p:nvPicPr>
          <p:blipFill>
            <a:blip r:embed="rId20"/>
            <a:stretch/>
          </p:blipFill>
          <p:spPr>
            <a:xfrm>
              <a:off x="2219400" y="414504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03640" y="4230720"/>
              <a:ext cx="2552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Овал 24"/>
          <p:cNvGrpSpPr/>
          <p:nvPr/>
        </p:nvGrpSpPr>
        <p:grpSpPr>
          <a:xfrm>
            <a:off x="1859040" y="4327560"/>
            <a:ext cx="414360" cy="415800"/>
            <a:chOff x="1859040" y="4327560"/>
            <a:chExt cx="414360" cy="415800"/>
          </a:xfrm>
        </p:grpSpPr>
        <p:pic>
          <p:nvPicPr>
            <p:cNvPr id="176" name="Овал 24" descr=""/>
            <p:cNvPicPr/>
            <p:nvPr/>
          </p:nvPicPr>
          <p:blipFill>
            <a:blip r:embed="rId21"/>
            <a:stretch/>
          </p:blipFill>
          <p:spPr>
            <a:xfrm>
              <a:off x="1859040" y="4327560"/>
              <a:ext cx="414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944720" y="4410000"/>
              <a:ext cx="253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Овал 25"/>
          <p:cNvGrpSpPr/>
          <p:nvPr/>
        </p:nvGrpSpPr>
        <p:grpSpPr>
          <a:xfrm>
            <a:off x="2219400" y="3754440"/>
            <a:ext cx="414360" cy="415800"/>
            <a:chOff x="2219400" y="3754440"/>
            <a:chExt cx="414360" cy="415800"/>
          </a:xfrm>
        </p:grpSpPr>
        <p:pic>
          <p:nvPicPr>
            <p:cNvPr id="179" name="Овал 25" descr=""/>
            <p:cNvPicPr/>
            <p:nvPr/>
          </p:nvPicPr>
          <p:blipFill>
            <a:blip r:embed="rId22"/>
            <a:stretch/>
          </p:blipFill>
          <p:spPr>
            <a:xfrm>
              <a:off x="2219400" y="3754440"/>
              <a:ext cx="414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303640" y="3835440"/>
              <a:ext cx="2552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Овал 26"/>
          <p:cNvGrpSpPr/>
          <p:nvPr/>
        </p:nvGrpSpPr>
        <p:grpSpPr>
          <a:xfrm>
            <a:off x="2577960" y="3932280"/>
            <a:ext cx="420840" cy="414360"/>
            <a:chOff x="2577960" y="3932280"/>
            <a:chExt cx="420840" cy="414360"/>
          </a:xfrm>
        </p:grpSpPr>
        <p:pic>
          <p:nvPicPr>
            <p:cNvPr id="182" name="Овал 26" descr=""/>
            <p:cNvPicPr/>
            <p:nvPr/>
          </p:nvPicPr>
          <p:blipFill>
            <a:blip r:embed="rId23"/>
            <a:stretch/>
          </p:blipFill>
          <p:spPr>
            <a:xfrm>
              <a:off x="2577960" y="3932280"/>
              <a:ext cx="42084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664000" y="4016520"/>
              <a:ext cx="2552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Группа 27"/>
          <p:cNvGrpSpPr/>
          <p:nvPr/>
        </p:nvGrpSpPr>
        <p:grpSpPr>
          <a:xfrm>
            <a:off x="4962600" y="1455840"/>
            <a:ext cx="4002120" cy="245880"/>
            <a:chOff x="4962600" y="1455840"/>
            <a:chExt cx="4002120" cy="245880"/>
          </a:xfrm>
        </p:grpSpPr>
        <p:grpSp>
          <p:nvGrpSpPr>
            <p:cNvPr id="185" name="Группа 28"/>
            <p:cNvGrpSpPr/>
            <p:nvPr/>
          </p:nvGrpSpPr>
          <p:grpSpPr>
            <a:xfrm>
              <a:off x="5053320" y="1455840"/>
              <a:ext cx="3911400" cy="245880"/>
              <a:chOff x="5053320" y="1455840"/>
              <a:chExt cx="3911400" cy="245880"/>
            </a:xfrm>
          </p:grpSpPr>
          <p:grpSp>
            <p:nvGrpSpPr>
              <p:cNvPr id="186" name="Цилиндр 30"/>
              <p:cNvGrpSpPr/>
              <p:nvPr/>
            </p:nvGrpSpPr>
            <p:grpSpPr>
              <a:xfrm>
                <a:off x="7970400" y="1455840"/>
                <a:ext cx="994320" cy="245880"/>
                <a:chOff x="7970400" y="1455840"/>
                <a:chExt cx="994320" cy="245880"/>
              </a:xfrm>
            </p:grpSpPr>
            <p:pic>
              <p:nvPicPr>
                <p:cNvPr id="187" name="Цилиндр 3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70400" y="1455840"/>
                  <a:ext cx="994320" cy="24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6200000">
                  <a:off x="8364240" y="1135440"/>
                  <a:ext cx="236520" cy="88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9" name="Трапеция 31"/>
              <p:cNvGrpSpPr/>
              <p:nvPr/>
            </p:nvGrpSpPr>
            <p:grpSpPr>
              <a:xfrm>
                <a:off x="5053320" y="1455840"/>
                <a:ext cx="3141360" cy="245880"/>
                <a:chOff x="5053320" y="1455840"/>
                <a:chExt cx="3141360" cy="245880"/>
              </a:xfrm>
            </p:grpSpPr>
            <p:pic>
              <p:nvPicPr>
                <p:cNvPr id="190" name="Трапеция 3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053320" y="1455840"/>
                  <a:ext cx="3141360" cy="24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6200000">
                  <a:off x="6804720" y="275040"/>
                  <a:ext cx="157680" cy="260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92" name="Цилиндр 29"/>
            <p:cNvGrpSpPr/>
            <p:nvPr/>
          </p:nvGrpSpPr>
          <p:grpSpPr>
            <a:xfrm>
              <a:off x="4962600" y="1511640"/>
              <a:ext cx="346680" cy="133920"/>
              <a:chOff x="4962600" y="1511640"/>
              <a:chExt cx="346680" cy="133920"/>
            </a:xfrm>
          </p:grpSpPr>
          <p:pic>
            <p:nvPicPr>
              <p:cNvPr id="193" name="Цилиндр 29" descr=""/>
              <p:cNvPicPr/>
              <p:nvPr/>
            </p:nvPicPr>
            <p:blipFill>
              <a:blip r:embed="rId26"/>
              <a:stretch/>
            </p:blipFill>
            <p:spPr>
              <a:xfrm>
                <a:off x="4962600" y="1511640"/>
                <a:ext cx="346680" cy="13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rot="5400000">
                <a:off x="5067000" y="1433160"/>
                <a:ext cx="1231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Трапеция 32"/>
          <p:cNvSpPr/>
          <p:nvPr/>
        </p:nvSpPr>
        <p:spPr>
          <a:xfrm rot="5400000">
            <a:off x="1368720" y="3410640"/>
            <a:ext cx="1728720" cy="1476360"/>
          </a:xfrm>
          <a:custGeom>
            <a:avLst/>
            <a:gdLst>
              <a:gd name="textAreaLeft" fmla="*/ 385200 w 1728720"/>
              <a:gd name="textAreaRight" fmla="*/ 1343520 w 1728720"/>
              <a:gd name="textAreaTop" fmla="*/ 329040 h 1476360"/>
              <a:gd name="textAreaBottom" fmla="*/ 1476720 h 1476360"/>
            </a:gdLst>
            <a:ahLst/>
            <a:rect l="textAreaLeft" t="textAreaTop" r="textAreaRight" b="textAreaBottom"/>
            <a:pathLst>
              <a:path w="1728787" h="1476375">
                <a:moveTo>
                  <a:pt x="0" y="1476375"/>
                </a:moveTo>
                <a:lnTo>
                  <a:pt x="578134" y="0"/>
                </a:lnTo>
                <a:lnTo>
                  <a:pt x="1150653" y="0"/>
                </a:lnTo>
                <a:lnTo>
                  <a:pt x="1728787" y="1476375"/>
                </a:lnTo>
                <a:close/>
              </a:path>
            </a:pathLst>
          </a:custGeom>
          <a:noFill/>
          <a:ln w="7632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Скругленный прямоугольник 33"/>
          <p:cNvGrpSpPr/>
          <p:nvPr/>
        </p:nvGrpSpPr>
        <p:grpSpPr>
          <a:xfrm>
            <a:off x="549360" y="512640"/>
            <a:ext cx="1700280" cy="614520"/>
            <a:chOff x="549360" y="512640"/>
            <a:chExt cx="1700280" cy="614520"/>
          </a:xfrm>
        </p:grpSpPr>
        <p:pic>
          <p:nvPicPr>
            <p:cNvPr id="197" name="Скругленный прямоугольник 33" descr=""/>
            <p:cNvPicPr/>
            <p:nvPr/>
          </p:nvPicPr>
          <p:blipFill>
            <a:blip r:embed="rId27"/>
            <a:stretch/>
          </p:blipFill>
          <p:spPr>
            <a:xfrm>
              <a:off x="549360" y="512640"/>
              <a:ext cx="170028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36480" y="573120"/>
              <a:ext cx="1535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1 команд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Скругленный прямоугольник 34"/>
          <p:cNvGrpSpPr/>
          <p:nvPr/>
        </p:nvGrpSpPr>
        <p:grpSpPr>
          <a:xfrm>
            <a:off x="2243160" y="512640"/>
            <a:ext cx="1700280" cy="614520"/>
            <a:chOff x="2243160" y="512640"/>
            <a:chExt cx="1700280" cy="614520"/>
          </a:xfrm>
        </p:grpSpPr>
        <p:pic>
          <p:nvPicPr>
            <p:cNvPr id="200" name="Скругленный прямоугольник 34" descr=""/>
            <p:cNvPicPr/>
            <p:nvPr/>
          </p:nvPicPr>
          <p:blipFill>
            <a:blip r:embed="rId28"/>
            <a:stretch/>
          </p:blipFill>
          <p:spPr>
            <a:xfrm>
              <a:off x="2243160" y="512640"/>
              <a:ext cx="170028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2328840" y="573120"/>
              <a:ext cx="1535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2 команд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Скругленный прямоугольник 35"/>
          <p:cNvGrpSpPr/>
          <p:nvPr/>
        </p:nvGrpSpPr>
        <p:grpSpPr>
          <a:xfrm>
            <a:off x="517680" y="1274760"/>
            <a:ext cx="2670120" cy="614520"/>
            <a:chOff x="517680" y="1274760"/>
            <a:chExt cx="2670120" cy="614520"/>
          </a:xfrm>
        </p:grpSpPr>
        <p:pic>
          <p:nvPicPr>
            <p:cNvPr id="203" name="Скругленный прямоугольник 35" descr="">
              <a:hlinkClick r:id="rId29" action="ppaction://hlinksldjump"/>
            </p:cNvPr>
            <p:cNvPicPr/>
            <p:nvPr/>
          </p:nvPicPr>
          <p:blipFill>
            <a:blip r:embed="rId30"/>
            <a:stretch/>
          </p:blipFill>
          <p:spPr>
            <a:xfrm>
              <a:off x="517680" y="1274760"/>
              <a:ext cx="267012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06600" y="1336680"/>
              <a:ext cx="25002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Блиц-вопрос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Скругленный прямоугольник 41"/>
          <p:cNvGrpSpPr/>
          <p:nvPr/>
        </p:nvGrpSpPr>
        <p:grpSpPr>
          <a:xfrm>
            <a:off x="549360" y="1255680"/>
            <a:ext cx="2670120" cy="615960"/>
            <a:chOff x="549360" y="1255680"/>
            <a:chExt cx="2670120" cy="615960"/>
          </a:xfrm>
        </p:grpSpPr>
        <p:pic>
          <p:nvPicPr>
            <p:cNvPr id="206" name="Скругленный прямоугольник 41" descr="">
              <a:hlinkClick r:id="rId31" action="ppaction://hlinksldjump"/>
            </p:cNvPr>
            <p:cNvPicPr/>
            <p:nvPr/>
          </p:nvPicPr>
          <p:blipFill>
            <a:blip r:embed="rId32"/>
            <a:stretch/>
          </p:blipFill>
          <p:spPr>
            <a:xfrm>
              <a:off x="549360" y="1255680"/>
              <a:ext cx="26701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636480" y="1319040"/>
              <a:ext cx="25005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Блиц-вопрос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Скругленный прямоугольник 37"/>
          <p:cNvGrpSpPr/>
          <p:nvPr/>
        </p:nvGrpSpPr>
        <p:grpSpPr>
          <a:xfrm>
            <a:off x="517680" y="1255680"/>
            <a:ext cx="2670120" cy="615960"/>
            <a:chOff x="517680" y="1255680"/>
            <a:chExt cx="2670120" cy="615960"/>
          </a:xfrm>
        </p:grpSpPr>
        <p:pic>
          <p:nvPicPr>
            <p:cNvPr id="209" name="Скругленный прямоугольник 37" descr="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>
              <a:off x="517680" y="1255680"/>
              <a:ext cx="26701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06600" y="1319040"/>
              <a:ext cx="250020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Собери картинк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Скругленный прямоугольник 38"/>
          <p:cNvGrpSpPr/>
          <p:nvPr/>
        </p:nvGrpSpPr>
        <p:grpSpPr>
          <a:xfrm>
            <a:off x="536400" y="1255680"/>
            <a:ext cx="2664000" cy="615960"/>
            <a:chOff x="536400" y="1255680"/>
            <a:chExt cx="2664000" cy="615960"/>
          </a:xfrm>
        </p:grpSpPr>
        <p:pic>
          <p:nvPicPr>
            <p:cNvPr id="212" name="Скругленный прямоугольник 38" descr="">
              <a:hlinkClick r:id="rId35" action="ppaction://hlinksldjump"/>
            </p:cNvPr>
            <p:cNvPicPr/>
            <p:nvPr/>
          </p:nvPicPr>
          <p:blipFill>
            <a:blip r:embed="rId36"/>
            <a:stretch/>
          </p:blipFill>
          <p:spPr>
            <a:xfrm>
              <a:off x="536400" y="1255680"/>
              <a:ext cx="26640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22440" y="1319040"/>
              <a:ext cx="250020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Собери картинк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Скругленный прямоугольник 39"/>
          <p:cNvGrpSpPr/>
          <p:nvPr/>
        </p:nvGrpSpPr>
        <p:grpSpPr>
          <a:xfrm>
            <a:off x="517680" y="1305000"/>
            <a:ext cx="2670120" cy="609480"/>
            <a:chOff x="517680" y="1305000"/>
            <a:chExt cx="2670120" cy="609480"/>
          </a:xfrm>
        </p:grpSpPr>
        <p:pic>
          <p:nvPicPr>
            <p:cNvPr id="215" name="Скругленный прямоугольник 39" descr=""/>
            <p:cNvPicPr/>
            <p:nvPr/>
          </p:nvPicPr>
          <p:blipFill>
            <a:blip r:embed="rId37"/>
            <a:stretch/>
          </p:blipFill>
          <p:spPr>
            <a:xfrm>
              <a:off x="517680" y="1305000"/>
              <a:ext cx="2670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06600" y="1363680"/>
              <a:ext cx="25002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Реши кроссвор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Скругленный прямоугольник 40"/>
          <p:cNvGrpSpPr/>
          <p:nvPr/>
        </p:nvGrpSpPr>
        <p:grpSpPr>
          <a:xfrm>
            <a:off x="487440" y="1274760"/>
            <a:ext cx="2663640" cy="614520"/>
            <a:chOff x="487440" y="1274760"/>
            <a:chExt cx="2663640" cy="614520"/>
          </a:xfrm>
        </p:grpSpPr>
        <p:pic>
          <p:nvPicPr>
            <p:cNvPr id="218" name="Скругленный прямоугольник 40" descr=""/>
            <p:cNvPicPr/>
            <p:nvPr/>
          </p:nvPicPr>
          <p:blipFill>
            <a:blip r:embed="rId38"/>
            <a:stretch/>
          </p:blipFill>
          <p:spPr>
            <a:xfrm>
              <a:off x="487440" y="1274760"/>
              <a:ext cx="266364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71680" y="1336680"/>
              <a:ext cx="25002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Реши кроссвор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Скругленный прямоугольник 42"/>
          <p:cNvGrpSpPr/>
          <p:nvPr/>
        </p:nvGrpSpPr>
        <p:grpSpPr>
          <a:xfrm>
            <a:off x="500040" y="1292400"/>
            <a:ext cx="2670120" cy="609480"/>
            <a:chOff x="500040" y="1292400"/>
            <a:chExt cx="2670120" cy="609480"/>
          </a:xfrm>
        </p:grpSpPr>
        <p:pic>
          <p:nvPicPr>
            <p:cNvPr id="221" name="Скругленный прямоугольник 42" descr=""/>
            <p:cNvPicPr/>
            <p:nvPr/>
          </p:nvPicPr>
          <p:blipFill>
            <a:blip r:embed="rId39"/>
            <a:stretch/>
          </p:blipFill>
          <p:spPr>
            <a:xfrm>
              <a:off x="500040" y="1292400"/>
              <a:ext cx="2670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88960" y="1351080"/>
              <a:ext cx="2500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Игра закончен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Управляющая кнопка: настраиваемая 43"/>
          <p:cNvGrpSpPr/>
          <p:nvPr/>
        </p:nvGrpSpPr>
        <p:grpSpPr>
          <a:xfrm>
            <a:off x="-115920" y="5675400"/>
            <a:ext cx="554040" cy="1255680"/>
            <a:chOff x="-115920" y="5675400"/>
            <a:chExt cx="554040" cy="1255680"/>
          </a:xfrm>
        </p:grpSpPr>
        <p:pic>
          <p:nvPicPr>
            <p:cNvPr id="224" name="Управляющая кнопка: настраиваемая 43" descr="">
              <a:hlinkClick r:id="" action="ppaction://hlinkshowjump?jump=endshow"/>
            </p:cNvPr>
            <p:cNvPicPr/>
            <p:nvPr/>
          </p:nvPicPr>
          <p:blipFill>
            <a:blip r:embed="rId40"/>
            <a:stretch/>
          </p:blipFill>
          <p:spPr>
            <a:xfrm>
              <a:off x="-115920" y="5675400"/>
              <a:ext cx="5540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0" y="5805360"/>
              <a:ext cx="32400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выхо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3293E-006 L 0.0007 0.33071 E">
                                      <p:cBhvr>
                                        <p:cTn id="11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33072 L -0.25174 0.33673 E">
                                      <p:cBhvr>
                                        <p:cTn id="17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74 0.33673 L -0.00712 0.33072 E">
                                      <p:cBhvr>
                                        <p:cTn id="20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49676E-006 L 0.03732 -0.2507 E">
                                      <p:cBhvr>
                                        <p:cTn id="22" dur="5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29325E-006 L -0.05712 0.22641 E">
                                      <p:cBhvr>
                                        <p:cTn id="24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13784E-006 L 0.01371 0.16882 E">
                                      <p:cBhvr>
                                        <p:cTn id="26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48 0.03954 L -0.03924 -0.14293 E">
                                      <p:cBhvr>
                                        <p:cTn id="28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96022E-006 L 0.25018 -0.11286 E">
                                      <p:cBhvr>
                                        <p:cTn id="30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4 -0.02335 L 0.06893 -0.06521 E">
                                      <p:cBhvr>
                                        <p:cTn id="32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16 -0.06036 L 0.06666 -0.05782 E">
                                      <p:cBhvr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4709E-006 L 0.28143 0.23335 E">
                                      <p:cBhvr>
                                        <p:cTn id="36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44218E-006 L -0.04723 0.06313 E">
                                      <p:cBhvr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1887E-006 L -0.02587 0.1346 E">
                                      <p:cBhvr>
                                        <p:cTn id="40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33071 L 0.0007 0.00555 E">
                                      <p:cBhvr>
                                        <p:cTn id="43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9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24977 L -0.43282 0.50463 E">
                                      <p:cBhvr>
                                        <p:cTn id="58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618 0.47318 L -0.00764 0.33673 E">
                                      <p:cBhvr>
                                        <p:cTn id="61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22641 L -0.08872 0.22641 E">
                                      <p:cBhvr>
                                        <p:cTn id="63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0.11817 L -0.12812 0.19172 E">
                                      <p:cBhvr>
                                        <p:cTn id="65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33048 L -0.08593 0.28885 E">
                                      <p:cBhvr>
                                        <p:cTn id="76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94 0.28885 L 0.02413 0.33025 E">
                                      <p:cBhvr>
                                        <p:cTn id="79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017 -0.11286 L 0.08455 0.10754 E">
                                      <p:cBhvr>
                                        <p:cTn id="82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33048 L 0.0007 0.00555 E">
                                      <p:cBhvr>
                                        <p:cTn id="88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0555 L 0.00104 0.11148 E">
                                      <p:cBhvr>
                                        <p:cTn id="97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11148 L -0.29115 0.09552 E">
                                      <p:cBhvr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826 0.10107 L 0.00105 0.11147 E">
                                      <p:cBhvr>
                                        <p:cTn id="107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-0.14663 L 0.04531 -0.14894 E">
                                      <p:cBhvr>
                                        <p:cTn id="110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94 -0.20861 L -0.23837 -0.29256 E">
                                      <p:cBhvr>
                                        <p:cTn id="112" dur="5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11148 L -0.40921 0.11633 E">
                                      <p:cBhvr>
                                        <p:cTn id="121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921 0.0747 L 0.00034 0.09552 E">
                                      <p:cBhvr>
                                        <p:cTn id="124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43 -0.08117 L 0.07466 0.12882 E">
                                      <p:cBhvr>
                                        <p:cTn id="127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11148 L 0.00034 0.00093 E">
                                      <p:cBhvr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96762E-006 L -0.00035 0.54093 E">
                                      <p:cBhvr>
                                        <p:cTn id="139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0.54093 L -0.36319 0.54255 E">
                                      <p:cBhvr>
                                        <p:cTn id="145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32 0.54256 L 0.00034 0.53608 E">
                                      <p:cBhvr>
                                        <p:cTn id="148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379 0.2648 L -0.00903 0.19311 E">
                                      <p:cBhvr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71 0.16882 L -0.19896 0.23196 E">
                                      <p:cBhvr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5 L -0.44895 0.5 E">
                                      <p:cBhvr>
                                        <p:cTn id="162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223 0.52544 L 0.00034 0.50463 E">
                                      <p:cBhvr>
                                        <p:cTn id="165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71 0.20189 L 0.22639 -0.04972 E">
                                      <p:cBhvr>
                                        <p:cTn id="168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53 0.23334 L -0.04948 0.25439 E">
                                      <p:cBhvr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5 L 0.00816 0.00093 E">
                                      <p:cBhvr>
                                        <p:cTn id="173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1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25 L -0.19618 0.18802 E">
                                      <p:cBhvr>
                                        <p:cTn id="192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18 0.18802 L -0.01354 0.24168 E">
                                      <p:cBhvr>
                                        <p:cTn id="195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32 -0.25047 L -0.04149 -0.17716 E">
                                      <p:cBhvr>
                                        <p:cTn id="198" dur="5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455 -0.09205 L -0.12031 -0.19681 E">
                                      <p:cBhvr>
                                        <p:cTn id="201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2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25 L -0.2835 0.4704 E">
                                      <p:cBhvr>
                                        <p:cTn id="213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253 0.55296 L -0.00937 0.30088 E">
                                      <p:cBhvr>
                                        <p:cTn id="216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71 0.16882 L -0.0099 0.20051 E">
                                      <p:cBhvr>
                                        <p:cTn id="218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2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.25 L -0.00156 0.0074 E">
                                      <p:cBhvr>
                                        <p:cTn id="224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232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2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2 0.2981 L -0.30087 0.41651 E">
                                      <p:cBhvr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45 0.38483 L 0.01424 0.25925 E">
                                      <p:cBhvr>
                                        <p:cTn id="244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455 0.10754 L -0.04931 0.19149 E">
                                      <p:cBhvr>
                                        <p:cTn id="247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22641 L -0.20677 0.28955 E">
                                      <p:cBhvr>
                                        <p:cTn id="250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2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2 0.29833 L -0.39531 0.25925 E">
                                      <p:cBhvr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532 0.25925 L -0.00157 0.31984 E">
                                      <p:cBhvr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892 -0.06522 L 0.05902 -0.14894 E">
                                      <p:cBhvr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-0.14316 L -0.13594 -0.20883 E">
                                      <p:cBhvr>
                                        <p:cTn id="270" dur="5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">
                                      <p:cBhvr>
                                        <p:cTn id="2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3 0.29811 L -0.00157 0.0074 E">
                                      <p:cBhvr>
                                        <p:cTn id="276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96022E-007 L -0.00156 0.24861 E">
                                      <p:cBhvr>
                                        <p:cTn id="285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2 0.29833 L -0.39531 0.30111 E">
                                      <p:cBhvr>
                                        <p:cTn id="291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531 0.25925 L -0.00156 0.24884 E">
                                      <p:cBhvr>
                                        <p:cTn id="294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4 -0.14269 L -0.07292 -0.00416 E">
                                      <p:cBhvr>
                                        <p:cTn id="297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58834E-006 L -0.12813 0.25024 E">
                                      <p:cBhvr>
                                        <p:cTn id="300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3 0.29834 L -0.00973 0.54834 E">
                                      <p:cBhvr>
                                        <p:cTn id="309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2 0.54833 L -0.11181 0.54232 E">
                                      <p:cBhvr>
                                        <p:cTn id="312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181 0.54232 L -0.00139 0.53191 E">
                                      <p:cBhvr>
                                        <p:cTn id="315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142 0.23335 L 0.12379 0.2648 E">
                                      <p:cBhvr>
                                        <p:cTn id="318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2 0.54833 L 0.00625 0.0074 E">
                                      <p:cBhvr>
                                        <p:cTn id="321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96762E-006 L -0.00035 0.33117 E">
                                      <p:cBhvr>
                                        <p:cTn id="330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2 0.29833 L -0.22205 0.32216 E">
                                      <p:cBhvr>
                                        <p:cTn id="335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205 0.32216 L -0.0158 0.32355 E">
                                      <p:cBhvr>
                                        <p:cTn id="338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638 -0.00786 C 0.22361 -0.01341 0.22274 -0.01873 0.21944 -0.02335 C 0.21753 -0.03099 0.21354 -0.03677 0.20954 -0.04255 C 0.20781 -0.04995 0.20364 -0.05619 0.19965 -0.06174 C 0.19826 -0.06706 0.19739 -0.074 0.19548 -0.07886 C 0.19375 -0.08302 0.19097 -0.08626 0.18993 -0.09065 C 0.18819 -0.0969 0.18767 -0.10106 0.1842 -0.10569 C 0.18107 -0.11979 0.17777 -0.1339 0.1743 -0.14801 C 0.17291 -0.15379 0.17013 -0.16535 0.17013 -0.16512 C 0.17048 -0.17946 0.17066 -0.19357 0.17152 -0.20767 C 0.17187 -0.21299 0.17187 -0.21901 0.1743 -0.22294 C 0.17569 -0.22525 0.17829 -0.22525 0.18003 -0.22687 C 0.18524 -0.23103 0.18975 -0.23774 0.19548 -0.24005 C 0.20312 -0.24861 0.21111 -0.25555 0.21944 -0.26318 C 0.23072 -0.27359 0.22204 -0.26919 0.23072 -0.27266 C 0.23211 -0.27405 0.23697 -0.2789 0.23923 -0.27867 C 0.24114 -0.27821 0.25086 -0.27012 0.25329 -0.26896 C 0.26336 -0.26457 0.27257 -0.25971 0.28281 -0.25555 C 0.28298 -0.25555 0.29253 -0.25023 0.29409 -0.24976 C 0.29739 -0.24884 0.30069 -0.24861 0.30399 -0.24791 C 0.30625 -0.24745 0.30868 -0.24653 0.31093 -0.24606 C 0.32135 -0.23913 0.33229 -0.23358 0.3434 -0.22872 C 0.35208 -0.22062 0.34253 -0.22826 0.35607 -0.22294 C 0.35798 -0.22201 0.35989 -0.22016 0.3618 -0.21924 C 0.36545 -0.21739 0.36909 -0.21646 0.37291 -0.21507 C 0.39149 -0.20837 0.40972 -0.19796 0.42795 -0.19033 C 0.43159 -0.18524 0.43454 -0.1857 0.43906 -0.18247 C 0.44861 -0.17576 0.45816 -0.16951 0.46875 -0.1672 C 0.48316 -0.15772 0.49861 -0.15263 0.51388 -0.14616 C 0.51805 -0.14246 0.52031 -0.13853 0.52517 -0.13644 C 0.53524 -0.12604 0.54687 -0.11494 0.55763 -0.10569 C 0.56215 -0.10198 0.56753 -0.09875 0.5717 -0.09435 C 0.58038 -0.0851 0.58941 -0.07423 0.59982 -0.06938 C 0.60086 -0.06729 0.60121 -0.06475 0.60277 -0.06359 C 0.60538 -0.06128 0.62604 -0.04995 0.6309 -0.0481 C 0.63385 -0.04532 0.63611 -0.04116 0.63923 -0.03862 C 0.64305 -0.03538 0.6493 -0.03469 0.65329 -0.03284 C 0.67152 -0.02544 0.65486 -0.03284 0.66614 -0.0252 C 0.67135 -0.0215 0.6776 -0.02197 0.68298 -0.01942 C 0.70225 -0.00948 0.67777 -0.01988 0.69288 -0.01364 C 0.66996 0.00532 0.64079 0.01249 0.61527 0.0229 C 0.60017 0.02914 0.58524 0.03585 0.57031 0.04209 C 0.55191 0.04973 0.53402 0.06083 0.51527 0.06684 C 0.49826 0.08303 0.4743 0.08742 0.45468 0.09575 C 0.44809 0.10176 0.44288 0.10361 0.43628 0.10939 C 0.43437 0.11078 0.43281 0.11333 0.43072 0.11494 C 0.42847 0.11656 0.42604 0.11703 0.42378 0.11888 C 0.41857 0.12258 0.41354 0.12928 0.40816 0.13229 C 0.40347 0.13483 0.39635 0.13622 0.39132 0.13784 C 0.38645 0.14223 0.38298 0.14362 0.37725 0.1457 C 0.37013 0.15195 0.36197 0.15148 0.35468 0.15703 C 0.35364 0.15796 0.34392 0.16767 0.34062 0.17068 C 0.33107 0.18016 0.33854 0.16929 0.33072 0.17831 C 0.32361 0.18641 0.32986 0.18271 0.32222 0.18594 C 0.31805 0.19219 0.31267 0.19889 0.30677 0.20121 C 0.30538 0.20259 0.30416 0.20421 0.3026 0.20514 C 0.29982 0.20676 0.29652 0.20676 0.29409 0.20907 C 0.28559 0.2167 0.27829 0.22017 0.26875 0.22433 C 0.26319 0.23243 0.26788 0.22711 0.25468 0.23012 C 0.24791 0.23173 0.24149 0.23543 0.23489 0.23798 C 0.22829 0.22826 0.23454 0.23913 0.23072 0.21462 C 0.22968 0.20814 0.22621 0.19936 0.22361 0.19381 C 0.21371 0.13437 0.21944 0.05296 0.21944 -0.00046 E">
                                      <p:cBhvr>
                                        <p:cTn id="34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33117 L 0.00625 0.0074 E">
                                      <p:cBhvr>
                                        <p:cTn id="346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иц-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Объект 3" descr=""/>
          <p:cNvPicPr/>
          <p:nvPr/>
        </p:nvPicPr>
        <p:blipFill>
          <a:blip r:embed="rId1"/>
          <a:stretch/>
        </p:blipFill>
        <p:spPr>
          <a:xfrm>
            <a:off x="536400" y="1047600"/>
            <a:ext cx="8083800" cy="4707000"/>
          </a:xfrm>
          <a:prstGeom prst="rect">
            <a:avLst/>
          </a:prstGeom>
          <a:ln w="0">
            <a:noFill/>
          </a:ln>
        </p:spPr>
      </p:pic>
      <p:grpSp>
        <p:nvGrpSpPr>
          <p:cNvPr id="228" name="Управляющая кнопка: настраиваемая 4"/>
          <p:cNvGrpSpPr/>
          <p:nvPr/>
        </p:nvGrpSpPr>
        <p:grpSpPr>
          <a:xfrm>
            <a:off x="-115920" y="5675400"/>
            <a:ext cx="554040" cy="1255680"/>
            <a:chOff x="-115920" y="5675400"/>
            <a:chExt cx="554040" cy="1255680"/>
          </a:xfrm>
        </p:grpSpPr>
        <p:pic>
          <p:nvPicPr>
            <p:cNvPr id="229" name="Управляющая кнопка: настраиваемая 4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-115920" y="5675400"/>
              <a:ext cx="5540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0" y="5805360"/>
              <a:ext cx="32400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выхо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Управляющая кнопка: настраиваемая 5"/>
          <p:cNvGrpSpPr/>
          <p:nvPr/>
        </p:nvGrpSpPr>
        <p:grpSpPr>
          <a:xfrm>
            <a:off x="8710560" y="5675400"/>
            <a:ext cx="530280" cy="1255680"/>
            <a:chOff x="8710560" y="5675400"/>
            <a:chExt cx="530280" cy="1255680"/>
          </a:xfrm>
        </p:grpSpPr>
        <p:pic>
          <p:nvPicPr>
            <p:cNvPr id="232" name="Управляющая кнопка: настраиваемая 5" descr=""/>
            <p:cNvPicPr/>
            <p:nvPr/>
          </p:nvPicPr>
          <p:blipFill>
            <a:blip r:embed="rId3"/>
            <a:stretch/>
          </p:blipFill>
          <p:spPr>
            <a:xfrm>
              <a:off x="8710560" y="5675400"/>
              <a:ext cx="5302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820000" y="5805360"/>
              <a:ext cx="32400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Скругленный прямоугольник 6"/>
          <p:cNvGrpSpPr/>
          <p:nvPr/>
        </p:nvGrpSpPr>
        <p:grpSpPr>
          <a:xfrm>
            <a:off x="549360" y="512640"/>
            <a:ext cx="1700280" cy="614520"/>
            <a:chOff x="549360" y="512640"/>
            <a:chExt cx="1700280" cy="614520"/>
          </a:xfrm>
        </p:grpSpPr>
        <p:pic>
          <p:nvPicPr>
            <p:cNvPr id="235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549360" y="512640"/>
              <a:ext cx="170028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36480" y="573120"/>
              <a:ext cx="1535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1 команд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Скругленный прямоугольник 9"/>
          <p:cNvGrpSpPr/>
          <p:nvPr/>
        </p:nvGrpSpPr>
        <p:grpSpPr>
          <a:xfrm>
            <a:off x="1878120" y="1243080"/>
            <a:ext cx="6680160" cy="768240"/>
            <a:chOff x="1878120" y="1243080"/>
            <a:chExt cx="6680160" cy="768240"/>
          </a:xfrm>
        </p:grpSpPr>
        <p:pic>
          <p:nvPicPr>
            <p:cNvPr id="238" name="Скругленный 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1878120" y="1243080"/>
              <a:ext cx="66801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943280" y="1311120"/>
              <a:ext cx="6554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иродные ресурс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Прямоугольник 10"/>
          <p:cNvSpPr/>
          <p:nvPr/>
        </p:nvSpPr>
        <p:spPr>
          <a:xfrm>
            <a:off x="611280" y="1197000"/>
            <a:ext cx="122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Скругленный прямоугольник 11"/>
          <p:cNvGrpSpPr/>
          <p:nvPr/>
        </p:nvGrpSpPr>
        <p:grpSpPr>
          <a:xfrm>
            <a:off x="1878120" y="2176560"/>
            <a:ext cx="6680160" cy="768240"/>
            <a:chOff x="1878120" y="2176560"/>
            <a:chExt cx="6680160" cy="768240"/>
          </a:xfrm>
        </p:grpSpPr>
        <p:pic>
          <p:nvPicPr>
            <p:cNvPr id="242" name="Скругленный прямоугольник 11" descr=""/>
            <p:cNvPicPr/>
            <p:nvPr/>
          </p:nvPicPr>
          <p:blipFill>
            <a:blip r:embed="rId6"/>
            <a:stretch/>
          </p:blipFill>
          <p:spPr>
            <a:xfrm>
              <a:off x="1878120" y="2176560"/>
              <a:ext cx="66801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943280" y="2243160"/>
              <a:ext cx="6554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Географическая сред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Скругленный прямоугольник 13"/>
          <p:cNvGrpSpPr/>
          <p:nvPr/>
        </p:nvGrpSpPr>
        <p:grpSpPr>
          <a:xfrm>
            <a:off x="1878120" y="3041640"/>
            <a:ext cx="6680160" cy="768240"/>
            <a:chOff x="1878120" y="3041640"/>
            <a:chExt cx="6680160" cy="768240"/>
          </a:xfrm>
        </p:grpSpPr>
        <p:pic>
          <p:nvPicPr>
            <p:cNvPr id="245" name="Скругленный прямоугольник 13" descr=""/>
            <p:cNvPicPr/>
            <p:nvPr/>
          </p:nvPicPr>
          <p:blipFill>
            <a:blip r:embed="rId7"/>
            <a:stretch/>
          </p:blipFill>
          <p:spPr>
            <a:xfrm>
              <a:off x="1878120" y="3041640"/>
              <a:ext cx="66801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943280" y="3108240"/>
              <a:ext cx="6554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Рациональное природопользовани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7" name="Прямоугольник 14"/>
          <p:cNvSpPr/>
          <p:nvPr/>
        </p:nvSpPr>
        <p:spPr>
          <a:xfrm>
            <a:off x="611280" y="2994120"/>
            <a:ext cx="122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Скругленный прямоугольник 15"/>
          <p:cNvGrpSpPr/>
          <p:nvPr/>
        </p:nvGrpSpPr>
        <p:grpSpPr>
          <a:xfrm>
            <a:off x="1871640" y="3975120"/>
            <a:ext cx="6681960" cy="768240"/>
            <a:chOff x="1871640" y="3975120"/>
            <a:chExt cx="6681960" cy="768240"/>
          </a:xfrm>
        </p:grpSpPr>
        <p:pic>
          <p:nvPicPr>
            <p:cNvPr id="249" name="Скругленный прямоугольник 15" descr=""/>
            <p:cNvPicPr/>
            <p:nvPr/>
          </p:nvPicPr>
          <p:blipFill>
            <a:blip r:embed="rId8"/>
            <a:stretch/>
          </p:blipFill>
          <p:spPr>
            <a:xfrm>
              <a:off x="1871640" y="3975120"/>
              <a:ext cx="66819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936800" y="4040280"/>
              <a:ext cx="65548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арниковый эффек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Скругленный прямоугольник 17"/>
          <p:cNvGrpSpPr/>
          <p:nvPr/>
        </p:nvGrpSpPr>
        <p:grpSpPr>
          <a:xfrm>
            <a:off x="1871640" y="4906800"/>
            <a:ext cx="6681960" cy="774720"/>
            <a:chOff x="1871640" y="4906800"/>
            <a:chExt cx="6681960" cy="774720"/>
          </a:xfrm>
        </p:grpSpPr>
        <p:pic>
          <p:nvPicPr>
            <p:cNvPr id="252" name="Скругленный прямоугольник 17" descr=""/>
            <p:cNvPicPr/>
            <p:nvPr/>
          </p:nvPicPr>
          <p:blipFill>
            <a:blip r:embed="rId9"/>
            <a:stretch/>
          </p:blipFill>
          <p:spPr>
            <a:xfrm>
              <a:off x="1871640" y="4906800"/>
              <a:ext cx="66819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936800" y="4975200"/>
              <a:ext cx="65548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Рекреационные ресурс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Прямоугольник 18"/>
          <p:cNvSpPr/>
          <p:nvPr/>
        </p:nvSpPr>
        <p:spPr>
          <a:xfrm>
            <a:off x="606600" y="4861080"/>
            <a:ext cx="1223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63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36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375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Управляющая кнопка: настраиваемая 1"/>
          <p:cNvGrpSpPr/>
          <p:nvPr/>
        </p:nvGrpSpPr>
        <p:grpSpPr>
          <a:xfrm>
            <a:off x="8699400" y="5675400"/>
            <a:ext cx="560520" cy="1255680"/>
            <a:chOff x="8699400" y="5675400"/>
            <a:chExt cx="560520" cy="1255680"/>
          </a:xfrm>
        </p:grpSpPr>
        <p:pic>
          <p:nvPicPr>
            <p:cNvPr id="256" name="Управляющая кнопка: настраиваемая 1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8699400" y="5675400"/>
              <a:ext cx="5605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8820000" y="5805360"/>
              <a:ext cx="32400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выхо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8" name="Рисунок 2" descr=""/>
          <p:cNvPicPr/>
          <p:nvPr/>
        </p:nvPicPr>
        <p:blipFill>
          <a:blip r:embed="rId2"/>
          <a:stretch/>
        </p:blipFill>
        <p:spPr>
          <a:xfrm>
            <a:off x="3059280" y="3860640"/>
            <a:ext cx="2520720" cy="223236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оугольник 3" descr=""/>
          <p:cNvPicPr/>
          <p:nvPr/>
        </p:nvPicPr>
        <p:blipFill>
          <a:blip r:embed="rId3"/>
          <a:stretch/>
        </p:blipFill>
        <p:spPr>
          <a:xfrm>
            <a:off x="2571840" y="1158840"/>
            <a:ext cx="3975120" cy="1108080"/>
          </a:xfrm>
          <a:prstGeom prst="rect">
            <a:avLst/>
          </a:prstGeom>
          <a:ln w="0">
            <a:noFill/>
          </a:ln>
        </p:spPr>
      </p:pic>
      <p:pic>
        <p:nvPicPr>
          <p:cNvPr id="260" name="Прямоугольник 4" descr=""/>
          <p:cNvPicPr/>
          <p:nvPr/>
        </p:nvPicPr>
        <p:blipFill>
          <a:blip r:embed="rId4"/>
          <a:stretch/>
        </p:blipFill>
        <p:spPr>
          <a:xfrm>
            <a:off x="2548080" y="1195560"/>
            <a:ext cx="4114800" cy="11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d3f8"/>
            </a:gs>
            <a:gs pos="100000">
              <a:srgbClr val="2a49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50560" y="404640"/>
            <a:ext cx="8893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7280" indent="-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eece1"/>
                </a:solidFill>
                <a:uFillTx/>
                <a:latin typeface="Calibri"/>
              </a:rPr>
              <a:t>Образовательны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ce1"/>
                </a:solidFill>
                <a:latin typeface="Calibri"/>
              </a:rPr>
              <a:t>Создать условия для формирования и углубления знаний учащихся о природных ресурсах, на основе их различных классификац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ce1"/>
                </a:solidFill>
                <a:latin typeface="Calibri"/>
              </a:rPr>
              <a:t>Сформировать представление об ООПТ, их видах и знач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eece1"/>
                </a:solidFill>
                <a:uFillTx/>
                <a:latin typeface="Calibri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ce1"/>
                </a:solidFill>
                <a:latin typeface="Calibri"/>
              </a:rPr>
              <a:t>Создать условия для формирования мыслительных операций: анализ, сравнение, умозаклю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ce1"/>
                </a:solidFill>
                <a:latin typeface="Calibri"/>
              </a:rPr>
              <a:t>Создать условия для формирования навыков работы с компьютерными програм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eece1"/>
                </a:solidFill>
                <a:uFillTx/>
                <a:latin typeface="Calibri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ce1"/>
                </a:solidFill>
                <a:latin typeface="Calibri"/>
              </a:rPr>
              <a:t>Создать условия для формирования навыков самообразования на основе самостоятельных видов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ce1"/>
                </a:solidFill>
                <a:latin typeface="Calibri"/>
              </a:rPr>
              <a:t>Создать условия для формирования экологической культуры</a:t>
            </a: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d3f8"/>
            </a:gs>
            <a:gs pos="100000">
              <a:srgbClr val="25406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eece1"/>
                </a:solidFill>
                <a:latin typeface="Calibri"/>
              </a:rPr>
              <a:t>Люди давно знают, что разрушать природу невыгодно, ведь человек зависим от природы. Зачем они это делают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4061"/>
            </a:gs>
            <a:gs pos="100000">
              <a:srgbClr val="aed3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49" descr="C:\Documents and Settings\Admin\Мои документы\Мои рисунки\Для фона\ЛЕС.jpg"/>
          <p:cNvPicPr/>
          <p:nvPr/>
        </p:nvPicPr>
        <p:blipFill>
          <a:blip r:embed="rId1"/>
          <a:stretch/>
        </p:blipFill>
        <p:spPr>
          <a:xfrm>
            <a:off x="7165800" y="2209680"/>
            <a:ext cx="1978200" cy="271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44" descr="C:\Documents and Settings\Admin\Мои документы\Мои рисунки\Для фона\ДРЕВЕСИНА.jpg"/>
          <p:cNvPicPr/>
          <p:nvPr/>
        </p:nvPicPr>
        <p:blipFill>
          <a:blip r:embed="rId2"/>
          <a:stretch/>
        </p:blipFill>
        <p:spPr>
          <a:xfrm>
            <a:off x="0" y="4886280"/>
            <a:ext cx="2514600" cy="197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43" descr="C:\Documents and Settings\Admin\Мои документы\Мои рисунки\Для фона\ГРИБЫ.jpg"/>
          <p:cNvPicPr/>
          <p:nvPr/>
        </p:nvPicPr>
        <p:blipFill>
          <a:blip r:embed="rId3"/>
          <a:stretch/>
        </p:blipFill>
        <p:spPr>
          <a:xfrm>
            <a:off x="1371600" y="4343400"/>
            <a:ext cx="2819520" cy="2120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48" descr="C:\Documents and Settings\Admin\Мои документы\Мои рисунки\Для фона\КУРОРТ.jpg"/>
          <p:cNvPicPr/>
          <p:nvPr/>
        </p:nvPicPr>
        <p:blipFill>
          <a:blip r:embed="rId4"/>
          <a:stretch/>
        </p:blipFill>
        <p:spPr>
          <a:xfrm>
            <a:off x="3429000" y="5246640"/>
            <a:ext cx="2857680" cy="1611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53" descr="C:\Documents and Settings\Admin\Мои документы\Мои рисунки\Для фона\РЕКА1.jpg"/>
          <p:cNvPicPr/>
          <p:nvPr/>
        </p:nvPicPr>
        <p:blipFill>
          <a:blip r:embed="rId5"/>
          <a:stretch/>
        </p:blipFill>
        <p:spPr>
          <a:xfrm>
            <a:off x="6286680" y="5178600"/>
            <a:ext cx="2857320" cy="1679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55" descr="C:\Documents and Settings\Admin\Мои документы\Мои рисунки\Для фона\ЛЕДНИК.jpg"/>
          <p:cNvPicPr/>
          <p:nvPr/>
        </p:nvPicPr>
        <p:blipFill>
          <a:blip r:embed="rId6"/>
          <a:stretch/>
        </p:blipFill>
        <p:spPr>
          <a:xfrm>
            <a:off x="5943600" y="3886200"/>
            <a:ext cx="2629080" cy="1755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46" descr="C:\Documents and Settings\Admin\Мои документы\Мои рисунки\Для фона\ЖИВОТНЫЕ1.jpg"/>
          <p:cNvPicPr/>
          <p:nvPr/>
        </p:nvPicPr>
        <p:blipFill>
          <a:blip r:embed="rId7"/>
          <a:stretch/>
        </p:blipFill>
        <p:spPr>
          <a:xfrm>
            <a:off x="4038480" y="3124080"/>
            <a:ext cx="2857680" cy="2149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45" descr="C:\Documents and Settings\Admin\Мои документы\Мои рисунки\Для фона\ЖИВОТНЫЕ.jpg"/>
          <p:cNvPicPr/>
          <p:nvPr/>
        </p:nvPicPr>
        <p:blipFill>
          <a:blip r:embed="rId8"/>
          <a:stretch/>
        </p:blipFill>
        <p:spPr>
          <a:xfrm>
            <a:off x="0" y="838080"/>
            <a:ext cx="2476440" cy="1863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324000" y="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052" descr="C:\Documents and Settings\Admin\Мои документы\Мои рисунки\Для фона\РЕКА.jpg"/>
          <p:cNvPicPr/>
          <p:nvPr/>
        </p:nvPicPr>
        <p:blipFill>
          <a:blip r:embed="rId9"/>
          <a:stretch/>
        </p:blipFill>
        <p:spPr>
          <a:xfrm>
            <a:off x="152280" y="2590920"/>
            <a:ext cx="2857680" cy="2149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54" descr="C:\Documents and Settings\Admin\Мои документы\Мои рисунки\Для фона\ЯГОДЫ.jpg"/>
          <p:cNvPicPr/>
          <p:nvPr/>
        </p:nvPicPr>
        <p:blipFill>
          <a:blip r:embed="rId10"/>
          <a:stretch/>
        </p:blipFill>
        <p:spPr>
          <a:xfrm>
            <a:off x="1676520" y="2133720"/>
            <a:ext cx="2590560" cy="210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47" descr="C:\Documents and Settings\Admin\Мои документы\Мои рисунки\Для фона\ИСКОПАЕМЫЕ.jpg"/>
          <p:cNvPicPr/>
          <p:nvPr/>
        </p:nvPicPr>
        <p:blipFill>
          <a:blip r:embed="rId11"/>
          <a:stretch/>
        </p:blipFill>
        <p:spPr>
          <a:xfrm>
            <a:off x="6858000" y="762120"/>
            <a:ext cx="2286000" cy="191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50" descr="C:\Documents and Settings\Admin\Мои документы\Мои рисунки\Для фона\ПОЧВА.jpg"/>
          <p:cNvPicPr/>
          <p:nvPr/>
        </p:nvPicPr>
        <p:blipFill>
          <a:blip r:embed="rId12"/>
          <a:stretch/>
        </p:blipFill>
        <p:spPr>
          <a:xfrm>
            <a:off x="4038480" y="1295280"/>
            <a:ext cx="2857680" cy="18399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7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54061"/>
                </a:solidFill>
                <a:latin typeface="Calibri"/>
              </a:rPr>
              <a:t>Распределите природные ресурсы на группы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d3f8"/>
            </a:gs>
            <a:gs pos="100000">
              <a:srgbClr val="25406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Запасы природных ресурсов неодинаковы и распределены неравномерно</a:t>
            </a:r>
            <a:r>
              <a:rPr b="1" lang="ru-RU" sz="3200" spc="-1" strike="noStrike" u="sng">
                <a:solidFill>
                  <a:srgbClr val="eeece1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eece1"/>
                </a:solidFill>
                <a:uFillTx/>
                <a:latin typeface="Calibri"/>
              </a:rPr>
              <a:t>Ресурсообеспеченность 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– это соотношение между величиной природных ресурсов и размерами их использования(выражается количеством лет, на которые должно хватить данного ресурс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На показатель ресурсообеспеченности влияет не только величина запасов ресурсов, но и величина их добы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4061"/>
            </a:gs>
            <a:gs pos="100000">
              <a:srgbClr val="aed3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eece1"/>
                </a:solidFill>
                <a:latin typeface="Calibri"/>
              </a:rPr>
              <a:t>Загадки о минеральных ресурс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4061"/>
            </a:gs>
            <a:gs pos="100000">
              <a:srgbClr val="aed3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а кухне у нас он помощник отличный, он синим цветком расцветает от спичк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4061"/>
            </a:gs>
            <a:gs pos="100000">
              <a:srgbClr val="aed3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 воде родится, а воды боится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15" descr=""/>
          <p:cNvPicPr/>
          <p:nvPr/>
        </p:nvPicPr>
        <p:blipFill>
          <a:blip r:embed="rId2"/>
          <a:stretch/>
        </p:blipFill>
        <p:spPr>
          <a:xfrm>
            <a:off x="3352680" y="-96840"/>
            <a:ext cx="5877000" cy="19749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16" descr=""/>
          <p:cNvPicPr/>
          <p:nvPr/>
        </p:nvPicPr>
        <p:blipFill>
          <a:blip r:embed="rId3"/>
          <a:stretch/>
        </p:blipFill>
        <p:spPr>
          <a:xfrm>
            <a:off x="2955960" y="1755720"/>
            <a:ext cx="604836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0:42:52Z</dcterms:created>
  <dc:creator/>
  <dc:description/>
  <dc:language>en-US</dc:language>
  <cp:lastModifiedBy>1</cp:lastModifiedBy>
  <dcterms:modified xsi:type="dcterms:W3CDTF">2021-11-23T01:31:47Z</dcterms:modified>
  <cp:revision>84</cp:revision>
  <dc:subject/>
  <dc:title>Презентация PowerPoint</dc:title>
</cp:coreProperties>
</file>