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6858000" cy="963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2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Img"/>
          </p:nvPr>
        </p:nvSpPr>
        <p:spPr>
          <a:xfrm>
            <a:off x="1019160" y="721800"/>
            <a:ext cx="4819680" cy="361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3"/>
          </p:nvPr>
        </p:nvSpPr>
        <p:spPr>
          <a:xfrm>
            <a:off x="-360" y="9153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 type="sldNum" idx="24"/>
          </p:nvPr>
        </p:nvSpPr>
        <p:spPr>
          <a:xfrm>
            <a:off x="3884400" y="9153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75A0-079F-42FA-91BE-856EA757E9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64CA-01DA-41CB-BCB1-FD42440426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28F1-2793-4EA8-B9C3-1E44321B87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0CE8-D85B-40CE-9BF2-D35A9077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5B9-DBE4-414A-B2D5-5DC896B5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0B4-5CA6-46F3-8128-210A5310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B81-8335-49E2-ACB9-B80C2890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31CC-D2AF-4782-8E7E-E079DDD5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CBA5-1219-4DA0-9F57-CA45D588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44F6-F611-4E21-95CF-B8B3494C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7925-C4F4-40B0-9829-D6263673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996B-F477-49DD-91C4-0B363513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24FB-AF38-470F-A9C4-8CC629EE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6869-AC54-4DE9-B45F-B1824279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BD32-572C-4A32-9842-9AE4C855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7599-C7DF-4D72-872C-19700367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FC5F-2203-42F4-861B-5EDCD138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FD88-5BB6-466A-9CF9-276D1E7C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807F-C5D2-4A5F-8E84-EA0B0AFC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99D5-78F1-49D3-B335-6AF1BDE7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7159-0504-44FB-A165-D88CEDCA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EC182-A5A8-45D4-BDB4-101635FF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3EAFE-A5AD-426B-9C32-B11917B8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6B565-89A9-47EA-8E3C-B338E5DA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F44EE-8A6C-4C7C-96CD-8EA2D56A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2A7-B5F2-408B-9DD6-9E1A2FA6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43E68-0927-45F5-845F-B3564EF0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641CA-12E9-4A95-A273-35276BEC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F57A4-DA8D-49BB-9518-AAC0FC31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81E51-FE68-4334-8D0C-30BA0C0E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B66E9-C1E3-46F6-98D1-67D4B6DF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6ED82-B04A-41F8-922E-80883219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3AA79-ACB8-489B-A681-42FD96F5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E5DEA-4C5C-4D79-83CF-10FBFDBD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78592-0C6B-466C-A3F7-D757E5E0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374F1-C20A-4359-9FD9-C2D03E27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40B4-840E-428B-AB93-8DCBCF1F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D80A9-8A77-4AE2-AAB7-5FF2C244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E005E-E966-422F-B857-32B11CC5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E891E-B7CA-4D7B-9498-010AF635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56EA8-9FDC-445D-B5EB-1E8362C6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6CA06-D83B-4B63-92C3-2C094C0A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5BF30-4711-4DFD-A67D-D6FF9583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844D8-CA22-4BE5-A291-9FC5E123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4BD7A-6969-451E-BB0F-E447264E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67095-D270-49EC-B057-3E5C9529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33603-A3A9-44BA-ACCE-385B4547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5679-22E5-4A5C-8A98-39F3EBF3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15E6D-0B5F-4762-B0FD-79049B27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E8338-0833-4649-8EE0-93BF42E8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02F71-BAFD-43AC-BF3C-949DDCEB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33F15-40FB-4FB0-84F7-C0FBD131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85B9E-378D-4E0B-BB31-17CE3F05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671C3-5350-431E-9E36-865FB1E0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82E32-5565-47B7-93A2-1193622E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07693-B732-482D-ADC5-5B8FCCDB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10849-E577-4B4B-9FAC-7D95AAE5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A3FEE-B175-4A1D-9AE6-CE06DFF0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0A6-F9C0-4CE4-95FF-0F0D0639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A7D4E-5214-4B20-ACEE-F39DD33A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A282F-37E3-4690-B3CC-2D3353F9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7A787-FE30-4B60-BAD5-D97FC7F2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01888-8B98-461A-BCDF-DA280835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16CF1-4C2E-41A3-903E-588201EE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67B97-CE53-48A5-A5BE-8243BCD9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67827-AFA4-4208-9222-FE2BB87A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8B366-C887-48FE-8779-57746949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22295-685F-4DEA-8D35-F8DE1F69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7B5D8-4571-494F-B318-70AC97C7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5B9B-73F4-4B59-B54E-05EDCAFF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233BF-D5AA-4FC2-92EF-97467C3B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8BB6C-0DC6-4114-894D-96FE5D16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560D5-F559-478E-ADFF-18EA912E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01E75-6241-4624-8F13-255EB896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1E422-0B9B-4EDA-9A61-E49A8556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B3506-767D-4823-8EA2-FD3D8834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F516A-B13C-402A-A172-71536AF1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57153-0CF5-4F1E-9717-F40E1B34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64046-399D-43A1-A898-7169ABA3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AA063-97BC-457E-875C-4560FEFA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E09-2878-48E7-B917-BC9C3B1F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C106F-EC2F-47BC-A916-C0B812F0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26BF2-B4EB-41E1-9C5A-262C0F7C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22E80-B463-427A-AEE7-0BB879AB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BDD6E-EA50-4F9F-8954-D6BD4268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826F2-238D-46D0-B293-24DC60BB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056-0673-47D1-9626-CA326EE0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1BE5-B62D-409B-AB6E-6302E002C1A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B328-56E2-4001-8BD5-690CC21459EA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E384-89DC-4559-92CF-6CE094B6BC2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Прямая соединительная линия 6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12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8FFC-E2B5-4534-A858-23ECE97095F6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Прямая соединительная линия 6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7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DACA-79E2-4228-BB88-4751247F5DB2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Прямая соединительная линия 6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E17B-556D-4312-957D-D3BF291C0D7D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Прямая соединительная линия 6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5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F163-C410-4ADF-B852-B74582EB6B7E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4" descr=""/>
          <p:cNvPicPr/>
          <p:nvPr/>
        </p:nvPicPr>
        <p:blipFill>
          <a:blip r:embed="rId1"/>
          <a:stretch/>
        </p:blipFill>
        <p:spPr>
          <a:xfrm>
            <a:off x="-42840" y="1378080"/>
            <a:ext cx="8193240" cy="4967280"/>
          </a:xfrm>
          <a:prstGeom prst="rect">
            <a:avLst/>
          </a:prstGeom>
          <a:ln w="0">
            <a:noFill/>
          </a:ln>
        </p:spPr>
      </p:pic>
      <p:sp>
        <p:nvSpPr>
          <p:cNvPr id="310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5347-C153-4576-B943-8B2F4932FEDD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2124360" y="30492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C095-BDD3-496A-8D52-CB9BB7B390A7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41" name="Group 6"/>
          <p:cNvGrpSpPr/>
          <p:nvPr/>
        </p:nvGrpSpPr>
        <p:grpSpPr>
          <a:xfrm>
            <a:off x="457200" y="457200"/>
            <a:ext cx="8305560" cy="6113520"/>
            <a:chOff x="457200" y="457200"/>
            <a:chExt cx="8305560" cy="6113520"/>
          </a:xfrm>
        </p:grpSpPr>
        <p:pic>
          <p:nvPicPr>
            <p:cNvPr id="342" name="Picture 4" descr="Мы разные но мы помогаем друг другу"/>
            <p:cNvPicPr/>
            <p:nvPr/>
          </p:nvPicPr>
          <p:blipFill>
            <a:blip r:embed="rId1"/>
            <a:stretch/>
          </p:blipFill>
          <p:spPr>
            <a:xfrm>
              <a:off x="457200" y="457200"/>
              <a:ext cx="8305560" cy="543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43" name="Text Box 5"/>
            <p:cNvSpPr/>
            <p:nvPr/>
          </p:nvSpPr>
          <p:spPr>
            <a:xfrm>
              <a:off x="615240" y="5989320"/>
              <a:ext cx="798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Мы разные, но мы помогаем друг другу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A96D-2410-4C08-B360-530113157C1C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45" name="Picture 4" descr="Ему нужна твоя дружба"/>
          <p:cNvPicPr/>
          <p:nvPr/>
        </p:nvPicPr>
        <p:blipFill>
          <a:blip r:embed="rId1"/>
          <a:stretch/>
        </p:blipFill>
        <p:spPr>
          <a:xfrm>
            <a:off x="304920" y="533520"/>
            <a:ext cx="4282920" cy="556236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8"/>
          <p:cNvSpPr/>
          <p:nvPr/>
        </p:nvSpPr>
        <p:spPr>
          <a:xfrm>
            <a:off x="4572000" y="838080"/>
            <a:ext cx="434340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Ты здоров и силен, а рядом есть больные, инвалиды…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Им не нужна твоя жалость, им нужна твоя дружба, помощь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Сделав добро, человек сам становится лучше, чище, светлее. Если мы будем внимательны к любому человеку, с кем мы общаемся, это и будет проявление доброты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AECF-E690-419A-9444-FB7C804D2924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7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33cc"/>
                </a:solidFill>
                <a:latin typeface="Times New Roman"/>
              </a:rPr>
              <a:t>Человек должен стремиться к тому, чтобы изменить себя в лучшую сторону, жить в мире с собой и миром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7504-2BF0-4BDB-9E9C-D8E4447C1CBE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B97D-D75F-4026-A6BB-0CD18B6C9FD3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52" name="Group 7"/>
          <p:cNvGrpSpPr/>
          <p:nvPr/>
        </p:nvGrpSpPr>
        <p:grpSpPr>
          <a:xfrm>
            <a:off x="609480" y="228600"/>
            <a:ext cx="7772040" cy="6392880"/>
            <a:chOff x="609480" y="228600"/>
            <a:chExt cx="7772040" cy="6392880"/>
          </a:xfrm>
        </p:grpSpPr>
        <p:pic>
          <p:nvPicPr>
            <p:cNvPr id="353" name="Picture 4" descr="Цените людей"/>
            <p:cNvPicPr/>
            <p:nvPr/>
          </p:nvPicPr>
          <p:blipFill>
            <a:blip r:embed="rId1"/>
            <a:srcRect l="6890" t="4215" r="6890" b="4215"/>
            <a:stretch/>
          </p:blipFill>
          <p:spPr>
            <a:xfrm>
              <a:off x="2195280" y="228600"/>
              <a:ext cx="4831200" cy="589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5"/>
            <p:cNvSpPr/>
            <p:nvPr/>
          </p:nvSpPr>
          <p:spPr>
            <a:xfrm>
              <a:off x="609480" y="5978880"/>
              <a:ext cx="777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Times New Roman"/>
                </a:rPr>
                <a:t>Не оценивайте людей, а цените их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B5CA-F062-40F1-80AA-E1FFB0E8F4CC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762120" y="1219320"/>
            <a:ext cx="7391160" cy="5486400"/>
          </a:xfrm>
          <a:custGeom>
            <a:avLst/>
            <a:gdLst>
              <a:gd name="textAreaLeft" fmla="*/ 1723320 w 7391160"/>
              <a:gd name="textAreaRight" fmla="*/ 5665680 w 7391160"/>
              <a:gd name="textAreaTop" fmla="*/ 578160 h 5486400"/>
              <a:gd name="textAreaBottom" fmla="*/ 3474000 h 5486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WordArt 6"/>
          <p:cNvSpPr txBox="1"/>
          <p:nvPr/>
        </p:nvSpPr>
        <p:spPr>
          <a:xfrm rot="20383200">
            <a:off x="1142640" y="1752480"/>
            <a:ext cx="1986120" cy="90720"/>
          </a:xfrm>
          <a:prstGeom prst="rect">
            <a:avLst/>
          </a:prstGeom>
        </p:spPr>
        <p:txBody>
          <a:bodyPr wrap="none" fromWordArt="1" lIns="90000" rIns="90000" tIns="44280" bIns="44280" anchor="t" anchorCtr="1">
            <a:prstTxWarp prst="textArchUp">
              <a:avLst>
                <a:gd name="adj" fmla="val 10800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Times New Roman"/>
              </a:rPr>
              <a:t>Дружб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Times New Roman"/>
              <a:ea typeface="Times New Roman"/>
            </a:endParaRPr>
          </a:p>
        </p:txBody>
      </p:sp>
      <p:sp>
        <p:nvSpPr>
          <p:cNvPr id="358" name="WordArt 7"/>
          <p:cNvSpPr txBox="1"/>
          <p:nvPr/>
        </p:nvSpPr>
        <p:spPr>
          <a:xfrm rot="712200">
            <a:off x="5334120" y="1752480"/>
            <a:ext cx="2028600" cy="239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Times New Roman"/>
              </a:rPr>
              <a:t>Добр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Times New Roman"/>
              <a:ea typeface="Times New Roman"/>
            </a:endParaRPr>
          </a:p>
        </p:txBody>
      </p:sp>
      <p:sp>
        <p:nvSpPr>
          <p:cNvPr id="359" name="WordArt 8"/>
          <p:cNvSpPr txBox="1"/>
          <p:nvPr/>
        </p:nvSpPr>
        <p:spPr>
          <a:xfrm>
            <a:off x="2895480" y="3581280"/>
            <a:ext cx="31147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ерпимост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360" name="WordArt 9"/>
          <p:cNvSpPr txBox="1"/>
          <p:nvPr/>
        </p:nvSpPr>
        <p:spPr>
          <a:xfrm>
            <a:off x="3429000" y="2514600"/>
            <a:ext cx="15336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Любов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361" name="WordArt 10"/>
          <p:cNvSpPr txBox="1"/>
          <p:nvPr/>
        </p:nvSpPr>
        <p:spPr>
          <a:xfrm rot="20013600">
            <a:off x="1523880" y="2514240"/>
            <a:ext cx="2303640" cy="41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Неж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362" name="WordArt 11"/>
          <p:cNvSpPr txBox="1"/>
          <p:nvPr/>
        </p:nvSpPr>
        <p:spPr>
          <a:xfrm rot="1171200">
            <a:off x="4952880" y="2514240"/>
            <a:ext cx="2432160" cy="912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Милосерд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sp>
        <p:nvSpPr>
          <p:cNvPr id="363" name="WordArt 12"/>
          <p:cNvSpPr txBox="1"/>
          <p:nvPr/>
        </p:nvSpPr>
        <p:spPr>
          <a:xfrm rot="19956600">
            <a:off x="4267080" y="4419720"/>
            <a:ext cx="2324160" cy="46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32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Душев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364" name="WordArt 13"/>
          <p:cNvSpPr txBox="1"/>
          <p:nvPr/>
        </p:nvSpPr>
        <p:spPr>
          <a:xfrm rot="1643400">
            <a:off x="2743200" y="4952880"/>
            <a:ext cx="2438280" cy="4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14407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Искрен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380880" y="152280"/>
            <a:ext cx="8229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Пусть твое сердце наполняют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1000" fill="hold"/>
                                        <p:tgtEl>
                                          <p:spTgt spid="35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1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5" dur="1000" fill="hold"/>
                                        <p:tgtEl>
                                          <p:spTgt spid="36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1" dur="1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1000" fill="hold"/>
                                        <p:tgtEl>
                                          <p:spTgt spid="36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3" dur="1000" fill="hold"/>
                                        <p:tgtEl>
                                          <p:spTgt spid="36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9" dur="1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" dur="3000" fill="hold"/>
                                        <p:tgtEl>
                                          <p:spTgt spid="3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7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93800" indent="-387360">
              <a:spcBef>
                <a:spcPts val="1349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страдан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чувств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действ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знан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единен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5280-4FF2-4C7C-BD28-2E7CFBF71DCB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609480" y="304920"/>
            <a:ext cx="815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28600" y="380880"/>
            <a:ext cx="8686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Пусть тебе всегда сопутствуют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9F15-02D3-43FC-8515-186DBCA69B96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1" name="Group 7"/>
          <p:cNvGrpSpPr/>
          <p:nvPr/>
        </p:nvGrpSpPr>
        <p:grpSpPr>
          <a:xfrm>
            <a:off x="762120" y="0"/>
            <a:ext cx="7543440" cy="6766560"/>
            <a:chOff x="762120" y="0"/>
            <a:chExt cx="7543440" cy="6766560"/>
          </a:xfrm>
        </p:grpSpPr>
        <p:pic>
          <p:nvPicPr>
            <p:cNvPr id="372" name="Picture 4" descr="Ты нам нужен"/>
            <p:cNvPicPr/>
            <p:nvPr/>
          </p:nvPicPr>
          <p:blipFill>
            <a:blip r:embed="rId1"/>
            <a:stretch/>
          </p:blipFill>
          <p:spPr>
            <a:xfrm>
              <a:off x="2062440" y="0"/>
              <a:ext cx="4800960" cy="60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Text Box 5"/>
            <p:cNvSpPr/>
            <p:nvPr/>
          </p:nvSpPr>
          <p:spPr>
            <a:xfrm>
              <a:off x="762120" y="6123960"/>
              <a:ext cx="754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Times New Roman"/>
                </a:rPr>
                <a:t>Мы очень разные, но мы вместе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900" spc="-1" strike="noStrike">
                <a:solidFill>
                  <a:srgbClr val="cc3300"/>
                </a:solidFill>
                <a:latin typeface="Times New Roman"/>
              </a:rPr>
              <a:t>Что же такое толерантность? </a:t>
            </a:r>
            <a:endParaRPr b="0" lang="en-US" sz="7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6EF9-A5DE-4575-8214-90DC20E3A953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0000"/>
                </a:solidFill>
                <a:latin typeface="Times New Roman"/>
              </a:rPr>
              <a:t>В русском языке “толерантность” означает “способность, умение терпеть, мириться с чужим мнением, быть снисходительным к поступкам других людей, мягко относиться к их промахам, ошибкам”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064E-47A9-4DDF-BAE4-44F198296B3E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6480" y="-298440"/>
            <a:ext cx="8564400" cy="23097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53316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Все мы люд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Живем на одной планет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Живем в одном городе, республик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Учимся в одной школе, в одном класс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Живем на одних улицах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Носим одну одежду, очк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Занимаемся одним делом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Похожи глаза, волос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C13B-2AD1-4BCA-8DF2-A1BB74C24E7A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30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Diagram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379" name="Номер слайда 5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A63F-32B3-4B23-9222-47D2A5327D92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0" name="Group 86"/>
          <p:cNvGrpSpPr/>
          <p:nvPr/>
        </p:nvGrpSpPr>
        <p:grpSpPr>
          <a:xfrm>
            <a:off x="609480" y="913680"/>
            <a:ext cx="8001000" cy="5942520"/>
            <a:chOff x="609480" y="913680"/>
            <a:chExt cx="8001000" cy="5942520"/>
          </a:xfrm>
        </p:grpSpPr>
        <p:sp>
          <p:nvSpPr>
            <p:cNvPr id="381" name="AutoShape 72"/>
            <p:cNvSpPr/>
            <p:nvPr/>
          </p:nvSpPr>
          <p:spPr>
            <a:xfrm>
              <a:off x="609480" y="1076760"/>
              <a:ext cx="7391160" cy="561816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2" name="Text Box 74"/>
            <p:cNvSpPr/>
            <p:nvPr/>
          </p:nvSpPr>
          <p:spPr>
            <a:xfrm>
              <a:off x="2742840" y="3275280"/>
              <a:ext cx="373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33cc"/>
                  </a:solidFill>
                  <a:latin typeface="Times New Roman"/>
                </a:rPr>
                <a:t>Толерантность</a:t>
              </a:r>
              <a:endParaRPr b="0" lang="en-US" sz="4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Text Box 75"/>
            <p:cNvSpPr/>
            <p:nvPr/>
          </p:nvSpPr>
          <p:spPr>
            <a:xfrm>
              <a:off x="4038480" y="1076760"/>
              <a:ext cx="11430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4" name="Text Box 77"/>
            <p:cNvSpPr/>
            <p:nvPr/>
          </p:nvSpPr>
          <p:spPr>
            <a:xfrm flipV="1" rot="5400000">
              <a:off x="3550320" y="1477440"/>
              <a:ext cx="146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Прощен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5" name="Text Box 78"/>
            <p:cNvSpPr/>
            <p:nvPr/>
          </p:nvSpPr>
          <p:spPr>
            <a:xfrm rot="5400000">
              <a:off x="3548520" y="5954040"/>
              <a:ext cx="146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Милосерд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6" name="Text Box 79"/>
            <p:cNvSpPr/>
            <p:nvPr/>
          </p:nvSpPr>
          <p:spPr>
            <a:xfrm>
              <a:off x="914040" y="36828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страдан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7" name="Text Box 80"/>
            <p:cNvSpPr/>
            <p:nvPr/>
          </p:nvSpPr>
          <p:spPr>
            <a:xfrm rot="2105400">
              <a:off x="1602360" y="221688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Терпимость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 rot="19110600">
              <a:off x="5554800" y="2136600"/>
              <a:ext cx="15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чувств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9" name="Text Box 82"/>
            <p:cNvSpPr/>
            <p:nvPr/>
          </p:nvSpPr>
          <p:spPr>
            <a:xfrm rot="2068800">
              <a:off x="5725080" y="531216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Уважен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0" name="Text Box 83"/>
            <p:cNvSpPr/>
            <p:nvPr/>
          </p:nvSpPr>
          <p:spPr>
            <a:xfrm rot="19128600">
              <a:off x="1278000" y="523260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действ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Text Box 84"/>
            <p:cNvSpPr/>
            <p:nvPr/>
          </p:nvSpPr>
          <p:spPr>
            <a:xfrm>
              <a:off x="6400440" y="36010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Взаимопониман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92" name="Text Box 85"/>
          <p:cNvSpPr/>
          <p:nvPr/>
        </p:nvSpPr>
        <p:spPr>
          <a:xfrm>
            <a:off x="609480" y="1522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Толерантность это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158760" y="-212760"/>
            <a:ext cx="8813880" cy="1908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Уважай собеседн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Старайся понять то, о чем говорят други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Отстаивай свое мнение тактичн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Ищи лучшие аргумент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Будь справедливым, готовым признать правоту другог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Стремись учитывать интересы других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DB53-81E2-4DE1-B43D-10C286BCB2E1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80880" y="1519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Наша школа, каждый класс и группа –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это маленькая семья.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И хочется,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чтобы в нашей семье всегда царили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доброта, уважение,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взаимопонимание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0D7F-0718-4060-B1E3-67726E550E30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4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4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1146240" y="2060640"/>
            <a:ext cx="6211800" cy="3468600"/>
          </a:xfrm>
          <a:prstGeom prst="rect">
            <a:avLst/>
          </a:prstGeom>
          <a:ln w="0">
            <a:noFill/>
          </a:ln>
        </p:spPr>
      </p:pic>
      <p:sp>
        <p:nvSpPr>
          <p:cNvPr id="39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A146-BB1E-4EA8-8B34-9F064F069B5B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6480" y="6480"/>
            <a:ext cx="8643960" cy="18158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Рос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Цвет волос и глаз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Одеж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Зн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Национальн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Фигур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Возраст (старые и молодые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Характе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Культур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9BBF-E20F-427F-9DA4-DA6227C4D484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0880" y="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33cc"/>
                </a:solidFill>
                <a:latin typeface="Times New Roman"/>
              </a:rPr>
              <a:t>Различия дополняют и обогащают общество. 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33cc"/>
                </a:solidFill>
                <a:latin typeface="Times New Roman"/>
              </a:rPr>
              <a:t>Чтобы жить в мире, людям надо научиться жить, решая проблемы и задачи на основе </a:t>
            </a:r>
            <a:r>
              <a:rPr b="1" lang="ru-RU" sz="8000" spc="-1" strike="noStrike">
                <a:solidFill>
                  <a:srgbClr val="0033cc"/>
                </a:solidFill>
                <a:latin typeface="Times New Roman"/>
              </a:rPr>
              <a:t>сотрудничества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170B-7561-4D1A-8210-733D1F2A6CC7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1FFC-E720-43BE-91EB-A91C9585C267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21" name="Picture 4" descr="Не толерантно!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343400" y="457200"/>
            <a:ext cx="4513320" cy="54864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0"/>
          <p:cNvSpPr/>
          <p:nvPr/>
        </p:nvSpPr>
        <p:spPr>
          <a:xfrm>
            <a:off x="533520" y="228600"/>
            <a:ext cx="358128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Мы разные, но должны жить в мире.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е толерантно доказывать свое право на разность подобным образо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304920" y="0"/>
            <a:ext cx="8485200" cy="17654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1066680" y="167616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4500" spc="-1" strike="noStrike">
                <a:solidFill>
                  <a:srgbClr val="0033cc"/>
                </a:solidFill>
                <a:latin typeface="Times New Roman"/>
              </a:rPr>
              <a:t>взаимопонимание, взаимоуважение, ответственность, доброжелательность, сдержанность, 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4500" spc="-1" strike="noStrike">
                <a:solidFill>
                  <a:srgbClr val="0033cc"/>
                </a:solidFill>
                <a:latin typeface="Times New Roman"/>
              </a:rPr>
              <a:t>уступчивость, 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ru-RU" sz="4500" spc="-1" strike="noStrike">
                <a:solidFill>
                  <a:srgbClr val="0033cc"/>
                </a:solidFill>
                <a:latin typeface="Times New Roman"/>
              </a:rPr>
              <a:t>терпимость… 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84B6-5C92-4B6B-925C-3FA7E302AA5D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613F-5164-4D3A-8B77-1513F63E7633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27" name="Group 8"/>
          <p:cNvGrpSpPr/>
          <p:nvPr/>
        </p:nvGrpSpPr>
        <p:grpSpPr>
          <a:xfrm>
            <a:off x="0" y="1295280"/>
            <a:ext cx="4038120" cy="4920120"/>
            <a:chOff x="0" y="1295280"/>
            <a:chExt cx="4038120" cy="4920120"/>
          </a:xfrm>
        </p:grpSpPr>
        <p:pic>
          <p:nvPicPr>
            <p:cNvPr id="328" name="Picture 4" descr="Изображение 016"/>
            <p:cNvPicPr/>
            <p:nvPr/>
          </p:nvPicPr>
          <p:blipFill>
            <a:blip r:embed="rId1"/>
            <a:stretch/>
          </p:blipFill>
          <p:spPr>
            <a:xfrm>
              <a:off x="329400" y="1295280"/>
              <a:ext cx="3708720" cy="32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5"/>
            <p:cNvSpPr/>
            <p:nvPr/>
          </p:nvSpPr>
          <p:spPr>
            <a:xfrm>
              <a:off x="0" y="4659120"/>
              <a:ext cx="4021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Светлое пятно – добро, темное пятно - зло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30" name="Text Box 7"/>
          <p:cNvSpPr/>
          <p:nvPr/>
        </p:nvSpPr>
        <p:spPr>
          <a:xfrm>
            <a:off x="304920" y="1522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 каждом из нас есть светлая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 темная сторон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31" name="Group 7"/>
          <p:cNvGrpSpPr/>
          <p:nvPr/>
        </p:nvGrpSpPr>
        <p:grpSpPr>
          <a:xfrm>
            <a:off x="4952880" y="1295280"/>
            <a:ext cx="3921120" cy="4867200"/>
            <a:chOff x="4952880" y="1295280"/>
            <a:chExt cx="3921120" cy="4867200"/>
          </a:xfrm>
        </p:grpSpPr>
        <p:pic>
          <p:nvPicPr>
            <p:cNvPr id="332" name="Picture 4" descr="Изображение 017"/>
            <p:cNvPicPr/>
            <p:nvPr/>
          </p:nvPicPr>
          <p:blipFill>
            <a:blip r:embed="rId2"/>
            <a:stretch/>
          </p:blipFill>
          <p:spPr>
            <a:xfrm>
              <a:off x="4952880" y="1295280"/>
              <a:ext cx="3921120" cy="32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5"/>
            <p:cNvSpPr/>
            <p:nvPr/>
          </p:nvSpPr>
          <p:spPr>
            <a:xfrm>
              <a:off x="5073480" y="4606200"/>
              <a:ext cx="37033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Один сажает цветы, другой - их рвет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0033cc"/>
                </a:solidFill>
                <a:latin typeface="Times New Roman"/>
              </a:rPr>
              <a:t>«Чтобы поверить  в добро, надо начать его делать».</a:t>
            </a:r>
            <a:endParaRPr b="0" lang="en-US" sz="7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0033cc"/>
                </a:solidFill>
                <a:latin typeface="Times New Roman"/>
              </a:rPr>
              <a:t>Л. Толстой</a:t>
            </a:r>
            <a:endParaRPr b="0" lang="en-US" sz="7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E988-695B-4D33-A47B-61396A6A3024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20E5-B396-4804-B1DE-8FEBD6452726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37" name="Group 6"/>
          <p:cNvGrpSpPr/>
          <p:nvPr/>
        </p:nvGrpSpPr>
        <p:grpSpPr>
          <a:xfrm>
            <a:off x="762120" y="304920"/>
            <a:ext cx="7467480" cy="6418080"/>
            <a:chOff x="762120" y="304920"/>
            <a:chExt cx="7467480" cy="6418080"/>
          </a:xfrm>
        </p:grpSpPr>
        <p:pic>
          <p:nvPicPr>
            <p:cNvPr id="338" name="Picture 4" descr="Изображение 015"/>
            <p:cNvPicPr/>
            <p:nvPr/>
          </p:nvPicPr>
          <p:blipFill>
            <a:blip r:embed="rId1"/>
            <a:stretch/>
          </p:blipFill>
          <p:spPr>
            <a:xfrm>
              <a:off x="838080" y="304920"/>
              <a:ext cx="7315200" cy="50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5"/>
            <p:cNvSpPr/>
            <p:nvPr/>
          </p:nvSpPr>
          <p:spPr>
            <a:xfrm>
              <a:off x="762120" y="5410080"/>
              <a:ext cx="7467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33cc"/>
                  </a:solidFill>
                  <a:latin typeface="Times New Roman"/>
                </a:rPr>
                <a:t>Внимание к старшим – проявление доброты</a:t>
              </a:r>
              <a:endParaRPr b="0" lang="en-US" sz="4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монова Н.И.</dc:creator>
  <dc:description/>
  <dc:language>en-US</dc:language>
  <cp:lastModifiedBy>USER</cp:lastModifiedBy>
  <dcterms:modified xsi:type="dcterms:W3CDTF">2021-11-12T08:19:39Z</dcterms:modified>
  <cp:revision>362</cp:revision>
  <dc:subject>Толерантность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