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13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6858000" cy="9637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0" y="0"/>
            <a:ext cx="6858000" cy="963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dt" idx="22"/>
          </p:nvPr>
        </p:nvSpPr>
        <p:spPr>
          <a:xfrm>
            <a:off x="388440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sldImg"/>
          </p:nvPr>
        </p:nvSpPr>
        <p:spPr>
          <a:xfrm>
            <a:off x="1019160" y="721800"/>
            <a:ext cx="4819680" cy="361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body"/>
          </p:nvPr>
        </p:nvSpPr>
        <p:spPr>
          <a:xfrm>
            <a:off x="685800" y="4578120"/>
            <a:ext cx="5486400" cy="43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ftr" idx="23"/>
          </p:nvPr>
        </p:nvSpPr>
        <p:spPr>
          <a:xfrm>
            <a:off x="-360" y="915300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 type="sldNum" idx="24"/>
          </p:nvPr>
        </p:nvSpPr>
        <p:spPr>
          <a:xfrm>
            <a:off x="3884400" y="915300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D4D75-A510-4778-897B-C456B7F6E4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9153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358A7-13D4-4389-B494-8D11872C74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019160" y="722160"/>
            <a:ext cx="4819680" cy="361476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578120"/>
            <a:ext cx="548640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9153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475A0-7C9F-4E71-9BBF-B174CBEEAF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019160" y="722160"/>
            <a:ext cx="4819680" cy="361476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578120"/>
            <a:ext cx="548640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EDA8-F2E0-49D8-B713-B7B8DA8FB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4236-EDC6-4CDC-9249-53859A474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0F25-6F57-4400-AF03-BB5FF49A8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C987-56AB-412F-AA11-1B7893FDA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B01E0-667F-40C7-9990-2A584FF02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18217-6F87-4023-B850-D0B147FC0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F0374-B0E1-461B-92E6-3940565B2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F1F16-FF89-4876-B3AE-E47B235A2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2F55E-3439-45E9-AF60-C2C4CAE9D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D05FB-469F-4A0E-A2C0-72BEAF60A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978CD-1F97-4AD3-BC9A-43270979E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2594-B258-4ACA-A7E8-E9C85ADAC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EC83C-00D6-487E-AEFC-950E692B8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E8749-947D-4C63-A29B-C2970FAC9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2CC95-784B-4778-B9ED-DD2FEA447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E1809-D950-4E75-A5FE-58086644D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076F8-113C-4CDB-922F-ED4BB0F64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30FD7-8C17-4FBB-9BCF-AA259C4B7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19118-2B61-4212-9F70-82D589B28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D7C92-60C8-490C-8D79-1483A9DB3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95C89-D16B-482E-BC7F-3F16F4965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71432-E89E-4D98-B376-A52707568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8D4E-8DA4-4E0B-8138-2BCB3FC5B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9533A-DBC0-4E17-AD4E-C75AA87C0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C795E-FB09-41C7-8D51-9585BFB2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6FEF8-FCE6-4349-81A7-A5F520A34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FAA5D-7418-443E-8A4F-2CEDED678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A2463-3DC6-4181-AB80-AD130FCAD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CF2AB-8549-466C-8D69-622392664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CD6C9-FA8F-4DDD-B5D8-DD7531659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C4D18-5DFB-4A17-B4FA-8945B1BC1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6FB19-AAF3-4528-8DEC-FD50F67DC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1D4FA-6A1D-45A5-B1F9-29149BE24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C71E-99A7-452C-83A5-9B4A8D860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6F666-48DD-42DC-B5DB-81A04B79D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872D5-A890-4482-9743-599F948D3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785BF-8802-4B1B-9243-F7F8FE309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AE85B-0C16-48F4-8F65-83563EC8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D19EF-57A5-44AC-A4D6-78955359A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39F40-0EF5-4851-AB2D-75036048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E0891-CBEC-4864-B2A6-C5790594D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B7F65-3427-45A6-9580-CE72A21BC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CD7F6-5227-4287-873D-F50CDCFDF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949989-05F3-495C-8C0F-3FE9B9257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E505-857B-411B-9DA9-9BAA4B45D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11A94-EC1C-4D87-985E-BF8081CE0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623F62-3577-4636-ADA0-C83277781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716D5-F903-4D61-B27D-DAC17DF36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64DC5-8CF7-4C59-9FB1-BAEE9DD40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66C109-D54D-4179-B8B8-4B8F43EA6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C85063-BB10-48E9-86B6-523CB2D6F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22652A-FAB2-45B3-B8EE-BF50D646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DBCB9-1E75-4A19-8CC3-38FB9BD26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AAAB0-F3CB-4544-853F-B0794C538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30BD2-DE90-4A4B-93F5-26450566E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1637-9F1E-4F72-B716-9680E3ABE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36C60-3D88-4635-9EEE-103FF2577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748C33-BEF3-4183-8E41-6C8213B94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406680-8625-4D7C-953C-9BB0C351A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D5338B-5792-4AF4-82B9-0C1534BFE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9199FB-E214-4ED9-B40D-164D54F29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29C598-7EFA-47F6-834E-BB25EC46D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96865-12A3-41E3-BDD8-7F011B072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88A3D2-AFC6-463D-B303-D10D25E82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63AC46-FFFA-464A-AEF2-F29AAC4A0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3BF918-55B3-4EC5-8324-590B77613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1622-C432-45EF-BCC9-54E97D001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A1EA2D-407D-4B55-8691-5C39FC9D7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76BDD-A55E-4E3F-8270-8EA86F0E8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F8C7C9-E195-4979-9064-8ED3B09B3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EE1906-0689-4AFC-B214-D33730CF7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2C1776-1A51-4C9C-8723-02430F361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42EA57-BDA2-4ADE-AAFB-0FB75C43A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D3C7A3-1E39-4734-A592-4BD7EC1DD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C2E732-C5FD-4B04-BD45-9F2E80922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2FBC06-B935-4014-A8C4-AAD815DDB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2EAA9B-A744-45E9-91B4-683F8F861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FFBB-6D3A-47B0-B8D8-C4108D42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9FEB0E-6365-4636-B560-D2BE7CC5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603827-773F-4B2C-B119-E41C7D86E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6ECC0F-2BC4-4D3D-9F74-24A377F6D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1513BF-489B-4783-9FDD-8F9DBEE43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03E52B-1646-4D60-98E0-D2EF01880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9834-52D8-4EE2-868A-56928B5A7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12D64-3B85-4AF3-A72B-E1556161F7F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0743E-8F47-429A-B0F1-A1F2C32C0331}" type="slidenum">
              <a:rPr b="0" lang="ru-RU" sz="1200" spc="-1" strike="noStrike">
                <a:solidFill>
                  <a:srgbClr val="d38e27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40EE3-CF61-4CE0-ACF3-9DA731C6AD0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Прямая соединительная линия 6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127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0DFF5-229B-4950-A7A2-2552CAEBA6A4}" type="slidenum">
              <a:rPr b="0" lang="ru-RU" sz="1200" spc="-1" strike="noStrike">
                <a:solidFill>
                  <a:srgbClr val="d38e27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Прямая соединительная линия 6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7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86053-608B-4940-AE5F-D2F4181D0201}" type="slidenum">
              <a:rPr b="0" lang="ru-RU" sz="1200" spc="-1" strike="noStrike">
                <a:solidFill>
                  <a:srgbClr val="d38e27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Прямая соединительная линия 6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21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E9B95-73A1-4C64-96B3-1188940FF06D}" type="slidenum">
              <a:rPr b="0" lang="ru-RU" sz="1200" spc="-1" strike="noStrike">
                <a:solidFill>
                  <a:srgbClr val="d38e27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Прямая соединительная линия 6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59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DD92F-7B35-4F45-A1D4-267915915221}" type="slidenum">
              <a:rPr b="0" lang="ru-RU" sz="1200" spc="-1" strike="noStrike">
                <a:solidFill>
                  <a:srgbClr val="d38e27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Rectangle 4" descr=""/>
          <p:cNvPicPr/>
          <p:nvPr/>
        </p:nvPicPr>
        <p:blipFill>
          <a:blip r:embed="rId1"/>
          <a:stretch/>
        </p:blipFill>
        <p:spPr>
          <a:xfrm>
            <a:off x="-42840" y="1378080"/>
            <a:ext cx="8193240" cy="4967280"/>
          </a:xfrm>
          <a:prstGeom prst="rect">
            <a:avLst/>
          </a:prstGeom>
          <a:ln w="0">
            <a:noFill/>
          </a:ln>
        </p:spPr>
      </p:pic>
      <p:sp>
        <p:nvSpPr>
          <p:cNvPr id="310" name="Номер слайда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F70B7-693D-40DD-AE77-4C02FB7B0B63}" type="slidenum">
              <a:rPr b="0" lang="ru-RU" sz="1200" spc="-1" strike="noStrike">
                <a:solidFill>
                  <a:srgbClr val="8f9ca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1" name="Rectangle 5"/>
          <p:cNvSpPr/>
          <p:nvPr/>
        </p:nvSpPr>
        <p:spPr>
          <a:xfrm>
            <a:off x="2124360" y="304920"/>
            <a:ext cx="170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ТЕМА: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070FC-34B1-478C-8F53-65BFF139C300}" type="slidenum">
              <a:rPr b="0" lang="ru-RU" sz="1200" spc="-1" strike="noStrike">
                <a:solidFill>
                  <a:srgbClr val="8f9ca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41" name="Group 6"/>
          <p:cNvGrpSpPr/>
          <p:nvPr/>
        </p:nvGrpSpPr>
        <p:grpSpPr>
          <a:xfrm>
            <a:off x="457200" y="457200"/>
            <a:ext cx="8305560" cy="6113520"/>
            <a:chOff x="457200" y="457200"/>
            <a:chExt cx="8305560" cy="6113520"/>
          </a:xfrm>
        </p:grpSpPr>
        <p:pic>
          <p:nvPicPr>
            <p:cNvPr id="342" name="Picture 4" descr="Мы разные но мы помогаем друг другу"/>
            <p:cNvPicPr/>
            <p:nvPr/>
          </p:nvPicPr>
          <p:blipFill>
            <a:blip r:embed="rId1"/>
            <a:stretch/>
          </p:blipFill>
          <p:spPr>
            <a:xfrm>
              <a:off x="457200" y="457200"/>
              <a:ext cx="8305560" cy="54399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343" name="Text Box 5"/>
            <p:cNvSpPr/>
            <p:nvPr/>
          </p:nvSpPr>
          <p:spPr>
            <a:xfrm>
              <a:off x="615240" y="5989320"/>
              <a:ext cx="798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33cc"/>
                  </a:solidFill>
                  <a:latin typeface="Times New Roman"/>
                </a:rPr>
                <a:t>Мы разные, но мы помогаем друг другу</a:t>
              </a:r>
              <a:endParaRPr b="0" lang="en-US" sz="32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1CE86-C555-4118-A5C8-94494347482B}" type="slidenum">
              <a:rPr b="0" lang="ru-RU" sz="1200" spc="-1" strike="noStrike">
                <a:solidFill>
                  <a:srgbClr val="8f9ca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45" name="Picture 4" descr="Ему нужна твоя дружба"/>
          <p:cNvPicPr/>
          <p:nvPr/>
        </p:nvPicPr>
        <p:blipFill>
          <a:blip r:embed="rId1"/>
          <a:stretch/>
        </p:blipFill>
        <p:spPr>
          <a:xfrm>
            <a:off x="304920" y="533520"/>
            <a:ext cx="4282920" cy="5562360"/>
          </a:xfrm>
          <a:prstGeom prst="rect">
            <a:avLst/>
          </a:prstGeom>
          <a:ln w="0">
            <a:noFill/>
          </a:ln>
        </p:spPr>
      </p:pic>
      <p:sp>
        <p:nvSpPr>
          <p:cNvPr id="346" name="Text Box 8"/>
          <p:cNvSpPr/>
          <p:nvPr/>
        </p:nvSpPr>
        <p:spPr>
          <a:xfrm>
            <a:off x="4572000" y="838080"/>
            <a:ext cx="4343400" cy="56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Ты здоров и силен, а рядом есть больные, инвалиды…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Им не нужна твоя жалость, им нужна твоя дружба, помощь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457200" y="8380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lnSpc>
                <a:spcPct val="10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700" spc="-1" strike="noStrike">
                <a:solidFill>
                  <a:srgbClr val="0033cc"/>
                </a:solidFill>
                <a:latin typeface="Times New Roman"/>
              </a:rPr>
              <a:t>Сделав добро, человек сам становится лучше, чище, светлее. Если мы будем внимательны к любому человеку, с кем мы общаемся, это и будет проявление доброты</a:t>
            </a: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E33F3-D10E-4730-8C92-BE35565EEAA3}" type="slidenum">
              <a:rPr b="0" lang="ru-RU" sz="1200" spc="-1" strike="noStrike">
                <a:solidFill>
                  <a:srgbClr val="8f9ca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3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3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7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4572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lnSpc>
                <a:spcPct val="100000"/>
              </a:lnSpc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800" spc="-1" strike="noStrike">
                <a:solidFill>
                  <a:srgbClr val="0033cc"/>
                </a:solidFill>
                <a:latin typeface="Times New Roman"/>
              </a:rPr>
              <a:t>Человек должен стремиться к тому, чтобы изменить себя в лучшую сторону, жить в мире с собой и миром</a:t>
            </a:r>
            <a:endParaRPr b="0" lang="en-US" sz="5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FBADC-1B66-4012-AF6D-B4A594E8853A}" type="slidenum">
              <a:rPr b="0" lang="ru-RU" sz="1200" spc="-1" strike="noStrike">
                <a:solidFill>
                  <a:srgbClr val="8f9ca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85A3F-EC58-44D8-BA12-396DC9A7CFCB}" type="slidenum">
              <a:rPr b="0" lang="ru-RU" sz="1200" spc="-1" strike="noStrike">
                <a:solidFill>
                  <a:srgbClr val="8f9ca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52" name="Group 7"/>
          <p:cNvGrpSpPr/>
          <p:nvPr/>
        </p:nvGrpSpPr>
        <p:grpSpPr>
          <a:xfrm>
            <a:off x="609480" y="228600"/>
            <a:ext cx="7772040" cy="6392880"/>
            <a:chOff x="609480" y="228600"/>
            <a:chExt cx="7772040" cy="6392880"/>
          </a:xfrm>
        </p:grpSpPr>
        <p:pic>
          <p:nvPicPr>
            <p:cNvPr id="353" name="Picture 4" descr="Цените людей"/>
            <p:cNvPicPr/>
            <p:nvPr/>
          </p:nvPicPr>
          <p:blipFill>
            <a:blip r:embed="rId1"/>
            <a:srcRect l="6890" t="4215" r="6890" b="4215"/>
            <a:stretch/>
          </p:blipFill>
          <p:spPr>
            <a:xfrm>
              <a:off x="2195280" y="228600"/>
              <a:ext cx="4831200" cy="589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Text Box 5"/>
            <p:cNvSpPr/>
            <p:nvPr/>
          </p:nvSpPr>
          <p:spPr>
            <a:xfrm>
              <a:off x="609480" y="5978880"/>
              <a:ext cx="7772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33cc"/>
                  </a:solidFill>
                  <a:latin typeface="Times New Roman"/>
                </a:rPr>
                <a:t>Не оценивайте людей, а цените их</a:t>
              </a:r>
              <a:endParaRPr b="0" lang="en-US" sz="36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8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4F4E8-9872-4A92-9F7C-51CEB7E6CC10}" type="slidenum">
              <a:rPr b="0" lang="ru-RU" sz="1200" spc="-1" strike="noStrike">
                <a:solidFill>
                  <a:srgbClr val="8f9ca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6" name="AutoShape 4"/>
          <p:cNvSpPr/>
          <p:nvPr/>
        </p:nvSpPr>
        <p:spPr>
          <a:xfrm>
            <a:off x="762120" y="1219320"/>
            <a:ext cx="7391160" cy="5486400"/>
          </a:xfrm>
          <a:custGeom>
            <a:avLst/>
            <a:gdLst>
              <a:gd name="textAreaLeft" fmla="*/ 1723320 w 7391160"/>
              <a:gd name="textAreaRight" fmla="*/ 5665680 w 7391160"/>
              <a:gd name="textAreaTop" fmla="*/ 578160 h 5486400"/>
              <a:gd name="textAreaBottom" fmla="*/ 3474000 h 54864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7" name="WordArt 6"/>
          <p:cNvSpPr txBox="1"/>
          <p:nvPr/>
        </p:nvSpPr>
        <p:spPr>
          <a:xfrm rot="20383200">
            <a:off x="1142640" y="1752480"/>
            <a:ext cx="1986120" cy="90720"/>
          </a:xfrm>
          <a:prstGeom prst="rect">
            <a:avLst/>
          </a:prstGeom>
        </p:spPr>
        <p:txBody>
          <a:bodyPr wrap="none" fromWordArt="1" lIns="90000" rIns="90000" tIns="44280" bIns="44280" anchor="t" anchorCtr="1">
            <a:prstTxWarp prst="textArchUp">
              <a:avLst>
                <a:gd name="adj" fmla="val 1080008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cc"/>
                </a:solidFill>
                <a:latin typeface="Times New Roman"/>
              </a:rPr>
              <a:t>Дружб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cc"/>
              </a:solidFill>
              <a:latin typeface="Times New Roman"/>
              <a:ea typeface="Times New Roman"/>
            </a:endParaRPr>
          </a:p>
        </p:txBody>
      </p:sp>
      <p:sp>
        <p:nvSpPr>
          <p:cNvPr id="358" name="WordArt 7"/>
          <p:cNvSpPr txBox="1"/>
          <p:nvPr/>
        </p:nvSpPr>
        <p:spPr>
          <a:xfrm rot="712200">
            <a:off x="5334120" y="1752480"/>
            <a:ext cx="2028600" cy="239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Times New Roman"/>
              </a:rPr>
              <a:t>Доброт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Times New Roman"/>
              <a:ea typeface="Times New Roman"/>
            </a:endParaRPr>
          </a:p>
        </p:txBody>
      </p:sp>
      <p:sp>
        <p:nvSpPr>
          <p:cNvPr id="359" name="WordArt 8"/>
          <p:cNvSpPr txBox="1"/>
          <p:nvPr/>
        </p:nvSpPr>
        <p:spPr>
          <a:xfrm>
            <a:off x="2895480" y="3581280"/>
            <a:ext cx="3114720" cy="8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Терпимость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360" name="WordArt 9"/>
          <p:cNvSpPr txBox="1"/>
          <p:nvPr/>
        </p:nvSpPr>
        <p:spPr>
          <a:xfrm>
            <a:off x="3429000" y="2514600"/>
            <a:ext cx="153360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cc"/>
                </a:solidFill>
                <a:latin typeface="Times New Roman"/>
              </a:rPr>
              <a:t>Любов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cc"/>
              </a:solidFill>
              <a:latin typeface="Times New Roman"/>
              <a:ea typeface="Times New Roman"/>
            </a:endParaRPr>
          </a:p>
        </p:txBody>
      </p:sp>
      <p:sp>
        <p:nvSpPr>
          <p:cNvPr id="361" name="WordArt 10"/>
          <p:cNvSpPr txBox="1"/>
          <p:nvPr/>
        </p:nvSpPr>
        <p:spPr>
          <a:xfrm rot="20013600">
            <a:off x="1523880" y="2514240"/>
            <a:ext cx="2303640" cy="415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Times New Roman"/>
              </a:rPr>
              <a:t>Нежност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Times New Roman"/>
              <a:ea typeface="Times New Roman"/>
            </a:endParaRPr>
          </a:p>
        </p:txBody>
      </p:sp>
      <p:sp>
        <p:nvSpPr>
          <p:cNvPr id="362" name="WordArt 11"/>
          <p:cNvSpPr txBox="1"/>
          <p:nvPr/>
        </p:nvSpPr>
        <p:spPr>
          <a:xfrm rot="1171200">
            <a:off x="4952880" y="2514240"/>
            <a:ext cx="2432160" cy="912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Times New Roman"/>
              </a:rPr>
              <a:t>Милосерд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Times New Roman"/>
              <a:ea typeface="Times New Roman"/>
            </a:endParaRPr>
          </a:p>
        </p:txBody>
      </p:sp>
      <p:sp>
        <p:nvSpPr>
          <p:cNvPr id="363" name="WordArt 12"/>
          <p:cNvSpPr txBox="1"/>
          <p:nvPr/>
        </p:nvSpPr>
        <p:spPr>
          <a:xfrm rot="19956600">
            <a:off x="4267080" y="4419720"/>
            <a:ext cx="2324160" cy="466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3322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Душевность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sp>
        <p:nvSpPr>
          <p:cNvPr id="364" name="WordArt 13"/>
          <p:cNvSpPr txBox="1"/>
          <p:nvPr/>
        </p:nvSpPr>
        <p:spPr>
          <a:xfrm rot="1643400">
            <a:off x="2743200" y="4952880"/>
            <a:ext cx="2438280" cy="466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214407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Times New Roman"/>
              </a:rPr>
              <a:t>Искренность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Times New Roman"/>
              <a:ea typeface="Times New Roman"/>
            </a:endParaRPr>
          </a:p>
        </p:txBody>
      </p:sp>
      <p:sp>
        <p:nvSpPr>
          <p:cNvPr id="365" name="Text Box 14"/>
          <p:cNvSpPr/>
          <p:nvPr/>
        </p:nvSpPr>
        <p:spPr>
          <a:xfrm>
            <a:off x="380880" y="152280"/>
            <a:ext cx="82296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0000"/>
                </a:solidFill>
                <a:latin typeface="Times New Roman"/>
              </a:rPr>
              <a:t>Пусть твое сердце наполняют</a:t>
            </a:r>
            <a:endParaRPr b="0" lang="en-US" sz="4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mph" presetID="26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0" dur="3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1" dur="1500" autoRev="1" fill="hold"/>
                                        <p:tgtEl>
                                          <p:spTgt spid="3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5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3" dur="1000" fill="hold"/>
                                        <p:tgtEl>
                                          <p:spTgt spid="35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6" dur="3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7" dur="1500" autoRev="1" fill="hold"/>
                                        <p:tgtEl>
                                          <p:spTgt spid="3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5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9" dur="1000" fill="hold"/>
                                        <p:tgtEl>
                                          <p:spTgt spid="358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2" dur="3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3" dur="1500" autoRev="1" fill="hold"/>
                                        <p:tgtEl>
                                          <p:spTgt spid="3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6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5" dur="1000" fill="hold"/>
                                        <p:tgtEl>
                                          <p:spTgt spid="36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3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9" dur="1500" autoRev="1" fill="hold"/>
                                        <p:tgtEl>
                                          <p:spTgt spid="3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7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1" dur="1000" fill="hold"/>
                                        <p:tgtEl>
                                          <p:spTgt spid="36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7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" dur="3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5" dur="1500" autoRev="1" fill="hold"/>
                                        <p:tgtEl>
                                          <p:spTgt spid="3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7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7" dur="1000" fill="hold"/>
                                        <p:tgtEl>
                                          <p:spTgt spid="36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7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0" dur="3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1" dur="1500" autoRev="1" fill="hold"/>
                                        <p:tgtEl>
                                          <p:spTgt spid="3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8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3" dur="1000" fill="hold"/>
                                        <p:tgtEl>
                                          <p:spTgt spid="36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28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3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7" dur="1500" autoRev="1" fill="hold"/>
                                        <p:tgtEl>
                                          <p:spTgt spid="3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8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9" dur="1000" fill="hold"/>
                                        <p:tgtEl>
                                          <p:spTgt spid="363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29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2" dur="3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3" dur="1500" autoRev="1" fill="hold"/>
                                        <p:tgtEl>
                                          <p:spTgt spid="3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9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5" dur="3000" fill="hold"/>
                                        <p:tgtEl>
                                          <p:spTgt spid="3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297" nodeType="afterEffect" fill="hold" presetClass="emph" presetID="26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8" dur="3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9" dur="1500" autoRev="1" fill="hold"/>
                                        <p:tgtEl>
                                          <p:spTgt spid="3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457200" y="13716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93800" indent="-387360">
              <a:spcBef>
                <a:spcPts val="1349"/>
              </a:spcBef>
              <a:buClr>
                <a:srgbClr val="cc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cc"/>
                </a:solidFill>
                <a:latin typeface="Verdana"/>
              </a:rPr>
              <a:t> </a:t>
            </a:r>
            <a:r>
              <a:rPr b="1" lang="ru-RU" sz="5400" spc="-1" strike="noStrike">
                <a:solidFill>
                  <a:srgbClr val="0033cc"/>
                </a:solidFill>
                <a:latin typeface="Times New Roman"/>
              </a:rPr>
              <a:t>со - страдание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100000"/>
              </a:lnSpc>
              <a:spcBef>
                <a:spcPts val="1349"/>
              </a:spcBef>
              <a:buClr>
                <a:srgbClr val="cc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0033cc"/>
                </a:solidFill>
                <a:latin typeface="Times New Roman"/>
              </a:rPr>
              <a:t>со - чувствие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100000"/>
              </a:lnSpc>
              <a:spcBef>
                <a:spcPts val="1349"/>
              </a:spcBef>
              <a:buClr>
                <a:srgbClr val="cc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0033cc"/>
                </a:solidFill>
                <a:latin typeface="Times New Roman"/>
              </a:rPr>
              <a:t>со - действие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100000"/>
              </a:lnSpc>
              <a:spcBef>
                <a:spcPts val="1349"/>
              </a:spcBef>
              <a:buClr>
                <a:srgbClr val="cc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0033cc"/>
                </a:solidFill>
                <a:latin typeface="Times New Roman"/>
              </a:rPr>
              <a:t>со - знание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100000"/>
              </a:lnSpc>
              <a:spcBef>
                <a:spcPts val="1349"/>
              </a:spcBef>
              <a:buClr>
                <a:srgbClr val="cc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0033cc"/>
                </a:solidFill>
                <a:latin typeface="Times New Roman"/>
              </a:rPr>
              <a:t>со - единение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A4051-9361-45C1-AE79-CA1DA4B4C998}" type="slidenum">
              <a:rPr b="0" lang="ru-RU" sz="1200" spc="-1" strike="noStrike">
                <a:solidFill>
                  <a:srgbClr val="8f9ca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8" name="Text Box 4"/>
          <p:cNvSpPr/>
          <p:nvPr/>
        </p:nvSpPr>
        <p:spPr>
          <a:xfrm>
            <a:off x="609480" y="304920"/>
            <a:ext cx="8153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9" name="Text Box 5"/>
          <p:cNvSpPr/>
          <p:nvPr/>
        </p:nvSpPr>
        <p:spPr>
          <a:xfrm>
            <a:off x="228600" y="380880"/>
            <a:ext cx="86868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0000"/>
                </a:solidFill>
                <a:latin typeface="Times New Roman"/>
              </a:rPr>
              <a:t>Пусть тебе всегда сопутствуют</a:t>
            </a:r>
            <a:endParaRPr b="0" lang="en-US" sz="4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10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10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1000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1000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B624D-588D-48D6-B6A1-F10F23AF609C}" type="slidenum">
              <a:rPr b="0" lang="ru-RU" sz="1200" spc="-1" strike="noStrike">
                <a:solidFill>
                  <a:srgbClr val="8f9ca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71" name="Group 7"/>
          <p:cNvGrpSpPr/>
          <p:nvPr/>
        </p:nvGrpSpPr>
        <p:grpSpPr>
          <a:xfrm>
            <a:off x="762120" y="0"/>
            <a:ext cx="7543440" cy="6766560"/>
            <a:chOff x="762120" y="0"/>
            <a:chExt cx="7543440" cy="6766560"/>
          </a:xfrm>
        </p:grpSpPr>
        <p:pic>
          <p:nvPicPr>
            <p:cNvPr id="372" name="Picture 4" descr="Ты нам нужен"/>
            <p:cNvPicPr/>
            <p:nvPr/>
          </p:nvPicPr>
          <p:blipFill>
            <a:blip r:embed="rId1"/>
            <a:stretch/>
          </p:blipFill>
          <p:spPr>
            <a:xfrm>
              <a:off x="2062440" y="0"/>
              <a:ext cx="4800960" cy="600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Text Box 5"/>
            <p:cNvSpPr/>
            <p:nvPr/>
          </p:nvSpPr>
          <p:spPr>
            <a:xfrm>
              <a:off x="762120" y="6123960"/>
              <a:ext cx="7543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33cc"/>
                  </a:solidFill>
                  <a:latin typeface="Times New Roman"/>
                </a:rPr>
                <a:t>Мы очень разные, но мы вместе</a:t>
              </a:r>
              <a:endParaRPr b="0" lang="en-US" sz="36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lnSpc>
                <a:spcPct val="100000"/>
              </a:lnSpc>
              <a:spcBef>
                <a:spcPts val="19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900" spc="-1" strike="noStrike">
                <a:solidFill>
                  <a:srgbClr val="cc3300"/>
                </a:solidFill>
                <a:latin typeface="Times New Roman"/>
              </a:rPr>
              <a:t>Что же такое толерантность? </a:t>
            </a:r>
            <a:endParaRPr b="0" lang="en-US" sz="7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9C340-A327-4294-919A-759977F66829}" type="slidenum">
              <a:rPr b="0" lang="ru-RU" sz="1200" spc="-1" strike="noStrike">
                <a:solidFill>
                  <a:srgbClr val="8f9ca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0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4" dur="2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5228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700" spc="-1" strike="noStrike">
                <a:solidFill>
                  <a:srgbClr val="ff0000"/>
                </a:solidFill>
                <a:latin typeface="Times New Roman"/>
              </a:rPr>
              <a:t>В русском языке “толерантность” означает “способность, умение терпеть, мириться с чужим мнением, быть снисходительным к поступкам других людей, мягко относиться к их промахам, ошибкам”</a:t>
            </a: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18A54-8772-4139-BA90-AA7B9F97431F}" type="slidenum">
              <a:rPr b="0" lang="ru-RU" sz="1200" spc="-1" strike="noStrike">
                <a:solidFill>
                  <a:srgbClr val="8f9ca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0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Rectangle 2" descr=""/>
          <p:cNvPicPr/>
          <p:nvPr/>
        </p:nvPicPr>
        <p:blipFill>
          <a:blip r:embed="rId1"/>
          <a:stretch/>
        </p:blipFill>
        <p:spPr>
          <a:xfrm>
            <a:off x="6480" y="-298440"/>
            <a:ext cx="8564400" cy="23097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533160" y="15998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33cc"/>
                </a:solidFill>
                <a:latin typeface="Times New Roman"/>
              </a:rPr>
              <a:t>Все мы люди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33cc"/>
                </a:solidFill>
                <a:latin typeface="Times New Roman"/>
              </a:rPr>
              <a:t>Живем на одной планете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33cc"/>
                </a:solidFill>
                <a:latin typeface="Times New Roman"/>
              </a:rPr>
              <a:t>Живем в одном городе, республике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33cc"/>
                </a:solidFill>
                <a:latin typeface="Times New Roman"/>
              </a:rPr>
              <a:t>Учимся в одной школе, в одном классе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33cc"/>
                </a:solidFill>
                <a:latin typeface="Times New Roman"/>
              </a:rPr>
              <a:t>Живем на одних улицах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33cc"/>
                </a:solidFill>
                <a:latin typeface="Times New Roman"/>
              </a:rPr>
              <a:t>Носим одну одежду, очки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33cc"/>
                </a:solidFill>
                <a:latin typeface="Times New Roman"/>
              </a:rPr>
              <a:t>Занимаемся одним делом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33cc"/>
                </a:solidFill>
                <a:latin typeface="Times New Roman"/>
              </a:rPr>
              <a:t>Похожи глаза, волосы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F5629-A704-44F9-AD47-0B2617D98E8D}" type="slidenum">
              <a:rPr b="0" lang="ru-RU" sz="1200" spc="-1" strike="noStrike">
                <a:solidFill>
                  <a:srgbClr val="8f9ca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30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300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3000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3000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3000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3000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3000"/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3000"/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Diagram 8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379" name="Номер слайда 5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D493F-3F75-433F-82A5-50FCBEC38048}" type="slidenum">
              <a:rPr b="0" lang="ru-RU" sz="1200" spc="-1" strike="noStrike">
                <a:solidFill>
                  <a:srgbClr val="8f9ca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80" name="Group 86"/>
          <p:cNvGrpSpPr/>
          <p:nvPr/>
        </p:nvGrpSpPr>
        <p:grpSpPr>
          <a:xfrm>
            <a:off x="609480" y="913680"/>
            <a:ext cx="8001000" cy="5942520"/>
            <a:chOff x="609480" y="913680"/>
            <a:chExt cx="8001000" cy="5942520"/>
          </a:xfrm>
        </p:grpSpPr>
        <p:sp>
          <p:nvSpPr>
            <p:cNvPr id="381" name="AutoShape 72"/>
            <p:cNvSpPr/>
            <p:nvPr/>
          </p:nvSpPr>
          <p:spPr>
            <a:xfrm>
              <a:off x="609480" y="1076760"/>
              <a:ext cx="7391160" cy="5618160"/>
            </a:xfrm>
            <a:prstGeom prst="sun">
              <a:avLst>
                <a:gd name="adj" fmla="val 25000"/>
              </a:avLst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82" name="Text Box 74"/>
            <p:cNvSpPr/>
            <p:nvPr/>
          </p:nvSpPr>
          <p:spPr>
            <a:xfrm>
              <a:off x="2742840" y="3275280"/>
              <a:ext cx="3733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33cc"/>
                  </a:solidFill>
                  <a:latin typeface="Times New Roman"/>
                </a:rPr>
                <a:t>Толерантность</a:t>
              </a:r>
              <a:endParaRPr b="0" lang="en-US" sz="40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83" name="Text Box 75"/>
            <p:cNvSpPr/>
            <p:nvPr/>
          </p:nvSpPr>
          <p:spPr>
            <a:xfrm>
              <a:off x="4038480" y="1076760"/>
              <a:ext cx="11430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84" name="Text Box 77"/>
            <p:cNvSpPr/>
            <p:nvPr/>
          </p:nvSpPr>
          <p:spPr>
            <a:xfrm flipV="1" rot="5400000">
              <a:off x="3550320" y="1477440"/>
              <a:ext cx="1465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33cc"/>
                  </a:solidFill>
                  <a:latin typeface="Times New Roman"/>
                </a:rPr>
                <a:t>Прощение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85" name="Text Box 78"/>
            <p:cNvSpPr/>
            <p:nvPr/>
          </p:nvSpPr>
          <p:spPr>
            <a:xfrm rot="5400000">
              <a:off x="3548520" y="5954040"/>
              <a:ext cx="1467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33cc"/>
                  </a:solidFill>
                  <a:latin typeface="Times New Roman"/>
                </a:rPr>
                <a:t> </a:t>
              </a:r>
              <a:r>
                <a:rPr b="1" lang="ru-RU" sz="1600" spc="-1" strike="noStrike">
                  <a:solidFill>
                    <a:srgbClr val="0033cc"/>
                  </a:solidFill>
                  <a:latin typeface="Times New Roman"/>
                </a:rPr>
                <a:t>Милосердие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86" name="Text Box 79"/>
            <p:cNvSpPr/>
            <p:nvPr/>
          </p:nvSpPr>
          <p:spPr>
            <a:xfrm>
              <a:off x="914040" y="3682800"/>
              <a:ext cx="137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33cc"/>
                  </a:solidFill>
                  <a:latin typeface="Times New Roman"/>
                </a:rPr>
                <a:t>Сострадание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87" name="Text Box 80"/>
            <p:cNvSpPr/>
            <p:nvPr/>
          </p:nvSpPr>
          <p:spPr>
            <a:xfrm rot="2105400">
              <a:off x="1602360" y="2216880"/>
              <a:ext cx="1447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33cc"/>
                  </a:solidFill>
                  <a:latin typeface="Times New Roman"/>
                </a:rPr>
                <a:t>Терпимость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88" name="Text Box 81"/>
            <p:cNvSpPr/>
            <p:nvPr/>
          </p:nvSpPr>
          <p:spPr>
            <a:xfrm rot="19110600">
              <a:off x="5554800" y="2136600"/>
              <a:ext cx="151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33cc"/>
                  </a:solidFill>
                  <a:latin typeface="Times New Roman"/>
                </a:rPr>
                <a:t>Сочувствие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89" name="Text Box 82"/>
            <p:cNvSpPr/>
            <p:nvPr/>
          </p:nvSpPr>
          <p:spPr>
            <a:xfrm rot="2068800">
              <a:off x="5725080" y="5312160"/>
              <a:ext cx="1447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33cc"/>
                  </a:solidFill>
                  <a:latin typeface="Times New Roman"/>
                </a:rPr>
                <a:t>Уважение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0" name="Text Box 83"/>
            <p:cNvSpPr/>
            <p:nvPr/>
          </p:nvSpPr>
          <p:spPr>
            <a:xfrm rot="19128600">
              <a:off x="1278000" y="5232600"/>
              <a:ext cx="182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33cc"/>
                  </a:solidFill>
                  <a:latin typeface="Times New Roman"/>
                </a:rPr>
                <a:t>Содействие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1" name="Text Box 84"/>
            <p:cNvSpPr/>
            <p:nvPr/>
          </p:nvSpPr>
          <p:spPr>
            <a:xfrm>
              <a:off x="6400440" y="3601080"/>
              <a:ext cx="221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33cc"/>
                  </a:solidFill>
                  <a:latin typeface="Times New Roman"/>
                </a:rPr>
                <a:t>Взаимопонимание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392" name="Text Box 85"/>
          <p:cNvSpPr/>
          <p:nvPr/>
        </p:nvSpPr>
        <p:spPr>
          <a:xfrm>
            <a:off x="609480" y="152280"/>
            <a:ext cx="815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Толерантность это</a:t>
            </a:r>
            <a:endParaRPr b="0" lang="en-US" sz="5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59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6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Rectangle 2" descr=""/>
          <p:cNvPicPr/>
          <p:nvPr/>
        </p:nvPicPr>
        <p:blipFill>
          <a:blip r:embed="rId1"/>
          <a:stretch/>
        </p:blipFill>
        <p:spPr>
          <a:xfrm>
            <a:off x="158760" y="-212760"/>
            <a:ext cx="8813880" cy="190836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57200" y="16765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33cc"/>
                </a:solidFill>
                <a:latin typeface="Times New Roman"/>
              </a:rPr>
              <a:t>Уважай собеседник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33cc"/>
                </a:solidFill>
                <a:latin typeface="Times New Roman"/>
              </a:rPr>
              <a:t>Старайся понять то, о чем говорят другие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33cc"/>
                </a:solidFill>
                <a:latin typeface="Times New Roman"/>
              </a:rPr>
              <a:t>Отстаивай свое мнение тактично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33cc"/>
                </a:solidFill>
                <a:latin typeface="Times New Roman"/>
              </a:rPr>
              <a:t>Ищи лучшие аргументы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33cc"/>
                </a:solidFill>
                <a:latin typeface="Times New Roman"/>
              </a:rPr>
              <a:t>Будь справедливым, готовым признать правоту другого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33cc"/>
                </a:solidFill>
                <a:latin typeface="Times New Roman"/>
              </a:rPr>
              <a:t>Стремись учитывать интересы других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25126-2272-4F8E-918B-4BCF1B99C9B2}" type="slidenum">
              <a:rPr b="0" lang="ru-RU" sz="1200" spc="-1" strike="noStrike">
                <a:solidFill>
                  <a:srgbClr val="8f9ca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0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3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3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5" dur="3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0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380880" y="1519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lnSpc>
                <a:spcPct val="8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700" spc="-1" strike="noStrike">
                <a:solidFill>
                  <a:srgbClr val="0033cc"/>
                </a:solidFill>
                <a:latin typeface="Times New Roman"/>
              </a:rPr>
              <a:t>Наша школа, каждый класс и группа – </a:t>
            </a: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8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700" spc="-1" strike="noStrike">
                <a:solidFill>
                  <a:srgbClr val="0033cc"/>
                </a:solidFill>
                <a:latin typeface="Times New Roman"/>
              </a:rPr>
              <a:t>это маленькая семья. </a:t>
            </a: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8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700" spc="-1" strike="noStrike">
                <a:solidFill>
                  <a:srgbClr val="0033cc"/>
                </a:solidFill>
                <a:latin typeface="Times New Roman"/>
              </a:rPr>
              <a:t>И хочется, </a:t>
            </a: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8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700" spc="-1" strike="noStrike">
                <a:solidFill>
                  <a:srgbClr val="0033cc"/>
                </a:solidFill>
                <a:latin typeface="Times New Roman"/>
              </a:rPr>
              <a:t>чтобы в нашей семье всегда царили </a:t>
            </a: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8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700" spc="-1" strike="noStrike">
                <a:solidFill>
                  <a:srgbClr val="0033cc"/>
                </a:solidFill>
                <a:latin typeface="Times New Roman"/>
              </a:rPr>
              <a:t>доброта, уважение, </a:t>
            </a: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8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700" spc="-1" strike="noStrike">
                <a:solidFill>
                  <a:srgbClr val="0033cc"/>
                </a:solidFill>
                <a:latin typeface="Times New Roman"/>
              </a:rPr>
              <a:t>взаимопонимание</a:t>
            </a: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8941F-06D9-4BEE-9AA0-E6E000BE1373}" type="slidenum">
              <a:rPr b="0" lang="ru-RU" sz="1200" spc="-1" strike="noStrike">
                <a:solidFill>
                  <a:srgbClr val="8f9ca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0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42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2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8300"/>
                            </p:stCondLst>
                            <p:childTnLst>
                              <p:par>
                                <p:cTn id="43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4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14600"/>
                            </p:stCondLst>
                            <p:childTnLst>
                              <p:par>
                                <p:cTn id="44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Rectangle 2" descr=""/>
          <p:cNvPicPr/>
          <p:nvPr/>
        </p:nvPicPr>
        <p:blipFill>
          <a:blip r:embed="rId1"/>
          <a:stretch/>
        </p:blipFill>
        <p:spPr>
          <a:xfrm>
            <a:off x="1146240" y="2060640"/>
            <a:ext cx="6211800" cy="3468600"/>
          </a:xfrm>
          <a:prstGeom prst="rect">
            <a:avLst/>
          </a:prstGeom>
          <a:ln w="0">
            <a:noFill/>
          </a:ln>
        </p:spPr>
      </p:pic>
      <p:sp>
        <p:nvSpPr>
          <p:cNvPr id="399" name="Номер слайда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60B12-E1D8-4809-A78F-4BCF75A24875}" type="slidenum">
              <a:rPr b="0" lang="ru-RU" sz="1200" spc="-1" strike="noStrike">
                <a:solidFill>
                  <a:srgbClr val="8f9ca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0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Rectangle 2" descr=""/>
          <p:cNvPicPr/>
          <p:nvPr/>
        </p:nvPicPr>
        <p:blipFill>
          <a:blip r:embed="rId1"/>
          <a:stretch/>
        </p:blipFill>
        <p:spPr>
          <a:xfrm>
            <a:off x="6480" y="6480"/>
            <a:ext cx="8643960" cy="181584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57200" y="1676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05000" indent="-395280">
              <a:lnSpc>
                <a:spcPct val="8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Рос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Цвет волос и глаз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Одежд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Знан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Национальност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Фигур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Возраст (старые и молодые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Характер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Культур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F824D-17F1-4C29-8BC4-2AB4094DEA0E}" type="slidenum">
              <a:rPr b="0" lang="ru-RU" sz="1200" spc="-1" strike="noStrike">
                <a:solidFill>
                  <a:srgbClr val="8f9ca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1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10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10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1000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1000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1000"/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1000"/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1000"/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1000"/>
                                        <p:tgtEl>
                                          <p:spTgt spid="3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380880" y="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lnSpc>
                <a:spcPct val="10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100" spc="-1" strike="noStrike">
                <a:solidFill>
                  <a:srgbClr val="0033cc"/>
                </a:solidFill>
                <a:latin typeface="Times New Roman"/>
              </a:rPr>
              <a:t>Различия дополняют и обогащают общество. </a:t>
            </a:r>
            <a:endParaRPr b="0" lang="en-US" sz="5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100" spc="-1" strike="noStrike">
                <a:solidFill>
                  <a:srgbClr val="0033cc"/>
                </a:solidFill>
                <a:latin typeface="Times New Roman"/>
              </a:rPr>
              <a:t>Чтобы жить в мире, людям надо научиться жить, решая проблемы и задачи на основе </a:t>
            </a:r>
            <a:r>
              <a:rPr b="1" lang="ru-RU" sz="8000" spc="-1" strike="noStrike">
                <a:solidFill>
                  <a:srgbClr val="0033cc"/>
                </a:solidFill>
                <a:latin typeface="Times New Roman"/>
              </a:rPr>
              <a:t>сотрудничества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0BB05-AEFF-4DB5-AA1B-E7D562785C71}" type="slidenum">
              <a:rPr b="0" lang="ru-RU" sz="1200" spc="-1" strike="noStrike">
                <a:solidFill>
                  <a:srgbClr val="8f9ca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27986-921D-45B5-B727-CAD91C01B5A8}" type="slidenum">
              <a:rPr b="0" lang="ru-RU" sz="1200" spc="-1" strike="noStrike">
                <a:solidFill>
                  <a:srgbClr val="8f9ca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21" name="Picture 4" descr="Не толерантно!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4343400" y="457200"/>
            <a:ext cx="4513320" cy="548640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10"/>
          <p:cNvSpPr/>
          <p:nvPr/>
        </p:nvSpPr>
        <p:spPr>
          <a:xfrm>
            <a:off x="533520" y="228600"/>
            <a:ext cx="3581280" cy="58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Times New Roman"/>
              </a:rPr>
              <a:t>Мы разные, но должны жить в мире. 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Times New Roman"/>
              </a:rPr>
              <a:t>Не толерантно доказывать свое право на разность подобным образом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Rectangle 2" descr=""/>
          <p:cNvPicPr/>
          <p:nvPr/>
        </p:nvPicPr>
        <p:blipFill>
          <a:blip r:embed="rId1"/>
          <a:stretch/>
        </p:blipFill>
        <p:spPr>
          <a:xfrm>
            <a:off x="304920" y="0"/>
            <a:ext cx="8485200" cy="176544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1066680" y="1676160"/>
            <a:ext cx="6858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27320" indent="-42732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ru-RU" sz="4500" spc="-1" strike="noStrike">
                <a:solidFill>
                  <a:srgbClr val="0033cc"/>
                </a:solidFill>
                <a:latin typeface="Times New Roman"/>
              </a:rPr>
              <a:t>взаимопонимание, взаимоуважение, ответственность, доброжелательность, сдержанность, </a:t>
            </a: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  <a:p>
            <a:pPr marL="427320" indent="-42732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ru-RU" sz="4500" spc="-1" strike="noStrike">
                <a:solidFill>
                  <a:srgbClr val="0033cc"/>
                </a:solidFill>
                <a:latin typeface="Times New Roman"/>
              </a:rPr>
              <a:t>уступчивость, </a:t>
            </a: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  <a:p>
            <a:pPr marL="427320" indent="-42732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33cc"/>
                </a:solidFill>
                <a:latin typeface="Times New Roman"/>
              </a:rPr>
              <a:t>     </a:t>
            </a:r>
            <a:r>
              <a:rPr b="1" lang="ru-RU" sz="4500" spc="-1" strike="noStrike">
                <a:solidFill>
                  <a:srgbClr val="0033cc"/>
                </a:solidFill>
                <a:latin typeface="Times New Roman"/>
              </a:rPr>
              <a:t>терпимость… </a:t>
            </a: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9200E-AD95-4057-87B1-151B0919C24F}" type="slidenum">
              <a:rPr b="0" lang="ru-RU" sz="1200" spc="-1" strike="noStrike">
                <a:solidFill>
                  <a:srgbClr val="8f9ca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3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20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" dur="20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20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27996-8326-42E4-A578-20D315653B75}" type="slidenum">
              <a:rPr b="0" lang="ru-RU" sz="1200" spc="-1" strike="noStrike">
                <a:solidFill>
                  <a:srgbClr val="8f9ca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27" name="Group 8"/>
          <p:cNvGrpSpPr/>
          <p:nvPr/>
        </p:nvGrpSpPr>
        <p:grpSpPr>
          <a:xfrm>
            <a:off x="0" y="1295280"/>
            <a:ext cx="4038120" cy="4920120"/>
            <a:chOff x="0" y="1295280"/>
            <a:chExt cx="4038120" cy="4920120"/>
          </a:xfrm>
        </p:grpSpPr>
        <p:pic>
          <p:nvPicPr>
            <p:cNvPr id="328" name="Picture 4" descr="Изображение 016"/>
            <p:cNvPicPr/>
            <p:nvPr/>
          </p:nvPicPr>
          <p:blipFill>
            <a:blip r:embed="rId1"/>
            <a:stretch/>
          </p:blipFill>
          <p:spPr>
            <a:xfrm>
              <a:off x="329400" y="1295280"/>
              <a:ext cx="3708720" cy="32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Text Box 5"/>
            <p:cNvSpPr/>
            <p:nvPr/>
          </p:nvSpPr>
          <p:spPr>
            <a:xfrm>
              <a:off x="0" y="4659120"/>
              <a:ext cx="40219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33cc"/>
                  </a:solidFill>
                  <a:latin typeface="Times New Roman"/>
                </a:rPr>
                <a:t>Светлое пятно – добро, темное пятно - зло</a:t>
              </a:r>
              <a:endParaRPr b="0" lang="en-US" sz="32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330" name="Text Box 7"/>
          <p:cNvSpPr/>
          <p:nvPr/>
        </p:nvSpPr>
        <p:spPr>
          <a:xfrm>
            <a:off x="304920" y="152280"/>
            <a:ext cx="822960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В каждом из нас есть светлая 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и темная сторона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31" name="Group 7"/>
          <p:cNvGrpSpPr/>
          <p:nvPr/>
        </p:nvGrpSpPr>
        <p:grpSpPr>
          <a:xfrm>
            <a:off x="4952880" y="1295280"/>
            <a:ext cx="3921120" cy="4867200"/>
            <a:chOff x="4952880" y="1295280"/>
            <a:chExt cx="3921120" cy="4867200"/>
          </a:xfrm>
        </p:grpSpPr>
        <p:pic>
          <p:nvPicPr>
            <p:cNvPr id="332" name="Picture 4" descr="Изображение 017"/>
            <p:cNvPicPr/>
            <p:nvPr/>
          </p:nvPicPr>
          <p:blipFill>
            <a:blip r:embed="rId2"/>
            <a:stretch/>
          </p:blipFill>
          <p:spPr>
            <a:xfrm>
              <a:off x="4952880" y="1295280"/>
              <a:ext cx="3921120" cy="329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Text Box 5"/>
            <p:cNvSpPr/>
            <p:nvPr/>
          </p:nvSpPr>
          <p:spPr>
            <a:xfrm>
              <a:off x="5073480" y="4606200"/>
              <a:ext cx="37033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33cc"/>
                  </a:solidFill>
                  <a:latin typeface="Times New Roman"/>
                </a:rPr>
                <a:t>Один сажает цветы, другой - их рвет</a:t>
              </a:r>
              <a:endParaRPr b="0" lang="en-US" sz="32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6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457200" y="5331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1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100" spc="-1" strike="noStrike">
                <a:solidFill>
                  <a:srgbClr val="0033cc"/>
                </a:solidFill>
                <a:latin typeface="Times New Roman"/>
              </a:rPr>
              <a:t>«Чтобы поверить  в добро, надо начать его делать».</a:t>
            </a:r>
            <a:endParaRPr b="0" lang="en-US" sz="7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>
              <a:lnSpc>
                <a:spcPct val="90000"/>
              </a:lnSpc>
              <a:spcBef>
                <a:spcPts val="1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100" spc="-1" strike="noStrike">
                <a:solidFill>
                  <a:srgbClr val="0033cc"/>
                </a:solidFill>
                <a:latin typeface="Times New Roman"/>
              </a:rPr>
              <a:t>Л. Толстой</a:t>
            </a:r>
            <a:endParaRPr b="0" lang="en-US" sz="7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9B3FD-76BC-46B6-9036-6BC2FA22FD6F}" type="slidenum">
              <a:rPr b="0" lang="ru-RU" sz="1200" spc="-1" strike="noStrike">
                <a:solidFill>
                  <a:srgbClr val="8f9ca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BDD55-D03B-4653-A2B9-76A7DCE5DA96}" type="slidenum">
              <a:rPr b="0" lang="ru-RU" sz="1200" spc="-1" strike="noStrike">
                <a:solidFill>
                  <a:srgbClr val="8f9ca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37" name="Group 6"/>
          <p:cNvGrpSpPr/>
          <p:nvPr/>
        </p:nvGrpSpPr>
        <p:grpSpPr>
          <a:xfrm>
            <a:off x="762120" y="304920"/>
            <a:ext cx="7467480" cy="6418080"/>
            <a:chOff x="762120" y="304920"/>
            <a:chExt cx="7467480" cy="6418080"/>
          </a:xfrm>
        </p:grpSpPr>
        <p:pic>
          <p:nvPicPr>
            <p:cNvPr id="338" name="Picture 4" descr="Изображение 015"/>
            <p:cNvPicPr/>
            <p:nvPr/>
          </p:nvPicPr>
          <p:blipFill>
            <a:blip r:embed="rId1"/>
            <a:stretch/>
          </p:blipFill>
          <p:spPr>
            <a:xfrm>
              <a:off x="838080" y="304920"/>
              <a:ext cx="7315200" cy="50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Text Box 5"/>
            <p:cNvSpPr/>
            <p:nvPr/>
          </p:nvSpPr>
          <p:spPr>
            <a:xfrm>
              <a:off x="762120" y="5410080"/>
              <a:ext cx="74674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33cc"/>
                  </a:solidFill>
                  <a:latin typeface="Times New Roman"/>
                </a:rPr>
                <a:t>Внимание к старшим – проявление доброты</a:t>
              </a:r>
              <a:endParaRPr b="0" lang="en-US" sz="40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амонова Н.И.</dc:creator>
  <dc:description/>
  <dc:language>en-US</dc:language>
  <cp:lastModifiedBy>USER</cp:lastModifiedBy>
  <dcterms:modified xsi:type="dcterms:W3CDTF">2021-11-12T08:19:39Z</dcterms:modified>
  <cp:revision>362</cp:revision>
  <dc:subject>Толерантность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