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019160" y="721800"/>
            <a:ext cx="4819680" cy="36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4FE4-3C86-4000-AFF3-5A66C30CC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39F6-C0BC-4775-B009-1A4B5E114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BF5E-A1EA-442A-974A-D0E3538CF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871-55D9-41B0-9166-0904C42E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61B-CDBE-4E8D-B2DB-ADCC9382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D6C-9ED3-4A1A-9D19-10BCD6C1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D27-0E40-41E4-9085-101DC246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CBB9-6BFF-4BF7-AA03-8650C3B1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8A3F-F5B3-43BE-B36A-1E3E1E95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504D-3BBE-4A20-88D0-6AC1EEBD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B579-3ED9-45A6-80BD-8016CA2E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923E-A33C-409B-B0A3-297CEFC8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BF5C-C34F-457E-A7EC-5AC06839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06B6-1634-455D-B76B-4B5219B6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654-7F90-40EB-A36E-24ECC974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DB7B-2527-415C-98F8-6EC2F8E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2827-F0FD-4C1F-AF95-1EEBBCD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F3C6-18AA-4E46-A366-2FED30F8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84F5-8E79-42F0-A271-B0606BF5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664B-D6C4-4741-9A9E-F1B47C30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48E2-1B13-4545-9475-B7F2C362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8FD6-7D6D-4B7C-B7EE-2AEF7EED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11AD-1851-480E-83C9-9D604F1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88F2-FD0E-43F3-925F-4189B4FE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6D24D-7475-457D-B61C-073A66AD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0E2-4B6D-4548-A945-90A5D189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5B1D-A437-42A2-B324-F9F68E45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678C-EF96-4752-8874-330B1678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25C9-DE04-4263-9F46-EDFB4F7F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5C27-1AFB-4452-A0D3-F50CA59F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22BA-EA6F-4DE9-8817-CC4361BD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8DAB-62D2-44D4-A03E-3B911509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71DD-20F6-4C98-9E90-AA3537F1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70F7-7760-43E7-9E11-99960F15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4BBD-3D23-4B70-B428-3E3B9DD7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3B9BF-045B-46D1-BAFF-1A9F47E5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280-DF0B-48CD-B37B-CA13BA40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0700D-06A6-4750-9B35-6BA4C8A3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D770-FA12-4A38-AA23-E857F3AD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E69D-CBCA-487D-BB16-658CBDBD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2C2D-7D82-438D-8B03-0CA4509F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4EB2-8D87-4F8E-9D45-1131B0A3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8D29-CC9E-406A-A897-337C4BE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80D0B-AA52-4C22-B681-C1C336FA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2AC0-0AAB-4E0E-8FDA-852A3139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A6FB9-8EFA-43F6-BEFA-C4226C26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8008D-D2FA-44F8-9F73-487D3CDF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25E-B124-45E4-832F-735FB5C8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51AE-6D4B-4CA5-94C8-BC370B11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24D21-C57F-4F19-BB16-2CA9C21C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AF1F-68C4-423E-A3C4-923BB1F6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D1F4-5FD4-4149-96D8-47F4689A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77315-EEF1-4719-95C8-6154FAF0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1D9EF-12FC-4A2C-AF6F-2FE7E67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EFA24-A2B6-48B3-90E2-F8C5D08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23C6-495D-4C0C-85BF-3909029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AF9D7-01AA-40A5-BB4C-0A334A25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C9BCA-6A3F-4373-803B-4A076848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692-E16D-4C11-9DC2-DD1D24C7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892DB-FB75-4FAF-8EE0-3D481980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BEE9A-3BA1-4A88-8908-E05A8117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7C02-4726-4C7E-A5C3-11A82935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732BA-2E65-4D91-9E50-FBDAEC15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3DB3E-ED76-4943-8D14-6E3157E5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ADDBE-45B7-4097-AAA0-C86E7B47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9C881-F5B6-4747-ADB0-C515BD72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0D0D7-D574-4A12-B911-60C93ED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B7F3D-3702-4844-9E4E-9D2B8B8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24776-D79B-4091-B725-38F2F90F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736-A363-4EB8-9B55-15710066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A3919-01AD-4C5F-956C-3248935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A2462-4A2A-40C4-AF34-C5AE2548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6883B-DB83-40B9-AB82-933F809C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DEF41-7953-4EC5-A955-52B935BF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F53FC-C0A4-42AC-87D3-1CE39919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498E-BC03-4141-8091-08C5DC37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0DD0D-1B7C-44AC-A21E-3040D60B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8A105-6C40-446D-A006-3553BE70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E1903-04EF-40B3-A067-F67C3DD4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834D6-D760-4C2D-93C3-C6E1CB62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B99-F3DF-4FF9-A672-9C325DD6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4872F-DACD-444C-9DA9-8A537BA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B0AB2-F27F-4139-818F-037F871E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2FA6-493C-4919-91DE-B82243B0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B47F-BD14-4BFB-ABAC-EF0EECF1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791C3-3C9A-4825-9D6E-7D60F726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AC4-3513-4AD5-9FDD-93D2BC09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5311-3755-44F7-9421-74CE6EFAAD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EDB6-0384-4DF3-A39E-B257AF4BB0AF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0B22-8283-45BD-9D76-B89F7B04313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Прямая соединительная линия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0B77-26F7-41C8-9563-FE6999CDF6EA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Прямая соединительная линия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7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5E2B-BAA5-4AA5-AAB8-EB3FC85F5222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Прямая соединительная линия 6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9C0-4941-47C5-ADCF-AC3625161EB0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Прямая соединительная линия 6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5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EF9B-12F2-45D4-99F2-663ACABF19CA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4" descr=""/>
          <p:cNvPicPr/>
          <p:nvPr/>
        </p:nvPicPr>
        <p:blipFill>
          <a:blip r:embed="rId1"/>
          <a:stretch/>
        </p:blipFill>
        <p:spPr>
          <a:xfrm>
            <a:off x="-42840" y="1378080"/>
            <a:ext cx="8193240" cy="4967280"/>
          </a:xfrm>
          <a:prstGeom prst="rect">
            <a:avLst/>
          </a:prstGeom>
          <a:ln w="0">
            <a:noFill/>
          </a:ln>
        </p:spPr>
      </p:pic>
      <p:sp>
        <p:nvSpPr>
          <p:cNvPr id="310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9DD-2316-409C-B283-BD2ADC1465CB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2124360" y="30492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461A-EF36-4CDB-9B41-B986A73D1D6D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41" name="Group 6"/>
          <p:cNvGrpSpPr/>
          <p:nvPr/>
        </p:nvGrpSpPr>
        <p:grpSpPr>
          <a:xfrm>
            <a:off x="457200" y="457200"/>
            <a:ext cx="8305560" cy="6113520"/>
            <a:chOff x="457200" y="457200"/>
            <a:chExt cx="8305560" cy="6113520"/>
          </a:xfrm>
        </p:grpSpPr>
        <p:pic>
          <p:nvPicPr>
            <p:cNvPr id="342" name="Picture 4" descr="Мы разные но мы помогаем друг другу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8305560" cy="543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3" name="Text Box 5"/>
            <p:cNvSpPr/>
            <p:nvPr/>
          </p:nvSpPr>
          <p:spPr>
            <a:xfrm>
              <a:off x="615240" y="5989320"/>
              <a:ext cx="798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Мы разные, но мы помогаем друг другу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A06B-49A9-476F-B689-0E5F88E24EF0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5" name="Picture 4" descr="Ему нужна твоя дружба"/>
          <p:cNvPicPr/>
          <p:nvPr/>
        </p:nvPicPr>
        <p:blipFill>
          <a:blip r:embed="rId1"/>
          <a:stretch/>
        </p:blipFill>
        <p:spPr>
          <a:xfrm>
            <a:off x="304920" y="533520"/>
            <a:ext cx="4282920" cy="5562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4572000" y="838080"/>
            <a:ext cx="43434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ы здоров и силен, а рядом есть больные, инвалиды…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м не нужна твоя жалость, им нужна твоя дружба, помощ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Сделав добро, человек сам становится лучше, чище, светлее. Если мы будем внимательны к любому человеку, с кем мы общаемся, это и будет проявление доброты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9D38-ED79-44C9-B36E-26268C6705E7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7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33cc"/>
                </a:solidFill>
                <a:latin typeface="Times New Roman"/>
              </a:rPr>
              <a:t>Человек должен стремиться к тому, чтобы изменить себя в лучшую сторону, жить в мире с собой и миром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1991-34CB-4D36-B787-AFCE50315DB9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58AC-D320-4CA0-AADD-37C773513C53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2" name="Group 7"/>
          <p:cNvGrpSpPr/>
          <p:nvPr/>
        </p:nvGrpSpPr>
        <p:grpSpPr>
          <a:xfrm>
            <a:off x="609480" y="228600"/>
            <a:ext cx="7772040" cy="6392880"/>
            <a:chOff x="609480" y="228600"/>
            <a:chExt cx="7772040" cy="6392880"/>
          </a:xfrm>
        </p:grpSpPr>
        <p:pic>
          <p:nvPicPr>
            <p:cNvPr id="353" name="Picture 4" descr="Цените людей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2195280" y="228600"/>
              <a:ext cx="4831200" cy="58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5"/>
            <p:cNvSpPr/>
            <p:nvPr/>
          </p:nvSpPr>
          <p:spPr>
            <a:xfrm>
              <a:off x="609480" y="5978880"/>
              <a:ext cx="777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Не оценивайте людей, а цените их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7D4D-2288-4010-BCFE-B29EC652C9A2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762120" y="1219320"/>
            <a:ext cx="7391160" cy="5486400"/>
          </a:xfrm>
          <a:custGeom>
            <a:avLst/>
            <a:gdLst>
              <a:gd name="textAreaLeft" fmla="*/ 1723320 w 7391160"/>
              <a:gd name="textAreaRight" fmla="*/ 5665680 w 7391160"/>
              <a:gd name="textAreaTop" fmla="*/ 578160 h 5486400"/>
              <a:gd name="textAreaBottom" fmla="*/ 3474000 h 5486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WordArt 6"/>
          <p:cNvSpPr txBox="1"/>
          <p:nvPr/>
        </p:nvSpPr>
        <p:spPr>
          <a:xfrm rot="20383200">
            <a:off x="1142640" y="1752480"/>
            <a:ext cx="1986120" cy="90720"/>
          </a:xfrm>
          <a:prstGeom prst="rect">
            <a:avLst/>
          </a:prstGeom>
        </p:spPr>
        <p:txBody>
          <a:bodyPr wrap="none" fromWordArt="1" lIns="90000" rIns="90000" tIns="44280" bIns="44280" anchor="t" anchorCtr="1">
            <a:prstTxWarp prst="textArchUp">
              <a:avLst>
                <a:gd name="adj" fmla="val 1080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Times New Roman"/>
              </a:rPr>
              <a:t>Друж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Times New Roman"/>
              <a:ea typeface="Times New Roman"/>
            </a:endParaRPr>
          </a:p>
        </p:txBody>
      </p:sp>
      <p:sp>
        <p:nvSpPr>
          <p:cNvPr id="358" name="WordArt 7"/>
          <p:cNvSpPr txBox="1"/>
          <p:nvPr/>
        </p:nvSpPr>
        <p:spPr>
          <a:xfrm rot="712200">
            <a:off x="5334120" y="1752480"/>
            <a:ext cx="2028600" cy="2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8"/>
          <p:cNvSpPr txBox="1"/>
          <p:nvPr/>
        </p:nvSpPr>
        <p:spPr>
          <a:xfrm>
            <a:off x="2895480" y="3581280"/>
            <a:ext cx="3114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рпим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9"/>
          <p:cNvSpPr txBox="1"/>
          <p:nvPr/>
        </p:nvSpPr>
        <p:spPr>
          <a:xfrm>
            <a:off x="3429000" y="2514600"/>
            <a:ext cx="15336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Люб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361" name="WordArt 10"/>
          <p:cNvSpPr txBox="1"/>
          <p:nvPr/>
        </p:nvSpPr>
        <p:spPr>
          <a:xfrm rot="20013600">
            <a:off x="1523880" y="2514240"/>
            <a:ext cx="2303640" cy="41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ж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362" name="WordArt 11"/>
          <p:cNvSpPr txBox="1"/>
          <p:nvPr/>
        </p:nvSpPr>
        <p:spPr>
          <a:xfrm rot="1171200">
            <a:off x="4952880" y="2514240"/>
            <a:ext cx="2432160" cy="91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илосерд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WordArt 12"/>
          <p:cNvSpPr txBox="1"/>
          <p:nvPr/>
        </p:nvSpPr>
        <p:spPr>
          <a:xfrm rot="19956600">
            <a:off x="4267080" y="4419720"/>
            <a:ext cx="23241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3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ушев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364" name="WordArt 13"/>
          <p:cNvSpPr txBox="1"/>
          <p:nvPr/>
        </p:nvSpPr>
        <p:spPr>
          <a:xfrm rot="1643400">
            <a:off x="2743200" y="4952880"/>
            <a:ext cx="24382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40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Искрен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80880" y="152280"/>
            <a:ext cx="82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вое сердце наполня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1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1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1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1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1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1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3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7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93800" indent="-387360">
              <a:spcBef>
                <a:spcPts val="134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страда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чувств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действ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зна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едине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E8B6-F81E-4DEF-8374-A927A0E14B53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09480" y="304920"/>
            <a:ext cx="815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28600" y="38088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ебе всегда сопутству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F54-252A-4072-9937-E5EC53A44EFE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1" name="Group 7"/>
          <p:cNvGrpSpPr/>
          <p:nvPr/>
        </p:nvGrpSpPr>
        <p:grpSpPr>
          <a:xfrm>
            <a:off x="762120" y="0"/>
            <a:ext cx="7543440" cy="6766560"/>
            <a:chOff x="762120" y="0"/>
            <a:chExt cx="7543440" cy="6766560"/>
          </a:xfrm>
        </p:grpSpPr>
        <p:pic>
          <p:nvPicPr>
            <p:cNvPr id="372" name="Picture 4" descr="Ты нам нужен"/>
            <p:cNvPicPr/>
            <p:nvPr/>
          </p:nvPicPr>
          <p:blipFill>
            <a:blip r:embed="rId1"/>
            <a:stretch/>
          </p:blipFill>
          <p:spPr>
            <a:xfrm>
              <a:off x="2062440" y="0"/>
              <a:ext cx="4800960" cy="60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5"/>
            <p:cNvSpPr/>
            <p:nvPr/>
          </p:nvSpPr>
          <p:spPr>
            <a:xfrm>
              <a:off x="762120" y="6123960"/>
              <a:ext cx="754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Мы очень разные, но мы вместе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cc3300"/>
                </a:solidFill>
                <a:latin typeface="Times New Roman"/>
              </a:rPr>
              <a:t>Что же такое толерантность? </a:t>
            </a:r>
            <a:endParaRPr b="0" lang="en-US" sz="7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471-5570-4BC8-94FF-3E8562F8C58A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Times New Roman"/>
              </a:rPr>
              <a:t>В русском языке “толерантность” означает “способность, умение терпеть, мириться с чужим мнением, быть снисходительным к поступкам других людей, мягко относиться к их промахам, ошибкам”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E78A-BEA0-43AF-AF28-83BC4E8E6097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6480" y="-298440"/>
            <a:ext cx="8564400" cy="23097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53316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Все мы люд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Живем на одной планет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Живем в одном городе, республик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Учимся в одной школе, в одном класс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Живем на одних улица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Носим одну одежду, очк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Занимаемся одним дело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Похожи глаза, волос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6CC2-70EF-48E6-97BB-7DCCC1D747B3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79" name="Номер слайда 5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6C6E-9FC3-4322-9717-4B062ABB513F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0" name="Group 86"/>
          <p:cNvGrpSpPr/>
          <p:nvPr/>
        </p:nvGrpSpPr>
        <p:grpSpPr>
          <a:xfrm>
            <a:off x="609480" y="913680"/>
            <a:ext cx="8001000" cy="5942520"/>
            <a:chOff x="609480" y="913680"/>
            <a:chExt cx="8001000" cy="5942520"/>
          </a:xfrm>
        </p:grpSpPr>
        <p:sp>
          <p:nvSpPr>
            <p:cNvPr id="381" name="AutoShape 72"/>
            <p:cNvSpPr/>
            <p:nvPr/>
          </p:nvSpPr>
          <p:spPr>
            <a:xfrm>
              <a:off x="609480" y="1076760"/>
              <a:ext cx="7391160" cy="5618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2" name="Text Box 74"/>
            <p:cNvSpPr/>
            <p:nvPr/>
          </p:nvSpPr>
          <p:spPr>
            <a:xfrm>
              <a:off x="2742840" y="327528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Text Box 75"/>
            <p:cNvSpPr/>
            <p:nvPr/>
          </p:nvSpPr>
          <p:spPr>
            <a:xfrm>
              <a:off x="4038480" y="1076760"/>
              <a:ext cx="11430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4" name="Text Box 77"/>
            <p:cNvSpPr/>
            <p:nvPr/>
          </p:nvSpPr>
          <p:spPr>
            <a:xfrm flipV="1" rot="5400000">
              <a:off x="3550320" y="1477440"/>
              <a:ext cx="146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Прощ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5" name="Text Box 78"/>
            <p:cNvSpPr/>
            <p:nvPr/>
          </p:nvSpPr>
          <p:spPr>
            <a:xfrm rot="5400000">
              <a:off x="3548520" y="595404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Милосерд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6" name="Text Box 79"/>
            <p:cNvSpPr/>
            <p:nvPr/>
          </p:nvSpPr>
          <p:spPr>
            <a:xfrm>
              <a:off x="914040" y="36828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страд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7" name="Text Box 80"/>
            <p:cNvSpPr/>
            <p:nvPr/>
          </p:nvSpPr>
          <p:spPr>
            <a:xfrm rot="2105400">
              <a:off x="1602360" y="221688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Терпимость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 rot="19110600">
              <a:off x="5554800" y="2136600"/>
              <a:ext cx="15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чув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9" name="Text Box 82"/>
            <p:cNvSpPr/>
            <p:nvPr/>
          </p:nvSpPr>
          <p:spPr>
            <a:xfrm rot="2068800">
              <a:off x="5725080" y="53121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Уваж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0" name="Text Box 83"/>
            <p:cNvSpPr/>
            <p:nvPr/>
          </p:nvSpPr>
          <p:spPr>
            <a:xfrm rot="19128600">
              <a:off x="1278000" y="523260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дей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Text Box 84"/>
            <p:cNvSpPr/>
            <p:nvPr/>
          </p:nvSpPr>
          <p:spPr>
            <a:xfrm>
              <a:off x="6400440" y="3601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Взаимопоним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92" name="Text Box 85"/>
          <p:cNvSpPr/>
          <p:nvPr/>
        </p:nvSpPr>
        <p:spPr>
          <a:xfrm>
            <a:off x="609480" y="1522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олерантность это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58760" y="-212760"/>
            <a:ext cx="8813880" cy="1908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Уважай собесед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Старайся понять то, о чем говорят друг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Отстаивай свое мнение тактичн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Ищи лучшие аргумен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Будь справедливым, готовым признать правоту друг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Стремись учитывать интересы други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CF30-27C6-4D33-B064-4C12F19F8A41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0880" y="151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Наша школа, каждый класс и группа –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это маленькая семья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И хочется,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чтобы в нашей семье всегда царили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доброта, уважение,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взаимопонимание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2AB1-B0D6-45CF-9262-875CB3C2E77F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4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4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146240" y="2060640"/>
            <a:ext cx="6211800" cy="3468600"/>
          </a:xfrm>
          <a:prstGeom prst="rect">
            <a:avLst/>
          </a:prstGeom>
          <a:ln w="0">
            <a:noFill/>
          </a:ln>
        </p:spPr>
      </p:pic>
      <p:sp>
        <p:nvSpPr>
          <p:cNvPr id="3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BE0F-383A-447A-85A5-8A40C0EAB2D9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6480" y="6480"/>
            <a:ext cx="8643960" cy="1815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Ро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Цвет волос и гла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деж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н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Националь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Фигу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Возраст (старые и молодые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Характе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Культу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68E4-891D-4FF2-BE34-B9ED3FE1995D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33cc"/>
                </a:solidFill>
                <a:latin typeface="Times New Roman"/>
              </a:rPr>
              <a:t>Различия дополняют и обогащают общество.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33cc"/>
                </a:solidFill>
                <a:latin typeface="Times New Roman"/>
              </a:rPr>
              <a:t>Чтобы жить в мире, людям надо научиться жить, решая проблемы и задачи на основе </a:t>
            </a:r>
            <a:r>
              <a:rPr b="1" lang="ru-RU" sz="8000" spc="-1" strike="noStrike">
                <a:solidFill>
                  <a:srgbClr val="0033cc"/>
                </a:solidFill>
                <a:latin typeface="Times New Roman"/>
              </a:rPr>
              <a:t>сотрудничеств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EDBA-4EB3-4ED9-A69F-661E76E0630B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8C04-110F-4377-B0C4-D0C9B2B3BDC2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21" name="Picture 4" descr="Не толерантно!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343400" y="457200"/>
            <a:ext cx="4513320" cy="54864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0"/>
          <p:cNvSpPr/>
          <p:nvPr/>
        </p:nvSpPr>
        <p:spPr>
          <a:xfrm>
            <a:off x="533520" y="228600"/>
            <a:ext cx="35812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Мы разные, но должны жить в мире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е толерантно доказывать свое право на разность подобным образо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485200" cy="1765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066680" y="167616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взаимопонимание, взаимоуважение, ответственность, доброжелательность, сдержанность,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уступчивость,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терпимость…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D0B7-2E42-44F1-90F5-1B291CD7A331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F79D-EE74-4A7D-895F-0E2D36098CF0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27" name="Group 8"/>
          <p:cNvGrpSpPr/>
          <p:nvPr/>
        </p:nvGrpSpPr>
        <p:grpSpPr>
          <a:xfrm>
            <a:off x="0" y="1295280"/>
            <a:ext cx="4038120" cy="4920120"/>
            <a:chOff x="0" y="1295280"/>
            <a:chExt cx="4038120" cy="4920120"/>
          </a:xfrm>
        </p:grpSpPr>
        <p:pic>
          <p:nvPicPr>
            <p:cNvPr id="328" name="Picture 4" descr="Изображение 016"/>
            <p:cNvPicPr/>
            <p:nvPr/>
          </p:nvPicPr>
          <p:blipFill>
            <a:blip r:embed="rId1"/>
            <a:stretch/>
          </p:blipFill>
          <p:spPr>
            <a:xfrm>
              <a:off x="329400" y="1295280"/>
              <a:ext cx="3708720" cy="32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5"/>
            <p:cNvSpPr/>
            <p:nvPr/>
          </p:nvSpPr>
          <p:spPr>
            <a:xfrm>
              <a:off x="0" y="4659120"/>
              <a:ext cx="4021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Светлое пятно – добро, темное пятно - зло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30" name="Text Box 7"/>
          <p:cNvSpPr/>
          <p:nvPr/>
        </p:nvSpPr>
        <p:spPr>
          <a:xfrm>
            <a:off x="304920" y="152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каждом из нас есть светлая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 темная сторон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4952880" y="1295280"/>
            <a:ext cx="3921120" cy="4867200"/>
            <a:chOff x="4952880" y="1295280"/>
            <a:chExt cx="3921120" cy="4867200"/>
          </a:xfrm>
        </p:grpSpPr>
        <p:pic>
          <p:nvPicPr>
            <p:cNvPr id="332" name="Picture 4" descr="Изображение 017"/>
            <p:cNvPicPr/>
            <p:nvPr/>
          </p:nvPicPr>
          <p:blipFill>
            <a:blip r:embed="rId2"/>
            <a:stretch/>
          </p:blipFill>
          <p:spPr>
            <a:xfrm>
              <a:off x="4952880" y="1295280"/>
              <a:ext cx="392112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5"/>
            <p:cNvSpPr/>
            <p:nvPr/>
          </p:nvSpPr>
          <p:spPr>
            <a:xfrm>
              <a:off x="5073480" y="4606200"/>
              <a:ext cx="37033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Один сажает цветы, другой - их рвет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33cc"/>
                </a:solidFill>
                <a:latin typeface="Times New Roman"/>
              </a:rPr>
              <a:t>«Чтобы поверить  в добро, надо начать его делать».</a:t>
            </a:r>
            <a:endParaRPr b="0" lang="en-US" sz="7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33cc"/>
                </a:solidFill>
                <a:latin typeface="Times New Roman"/>
              </a:rPr>
              <a:t>Л. Толстой</a:t>
            </a:r>
            <a:endParaRPr b="0" lang="en-US" sz="7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1DF7-2A92-404A-B597-6FEA148E4D14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6C87-1DCF-4AEC-ADF4-FEE2F5E16FB5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37" name="Group 6"/>
          <p:cNvGrpSpPr/>
          <p:nvPr/>
        </p:nvGrpSpPr>
        <p:grpSpPr>
          <a:xfrm>
            <a:off x="762120" y="304920"/>
            <a:ext cx="7467480" cy="6418080"/>
            <a:chOff x="762120" y="304920"/>
            <a:chExt cx="7467480" cy="6418080"/>
          </a:xfrm>
        </p:grpSpPr>
        <p:pic>
          <p:nvPicPr>
            <p:cNvPr id="338" name="Picture 4" descr="Изображение 015"/>
            <p:cNvPicPr/>
            <p:nvPr/>
          </p:nvPicPr>
          <p:blipFill>
            <a:blip r:embed="rId1"/>
            <a:stretch/>
          </p:blipFill>
          <p:spPr>
            <a:xfrm>
              <a:off x="838080" y="304920"/>
              <a:ext cx="7315200" cy="50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5"/>
            <p:cNvSpPr/>
            <p:nvPr/>
          </p:nvSpPr>
          <p:spPr>
            <a:xfrm>
              <a:off x="762120" y="5410080"/>
              <a:ext cx="7467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Внимание к старшим – проявление доброты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онова Н.И.</dc:creator>
  <dc:description/>
  <dc:language>en-US</dc:language>
  <cp:lastModifiedBy>USER</cp:lastModifiedBy>
  <dcterms:modified xsi:type="dcterms:W3CDTF">2021-11-12T08:19:39Z</dcterms:modified>
  <cp:revision>362</cp:revision>
  <dc:subject>Толерантност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