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1.jpeg" ContentType="image/jpeg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3.jpeg" ContentType="image/jpeg"/>
  <Override PartName="/ppt/media/image28.png" ContentType="image/png"/>
  <Override PartName="/ppt/media/image15.wmf" ContentType="image/x-wmf"/>
  <Override PartName="/ppt/media/image27.png" ContentType="image/png"/>
  <Override PartName="/ppt/media/image26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445-5473-4460-A8D5-465BCA58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67D-DC66-4D40-896B-CD50A3FF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2A7-5146-4D84-BDBD-C0848788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109-3570-4E17-8B0E-75B23E48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7D8-F0DB-4894-BEC8-58A4783F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8E58-FECC-43EC-B1F2-C8DF53D3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6A9-8AEA-4B3B-95F0-3AB5AB2E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F259-0B5A-4149-9B54-2CABCEB7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ADD1-5D69-4237-A81E-956D750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EF81-8FB3-4126-94F8-AD2434B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4D2-3B85-4841-B173-20E385A3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40A-453D-4A37-9F55-AD2F25BF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41CD-B50D-41AE-ADD8-557F312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144F-3B5D-4FD6-A353-F8AB0E9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3A46-E2A0-44F0-A409-46D96216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6EB8-E0DF-4925-94D8-7F96DDE0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66E3-3359-4DD5-A87D-CB7F393F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63C-A1C5-45BC-B246-17F90BF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DF3-BDFA-44C7-89D0-4E086AC4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779-96B3-4C94-82D5-D90DA9D6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D63-2D04-4160-AACC-267D9D93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22-FD90-4E89-88A7-A626AC2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CB7-B4BB-4E96-9C08-88AD2805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9F2-88AF-4C9D-9AFD-FA8DBF0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05FD-8E25-4944-804F-57C8E108A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AC2C-19FA-4901-BFC7-64A402FC9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hysics.ru/courses/op25part1/content/chapter2/section/paragraph1/theory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Гармонические колеб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Picture 4" descr="2-1-1"/>
          <p:cNvPicPr/>
          <p:nvPr/>
        </p:nvPicPr>
        <p:blipFill>
          <a:blip r:embed="rId1"/>
          <a:stretch/>
        </p:blipFill>
        <p:spPr>
          <a:xfrm>
            <a:off x="1042920" y="1844640"/>
            <a:ext cx="4672080" cy="3240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755640" y="5229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ебатель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5" descr="http://festival.1september.ru/articles/501918/img1.gif"/>
          <p:cNvPicPr/>
          <p:nvPr/>
        </p:nvPicPr>
        <p:blipFill>
          <a:blip r:embed="rId2">
            <a:alphaModFix amt="61000"/>
          </a:blip>
          <a:stretch/>
        </p:blipFill>
        <p:spPr>
          <a:xfrm>
            <a:off x="5786280" y="1928880"/>
            <a:ext cx="2786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ыполнить задания по карточка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1" name="Object 7"/>
          <p:cNvGraphicFramePr/>
          <p:nvPr/>
        </p:nvGraphicFramePr>
        <p:xfrm>
          <a:off x="4643280" y="2643120"/>
          <a:ext cx="3733920" cy="23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43120"/>
                    <a:ext cx="37339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5"/>
          <p:cNvGraphicFramePr/>
          <p:nvPr/>
        </p:nvGraphicFramePr>
        <p:xfrm>
          <a:off x="500040" y="2643120"/>
          <a:ext cx="3857760" cy="22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643120"/>
                    <a:ext cx="38577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Сравнительная таблица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85880" y="1285920"/>
          <a:ext cx="7786800" cy="4916520"/>
        </p:xfrm>
        <a:graphic>
          <a:graphicData uri="http://schemas.openxmlformats.org/drawingml/2006/table">
            <a:tbl>
              <a:tblPr/>
              <a:tblGrid>
                <a:gridCol w="3390840"/>
                <a:gridCol w="4395960"/>
              </a:tblGrid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ханик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ектро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щение (координата) 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х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заря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начение силы ток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изменения силы ток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ДС самоиндук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е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71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колеб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жинного маятн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лебательном контуре, формула Томсо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гармонических колеб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х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е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охранения энергии в колебательном процесс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вер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85840" y="785880"/>
          <a:ext cx="8572320" cy="5468760"/>
        </p:xfrm>
        <a:graphic>
          <a:graphicData uri="http://schemas.openxmlformats.org/drawingml/2006/table">
            <a:tbl>
              <a:tblPr/>
              <a:tblGrid>
                <a:gridCol w="3852720"/>
                <a:gridCol w="290520"/>
                <a:gridCol w="4429080"/>
              </a:tblGrid>
              <a:tr h="352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хани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ектродина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50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щение (координата) 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х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заря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49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Х'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начение силы ток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981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=Х''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изменения силы ток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ДС самоиндук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е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'   Уравнение зависимости е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07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иод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еб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жинного маят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лебательном контуре, формула Томс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гармонических колеб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х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6929280" y="1285920"/>
                <a:ext cx="1285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2643120" y="321480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П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7572240" y="3357720"/>
                <a:ext cx="1285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П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5572080" y="2571840"/>
            <a:ext cx="2235240" cy="3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500200" y="2357280"/>
                <a:ext cx="1714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2857680" y="1785960"/>
                <a:ext cx="1500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857680" y="1285920"/>
                <a:ext cx="1571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6" name="Рисунок 12" descr="img6.gif"/>
          <p:cNvPicPr/>
          <p:nvPr/>
        </p:nvPicPr>
        <p:blipFill>
          <a:blip r:embed="rId2"/>
          <a:stretch/>
        </p:blipFill>
        <p:spPr>
          <a:xfrm>
            <a:off x="857160" y="4572000"/>
            <a:ext cx="2928960" cy="15001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3" descr="img7.gif"/>
          <p:cNvPicPr/>
          <p:nvPr/>
        </p:nvPicPr>
        <p:blipFill>
          <a:blip r:embed="rId3"/>
          <a:stretch/>
        </p:blipFill>
        <p:spPr>
          <a:xfrm>
            <a:off x="5000760" y="4429080"/>
            <a:ext cx="3500280" cy="15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785960"/>
                <a:ext cx="1612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85880" y="857160"/>
          <a:ext cx="7786800" cy="5294520"/>
        </p:xfrm>
        <a:graphic>
          <a:graphicData uri="http://schemas.openxmlformats.org/drawingml/2006/table">
            <a:tbl>
              <a:tblPr/>
              <a:tblGrid>
                <a:gridCol w="3390840"/>
                <a:gridCol w="439596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е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</a:tbl>
          </a:graphicData>
        </a:graphic>
      </p:graphicFrame>
      <p:pic>
        <p:nvPicPr>
          <p:cNvPr id="232" name="Рисунок 5" descr="img8.gif"/>
          <p:cNvPicPr/>
          <p:nvPr/>
        </p:nvPicPr>
        <p:blipFill>
          <a:blip r:embed="rId1"/>
          <a:stretch/>
        </p:blipFill>
        <p:spPr>
          <a:xfrm>
            <a:off x="1071720" y="121428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img9.gif"/>
          <p:cNvPicPr/>
          <p:nvPr/>
        </p:nvPicPr>
        <p:blipFill>
          <a:blip r:embed="rId2"/>
          <a:stretch/>
        </p:blipFill>
        <p:spPr>
          <a:xfrm>
            <a:off x="4643280" y="121428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img10.gif"/>
          <p:cNvPicPr/>
          <p:nvPr/>
        </p:nvPicPr>
        <p:blipFill>
          <a:blip r:embed="rId3"/>
          <a:stretch/>
        </p:blipFill>
        <p:spPr>
          <a:xfrm>
            <a:off x="1071720" y="378612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img11.gif"/>
          <p:cNvPicPr/>
          <p:nvPr/>
        </p:nvPicPr>
        <p:blipFill>
          <a:blip r:embed="rId4"/>
          <a:stretch/>
        </p:blipFill>
        <p:spPr>
          <a:xfrm>
            <a:off x="4714920" y="3714840"/>
            <a:ext cx="3171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вер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1643040"/>
          <a:ext cx="8572320" cy="3765600"/>
        </p:xfrm>
        <a:graphic>
          <a:graphicData uri="http://schemas.openxmlformats.org/drawingml/2006/table">
            <a:tbl>
              <a:tblPr/>
              <a:tblGrid>
                <a:gridCol w="4143240"/>
                <a:gridCol w="4429080"/>
              </a:tblGrid>
              <a:tr h="75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1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охранения энергии в колебательном процесс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охранения энергии в колебательном процесс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</a:tbl>
          </a:graphicData>
        </a:graphic>
      </p:graphicFrame>
      <p:sp>
        <p:nvSpPr>
          <p:cNvPr id="23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2" descr=""/>
          <p:cNvPicPr/>
          <p:nvPr/>
        </p:nvPicPr>
        <p:blipFill>
          <a:blip r:embed="rId1"/>
          <a:stretch/>
        </p:blipFill>
        <p:spPr>
          <a:xfrm>
            <a:off x="6072120" y="442908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4" descr=""/>
          <p:cNvPicPr/>
          <p:nvPr/>
        </p:nvPicPr>
        <p:blipFill>
          <a:blip r:embed="rId2"/>
          <a:stretch/>
        </p:blipFill>
        <p:spPr>
          <a:xfrm>
            <a:off x="6143760" y="3357720"/>
            <a:ext cx="1231920" cy="8571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6" descr=""/>
          <p:cNvPicPr/>
          <p:nvPr/>
        </p:nvPicPr>
        <p:blipFill>
          <a:blip r:embed="rId3"/>
          <a:stretch/>
        </p:blipFill>
        <p:spPr>
          <a:xfrm>
            <a:off x="2214720" y="3286080"/>
            <a:ext cx="139212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8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9" descr=""/>
          <p:cNvPicPr/>
          <p:nvPr/>
        </p:nvPicPr>
        <p:blipFill>
          <a:blip r:embed="rId4"/>
          <a:stretch/>
        </p:blipFill>
        <p:spPr>
          <a:xfrm>
            <a:off x="2286000" y="4357800"/>
            <a:ext cx="1285920" cy="917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1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"/>
              </a:rPr>
              <a:t>Использованные материа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здании презентации использовались иллю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еханические колебательные систем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фики координаты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корости υ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и ускорения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тела, совершающего гармонические колебания»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(http://physics.ru/courses/op25part1/content/chapter2/section/paragraph1/theory.htm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28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лебания –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цесс, который частично или полностью повторяется через некоторый промежуток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пример,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гитара"/>
          <p:cNvPicPr/>
          <p:nvPr/>
        </p:nvPicPr>
        <p:blipFill>
          <a:blip r:embed="rId1"/>
          <a:stretch/>
        </p:blipFill>
        <p:spPr>
          <a:xfrm>
            <a:off x="4427640" y="170028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бабочка"/>
          <p:cNvPicPr/>
          <p:nvPr/>
        </p:nvPicPr>
        <p:blipFill>
          <a:blip r:embed="rId2"/>
          <a:stretch/>
        </p:blipFill>
        <p:spPr>
          <a:xfrm>
            <a:off x="6372360" y="191628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чели"/>
          <p:cNvPicPr/>
          <p:nvPr/>
        </p:nvPicPr>
        <p:blipFill>
          <a:blip r:embed="rId3"/>
          <a:stretch/>
        </p:blipFill>
        <p:spPr>
          <a:xfrm>
            <a:off x="4643280" y="3860640"/>
            <a:ext cx="144144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часы"/>
          <p:cNvPicPr/>
          <p:nvPr/>
        </p:nvPicPr>
        <p:blipFill>
          <a:blip r:embed="rId4"/>
          <a:stretch/>
        </p:blipFill>
        <p:spPr>
          <a:xfrm>
            <a:off x="6156360" y="3716280"/>
            <a:ext cx="22971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86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мплитуда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аксимальное значение меняющейся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076720" y="4000680"/>
            <a:ext cx="3381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0,2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10 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7"/>
          <p:cNvGraphicFramePr/>
          <p:nvPr/>
        </p:nvGraphicFramePr>
        <p:xfrm>
          <a:off x="3143160" y="3000240"/>
          <a:ext cx="2784600" cy="21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000240"/>
                    <a:ext cx="2784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0" y="4643280"/>
          <a:ext cx="3591000" cy="186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3280"/>
                    <a:ext cx="3591000" cy="18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752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ериод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ремя, за которое тело совершает одно полное колеба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7"/>
          <p:cNvGraphicFramePr/>
          <p:nvPr/>
        </p:nvGraphicFramePr>
        <p:xfrm>
          <a:off x="468360" y="3716280"/>
          <a:ext cx="359100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716280"/>
                    <a:ext cx="359100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Line 8"/>
          <p:cNvSpPr/>
          <p:nvPr/>
        </p:nvSpPr>
        <p:spPr>
          <a:xfrm>
            <a:off x="971640" y="4724280"/>
            <a:ext cx="1800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686480" y="4000680"/>
            <a:ext cx="3771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 = 4·1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578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астота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исло полных колебаний, совершенных за единицу време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4788000" y="4005360"/>
          <a:ext cx="359100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4005360"/>
                    <a:ext cx="359100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79840" y="0"/>
          <a:ext cx="208080" cy="5032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Group 69"/>
          <p:cNvGrpSpPr/>
          <p:nvPr/>
        </p:nvGrpSpPr>
        <p:grpSpPr>
          <a:xfrm>
            <a:off x="826920" y="3357720"/>
            <a:ext cx="2448000" cy="1441440"/>
            <a:chOff x="826920" y="3357720"/>
            <a:chExt cx="2448000" cy="1441440"/>
          </a:xfrm>
        </p:grpSpPr>
        <p:sp>
          <p:nvSpPr>
            <p:cNvPr id="120" name="Rectangle 50"/>
            <p:cNvSpPr/>
            <p:nvPr/>
          </p:nvSpPr>
          <p:spPr>
            <a:xfrm>
              <a:off x="2050920" y="3860280"/>
              <a:ext cx="12240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6"/>
            <p:cNvSpPr/>
            <p:nvPr/>
          </p:nvSpPr>
          <p:spPr>
            <a:xfrm>
              <a:off x="2050920" y="4296600"/>
              <a:ext cx="1224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2050920" y="3357720"/>
              <a:ext cx="12240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826920" y="3357720"/>
              <a:ext cx="2448000" cy="144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7"/>
            <p:cNvSpPr/>
            <p:nvPr/>
          </p:nvSpPr>
          <p:spPr>
            <a:xfrm>
              <a:off x="826920" y="3357720"/>
              <a:ext cx="244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>
              <a:off x="826920" y="4799160"/>
              <a:ext cx="244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826920" y="3357720"/>
              <a:ext cx="0" cy="144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3274920" y="3357720"/>
              <a:ext cx="0" cy="144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55"/>
          <p:cNvSpPr/>
          <p:nvPr/>
        </p:nvSpPr>
        <p:spPr>
          <a:xfrm>
            <a:off x="2050920" y="414972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5"/>
          <p:cNvSpPr/>
          <p:nvPr/>
        </p:nvSpPr>
        <p:spPr>
          <a:xfrm>
            <a:off x="826920" y="4724280"/>
            <a:ext cx="3456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           =250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3"/>
          <p:cNvSpPr/>
          <p:nvPr/>
        </p:nvSpPr>
        <p:spPr>
          <a:xfrm>
            <a:off x="1619280" y="5589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84224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клическая частота 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изическая величина, численно равная числу колебаний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кунд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5219640" y="4076640"/>
          <a:ext cx="359100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4076640"/>
                    <a:ext cx="359100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6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solidFill>
            <a:srgbClr val="fff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3"/>
          <p:cNvGrpSpPr/>
          <p:nvPr/>
        </p:nvGrpSpPr>
        <p:grpSpPr>
          <a:xfrm>
            <a:off x="1042920" y="3500280"/>
            <a:ext cx="2087640" cy="1657440"/>
            <a:chOff x="1042920" y="3500280"/>
            <a:chExt cx="2087640" cy="1657440"/>
          </a:xfrm>
        </p:grpSpPr>
        <p:sp>
          <p:nvSpPr>
            <p:cNvPr id="137" name="Rectangle 18"/>
            <p:cNvSpPr/>
            <p:nvPr/>
          </p:nvSpPr>
          <p:spPr>
            <a:xfrm>
              <a:off x="2086560" y="4078440"/>
              <a:ext cx="10436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2086560" y="4579920"/>
              <a:ext cx="10436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2086560" y="3500280"/>
              <a:ext cx="10436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1042920" y="3500280"/>
              <a:ext cx="2087640" cy="1657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l-GR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lang="ru-RU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</a:t>
              </a:r>
              <a:r>
                <a:rPr b="0" lang="el-GR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π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>
              <a:off x="1042920" y="3500280"/>
              <a:ext cx="20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1042920" y="5157720"/>
              <a:ext cx="20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1042920" y="3500280"/>
              <a:ext cx="0" cy="165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>
              <a:off x="3130560" y="3500280"/>
              <a:ext cx="0" cy="165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9"/>
          <p:cNvSpPr/>
          <p:nvPr/>
        </p:nvSpPr>
        <p:spPr>
          <a:xfrm>
            <a:off x="2050920" y="5445000"/>
            <a:ext cx="289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195640" y="5373720"/>
            <a:ext cx="504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2050920" y="4653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7"/>
          <p:cNvSpPr/>
          <p:nvPr/>
        </p:nvSpPr>
        <p:spPr>
          <a:xfrm>
            <a:off x="2124000" y="3645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95280" y="5373720"/>
            <a:ext cx="441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50=500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ад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176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3280" y="1904760"/>
            <a:ext cx="37720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176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фаза 0"/>
          <p:cNvPicPr/>
          <p:nvPr/>
        </p:nvPicPr>
        <p:blipFill>
          <a:blip r:embed="rId1"/>
          <a:srcRect l="11241" t="0" r="45453" b="69848"/>
          <a:stretch/>
        </p:blipFill>
        <p:spPr>
          <a:xfrm>
            <a:off x="971640" y="2349360"/>
            <a:ext cx="24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фаза1"/>
          <p:cNvPicPr/>
          <p:nvPr/>
        </p:nvPicPr>
        <p:blipFill>
          <a:blip r:embed="rId2"/>
          <a:stretch/>
        </p:blipFill>
        <p:spPr>
          <a:xfrm>
            <a:off x="5219640" y="234936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519640" cy="158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5292720" y="4508640"/>
            <a:ext cx="21826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равнение гармонических колеба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281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армонические колебания – это колебания, происходящие по закону  синуса или коси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14920" y="4857840"/>
            <a:ext cx="381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φ = ω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+  φ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фаза колебаний в данный момен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714920" y="4143240"/>
            <a:ext cx="38145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ω – циклическая ча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ω=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43280" y="3710160"/>
            <a:ext cx="381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начальная фаз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643280" y="2928960"/>
            <a:ext cx="381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амплитуд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амплитуд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9280" y="2781360"/>
            <a:ext cx="44640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cos (ω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+ φ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cos (ω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+ φ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826920" y="2852640"/>
            <a:ext cx="76312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826920" y="5792760"/>
            <a:ext cx="76312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826920" y="2781360"/>
            <a:ext cx="0" cy="30114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4643280" y="2781360"/>
            <a:ext cx="0" cy="301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8458200" y="2781360"/>
            <a:ext cx="0" cy="30114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>
            <a:off x="5143680" y="3643200"/>
            <a:ext cx="381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4643280" y="4300560"/>
            <a:ext cx="381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643280" y="5095800"/>
            <a:ext cx="381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Игра «Один за всех и все за одного»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75" name="Organization Chart 9"/>
          <p:cNvGrpSpPr/>
          <p:nvPr/>
        </p:nvGrpSpPr>
        <p:grpSpPr>
          <a:xfrm>
            <a:off x="142920" y="1928880"/>
            <a:ext cx="2592360" cy="4402800"/>
            <a:chOff x="142920" y="1928880"/>
            <a:chExt cx="2592360" cy="4402800"/>
          </a:xfrm>
        </p:grpSpPr>
        <p:cxnSp>
          <p:nvCxnSpPr>
            <p:cNvPr id="176" name="_s5124"/>
            <p:cNvCxnSpPr>
              <a:stCxn id="177" idx="1"/>
              <a:endCxn id="178" idx="2"/>
            </p:cNvCxnSpPr>
            <p:nvPr/>
          </p:nvCxnSpPr>
          <p:spPr>
            <a:xfrm rot="10800000">
              <a:off x="1724760" y="5590440"/>
              <a:ext cx="144000" cy="4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5125"/>
            <p:cNvCxnSpPr>
              <a:stCxn id="178" idx="1"/>
              <a:endCxn id="180" idx="2"/>
            </p:cNvCxnSpPr>
            <p:nvPr/>
          </p:nvCxnSpPr>
          <p:spPr>
            <a:xfrm rot="10800000">
              <a:off x="1146600" y="4849200"/>
              <a:ext cx="144720" cy="49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5126"/>
            <p:cNvCxnSpPr>
              <a:stCxn id="180" idx="1"/>
              <a:endCxn id="182" idx="2"/>
            </p:cNvCxnSpPr>
            <p:nvPr/>
          </p:nvCxnSpPr>
          <p:spPr>
            <a:xfrm rot="10800000">
              <a:off x="573120" y="4056840"/>
              <a:ext cx="144000" cy="52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82" idx="0"/>
              <a:endCxn id="184" idx="2"/>
            </p:cNvCxnSpPr>
            <p:nvPr/>
          </p:nvCxnSpPr>
          <p:spPr>
            <a:xfrm flipV="1">
              <a:off x="573480" y="3264840"/>
              <a:ext cx="1800" cy="24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5128"/>
            <p:cNvCxnSpPr>
              <a:stCxn id="184" idx="0"/>
              <a:endCxn id="186" idx="2"/>
            </p:cNvCxnSpPr>
            <p:nvPr/>
          </p:nvCxnSpPr>
          <p:spPr>
            <a:xfrm flipV="1">
              <a:off x="573480" y="2472840"/>
              <a:ext cx="1800" cy="24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5129"/>
            <p:cNvSpPr/>
            <p:nvPr/>
          </p:nvSpPr>
          <p:spPr>
            <a:xfrm>
              <a:off x="142920" y="192888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130"/>
            <p:cNvSpPr/>
            <p:nvPr/>
          </p:nvSpPr>
          <p:spPr>
            <a:xfrm>
              <a:off x="142920" y="272124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5131"/>
            <p:cNvSpPr/>
            <p:nvPr/>
          </p:nvSpPr>
          <p:spPr>
            <a:xfrm>
              <a:off x="142920" y="351288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5132"/>
            <p:cNvSpPr/>
            <p:nvPr/>
          </p:nvSpPr>
          <p:spPr>
            <a:xfrm>
              <a:off x="717120" y="430524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5133"/>
            <p:cNvSpPr/>
            <p:nvPr/>
          </p:nvSpPr>
          <p:spPr>
            <a:xfrm>
              <a:off x="1291680" y="5097600"/>
              <a:ext cx="865800" cy="49320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134"/>
            <p:cNvSpPr/>
            <p:nvPr/>
          </p:nvSpPr>
          <p:spPr>
            <a:xfrm>
              <a:off x="1869120" y="5838480"/>
              <a:ext cx="866160" cy="49320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Уравн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Х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7" name="Object 67"/>
          <p:cNvGraphicFramePr/>
          <p:nvPr/>
        </p:nvGraphicFramePr>
        <p:xfrm>
          <a:off x="3429000" y="2000160"/>
          <a:ext cx="278460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00160"/>
                    <a:ext cx="27846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31"/>
          <p:cNvGraphicFramePr/>
          <p:nvPr/>
        </p:nvGraphicFramePr>
        <p:xfrm>
          <a:off x="6429240" y="2000160"/>
          <a:ext cx="2428920" cy="22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2000160"/>
                    <a:ext cx="24289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91" name="Соединительная линия уступом 8"/>
          <p:cNvCxnSpPr>
            <a:endCxn id="192" idx="1"/>
          </p:cNvCxnSpPr>
          <p:nvPr/>
        </p:nvCxnSpPr>
        <p:spPr>
          <a:xfrm>
            <a:off x="6072120" y="5285880"/>
            <a:ext cx="357840" cy="7236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round/>
          </a:ln>
        </p:spPr>
      </p:cxnSp>
      <p:grpSp>
        <p:nvGrpSpPr>
          <p:cNvPr id="193" name="Группа 24"/>
          <p:cNvGrpSpPr/>
          <p:nvPr/>
        </p:nvGrpSpPr>
        <p:grpSpPr>
          <a:xfrm>
            <a:off x="1285920" y="1928880"/>
            <a:ext cx="7643880" cy="4320720"/>
            <a:chOff x="1285920" y="1928880"/>
            <a:chExt cx="7643880" cy="4320720"/>
          </a:xfrm>
        </p:grpSpPr>
        <p:sp>
          <p:nvSpPr>
            <p:cNvPr id="194" name="Прямая соединительная линия 14"/>
            <p:cNvSpPr/>
            <p:nvPr/>
          </p:nvSpPr>
          <p:spPr>
            <a:xfrm>
              <a:off x="4643640" y="4572000"/>
              <a:ext cx="285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Группа 23"/>
            <p:cNvGrpSpPr/>
            <p:nvPr/>
          </p:nvGrpSpPr>
          <p:grpSpPr>
            <a:xfrm>
              <a:off x="1285920" y="1928880"/>
              <a:ext cx="7643880" cy="4320720"/>
              <a:chOff x="1285920" y="1928880"/>
              <a:chExt cx="7643880" cy="4320720"/>
            </a:xfrm>
          </p:grpSpPr>
          <p:grpSp>
            <p:nvGrpSpPr>
              <p:cNvPr id="196" name="Группа 22"/>
              <p:cNvGrpSpPr/>
              <p:nvPr/>
            </p:nvGrpSpPr>
            <p:grpSpPr>
              <a:xfrm>
                <a:off x="1285920" y="1928880"/>
                <a:ext cx="7643880" cy="4320720"/>
                <a:chOff x="1285920" y="1928880"/>
                <a:chExt cx="7643880" cy="4320720"/>
              </a:xfrm>
            </p:grpSpPr>
            <p:grpSp>
              <p:nvGrpSpPr>
                <p:cNvPr id="197" name="Organization Chart 53"/>
                <p:cNvGrpSpPr/>
                <p:nvPr/>
              </p:nvGrpSpPr>
              <p:grpSpPr>
                <a:xfrm>
                  <a:off x="1285920" y="1928880"/>
                  <a:ext cx="6264000" cy="4320720"/>
                  <a:chOff x="1285920" y="1928880"/>
                  <a:chExt cx="6264000" cy="4320720"/>
                </a:xfrm>
              </p:grpSpPr>
              <p:cxnSp>
                <p:nvCxnSpPr>
                  <p:cNvPr id="198" name="_s5137"/>
                  <p:cNvCxnSpPr>
                    <a:stCxn id="199" idx="1"/>
                    <a:endCxn id="200" idx="2"/>
                  </p:cNvCxnSpPr>
                  <p:nvPr/>
                </p:nvCxnSpPr>
                <p:spPr>
                  <a:xfrm rot="10800000">
                    <a:off x="5109480" y="5522040"/>
                    <a:ext cx="347040" cy="48492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1" name="_s5138"/>
                  <p:cNvCxnSpPr>
                    <a:stCxn id="200" idx="1"/>
                    <a:endCxn id="202" idx="2"/>
                  </p:cNvCxnSpPr>
                  <p:nvPr/>
                </p:nvCxnSpPr>
                <p:spPr>
                  <a:xfrm rot="10800000">
                    <a:off x="3711960" y="4794480"/>
                    <a:ext cx="349560" cy="48636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3" name="_s5139"/>
                  <p:cNvCxnSpPr>
                    <a:stCxn id="202" idx="1"/>
                    <a:endCxn id="204" idx="2"/>
                  </p:cNvCxnSpPr>
                  <p:nvPr/>
                </p:nvCxnSpPr>
                <p:spPr>
                  <a:xfrm rot="10800000">
                    <a:off x="2326320" y="4016880"/>
                    <a:ext cx="347040" cy="51084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5" name="_s5140"/>
                  <p:cNvCxnSpPr>
                    <a:stCxn id="204" idx="0"/>
                    <a:endCxn id="206" idx="2"/>
                  </p:cNvCxnSpPr>
                  <p:nvPr/>
                </p:nvCxnSpPr>
                <p:spPr>
                  <a:xfrm flipV="1">
                    <a:off x="2326680" y="3240360"/>
                    <a:ext cx="3240" cy="24336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7" name="_s5141"/>
                  <p:cNvCxnSpPr>
                    <a:stCxn id="206" idx="0"/>
                    <a:endCxn id="208" idx="2"/>
                  </p:cNvCxnSpPr>
                  <p:nvPr/>
                </p:nvCxnSpPr>
                <p:spPr>
                  <a:xfrm flipV="1">
                    <a:off x="2326680" y="2462400"/>
                    <a:ext cx="3240" cy="24372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08" name="_s5142"/>
                  <p:cNvSpPr/>
                  <p:nvPr/>
                </p:nvSpPr>
                <p:spPr>
                  <a:xfrm>
                    <a:off x="1285920" y="192888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300" spc="-1" strike="noStrike">
                        <a:solidFill>
                          <a:srgbClr val="000000"/>
                        </a:solidFill>
                        <a:latin typeface="Arial"/>
                      </a:rPr>
                      <a:t>4 с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_s5143"/>
                  <p:cNvSpPr/>
                  <p:nvPr/>
                </p:nvSpPr>
                <p:spPr>
                  <a:xfrm>
                    <a:off x="1285920" y="270612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300" spc="-1" strike="noStrike">
                        <a:solidFill>
                          <a:srgbClr val="000000"/>
                        </a:solidFill>
                        <a:latin typeface="Arial"/>
                      </a:rPr>
                      <a:t>0,25 Гц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_s5144"/>
                  <p:cNvSpPr/>
                  <p:nvPr/>
                </p:nvSpPr>
                <p:spPr>
                  <a:xfrm>
                    <a:off x="1285920" y="348336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</a:rPr>
                      <a:t>0,5</a:t>
                    </a:r>
                    <a:r>
                      <a:rPr b="0" lang="el-GR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рад/с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_s5145"/>
                  <p:cNvSpPr/>
                  <p:nvPr/>
                </p:nvSpPr>
                <p:spPr>
                  <a:xfrm>
                    <a:off x="2673360" y="426096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300" spc="-1" strike="noStrike">
                        <a:solidFill>
                          <a:srgbClr val="000000"/>
                        </a:solidFill>
                        <a:latin typeface="Arial"/>
                      </a:rPr>
                      <a:t>10 см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_s5146"/>
                  <p:cNvSpPr/>
                  <p:nvPr/>
                </p:nvSpPr>
                <p:spPr>
                  <a:xfrm>
                    <a:off x="4061880" y="5038560"/>
                    <a:ext cx="2092320" cy="484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r>
                      <a:rPr b="0" lang="el-GR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/2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_s5147"/>
                  <p:cNvSpPr/>
                  <p:nvPr/>
                </p:nvSpPr>
                <p:spPr>
                  <a:xfrm>
                    <a:off x="5456880" y="5765400"/>
                    <a:ext cx="2093040" cy="484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Х=0,1со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0,5</a:t>
                    </a:r>
                    <a:r>
                      <a:rPr b="0" lang="el-G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3</a:t>
                    </a:r>
                    <a:r>
                      <a:rPr b="0" lang="el-G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/2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Скругленный прямоугольник 6"/>
                <p:cNvSpPr/>
                <p:nvPr/>
              </p:nvSpPr>
              <p:spPr>
                <a:xfrm>
                  <a:off x="6429600" y="5072040"/>
                  <a:ext cx="2500200" cy="57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7cd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=0,1со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0,5</a:t>
                  </a:r>
                  <a:r>
                    <a:rPr b="0" lang="el-G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3</a:t>
                  </a:r>
                  <a:r>
                    <a:rPr b="0" lang="el-G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/2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Скругленный прямоугольник 15"/>
              <p:cNvSpPr/>
              <p:nvPr/>
            </p:nvSpPr>
            <p:spPr>
              <a:xfrm>
                <a:off x="4857840" y="4286160"/>
                <a:ext cx="164304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2:07:36Z</dcterms:created>
  <dc:creator>IVC</dc:creator>
  <dc:description/>
  <dc:language>en-US</dc:language>
  <cp:lastModifiedBy>Воросова</cp:lastModifiedBy>
  <dcterms:modified xsi:type="dcterms:W3CDTF">2013-04-26T05:13:47Z</dcterms:modified>
  <cp:revision>95</cp:revision>
  <dc:subject/>
  <dc:title>Гармонические колебания</dc:title>
</cp:coreProperties>
</file>