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9B17-5F76-4C48-BADE-C73490CFD5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35F0-2CEC-44F6-828B-F4BEAC2821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D6B-60E9-468C-BF0E-5D91FADA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4F3-4466-4222-960C-FA2488D0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5F7-634F-4B1E-99BE-1C81CD21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EF0-0A24-418A-B94B-64DC897A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1A6-E283-4B50-993B-CEE7B0A4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30D-AB93-41E5-A621-AB9DBBB8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1D6-00B5-4C11-8231-B02D2320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5F9-2B49-4D83-9CA5-7E30EDC9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AA4-46CD-4DDE-A4DF-915247FD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B02-FE97-4B43-94E9-EC9AFC56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8A8-24FD-4FCB-AE11-E3961F12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BD6-3E4F-4F81-9012-B04C4194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3AA5-9391-4F6C-A57D-AAFC7D636F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previews.123rf.com/images/bellenixe/bellenixe1105/bellenixe110500013/9583734-Children-s-frame-Vector-illustration--Stock-Photo.jpg"/>
          <p:cNvPicPr/>
          <p:nvPr/>
        </p:nvPicPr>
        <p:blipFill>
          <a:blip r:embed="rId1"/>
          <a:stretch/>
        </p:blipFill>
        <p:spPr>
          <a:xfrm>
            <a:off x="2232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2276640" y="1690560"/>
            <a:ext cx="460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растные особенности детей средней групп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озраст  4-5 ле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6770520" y="5732640"/>
            <a:ext cx="2376720" cy="10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 педаг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ратенко Т. 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нова О. И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619280" y="22320"/>
            <a:ext cx="6192720" cy="131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униципальное дошкольное образовательное учреждение «Детский сад №12 «Семицветик» комбинированного вида городского округа Стрежево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36785, Томская область, г. Стрежевой, ул. Кедровая, дом 7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 (382-59) 3-30-9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emicvetik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guostrj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108000" y="2349360"/>
            <a:ext cx="87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ужно помнить, ч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существенно меняется характер. Кризис трех лет благополучно проходит, и ребенок становится гораздо более послушным и покладистым, чем раньш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нно в это время детям необходимо полноценное общение с родителями. </a:t>
            </a:r>
            <a:r>
              <a:rPr b="0" lang="ru-RU" sz="18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Собственно говоря, в этом и заключаются основы воспит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ая функция взрослых сейчас – объяснить как можно подробнее и показать на личном примере.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ебенок впитывает все как губка, с любознательностью первооткрывателя тянется к новым зн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должны внимательно выслушивать многочисленные вопросы и отвечать на них, ведь в семье дети черпают первые знания об окружающем мире и своем месте в н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но теперь необходимо закладывать нравственные качества, развивать в ребенке доброту, вежливость, отзывчивость, ответственность, любовь к тру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этом этапе у ребенка появляются первые друзья, поэтому очень важно научить общаться со сверстниками: уступать, отстаивать свои интересы, дел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2916360" y="2039760"/>
            <a:ext cx="3760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оспит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08000" y="2514600"/>
            <a:ext cx="884700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играет важнейшую роль в становлении личности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между родителями – первое, что видит подрастающий малыш, это тот эталон, который он считает единственно верным. Поэтому очень важно, чтобы у ребенка был достойный пример в лице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в воспитании отдельных черт характера должна также осуществляться в соответствии с полом дошкольника и ролями взрослых в сем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мать учит ребенка находить общий язык, искать компромисс, от нее исходит ласка, забота и любов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является олицетворением порядка, защиты, это первый учитель жизни, который помогает быть сильным и целеустремлен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ношения внутри семьи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фактор, оказывающий влияние на воспитание ребенка и на всю его последующую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201760" y="2046240"/>
            <a:ext cx="5312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емья – это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1258920" y="2852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210960" y="2205000"/>
            <a:ext cx="871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период интенсивного развития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та детского организ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щественно меняется характер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совершенствуются познавательные и коммуникативные способности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179280" y="1633680"/>
            <a:ext cx="8785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лучшается координация, движения становятся все более уверенны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развивается мотор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ую нагрузку нужно дозировать</a:t>
            </a: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тобы она не была чрезмерной. Это связано с тем, что мышцы в данный период растут хоть и быстро, но неравномерно, поэтому ребенок быстро уст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ребенок подрастает за год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5–7 см и набирает 1,5–2 кг ве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исходят рост и развитие всех органов и систем детского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25560" y="177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изические особенности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395280" y="1916280"/>
            <a:ext cx="864072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сихическое развитие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развиваются различные психические процес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амять, внимание, восприятие и друг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особенностью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то, что они становятся более осознанными, произвольными: развиваются волевые качества, которые в дальнейшем обязательно пригодя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мышл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глядно-образное (действия детей носят практический, опытный характер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по мере взросления мышление становится обобщенным и к старшему дошкольному возрасту постепенно переходит в словесно-логическ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ся объем памя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н уже способен запомнить небольшое стихотворение или поручение взрослог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ся произвольность и устойчивость вним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 могут в течение непродолжительного времени (15–20 минут) сосредоточенно заниматься каким-либо видом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179280" y="198900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 по-прежнему остается основной для малыша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ако она существенно усложняется по сравнению с ранним возраст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етей, участвующих в общении, возраст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тематические ролевые иг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детей 4–5 лет таковы, что они больше склонны общаться с ровесниками своего пола. Девочки больше любят семейные и бытовые темы (дочки-матери, магазин). Мальчики предпочитают играть в моряков, военных, рыцар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этапе дети начинают устраивать первые соревнова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ятся добиться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3900960" y="393840"/>
            <a:ext cx="1342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25280" y="2276640"/>
            <a:ext cx="89298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нравится заниматься сюжетной лепкой, аппликацией.     Одной из основных станови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ая деятельнос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сунок становится одним из средств творческого самовыра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дошкольник может сочинить небольшую сказку или песенку, понимает, что такое рифмы, и пользуется 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 фантазия и богатое воображение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зволяют создавать целые вселенные в голове или на чистом листе бумаги, где ребенок может выбрать для себя любую роль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960200" y="2093760"/>
            <a:ext cx="5260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ворческие способ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98360" y="2205000"/>
            <a:ext cx="876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начительно улучшается звукопроизношен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растет словарный запас, достигая примерно двух тысяч слов и больше. Ребенок уже способен охарактеризовать тот или иной объект, описать свои эмоции, пересказать небольшой художественный текст, ответить на вопросы взросл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развития дети овладевают грамматическим строем языка: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нимают и правильно используют предлоги, учатся строить сложные предложения и так дале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ивается связная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832840" y="333360"/>
            <a:ext cx="3497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-6048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108000" y="2498760"/>
            <a:ext cx="897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степенную важность приобретают контакты со сверстниками. Наблюдается повышенная потребность в признании и уважении со стороны ровесников. Общение, как правило, тесно связано с другими видами деятельности (игрой, совместным трудом). Появляются первые друзья, с которыми ребенок общается охотнее вс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 детей начинают возникать конкуренция и первые лидер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ровесниками носит, как правило, ситуативный характе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о взрослыми, напротив, выходит за рамки конкретной ситуации и становится более отвлечен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расценивает родителей как неисчерпаемый и авторитетный источник новых сведений, поэтому задает им множество разнообразных вопрос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но в этот период дошкольники испытывают особенную потребность в поощрении и обижаются на замечания и на то, если их старания остаются незамеченными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Порой взрослые члены семьи не замечают эти возрастные особенности детей 4–5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3760" y="1797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щение со сверстниками и  взросл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8424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227160" y="2708280"/>
            <a:ext cx="885636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ра первых симпатий и привязанностей, более глубоких и осмысленных чувств. Ребенок может понять душевное состояние близкого ему взрослого, учится сопережив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чень эмоционально относятся как к похвале, так и к замечаниям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ятся очень чувствительными и раним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5 годам ребенка начинают интересовать вопросы пола и своей гендерной принадлеж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 фантазия, воображение могут породить самы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страхи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может бояться сказочного персонажа или воображаемых чудовищ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ям не нужно слишком волноваться: это не проблем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лишь возрастные особенности детей 4–5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омнить, что это всего лишь временные трудности, которые сами уйдут со временем, если родители не будут акцентировать на них внимание или использовать против ребенка в воспитательных це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908000" y="178920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моциональные особ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14:20:03Z</dcterms:created>
  <dc:creator>User</dc:creator>
  <dc:description/>
  <dc:language>en-US</dc:language>
  <cp:lastModifiedBy>admin</cp:lastModifiedBy>
  <dcterms:modified xsi:type="dcterms:W3CDTF">2021-11-25T13:38:34Z</dcterms:modified>
  <cp:revision>66</cp:revision>
  <dc:subject/>
  <dc:title>Презентация PowerPoint</dc:title>
</cp:coreProperties>
</file>