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029D-9822-4819-BD35-009A745028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8BE4-5C8F-49AC-8B25-43B97C7CE7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C56-BE2B-4D68-81E7-DFD07A90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26DE-A52B-4234-AA5C-FCB73BF2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3019-D2D9-42A3-8C85-2989E114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1DE1-20F4-40FA-855F-438BBD78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06C8-1886-4DA3-B026-320A2E4E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92D-565A-49E0-9A6A-8D3B38B3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98F0-F8BD-4DDB-AB45-952F8817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0B1-C9F6-4799-B719-D255D049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EB64-41F4-4646-B054-40CB96D3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CBDE-8EA5-4CDA-8135-F308E199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D9FE-064B-41CA-8BAD-B932BE09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DD4D-ECFB-489F-9420-9C75ADD8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8A96-2A1D-441A-A616-BFA0455BD2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previews.123rf.com/images/bellenixe/bellenixe1105/bellenixe110500013/9583734-Children-s-frame-Vector-illustration--Stock-Photo.jpg"/>
          <p:cNvPicPr/>
          <p:nvPr/>
        </p:nvPicPr>
        <p:blipFill>
          <a:blip r:embed="rId1"/>
          <a:stretch/>
        </p:blipFill>
        <p:spPr>
          <a:xfrm>
            <a:off x="22320" y="0"/>
            <a:ext cx="9124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2276640" y="1690560"/>
            <a:ext cx="460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растные особенности детей средней групп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озраст  4-5 лет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6770520" y="5732640"/>
            <a:ext cx="2376720" cy="10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 педаго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ратенко Т. 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анова О. И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1619280" y="22320"/>
            <a:ext cx="6192720" cy="131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униципальное дошкольное образовательное учреждение «Детский сад №12 «Семицветик» комбинированного вида городского округа Стрежевой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36785, Томская область, г. Стрежевой, ул. Кедровая, дом 7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 (382-59) 3-30-93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il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emicvetik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@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guostrj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108000" y="2349360"/>
            <a:ext cx="87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ужно помнить, чт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ом этапе существенно меняется характер. Кризис трех лет благополучно проходит, и ребенок становится гораздо более послушным и покладистым, чем раньш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менно в это время детям необходимо полноценное общение с родителями. </a:t>
            </a:r>
            <a:r>
              <a:rPr b="0" lang="ru-RU" sz="18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Собственно говоря, в этом и заключаются основы воспита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ая функция взрослых сейчас – объяснить как можно подробнее и показать на личном примере.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ебенок впитывает все как губка, с любознательностью первооткрывателя тянется к новым зн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должны внимательно выслушивать многочисленные вопросы и отвечать на них, ведь в семье дети черпают первые знания об окружающем мире и своем месте в н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нно теперь необходимо закладывать нравственные качества, развивать в ребенке доброту, вежливость, отзывчивость, ответственность, любовь к труд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этом этапе у ребенка появляются первые друзья, поэтому очень важно научить общаться со сверстниками: уступать, отстаивать свои интересы, дел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2916360" y="2039760"/>
            <a:ext cx="3760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Воспит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108000" y="2514600"/>
            <a:ext cx="884700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играет важнейшую роль в становлении личности ребе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 между родителями – первое, что видит подрастающий малыш, это тот эталон, который он считает единственно верным. Поэтому очень важно, чтобы у ребенка был достойный пример в лице взросл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в воспитании отдельных черт характера должна также осуществляться в соответствии с полом дошкольника и ролями взрослых в семь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мать учит ребенка находить общий язык, искать компромисс, от нее исходит ласка, забота и любов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ц является олицетворением порядка, защиты, это первый учитель жизни, который помогает быть сильным и целеустремленны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ношения внутри семьи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й фактор, оказывающий влияние на воспитание ребенка и на всю его последующую жиз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2201760" y="2046240"/>
            <a:ext cx="5312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емья – это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1258920" y="285264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"/>
          <p:cNvSpPr/>
          <p:nvPr/>
        </p:nvSpPr>
        <p:spPr>
          <a:xfrm>
            <a:off x="210960" y="2205000"/>
            <a:ext cx="871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о период интенсивного развития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та детского организм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ущественно меняется характер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ктивно совершенствуются познавательные и коммуникативные способности.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179280" y="1633680"/>
            <a:ext cx="87854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лучшается координация, движения становятся все более уверенны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ктивно развивается мотор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r>
              <a:rPr b="0" lang="ru-RU" sz="24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ую нагрузку нужно дозировать</a:t>
            </a:r>
            <a:r>
              <a:rPr b="0" lang="ru-RU" sz="24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чтобы она не была чрезмерной. Это связано с тем, что мышцы в данный период растут хоть и быстро, но неравномерно, поэтому ребенок быстро уста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ребенок подрастает за год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5–7 см и набирает 1,5–2 кг ве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исходят рост и развитие всех органов и систем детского организ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25560" y="177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Физические особенности 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395280" y="1916280"/>
            <a:ext cx="8640720" cy="46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сихическое развитие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развиваются различные психические процесс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амять, внимание, восприятие и друг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й особенностью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то, что они становятся более осознанными, произвольными: развиваются волевые качества, которые в дальнейшем обязательно пригодя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мышл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аглядно-образное (действия детей носят практический, опытный характер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по мере взросления мышление становится обобщенным и к старшему дошкольному возрасту постепенно переходит в словесно-логическо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ся объем памя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н уже способен запомнить небольшое стихотворение или поручение взрослог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ся произвольность и устойчивость вним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и могут в течение непродолжительного времени (15–20 минут) сосредоточенно заниматься каким-либо видом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179280" y="198900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деятельность по-прежнему остается основной для малыша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ако она существенно усложняется по сравнению с ранним возраст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етей, участвующих в общении, возраста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яются тематические ролевые иг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ые особенности детей 4–5 лет таковы, что они больше склонны общаться с ровесниками своего пола. Девочки больше любят семейные и бытовые темы (дочки-матери, магазин). Мальчики предпочитают играть в моряков, военных, рыцар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этапе дети начинают устраивать первые соревнова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ятся добиться успе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3900960" y="393840"/>
            <a:ext cx="1342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г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125280" y="2276640"/>
            <a:ext cx="89298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 нравится заниматься сюжетной лепкой, аппликацией.     Одной из основных станови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ая деятельность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исунок становится одним из средств творческого самовыра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дошкольник может сочинить небольшую сказку или песенку, понимает, что такое рифмы, и пользуется и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ая фантазия и богатое воображение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зволяют создавать целые вселенные в голове или на чистом листе бумаги, где ребенок может выбрать для себя любую роль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1960200" y="2093760"/>
            <a:ext cx="5260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ворческие способ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198360" y="2205000"/>
            <a:ext cx="876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начительно улучшается звукопроизношени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ктивно растет словарный запас, достигая примерно двух тысяч слов и больше. Ребенок уже способен охарактеризовать тот или иной объект, описать свои эмоции, пересказать небольшой художественный текст, ответить на вопросы взросло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ом этапе развития дети овладевают грамматическим строем языка: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нимают и правильно используют предлоги, учатся строить сложные предложения и так дале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ивается связная реч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2832840" y="333360"/>
            <a:ext cx="34970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звитие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-6048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108000" y="2498760"/>
            <a:ext cx="8975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степенную важность приобретают контакты со сверстниками. Наблюдается повышенная потребность в признании и уважении со стороны ровесников. Общение, как правило, тесно связано с другими видами деятельности (игрой, совместным трудом). Появляются первые друзья, с которыми ребенок общается охотнее все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е детей начинают возникать конкуренция и первые лидер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с ровесниками носит, как правило, ситуативный характе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о взрослыми, напротив, выходит за рамки конкретной ситуации и становится более отвлеченны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расценивает родителей как неисчерпаемый и авторитетный источник новых сведений, поэтому задает им множество разнообразных вопрос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нно в этот период дошкольники испытывают особенную потребность в поощрении и обижаются на замечания и на то, если их старания остаются незамеченными.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Порой взрослые члены семьи не замечают эти возрастные особенности детей 4–5 л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3760" y="1797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щение со сверстниками и  взрослы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84240" y="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227160" y="2708280"/>
            <a:ext cx="8856360" cy="37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ts val="16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ра первых симпатий и привязанностей, более глубоких и осмысленных чувств. Ребенок может понять душевное состояние близкого ему взрослого, учится сопережив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чень эмоционально относятся как к похвале, так и к замечаниям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ятся очень чувствительными и ранимы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5 годам ребенка начинают интересовать вопросы пола и своей гендерной принадлеж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ая фантазия, воображение могут породить самы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е страхи.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может бояться сказочного персонажа или воображаемых чудовищ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телям не нужно слишком волноваться: это не проблем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лишь возрастные особенности детей 4–5 л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помнить, что это всего лишь временные трудности, которые сами уйдут со временем, если родители не будут акцентировать на них внимание или использовать против ребенка в воспитательных цел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1908000" y="178920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Эмоциональные особ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5T14:20:03Z</dcterms:created>
  <dc:creator>User</dc:creator>
  <dc:description/>
  <dc:language>en-US</dc:language>
  <cp:lastModifiedBy>admin</cp:lastModifiedBy>
  <dcterms:modified xsi:type="dcterms:W3CDTF">2021-11-25T13:38:34Z</dcterms:modified>
  <cp:revision>66</cp:revision>
  <dc:subject/>
  <dc:title>Презентация PowerPoint</dc:title>
</cp:coreProperties>
</file>