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17FE-131E-44E6-A812-AEA77EBDE9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CC19-294B-41AF-8447-3AE03053F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5C5-C399-4921-B141-9340F514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EF2-5BF3-4F24-A1D5-ACB8F67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42C-005D-42B6-BF5F-B8571C80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247-DE3B-4519-83D0-64FD4AFE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0D7-81BA-4B7E-833D-C14C2F9D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02F-9B21-48FF-814A-05C224F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443-89C2-4EB7-9217-40BF3F20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068-9849-4B71-82C3-1E9CAC5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F59-A1EA-4B47-92F7-6BC51977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AD1-80B6-4CB8-808E-6E4A8C3F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C6C-684A-4C38-8078-0B5E351D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767-C692-4682-B79E-4F2470E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338F-13DE-4C2F-ADB8-32B35AC20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reviews.123rf.com/images/bellenixe/bellenixe1105/bellenixe110500013/9583734-Children-s-frame-Vector-illustration--Stock-Photo.jpg"/>
          <p:cNvPicPr/>
          <p:nvPr/>
        </p:nvPicPr>
        <p:blipFill>
          <a:blip r:embed="rId1"/>
          <a:stretch/>
        </p:blipFill>
        <p:spPr>
          <a:xfrm>
            <a:off x="2232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276640" y="1690560"/>
            <a:ext cx="460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детей средней групп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зраст  4-5 ле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6770520" y="5732640"/>
            <a:ext cx="2376720" cy="10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педаг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енко Т.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нова О. И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619280" y="22320"/>
            <a:ext cx="619272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 «Детский сад №12 «Семицветик» комбинированного вида городского округа Стрежево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36785, Томская область, г. Стрежевой, ул. Кедровая, дом 7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(382-59) 3-30-9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micvetik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uostrj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108000" y="2349360"/>
            <a:ext cx="87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жно помнить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существенно меняется характер. Кризис трех лет благополучно проходит, и ребенок становится гораздо более послушным и покладистым, чем раньш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но в это время детям необходимо полноценное общение с родителями. </a:t>
            </a:r>
            <a:r>
              <a:rPr b="0" lang="ru-RU" sz="1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Собственно говоря, в этом и заключаются основы воспит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ая функция взрослых сейчас – объяснить как можно подробнее и показать на личном примере.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бенок впитывает все как губка, с любознательностью первооткрывателя тянется к новым зн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внимательно выслушивать многочисленные вопросы и отвечать на них, ведь в семье дети черпают первые знания об окружающем мире и своем месте в 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теперь необходимо закладывать нравственные качества, развивать в ребенке доброту, вежливость, отзывчивость, ответственность, любовь к тру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этом этапе у ребенка появляются первые друзья, поэтому очень важно научить общаться со сверстниками: уступать, отстаивать свои интересы, дел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2916360" y="2039760"/>
            <a:ext cx="376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оспит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08000" y="2514600"/>
            <a:ext cx="8847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играет важнейшую роль в становлении личности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между родителями – первое, что видит подрастающий малыш, это тот эталон, который он считает единственно верным. Поэтому очень важно, чтобы у ребенка был достойный пример в лице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воспитании отдельных черт характера должна также осуществляться в соответствии с полом дошкольника и ролями взрослых в сем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мать учит ребенка находить общий язык, искать компромисс, от нее исходит ласка, забота и любов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является олицетворением порядка, защиты, это первый учитель жизни, который помогает быть сильным и целеустремл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ношения внутри семьи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фактор, оказывающий влияние на воспитание ребенка и на всю его последующу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01760" y="2046240"/>
            <a:ext cx="5312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емья – это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258920" y="2852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10960" y="2205000"/>
            <a:ext cx="871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период интенсивного развития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та детского организ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щественно меняется характер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совершенствуются познавательные и коммуникативные способности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179280" y="1633680"/>
            <a:ext cx="8785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лучшается координация, движения становятся все более уверен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звивается мотор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ую нагрузку нужно дозировать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обы она не была чрезмерной. Это связано с тем, что мышцы в данный период растут хоть и быстро, но неравномерно, поэтому ребенок быстро у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ребенок подрастает за год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5–7 см и набирает 1,5–2 кг ве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исходят рост и развитие всех органов и систем детского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556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изические особенности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395280" y="1916280"/>
            <a:ext cx="86407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сихическое развитие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звиваются различные психические процес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мять, внимание, восприятие и друг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то, что они становятся более осознанными, произвольными: развиваются волевые качества, которые в дальнейшем обязательно пригодя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мыш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глядно-образное (действия детей носят практический, опытный характе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по мере взросления мышление становится обобщенным и к старшему дошкольному возрасту постепенно переходит в словесно-логическ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 объем пам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н уже способен запомнить небольшое стихотворение или поручение взросло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ся произвольность и устойчивость вним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могут в течение непродолжительного времени (15–20 минут) сосредоточенно заниматься каким-либо видом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79280" y="198900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по-прежнему остается основной для малыш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ако она существенно усложняется по сравнению с ранним возрас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етей, участвующих в общении, возра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тематические ролевые иг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детей 4–5 лет таковы, что они больше склонны общаться с ровесниками своего пола. Девочки больше любят семейные и бытовые темы (дочки-матери, магазин). Мальчики предпочитают играть в моряков, военных, рыцар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дети начинают устраивать первые соревнов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тся добиться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3900960" y="393840"/>
            <a:ext cx="1342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25280" y="2276640"/>
            <a:ext cx="8929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нравится заниматься сюжетной лепкой, аппликацией.     Одной из основных станов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ая деяте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ок становится одним из средств творческого самовы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дошкольник может сочинить небольшую сказку или песенку, понимает, что такое рифмы, и пользуется 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 и богатое воображение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зволяют создавать целые вселенные в голове или на чистом листе бумаги, где ребенок может выбрать для себя любую роль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960200" y="2093760"/>
            <a:ext cx="5260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ворчески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98360" y="2205000"/>
            <a:ext cx="876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чительно улучшается звукопроизнош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стет словарный запас, достигая примерно двух тысяч слов и больше. Ребенок уже способен охарактеризовать тот или иной объект, описать свои эмоции, пересказать небольшой художественный текст, ответить на вопросы взросл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развития дети овладевают грамматическим строем языка: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имают и правильно используют предлоги, учатся строить сложные предложения и так дал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ивается связная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832840" y="333360"/>
            <a:ext cx="3497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-6048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08000" y="2498760"/>
            <a:ext cx="897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ую важность приобретают контакты со сверстниками. Наблюдается повышенная потребность в признании и уважении со стороны ровесников. Общение, как правило, тесно связано с другими видами деятельности (игрой, совместным трудом). Появляются первые друзья, с которыми ребенок общается охотнее вс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детей начинают возникать конкуренция и первые лиде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ровесниками носит, как правило, ситуативный характе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о взрослыми, напротив, выходит за рамки конкретной ситуации и становится более отвлеч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расценивает родителей как неисчерпаемый и авторитетный источник новых сведений, поэтому задает им множество разнообразных вопро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в этот период дошкольники испытывают особенную потребность в поощрении и обижаются на замечания и на то, если их старания остаются незамеченными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Порой взрослые члены семьи не замечают эти возрастные особенности детей 4–5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3760" y="1797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щение со сверстниками и  взросл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8424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27160" y="2708280"/>
            <a:ext cx="885636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ра первых симпатий и привязанностей, более глубоких и осмысленных чувств. Ребенок может понять душевное состояние близкого ему взрослого, учится сопережи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чень эмоционально относятся как к похвале, так и к замеч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ятся очень чувствительными и раним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5 годам ребенка начинают интересовать вопросы пола и своей гендерной принадле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, воображение могут породить самы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страхи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может бояться сказочного персонажа или воображаемых чудов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ям не нужно слишком волноваться: это не проблем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лишь возрастные особенности детей 4–5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мнить, что это всего лишь временные трудности, которые сами уйдут со временем, если родители не будут акцентировать на них внимание или использовать против ребенка в воспитательных це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908000" y="178920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моциональные особ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4:20:03Z</dcterms:created>
  <dc:creator>User</dc:creator>
  <dc:description/>
  <dc:language>en-US</dc:language>
  <cp:lastModifiedBy>admin</cp:lastModifiedBy>
  <dcterms:modified xsi:type="dcterms:W3CDTF">2021-11-25T13:38:34Z</dcterms:modified>
  <cp:revision>66</cp:revision>
  <dc:subject/>
  <dc:title>Презентация PowerPoint</dc:title>
</cp:coreProperties>
</file>