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4CF16-392A-4C51-89FD-BDC0CB90676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D3D1-2952-4799-AF20-F1FE2051F3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E0A0-91E4-46FB-8ECE-715D653A6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3708-65F9-4B92-9ACB-4743286F9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0B08-BB31-4D3C-A4D9-ECA9E9041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9CC4-0AC1-4AC0-8ED8-AFEDB0AE7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1857-4E20-401B-91D2-2B6AB47B8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9154-0BF8-4AFA-9B46-E92016C5F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E053-C058-43B1-BEEC-0D32CB67D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F055-1DB1-449B-893A-3E7F89EBF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4AB6-D34F-4919-9645-2D0899763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96CE-4BF6-4CA1-8906-08FA2065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F634-A3B0-4E1C-9B94-E0E530CA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496C-9497-46B1-84F7-A2D00289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EBC62-ED3E-4C2D-B219-2476B44D53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previews.123rf.com/images/bellenixe/bellenixe1105/bellenixe110500013/9583734-Children-s-frame-Vector-illustration--Stock-Photo.jpg"/>
          <p:cNvPicPr/>
          <p:nvPr/>
        </p:nvPicPr>
        <p:blipFill>
          <a:blip r:embed="rId1"/>
          <a:stretch/>
        </p:blipFill>
        <p:spPr>
          <a:xfrm>
            <a:off x="22320" y="0"/>
            <a:ext cx="91249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1"/>
          <p:cNvSpPr/>
          <p:nvPr/>
        </p:nvSpPr>
        <p:spPr>
          <a:xfrm>
            <a:off x="2276640" y="1690560"/>
            <a:ext cx="46083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зрастные особенности детей средней группы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возраст  4-5 лет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3"/>
          <p:cNvSpPr/>
          <p:nvPr/>
        </p:nvSpPr>
        <p:spPr>
          <a:xfrm>
            <a:off x="6770520" y="5732640"/>
            <a:ext cx="2376720" cy="105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и педагог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дратенко Т. 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анова О. И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1619280" y="22320"/>
            <a:ext cx="6192720" cy="131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униципальное дошкольное образовательное учреждение «Детский сад №12 «Семицветик» комбинированного вида городского округа Стрежевой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000000"/>
              </a:buClr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636785, Томская область, г. Стрежевой, ул. Кедровая, дом 7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000000"/>
              </a:buClr>
              <a:buFont typeface="Wingding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8 (382-59) 3-30-93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il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Semicvetik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@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guostrj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r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2"/>
          <p:cNvSpPr/>
          <p:nvPr/>
        </p:nvSpPr>
        <p:spPr>
          <a:xfrm>
            <a:off x="108000" y="2349360"/>
            <a:ext cx="8748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26262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ужно помнить, что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анном этапе существенно меняется характер. Кризис трех лет благополучно проходит, и ребенок становится гораздо более послушным и покладистым, чем раньш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менно в это время детям необходимо полноценное общение с родителями. </a:t>
            </a:r>
            <a:r>
              <a:rPr b="0" lang="ru-RU" sz="1800" spc="-1" strike="noStrike" u="sng">
                <a:solidFill>
                  <a:srgbClr val="262626"/>
                </a:solidFill>
                <a:uFillTx/>
                <a:latin typeface="Times New Roman"/>
                <a:ea typeface="Times New Roman"/>
              </a:rPr>
              <a:t>Собственно говоря, в этом и заключаются основы воспитани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авная функция взрослых сейчас – объяснить как можно подробнее и показать на личном примере. </a:t>
            </a:r>
            <a:r>
              <a:rPr b="0" lang="ru-R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Ребенок впитывает все как губка, с любознательностью первооткрывателя тянется к новым знания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 должны внимательно выслушивать многочисленные вопросы и отвечать на них, ведь в семье дети черпают первые знания об окружающем мире и своем месте в не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менно теперь необходимо закладывать нравственные качества, развивать в ребенке доброту, вежливость, отзывчивость, ответственность, любовь к труду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а этом этапе у ребенка появляются первые друзья, поэтому очень важно научить общаться со сверстниками: уступать, отстаивать свои интересы, делить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3"/>
          <p:cNvSpPr/>
          <p:nvPr/>
        </p:nvSpPr>
        <p:spPr>
          <a:xfrm>
            <a:off x="2916360" y="2039760"/>
            <a:ext cx="37605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Воспита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3"/>
          <p:cNvSpPr/>
          <p:nvPr/>
        </p:nvSpPr>
        <p:spPr>
          <a:xfrm>
            <a:off x="108000" y="2514600"/>
            <a:ext cx="8847000" cy="40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я играет важнейшую роль в становлении личности ребен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ошения между родителями – первое, что видит подрастающий малыш, это тот эталон, который он считает единственно верным. Поэтому очень важно, чтобы у ребенка был достойный пример в лице взрослы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 в воспитании отдельных черт характера должна также осуществляться в соответствии с полом дошкольника и ролями взрослых в семь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, мать учит ребенка находить общий язык, искать компромисс, от нее исходит ласка, забота и любовь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ец является олицетворением порядка, защиты, это первый учитель жизни, который помогает быть сильным и целеустремленны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тношения внутри семьи </a:t>
            </a:r>
            <a:r>
              <a:rPr b="1" i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ейший фактор, оказывающий влияние на воспитание ребенка и на всю его последующую жизн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оугольник 4"/>
          <p:cNvSpPr/>
          <p:nvPr/>
        </p:nvSpPr>
        <p:spPr>
          <a:xfrm>
            <a:off x="2201760" y="2046240"/>
            <a:ext cx="53121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Семья – это главно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5"/>
          <p:cNvSpPr/>
          <p:nvPr/>
        </p:nvSpPr>
        <p:spPr>
          <a:xfrm>
            <a:off x="1258920" y="2852640"/>
            <a:ext cx="67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1"/>
          <p:cNvSpPr/>
          <p:nvPr/>
        </p:nvSpPr>
        <p:spPr>
          <a:xfrm>
            <a:off x="210960" y="2205000"/>
            <a:ext cx="8712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то период интенсивного развития 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оста детского организм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200000"/>
              </a:lnSpc>
              <a:buClr>
                <a:srgbClr val="26262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существенно меняется характер ребен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26262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ктивно совершенствуются познавательные и коммуникативные способности. 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5"/>
          <p:cNvSpPr/>
          <p:nvPr/>
        </p:nvSpPr>
        <p:spPr>
          <a:xfrm>
            <a:off x="179280" y="1633680"/>
            <a:ext cx="878544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26262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улучшается координация, движения становятся все более уверенным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26262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ктивно развивается мотори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!</a:t>
            </a:r>
            <a:r>
              <a:rPr b="0" lang="ru-RU" sz="2400" spc="-1" strike="noStrike">
                <a:solidFill>
                  <a:srgbClr val="2b2622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ую нагрузку нужно дозировать</a:t>
            </a:r>
            <a:r>
              <a:rPr b="0" lang="ru-RU" sz="2400" spc="-1" strike="noStrike">
                <a:solidFill>
                  <a:srgbClr val="2b2622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чтобы она не была чрезмерной. Это связано с тем, что мышцы в данный период растут хоть и быстро, но неравномерно, поэтому ребенок быстро устае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b2622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ребенок подрастает за год </a:t>
            </a: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а 5–7 см и набирает 1,5–2 кг вес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роисходят рост и развитие всех органов и систем детского организ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1"/>
          <p:cNvSpPr/>
          <p:nvPr/>
        </p:nvSpPr>
        <p:spPr>
          <a:xfrm>
            <a:off x="25560" y="1773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Физические особенности развит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1"/>
          <p:cNvSpPr/>
          <p:nvPr/>
        </p:nvSpPr>
        <p:spPr>
          <a:xfrm>
            <a:off x="395280" y="1916280"/>
            <a:ext cx="8640720" cy="46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сихическое развитие ребен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стро развиваются различные психические процесс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память, внимание, восприятие и други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ой особенностью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ется то, что они становятся более осознанными, произвольными: развиваются волевые качества, которые в дальнейшем обязательно пригодят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 мышлени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наглядно-образное (действия детей носят практический, опытный характер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ко по мере взросления мышление становится обобщенным и к старшему дошкольному возрасту постепенно переходит в словесно-логическо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ительно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вается объем памя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он уже способен запомнить небольшое стихотворение или поручение взрослого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аются произвольность и устойчивость внимания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школьники могут в течение непродолжительного времени (15–20 минут) сосредоточенно заниматься каким-либо видом деятель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3"/>
          <p:cNvSpPr/>
          <p:nvPr/>
        </p:nvSpPr>
        <p:spPr>
          <a:xfrm>
            <a:off x="179280" y="1989000"/>
            <a:ext cx="8785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ая деятельность по-прежнему остается основной для малыша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днако она существенно усложняется по сравнению с ранним возрасто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детей, участвующих в общении, возрастае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вляются тематические ролевые игр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ные особенности детей 4–5 лет таковы, что они больше склонны общаться с ровесниками своего пола. Девочки больше любят семейные и бытовые темы (дочки-матери, магазин). Мальчики предпочитают играть в моряков, военных, рыцаре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этом этапе дети начинают устраивать первые соревнования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мятся добиться успех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1"/>
          <p:cNvSpPr/>
          <p:nvPr/>
        </p:nvSpPr>
        <p:spPr>
          <a:xfrm>
            <a:off x="3900960" y="393840"/>
            <a:ext cx="13420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Иг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2"/>
          <p:cNvSpPr/>
          <p:nvPr/>
        </p:nvSpPr>
        <p:spPr>
          <a:xfrm>
            <a:off x="125280" y="2276640"/>
            <a:ext cx="892980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ку нравится заниматься сюжетной лепкой, аппликацией.     Одной из основных становитс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зительная деятельность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исунок становится одним из средств творческого самовыраж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ий дошкольник может сочинить небольшую сказку или песенку, понимает, что такое рифмы, и пользуется им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ркая фантазия и богатое воображение </a:t>
            </a: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озволяют создавать целые вселенные в голове или на чистом листе бумаги, где ребенок может выбрать для себя любую роль</a:t>
            </a:r>
            <a:r>
              <a:rPr b="0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3"/>
          <p:cNvSpPr/>
          <p:nvPr/>
        </p:nvSpPr>
        <p:spPr>
          <a:xfrm>
            <a:off x="1960200" y="2093760"/>
            <a:ext cx="52603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Творческие способ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2"/>
          <p:cNvSpPr/>
          <p:nvPr/>
        </p:nvSpPr>
        <p:spPr>
          <a:xfrm>
            <a:off x="198360" y="2205000"/>
            <a:ext cx="8766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26262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значительно улучшается звукопроизношение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26262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ктивно растет словарный запас, достигая примерно двух тысяч слов и больше. Ребенок уже способен охарактеризовать тот или иной объект, описать свои эмоции, пересказать небольшой художественный текст, ответить на вопросы взрослого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анном этапе развития дети овладевают грамматическим строем языка: </a:t>
            </a: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онимают и правильно используют предлоги, учатся строить сложные предложения и так дале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Развивается связная реч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4"/>
          <p:cNvSpPr/>
          <p:nvPr/>
        </p:nvSpPr>
        <p:spPr>
          <a:xfrm>
            <a:off x="2832840" y="333360"/>
            <a:ext cx="349704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Развитие реч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"/>
          <p:cNvPicPr/>
          <p:nvPr/>
        </p:nvPicPr>
        <p:blipFill>
          <a:blip r:embed="rId1"/>
          <a:stretch/>
        </p:blipFill>
        <p:spPr>
          <a:xfrm>
            <a:off x="-60480" y="-176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2"/>
          <p:cNvSpPr/>
          <p:nvPr/>
        </p:nvSpPr>
        <p:spPr>
          <a:xfrm>
            <a:off x="108000" y="2498760"/>
            <a:ext cx="89755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степенную важность приобретают контакты со сверстниками. Наблюдается повышенная потребность в признании и уважении со стороны ровесников. Общение, как правило, тесно связано с другими видами деятельности (игрой, совместным трудом). Появляются первые друзья, с которыми ребенок общается охотнее всег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уппе детей начинают возникать конкуренция и первые лидеры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ние с ровесниками носит, как правило, ситуативный характер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действие со взрослыми, напротив, выходит за рамки конкретной ситуации и становится более отвлеченны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расценивает родителей как неисчерпаемый и авторитетный источник новых сведений, поэтому задает им множество разнообразных вопросов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0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менно в этот период дошкольники испытывают особенную потребность в поощрении и обижаются на замечания и на то, если их старания остаются незамеченными.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2b2622"/>
                </a:solidFill>
                <a:latin typeface="Times New Roman"/>
                <a:ea typeface="Times New Roman"/>
              </a:rPr>
              <a:t>Порой взрослые члены семьи не замечают эти возрастные особенности детей 4–5 лет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3"/>
          <p:cNvSpPr/>
          <p:nvPr/>
        </p:nvSpPr>
        <p:spPr>
          <a:xfrm>
            <a:off x="23760" y="17971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бщение со сверстниками и  взрослы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1" descr=""/>
          <p:cNvPicPr/>
          <p:nvPr/>
        </p:nvPicPr>
        <p:blipFill>
          <a:blip r:embed="rId1"/>
          <a:stretch/>
        </p:blipFill>
        <p:spPr>
          <a:xfrm>
            <a:off x="84240" y="19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2"/>
          <p:cNvSpPr/>
          <p:nvPr/>
        </p:nvSpPr>
        <p:spPr>
          <a:xfrm>
            <a:off x="227160" y="2708280"/>
            <a:ext cx="8856360" cy="37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ts val="16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ора первых симпатий и привязанностей, более глубоких и осмысленных чувств. Ребенок может понять душевное состояние близкого ему взрослого, учится сопережива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очень эмоционально относятся как к похвале, так и к замечаниям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овятся очень чувствительными и ранимым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ts val="16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5 годам ребенка начинают интересовать вопросы пола и своей гендерной принадлеж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ts val="1698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ркая фантазия, воображение могут породить самые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ые страхи.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может бояться сказочного персонажа или воображаемых чудовищ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дителям не нужно слишком волноваться: это не проблема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 лишь возрастные особенности детей 4–5 ле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!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о помнить, что это всего лишь временные трудности, которые сами уйдут со временем, если родители не будут акцентировать на них внимание или использовать против ребенка в воспитательных целя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угольник 3"/>
          <p:cNvSpPr/>
          <p:nvPr/>
        </p:nvSpPr>
        <p:spPr>
          <a:xfrm>
            <a:off x="1908000" y="1789200"/>
            <a:ext cx="60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Эмоциональные особен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5T14:20:03Z</dcterms:created>
  <dc:creator>User</dc:creator>
  <dc:description/>
  <dc:language>en-US</dc:language>
  <cp:lastModifiedBy>admin</cp:lastModifiedBy>
  <dcterms:modified xsi:type="dcterms:W3CDTF">2021-11-25T13:38:34Z</dcterms:modified>
  <cp:revision>66</cp:revision>
  <dc:subject/>
  <dc:title>Презентация PowerPoint</dc:title>
</cp:coreProperties>
</file>