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772-4080-4402-801C-C060B1C7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A63-4B97-41D9-8EE8-85743D3B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EBF-A1BD-40A7-BA5B-2E01492E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B8B-47EC-466A-8731-11BDCC15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F089-E393-4D1B-BAEC-608B175E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6FAF-A4B9-408E-A782-2EA2EF36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D58-8E14-4AC9-858F-5AECF417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FF36-9937-497A-A2B2-E69E37F7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08D1-523B-41B8-887A-A5359E7E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7659-A3DE-4811-A4AD-E04A9DA3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CD70-CC93-413A-B485-D6EDFC47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DF7-0C85-45BF-B3BF-22626A15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B522-2742-47F6-BBA4-3560D3E7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374C-51F7-450C-8CC6-A145566A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14B7-1983-4349-83B4-F10DD8CF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EDF5-8BD1-4E82-AE52-6E6512A6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9E9A-FBE5-452D-8597-897E49BA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8E0B-6953-402F-BBF7-13DCE8C1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8F2A-A102-4595-B27B-FFC2245C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D8C5-73E5-4470-A0AF-A3C675C8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FB91-CD7B-4145-BC93-851AD955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4B38-A607-49D7-BD00-C16F43E4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99F-CA2C-49D2-A5E4-DCF154C2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3C20D-EA61-4BB1-8E9E-B9E99897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22D0-7E26-41C1-912C-5FBFE14C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E9B9-2094-41A2-BEE1-E3B3ED04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961E-A414-4564-9064-C87ABFEE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283C-6650-48D5-B4E5-C8F25EA4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BDB23-F93D-4F0F-864E-93DC4A20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4FB0-F234-4369-A287-5AF5D083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0B1AE-2FBA-4302-A2B7-BF24465D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FD9E-0043-468E-A2DB-61889802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78CF-1F92-443A-A4B2-2468191F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EE6-2646-4602-828B-9C9C21EF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9974-6BEE-413D-8A69-81686C27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C17D-E17E-4F7C-B7F2-3F1EB964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5625D-FA3C-4E9B-99A1-C76E0726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39F5D-C742-42C9-B37E-CCA4A66E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930A6-8521-4797-9034-ADD863A0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DA31-1928-4000-A046-35D21D22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65BB-2530-4EE0-8D65-D81D16A2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4F54B-3688-444D-80C7-95BA5159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B8D4A-D7C5-4C1A-B075-5A7D9B53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F73FB-D608-4855-BD70-EDCC1596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F8E-5007-40E8-B0C4-6897CE80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5473D-864D-4F0D-875F-BFA11FD9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6510B-F828-4BF1-A1EE-B0077C8D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DF8AE-8580-488E-80CC-EDEA1B9D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D1E83-9D5B-4ECC-8FD8-FEC1B4C9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BAB9A-7FCF-403E-9486-1B271C33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86E42-3020-4968-96AF-490C2C5B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ECF08-CF25-4A04-995D-FE6B06E5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D378C-FBB5-40B3-8F4F-3D836A46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5D12E-1122-423B-985B-47D12324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52E1C-4E0C-4865-AEA0-70ADCC20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50D-8D96-48E3-98C0-AADE7B91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C6E11-6CFE-40A3-AB0F-CF2B45EB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3DA-CAC7-4D7F-BB16-C27090DB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709-3B5D-406B-93D7-F1806785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E73-75B2-4A53-BD86-684AF54E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2977-889E-4791-B485-DBC669AE48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10CB-04EC-46F5-8586-2581AE17EA4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71E5-0437-4FAC-BBB5-016E7E0E874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601A-BB20-40B1-810E-89CFBF0D244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762B-78C8-4391-95AB-3C5E7F88B6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uning-box.sells.com.ua/ssha/b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mar.kz/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review-image" descr="http://gymnasium176.ru/files/img/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review-image" descr="http://bce-mory.com/wp-content/uploads/2014/04/%D0%B4%D0%B5%D1%82%D0%B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Блок-схема: память с посл. доступом 2"/>
          <p:cNvSpPr/>
          <p:nvPr/>
        </p:nvSpPr>
        <p:spPr>
          <a:xfrm>
            <a:off x="250920" y="260280"/>
            <a:ext cx="3168720" cy="2232000"/>
          </a:xfrm>
          <a:prstGeom prst="flowChartMagneticTap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mbria"/>
              </a:rPr>
              <a:t>Как это можно е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review-image" descr="http://vseodetkax.com/uploads/posts/2012-09/1347273653_10-mifov-o-detskom-pitan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Блок-схема: память с посл. доступом 2"/>
          <p:cNvSpPr/>
          <p:nvPr/>
        </p:nvSpPr>
        <p:spPr>
          <a:xfrm>
            <a:off x="468360" y="0"/>
            <a:ext cx="2951280" cy="2276640"/>
          </a:xfrm>
          <a:prstGeom prst="flowChartMagneticTape">
            <a:avLst/>
          </a:prstGeom>
          <a:solidFill>
            <a:srgbClr val="855d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mbria"/>
              </a:rPr>
              <a:t>Сколько  вкусняти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review-image" descr="http://900igr.net/datas/fizkultura/Zdorove-shkolnika-i-pitanie/0002-002-Zdorovoe-pitanie-shkolnika-zalog-uspekha-v-uchebnom-god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review-image" descr="http://comfort-kitchen.ru/wp-content/uploads/2011/03/%D1%82%D0%B0%D1%80%D0%B5%D0%BB%D0%BA%D0%B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review-image" descr="http://vmiretrav.ru/img/content/pravilnoe-pitanie-dlja-shkolnik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Скругленный прямоугольник 2"/>
          <p:cNvSpPr/>
          <p:nvPr/>
        </p:nvSpPr>
        <p:spPr>
          <a:xfrm>
            <a:off x="250920" y="189000"/>
            <a:ext cx="4392360" cy="1224000"/>
          </a:xfrm>
          <a:prstGeom prst="roundRect">
            <a:avLst>
              <a:gd name="adj" fmla="val 16667"/>
            </a:avLst>
          </a:prstGeom>
          <a:solidFill>
            <a:srgbClr val="d0bcbc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Хороший завтрак – лучшее начало дн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review-image" descr="http://zdoroviymir.com/images/articles/bc601c18b7632c7ee628859560320aa5/%D0%B4%D0%B5%D0%B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Скругленный прямоугольник 2"/>
          <p:cNvSpPr/>
          <p:nvPr/>
        </p:nvSpPr>
        <p:spPr>
          <a:xfrm>
            <a:off x="4211640" y="189000"/>
            <a:ext cx="4608360" cy="2016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Знания и сила  - результат правильного пит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review-image" descr="3057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Стрелка вниз 2" descr=""/>
          <p:cNvPicPr/>
          <p:nvPr/>
        </p:nvPicPr>
        <p:blipFill>
          <a:blip r:embed="rId3"/>
          <a:stretch/>
        </p:blipFill>
        <p:spPr>
          <a:xfrm>
            <a:off x="3328920" y="249120"/>
            <a:ext cx="1833480" cy="635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review-image" descr="Florida-Health-Insura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Сердце 2"/>
          <p:cNvSpPr/>
          <p:nvPr/>
        </p:nvSpPr>
        <p:spPr>
          <a:xfrm>
            <a:off x="250920" y="333360"/>
            <a:ext cx="3889440" cy="3024360"/>
          </a:xfrm>
          <a:prstGeom prst="pie">
            <a:avLst/>
          </a:prstGeom>
          <a:solidFill>
            <a:srgbClr val="f4cec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 будущем тебя ждет ЗДО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ОЛНОЦ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СЕМ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6:02:34Z</dcterms:created>
  <dc:creator>MARGARITA</dc:creator>
  <dc:description/>
  <dc:language>en-US</dc:language>
  <cp:lastModifiedBy>Home</cp:lastModifiedBy>
  <dcterms:modified xsi:type="dcterms:W3CDTF">2021-11-26T14:29:39Z</dcterms:modified>
  <cp:revision>9</cp:revision>
  <dc:subject/>
  <dc:title>Слайд 1</dc:title>
</cp:coreProperties>
</file>