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9E6-600C-4286-A310-EF887636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252-A0CE-441B-A0B2-8605678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B0D-B484-407F-9799-8BA65FED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F49-AEF8-4500-BA7C-EDFB5908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4E04-FF74-408B-A885-19203FE3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AD8-F684-4CD4-9414-8485ADAC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1C4F-B12A-4D5C-91A7-EE81B78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701-26DD-4627-923E-3BCD7974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A70-C0D8-4399-A706-BE0E434B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6740-B2E8-4585-A170-53643710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D222-3260-45C8-A7EF-BF46B1A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70E-1751-4D9C-9BA9-2873C95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21DA-9408-49ED-AF3C-2EB0880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420-6A71-4F26-A152-5658419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06C-7CC1-4508-97C5-1E85EFA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EFCB-E99C-4708-A46F-8F8678DE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A15A-EBB7-4C1B-99E7-5B5BBCAC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FA82-AF1A-431C-84F5-B1D8E7F3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9275-16F3-4E05-8F98-44A76AD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61A9-A12D-4D9D-9785-0E5700C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B64A-E231-48CA-BF53-30AAD3F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4562-F4CA-4717-BB8C-3CE1C6E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DF2-B441-4BD4-83A7-7515766D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549A-8BF6-44C8-89E9-AB24AC2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916B-DB01-4D2B-9D4D-5EDCF8D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0640-5AF2-4918-A3BB-CC78F0AC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1437-B9E7-4EC1-9306-97AA443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2DAB-85D1-4CAE-AD51-982AE1C8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CF04-2872-419E-8E1E-6390AF9F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B47E-B4B1-4337-94AC-B90C28F0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8D70-B915-459F-80D1-94DB3454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321E1-58A1-4FCC-92FF-C8AC711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B969-460D-41CE-8145-6A553CAC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66F-444A-416B-AA05-C5D6C9C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55F6-DF10-425A-9EDD-D552F78C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C49B-1CAB-452D-8D5B-40629DC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B82E-3BD8-478E-BB85-BFF66FC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25DB-3A50-4F9A-95C3-A96E8C0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688F-A6C8-42F5-8291-C2D517E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4324-085E-49CC-878F-91E64DA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0671-BA92-4CEC-8B01-1724748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C6D8-C29A-48A8-B947-176F2388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6107-0F15-4570-A566-23AE6167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8C647-B10E-4E75-A77C-01C23496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C84-67A4-447A-BDA1-DE1F20AC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4817-0DE4-44D0-B9A1-846630A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494B-A1E8-4793-A8DF-C4C7C34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6434-CB0B-4AC6-839E-10A8E16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2DDD-1417-43B5-A62B-A6DF45AB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9291-C30B-423C-8909-5C17CC7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5EB7-1970-4E98-8330-659E628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ED107-DE86-476D-875F-E603808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DBA3-B01D-458A-ACA4-F347607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7316-DCC3-4300-BF2D-4F7C8D68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1DBA-8A07-443E-AA5D-CA4A429E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B16-7167-44DF-947E-2342BC7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1642-17D1-434F-B24E-B85EA8AD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F44-187A-4AD9-9E99-64BA415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806-3A98-4792-9AED-5AF9301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30E-26B7-4502-A8B0-22FCFE6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091B-780F-4486-AE69-1EB59D4515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569-13DE-4189-93E4-01D104C490F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47F6-2222-4F25-AEE1-D3DD403143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6D6-CF1D-41D9-BF5D-496B222A53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6B4B-0E5B-43D2-9DF0-15EBE4C937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uning-box.sells.com.ua/ssha/b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mar.kz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review-image" descr="http://gymnasium176.ru/files/img/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review-image" descr="http://bce-mory.com/wp-content/uploads/2014/04/%D0%B4%D0%B5%D1%82%D0%B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Блок-схема: память с посл. доступом 2"/>
          <p:cNvSpPr/>
          <p:nvPr/>
        </p:nvSpPr>
        <p:spPr>
          <a:xfrm>
            <a:off x="250920" y="260280"/>
            <a:ext cx="3168720" cy="2232000"/>
          </a:xfrm>
          <a:prstGeom prst="flowChartMagneticTap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Как это можно е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review-image" descr="http://vseodetkax.com/uploads/posts/2012-09/1347273653_10-mifov-o-detskom-pitan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Блок-схема: память с посл. доступом 2"/>
          <p:cNvSpPr/>
          <p:nvPr/>
        </p:nvSpPr>
        <p:spPr>
          <a:xfrm>
            <a:off x="468360" y="0"/>
            <a:ext cx="2951280" cy="2276640"/>
          </a:xfrm>
          <a:prstGeom prst="flowChartMagneticTape">
            <a:avLst/>
          </a:prstGeom>
          <a:solidFill>
            <a:srgbClr val="855d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Сколько  вкусняти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review-image" descr="http://900igr.net/datas/fizkultura/Zdorove-shkolnika-i-pitanie/0002-002-Zdorovoe-pitanie-shkolnika-zalog-uspekha-v-uchebnom-go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review-image" descr="http://comfort-kitchen.ru/wp-content/uploads/2011/03/%D1%82%D0%B0%D1%80%D0%B5%D0%BB%D0%BA%D0%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review-image" descr="http://vmiretrav.ru/img/content/pravilnoe-pitanie-dlja-shkolnik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Скругленный прямоугольник 2"/>
          <p:cNvSpPr/>
          <p:nvPr/>
        </p:nvSpPr>
        <p:spPr>
          <a:xfrm>
            <a:off x="250920" y="189000"/>
            <a:ext cx="4392360" cy="1224000"/>
          </a:xfrm>
          <a:prstGeom prst="roundRect">
            <a:avLst>
              <a:gd name="adj" fmla="val 16667"/>
            </a:avLst>
          </a:prstGeom>
          <a:solidFill>
            <a:srgbClr val="d0bcbc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Хороший завтрак – лучшее начало д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review-image" descr="http://zdoroviymir.com/images/articles/bc601c18b7632c7ee628859560320aa5/%D0%B4%D0%B5%D0%B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Скругленный прямоугольник 2"/>
          <p:cNvSpPr/>
          <p:nvPr/>
        </p:nvSpPr>
        <p:spPr>
          <a:xfrm>
            <a:off x="4211640" y="189000"/>
            <a:ext cx="4608360" cy="2016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Знания и сила  - результат правильного пит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review-image" descr="3057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Стрелка вниз 2" descr=""/>
          <p:cNvPicPr/>
          <p:nvPr/>
        </p:nvPicPr>
        <p:blipFill>
          <a:blip r:embed="rId3"/>
          <a:stretch/>
        </p:blipFill>
        <p:spPr>
          <a:xfrm>
            <a:off x="3328920" y="249120"/>
            <a:ext cx="1833480" cy="635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review-image" descr="Florida-Health-Insur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Сердце 2"/>
          <p:cNvSpPr/>
          <p:nvPr/>
        </p:nvSpPr>
        <p:spPr>
          <a:xfrm>
            <a:off x="250920" y="333360"/>
            <a:ext cx="3889440" cy="3024360"/>
          </a:xfrm>
          <a:prstGeom prst="pie">
            <a:avLst/>
          </a:prstGeom>
          <a:solidFill>
            <a:srgbClr val="f4cec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будущем тебя ждет ЗДО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ОЛНОЦ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02:34Z</dcterms:created>
  <dc:creator>MARGARITA</dc:creator>
  <dc:description/>
  <dc:language>en-US</dc:language>
  <cp:lastModifiedBy>Home</cp:lastModifiedBy>
  <dcterms:modified xsi:type="dcterms:W3CDTF">2021-11-26T14:29:39Z</dcterms:modified>
  <cp:revision>9</cp:revision>
  <dc:subject/>
  <dc:title>Слайд 1</dc:title>
</cp:coreProperties>
</file>