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1273-1F1E-4953-93E8-E8D021457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1E6F-C203-47A8-8418-07ADF6AC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3B64-B838-44A3-9CB8-3621B31A5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B587-CD20-4DDC-8AFF-2C5B11188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8323-BB2D-4F4C-AD80-7CD3338D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E257-DD5E-468F-91FE-8CB487AF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A7E9-FC04-47B3-8D0C-B6340E39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9035-7130-4EB3-8029-9247517D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EF33-6A64-426B-8B07-5F538F00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BE68-4430-4C35-853E-2BD20587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6787-A1A7-41F4-B324-A93924DB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A5F2-D9D5-435D-BC71-A3C91B24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E87D-86DA-4C9C-9593-730EEC101D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76320" y="762120"/>
            <a:ext cx="8999280" cy="5790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94920" y="1227240"/>
            <a:ext cx="7239240" cy="23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Игра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«Найди пару одинаковых цветов» для детей дошкольного возраста от 5-7 лет с ЗП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Подготовила педагог-психо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Андреева Т.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чить находить одинаковые картинки цветов, развивать зрительное вним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д: В начале игры в течении нескольких секунд показывается расположение цветов на игровом поле. Затем картинки закрываются и ребенку по памяти нужно правильно открыть все картинки цветов  и назвать название цве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2"/>
          <p:cNvSpPr/>
          <p:nvPr/>
        </p:nvSpPr>
        <p:spPr>
          <a:xfrm>
            <a:off x="3352680" y="914400"/>
            <a:ext cx="236232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990720" y="914400"/>
            <a:ext cx="7086600" cy="4724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990720" y="914400"/>
            <a:ext cx="236196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0_c4c46_54b81030_L"/>
          <p:cNvPicPr/>
          <p:nvPr/>
        </p:nvPicPr>
        <p:blipFill>
          <a:blip r:embed="rId1"/>
          <a:stretch/>
        </p:blipFill>
        <p:spPr>
          <a:xfrm>
            <a:off x="3809880" y="914400"/>
            <a:ext cx="1781280" cy="24004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8"/>
          <p:cNvSpPr/>
          <p:nvPr/>
        </p:nvSpPr>
        <p:spPr>
          <a:xfrm>
            <a:off x="990720" y="3276720"/>
            <a:ext cx="236196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1" descr="0_c4c46_54b81030_L"/>
          <p:cNvPicPr/>
          <p:nvPr/>
        </p:nvPicPr>
        <p:blipFill>
          <a:blip r:embed="rId2"/>
          <a:stretch/>
        </p:blipFill>
        <p:spPr>
          <a:xfrm>
            <a:off x="1447920" y="3276720"/>
            <a:ext cx="1780920" cy="24001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3"/>
          <p:cNvSpPr/>
          <p:nvPr/>
        </p:nvSpPr>
        <p:spPr>
          <a:xfrm>
            <a:off x="5715000" y="914400"/>
            <a:ext cx="236232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3352680" y="3276720"/>
            <a:ext cx="236232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5715000" y="3276720"/>
            <a:ext cx="236232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8" descr="060535_1395284735"/>
          <p:cNvPicPr/>
          <p:nvPr/>
        </p:nvPicPr>
        <p:blipFill>
          <a:blip r:embed="rId3"/>
          <a:stretch/>
        </p:blipFill>
        <p:spPr>
          <a:xfrm>
            <a:off x="1295280" y="914400"/>
            <a:ext cx="1982880" cy="2316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" descr="060535_1395284735"/>
          <p:cNvPicPr/>
          <p:nvPr/>
        </p:nvPicPr>
        <p:blipFill>
          <a:blip r:embed="rId4"/>
          <a:stretch/>
        </p:blipFill>
        <p:spPr>
          <a:xfrm>
            <a:off x="5867280" y="3276720"/>
            <a:ext cx="1982880" cy="2315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1" descr="1433167649_camomile-1-11"/>
          <p:cNvPicPr/>
          <p:nvPr/>
        </p:nvPicPr>
        <p:blipFill>
          <a:blip r:embed="rId5"/>
          <a:stretch/>
        </p:blipFill>
        <p:spPr>
          <a:xfrm>
            <a:off x="3657600" y="3352680"/>
            <a:ext cx="13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2" descr="1433167649_camomile-1-11"/>
          <p:cNvPicPr/>
          <p:nvPr/>
        </p:nvPicPr>
        <p:blipFill>
          <a:blip r:embed="rId6"/>
          <a:stretch/>
        </p:blipFill>
        <p:spPr>
          <a:xfrm>
            <a:off x="6095880" y="914400"/>
            <a:ext cx="1386000" cy="2286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6"/>
          <p:cNvSpPr/>
          <p:nvPr/>
        </p:nvSpPr>
        <p:spPr>
          <a:xfrm>
            <a:off x="5715000" y="914400"/>
            <a:ext cx="236232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990720" y="3276720"/>
            <a:ext cx="236196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8"/>
          <p:cNvSpPr/>
          <p:nvPr/>
        </p:nvSpPr>
        <p:spPr>
          <a:xfrm>
            <a:off x="3352680" y="914400"/>
            <a:ext cx="236232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9"/>
          <p:cNvSpPr/>
          <p:nvPr/>
        </p:nvSpPr>
        <p:spPr>
          <a:xfrm>
            <a:off x="990720" y="914400"/>
            <a:ext cx="236196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3352680" y="3276720"/>
            <a:ext cx="236232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1"/>
          <p:cNvSpPr/>
          <p:nvPr/>
        </p:nvSpPr>
        <p:spPr>
          <a:xfrm>
            <a:off x="5715000" y="3276720"/>
            <a:ext cx="236232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9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31T20:06:33Z</dcterms:created>
  <dc:creator>1</dc:creator>
  <dc:description/>
  <dc:language>en-US</dc:language>
  <cp:lastModifiedBy>Asus</cp:lastModifiedBy>
  <dcterms:modified xsi:type="dcterms:W3CDTF">2021-11-27T05:17:0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