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7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D2CF-2B98-417C-8EF1-CC14D1B0D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906948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7880"/>
            <a:ext cx="906948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1E2C-A542-449E-A93B-78B21427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32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78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678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2D77-EEA9-427E-8DCB-FD9090D4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328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328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788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6788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6788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168A-CC87-4FF9-A44A-0467BC71F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5CD94-F1A1-40D3-8B71-2FAFBDD4CE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763280"/>
            <a:ext cx="90694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8A3CA-D40B-4915-9FFC-8B563503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906948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B9A9E-9579-4FF6-9982-9457B814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44258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520" y="1763280"/>
            <a:ext cx="44258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D3AFC-F30C-494D-8EFB-EE0B1460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8855B-FB62-41C2-B0C3-3F685DF03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02920" y="15480"/>
            <a:ext cx="9069480" cy="84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88FA2-AA19-4B00-BC10-D3B76779D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0520" y="1763280"/>
            <a:ext cx="44258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2920" y="43678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DA869C-7CC3-4C23-A602-8B918D89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3280"/>
            <a:ext cx="90694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055A-9995-4051-9955-55CE5113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44258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0520" y="17632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0520" y="43678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86BEB-867B-4D5F-9E2A-EE818F44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32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67880"/>
            <a:ext cx="906948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8FBFD-513C-40F0-BE6F-81D68D80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906948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2920" y="4367880"/>
            <a:ext cx="906948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F564E-1098-4E9E-AFB3-D8E00B6B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0520" y="17632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2920" y="43678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0520" y="43678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6CAEC-8227-4404-B5F3-6BFFA0CF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69400" y="176328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35520" y="176328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2920" y="436788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69400" y="436788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35520" y="436788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604B8-1ABE-4E9A-848E-ABF7578CF6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0C46B7-DC8A-4261-8169-7F36320D64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02920" y="1763280"/>
            <a:ext cx="90694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76FFDB-8B59-4353-9DE9-BB5D18C0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906948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74754A-5F52-4C27-BE58-70128D21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44258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0520" y="1763280"/>
            <a:ext cx="44258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91F791-3666-4E3F-B4D4-463E74BA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AC3194-BC14-4691-93DC-7119FC5F3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906948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EDE0-07B4-4967-9051-3673713F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02920" y="15480"/>
            <a:ext cx="9069480" cy="84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3BD740-2DF8-413F-ABEB-9DFC2840F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0520" y="1763280"/>
            <a:ext cx="44258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2920" y="43678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E595A1-197C-4336-BA9A-7237313A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44258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0520" y="17632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150520" y="43678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501C04-2265-4406-A5B0-D8376E0F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0520" y="17632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2920" y="4367880"/>
            <a:ext cx="906948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5DCC52-11D9-4AF2-9F52-084A9D35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906948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2920" y="4367880"/>
            <a:ext cx="906948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13E0BE-44CC-4AFA-BBCB-98986DD5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50520" y="17632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02920" y="43678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150520" y="43678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536FF5-C165-40F7-BD85-DF92A40F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69400" y="176328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635520" y="176328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2920" y="436788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69400" y="436788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635520" y="436788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53DFC1-FEC8-4B6B-966F-327B892DE3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44258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3280"/>
            <a:ext cx="44258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E650-F6B0-4B67-8EF9-BD70F9D2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A9BF-D3E0-42F2-99A5-865ADD8F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15480"/>
            <a:ext cx="9069480" cy="84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2923-2A1B-4551-8A98-6DCD7952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3280"/>
            <a:ext cx="44258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78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82CE-E64C-490A-8F5E-F6D5E603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44258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32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678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D670-1423-4B1D-9122-C03B12A3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328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7880"/>
            <a:ext cx="906948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10AB-2CF2-4461-86B4-473A764C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AECE72B-BD61-4DAF-B991-763930C100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-66600" y="-66600"/>
            <a:ext cx="10217160" cy="7616880"/>
            <a:chOff x="-66600" y="-66600"/>
            <a:chExt cx="10217160" cy="7616880"/>
          </a:xfrm>
        </p:grpSpPr>
        <p:pic>
          <p:nvPicPr>
            <p:cNvPr id="42" name="Picture 2" descr=""/>
            <p:cNvPicPr/>
            <p:nvPr/>
          </p:nvPicPr>
          <p:blipFill>
            <a:blip r:embed="rId2"/>
            <a:stretch/>
          </p:blipFill>
          <p:spPr>
            <a:xfrm>
              <a:off x="-66600" y="-66600"/>
              <a:ext cx="10217160" cy="761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 Box 3"/>
            <p:cNvSpPr/>
            <p:nvPr/>
          </p:nvSpPr>
          <p:spPr>
            <a:xfrm>
              <a:off x="577800" y="577800"/>
              <a:ext cx="8921880" cy="632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4" name="Picture 4" descr=""/>
          <p:cNvPicPr/>
          <p:nvPr/>
        </p:nvPicPr>
        <p:blipFill>
          <a:blip r:embed="rId3"/>
          <a:srcRect l="0" t="0" r="50014" b="0"/>
          <a:stretch/>
        </p:blipFill>
        <p:spPr>
          <a:xfrm>
            <a:off x="8663040" y="5595840"/>
            <a:ext cx="1417680" cy="1963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4">
            <a:lum bright="-10000"/>
          </a:blip>
          <a:stretch/>
        </p:blipFill>
        <p:spPr>
          <a:xfrm>
            <a:off x="8562960" y="0"/>
            <a:ext cx="1517760" cy="128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5"/>
          <a:stretch/>
        </p:blipFill>
        <p:spPr>
          <a:xfrm>
            <a:off x="0" y="236520"/>
            <a:ext cx="1225440" cy="1336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6"/>
          <a:stretch/>
        </p:blipFill>
        <p:spPr>
          <a:xfrm>
            <a:off x="0" y="5905440"/>
            <a:ext cx="1573200" cy="1405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141120"/>
            <a:ext cx="9069480" cy="15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02920" y="1763280"/>
            <a:ext cx="906948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0" y="7157880"/>
            <a:ext cx="23493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3443400" y="7007400"/>
            <a:ext cx="31924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7222680" y="7007040"/>
            <a:ext cx="2349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1784A1E-2F9B-4AD3-B4F4-60D99504463B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1"/>
          <p:cNvGrpSpPr/>
          <p:nvPr/>
        </p:nvGrpSpPr>
        <p:grpSpPr>
          <a:xfrm>
            <a:off x="-66600" y="-66600"/>
            <a:ext cx="10217160" cy="7616880"/>
            <a:chOff x="-66600" y="-66600"/>
            <a:chExt cx="10217160" cy="7616880"/>
          </a:xfrm>
        </p:grpSpPr>
        <p:pic>
          <p:nvPicPr>
            <p:cNvPr id="90" name="Picture 2" descr=""/>
            <p:cNvPicPr/>
            <p:nvPr/>
          </p:nvPicPr>
          <p:blipFill>
            <a:blip r:embed="rId3"/>
            <a:stretch/>
          </p:blipFill>
          <p:spPr>
            <a:xfrm>
              <a:off x="-66600" y="-66600"/>
              <a:ext cx="10217160" cy="761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3"/>
            <p:cNvSpPr/>
            <p:nvPr/>
          </p:nvSpPr>
          <p:spPr>
            <a:xfrm>
              <a:off x="577800" y="577800"/>
              <a:ext cx="8921880" cy="632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2" name="Picture 4" descr=""/>
          <p:cNvPicPr/>
          <p:nvPr/>
        </p:nvPicPr>
        <p:blipFill>
          <a:blip r:embed="rId4"/>
          <a:srcRect l="0" t="0" r="50014" b="0"/>
          <a:stretch/>
        </p:blipFill>
        <p:spPr>
          <a:xfrm>
            <a:off x="8663040" y="5595840"/>
            <a:ext cx="1417680" cy="1963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5">
            <a:lum bright="-10000"/>
          </a:blip>
          <a:stretch/>
        </p:blipFill>
        <p:spPr>
          <a:xfrm>
            <a:off x="8562960" y="0"/>
            <a:ext cx="1517760" cy="1285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6"/>
          <a:stretch/>
        </p:blipFill>
        <p:spPr>
          <a:xfrm>
            <a:off x="0" y="236520"/>
            <a:ext cx="1225440" cy="1336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"/>
          <p:cNvPicPr/>
          <p:nvPr/>
        </p:nvPicPr>
        <p:blipFill>
          <a:blip r:embed="rId7"/>
          <a:stretch/>
        </p:blipFill>
        <p:spPr>
          <a:xfrm>
            <a:off x="0" y="5905440"/>
            <a:ext cx="1573200" cy="14050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502920" y="1763280"/>
            <a:ext cx="906948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6"/>
          </p:nvPr>
        </p:nvSpPr>
        <p:spPr>
          <a:xfrm>
            <a:off x="0" y="7157880"/>
            <a:ext cx="23493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3443400" y="7007400"/>
            <a:ext cx="31924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7"/>
          </p:nvPr>
        </p:nvSpPr>
        <p:spPr>
          <a:xfrm>
            <a:off x="7222680" y="7007040"/>
            <a:ext cx="2349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EEC6DB8-BBA7-44D9-925B-5C9CFD703948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96840"/>
            <a:ext cx="90723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502920" y="1763640"/>
            <a:ext cx="4427640" cy="50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60360" y="720720"/>
            <a:ext cx="9072720" cy="84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Microsoft YaHei"/>
              </a:rPr>
              <a:t>Работа с ф</a:t>
            </a:r>
            <a:r>
              <a:rPr b="1" lang="de-DE" sz="4400" spc="-1" strike="noStrike">
                <a:solidFill>
                  <a:srgbClr val="000000"/>
                </a:solidFill>
                <a:latin typeface="Calibri"/>
                <a:ea typeface="Microsoft YaHei"/>
              </a:rPr>
              <a:t>разеологизм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Microsoft YaHei"/>
              </a:rPr>
              <a:t>ами  на  уроках </a:t>
            </a:r>
            <a:r>
              <a:rPr b="1" lang="de-DE" sz="4400" spc="-1" strike="noStrike">
                <a:solidFill>
                  <a:srgbClr val="000000"/>
                </a:solidFill>
                <a:latin typeface="Calibri"/>
                <a:ea typeface="Microsoft YaHei"/>
              </a:rPr>
              <a:t> русского языка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Microsoft YaHei"/>
              </a:rPr>
              <a:t>  и  литературного  чт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  <a:ea typeface="Microsoft YaHei"/>
              </a:rPr>
              <a:t>У</a:t>
            </a:r>
            <a:r>
              <a:rPr b="0" lang="de-DE" sz="3200" spc="-1" strike="noStrike">
                <a:solidFill>
                  <a:srgbClr val="000000"/>
                </a:solidFill>
                <a:latin typeface="Cambria"/>
                <a:ea typeface="Microsoft YaHei"/>
              </a:rPr>
              <a:t>читель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  <a:ea typeface="Microsoft YaHei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ambria"/>
                <a:ea typeface="Microsoft YaHei"/>
              </a:rPr>
              <a:t> начальных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  <a:ea typeface="Microsoft YaHei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ambria"/>
                <a:ea typeface="Microsoft YaHei"/>
              </a:rPr>
              <a:t> классов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  <a:ea typeface="Microsoft YaHei"/>
              </a:rPr>
              <a:t>  МБОУ СОШ № 5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  <a:ea typeface="Microsoft YaHei"/>
              </a:rPr>
              <a:t>Дунаева Анжелика  Иван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2920" y="96840"/>
            <a:ext cx="90723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503280" y="1763640"/>
            <a:ext cx="907236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968720" y="1550520"/>
            <a:ext cx="4391280" cy="48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чать во всю ивановскую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ричать очень громк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ожить в долгий ящик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адолго отложить решение какого-нибудь де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5" descr="C:\Users\Viktor\Desktop\кот  в  ящике.jpg"/>
          <p:cNvPicPr/>
          <p:nvPr/>
        </p:nvPicPr>
        <p:blipFill>
          <a:blip r:embed="rId2"/>
          <a:stretch/>
        </p:blipFill>
        <p:spPr>
          <a:xfrm>
            <a:off x="1511280" y="3708360"/>
            <a:ext cx="331308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2920" y="466560"/>
            <a:ext cx="90723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700" spc="-1" strike="noStrike">
                <a:solidFill>
                  <a:srgbClr val="000000"/>
                </a:solidFill>
                <a:latin typeface="Calibri"/>
              </a:rPr>
              <a:t>Кубанские фразеологизмы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2920" y="1763640"/>
            <a:ext cx="4427640" cy="24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360360" y="1474920"/>
            <a:ext cx="38876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87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4680000" y="1403280"/>
            <a:ext cx="4572000" cy="54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87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2"/>
          <a:stretch/>
        </p:blipFill>
        <p:spPr>
          <a:xfrm>
            <a:off x="2254320" y="1565280"/>
            <a:ext cx="5819760" cy="51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2920" y="96840"/>
            <a:ext cx="90723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503280" y="1763640"/>
            <a:ext cx="907236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825120" y="1779480"/>
            <a:ext cx="892980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9" name="Object 5"/>
          <p:cNvGraphicFramePr/>
          <p:nvPr/>
        </p:nvGraphicFramePr>
        <p:xfrm>
          <a:off x="2386080" y="2843280"/>
          <a:ext cx="582300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6080" y="2843280"/>
                    <a:ext cx="582300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1" name="Picture 7" descr="C:\Users\Viktor\Desktop\img14.jpg"/>
          <p:cNvPicPr/>
          <p:nvPr/>
        </p:nvPicPr>
        <p:blipFill>
          <a:blip r:embed="rId3"/>
          <a:stretch/>
        </p:blipFill>
        <p:spPr>
          <a:xfrm>
            <a:off x="1152360" y="324000"/>
            <a:ext cx="7993080" cy="63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2920" y="96840"/>
            <a:ext cx="90723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503280" y="1763640"/>
            <a:ext cx="907236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502920" y="1808280"/>
            <a:ext cx="90723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5" name="Object 5"/>
          <p:cNvGraphicFramePr/>
          <p:nvPr/>
        </p:nvGraphicFramePr>
        <p:xfrm>
          <a:off x="2386080" y="2843280"/>
          <a:ext cx="582300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6080" y="2843280"/>
                    <a:ext cx="582300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7" name="Picture 3" descr="C:\Users\Viktor\Desktop\тантал.jpg"/>
          <p:cNvPicPr/>
          <p:nvPr/>
        </p:nvPicPr>
        <p:blipFill>
          <a:blip r:embed="rId3"/>
          <a:stretch/>
        </p:blipFill>
        <p:spPr>
          <a:xfrm>
            <a:off x="1079640" y="466560"/>
            <a:ext cx="7848360" cy="56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2920" y="96840"/>
            <a:ext cx="9072360" cy="167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Карточки. Тест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503280" y="1763640"/>
            <a:ext cx="907236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47640" y="1807920"/>
            <a:ext cx="89280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1" name="Object 5"/>
          <p:cNvGraphicFramePr/>
          <p:nvPr/>
        </p:nvGraphicFramePr>
        <p:xfrm>
          <a:off x="1584360" y="3348000"/>
          <a:ext cx="582300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360" y="3348000"/>
                    <a:ext cx="582300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Rectangle 3"/>
          <p:cNvSpPr/>
          <p:nvPr/>
        </p:nvSpPr>
        <p:spPr>
          <a:xfrm>
            <a:off x="1440" y="-46440"/>
            <a:ext cx="290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1655640" y="-4448880"/>
            <a:ext cx="6769080" cy="11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место точек вставь нужное сло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… на голову (снег, дождь, град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… вода (с курицы, с утки, с гуся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бить … зайцев (трех, двух, трех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…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ли съесть (пуд, фунт, килограмм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еденного … не стоит (огурца, яйца, яблока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за … стеной (деревянной, глиняной, каменной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казка про … бычка (белого, черного, рыжего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лист … дрожит (березовый, кленовый, осиновы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2920" y="539280"/>
            <a:ext cx="9072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Значение фразеологизмов</a:t>
            </a:r>
            <a:br>
              <a:rPr sz="44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503280" y="1763640"/>
            <a:ext cx="907236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502920" y="1808280"/>
            <a:ext cx="90723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8" name="Object 5"/>
          <p:cNvGraphicFramePr/>
          <p:nvPr/>
        </p:nvGraphicFramePr>
        <p:xfrm>
          <a:off x="2386080" y="2843280"/>
          <a:ext cx="582300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6080" y="2843280"/>
                    <a:ext cx="582300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5"/>
          <p:cNvGraphicFramePr/>
          <p:nvPr/>
        </p:nvGraphicFramePr>
        <p:xfrm>
          <a:off x="2602080" y="3059280"/>
          <a:ext cx="5822640" cy="23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02080" y="3059280"/>
                    <a:ext cx="5822640" cy="23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Rectangle 5"/>
          <p:cNvSpPr/>
          <p:nvPr/>
        </p:nvSpPr>
        <p:spPr>
          <a:xfrm>
            <a:off x="3576960" y="-52920"/>
            <a:ext cx="2926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Значение фразеологизм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Рисунок 1" descr="img6"/>
          <p:cNvPicPr/>
          <p:nvPr/>
        </p:nvPicPr>
        <p:blipFill>
          <a:blip r:embed="rId5"/>
          <a:stretch/>
        </p:blipFill>
        <p:spPr>
          <a:xfrm>
            <a:off x="1224000" y="1042920"/>
            <a:ext cx="7704000" cy="547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2920" y="96840"/>
            <a:ext cx="90723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503280" y="1763640"/>
            <a:ext cx="907236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502920" y="1808280"/>
            <a:ext cx="90723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7" name="Object 5"/>
          <p:cNvGraphicFramePr/>
          <p:nvPr/>
        </p:nvGraphicFramePr>
        <p:xfrm>
          <a:off x="2386080" y="2843280"/>
          <a:ext cx="582300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6080" y="2843280"/>
                    <a:ext cx="582300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9" name="Picture 3" descr="C:\Users\Viktor\Desktop\img52.jpg"/>
          <p:cNvPicPr/>
          <p:nvPr/>
        </p:nvPicPr>
        <p:blipFill>
          <a:blip r:embed="rId3"/>
          <a:stretch/>
        </p:blipFill>
        <p:spPr>
          <a:xfrm>
            <a:off x="1152360" y="324000"/>
            <a:ext cx="7991640" cy="642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2920" y="250920"/>
            <a:ext cx="907236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700" spc="-1" strike="noStrike">
                <a:solidFill>
                  <a:srgbClr val="000000"/>
                </a:solidFill>
                <a:latin typeface="Calibri"/>
              </a:rPr>
              <a:t>Цель :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503280" y="1763640"/>
            <a:ext cx="907236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82280" y="1332000"/>
            <a:ext cx="782172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накомить  учащихся  с  фразеологизмам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учить  употреблять фразеологизмы в речи с целью  её обогащ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учить  находить фразеологизмы  в  текст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2920" y="96840"/>
            <a:ext cx="90723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503280" y="1763640"/>
            <a:ext cx="907236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68360" y="1907640"/>
            <a:ext cx="7848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spcBef>
                <a:spcPts val="887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Фразеологиз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(от              греческого фразис – выражение, оборот речи + логос – учение) – устойчивое по составу и структуре, лексически неделимое и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целостное по значению словосочетание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или предлож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Фразеологизм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потребляется как некоторое целое, не подлежащее дальнейшему разложению и обычно не допускающее внутри себя перестановки своих часте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60360" y="900000"/>
            <a:ext cx="10272600" cy="66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2920" y="96840"/>
            <a:ext cx="90723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2920" y="1763640"/>
            <a:ext cx="4427640" cy="24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720720" y="1260360"/>
            <a:ext cx="431964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0" bIns="45000" anchor="t">
            <a:noAutofit/>
          </a:bodyPr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503280" y="4370400"/>
            <a:ext cx="442764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5040360" y="1440000"/>
            <a:ext cx="442764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87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7" descr="C:\Users\Viktor\Desktop\screen17.jpg"/>
          <p:cNvPicPr/>
          <p:nvPr/>
        </p:nvPicPr>
        <p:blipFill>
          <a:blip r:embed="rId2"/>
          <a:stretch/>
        </p:blipFill>
        <p:spPr>
          <a:xfrm>
            <a:off x="1152360" y="466560"/>
            <a:ext cx="7991640" cy="57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503280" y="1763640"/>
            <a:ext cx="907236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791640" y="1474920"/>
            <a:ext cx="87123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502920" y="15480"/>
            <a:ext cx="9069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700" spc="-1" strike="noStrike">
                <a:solidFill>
                  <a:srgbClr val="000000"/>
                </a:solidFill>
                <a:latin typeface="Calibri"/>
              </a:rPr>
              <a:t>Исконно  русские  фразеологизмы.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6" descr="C:\Users\Viktor\Desktop\m3d5046e4.png"/>
          <p:cNvPicPr/>
          <p:nvPr/>
        </p:nvPicPr>
        <p:blipFill>
          <a:blip r:embed="rId1"/>
          <a:stretch/>
        </p:blipFill>
        <p:spPr>
          <a:xfrm>
            <a:off x="3754440" y="1922400"/>
            <a:ext cx="3825720" cy="42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14120" y="899640"/>
            <a:ext cx="78548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100" spc="-1" strike="noStrike">
                <a:solidFill>
                  <a:srgbClr val="000000"/>
                </a:solidFill>
                <a:latin typeface="Calibri"/>
              </a:rPr>
              <a:t>«Днём с огнём не сыщешь»</a:t>
            </a:r>
            <a:br>
              <a:rPr sz="5100"/>
            </a:b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79640" y="1692360"/>
            <a:ext cx="7416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Ни для кого не секрет, что обозначает выражение «днем с огнем не сыщешь»: оно показывает, что предмет, который мы ищем, является крайне редким или даже то, что его в принципе найти невозможно. Например, белка альбинос- большая редкость в природ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Рисунок 3" descr="http://warez.sumy.ua/uploads/posts/1208208494_11_albino.jpg"/>
          <p:cNvPicPr/>
          <p:nvPr/>
        </p:nvPicPr>
        <p:blipFill>
          <a:blip r:embed="rId1"/>
          <a:stretch/>
        </p:blipFill>
        <p:spPr>
          <a:xfrm>
            <a:off x="5016600" y="3828960"/>
            <a:ext cx="3719520" cy="34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2920" y="899640"/>
            <a:ext cx="907236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«Волосы дыбом»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503280" y="1763640"/>
            <a:ext cx="907236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2540160" y="1692360"/>
            <a:ext cx="635760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ак говорят, когда человек очень испугал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исхождение. «Стоять дыбом» - это стоять навытяжку, на кончиках пальцев. То есть, когда человек пугается, у него волосы словно на цыпочках на голове стоя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539640" y="96840"/>
            <a:ext cx="8460000" cy="68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2920" y="1692360"/>
            <a:ext cx="9072360" cy="77760"/>
          </a:xfrm>
          <a:prstGeom prst="rect">
            <a:avLst/>
          </a:prstGeom>
          <a:noFill/>
          <a:ln w="0">
            <a:noFill/>
          </a:ln>
        </p:spPr>
        <p:txBody>
          <a:bodyPr tIns="32040" bIns="3204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700" spc="-1" strike="noStrike">
                <a:solidFill>
                  <a:srgbClr val="000000"/>
                </a:solidFill>
                <a:latin typeface="Calibri"/>
              </a:rPr>
              <a:t>«Дело в шляпе»</a:t>
            </a:r>
            <a:br>
              <a:rPr sz="5700"/>
            </a:br>
            <a:r>
              <a:rPr b="0" lang="ru-RU" sz="57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5700"/>
            </a:b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503280" y="1763640"/>
            <a:ext cx="907236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5040000" y="1763280"/>
            <a:ext cx="40323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сколько столетий назад, когда почты в теперешнем ее виде не существовало, все сообщения доставлялись гонцами на лошадях. По проезжим дорогам бродило тогда немало разбойников, и сумка с пакетом могла привлечь внимание грабителей. Поэтому важные бумаги, или, как их раньше называли, дела, зашивали под подкладку шляпы или шапки. Отсюда и возникло выражение — «дело в шляпе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анный фразеологизм означает то, что все хорошо, все в порядке. Об успешном завершении, исходе чего-либ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539640" y="1258920"/>
            <a:ext cx="91807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Рисунок 5" descr="http://img1.1tv.ru/imgsize460x345/20001217190034.GIF"/>
          <p:cNvPicPr/>
          <p:nvPr/>
        </p:nvPicPr>
        <p:blipFill>
          <a:blip r:embed="rId2"/>
          <a:stretch/>
        </p:blipFill>
        <p:spPr>
          <a:xfrm>
            <a:off x="360360" y="1547640"/>
            <a:ext cx="468000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2920" y="96840"/>
            <a:ext cx="9072360" cy="14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700" spc="-1" strike="noStrike">
                <a:solidFill>
                  <a:srgbClr val="000000"/>
                </a:solidFill>
                <a:latin typeface="Calibri"/>
              </a:rPr>
              <a:t>Фразеологизмы  из  нашей  истории.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503280" y="1763640"/>
            <a:ext cx="907236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502920" y="1808280"/>
            <a:ext cx="90723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2" name="Object 5"/>
          <p:cNvGraphicFramePr/>
          <p:nvPr/>
        </p:nvGraphicFramePr>
        <p:xfrm>
          <a:off x="2386080" y="2843280"/>
          <a:ext cx="582300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6080" y="2843280"/>
                    <a:ext cx="582300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Picture 3" descr="C:\Users\Viktor\Desktop\5064.jpg"/>
          <p:cNvPicPr/>
          <p:nvPr/>
        </p:nvPicPr>
        <p:blipFill>
          <a:blip r:embed="rId3"/>
          <a:stretch/>
        </p:blipFill>
        <p:spPr>
          <a:xfrm>
            <a:off x="360360" y="1619280"/>
            <a:ext cx="3384720" cy="3024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Users\Viktor\Desktop\3.jpg"/>
          <p:cNvPicPr/>
          <p:nvPr/>
        </p:nvPicPr>
        <p:blipFill>
          <a:blip r:embed="rId4"/>
          <a:stretch/>
        </p:blipFill>
        <p:spPr>
          <a:xfrm>
            <a:off x="6192720" y="1835280"/>
            <a:ext cx="3461040" cy="2665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C:\Users\Viktor\Desktop\1698666_original.jpg"/>
          <p:cNvPicPr/>
          <p:nvPr/>
        </p:nvPicPr>
        <p:blipFill>
          <a:blip r:embed="rId5"/>
          <a:stretch/>
        </p:blipFill>
        <p:spPr>
          <a:xfrm>
            <a:off x="3095640" y="3832200"/>
            <a:ext cx="3384360" cy="3205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8:32:32Z</dcterms:created>
  <dc:creator/>
  <dc:description/>
  <dc:language>en-US</dc:language>
  <cp:lastModifiedBy>Танюшка</cp:lastModifiedBy>
  <dcterms:modified xsi:type="dcterms:W3CDTF">2021-11-28T19:12:52Z</dcterms:modified>
  <cp:revision>64</cp:revision>
  <dc:subject/>
  <dc:title>Слайд 1</dc:title>
</cp:coreProperties>
</file>