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0EA-18F7-43E4-9E45-BD18E64E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1DA-35F7-4BF5-8939-660F64E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895-7381-4825-98DA-F8FD5F0F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43D-498A-4892-9E8A-EB3F18AB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4CDC6-E4D4-4B24-B666-307552405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9A276-DC65-46CA-9C76-91060B3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7F490-CEDA-44B4-B01E-9B4E1FC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EA276-19B0-4FA8-B7C3-12F3CA9D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7E5AE-300D-4D7A-B024-F7BECB8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F143-CCAA-401F-ABA9-F3970A0A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F84D-42F2-461B-825D-11DA24E8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64E-B519-4994-9828-2B79BCF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E6712-B07E-4DC0-BFC9-7E81620D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EF679-8C72-4CFF-A3EC-CECB264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A8D05-5665-47E7-A35A-8C67923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DE6D-5CD3-42DA-91CF-830C7E3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D20F0-6D78-4E1C-BA0E-A68649F9E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B797D-9F40-401A-A9CD-17F0471E4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8ED62-BB96-499B-9B2F-9CF2DCAB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61ADC-8708-48F1-8FD7-8DD0692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FA8A2-33A1-434D-A5B0-113ADDB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18353-0FF3-4E7A-B539-FB76B656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440-D566-4A7D-92C8-A815F67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79DE3-25BD-477B-A6DF-F844DF0C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28207-4461-46D1-AC19-9D623E0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8C87E-92DF-48E5-95C7-E44D83E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40189-15C0-481F-AAF7-3223175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22D91-5B76-4357-8E87-F48DBD7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D2715-320E-4687-ABCE-F5241AF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19834-888C-4087-8628-A5E750BA35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214-E955-4AC2-B024-37943D2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E89-F39B-4C0F-A16C-A18DE6C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DB4-6443-421A-870B-4D4653E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DED-AD9D-40D2-A536-D273416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CE7-32E8-468A-8EF1-52B778A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6F5-536B-4E37-8922-EF41956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D14E26-3CFD-4D14-8986-B04013C45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66600" y="-66600"/>
            <a:ext cx="10217160" cy="7616880"/>
            <a:chOff x="-66600" y="-66600"/>
            <a:chExt cx="10217160" cy="7616880"/>
          </a:xfrm>
        </p:grpSpPr>
        <p:pic>
          <p:nvPicPr>
            <p:cNvPr id="42" name="Picture 2" descr=""/>
            <p:cNvPicPr/>
            <p:nvPr/>
          </p:nvPicPr>
          <p:blipFill>
            <a:blip r:embed="rId2"/>
            <a:stretch/>
          </p:blipFill>
          <p:spPr>
            <a:xfrm>
              <a:off x="-66600" y="-66600"/>
              <a:ext cx="10217160" cy="76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77800" y="577800"/>
              <a:ext cx="8921880" cy="63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Picture 4" descr=""/>
          <p:cNvPicPr/>
          <p:nvPr/>
        </p:nvPicPr>
        <p:blipFill>
          <a:blip r:embed="rId3"/>
          <a:srcRect l="0" t="0" r="50014" b="0"/>
          <a:stretch/>
        </p:blipFill>
        <p:spPr>
          <a:xfrm>
            <a:off x="8663040" y="5595840"/>
            <a:ext cx="1417680" cy="196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8562960" y="0"/>
            <a:ext cx="151776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0" y="236520"/>
            <a:ext cx="1225440" cy="133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6"/>
          <a:stretch/>
        </p:blipFill>
        <p:spPr>
          <a:xfrm>
            <a:off x="0" y="5905440"/>
            <a:ext cx="1573200" cy="140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0" y="7157880"/>
            <a:ext cx="2349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48A28C-A10A-431E-A618-F258296873A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-66600" y="-66600"/>
            <a:ext cx="10217160" cy="7616880"/>
            <a:chOff x="-66600" y="-66600"/>
            <a:chExt cx="10217160" cy="7616880"/>
          </a:xfrm>
        </p:grpSpPr>
        <p:pic>
          <p:nvPicPr>
            <p:cNvPr id="90" name="Picture 2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10217160" cy="76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"/>
            <p:cNvSpPr/>
            <p:nvPr/>
          </p:nvSpPr>
          <p:spPr>
            <a:xfrm>
              <a:off x="577800" y="577800"/>
              <a:ext cx="8921880" cy="63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4"/>
          <a:srcRect l="0" t="0" r="50014" b="0"/>
          <a:stretch/>
        </p:blipFill>
        <p:spPr>
          <a:xfrm>
            <a:off x="8663040" y="5595840"/>
            <a:ext cx="1417680" cy="196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8562960" y="0"/>
            <a:ext cx="151776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6"/>
          <a:stretch/>
        </p:blipFill>
        <p:spPr>
          <a:xfrm>
            <a:off x="0" y="236520"/>
            <a:ext cx="1225440" cy="133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7"/>
          <a:stretch/>
        </p:blipFill>
        <p:spPr>
          <a:xfrm>
            <a:off x="0" y="5905440"/>
            <a:ext cx="1573200" cy="1405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0" y="7157880"/>
            <a:ext cx="2349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A30332-192F-467C-8977-6A3EF6CC73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763640"/>
            <a:ext cx="442764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60360" y="720720"/>
            <a:ext cx="9072720" cy="84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с ф</a:t>
            </a: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еологизм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ами  на  уроках </a:t>
            </a: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русского язык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и  литературного  чт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У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чител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начальных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классов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 МБОУ СОШ № 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Дунаева Анжелика 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68720" y="1550520"/>
            <a:ext cx="43912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чать во всю ивановскую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ичать очень гром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ь в долгий ящик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долго отложить решение какого-нибудь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C:\Users\Viktor\Desktop\кот  в  ящике.jpg"/>
          <p:cNvPicPr/>
          <p:nvPr/>
        </p:nvPicPr>
        <p:blipFill>
          <a:blip r:embed="rId2"/>
          <a:stretch/>
        </p:blipFill>
        <p:spPr>
          <a:xfrm>
            <a:off x="1511280" y="3708360"/>
            <a:ext cx="3313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2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700" spc="-1" strike="noStrike">
                <a:solidFill>
                  <a:srgbClr val="000000"/>
                </a:solidFill>
                <a:latin typeface="Calibri"/>
              </a:rPr>
              <a:t>Кубанские фразеологизмы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76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60360" y="1474920"/>
            <a:ext cx="3887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0000" y="1403280"/>
            <a:ext cx="45720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254320" y="1565280"/>
            <a:ext cx="58197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929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Picture 7" descr="C:\Users\Viktor\Desktop\img14.jpg"/>
          <p:cNvPicPr/>
          <p:nvPr/>
        </p:nvPicPr>
        <p:blipFill>
          <a:blip r:embed="rId3"/>
          <a:stretch/>
        </p:blipFill>
        <p:spPr>
          <a:xfrm>
            <a:off x="1152360" y="324000"/>
            <a:ext cx="799308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3" descr="C:\Users\Viktor\Desktop\тантал.jpg"/>
          <p:cNvPicPr/>
          <p:nvPr/>
        </p:nvPicPr>
        <p:blipFill>
          <a:blip r:embed="rId3"/>
          <a:stretch/>
        </p:blipFill>
        <p:spPr>
          <a:xfrm>
            <a:off x="1079640" y="466560"/>
            <a:ext cx="784836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очки. Тес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47640" y="1807920"/>
            <a:ext cx="89280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584360" y="334800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334800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1440" y="-46440"/>
            <a:ext cx="290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655640" y="-4448880"/>
            <a:ext cx="6769080" cy="11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место точек вставь нуж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… на голову (снег, дождь, град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… вода (с курицы, с утки, с гус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ить … зайцев (трех, двух, трех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и съесть (пуд, фунт, килограмм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еденного … не стоит (огурца, яйца, яблок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за … стеной (деревянной, глиняной, каменно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ка про … бычка (белого, черного, рыжего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ист … дрожит (березовый, кленовый, осинов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53928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начение фразеологизмов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2602080" y="3059280"/>
          <a:ext cx="582264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2080" y="3059280"/>
                    <a:ext cx="582264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5"/>
          <p:cNvSpPr/>
          <p:nvPr/>
        </p:nvSpPr>
        <p:spPr>
          <a:xfrm>
            <a:off x="3576960" y="-52920"/>
            <a:ext cx="292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фразеологизм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" descr="img6"/>
          <p:cNvPicPr/>
          <p:nvPr/>
        </p:nvPicPr>
        <p:blipFill>
          <a:blip r:embed="rId5"/>
          <a:stretch/>
        </p:blipFill>
        <p:spPr>
          <a:xfrm>
            <a:off x="1224000" y="1042920"/>
            <a:ext cx="770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Picture 3" descr="C:\Users\Viktor\Desktop\img52.jpg"/>
          <p:cNvPicPr/>
          <p:nvPr/>
        </p:nvPicPr>
        <p:blipFill>
          <a:blip r:embed="rId3"/>
          <a:stretch/>
        </p:blipFill>
        <p:spPr>
          <a:xfrm>
            <a:off x="1152360" y="324000"/>
            <a:ext cx="799164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250920"/>
            <a:ext cx="907236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Цель :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82280" y="1332000"/>
            <a:ext cx="782172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 учащихся  с  фразеологизм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 употреблять фразеологизмы в речи с целью  её обога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 находить фразеологизмы  в  текс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8360" y="190764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разеологиз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от              греческого фразис – выражение, оборот речи + логос – учение) – устойчивое по составу и структуре, лексически неделимое 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целостное по значению словосочетани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ли пред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разеологизм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отребляется как некоторое целое, не подлежащее дальнейшему разложению и обычно не допускающее внутри себя перестановки своих ча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900000"/>
            <a:ext cx="1027260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76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20720" y="1260360"/>
            <a:ext cx="43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03280" y="4370400"/>
            <a:ext cx="44276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40360" y="1440000"/>
            <a:ext cx="44276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:\Users\Viktor\Desktop\screen17.jpg"/>
          <p:cNvPicPr/>
          <p:nvPr/>
        </p:nvPicPr>
        <p:blipFill>
          <a:blip r:embed="rId2"/>
          <a:stretch/>
        </p:blipFill>
        <p:spPr>
          <a:xfrm>
            <a:off x="1152360" y="466560"/>
            <a:ext cx="7991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91640" y="1474920"/>
            <a:ext cx="871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Calibri"/>
              </a:rPr>
              <a:t>Исконно  русские  фразеологизмы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C:\Users\Viktor\Desktop\m3d5046e4.png"/>
          <p:cNvPicPr/>
          <p:nvPr/>
        </p:nvPicPr>
        <p:blipFill>
          <a:blip r:embed="rId1"/>
          <a:stretch/>
        </p:blipFill>
        <p:spPr>
          <a:xfrm>
            <a:off x="3754440" y="1922400"/>
            <a:ext cx="3825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4120" y="899640"/>
            <a:ext cx="7854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«Днём с огнём не сыщешь»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79640" y="1692360"/>
            <a:ext cx="7416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и для кого не секрет, что обозначает выражение «днем с огнем не сыщешь»: оно показывает, что предмет, который мы ищем, является крайне редким или даже то, что его в принципе найти невозможно. Например, белка альбинос- большая редкость в приро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3" descr="http://warez.sumy.ua/uploads/posts/1208208494_11_albino.jpg"/>
          <p:cNvPicPr/>
          <p:nvPr/>
        </p:nvPicPr>
        <p:blipFill>
          <a:blip r:embed="rId1"/>
          <a:stretch/>
        </p:blipFill>
        <p:spPr>
          <a:xfrm>
            <a:off x="5016600" y="3828960"/>
            <a:ext cx="371952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899640"/>
            <a:ext cx="907236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«Волосы дыбом»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40160" y="1692360"/>
            <a:ext cx="6357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говорят, когда человек очень испуга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схождение. «Стоять дыбом» - это стоять навытяжку, на кончиках пальцев. То есть, когда человек пугается, у него волосы словно на цыпочках на голове стоя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96840"/>
            <a:ext cx="846000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1692360"/>
            <a:ext cx="907236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Calibri"/>
              </a:rPr>
              <a:t>«Дело в шляпе»</a:t>
            </a:r>
            <a:br>
              <a:rPr sz="5700"/>
            </a:b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40000" y="1763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сколько столетий назад, когда почты в теперешнем ее виде не существовало, все сообщения доставлялись гонцами на лошадях. По проезжим дорогам бродило тогда немало разбойников, и сумка с пакетом могла привлечь внимание грабителей. Поэтому важные бумаги, или, как их раньше называли, дела, зашивали под подкладку шляпы или шапки. Отсюда и возникло выражение — «дело в шляп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нный фразеологизм означает то, что все хорошо, все в порядке. Об успешном завершении, исходе чего-либ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39640" y="1258920"/>
            <a:ext cx="9180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5" descr="http://img1.1tv.ru/imgsize460x345/20001217190034.GIF"/>
          <p:cNvPicPr/>
          <p:nvPr/>
        </p:nvPicPr>
        <p:blipFill>
          <a:blip r:embed="rId2"/>
          <a:stretch/>
        </p:blipFill>
        <p:spPr>
          <a:xfrm>
            <a:off x="360360" y="1547640"/>
            <a:ext cx="4680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Фразеологизмы  из  нашей  истории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3" descr="C:\Users\Viktor\Desktop\5064.jpg"/>
          <p:cNvPicPr/>
          <p:nvPr/>
        </p:nvPicPr>
        <p:blipFill>
          <a:blip r:embed="rId3"/>
          <a:stretch/>
        </p:blipFill>
        <p:spPr>
          <a:xfrm>
            <a:off x="360360" y="161928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Viktor\Desktop\3.jpg"/>
          <p:cNvPicPr/>
          <p:nvPr/>
        </p:nvPicPr>
        <p:blipFill>
          <a:blip r:embed="rId4"/>
          <a:stretch/>
        </p:blipFill>
        <p:spPr>
          <a:xfrm>
            <a:off x="6192720" y="1835280"/>
            <a:ext cx="3461040" cy="26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Viktor\Desktop\1698666_original.jpg"/>
          <p:cNvPicPr/>
          <p:nvPr/>
        </p:nvPicPr>
        <p:blipFill>
          <a:blip r:embed="rId5"/>
          <a:stretch/>
        </p:blipFill>
        <p:spPr>
          <a:xfrm>
            <a:off x="3095640" y="3832200"/>
            <a:ext cx="3384360" cy="320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Танюшка</cp:lastModifiedBy>
  <dcterms:modified xsi:type="dcterms:W3CDTF">2021-11-28T19:12:52Z</dcterms:modified>
  <cp:revision>64</cp:revision>
  <dc:subject/>
  <dc:title>Слайд 1</dc:title>
</cp:coreProperties>
</file>