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CA7-B2DE-4035-BAE2-5D794E4F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D90-DD5B-4251-A2FA-394AD25F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1B5-168D-4946-AD7D-96A2606A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1C0-5097-4B03-850B-5877F347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DC8-6ED1-4493-8F2B-B5DAA96A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A5D-9C63-43CA-A93E-9134A99B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B74-B6E6-4AF9-B520-589D7B5A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D2F-1A09-4120-8B94-52F79CE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294-1EE2-45EA-8E31-239FF91A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0C1-2ED0-441B-8C3A-ABA5859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182-8345-432B-B671-C49DD97F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873-CF5C-4F3C-9CEF-0CBC0D9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AA6A-8352-47AE-AFB8-6B0F97CB4B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714240" y="428760"/>
            <a:ext cx="78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БДОУ «Детский сад общеразвивающего вида №17 » г. Ворон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9"/>
          <p:cNvSpPr/>
          <p:nvPr/>
        </p:nvSpPr>
        <p:spPr>
          <a:xfrm>
            <a:off x="500040" y="857160"/>
            <a:ext cx="807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Ранняя  профессиональная ориентация в условиях дошкольного образова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 воспитатель: Клочкова Светла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57480" y="-360"/>
            <a:ext cx="5143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ющее лото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Изучаем професси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1109988-1000x1340.jpg"/>
          <p:cNvPicPr/>
          <p:nvPr/>
        </p:nvPicPr>
        <p:blipFill>
          <a:blip r:embed="rId1"/>
          <a:stretch/>
        </p:blipFill>
        <p:spPr>
          <a:xfrm>
            <a:off x="4786200" y="928800"/>
            <a:ext cx="4216680" cy="3714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167412.jpg"/>
          <p:cNvPicPr/>
          <p:nvPr/>
        </p:nvPicPr>
        <p:blipFill>
          <a:blip r:embed="rId2"/>
          <a:stretch/>
        </p:blipFill>
        <p:spPr>
          <a:xfrm>
            <a:off x="214200" y="1143000"/>
            <a:ext cx="4071960" cy="271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4929120" y="1429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Професс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2" descr="95f058a2548791eabbb687af62b5cd7d_h.jpg"/>
          <p:cNvPicPr/>
          <p:nvPr/>
        </p:nvPicPr>
        <p:blipFill>
          <a:blip r:embed="rId3"/>
          <a:stretch/>
        </p:blipFill>
        <p:spPr>
          <a:xfrm>
            <a:off x="2786040" y="3714840"/>
            <a:ext cx="4021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14720" y="285480"/>
            <a:ext cx="4572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Что лишне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2071800" cy="215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3214800" y="1214280"/>
            <a:ext cx="2354040" cy="18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929200" y="114300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1857240" y="3143160"/>
            <a:ext cx="2446560" cy="200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4357800" y="3143160"/>
            <a:ext cx="22143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643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6715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есня игра «Расскажи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1" descr="12prof.jpg"/>
          <p:cNvPicPr/>
          <p:nvPr/>
        </p:nvPicPr>
        <p:blipFill>
          <a:blip r:embed="rId1"/>
          <a:stretch/>
        </p:blipFill>
        <p:spPr>
          <a:xfrm>
            <a:off x="142920" y="142884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_original.jpg"/>
          <p:cNvPicPr/>
          <p:nvPr/>
        </p:nvPicPr>
        <p:blipFill>
          <a:blip r:embed="rId2"/>
          <a:stretch/>
        </p:blipFill>
        <p:spPr>
          <a:xfrm>
            <a:off x="142920" y="3643200"/>
            <a:ext cx="2428920" cy="3083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5186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Знаю все 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3" descr="0003-002-.png"/>
          <p:cNvPicPr/>
          <p:nvPr/>
        </p:nvPicPr>
        <p:blipFill>
          <a:blip r:embed="rId3"/>
          <a:stretch/>
        </p:blipFill>
        <p:spPr>
          <a:xfrm>
            <a:off x="1857240" y="714240"/>
            <a:ext cx="2462400" cy="3071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image (6).jpg"/>
          <p:cNvPicPr/>
          <p:nvPr/>
        </p:nvPicPr>
        <p:blipFill>
          <a:blip r:embed="rId4"/>
          <a:stretch/>
        </p:blipFill>
        <p:spPr>
          <a:xfrm>
            <a:off x="2000160" y="2500200"/>
            <a:ext cx="232560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8546378.jpg"/>
          <p:cNvPicPr/>
          <p:nvPr/>
        </p:nvPicPr>
        <p:blipFill>
          <a:blip r:embed="rId5"/>
          <a:stretch/>
        </p:blipFill>
        <p:spPr>
          <a:xfrm>
            <a:off x="4572000" y="2357280"/>
            <a:ext cx="4365720" cy="327348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4143240" y="1143000"/>
            <a:ext cx="52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Все работы хороши – выбирай на вку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428760" y="571680"/>
            <a:ext cx="5214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/и «Разрезные картинк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3" descr="797.jpg"/>
          <p:cNvPicPr/>
          <p:nvPr/>
        </p:nvPicPr>
        <p:blipFill>
          <a:blip r:embed="rId1"/>
          <a:stretch/>
        </p:blipFill>
        <p:spPr>
          <a:xfrm>
            <a:off x="21420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816_zoom.jpg"/>
          <p:cNvPicPr/>
          <p:nvPr/>
        </p:nvPicPr>
        <p:blipFill>
          <a:blip r:embed="rId2"/>
          <a:stretch/>
        </p:blipFill>
        <p:spPr>
          <a:xfrm>
            <a:off x="357120" y="3357720"/>
            <a:ext cx="3071880" cy="307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786200" y="57168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то «Кем быть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0" descr="02lab7ihl1357213004.jpg"/>
          <p:cNvPicPr/>
          <p:nvPr/>
        </p:nvPicPr>
        <p:blipFill>
          <a:blip r:embed="rId3"/>
          <a:stretch/>
        </p:blipFill>
        <p:spPr>
          <a:xfrm>
            <a:off x="3929040" y="2928960"/>
            <a:ext cx="2543040" cy="1940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06lab7ihl1357213010.jpg"/>
          <p:cNvPicPr/>
          <p:nvPr/>
        </p:nvPicPr>
        <p:blipFill>
          <a:blip r:embed="rId4"/>
          <a:stretch/>
        </p:blipFill>
        <p:spPr>
          <a:xfrm>
            <a:off x="3643200" y="4786200"/>
            <a:ext cx="2745000" cy="2071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04lab7ihl1357213007.jpg"/>
          <p:cNvPicPr/>
          <p:nvPr/>
        </p:nvPicPr>
        <p:blipFill>
          <a:blip r:embed="rId5"/>
          <a:stretch/>
        </p:blipFill>
        <p:spPr>
          <a:xfrm>
            <a:off x="5715000" y="4000680"/>
            <a:ext cx="3205080" cy="2393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3ed2689f05fb46e6d9accdde8724c67d.jpg"/>
          <p:cNvPicPr/>
          <p:nvPr/>
        </p:nvPicPr>
        <p:blipFill>
          <a:blip r:embed="rId6"/>
          <a:stretch/>
        </p:blipFill>
        <p:spPr>
          <a:xfrm>
            <a:off x="4786200" y="1143000"/>
            <a:ext cx="4044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213840"/>
            <a:ext cx="9001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ДОУ по ознакомлению детей с профессиями взрослых реализуется в соответствии с принципами воспитания у детей позитивного отношения к труду: поддержка инициативы детей в различных видах деятельности; формирование познавательных интересов и познавательных действий ребенка в различных видах деятельности; принцип новизны (использование новейших информационных технологий); содействие и сотрудничество детей и взрослых, признание ребенка полноценным участником образователь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 и успех работы по раннему профессиональному самоопределению детей дошкольного возраста во многом будет зависеть от материально-технической базы детского сада, сетевого взаимодействия с образовательными организациями, участниками проекта, а также организованной  работы с социальными партне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142920" y="1071360"/>
            <a:ext cx="9144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ость у детей представлений о мире професс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Сформированность ранних профориентационных склонно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Перенос  детьми знаний о профессиональной деятельности взрослых в самостоятельную игровую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общенное представление у дошкольников о структуре трудового процесса, понимание взаимосвязи между компонентами трудов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вышение познавательной активности детей дошкольного возраста, интереса к профессиям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зиционирование ребенка в различных профессия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жидаемые результа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142920"/>
            <a:ext cx="8929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работы по ранней профориентации детей дошкольного возраста и ознакомлению с профессиями взрослых, очень важным является раннее выявлен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ов и склонностей ребенк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позволяет определить, к какому типу профессий испытывает больший интерес дошкольник 5-7 летнего возраста. На основе этого можно планировать деятельность детей по их интересам и склонностям, что несомненно приведёт к более высоким и цельным результатам деятельности дошкольников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00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нняя профориентация в ДО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нняя дошкольная  профессиональная ориентация - что это 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школьный возраст можно рассматривать как подготовительный , закладывающий основы для профессионального самоопределения в будущем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нняя профориентация в ДОУ - это система мероприятий, направленных на выявление личностных особенностей, интересов и способностей ребенка для оказания ему помощи в  выборе профессии, которая  соответствует  его индивидуальным возможн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У является первой ступенью в формировании базовых знаний о профессиях. Здесь дети получают  общее знакомство с миром профессии с совместным обсуждением мечты ребенка и опыта который они приобретают  в каких-то видах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08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Начиная с младшего дошкольного возраста мы формируем первоначальные представления детей о некоторых видах труда взрослых, простейших трудовых операциях и материалах; учим  вычленять труд взрослых как особую деятельность, направленную на заботу о людях; обращаем  внимание детей на положительных сказочных героев и персонажей литературных произведений, которые трудятся; развиваем  представления об использовании безопасных способов выполнения профессиональной деятельности людей ближайшего окру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08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реднем дошкольном возрасте закрепляем полученные ранее знания и  продолжаем формировать представление о профессиях, направленных на удовлетворение потребностей человека и общества; о сложных трудовых операциях и механизмах; о мотивах труда людей; о видах трудовой деятельности, приносящих пользу людям и описанных в художественной литературе; учим сравнивать профессии; учим вычленять цели, основное содержание конкретных видов труда, имеющих понятный ребенку результат; знакомим  с наиболее распространёнными видами профессиональной деятельности, связанными с чрезвычайными 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В старшем дошкольном возрасте мы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расширяем  и систематизируем представления о труде взрослых, материальных и нематериальных результатах труда, его личностной и общественной значимости; расширяем  и систематизируем представления о разнообразных видах техники, облегчающей выполнение трудовых функций человека; формируем первоначальные представления о труде как экономической категории; формируем представления о различных сторонах трудовой деятельности детей средствами художественной 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истематизируем  знания о труде людей в разное время года; знакомим с трудом людей творческих профессий: художников, писателей, композиторов, мастеров народного декоративно-приклад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08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подготовительной группе: расширяем и систематизируем представления о различных видах труда взрослых, связанных с удовлетворением потребностей людей, общества и государства (цели и содержание вида труда, некоторые трудовые процессы, результаты, их личностную, социальную и государственную значимость, представления о труде как экономической категории);расширяем  и систематизируем представления о современных профессиях; расширяем представления о профессиях, связанных со спецификой местных условий; расширяем  представления о роли механизации в труде, о машинах и приборах – помощниках человека; формируем  представление о видах производственного труда (шитьё, производство продуктов питания, строительство, животноводство, выращивание и уборка хлеба) и обслуживающего труда (медицина, торговля, образование), о связи результатов деятельности людей различных 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44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тская игра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— это первый профориентатор ребенка. В игре ребенок учится возможности быть,... быть капитаном, врачом и т.д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.Г. Асм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C:\Users\Admin\Desktop\20211013_160807.jpg"/>
          <p:cNvPicPr/>
          <p:nvPr/>
        </p:nvPicPr>
        <p:blipFill>
          <a:blip r:embed="rId1"/>
          <a:stretch/>
        </p:blipFill>
        <p:spPr>
          <a:xfrm>
            <a:off x="142920" y="2428920"/>
            <a:ext cx="207180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C:\Users\Admin\Desktop\20211013_161706.jpg"/>
          <p:cNvPicPr/>
          <p:nvPr/>
        </p:nvPicPr>
        <p:blipFill>
          <a:blip r:embed="rId2"/>
          <a:stretch/>
        </p:blipFill>
        <p:spPr>
          <a:xfrm>
            <a:off x="2286000" y="114300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C:\Users\Admin\Desktop\20211013_160931.jpg"/>
          <p:cNvPicPr/>
          <p:nvPr/>
        </p:nvPicPr>
        <p:blipFill>
          <a:blip r:embed="rId3"/>
          <a:stretch/>
        </p:blipFill>
        <p:spPr>
          <a:xfrm>
            <a:off x="4786200" y="2286000"/>
            <a:ext cx="199548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C:\Users\Admin\Desktop\20211013_160032.jpg"/>
          <p:cNvPicPr/>
          <p:nvPr/>
        </p:nvPicPr>
        <p:blipFill>
          <a:blip r:embed="rId4"/>
          <a:stretch/>
        </p:blipFill>
        <p:spPr>
          <a:xfrm>
            <a:off x="6858000" y="1643040"/>
            <a:ext cx="2286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213840"/>
            <a:ext cx="8929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работы используем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Комплексные занятия по ознакомлению с трудом взрослых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Беседы «Где работают мама, папа», «Чья профессия важней?» и т.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Просматривание презентации «Профессии людей»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Настольные, д/и: «Угадай профессию», «Кому что нужно?», «Изучаем профессии» , «Кем быть?», «Разрезные картинки»,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есные игры: «Расскажи-ка», «Знаю все профессии», «Отгадай профессию по описанию»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/р игры: «Строители, «Шофёры», «Автобус», «Парикмахерская», «Школа», «Магазин», «Детский сад», «Больница», «Библиотека», «Ателье»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Экскурсии: на почту, кухню, автобусную остановку, встречу с сотрудниками ГИБДД; в магазин, аптеку, парикмахерскую, школу, медицинский кабинет, детскую библиотеку, пожарную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42920" y="21384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етьми  ведется работа по просмотру и обсуждению мультфильмов, чтение  книг, отгадывание загадок о профессиях, разыгрывание ситу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ны  конспекты занятий с детьми, приобретены и изготовлены дидактические, настольные игры по профессиям, сделаны атрибуты к сюжетно-ролевым игр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дмин</cp:lastModifiedBy>
  <dcterms:modified xsi:type="dcterms:W3CDTF">2021-11-27T16:04:23Z</dcterms:modified>
  <cp:revision>730</cp:revision>
  <dc:subject/>
  <dc:title>Diapositiva 1</dc:title>
</cp:coreProperties>
</file>