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4AB6-CD3D-4914-A968-C179DEA3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841-E545-4E2D-B4A5-72CABE45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13F-03ED-400F-8192-DB2A08B7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96B2-FABC-406A-90C4-922C461D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074-A4D6-4BB8-914C-735B29DF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148-0079-4B05-82BC-B969F292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E9F-AE20-4EB9-B9A7-06730E65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EEC-2FC6-4EEE-8B29-50A3D402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843-4062-43E8-938D-359ED033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4FB-D047-45E4-9090-3945F9DF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8F1-3ABB-43C7-AA6A-F6296E61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CE30-AFE6-457A-BC7E-DF2B084A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7EB7-A4FA-40A0-8CE2-30CE832138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музыкально – художественной деятельности у детей старшего дошкольного возраста»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Музыкальный руковод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хтататя М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ктябрьский детский сад №7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народного един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C:\Users\Азм\Desktop\ГРАМОТЫ ДОЛЖ\IMG_2675.JPG"/>
          <p:cNvPicPr/>
          <p:nvPr/>
        </p:nvPicPr>
        <p:blipFill>
          <a:blip r:embed="rId1"/>
          <a:stretch/>
        </p:blipFill>
        <p:spPr>
          <a:xfrm>
            <a:off x="571680" y="1643040"/>
            <a:ext cx="2928600" cy="2197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Азм\Desktop\ГРАМОТЫ ДОЛЖ\IMG_2703.JPG"/>
          <p:cNvPicPr/>
          <p:nvPr/>
        </p:nvPicPr>
        <p:blipFill>
          <a:blip r:embed="rId2"/>
          <a:srcRect l="12407" t="18198" r="6987" b="4086"/>
          <a:stretch/>
        </p:blipFill>
        <p:spPr>
          <a:xfrm>
            <a:off x="5715000" y="1643040"/>
            <a:ext cx="3000240" cy="2170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Азм\Desktop\патриот фото\IMG-20201109-WA0009.jpg"/>
          <p:cNvPicPr/>
          <p:nvPr/>
        </p:nvPicPr>
        <p:blipFill>
          <a:blip r:embed="rId3"/>
          <a:stretch/>
        </p:blipFill>
        <p:spPr>
          <a:xfrm>
            <a:off x="3214800" y="3929040"/>
            <a:ext cx="28335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мате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C:\Users\Азм\Desktop\даша\KJIO6946.JPG"/>
          <p:cNvPicPr/>
          <p:nvPr/>
        </p:nvPicPr>
        <p:blipFill>
          <a:blip r:embed="rId1"/>
          <a:srcRect l="24734" t="8728" r="0" b="15641"/>
          <a:stretch/>
        </p:blipFill>
        <p:spPr>
          <a:xfrm>
            <a:off x="642960" y="1785960"/>
            <a:ext cx="2749680" cy="2071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Азм\Desktop\мам2\IMG_9861.jpg"/>
          <p:cNvPicPr/>
          <p:nvPr/>
        </p:nvPicPr>
        <p:blipFill>
          <a:blip r:embed="rId2"/>
          <a:srcRect l="4537" t="13604" r="9323" b="0"/>
          <a:stretch/>
        </p:blipFill>
        <p:spPr>
          <a:xfrm>
            <a:off x="4572000" y="1714680"/>
            <a:ext cx="3000240" cy="200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Азм\Desktop\даша\BUKM9637.JPG"/>
          <p:cNvPicPr/>
          <p:nvPr/>
        </p:nvPicPr>
        <p:blipFill>
          <a:blip r:embed="rId3"/>
          <a:srcRect l="18593" t="28753" r="17188" b="9376"/>
          <a:stretch/>
        </p:blipFill>
        <p:spPr>
          <a:xfrm>
            <a:off x="785880" y="4071960"/>
            <a:ext cx="2571840" cy="185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Азм\Desktop\даша\DXVC7584.JPG"/>
          <p:cNvPicPr/>
          <p:nvPr/>
        </p:nvPicPr>
        <p:blipFill>
          <a:blip r:embed="rId4"/>
          <a:srcRect l="4117" t="8214" r="3423" b="6842"/>
          <a:stretch/>
        </p:blipFill>
        <p:spPr>
          <a:xfrm>
            <a:off x="4500720" y="4071960"/>
            <a:ext cx="28778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мар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C:\Users\Азм\Desktop\МАРТ 2021\IMG_0771.JPG"/>
          <p:cNvPicPr/>
          <p:nvPr/>
        </p:nvPicPr>
        <p:blipFill>
          <a:blip r:embed="rId1"/>
          <a:srcRect l="6612" t="16539" r="11805" b="0"/>
          <a:stretch/>
        </p:blipFill>
        <p:spPr>
          <a:xfrm>
            <a:off x="5500800" y="4000680"/>
            <a:ext cx="2982960" cy="2033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C:\Users\Азм\Desktop\МАРТ 2021\IMG_0787.JPG"/>
          <p:cNvPicPr/>
          <p:nvPr/>
        </p:nvPicPr>
        <p:blipFill>
          <a:blip r:embed="rId2"/>
          <a:srcRect l="0" t="0" r="1320" b="8632"/>
          <a:stretch/>
        </p:blipFill>
        <p:spPr>
          <a:xfrm>
            <a:off x="500040" y="3857760"/>
            <a:ext cx="2500200" cy="2273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C:\Users\Азм\Desktop\МАРТ 2021\IMG_0825.JPG"/>
          <p:cNvPicPr/>
          <p:nvPr/>
        </p:nvPicPr>
        <p:blipFill>
          <a:blip r:embed="rId3"/>
          <a:stretch/>
        </p:blipFill>
        <p:spPr>
          <a:xfrm>
            <a:off x="2928960" y="1643040"/>
            <a:ext cx="27288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няя ярма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Азм\Desktop\даша\IMG_2014.JPG"/>
          <p:cNvPicPr/>
          <p:nvPr/>
        </p:nvPicPr>
        <p:blipFill>
          <a:blip r:embed="rId1"/>
          <a:stretch/>
        </p:blipFill>
        <p:spPr>
          <a:xfrm>
            <a:off x="2143080" y="1928880"/>
            <a:ext cx="49770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везда по имени МАМА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ный фестива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Азм\Desktop\даша\KPRP1017.JPG"/>
          <p:cNvPicPr/>
          <p:nvPr/>
        </p:nvPicPr>
        <p:blipFill>
          <a:blip r:embed="rId1"/>
          <a:stretch/>
        </p:blipFill>
        <p:spPr>
          <a:xfrm>
            <a:off x="857160" y="264312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Азм\Desktop\даша\PVEL8491.JPG"/>
          <p:cNvPicPr/>
          <p:nvPr/>
        </p:nvPicPr>
        <p:blipFill>
          <a:blip r:embed="rId2"/>
          <a:srcRect l="0" t="0" r="-276" b="28970"/>
          <a:stretch/>
        </p:blipFill>
        <p:spPr>
          <a:xfrm>
            <a:off x="5000760" y="2571840"/>
            <a:ext cx="264312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сок источников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гаркова, Е.И. Разработка региональных программ развития системы дошкольного образования [текст] / Е.И. Агаркова, С.В. Загребельная, И.В. Клемоинова, А.П.Самородова, Г.А.Шешерина, под общей ред. Н.Г.Астафьевой, методические рекомендации. –М.: Аркти, 2010.-72 с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ноградова Н.А., Панкова Е.П. Образовательные проекты в детском саду. – М.: Айрис-пресс, 2008. – 208с. 9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еленова, Н.Г. Мы живем в России [текст] / Н.Г.Зеленова, Л.Е.Осипова, учебное пособие. -М.: Академия, 2007. -82 с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злова, С.А. Дошкольная педагогика [текст] / С.А.Козлова, Т.А.Куликова, учебник для студ. Сред. Проф. Учеб.заведений.-М.: Издательский центр «Академия», 2009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аханева М.Д. Нравственно-патриотическое воспитание дошкольников. – М.: ТЦ Сфера, 2009. – 90с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ихайлова-Свирская Л.В. «Метод проектов в образовательной работе детского сада» - М., Просвещение, 2015. – 96с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овицкая, М.Ю. Наследие. Патриотическое воспитание в детском саду [текст] / М.Ю. Новицкая, учебное пособие. -М.: Линка-Пресс, 2012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етров В.М., Гришина Г.Н., Короткова Л.Д. «Праздники, игры и забавы для детей» ТЦ «Сфера», 2001. – 64с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сновная образовательная программа дошкольного образования «От рождения до школы» под редакцией Н.Е. Вераксы, Т.С.Комаровой, М.А. Васильевой-М.: Мозайка-синтез, 2016. – 352с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28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ая музыкальная классика – это богатейшая сокровищница, достояние России. Ни одна страна мира не может представить такую блестящую плеяду великих композитор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у России невозможно себе представить без народного искусства, которое наглядно демонстрирует моральные, эстетические ценности  народов  Ро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узыкально – художественной деятельности у детей старшего дошкольного возраста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цесс сложный и длительны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школьном возрасте формируются основные качества челове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важно не упустить возможность наполнить душу ребенка возвышенными человеческими ценностями, зародить интерес к музыкально художественной деяте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создать пространство, которое поможет взрослым и детям взаимодействовать в передаче одними и принятии другими культурных ценностей прошлого и настоящего, познании и сохранении их в настоящем и будуще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о – художественная деятельнос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е средство музыкального воспитания. Оно наиболее близко и доступно детям. Дети любят петь, танцевать. Исполняя песни, танцы они глубже воспринимают музыку, активно выражают свои переживания и чувств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 пения, танцев дети знакомятся с сокровищами фольклора, наследием  национальной классики,  композиторским творчеством и овладевают и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е и танцы  являются наиболее доступной формой   исполнительства и активно вовлекает поющих в творческий процес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школьном учреждении пение, танцы рассматривается как самое действенное средство, способствующее воспитанию вкуса детей, формированию основ их музыкальной культуры, проявлению любви к музыкальному пению и танца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зможно переоценить роль песни и танца в развитии у детей творчества. В танце или песни ребенок может ярко выплеснуть свои эмоции, выразить свое любовное отношение, переживание к тому кого он любит, к родным, маме и папе, бабушке и дедушке. ребенку помогает участие в праздниках и развлечения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о – художественная деяте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а воздействовать на чувства, настроения ребенка, постольку она способна преобразовывать его нравственный и духовный мир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я, танец вызывают интерес детей, приносит им радость, создает хорошее настроение, снимает чувство страха, беспокойства, тревоги – словом, обеспечивает эмоционально – психологическое благополучи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и разнообразие музыкального репертуара позволяет выбирать наиболее яркие его образцы, которые обладают большими художественными достоинствами и высокой познавательной ценностью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 взаимодейств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учение запросов и возможностей родителей воспитанников (анкетирование, опросы, беседы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учивание с детьми песен, танцев,стихотворени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мейные рисунки «Наш край», «Мое село», «Моя столица», «Моя семья», «Моя мама»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торепортаж «Дружно в садике живем, песни хором мы поем!» - (отображение в фотографиях занятий хорового коллектива и участия в праздниках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петиции совместных номеров родителей и детей к праздникам, концерт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узыкально – художественной деятельности через песни и танцы у детей старшего дошкольного возрас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знакомить детей с вокально-хоровой культурой, хоровым исполнением,  танцам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ормировать исполнительские навы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вать познавательные и творческие способности детей через ознакомление с музыкальными произведениями русских классиков, русских народных песен, танцев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буждать детей выражать свои чувства, эмоции в исполнении песен, танцев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оспитывать эстетические чувства, основанные на  музыкальной культур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й результ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ознавательного интереса детей к музыкальной культуре и выступление хорового и танцевального коллектива на праздниках, конкурсах и фестивалях различного уров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, вид проекта: долгосрочный (1 год), творческий. Участники проекта: музыкальный руководитель, дети, родители, воспитатели, педагог-психолог, учитель-логопед, инструктор по ФК, социальные партнеры (библиотека, РДК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детей: старший дошкольный возраст от 5 до 7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42960"/>
          <a:ext cx="8358120" cy="6000840"/>
        </p:xfrm>
        <a:graphic>
          <a:graphicData uri="http://schemas.openxmlformats.org/drawingml/2006/table">
            <a:tbl>
              <a:tblPr/>
              <a:tblGrid>
                <a:gridCol w="959040"/>
                <a:gridCol w="1942920"/>
                <a:gridCol w="54561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 эт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ределение цели и задач проект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1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эта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(подготовительны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плана реализации проекта;  -подбор нотного и литературного материала (песен, скороговорок, упражнений для распевания, стихотворений, игр) для заучивания; - создание презентаций: "Что такое хор?", "Россия - родина моя", "Русские народные песни"; «Танцы и игры» - сбор фотоматериала по проек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эта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й (реализация проекта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ружение в тему проекта: - проведение цикла непосредственно образовательной деятельности по темам проекта, - выставка рисунков ,- знакомство с хоровой , танцевальной культурой,  - слушание и просмотр выступлений хоровых, танцевальных коллективов; - разучивание с детьми текстов песен, танцев; - проведение праздников и концертов, участие в фестиваля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тий эта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(результат проекта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упление на  праздниках , фестиваля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27T09:18:33Z</dcterms:created>
  <dc:creator>Азм</dc:creator>
  <dc:description/>
  <dc:language>en-US</dc:language>
  <cp:lastModifiedBy>Азм</cp:lastModifiedBy>
  <dcterms:modified xsi:type="dcterms:W3CDTF">2021-11-28T05:57:41Z</dcterms:modified>
  <cp:revision>44</cp:revision>
  <dc:subject/>
  <dc:title>Слайд 1</dc:title>
</cp:coreProperties>
</file>