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1CD-8600-4ADB-8586-2F7D6B26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0FB-313A-456C-9BD9-5D7098FF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6F9-05D8-456C-BFCC-942EA164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DF2-8162-4502-9858-2AF63740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FF4-B75C-432A-B647-DBE469C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7B3-51A5-4A2D-A50F-16825AB5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2EE-9BFA-4B50-843A-CA744294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48D-756A-4A58-AB55-FD2E41CA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7E5-D95A-4ED2-B373-58C6505D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2FF-1310-45C4-AB27-F5B5B093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FD0-6E0C-40F3-887F-34742E02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4D2-D430-4B05-A669-FA4A305C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446C-7129-42AA-9461-C3B213698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 и буква 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грамоте в подготовительной к школе 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 rot="20043000">
            <a:off x="755280" y="2060640"/>
            <a:ext cx="1346040" cy="162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 rot="1260000">
            <a:off x="6876720" y="1916280"/>
            <a:ext cx="1614600" cy="1662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4067280" y="476280"/>
            <a:ext cx="1411200" cy="143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51741525_BOOKS_UPRIGHT"/>
          <p:cNvPicPr/>
          <p:nvPr/>
        </p:nvPicPr>
        <p:blipFill>
          <a:blip r:embed="rId4"/>
          <a:stretch/>
        </p:blipFill>
        <p:spPr>
          <a:xfrm>
            <a:off x="1258920" y="5229360"/>
            <a:ext cx="178920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adybug pencil"/>
          <p:cNvPicPr/>
          <p:nvPr/>
        </p:nvPicPr>
        <p:blipFill>
          <a:blip r:embed="rId5"/>
          <a:stretch/>
        </p:blipFill>
        <p:spPr>
          <a:xfrm>
            <a:off x="5724360" y="5157720"/>
            <a:ext cx="12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ПРОИЗНЕСИ ЗВУКИ"/>
          <p:cNvPicPr/>
          <p:nvPr/>
        </p:nvPicPr>
        <p:blipFill>
          <a:blip r:embed="rId1"/>
          <a:stretch/>
        </p:blipFill>
        <p:spPr>
          <a:xfrm>
            <a:off x="250920" y="260280"/>
            <a:ext cx="8496360" cy="6151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924360" y="4653000"/>
            <a:ext cx="12952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324000" y="404640"/>
            <a:ext cx="8280360" cy="6120000"/>
          </a:xfrm>
          <a:prstGeom prst="rect">
            <a:avLst/>
          </a:prstGeom>
          <a:solidFill>
            <a:srgbClr val="eecb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619280" y="1844640"/>
            <a:ext cx="60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зови первый звук в сло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ня, аист, август, анг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втобус, анан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Овощи и фрукты. Ноябрь 2008"/>
          <p:cNvPicPr/>
          <p:nvPr/>
        </p:nvPicPr>
        <p:blipFill>
          <a:blip r:embed="rId1"/>
          <a:stretch/>
        </p:blipFill>
        <p:spPr>
          <a:xfrm>
            <a:off x="468360" y="333360"/>
            <a:ext cx="7991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24000" y="404640"/>
            <a:ext cx="8424720" cy="6048720"/>
          </a:xfrm>
          <a:prstGeom prst="rect">
            <a:avLst/>
          </a:prstGeom>
          <a:solidFill>
            <a:srgbClr val="eecb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340000" y="10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0b147d26196a4de6ea6ac7918a577e2f"/>
          <p:cNvPicPr/>
          <p:nvPr/>
        </p:nvPicPr>
        <p:blipFill>
          <a:blip r:embed="rId1"/>
          <a:stretch/>
        </p:blipFill>
        <p:spPr>
          <a:xfrm>
            <a:off x="1187280" y="1844640"/>
            <a:ext cx="619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ПРАЗДНИК УРОЖАЯ Солнушки"/>
          <p:cNvPicPr/>
          <p:nvPr/>
        </p:nvPicPr>
        <p:blipFill>
          <a:blip r:embed="rId1"/>
          <a:stretch/>
        </p:blipFill>
        <p:spPr>
          <a:xfrm>
            <a:off x="63360" y="-136440"/>
            <a:ext cx="8829720" cy="7072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im0-tub-ru.yandex.net/i?id=8e8b8cc2c9a389035ba43bc5e7eb76b9-73-144&amp;n=21"/>
          <p:cNvPicPr/>
          <p:nvPr/>
        </p:nvPicPr>
        <p:blipFill>
          <a:blip r:embed="rId2"/>
          <a:stretch/>
        </p:blipFill>
        <p:spPr>
          <a:xfrm>
            <a:off x="0" y="18900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SchoolMasters - Знакомство со звуком a"/>
          <p:cNvPicPr/>
          <p:nvPr/>
        </p:nvPicPr>
        <p:blipFill>
          <a:blip r:embed="rId1"/>
          <a:stretch/>
        </p:blipFill>
        <p:spPr>
          <a:xfrm>
            <a:off x="63360" y="-136440"/>
            <a:ext cx="9178920" cy="71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ЗВУК А"/>
          <p:cNvPicPr/>
          <p:nvPr/>
        </p:nvPicPr>
        <p:blipFill>
          <a:blip r:embed="rId1"/>
          <a:stretch/>
        </p:blipFill>
        <p:spPr>
          <a:xfrm>
            <a:off x="324000" y="260280"/>
            <a:ext cx="8604000" cy="622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40000" y="3141720"/>
            <a:ext cx="1584360" cy="21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А ВРАЧ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ПЕВИЦА ПОЁТ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РЕБЁНОК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ШИРОКО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099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908000" y="2205000"/>
            <a:ext cx="129708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ВУКИ ПО СИМВОЛАМ"/>
          <p:cNvPicPr/>
          <p:nvPr/>
        </p:nvPicPr>
        <p:blipFill>
          <a:blip r:embed="rId1"/>
          <a:stretch/>
        </p:blipFill>
        <p:spPr>
          <a:xfrm>
            <a:off x="179280" y="333360"/>
            <a:ext cx="8460000" cy="6122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708360" y="2421000"/>
            <a:ext cx="129528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20:45:57Z</dcterms:created>
  <dc:creator>Марина</dc:creator>
  <dc:description/>
  <dc:language>en-US</dc:language>
  <cp:lastModifiedBy>Полешова</cp:lastModifiedBy>
  <dcterms:modified xsi:type="dcterms:W3CDTF">2015-02-12T09:25:21Z</dcterms:modified>
  <cp:revision>8</cp:revision>
  <dc:subject/>
  <dc:title>Слайд 1</dc:title>
</cp:coreProperties>
</file>