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EFD-1DD9-48EC-BBBA-C383F010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C1D-41EC-4B5E-8EF1-E29C698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E0C-6744-4B2E-9372-77741E2A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3E1-7EF0-4DC3-BB81-71EF74AF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266-253B-42E5-B7C1-7E9062A3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800-4411-40F0-8FE4-DEB18C62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989-7F04-49AF-A4D1-5905D10B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767-DBF0-4EE4-BE4D-BDD46A5B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AD6-0C8F-4FAC-9D36-8A5A8A75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902-B7B7-4083-839C-467A5A2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57E-6B88-4BBF-9EE0-D56BF10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A87-06B6-4985-A22F-9289463C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08F-25B4-48FF-BF83-07704772D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и буква 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грамоте в подготовительной к школе 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 rot="20043000">
            <a:off x="755280" y="2060640"/>
            <a:ext cx="1346040" cy="162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 rot="1260000">
            <a:off x="6876720" y="1916280"/>
            <a:ext cx="161460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14112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51741525_BOOKS_UPRIGHT"/>
          <p:cNvPicPr/>
          <p:nvPr/>
        </p:nvPicPr>
        <p:blipFill>
          <a:blip r:embed="rId4"/>
          <a:stretch/>
        </p:blipFill>
        <p:spPr>
          <a:xfrm>
            <a:off x="1258920" y="5229360"/>
            <a:ext cx="17892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adybug pencil"/>
          <p:cNvPicPr/>
          <p:nvPr/>
        </p:nvPicPr>
        <p:blipFill>
          <a:blip r:embed="rId5"/>
          <a:stretch/>
        </p:blipFill>
        <p:spPr>
          <a:xfrm>
            <a:off x="5724360" y="5157720"/>
            <a:ext cx="12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РОИЗНЕСИ ЗВУКИ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151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924360" y="4653000"/>
            <a:ext cx="12952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24000" y="404640"/>
            <a:ext cx="8280360" cy="612000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619280" y="1844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зови первый звук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я, аист, август, анг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втобус, ана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Овощи и фрукты. Ноябрь 2008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24000" y="404640"/>
            <a:ext cx="8424720" cy="604872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340000" y="10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b147d26196a4de6ea6ac7918a577e2f"/>
          <p:cNvPicPr/>
          <p:nvPr/>
        </p:nvPicPr>
        <p:blipFill>
          <a:blip r:embed="rId1"/>
          <a:stretch/>
        </p:blipFill>
        <p:spPr>
          <a:xfrm>
            <a:off x="1187280" y="1844640"/>
            <a:ext cx="61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ПРАЗДНИК УРОЖАЯ Солнушки"/>
          <p:cNvPicPr/>
          <p:nvPr/>
        </p:nvPicPr>
        <p:blipFill>
          <a:blip r:embed="rId1"/>
          <a:stretch/>
        </p:blipFill>
        <p:spPr>
          <a:xfrm>
            <a:off x="63360" y="-136440"/>
            <a:ext cx="8829720" cy="707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0-tub-ru.yandex.net/i?id=8e8b8cc2c9a389035ba43bc5e7eb76b9-73-144&amp;n=21"/>
          <p:cNvPicPr/>
          <p:nvPr/>
        </p:nvPicPr>
        <p:blipFill>
          <a:blip r:embed="rId2"/>
          <a:stretch/>
        </p:blipFill>
        <p:spPr>
          <a:xfrm>
            <a:off x="0" y="189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SchoolMasters - Знакомство со звуком a"/>
          <p:cNvPicPr/>
          <p:nvPr/>
        </p:nvPicPr>
        <p:blipFill>
          <a:blip r:embed="rId1"/>
          <a:stretch/>
        </p:blipFill>
        <p:spPr>
          <a:xfrm>
            <a:off x="63360" y="-136440"/>
            <a:ext cx="9178920" cy="71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ЗВУК А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22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40000" y="3141720"/>
            <a:ext cx="158436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А ВРАЧ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ЕВИЦА ПОЁТ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ЕБЁНОК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ШИРОКО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9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908000" y="2205000"/>
            <a:ext cx="12970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ВУКИ ПО СИМВОЛАМ"/>
          <p:cNvPicPr/>
          <p:nvPr/>
        </p:nvPicPr>
        <p:blipFill>
          <a:blip r:embed="rId1"/>
          <a:stretch/>
        </p:blipFill>
        <p:spPr>
          <a:xfrm>
            <a:off x="179280" y="333360"/>
            <a:ext cx="8460000" cy="6122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708360" y="2421000"/>
            <a:ext cx="12952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20:45:57Z</dcterms:created>
  <dc:creator>Марина</dc:creator>
  <dc:description/>
  <dc:language>en-US</dc:language>
  <cp:lastModifiedBy>Полешова</cp:lastModifiedBy>
  <dcterms:modified xsi:type="dcterms:W3CDTF">2015-02-12T09:25:21Z</dcterms:modified>
  <cp:revision>8</cp:revision>
  <dc:subject/>
  <dc:title>Слайд 1</dc:title>
</cp:coreProperties>
</file>