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590-456F-4A45-B8C0-733EF481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E8E-80A9-47BA-BC29-745231E3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E8D-9BA1-4D12-897C-AA06AB6D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136-7F05-45BB-9659-875CC06B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883-C060-49E0-A9C0-41267378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619-676B-41DA-BA45-A4F44E7B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6EF-5999-4BDE-AA19-03B8112F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0A8-8D2E-43D0-B993-70A3C0E0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E52-C75E-4F1B-85F8-732D7892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2FD-C230-4111-9777-A2019BB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328-0C29-4F17-A15F-BA0CFC4C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856-C21E-42DB-BC45-EA9BB502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B2D2-50DB-409B-9D18-DC45772E79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5.xml"/><Relationship Id="rId3" Type="http://schemas.openxmlformats.org/officeDocument/2006/relationships/slide" Target="slide5.xml"/><Relationship Id="rId4" Type="http://schemas.openxmlformats.org/officeDocument/2006/relationships/slide" Target="slide44.xml"/><Relationship Id="rId5" Type="http://schemas.openxmlformats.org/officeDocument/2006/relationships/slide" Target="slide5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17000" cy="2475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1116000" y="292428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651200" y="5407200"/>
            <a:ext cx="4084920" cy="1158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3"/>
          <a:stretch/>
        </p:blipFill>
        <p:spPr>
          <a:xfrm>
            <a:off x="4753080" y="5291280"/>
            <a:ext cx="3846240" cy="1450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4"/>
          <a:stretch/>
        </p:blipFill>
        <p:spPr>
          <a:xfrm>
            <a:off x="506520" y="287028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79280" y="144360"/>
            <a:ext cx="4753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"/>
          <p:cNvSpPr/>
          <p:nvPr/>
        </p:nvSpPr>
        <p:spPr>
          <a:xfrm>
            <a:off x="61128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04292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47636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90800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34000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277164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320364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363528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06728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500720" y="1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250920" y="6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79280" y="692280"/>
            <a:ext cx="345600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79280" y="1197000"/>
            <a:ext cx="259236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79280" y="1700280"/>
            <a:ext cx="30243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79280" y="2205000"/>
            <a:ext cx="3961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79280" y="2708280"/>
            <a:ext cx="25923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179280" y="3213000"/>
            <a:ext cx="302436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179280" y="3716280"/>
            <a:ext cx="432144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179280" y="4221000"/>
            <a:ext cx="172872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611280" y="69228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1042920" y="69228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1476360" y="69228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154764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2340000" y="6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2340000" y="6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2340000" y="69228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9"/>
          <p:cNvSpPr/>
          <p:nvPr/>
        </p:nvSpPr>
        <p:spPr>
          <a:xfrm>
            <a:off x="1908000" y="692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2771640" y="69228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3203640" y="692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320364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363528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2771640" y="321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320364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363528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7"/>
          <p:cNvSpPr/>
          <p:nvPr/>
        </p:nvSpPr>
        <p:spPr>
          <a:xfrm>
            <a:off x="406728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1800" y="11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1800" y="62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1440" y="1125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1800" y="162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1098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109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109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109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6"/>
          <p:cNvSpPr/>
          <p:nvPr/>
        </p:nvSpPr>
        <p:spPr>
          <a:xfrm>
            <a:off x="10980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7"/>
          <p:cNvSpPr/>
          <p:nvPr/>
        </p:nvSpPr>
        <p:spPr>
          <a:xfrm>
            <a:off x="4932360" y="0"/>
            <a:ext cx="421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1. Как иначе называли хозяйку Медной горы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2. Как звали деда в «Серебряном копытце»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3. Кто из героев сказа говорил: «Чаша мне покоя не дает. Охота так сделать, чтобы камень полную силу имел»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4. Как звали девочку в «Серебряном копытце»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5. «А по тем покосным ложкам, где козел скакал, люди камешки находить стали. Зелененькие большие.» Как они называются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6. Чудесные помощницы, выполняющие все распоряжения Хозяйки Медной горы?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7. Сказ Бажова «Синюшкин …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8. Сказ Бажова «Огневушка - …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Bookman Old Style"/>
              </a:rPr>
              <a:t>9. Сказ Бажова «Орлиное …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226080" y="255600"/>
            <a:ext cx="46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   а    л    а   х     и     т    н    и    ц    а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9"/>
          <p:cNvSpPr/>
          <p:nvPr/>
        </p:nvSpPr>
        <p:spPr>
          <a:xfrm>
            <a:off x="155520" y="758880"/>
            <a:ext cx="35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   о     к    о    в    а     н   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0"/>
          <p:cNvSpPr/>
          <p:nvPr/>
        </p:nvSpPr>
        <p:spPr>
          <a:xfrm>
            <a:off x="156240" y="1335240"/>
            <a:ext cx="26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   а    н    и     л    о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1"/>
          <p:cNvSpPr/>
          <p:nvPr/>
        </p:nvSpPr>
        <p:spPr>
          <a:xfrm>
            <a:off x="155520" y="176688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   а    р    е    н    к     а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2"/>
          <p:cNvSpPr/>
          <p:nvPr/>
        </p:nvSpPr>
        <p:spPr>
          <a:xfrm>
            <a:off x="153720" y="2271600"/>
            <a:ext cx="38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   р    и     з    о    л    и    т     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231120" y="2774880"/>
            <a:ext cx="24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  щ   е    р     к    и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4"/>
          <p:cNvSpPr/>
          <p:nvPr/>
        </p:nvSpPr>
        <p:spPr>
          <a:xfrm>
            <a:off x="300600" y="327960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 о     л    о    д    е    ц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5"/>
          <p:cNvSpPr/>
          <p:nvPr/>
        </p:nvSpPr>
        <p:spPr>
          <a:xfrm>
            <a:off x="298440" y="3782880"/>
            <a:ext cx="41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   о    с    к     а    к     у    ш    к    а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69280" y="43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    е    р     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Bookman Old Style"/>
              </a:rPr>
              <a:t>Источники информации: </a:t>
            </a:r>
            <a:br>
              <a:rPr sz="3600"/>
            </a:br>
            <a:endParaRPr b="1" i="1" lang="en-US" sz="36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38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bk-detstvo.narod.r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lukoshko.net/storyList/uralskie-skazy-bazhova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 rot="20422800">
            <a:off x="-252000" y="404280"/>
            <a:ext cx="6507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, к какому сказу</a:t>
            </a:r>
            <a:endParaRPr b="1" i="1" lang="en-US" sz="36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36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ована иллюстрация.</a:t>
            </a:r>
            <a:endParaRPr b="1" i="1" lang="en-US" sz="36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09480" y="28749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«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Кошачьи ушки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33520" y="3505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3" action="ppaction://hlinksldjump"/>
              </a:rPr>
              <a:t>«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4" action="ppaction://hlinksldjump"/>
              </a:rPr>
              <a:t>Серебряное копытце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  <a:hlinkClick r:id="rId5" action="ppaction://hlinksldjump"/>
              </a:rPr>
              <a:t>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09480" y="4267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аюткино зеркальце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6"/>
          <a:stretch/>
        </p:blipFill>
        <p:spPr>
          <a:xfrm>
            <a:off x="5003640" y="1773360"/>
            <a:ext cx="3787920" cy="476064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ы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55640" y="17002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На какой ножке у козлика было серебряное копытце</a:t>
            </a: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826920" y="3213000"/>
            <a:ext cx="36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На правой передней ног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755640" y="4292640"/>
            <a:ext cx="43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Какие камни вылетали из-под ног серебряного копытца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1046160" y="611964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Хризолиты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3"/>
          <p:cNvPicPr/>
          <p:nvPr/>
        </p:nvPicPr>
        <p:blipFill>
          <a:blip r:embed="rId1"/>
          <a:stretch/>
        </p:blipFill>
        <p:spPr>
          <a:xfrm>
            <a:off x="5219640" y="1557360"/>
            <a:ext cx="3282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Bookman Old Style"/>
              </a:rPr>
              <a:t>Назовите имена героев сказа</a:t>
            </a:r>
            <a:br>
              <a:rPr sz="4000"/>
            </a:br>
            <a:r>
              <a:rPr b="1" i="1" lang="ru-RU" sz="4000" spc="-1" strike="noStrike">
                <a:solidFill>
                  <a:srgbClr val="6600ff"/>
                </a:solidFill>
                <a:latin typeface="Bookman Old Style"/>
              </a:rPr>
              <a:t> «Серебряное копытце»</a:t>
            </a:r>
            <a:endParaRPr b="1" i="1" lang="en-US" sz="40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191628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1. Прозвище старика, взявшего на воспитание сиротку</a:t>
            </a: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180960" y="378936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Кокован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8423280" y="6426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821160" y="3208320"/>
            <a:ext cx="28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2. Имя девочк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281960" y="424980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Даренк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187280" y="525780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3. </a:t>
            </a: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Она знай все песенку поет: «Пр-равильно говоришь.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Пр-равильно…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033600" y="612144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Муренк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sereb_kopyt"/>
          <p:cNvPicPr/>
          <p:nvPr/>
        </p:nvPicPr>
        <p:blipFill>
          <a:blip r:embed="rId1"/>
          <a:stretch/>
        </p:blipFill>
        <p:spPr>
          <a:xfrm>
            <a:off x="5724360" y="1844640"/>
            <a:ext cx="2660760" cy="345600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50920" y="1916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Сколько веточек было на рогах у козлика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116000" y="393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Пять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8423280" y="6426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ani4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003640" y="1773360"/>
            <a:ext cx="38894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50920" y="19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Сколько лет было Даренке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971640" y="407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шесть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8423280" y="6426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19703690_serebryannoe"/>
          <p:cNvPicPr/>
          <p:nvPr/>
        </p:nvPicPr>
        <p:blipFill>
          <a:blip r:embed="rId1"/>
          <a:stretch/>
        </p:blipFill>
        <p:spPr>
          <a:xfrm>
            <a:off x="3708360" y="3500280"/>
            <a:ext cx="4208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50920" y="1916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Какого цвета была кошка у Даренки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290240" y="414972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Бура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19703998_examNikolaeva"/>
          <p:cNvPicPr/>
          <p:nvPr/>
        </p:nvPicPr>
        <p:blipFill>
          <a:blip r:embed="rId1"/>
          <a:stretch/>
        </p:blipFill>
        <p:spPr>
          <a:xfrm>
            <a:off x="4284720" y="1844640"/>
            <a:ext cx="37432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Bookman Old Style"/>
              </a:rPr>
              <a:t>Ответьте на вопрос</a:t>
            </a:r>
            <a:endParaRPr b="1" i="1" lang="en-US" sz="4400" spc="-1" strike="noStrike">
              <a:solidFill>
                <a:srgbClr val="6600ff"/>
              </a:solidFill>
              <a:latin typeface="Bookman Old Style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1916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Сколько мешков сухарей взял с собой в балаган Кокованя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13800" y="501336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ookman Old Style"/>
              </a:rPr>
              <a:t>Два мешк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19701954_Morkovkina_T"/>
          <p:cNvPicPr/>
          <p:nvPr/>
        </p:nvPicPr>
        <p:blipFill>
          <a:blip r:embed="rId1"/>
          <a:stretch/>
        </p:blipFill>
        <p:spPr>
          <a:xfrm>
            <a:off x="4643280" y="1844640"/>
            <a:ext cx="3313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283520" cy="48866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" descr=""/>
          <p:cNvPicPr/>
          <p:nvPr/>
        </p:nvPicPr>
        <p:blipFill>
          <a:blip r:embed="rId2"/>
          <a:stretch/>
        </p:blipFill>
        <p:spPr>
          <a:xfrm>
            <a:off x="2627280" y="549360"/>
            <a:ext cx="41022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02:22:08Z</dcterms:created>
  <dc:creator>lib5</dc:creator>
  <dc:description/>
  <dc:language>en-US</dc:language>
  <cp:lastModifiedBy>Наталья Викторовна Никольская</cp:lastModifiedBy>
  <dcterms:modified xsi:type="dcterms:W3CDTF">2021-11-29T20:22:45Z</dcterms:modified>
  <cp:revision>299</cp:revision>
  <dc:subject/>
  <dc:title>Затейники и фантазеры</dc:title>
</cp:coreProperties>
</file>