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DC4-6AA6-4CED-A13F-D669C746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E35-63DB-4FF6-851C-F30CDEA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630-9142-45D9-BEF4-713B11D3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0E5-05D7-4BB3-A504-A119CFE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AAE-A1A0-4943-B2A0-CC0B320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C3A-6FDC-45EF-BFA9-59FE389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EC6-9E2F-4EE6-9F5F-90B189A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8D2-5A03-40D6-B70F-13B7D8F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756-778D-429C-BEA4-EE2CFC8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7EB-A5A7-4021-BDDD-40D56F2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5B7-8D45-4ADA-AF48-787DA76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CC1-3D20-4F4C-956E-DAFB7FC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B055-51E4-4839-B2D0-D51AA0FFF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5.xml"/><Relationship Id="rId3" Type="http://schemas.openxmlformats.org/officeDocument/2006/relationships/slide" Target="slide5.xml"/><Relationship Id="rId4" Type="http://schemas.openxmlformats.org/officeDocument/2006/relationships/slide" Target="slide44.xml"/><Relationship Id="rId5" Type="http://schemas.openxmlformats.org/officeDocument/2006/relationships/slide" Target="slide5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17000" cy="2475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116000" y="292428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651200" y="5407200"/>
            <a:ext cx="4084920" cy="1158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3"/>
          <a:stretch/>
        </p:blipFill>
        <p:spPr>
          <a:xfrm>
            <a:off x="4753080" y="5291280"/>
            <a:ext cx="3846240" cy="1450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506520" y="287028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79280" y="144360"/>
            <a:ext cx="475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"/>
          <p:cNvSpPr/>
          <p:nvPr/>
        </p:nvSpPr>
        <p:spPr>
          <a:xfrm>
            <a:off x="611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04292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47636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90800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34000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77164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20364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3635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067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50072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5092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79280" y="692280"/>
            <a:ext cx="3456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79280" y="1197000"/>
            <a:ext cx="2592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79280" y="1700280"/>
            <a:ext cx="3024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79280" y="2205000"/>
            <a:ext cx="3961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79280" y="2708280"/>
            <a:ext cx="2592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179280" y="3213000"/>
            <a:ext cx="3024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179280" y="3716280"/>
            <a:ext cx="43214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179280" y="4221000"/>
            <a:ext cx="172872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61128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04292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47636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154764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234000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234000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340000" y="6922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1908000" y="692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2771640" y="6922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3203640" y="692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363528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277164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320364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6352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40672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1800" y="1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180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1440" y="1125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1800" y="162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1098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109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109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109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10980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7"/>
          <p:cNvSpPr/>
          <p:nvPr/>
        </p:nvSpPr>
        <p:spPr>
          <a:xfrm>
            <a:off x="4932360" y="0"/>
            <a:ext cx="421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1. Как иначе называли хозяйку Медной горы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2. Как звали деда в «Серебряном копытце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3. Кто из героев сказа говорил: «Чаша мне покоя не дает. Охота так сделать, чтобы камень полную силу имел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4. Как звали девочку в «Серебряном копытце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5. «А по тем покосным ложкам, где козел скакал, люди камешки находить стали. Зелененькие большие.» Как они называются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6. Чудесные помощницы, выполняющие все распоряжения Хозяйки Медной горы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7. Сказ Бажова «Синюшкин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8. Сказ Бажова «Огневушка -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9. Сказ Бажова «Орлиное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226080" y="255600"/>
            <a:ext cx="46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   а    л    а   х     и     т    н    и    ц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155520" y="75888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   о     к    о    в    а     н   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0"/>
          <p:cNvSpPr/>
          <p:nvPr/>
        </p:nvSpPr>
        <p:spPr>
          <a:xfrm>
            <a:off x="156240" y="1335240"/>
            <a:ext cx="26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   а    н    и     л    о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155520" y="176688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   а    р    е    н    к 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153720" y="2271600"/>
            <a:ext cx="38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  р    и     з    о    л    и    т     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231120" y="277488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  щ   е    р     к    и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4"/>
          <p:cNvSpPr/>
          <p:nvPr/>
        </p:nvSpPr>
        <p:spPr>
          <a:xfrm>
            <a:off x="300600" y="327960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 о     л    о    д    е    ц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298440" y="3782880"/>
            <a:ext cx="41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   о    с    к     а    к     у    ш    к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69280" y="43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    е    р     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Bookman Old Style"/>
              </a:rPr>
              <a:t>Источники информации: </a:t>
            </a:r>
            <a:br>
              <a:rPr sz="3600"/>
            </a:br>
            <a:endParaRPr b="1" i="1" lang="en-US" sz="36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38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k-detstvo.narod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lukoshko.net/storyList/uralskie-skazy-bazhova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 rot="20422800">
            <a:off x="-252000" y="404280"/>
            <a:ext cx="6507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, к какому сказу</a:t>
            </a:r>
            <a:endParaRPr b="1" i="1" lang="en-US" sz="36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ована иллюстрация.</a:t>
            </a:r>
            <a:endParaRPr b="1" i="1" lang="en-US" sz="36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09480" y="28749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«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Кошачьи ушк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3352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3" action="ppaction://hlinksldjump"/>
              </a:rPr>
              <a:t>«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4" action="ppaction://hlinksldjump"/>
              </a:rPr>
              <a:t>Серебряное копытце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5" action="ppaction://hlinksldjump"/>
              </a:rPr>
              <a:t>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09480" y="4267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аюткино зеркальце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3787920" cy="47606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ы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55640" y="1700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На какой ножке у козлика было серебряное копытце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826920" y="3213000"/>
            <a:ext cx="36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На правой передней ног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55640" y="4292640"/>
            <a:ext cx="43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Какие камни вылетали из-под ног серебряного копытца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046160" y="61196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Хризолиты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3"/>
          <p:cNvPicPr/>
          <p:nvPr/>
        </p:nvPicPr>
        <p:blipFill>
          <a:blip r:embed="rId1"/>
          <a:stretch/>
        </p:blipFill>
        <p:spPr>
          <a:xfrm>
            <a:off x="5219640" y="1557360"/>
            <a:ext cx="3282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Назовите имена героев сказа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 «Серебряное копытце»</a:t>
            </a:r>
            <a:endParaRPr b="1" i="1" lang="en-US" sz="40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91628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1. Прозвище старика, взявшего на воспитание сиротку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180960" y="3789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Кокован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821160" y="320832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2. Имя девочк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281960" y="42498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Дарен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187280" y="525780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3. </a:t>
            </a: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Она знай все песенку поет: «Пр-равильно говориш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Пр-равильно…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033600" y="612144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Мурен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ereb_kopyt"/>
          <p:cNvPicPr/>
          <p:nvPr/>
        </p:nvPicPr>
        <p:blipFill>
          <a:blip r:embed="rId1"/>
          <a:stretch/>
        </p:blipFill>
        <p:spPr>
          <a:xfrm>
            <a:off x="5724360" y="1844640"/>
            <a:ext cx="2660760" cy="34560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920" y="1916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веточек было на рогах у козлика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116000" y="393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Пять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ani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03640" y="1773360"/>
            <a:ext cx="38894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5092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лет было Даренке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71640" y="40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шест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19703690_serebryannoe"/>
          <p:cNvPicPr/>
          <p:nvPr/>
        </p:nvPicPr>
        <p:blipFill>
          <a:blip r:embed="rId1"/>
          <a:stretch/>
        </p:blipFill>
        <p:spPr>
          <a:xfrm>
            <a:off x="3708360" y="3500280"/>
            <a:ext cx="4208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0920" y="1916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Какого цвета была кошка у Даренки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90240" y="414972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Бура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19703998_examNikolaeva"/>
          <p:cNvPicPr/>
          <p:nvPr/>
        </p:nvPicPr>
        <p:blipFill>
          <a:blip r:embed="rId1"/>
          <a:stretch/>
        </p:blipFill>
        <p:spPr>
          <a:xfrm>
            <a:off x="4284720" y="1844640"/>
            <a:ext cx="37432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1916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мешков сухарей взял с собой в балаган Кокованя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13800" y="501336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Два меш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19701954_Morkovkina_T"/>
          <p:cNvPicPr/>
          <p:nvPr/>
        </p:nvPicPr>
        <p:blipFill>
          <a:blip r:embed="rId1"/>
          <a:stretch/>
        </p:blipFill>
        <p:spPr>
          <a:xfrm>
            <a:off x="4643280" y="1844640"/>
            <a:ext cx="3313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83520" cy="4886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4102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02:22:08Z</dcterms:created>
  <dc:creator>lib5</dc:creator>
  <dc:description/>
  <dc:language>en-US</dc:language>
  <cp:lastModifiedBy>Наталья Викторовна Никольская</cp:lastModifiedBy>
  <dcterms:modified xsi:type="dcterms:W3CDTF">2021-11-29T20:22:45Z</dcterms:modified>
  <cp:revision>299</cp:revision>
  <dc:subject/>
  <dc:title>Затейники и фантазеры</dc:title>
</cp:coreProperties>
</file>