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8F6-43CE-47B6-A041-910A7B2E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0D3-2286-4B5A-8ACA-59D019B7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212-FB6D-4A81-A872-6FFF0276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257-C846-471E-8322-BE0F5F90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F9BB-7354-4793-B5F7-5A6A1884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9ACF-B800-4686-95E7-A11467D5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F165-9210-45E3-81C6-5FC4BF33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6E35-71C6-4C31-AA84-709476A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37B7-AC38-4F57-A9B2-F581B033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DA7C-535C-4BC7-BF04-051A7ACB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4483-9957-41FE-8F20-AA866F0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947-BBA6-4C3F-92CE-4787F894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67C7-C987-495F-B5E4-B7B8EB8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F5BF-7B51-44BF-9AE3-86D9ECE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FB94-9F58-4723-B2A9-2B295920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D626-BF87-40A9-832D-21A29DDC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1767-FA41-4637-BD65-4EAC01AE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D80-E410-49A3-8D3A-D4D3F2CD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D04-AF75-4291-B1F2-CD14D27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381-A508-4986-8030-C52E06F7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4FF-2562-4E20-AC70-2155C64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4DF-2CAC-48B2-B91D-A85CDAB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DB7-DB88-4DFE-88A5-2A334C9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02C-77B4-40A4-9ED2-9B8FBB81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172-A6C6-46FE-BA66-AD6821381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5709-8F4F-4F7C-A653-32B18651E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циональный костюм буря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2060"/>
                </a:solidFill>
                <a:latin typeface="Calibri"/>
              </a:rPr>
              <a:t>Презентация выполнена Яковлевой Ниной Валерьевной</a:t>
            </a:r>
            <a:br>
              <a:rPr sz="2200"/>
            </a:br>
            <a:r>
              <a:rPr b="0" i="1" lang="ru-RU" sz="2200" spc="-1" strike="noStrike">
                <a:solidFill>
                  <a:srgbClr val="002060"/>
                </a:solidFill>
                <a:latin typeface="Calibri"/>
              </a:rPr>
              <a:t>Воспитателем МБДОУ «Могойтиский детский сад «Солнышко». Буря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Calibri"/>
              </a:rPr>
              <a:t>2018 г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верху надевался зимний (дэгэл) или летний (тэрлиг) халат. Дэгэл шился из овчины, можно было украсить его бархатом или другой тканью. Летний же халат изготавливался из любой натуральной тка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s://static12.insales.ru/images/products/1/7059/16612243/image_33.jpeg"/>
          <p:cNvPicPr/>
          <p:nvPr/>
        </p:nvPicPr>
        <p:blipFill>
          <a:blip r:embed="rId1"/>
          <a:stretch/>
        </p:blipFill>
        <p:spPr>
          <a:xfrm>
            <a:off x="2571840" y="1571760"/>
            <a:ext cx="42148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7120" y="5366880"/>
            <a:ext cx="842976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бувь изготавливалась из кожи жеребят – для зимы, а для лета плелась из конских волос, а кожаная подошва просто пришивалась.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edikst.ru/misc/i/gallery/26517/1065296.jpg"/>
          <p:cNvPicPr/>
          <p:nvPr/>
        </p:nvPicPr>
        <p:blipFill>
          <a:blip r:embed="rId1"/>
          <a:srcRect l="0" t="1283" r="0" b="1283"/>
          <a:stretch/>
        </p:blipFill>
        <p:spPr>
          <a:xfrm>
            <a:off x="928800" y="612720"/>
            <a:ext cx="721512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cs10647.vk.me/u135654767/153838973/x_d30ab344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енски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ид костюма полностью зависит от возраста, для которого он предназначен. Девочки носят длинный цельнокроеный халат, подпоясывают его. Так подчёркивается гибкость девичьей фигуры. С наступлением настоящего девичьего возраста – около 15 лет – покрой халата меняется. Халат разрезается по линии талии, надевается красивый кушак, а сверху появляется обязательный предмет женской одежды – безрукавка. Дополнялась обувь чулками до колен, вязаными из шерсти ов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svadbabur.ru/files/images/bur_dress.jpg"/>
          <p:cNvPicPr/>
          <p:nvPr/>
        </p:nvPicPr>
        <p:blipFill>
          <a:blip r:embed="rId1"/>
          <a:stretch/>
        </p:blipFill>
        <p:spPr>
          <a:xfrm>
            <a:off x="2143080" y="285840"/>
            <a:ext cx="51436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tuday.ru/cache/b/b/a/3/2/edf2a15ba4d6579a2ed69f0abcb-473-tw.jpg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440" y="538164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120" y="5643720"/>
            <a:ext cx="842976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Шапка была обязательной частью костюма, шили её из натурального меха, чаще всего выдры. Предпочитаемая форма – коническая, хотя исследователи выделяют более 50 разновиднос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http://1.bp.blogspot.com/-gChZgqd_5Lw/U5FtK7pNuAI/AAAAAAAAxCY/TVQvFZjDM_o/s1600/IN0RRJP5pRY.jpg"/>
          <p:cNvPicPr/>
          <p:nvPr/>
        </p:nvPicPr>
        <p:blipFill>
          <a:blip r:embed="rId1"/>
          <a:srcRect l="5346" t="0" r="5346" b="0"/>
          <a:stretch/>
        </p:blipFill>
        <p:spPr>
          <a:xfrm>
            <a:off x="357120" y="285840"/>
            <a:ext cx="8429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images.ru.prom.st/17955735_w200_h200_dscn3596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циональные украшения бурятских женщ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ни многообразны и многослойны. Изготавливали их из серебра с многочисленными вставками из драгоценных камней. Древние буряты считали, что в украшениях поселяются души детей, умерших предков и живот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ghhauto.ru/images/Roman/med_gallery_1725_25_130616_922fc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bigslide.ru/images/23/22691/960/img7.jpg"/>
          <p:cNvPicPr/>
          <p:nvPr/>
        </p:nvPicPr>
        <p:blipFill>
          <a:blip r:embed="rId1"/>
          <a:stretch/>
        </p:blipFill>
        <p:spPr>
          <a:xfrm>
            <a:off x="285840" y="28584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milpic.ru/images/86980_buryaty-devushki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циональные украшения бурятских женщин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571320"/>
            <a:ext cx="76438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рятский национальны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3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помним названия одеж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071800"/>
            <a:ext cx="40402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алгай – шапка конической формы с красной кисточ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эгэл – платье или хал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Бэхэ – поя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Хубайси – длинная безрука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Уужа – короткая безрукавка (жил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утул – сапоги с загнутым вверх нос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img0.liveinternet.ru/images/foto/c/1/apps/4/944/4944096_img024.jpg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img1.liveinternet.ru/images/attach/c/6/92/475/92475239_large_Buriad.jpg"/>
          <p:cNvPicPr/>
          <p:nvPr/>
        </p:nvPicPr>
        <p:blipFill>
          <a:blip r:embed="rId1"/>
          <a:stretch/>
        </p:blipFill>
        <p:spPr>
          <a:xfrm>
            <a:off x="2071800" y="357120"/>
            <a:ext cx="5153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images.myshared.ru/7/802313/slide_2.jpg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shkolageo.ru/mpakard/%D0%AD%D1%82%D0%BD%D0%B8%D1%87%D0%B5%D1%81%D0%BA%D0%B0%D1%8F+%D0%BC%D0%BE%D0%B7%D0%B0%D0%B8%D0%BA%D0%B0+%D0%92%D0%BE%D1%81%D1%82%D0%BE%D1%87%D0%BD%D0%BE%D0%B9+%D0%A1%D0%B8%D0%B1%D0%B8%D1%80%D0%B8+%D0%A6%D1%8B%D1%80%D0%B5%D0%BD%D0%B4%D1%8B%D0%BB%D1%8B%D0%BA%D0%BE%D0%B2%D0%B0+%D0%97.+%D0%9Fd/img26.jpg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Мужской костю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урятская одежда как мужчин, так и женщин предназначена прежде всего для кочевой жизни в седле. Особенности кроя приспособили изделия к тому, чтобы в них можно было провести на коне много часов без усталости и при необходимости заночевать под открытым небом. Непосредственно на тело надеваются рубашка из натуральной ткани (чаще всего из хлопка) и узкие штаны из грубой кожи. В таких штанах не страшна любая дор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farm3.staticflickr.com/2924/14612954155_cea59d339b_b.jpg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mages.myshared.ru/7/802313/slide_3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buryatinf.narod.ru/odezhda/image010.jpg"/>
          <p:cNvPicPr/>
          <p:nvPr/>
        </p:nvPicPr>
        <p:blipFill>
          <a:blip r:embed="rId1"/>
          <a:stretch/>
        </p:blipFill>
        <p:spPr>
          <a:xfrm>
            <a:off x="1571760" y="357120"/>
            <a:ext cx="6143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15:07Z</dcterms:created>
  <dc:creator>Федотова Виктория Александровна</dc:creator>
  <dc:description/>
  <dc:language>en-US</dc:language>
  <cp:lastModifiedBy>Нина</cp:lastModifiedBy>
  <dcterms:modified xsi:type="dcterms:W3CDTF">2021-11-10T13:14:02Z</dcterms:modified>
  <cp:revision>13</cp:revision>
  <dc:subject/>
  <dc:title>Слайд 1</dc:title>
</cp:coreProperties>
</file>