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7682-5D69-4402-8B0E-C71C800D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6F6-E8C7-4484-AE6B-FA95EF6E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D28-69D1-4837-BFB7-82135327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52A-D19D-4B5E-9627-6771DB5D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E629-6E86-4C5B-9F8E-DFF04190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E7A1-8E3F-4BF8-B28D-450FCD89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9546-C68C-4EFE-8B31-81ACA878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13CD-CAC5-46FA-9E18-2AA79EC4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3FE8-7F06-4FEB-B0F8-7123F2BB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77B5-2513-4F48-BFAA-765EABB3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00A5-E3E8-43E7-90AB-08D1264D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2B6-5BCE-44B0-87E3-EC82E70D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D2A7-0901-438E-B9D9-E6F810AF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002C-CC04-47FC-A5EE-B116E218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FEF2-DE29-471D-AAAB-7A503106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A635-3F1E-45B0-9A83-2AB73C26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4EE7-297A-43F7-BF3D-EED07595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799-6DE1-4D93-95DA-EFEC80BB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CB6-6C49-46C7-8FE3-6C481059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D9E-9D6B-434E-8E7B-51B1A9AE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C88-59B5-4AF5-BF36-AA59794C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E93-5C42-413C-874E-A4D65189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6BA-0A57-4437-B4E1-DE53C221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8D7-BA4E-4213-A354-D5D3432D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48B7-F681-4218-8EB8-4CA0C5E5EB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AADD-3458-482D-BACB-1D90D92533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ациональный костюм буря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2060"/>
                </a:solidFill>
                <a:latin typeface="Calibri"/>
              </a:rPr>
              <a:t>Презентация выполнена Яковлевой Ниной Валерьевной</a:t>
            </a:r>
            <a:br>
              <a:rPr sz="2200"/>
            </a:br>
            <a:r>
              <a:rPr b="0" i="1" lang="ru-RU" sz="2200" spc="-1" strike="noStrike">
                <a:solidFill>
                  <a:srgbClr val="002060"/>
                </a:solidFill>
                <a:latin typeface="Calibri"/>
              </a:rPr>
              <a:t>Воспитателем МБДОУ «Могойтиский детский сад «Солнышко». Бурят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Calibri"/>
              </a:rPr>
              <a:t>2018 го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Сверху надевался зимний (дэгэл) или летний (тэрлиг) халат. Дэгэл шился из овчины, можно было украсить его бархатом или другой тканью. Летний же халат изготавливался из любой натуральной тка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s://static12.insales.ru/images/products/1/7059/16612243/image_33.jpeg"/>
          <p:cNvPicPr/>
          <p:nvPr/>
        </p:nvPicPr>
        <p:blipFill>
          <a:blip r:embed="rId1"/>
          <a:stretch/>
        </p:blipFill>
        <p:spPr>
          <a:xfrm>
            <a:off x="2571840" y="1571760"/>
            <a:ext cx="42148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7120" y="5366880"/>
            <a:ext cx="842976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бувь изготавливалась из кожи жеребят – для зимы, а для лета плелась из конских волос, а кожаная подошва просто пришивалась.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edikst.ru/misc/i/gallery/26517/1065296.jpg"/>
          <p:cNvPicPr/>
          <p:nvPr/>
        </p:nvPicPr>
        <p:blipFill>
          <a:blip r:embed="rId1"/>
          <a:srcRect l="0" t="1283" r="0" b="1283"/>
          <a:stretch/>
        </p:blipFill>
        <p:spPr>
          <a:xfrm>
            <a:off x="928800" y="612720"/>
            <a:ext cx="721512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cs10647.vk.me/u135654767/153838973/x_d30ab344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енский костю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ид костюма полностью зависит от возраста, для которого он предназначен. Девочки носят длинный цельнокроеный халат, подпоясывают его. Так подчёркивается гибкость девичьей фигуры. С наступлением настоящего девичьего возраста – около 15 лет – покрой халата меняется. Халат разрезается по линии талии, надевается красивый кушак, а сверху появляется обязательный предмет женской одежды – безрукавка. Дополнялась обувь чулками до колен, вязаными из шерсти ов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svadbabur.ru/files/images/bur_dress.jpg"/>
          <p:cNvPicPr/>
          <p:nvPr/>
        </p:nvPicPr>
        <p:blipFill>
          <a:blip r:embed="rId1"/>
          <a:stretch/>
        </p:blipFill>
        <p:spPr>
          <a:xfrm>
            <a:off x="2143080" y="285840"/>
            <a:ext cx="51436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tuday.ru/cache/b/b/a/3/2/edf2a15ba4d6579a2ed69f0abcb-473-tw.jpg"/>
          <p:cNvPicPr/>
          <p:nvPr/>
        </p:nvPicPr>
        <p:blipFill>
          <a:blip r:embed="rId1"/>
          <a:stretch/>
        </p:blipFill>
        <p:spPr>
          <a:xfrm>
            <a:off x="285840" y="285840"/>
            <a:ext cx="85010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440" y="5381640"/>
            <a:ext cx="5486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7120" y="5643720"/>
            <a:ext cx="842976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Шапка была обязательной частью костюма, шили её из натурального меха, чаще всего выдры. Предпочитаемая форма – коническая, хотя исследователи выделяют более 50 разновидност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6" descr="http://1.bp.blogspot.com/-gChZgqd_5Lw/U5FtK7pNuAI/AAAAAAAAxCY/TVQvFZjDM_o/s1600/IN0RRJP5pRY.jpg"/>
          <p:cNvPicPr/>
          <p:nvPr/>
        </p:nvPicPr>
        <p:blipFill>
          <a:blip r:embed="rId1"/>
          <a:srcRect l="5346" t="0" r="5346" b="0"/>
          <a:stretch/>
        </p:blipFill>
        <p:spPr>
          <a:xfrm>
            <a:off x="357120" y="285840"/>
            <a:ext cx="8429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images.ru.prom.st/17955735_w200_h200_dscn3596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циональные украшения бурятских женщ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ни многообразны и многослойны. Изготавливали их из серебра с многочисленными вставками из драгоценных камней. Древние буряты считали, что в украшениях поселяются души детей, умерших предков и живот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ghhauto.ru/images/Roman/med_gallery_1725_25_130616_922fc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bigslide.ru/images/23/22691/960/img7.jpg"/>
          <p:cNvPicPr/>
          <p:nvPr/>
        </p:nvPicPr>
        <p:blipFill>
          <a:blip r:embed="rId1"/>
          <a:stretch/>
        </p:blipFill>
        <p:spPr>
          <a:xfrm>
            <a:off x="285840" y="285840"/>
            <a:ext cx="8429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milpic.ru/images/86980_buryaty-devushki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национальные украшения бурятских женщин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571320"/>
            <a:ext cx="76438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рятский национальный костю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3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апомним названия одеж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2071800"/>
            <a:ext cx="40402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Малгай – шапка конической формы с красной кисточ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эгэл – платье или хал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Бэхэ – поя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Хубайси – длинная безрука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Уужа – короткая безрукавка (жиле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Гутул – сапоги с загнутым вверх нос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img0.liveinternet.ru/images/foto/c/1/apps/4/944/4944096_img024.jpg"/>
          <p:cNvPicPr/>
          <p:nvPr/>
        </p:nvPicPr>
        <p:blipFill>
          <a:blip r:embed="rId1"/>
          <a:stretch/>
        </p:blipFill>
        <p:spPr>
          <a:xfrm>
            <a:off x="4643280" y="1571760"/>
            <a:ext cx="40719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img1.liveinternet.ru/images/attach/c/6/92/475/92475239_large_Buriad.jpg"/>
          <p:cNvPicPr/>
          <p:nvPr/>
        </p:nvPicPr>
        <p:blipFill>
          <a:blip r:embed="rId1"/>
          <a:stretch/>
        </p:blipFill>
        <p:spPr>
          <a:xfrm>
            <a:off x="2071800" y="357120"/>
            <a:ext cx="5153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images.myshared.ru/7/802313/slide_2.jpg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www.shkolageo.ru/mpakard/%D0%AD%D1%82%D0%BD%D0%B8%D1%87%D0%B5%D1%81%D0%BA%D0%B0%D1%8F+%D0%BC%D0%BE%D0%B7%D0%B0%D0%B8%D0%BA%D0%B0+%D0%92%D0%BE%D1%81%D1%82%D0%BE%D1%87%D0%BD%D0%BE%D0%B9+%D0%A1%D0%B8%D0%B1%D0%B8%D1%80%D0%B8+%D0%A6%D1%8B%D1%80%D0%B5%D0%BD%D0%B4%D1%8B%D0%BB%D1%8B%D0%BA%D0%BE%D0%B2%D0%B0+%D0%97.+%D0%9Fd/img26.jpg"/>
          <p:cNvPicPr/>
          <p:nvPr/>
        </p:nvPicPr>
        <p:blipFill>
          <a:blip r:embed="rId1"/>
          <a:stretch/>
        </p:blipFill>
        <p:spPr>
          <a:xfrm>
            <a:off x="500040" y="285840"/>
            <a:ext cx="82868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Мужской костю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Бурятская одежда как мужчин, так и женщин предназначена прежде всего для кочевой жизни в седле. Особенности кроя приспособили изделия к тому, чтобы в них можно было провести на коне много часов без усталости и при необходимости заночевать под открытым небом. Непосредственно на тело надеваются рубашка из натуральной ткани (чаще всего из хлопка) и узкие штаны из грубой кожи. В таких штанах не страшна любая доро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s://farm3.staticflickr.com/2924/14612954155_cea59d339b_b.jpg"/>
          <p:cNvPicPr/>
          <p:nvPr/>
        </p:nvPicPr>
        <p:blipFill>
          <a:blip r:embed="rId1"/>
          <a:stretch/>
        </p:blipFill>
        <p:spPr>
          <a:xfrm>
            <a:off x="357120" y="285840"/>
            <a:ext cx="85010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images.myshared.ru/7/802313/slide_3.jpg"/>
          <p:cNvPicPr/>
          <p:nvPr/>
        </p:nvPicPr>
        <p:blipFill>
          <a:blip r:embed="rId1"/>
          <a:stretch/>
        </p:blipFill>
        <p:spPr>
          <a:xfrm>
            <a:off x="357120" y="357120"/>
            <a:ext cx="85010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buryatinf.narod.ru/odezhda/image010.jpg"/>
          <p:cNvPicPr/>
          <p:nvPr/>
        </p:nvPicPr>
        <p:blipFill>
          <a:blip r:embed="rId1"/>
          <a:stretch/>
        </p:blipFill>
        <p:spPr>
          <a:xfrm>
            <a:off x="1571760" y="357120"/>
            <a:ext cx="61434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15:07Z</dcterms:created>
  <dc:creator>Федотова Виктория Александровна</dc:creator>
  <dc:description/>
  <dc:language>en-US</dc:language>
  <cp:lastModifiedBy>Нина</cp:lastModifiedBy>
  <dcterms:modified xsi:type="dcterms:W3CDTF">2021-11-10T13:14:02Z</dcterms:modified>
  <cp:revision>13</cp:revision>
  <dc:subject/>
  <dc:title>Слайд 1</dc:title>
</cp:coreProperties>
</file>