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017-4022-4132-A1CF-B84461D9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B5C-B4EB-4A71-8E90-792B2AEA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734-E252-470F-8CE0-5E816B88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FEB-748A-4396-A556-688CC432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8A8A-0846-498B-91B8-F6197162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4A15-6452-46FA-8DB1-BD9FD90B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391C-1F94-4A6B-8A87-D7CD35E2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4DBE-6204-4D53-802D-20028D92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1EA4-DF30-4C5C-8CC4-AC07A779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B282-2F41-4FD7-9F53-69526495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6136-D14C-48CF-82D1-5E7B704C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12F-D448-43F8-9F9A-5EA16923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205E-B89E-4ED7-86E0-8EF3C586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7668-3B40-4256-A2FD-70A17885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EECC-3700-4166-8083-2DB86FA5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9D27-F179-4AAB-9D83-61CCBDE9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A175-C156-4D22-88DA-482DA816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E2E-D5BA-4931-A25F-F92F6FB0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057-C268-4BD0-8732-D8088BFF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D07-9FAB-4837-8309-EC4094F5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B09-BCFF-4A9C-9C47-DD3B35F2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3BF-064D-48B3-BED2-B9D78E8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990-1609-454C-AC6B-F55BE5D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202-5836-4813-9CA9-40FB9DB6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DE6E-E892-4335-94EC-C306B2295F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D49D-DDCD-4877-9D07-51B4FBAFF9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3573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РЕДСТВА</a:t>
            </a:r>
            <a:br>
              <a:rPr sz="44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НДИВИДУАЛЬНОЙ</a:t>
            </a:r>
            <a:br>
              <a:rPr sz="44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АЩИТЫ НАСЕЛЕНИЯ</a:t>
            </a: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15280" y="74880"/>
            <a:ext cx="25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2700360" y="5157720"/>
            <a:ext cx="6119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: преподаватель ОБЖ ГБОУ СПО ЛНР « Лутугин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улик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Содержимое 3" descr="Простейшие-средства-защиты-органов-дыхания слайт 6.jpg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Содержимое 3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9" name="Содержимое 3" descr="изолирующие противогазы слайт 7.jpg"/>
          <p:cNvPicPr/>
          <p:nvPr/>
        </p:nvPicPr>
        <p:blipFill>
          <a:blip r:embed="rId1"/>
          <a:stretch/>
        </p:blipFill>
        <p:spPr>
          <a:xfrm>
            <a:off x="0" y="0"/>
            <a:ext cx="896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Домашнее задание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00"/>
                </a:solidFill>
                <a:latin typeface="Arial"/>
              </a:rPr>
              <a:t>повторить изученный на уроке материал, воспользовавшись опорным конспек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952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сификация СИЗ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170028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2519280" y="1844640"/>
            <a:ext cx="4105440" cy="100800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059280" y="205740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С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466560" y="3573360"/>
            <a:ext cx="2737080" cy="790560"/>
          </a:xfrm>
          <a:prstGeom prst="flowChartAlternateProcess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971640" y="3933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68360" y="3645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ИЗ органов дыхания(СИЗ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3492360" y="3573360"/>
            <a:ext cx="2160720" cy="79056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5938920" y="3573360"/>
            <a:ext cx="2736720" cy="79056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63528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ИЗ к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084720" y="378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дицинские С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15"/>
          <p:cNvCxnSpPr>
            <a:stCxn id="155" idx="2"/>
            <a:endCxn id="157" idx="0"/>
          </p:cNvCxnSpPr>
          <p:nvPr/>
        </p:nvCxnSpPr>
        <p:spPr>
          <a:xfrm flipH="1">
            <a:off x="1835280" y="2852640"/>
            <a:ext cx="273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16"/>
          <p:cNvCxnSpPr>
            <a:stCxn id="155" idx="2"/>
            <a:endCxn id="161" idx="0"/>
          </p:cNvCxnSpPr>
          <p:nvPr/>
        </p:nvCxnSpPr>
        <p:spPr>
          <a:xfrm>
            <a:off x="4572000" y="2852640"/>
            <a:ext cx="27360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AutoShape 17"/>
          <p:cNvCxnSpPr>
            <a:stCxn id="155" idx="2"/>
            <a:endCxn id="160" idx="0"/>
          </p:cNvCxnSpPr>
          <p:nvPr/>
        </p:nvCxnSpPr>
        <p:spPr>
          <a:xfrm>
            <a:off x="4572000" y="2852640"/>
            <a:ext cx="21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Text Box 21"/>
          <p:cNvSpPr/>
          <p:nvPr/>
        </p:nvSpPr>
        <p:spPr>
          <a:xfrm>
            <a:off x="539640" y="1484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на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539640" y="4707000"/>
            <a:ext cx="36734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способу изготовл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ускаемые промышленностью (табель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готовляемые насел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4716360" y="4724280"/>
            <a:ext cx="3888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принципу защитного действ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льтрующ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лиру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Содержимое 3" descr="1.1.jpg"/>
          <p:cNvPicPr/>
          <p:nvPr/>
        </p:nvPicPr>
        <p:blipFill>
          <a:blip r:embed="rId1"/>
          <a:stretch/>
        </p:blipFill>
        <p:spPr>
          <a:xfrm>
            <a:off x="1630440" y="1719360"/>
            <a:ext cx="5883120" cy="44114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1.jpg"/>
          <p:cNvPicPr/>
          <p:nvPr/>
        </p:nvPicPr>
        <p:blipFill>
          <a:blip r:embed="rId2"/>
          <a:stretch/>
        </p:blipFill>
        <p:spPr>
          <a:xfrm>
            <a:off x="149400" y="149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3" descr="2.1.jpg"/>
          <p:cNvPicPr/>
          <p:nvPr/>
        </p:nvPicPr>
        <p:blipFill>
          <a:blip r:embed="rId1"/>
          <a:stretch/>
        </p:blipFill>
        <p:spPr>
          <a:xfrm>
            <a:off x="0" y="0"/>
            <a:ext cx="9464760" cy="70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Содержимое 5" descr="2.2.jp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Содержимое 5" descr="3.1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Содержимое 3" descr="3.jpg"/>
          <p:cNvPicPr/>
          <p:nvPr/>
        </p:nvPicPr>
        <p:blipFill>
          <a:blip r:embed="rId1"/>
          <a:stretch/>
        </p:blipFill>
        <p:spPr>
          <a:xfrm>
            <a:off x="0" y="-216000"/>
            <a:ext cx="914400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Содержимое 3" descr="5.jpg"/>
          <p:cNvPicPr/>
          <p:nvPr/>
        </p:nvPicPr>
        <p:blipFill>
          <a:blip r:embed="rId1"/>
          <a:stretch/>
        </p:blipFill>
        <p:spPr>
          <a:xfrm>
            <a:off x="-122400" y="-92160"/>
            <a:ext cx="92664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Содержимое 3" descr="классификация распиратор. слайт 5.jpg"/>
          <p:cNvPicPr/>
          <p:nvPr/>
        </p:nvPicPr>
        <p:blipFill>
          <a:blip r:embed="rId1"/>
          <a:stretch/>
        </p:blipFill>
        <p:spPr>
          <a:xfrm>
            <a:off x="0" y="-190440"/>
            <a:ext cx="939816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2:17:29Z</dcterms:created>
  <dc:creator>OEM</dc:creator>
  <dc:description/>
  <dc:language>en-US</dc:language>
  <cp:lastModifiedBy>BUH1</cp:lastModifiedBy>
  <dcterms:modified xsi:type="dcterms:W3CDTF">2021-11-30T11:14:44Z</dcterms:modified>
  <cp:revision>23</cp:revision>
  <dc:subject/>
  <dc:title>СРЕДСТВА ИНДИВИДУАЛЬНОЙ ЗАЩИТЫ НАСЕЛЕНИЯ</dc:title>
</cp:coreProperties>
</file>