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FB5-6643-4FA7-881F-01145D5F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970-AF9E-4BC1-93C0-8D1A99F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46F-F5C7-4088-A964-5F9AC24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531-1179-4CDB-ACCB-61F3A660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F0CF-1CFC-45B7-856B-0E9AB47B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6E42-48A0-4D8F-A048-7F8BF58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107-2FE2-47C4-BECA-79B24C0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8B0-A595-4C59-9AF9-F97E91D2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D0A-0AFD-483B-8BE4-E71C7C1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5491-DA39-4DDB-A8D2-4F6D302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78F5-4735-40E5-A55C-C1A54E4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4E1-ACFE-4997-8F95-47A2DA4B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458-58B2-4F82-8D31-B637DD0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B69-3C2E-470C-95F9-CB7B24E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43FF-92B5-454B-B788-965A684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7A22-4669-40D2-A1FB-6CB18E78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E51D-56F7-4769-89F3-A97D314E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A52-2A63-471D-9292-21BFB43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4C6-84B3-4570-A2D6-CC35F78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675-E536-4551-9614-0E36BD9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50F-4486-4B41-ABDA-FC28B0E4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AC4-63D2-4AF4-A783-7A38684A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85F-0164-4918-9288-DCA8FDA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85F-0DE2-4359-BCD4-0D6AD26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A7CD-AEA8-42AE-A4E7-BEEEF55028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9DF-F4F5-4CBB-A5DC-B1B53AC90E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15280" y="7488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2700360" y="5157720"/>
            <a:ext cx="6119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: преподаватель ОБЖ ГБОУ СПО ЛНР « Лутугин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лик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Содержимое 3" descr="Простейшие-средства-защиты-органов-дыхания слайт 6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Содержимое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Содержимое 3" descr="изолирующие противогазы слайт 7.jpg"/>
          <p:cNvPicPr/>
          <p:nvPr/>
        </p:nvPicPr>
        <p:blipFill>
          <a:blip r:embed="rId1"/>
          <a:stretch/>
        </p:blipFill>
        <p:spPr>
          <a:xfrm>
            <a:off x="0" y="0"/>
            <a:ext cx="896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Домашнее задание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00"/>
                </a:solidFill>
                <a:latin typeface="Arial"/>
              </a:rPr>
              <a:t>повторить изученный на уроке материал, воспользовавшись опорным консп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сификация СИЗ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7002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2519280" y="1844640"/>
            <a:ext cx="4105440" cy="100800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059280" y="20574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466560" y="3573360"/>
            <a:ext cx="2737080" cy="790560"/>
          </a:xfrm>
          <a:prstGeom prst="flowChartAlternateProcess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97164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68360" y="364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органов дыхания(СИЗ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3492360" y="3573360"/>
            <a:ext cx="2160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5938920" y="3573360"/>
            <a:ext cx="2736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З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08472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дицинские С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15"/>
          <p:cNvCxnSpPr>
            <a:stCxn id="155" idx="2"/>
            <a:endCxn id="157" idx="0"/>
          </p:cNvCxnSpPr>
          <p:nvPr/>
        </p:nvCxnSpPr>
        <p:spPr>
          <a:xfrm flipH="1">
            <a:off x="1835280" y="2852640"/>
            <a:ext cx="27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6"/>
          <p:cNvCxnSpPr>
            <a:stCxn id="155" idx="2"/>
            <a:endCxn id="161" idx="0"/>
          </p:cNvCxnSpPr>
          <p:nvPr/>
        </p:nvCxnSpPr>
        <p:spPr>
          <a:xfrm>
            <a:off x="4572000" y="2852640"/>
            <a:ext cx="2736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17"/>
          <p:cNvCxnSpPr>
            <a:stCxn id="155" idx="2"/>
            <a:endCxn id="160" idx="0"/>
          </p:cNvCxnSpPr>
          <p:nvPr/>
        </p:nvCxnSpPr>
        <p:spPr>
          <a:xfrm>
            <a:off x="4572000" y="2852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Text Box 21"/>
          <p:cNvSpPr/>
          <p:nvPr/>
        </p:nvSpPr>
        <p:spPr>
          <a:xfrm>
            <a:off x="539640" y="148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539640" y="4707000"/>
            <a:ext cx="3673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пособу изготов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скаемые промышленностью (табель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готовляемые насе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716360" y="4724280"/>
            <a:ext cx="388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принципу защитного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льтрующ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Содержимое 3" descr="1.1.jpg"/>
          <p:cNvPicPr/>
          <p:nvPr/>
        </p:nvPicPr>
        <p:blipFill>
          <a:blip r:embed="rId1"/>
          <a:stretch/>
        </p:blipFill>
        <p:spPr>
          <a:xfrm>
            <a:off x="1630440" y="1719360"/>
            <a:ext cx="5883120" cy="44114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1.jpg"/>
          <p:cNvPicPr/>
          <p:nvPr/>
        </p:nvPicPr>
        <p:blipFill>
          <a:blip r:embed="rId2"/>
          <a:stretch/>
        </p:blipFill>
        <p:spPr>
          <a:xfrm>
            <a:off x="149400" y="149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2.1.jpg"/>
          <p:cNvPicPr/>
          <p:nvPr/>
        </p:nvPicPr>
        <p:blipFill>
          <a:blip r:embed="rId1"/>
          <a:stretch/>
        </p:blipFill>
        <p:spPr>
          <a:xfrm>
            <a:off x="0" y="0"/>
            <a:ext cx="9464760" cy="70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Содержимое 5" descr="2.2.jp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Содержимое 5" descr="3.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Содержимое 3" descr="3.jpg"/>
          <p:cNvPicPr/>
          <p:nvPr/>
        </p:nvPicPr>
        <p:blipFill>
          <a:blip r:embed="rId1"/>
          <a:stretch/>
        </p:blipFill>
        <p:spPr>
          <a:xfrm>
            <a:off x="0" y="-21600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Содержимое 3" descr="5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Содержимое 3" descr="классификация распиратор. слайт 5.jpg"/>
          <p:cNvPicPr/>
          <p:nvPr/>
        </p:nvPicPr>
        <p:blipFill>
          <a:blip r:embed="rId1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BUH1</cp:lastModifiedBy>
  <dcterms:modified xsi:type="dcterms:W3CDTF">2021-11-30T11:14:44Z</dcterms:modified>
  <cp:revision>23</cp:revision>
  <dc:subject/>
  <dc:title>СРЕДСТВА ИНДИВИДУАЛЬНОЙ ЗАЩИТЫ НАСЕЛЕНИЯ</dc:title>
</cp:coreProperties>
</file>